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981-6576-4BDB-9D0D-6D998192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8B3-C1A5-427E-BEFC-0A3B59D1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AB4-F385-44ED-99DB-331BBF0A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736-78FE-47A9-AFDA-1050A53C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D84F-2AFA-4BA8-ABB7-4ECF24C0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9088-A673-4421-85FA-33079E09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1086-BA67-4327-880E-F114E2C4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1151-7E6C-41DF-954B-7E0642C3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2F5A-22F3-4F3F-B50A-C7D47C82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1583-B617-4EFF-90AB-43E1E2CA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271A-EC1B-43CB-9F5F-E971AD2C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4F6-4446-43BD-BEC2-B648F982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9CF7-EE97-4EA0-88AB-FD5F07C8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93EB-46AD-43DF-9C2B-3E50B01A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B0E6-5D5D-44EB-BB46-C8D2509C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7689-FF2F-4710-9179-B96FBE2C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0AC5-2999-4E36-8CCD-DE728C89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3A8-3CE8-4D69-B80F-1FBEE889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93B-DE30-490C-81EE-5BFB914E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FE2-FCE0-49C6-8027-313788E2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38C-80E8-456D-8A35-C9B9F397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23D-2397-4A3C-851F-64BB3CFB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667-D820-46E8-8395-35BE641D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96D-4D81-4CF8-878F-2ED255CA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6EFD-0DFA-45CA-9DD5-516DD53A10D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3108-A6A4-4A3F-AE4C-0D4EB95723A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Free-time activities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Picture 12" descr="tiro-con-arco"/>
          <p:cNvPicPr/>
          <p:nvPr/>
        </p:nvPicPr>
        <p:blipFill>
          <a:blip r:embed="rId1"/>
          <a:stretch/>
        </p:blipFill>
        <p:spPr>
          <a:xfrm>
            <a:off x="1042920" y="1341360"/>
            <a:ext cx="3240000" cy="237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basketball_01"/>
          <p:cNvPicPr/>
          <p:nvPr/>
        </p:nvPicPr>
        <p:blipFill>
          <a:blip r:embed="rId2"/>
          <a:stretch/>
        </p:blipFill>
        <p:spPr>
          <a:xfrm>
            <a:off x="4716360" y="1341360"/>
            <a:ext cx="3240360" cy="237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800px-Deepsea"/>
          <p:cNvPicPr/>
          <p:nvPr/>
        </p:nvPicPr>
        <p:blipFill>
          <a:blip r:embed="rId3"/>
          <a:stretch/>
        </p:blipFill>
        <p:spPr>
          <a:xfrm>
            <a:off x="2771640" y="3789360"/>
            <a:ext cx="3529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ich of the activities do you do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Picture 7" descr="herb-garden-MS"/>
          <p:cNvPicPr/>
          <p:nvPr/>
        </p:nvPicPr>
        <p:blipFill>
          <a:blip r:embed="rId1"/>
          <a:stretch/>
        </p:blipFill>
        <p:spPr>
          <a:xfrm>
            <a:off x="4356000" y="907920"/>
            <a:ext cx="2521080" cy="1633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tiro-con-arco"/>
          <p:cNvPicPr/>
          <p:nvPr/>
        </p:nvPicPr>
        <p:blipFill>
          <a:blip r:embed="rId2"/>
          <a:stretch/>
        </p:blipFill>
        <p:spPr>
          <a:xfrm>
            <a:off x="4356000" y="2637000"/>
            <a:ext cx="2521080" cy="1726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714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rde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ch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erob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1318161475_488"/>
          <p:cNvPicPr/>
          <p:nvPr/>
        </p:nvPicPr>
        <p:blipFill>
          <a:blip r:embed="rId3"/>
          <a:stretch/>
        </p:blipFill>
        <p:spPr>
          <a:xfrm>
            <a:off x="4356000" y="4437000"/>
            <a:ext cx="2521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ich of the activities do you play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3132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ga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n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74869_149326125114073_132821983431154_243271_512204_n"/>
          <p:cNvPicPr/>
          <p:nvPr/>
        </p:nvPicPr>
        <p:blipFill>
          <a:blip r:embed="rId1"/>
          <a:stretch/>
        </p:blipFill>
        <p:spPr>
          <a:xfrm>
            <a:off x="4500720" y="105264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9683"/>
          <p:cNvPicPr/>
          <p:nvPr/>
        </p:nvPicPr>
        <p:blipFill>
          <a:blip r:embed="rId2"/>
          <a:stretch/>
        </p:blipFill>
        <p:spPr>
          <a:xfrm>
            <a:off x="2771640" y="3500280"/>
            <a:ext cx="3097440" cy="236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basketball_01"/>
          <p:cNvPicPr/>
          <p:nvPr/>
        </p:nvPicPr>
        <p:blipFill>
          <a:blip r:embed="rId3"/>
          <a:stretch/>
        </p:blipFill>
        <p:spPr>
          <a:xfrm>
            <a:off x="6084720" y="3500280"/>
            <a:ext cx="2880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ich of the activities do you go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s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te-water raf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yd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al  ['mɑːʃ(ə)l]  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nowboar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800px-Deepsea"/>
          <p:cNvPicPr/>
          <p:nvPr/>
        </p:nvPicPr>
        <p:blipFill>
          <a:blip r:embed="rId1"/>
          <a:stretch/>
        </p:blipFill>
        <p:spPr>
          <a:xfrm>
            <a:off x="4500720" y="1268280"/>
            <a:ext cx="40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39"/>
          <p:cNvPicPr/>
          <p:nvPr/>
        </p:nvPicPr>
        <p:blipFill>
          <a:blip r:embed="rId2"/>
          <a:stretch/>
        </p:blipFill>
        <p:spPr>
          <a:xfrm>
            <a:off x="4500720" y="3716280"/>
            <a:ext cx="4032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Qua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enturous - [əd'venʧ(ə)rəs]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елый, опас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tiou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'kɔːʃəs]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осторож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iv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творче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в хорошей физической форм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av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храбрый, отваж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xed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расслаблен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e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тих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общительный, дружелюб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роб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bl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общитель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ing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у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tio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честолюби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и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держ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еш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акт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v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орческий, оригин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чувствительный, не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kinds of people usually enjoy these activitie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33116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d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rob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rd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2920" y="1412640"/>
            <a:ext cx="403884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-water raf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yd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al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wbo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prefer (-ing form) … or …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like (-ing) form) … more than …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, I really like / love / hat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not too keen 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uch prefer (-ing form) t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przymorze_7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53:55Z</dcterms:created>
  <dc:creator>Колесова Ю В</dc:creator>
  <dc:description/>
  <dc:language>en-US</dc:language>
  <cp:lastModifiedBy>СЕРГЕЙ</cp:lastModifiedBy>
  <dcterms:modified xsi:type="dcterms:W3CDTF">2012-10-07T14:40:10Z</dcterms:modified>
  <cp:revision>30</cp:revision>
  <dc:subject/>
  <dc:title>Free-time activities</dc:title>
</cp:coreProperties>
</file>