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068A-15ED-40A6-AD7B-238D381A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416-D18A-4352-A7A2-566D605D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D33-ACD4-461B-8542-555410E8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317-391C-4F87-8CA0-D486B4BF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F3D7-BB01-4ADF-832B-EAD8682E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5201-7765-4335-9918-3F15D7E3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1CF4-85FB-4AF8-B9A5-1B175F8B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8CBC-5EF2-4A77-AF25-BC7C71FD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15B4-4EBD-48F9-B77B-0CA2BD1F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410B-4E1B-43AB-82DF-61321989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4C2B-3F09-4BDC-B6F2-AA6D0008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7E6-3E2D-4BF8-8A73-56B81CC5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EBFE-3E9C-49DB-A6DF-07AD6BE1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C728-C387-4BD6-9EF5-5B7DAF21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21A6-8EFE-4F4C-BCD2-C91A09D4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FF88-39CD-4BAD-9935-446A4E2D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3CA6-BAD5-45E6-A221-CD26BCAA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D89-6F26-45FE-AD0A-4CC1816C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932-21A0-48E2-BDE4-E4F233A8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F36-E3C1-410F-A43C-FF1BA1B5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B16-8A4D-4434-B8CF-3218E7D9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F8F-2DB8-4D74-B701-0552219B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DD7-CDAC-4A62-A281-F73C6061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745-0A0A-448D-9A3F-F55CCC58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8E14-8CB9-4FC9-B649-62AF629A99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4CBF-5A1F-4D1A-A727-AAA42ED4830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Free-time activities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Picture 12" descr="tiro-con-arco"/>
          <p:cNvPicPr/>
          <p:nvPr/>
        </p:nvPicPr>
        <p:blipFill>
          <a:blip r:embed="rId1"/>
          <a:stretch/>
        </p:blipFill>
        <p:spPr>
          <a:xfrm>
            <a:off x="1042920" y="1341360"/>
            <a:ext cx="3240000" cy="237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basketball_01"/>
          <p:cNvPicPr/>
          <p:nvPr/>
        </p:nvPicPr>
        <p:blipFill>
          <a:blip r:embed="rId2"/>
          <a:stretch/>
        </p:blipFill>
        <p:spPr>
          <a:xfrm>
            <a:off x="4716360" y="1341360"/>
            <a:ext cx="3240360" cy="237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800px-Deepsea"/>
          <p:cNvPicPr/>
          <p:nvPr/>
        </p:nvPicPr>
        <p:blipFill>
          <a:blip r:embed="rId3"/>
          <a:stretch/>
        </p:blipFill>
        <p:spPr>
          <a:xfrm>
            <a:off x="2771640" y="3789360"/>
            <a:ext cx="3529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ich of the activities do you do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Picture 7" descr="herb-garden-MS"/>
          <p:cNvPicPr/>
          <p:nvPr/>
        </p:nvPicPr>
        <p:blipFill>
          <a:blip r:embed="rId1"/>
          <a:stretch/>
        </p:blipFill>
        <p:spPr>
          <a:xfrm>
            <a:off x="4356000" y="907920"/>
            <a:ext cx="2521080" cy="1633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tiro-con-arco"/>
          <p:cNvPicPr/>
          <p:nvPr/>
        </p:nvPicPr>
        <p:blipFill>
          <a:blip r:embed="rId2"/>
          <a:stretch/>
        </p:blipFill>
        <p:spPr>
          <a:xfrm>
            <a:off x="4356000" y="2637000"/>
            <a:ext cx="2521080" cy="1726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714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rde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ch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erob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1318161475_488"/>
          <p:cNvPicPr/>
          <p:nvPr/>
        </p:nvPicPr>
        <p:blipFill>
          <a:blip r:embed="rId3"/>
          <a:stretch/>
        </p:blipFill>
        <p:spPr>
          <a:xfrm>
            <a:off x="4356000" y="4437000"/>
            <a:ext cx="2521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ich of the activities do you play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3132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ga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n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74869_149326125114073_132821983431154_243271_512204_n"/>
          <p:cNvPicPr/>
          <p:nvPr/>
        </p:nvPicPr>
        <p:blipFill>
          <a:blip r:embed="rId1"/>
          <a:stretch/>
        </p:blipFill>
        <p:spPr>
          <a:xfrm>
            <a:off x="4500720" y="105264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9683"/>
          <p:cNvPicPr/>
          <p:nvPr/>
        </p:nvPicPr>
        <p:blipFill>
          <a:blip r:embed="rId2"/>
          <a:stretch/>
        </p:blipFill>
        <p:spPr>
          <a:xfrm>
            <a:off x="2771640" y="3500280"/>
            <a:ext cx="3097440" cy="236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basketball_01"/>
          <p:cNvPicPr/>
          <p:nvPr/>
        </p:nvPicPr>
        <p:blipFill>
          <a:blip r:embed="rId3"/>
          <a:stretch/>
        </p:blipFill>
        <p:spPr>
          <a:xfrm>
            <a:off x="6084720" y="3500280"/>
            <a:ext cx="2880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ich of the activities do you go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s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te-water raf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yd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al  ['mɑːʃ(ə)l]  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nowboar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800px-Deepsea"/>
          <p:cNvPicPr/>
          <p:nvPr/>
        </p:nvPicPr>
        <p:blipFill>
          <a:blip r:embed="rId1"/>
          <a:stretch/>
        </p:blipFill>
        <p:spPr>
          <a:xfrm>
            <a:off x="4500720" y="1268280"/>
            <a:ext cx="40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39"/>
          <p:cNvPicPr/>
          <p:nvPr/>
        </p:nvPicPr>
        <p:blipFill>
          <a:blip r:embed="rId2"/>
          <a:stretch/>
        </p:blipFill>
        <p:spPr>
          <a:xfrm>
            <a:off x="4500720" y="3716280"/>
            <a:ext cx="4032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Qua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enturous - [əd'venʧ(ə)rəs]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елый, опас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tiou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'kɔːʃəs]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осторож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iv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творче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в хорошей физической форм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av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храбрый, отваж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xed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расслаблен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e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тих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общительный, дружелюб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роб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bl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общитель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ing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у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tio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честолюби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и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держ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еш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акт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v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орческий, оригин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чувствительный, не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kinds of people usually enjoy these activitie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33116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d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rob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rd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2920" y="1412640"/>
            <a:ext cx="403884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-water raf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yd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al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wbo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prefer (-ing form) … or …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like (-ing) form) … more than …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, I really like / love / hat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not too keen 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uch prefer (-ing form) t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przymorze_7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53:55Z</dcterms:created>
  <dc:creator>Колесова Ю В</dc:creator>
  <dc:description/>
  <dc:language>en-US</dc:language>
  <cp:lastModifiedBy>СЕРГЕЙ</cp:lastModifiedBy>
  <dcterms:modified xsi:type="dcterms:W3CDTF">2012-10-07T14:40:10Z</dcterms:modified>
  <cp:revision>30</cp:revision>
  <dc:subject/>
  <dc:title>Free-time activities</dc:title>
</cp:coreProperties>
</file>