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E5695-B7C2-4AEB-B733-A74D5EE706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анное определяет, в частности, особенности системы оценки достижения планируемых результатов освоения основ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ой образования (на федеральном, региональном и муниципальном уровнях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ми учреждениями и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анное определяет, в частности, особенности системы оценки достижения планируемых результатов освоения основ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ой образования (на федеральном, региональном и муниципальном уровнях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ми учреждениями и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казанное определяет, в частности, особенности системы оценки достижения планируемых результатов освоения основных образовательных програ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истемой образования (на федеральном, региональном и муниципальном уровнях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бразовательными учреждениями и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ускник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803-EDF3-4F87-BF30-3CA944B3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4B4C-3619-43C6-88D5-B43FB57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15E7-3CE2-4626-948B-B1B87169B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C24B-CFE6-4D7D-B136-325E9A422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6F9A-43CC-4445-9BE5-3A15E84E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A114-5EDE-4C57-B275-8B30DE2C4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4FEA-BDD5-4360-AF7E-F13580BA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A99B-5EAA-406B-A8C7-9A294248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D401-E0F8-4A61-ADD9-1C3C29D8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8192-718E-4EA7-9E7F-58661F35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A330-6963-403D-86E8-552E0768B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582-423A-4E4E-B4DF-050D7C64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833C-CDF9-4D50-A4D2-92E26F18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B8D57-1B5D-44E7-905C-CC79ED4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6967-200A-4DFC-BC4A-BF8A7744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5A50-4E25-4A56-854A-935414A3A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8F9DD-6F8B-4698-A45B-79CE10BA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7651-5E4A-4C56-9482-819860524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93AB-F378-4104-BABA-E687D2C38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A0FF-37C3-4626-95AA-856F7CFC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05D-F967-4275-BA2C-941E6C2E4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4B11-D0C0-4653-A491-0A8DDF16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FF7F-E386-4C3F-8719-3F36ABC2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F764-5E23-48EF-BFFE-CAAD2DB1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F290-7808-49FA-8461-7F703054C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55D6-9DDF-4CDD-92BD-D1F97822E5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1447560"/>
            <a:ext cx="78487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Система оценки </a:t>
            </a:r>
            <a:br>
              <a:rPr sz="3600"/>
            </a:br>
            <a:r>
              <a:rPr b="1" lang="en-US" sz="3600" spc="-1" strike="noStrike">
                <a:solidFill>
                  <a:srgbClr val="ff66ff"/>
                </a:solidFill>
                <a:latin typeface="Times New Roman"/>
              </a:rPr>
              <a:t>планируемых результатов основной образовательной программы ОУ как часть оценки качества образования в условиях введения ФГОС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809880" y="5181120"/>
            <a:ext cx="50292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Т.С. Горбунова, ректор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0360"/>
                <a:tab algn="l" pos="3413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БОУ ДПО «Институт развития образования Омской области», к.п.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6868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533520"/>
            <a:ext cx="9144000" cy="1143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Оптимальное сочетание различ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ценочных шкал с учётом возрас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собенностей обучающихс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22860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Целенаправленная работа по формировани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универсальных учебных действий и способ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деятельности, в том числе оценочны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343400"/>
            <a:ext cx="9144000" cy="13716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 Освоение и использование эффективных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форм, средств, методов, технолог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оцени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0" y="0"/>
          <a:ext cx="182520" cy="12049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8" name=""/>
          <p:cNvSpPr/>
          <p:nvPr/>
        </p:nvSpPr>
        <p:spPr>
          <a:xfrm>
            <a:off x="1800" y="120456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90920" y="609480"/>
            <a:ext cx="335268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Оценочная шка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1523880"/>
            <a:ext cx="274320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количественн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81480" y="1447920"/>
            <a:ext cx="3429000" cy="5331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порядкова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666880"/>
            <a:ext cx="1828800" cy="1219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абсолютна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(не связанна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ff66"/>
                </a:solidFill>
                <a:latin typeface="Times New Roman"/>
              </a:rPr>
              <a:t>с учеником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57400" y="2666880"/>
            <a:ext cx="2209680" cy="12193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относитель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(связа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с самим учеником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2362320"/>
            <a:ext cx="1752480" cy="6858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рангов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0" y="2362320"/>
            <a:ext cx="2133720" cy="761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ff"/>
                </a:solidFill>
                <a:latin typeface="Times New Roman"/>
              </a:rPr>
              <a:t>дескрипти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описательная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0" y="3352680"/>
            <a:ext cx="1600200" cy="6098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рейтинг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3429000"/>
            <a:ext cx="137160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аналог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924680" y="3429000"/>
            <a:ext cx="1143000" cy="5335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99"/>
                </a:solidFill>
                <a:latin typeface="Arial"/>
              </a:rPr>
              <a:t>знак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943600" y="4419720"/>
            <a:ext cx="1905120" cy="838080"/>
          </a:xfrm>
          <a:prstGeom prst="rect">
            <a:avLst/>
          </a:prstGeom>
          <a:solidFill>
            <a:srgbClr val="cce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образ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(характе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24680" y="4419720"/>
            <a:ext cx="1143000" cy="609480"/>
          </a:xfrm>
          <a:prstGeom prst="rect">
            <a:avLst/>
          </a:prstGeom>
          <a:solidFill>
            <a:srgbClr val="cce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Arial"/>
              </a:rPr>
              <a:t>язык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61" name=""/>
          <p:cNvCxnSpPr>
            <a:stCxn id="249" idx="1"/>
          </p:cNvCxnSpPr>
          <p:nvPr/>
        </p:nvCxnSpPr>
        <p:spPr>
          <a:xfrm flipV="1" rot="10800000">
            <a:off x="2133000" y="837000"/>
            <a:ext cx="457920" cy="68652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262" name=""/>
          <p:cNvCxnSpPr/>
          <p:nvPr/>
        </p:nvCxnSpPr>
        <p:spPr>
          <a:xfrm flipV="1" rot="10800000">
            <a:off x="4571280" y="-152280"/>
            <a:ext cx="1080" cy="1530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263" name=""/>
          <p:cNvSpPr/>
          <p:nvPr/>
        </p:nvSpPr>
        <p:spPr>
          <a:xfrm>
            <a:off x="5943600" y="83808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400800" y="838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01000" y="1981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15000" y="1981080"/>
            <a:ext cx="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562720" y="30481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31520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34520" y="312408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533520" y="205740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438280" y="205740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34520" y="39625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6933960" y="3962520"/>
            <a:ext cx="99036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0" y="1066680"/>
            <a:ext cx="86868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371600"/>
            <a:ext cx="8381880" cy="16002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иентация образовательного процес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 личностные образовательные дости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ждого уче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3733920"/>
            <a:ext cx="8381880" cy="16002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овышение уровня компетентности педагого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 вопросам оцен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бразовательных достижений обучаю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8915400" cy="91440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Условия обновления системы оценивания учеб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достижений обучающихс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576360" y="189000"/>
            <a:ext cx="7920000" cy="1439640"/>
          </a:xfrm>
          <a:prstGeom prst="roundRect">
            <a:avLst>
              <a:gd name="adj" fmla="val 46389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Планируемые результат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Arial"/>
              </a:rPr>
              <a:t>три основные группы результа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5589720"/>
            <a:ext cx="57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1943280"/>
            <a:ext cx="2519640" cy="15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ЧНОСТНЫЕ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иентац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ценностно-смысловая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 социальных ролях и меж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личностных отношения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951280" y="1952640"/>
            <a:ext cx="2519280" cy="15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937120" y="1952640"/>
            <a:ext cx="2698920" cy="117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79280" y="3645000"/>
            <a:ext cx="25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ичностное, профес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ональное, жизне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280" y="4508640"/>
            <a:ext cx="2519640" cy="86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вязь между целью (р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зультатом)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 ее мотив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9280" y="5481720"/>
            <a:ext cx="2519640" cy="115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99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987640" y="3645000"/>
            <a:ext cx="25210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рганизация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987640" y="4473720"/>
            <a:ext cx="2521080" cy="863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ечевые навыки 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87640" y="5445000"/>
            <a:ext cx="2519280" cy="1211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еучебные, в т.ч – знако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о-символические, логичес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ие, постановка и решени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обл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940360" y="3238560"/>
            <a:ext cx="1944720" cy="514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132760" y="334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12000" y="3213000"/>
            <a:ext cx="17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940360" y="3860640"/>
            <a:ext cx="2055960" cy="147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73840" y="3886200"/>
            <a:ext cx="20178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пыт «предметной» деятельности по получению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172360" y="335772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136000" y="37162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136000" y="3718080"/>
            <a:ext cx="6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и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32760" y="406548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36000" y="407664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Я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136000" y="44370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139240" y="4448160"/>
            <a:ext cx="53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а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32760" y="4786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136000" y="4797360"/>
            <a:ext cx="41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Е/н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132760" y="5362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136000" y="5373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Му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8132760" y="5686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136000" y="5697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132760" y="601020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136000" y="6021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ех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132760" y="6370560"/>
            <a:ext cx="431640" cy="2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136000" y="638172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из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264360" y="5445000"/>
            <a:ext cx="1476360" cy="1080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b2b2b2"/>
              </a:gs>
              <a:gs pos="50000">
                <a:srgbClr val="ffffcc"/>
              </a:gs>
              <a:gs pos="100000">
                <a:srgbClr val="b2b2b2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940360" y="5626080"/>
            <a:ext cx="2087640" cy="107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977080" y="566100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132760" y="5073480"/>
            <a:ext cx="431640" cy="25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136000" y="5084640"/>
            <a:ext cx="5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Со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178920" y="1233360"/>
            <a:ext cx="270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оцен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95280" y="1088640"/>
            <a:ext cx="5724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личностных универсальных учебных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ффективность деятельности системы образования, О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шние мониторинговые исследования с использова-нием неперсонифицированных потоков информ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ценка личнос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42920" y="1160280"/>
            <a:ext cx="266544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оцен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08000" y="1125000"/>
            <a:ext cx="633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регулятивных, коммуникативных и познавательных универсальных учебных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ровень сформированности универсального учебного действ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внутренняя накопленн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итогов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Arial"/>
              </a:rPr>
              <a:t>Оценка метапредме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142920" y="1160280"/>
            <a:ext cx="2665440" cy="55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Объект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едмет оценк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Процедуры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808000" y="1125000"/>
            <a:ext cx="6335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ность учебных дей-ствий с предметным содержа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пособность к решению учебно-познавательных и учебно-практи-ческих задач с использованием средств, релевантных содержа-нию учебных предме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) внутренняя накопленн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) итоговая оцен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) процедуры внешней оцен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152280"/>
            <a:ext cx="896472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Оценка предметных результатов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0" y="152280"/>
            <a:ext cx="9036000" cy="576360"/>
          </a:xfrm>
          <a:prstGeom prst="roundRect">
            <a:avLst>
              <a:gd name="adj" fmla="val 49106"/>
            </a:avLst>
          </a:prstGeom>
          <a:solidFill>
            <a:srgbClr val="99ccff"/>
          </a:solidFill>
          <a:ln w="28440">
            <a:solidFill>
              <a:srgbClr val="0068ae"/>
            </a:solidFill>
            <a:miter/>
          </a:ln>
          <a:effectLst>
            <a:outerShdw dist="107932" dir="2700000" blurRad="0" rotWithShape="0">
              <a:srgbClr val="008ae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Портфель достижений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527280" y="155736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cc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усски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Литературное чт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ностранный язы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010200" y="155736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ffcc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иктанты, изложения, сочи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монологов, диалог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евники читате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ллюстрированные авторские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25840" y="260028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10200" y="260208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матические диктан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ини-исследования и мини-проекты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одели, решения зада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525840" y="364500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cc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кружающий мир</a:t>
            </a:r>
            <a:r>
              <a:rPr b="0" lang="en-US" sz="1800" spc="-1" strike="noStrike">
                <a:solidFill>
                  <a:srgbClr val="008ae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10200" y="364500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ffcc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евники наблюд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ини-исследования и мини-прое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интервью, творческие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25840" y="465300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009999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узы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З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010200" y="4653000"/>
            <a:ext cx="31338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009999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-, фото- и видео-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продукты собственного творч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аудиозаписи устных отве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981000"/>
            <a:ext cx="453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246560" y="944640"/>
            <a:ext cx="38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борки детских рабо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525840" y="5695920"/>
            <a:ext cx="2448000" cy="90000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50000">
                <a:srgbClr val="cc99ff"/>
              </a:gs>
              <a:gs pos="100000">
                <a:srgbClr val="0068ae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изиче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ульту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010200" y="5697360"/>
            <a:ext cx="3133800" cy="900360"/>
          </a:xfrm>
          <a:prstGeom prst="rect">
            <a:avLst/>
          </a:prstGeom>
          <a:gradFill rotWithShape="0">
            <a:gsLst>
              <a:gs pos="0">
                <a:srgbClr val="0068ae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видео-материал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дневники наблюдений и самоконтрол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самостоятельные рабо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материалы самоанализа и рефлек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2492280"/>
            <a:ext cx="31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мерный соста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3068640"/>
            <a:ext cx="3456000" cy="3670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8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ки детски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стартов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агност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териалы текущ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ценки: листы наблюде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ий, оценочные лис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и материа- лы тематических раб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ультаты и матери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ы итогового контро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стижения во внеучеб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й деятель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42920" y="944640"/>
            <a:ext cx="1692360" cy="12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Что нужно учесть при разработке системы оценивания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держательной и критериальной базой оценки личностных, метапредметных и предметных результатов служат планируемые результаты начального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e1ff"/>
                </a:solidFill>
                <a:latin typeface="Arial"/>
              </a:rPr>
              <a:t>Проблемы в сфере оценивания учебных дости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74988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дмена оценки как компонента учебной деятельности выставлением отметок по 5-ти балльной шкале для обеспечения «накопляемости»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сутствие единых подходов и преемственности в оценивании при переходе учащихся с одной ступени на другу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закрытость для учащихся требований, выполнение которых будет оцениваться, и неразработанность критериальной базы оцени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buClr>
                <a:srgbClr val="99ff99"/>
              </a:buClr>
              <a:buFont typeface="Wingdings" charset="2"/>
              <a:buChar char="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риентация оценивания только на сформированность предметных ЗУН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458200" cy="60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одержание и процедуры оценки личностных, метапредметных и предметных результатов конкретизируются по мере введения стандарта и уточнения состава и содержания планируемых результатов начального образов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90440" y="7621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 персонифицированную итоговую оценку, результаты которой используются при принятии решения о возможности или невозможности продолжения обучения на следующей ступени, в начальной школе выносятся </a:t>
            </a: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только предметные и метапредметные результаты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4582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Итоговая оценка выпускника формируется на основе накопленной оценки по всем учебным предметам и оценок за выполнение, как минимум, трех итоговых работ (по русскому языку, математике и комплексной работы на межпредметной основе)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Внешняя оценка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оценка, которая проводится внешними по отношению к школе службами, уполномоченными вести оценочную деятельност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ффективность внешней оценки зависит от того, в какой мере она выполняет свои основные функ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Внутренняя оценка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– это оценка самой школы (ребенка, учителя, школьного психолога, администрации и др.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Она выражается в текущих отметках, которые ставятся учителями; и результатах самооценки учащихся; в результатах наблюдений проводящихся учителями и школьными психологами; в промежуточных и итоговой оценках учащихся и, наконец, в решении педагогического совета школы о переводе выпускника в следующий класс или на следующую ступень обуч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Накопленная оценка обеспечивает материалы для выводов 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ированности универсальных и предметных способов действий, а также опорной системы знаний, обеспечивающих возможность продолжения образования в основной школ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формированности основ умения учиться, т.е. способности к самоорганизации с целью постановки и решения учебно-познавательных и учебно-практических задач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imes New Roman"/>
              </a:rPr>
              <a:t>Накопленная оценка обеспечивает материалы для выводов о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Индивидуальном прогрессе в основных сферах развития личности – мотивационно-смысловой, познавательной, эмоциональной, волевой и саморегуля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0" y="120600"/>
            <a:ext cx="9539280" cy="67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560" y="2514240"/>
            <a:ext cx="8839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ecff"/>
                </a:solidFill>
                <a:latin typeface="Arial"/>
              </a:rPr>
              <a:t>Как организовать разработку системы оценивания?</a:t>
            </a: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301680" y="304920"/>
            <a:ext cx="8540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обходимо создать рабочую группу в образовательном учреждении (руководитель, учителя начальной школы, учителя основной и старшей школы, представители Совета школы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52520" algn="just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сти «инвентаризацию» действующей организации оценивания в образовательном учреждении и определить степень соответствия характеристикам системы оценивания, предусмотренных в ФГОС. (Таблица 1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fe1ff"/>
                </a:solidFill>
                <a:latin typeface="Arial"/>
              </a:rPr>
              <a:t>Проблемы в сфере оценивания учебных достиж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спользование методов, средств, форм оценивания без учета возрастных особенностей школь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изкий уровень компетентности педагогов в области целей, задач, содержания, методов, форм и средств организации оценочной деятельности, её роли в формировании и развитии оценочных и рефлексивных умений учащихся, значении в сохранении психологического здоровья школь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4428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абая ориентация образовательного процесса на образовательные достижения каждого учен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842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Таблица 1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01680" y="380880"/>
            <a:ext cx="884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Оценочный лист</a:t>
            </a:r>
            <a:br>
              <a:rPr sz="2400"/>
            </a:b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системы оценивания на предмет соответствия ФГ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644580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да «+»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нет «-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0" y="1447920"/>
          <a:ext cx="8839080" cy="4998960"/>
        </p:xfrm>
        <a:graphic>
          <a:graphicData uri="http://schemas.openxmlformats.org/drawingml/2006/table">
            <a:tbl>
              <a:tblPr/>
              <a:tblGrid>
                <a:gridCol w="542880"/>
                <a:gridCol w="5629320"/>
                <a:gridCol w="1219320"/>
                <a:gridCol w="1447560"/>
              </a:tblGrid>
              <a:tr h="33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изнаки, характерист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стема оценива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уществующ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роектированна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омплексность (предусматривает оценку личностных, метапредметных, предметных результатов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м критериальной базы являются планируемые результаты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еспечивает оценку динамики образовательных достижений каждого уче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смотрены персонифицированная и неперсонифицированная процедура оценк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ровневость в разработке инструментария (2-х уровневость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смотрена накопительная система оценивания (портфолио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ценка успешности освоения содержания отдельных учебных предметов осуществляется на основе системно-деятельностного подход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ывод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полнить матрицу (Таблица 2), отразив в ней основные характеристики существующей системы оценки. Провести анализ, выделить все отсутствующие компоненты или несоответствующие ФГО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8394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ри проведении анализа можно ориентироваться на следующие вопросы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компоненты в существующей системе оценивания отсутствую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компоненты существующей системы оценивания не соответствуют характеристикам системы оценивания, предусмотренными ФГО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ие компоненты будущей системы оценивания требуют проектирования, конкретизации, разработк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При проведении анализа можно ориентироваться на следующие вопросы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42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будет концептуальным (теоретическим) основанием для создания процедур, инструментария оценива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2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асколько необходимо обновить существующую системы оценивания (существенно, незначительно, не требуется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42984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необходимо сделать, чтобы осуществить процесс создания новой (обновленной) системы оценивания планируемых результатов освоения основной образовательной программы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54064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овести серию проектировочных семинаров рабочей группы с педагогическим коллективом с целью создания проекта новой системы оцени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ланировать действия по преобразованию существующей системы оценивания. (Таблица 3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План действий </a:t>
            </a:r>
            <a:br>
              <a:rPr sz="2800"/>
            </a:b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по обновлению системы оценивания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01680" y="1371600"/>
          <a:ext cx="8540640" cy="5333760"/>
        </p:xfrm>
        <a:graphic>
          <a:graphicData uri="http://schemas.openxmlformats.org/drawingml/2006/table">
            <a:tbl>
              <a:tblPr/>
              <a:tblGrid>
                <a:gridCol w="577800"/>
                <a:gridCol w="2089080"/>
                <a:gridCol w="1928880"/>
                <a:gridCol w="2249640"/>
                <a:gridCol w="1695240"/>
              </a:tblGrid>
              <a:tr h="1004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одержание действ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и исполн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частники и ответственные исполнител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й результа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ормативно-правов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ганизационно-методическое, учебно-методическ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адров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нформационное обеспечение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правление созданием (обновлением) системы оценивания</a:t>
                      </a:r>
                      <a:r>
                        <a:rPr b="0" i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ланируемых результатов освоения основной образовательной программы *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Нормативно-правовое обеспечение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усматривает наличие в образовательном учреждении положений, приказов, инструкций и т.п. по осуществлению оценивания, по использованию тех или иных процедур, инструментар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Организационно-методическое, учебно-методическое обеспечение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полагает поэтапное создание не только планов, графиков проведения промежуточной и итоговой аттестации, но и формы и содержание КИМов, критериев, шкал оценивания, средств, форм проведения тех или иных оценочных процед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152280" y="-360"/>
            <a:ext cx="883944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адровое обеспечение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предполагает обеспечение профессиональной готовности педагогических и руководящих работников к осуществлению оценивания планируемых результатов освоения основной образовательной программы в соответствии с создаваемой систем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нформационное обеспечение –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предусматривает работу со всеми субъектами образовательного процесса (обучающимися, родителями, педагогами, представителями органов государственно-общественного управления) по своевременному информированию, разъяснению сути происходящих изменений в системе оценивания и их результа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152280" y="609480"/>
            <a:ext cx="883944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0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Управление созданием (обновлением) системы оценивания планируемых результатов освоения основной образовательной программы-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едполагает мотивацию планирования, организацию, контроль за процесс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277920"/>
            <a:ext cx="87631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Times New Roman"/>
              </a:rPr>
              <a:t>Место, роль контроля и оценки в учебном процессе должны меняться в направлениях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остепенной передачи контрольно-оценочных механизмов от учителя к обучающим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перехода от контроля констатирующего к контролю диагностирующему, процессуальном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сближения школьной оценки выпускника с реальной оценкой этого выпускника обществом, между которыми в настоящее время, как известно, существует значительный разры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следовательно и кратко описать содержание с таблицы 2, отражающей проект системы. Полученное описание разместить разделом 9 основной образовательной програм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96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сти предлагаемой системы оценки: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комплексный подход к оценке результатов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 образования (оценка предметных, метапредметных и личностных результатов общего образования)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использование планируемых результатов освоения основных образовательных программ в качестве </a:t>
            </a: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содержательной и критериальной базы оценки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оценку 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успешности освоения содержания отдельных учебных предметов на основе системно-деятельностного подхода, проявляющегося в способности  выполнению учебно-практических и учебно-познавательных задач;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оценку динамики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 образовательных достижений учащихся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сочетание </a:t>
            </a:r>
            <a:r>
              <a:rPr b="0" i="1" lang="ru-RU" sz="2900" spc="-1" strike="noStrike">
                <a:solidFill>
                  <a:srgbClr val="660033"/>
                </a:solidFill>
                <a:latin typeface="Arial"/>
              </a:rPr>
              <a:t>внешней и внутренней оценки</a:t>
            </a:r>
            <a:r>
              <a:rPr b="0" lang="ru-RU" sz="2900" spc="-1" strike="noStrike">
                <a:solidFill>
                  <a:srgbClr val="660033"/>
                </a:solidFill>
                <a:latin typeface="Arial"/>
              </a:rPr>
              <a:t> как механизма обеспечения качества образования;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использование </a:t>
            </a:r>
            <a:r>
              <a:rPr b="0" i="1" lang="ru-RU" sz="3100" spc="-1" strike="noStrike">
                <a:solidFill>
                  <a:srgbClr val="660033"/>
                </a:solidFill>
                <a:latin typeface="Arial"/>
              </a:rPr>
              <a:t>персонифицированных процедур</a:t>
            </a: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 в целях итоговой оценки и аттестации обучающихся и </a:t>
            </a:r>
            <a:r>
              <a:rPr b="0" i="1" lang="ru-RU" sz="3100" spc="-1" strike="noStrike">
                <a:solidFill>
                  <a:srgbClr val="660033"/>
                </a:solidFill>
                <a:latin typeface="Arial"/>
              </a:rPr>
              <a:t>неперсонифицированных процедур</a:t>
            </a: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 в целях оценки состояния и тенденций развития системы образования, а также в иных аттестационных целях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100" spc="-1" strike="noStrike">
                <a:solidFill>
                  <a:srgbClr val="660033"/>
                </a:solidFill>
                <a:latin typeface="Arial"/>
              </a:rPr>
              <a:t>уровневый подход</a:t>
            </a:r>
            <a:r>
              <a:rPr b="0" lang="ru-RU" sz="3100" spc="-1" strike="noStrike">
                <a:solidFill>
                  <a:srgbClr val="660033"/>
                </a:solidFill>
                <a:latin typeface="Arial"/>
              </a:rPr>
              <a:t> к разработке планируемых результатов, инструментария и представлению данных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152280" y="277920"/>
            <a:ext cx="8686800" cy="712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ecff"/>
                </a:solidFill>
                <a:latin typeface="Arial"/>
              </a:rPr>
              <a:t>Особенности предлагаемой системы оценки: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сти предлагаемой системы оценки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9144000" cy="6093000"/>
          </a:xfrm>
          <a:prstGeom prst="rect">
            <a:avLst/>
          </a:prstGeom>
          <a:solidFill>
            <a:srgbClr val="ccecff"/>
          </a:solidFill>
          <a:ln w="9360">
            <a:solidFill>
              <a:srgbClr val="6600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использование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накопительной системы оценивания (портфолио),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характеризующей динамику индивидуальных образовательных достижений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использование наряду со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стандартизированными письменными или устными работами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таких методов оценки, как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проекты, практические работы, творческие работы, самоанализ и самооценка, наблюдения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и др.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660033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использование </a:t>
            </a:r>
            <a:r>
              <a:rPr b="0" i="1" lang="ru-RU" sz="2600" spc="-1" strike="noStrike">
                <a:solidFill>
                  <a:srgbClr val="660033"/>
                </a:solidFill>
                <a:latin typeface="Arial"/>
              </a:rPr>
              <a:t>контекстной информации</a:t>
            </a:r>
            <a:r>
              <a:rPr b="0" lang="ru-RU" sz="2600" spc="-1" strike="noStrike">
                <a:solidFill>
                  <a:srgbClr val="660033"/>
                </a:solidFill>
                <a:latin typeface="Arial"/>
              </a:rPr>
              <a:t> об условиях и особенностях реализации образовательных программ при интерпретации результатов педагогических измерени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546120" y="1841760"/>
            <a:ext cx="7746120" cy="165024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Наличие в образовательном учреждении нормативно-правовой базы, определяющей систему оценивания учебных достижений обучающихся в конкретном учрежде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52280" y="304920"/>
            <a:ext cx="8610840" cy="91440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Условия обновления системы оценивания учеб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6600"/>
                </a:solidFill>
                <a:uFillTx/>
                <a:latin typeface="Arial"/>
              </a:rPr>
              <a:t>достижений обучаю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114800"/>
            <a:ext cx="8001000" cy="1523880"/>
          </a:xfrm>
          <a:prstGeom prst="flowChartAlternateProcess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Применение специально разработан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критериев оценивания учебных дости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76320"/>
            <a:ext cx="8915400" cy="914400"/>
          </a:xfrm>
          <a:prstGeom prst="rect">
            <a:avLst/>
          </a:prstGeom>
          <a:solidFill>
            <a:srgbClr val="afe1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Условия обновления системы оценивания учебных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6600"/>
                </a:solidFill>
                <a:uFillTx/>
                <a:latin typeface="Arial"/>
              </a:rPr>
              <a:t>достижений обучающихся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0880" y="1143000"/>
            <a:ext cx="8534520" cy="167652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Осуществление технологического подход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в обучении, обеспечивающего открытость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доступность требований, предъявляемых к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обучающим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380880" y="4267080"/>
          <a:ext cx="8534160" cy="2362320"/>
        </p:xfrm>
        <a:graphic>
          <a:graphicData uri="http://schemas.openxmlformats.org/drawingml/2006/table">
            <a:tbl>
              <a:tblPr/>
              <a:tblGrid>
                <a:gridCol w="745560"/>
                <a:gridCol w="2817360"/>
                <a:gridCol w="2837880"/>
                <a:gridCol w="2133360"/>
              </a:tblGrid>
              <a:tr h="120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\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ируемые результа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мооценк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учител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0" name=""/>
          <p:cNvSpPr/>
          <p:nvPr/>
        </p:nvSpPr>
        <p:spPr>
          <a:xfrm>
            <a:off x="1676520" y="3124080"/>
            <a:ext cx="56386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невник учебных достиж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усский язык, 6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рфология. Имя числительное -16ч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10-14T06:29:36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