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8703-65AC-4580-A1A7-75AAA9C8E4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казанное определяет, в частности, особенности системы оценки достижения планируемых результатов освоения основных образовательных програ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истемой образования (на федеральном, региональном и муниципальном уровнях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бразовательными учреждениями и педагог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ыпускни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казанное определяет, в частности, особенности системы оценки достижения планируемых результатов освоения основных образовательных програ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истемой образования (на федеральном, региональном и муниципальном уровнях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бразовательными учреждениями и педагог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ыпускни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казанное определяет, в частности, особенности системы оценки достижения планируемых результатов освоения основных образовательных програ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истемой образования (на федеральном, региональном и муниципальном уровнях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бразовательными учреждениями и педагог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ыпускни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2DF1-DA1E-42E9-BE19-B6869FDE6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E11B-5F41-49B1-99BC-AB4DEB14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7EC2-D0E4-41F7-B193-D4FE37656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933A-E709-4830-A090-9352C5609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D3BD-09E9-4F70-83B2-7779F80E7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45939-245A-48EE-B0BF-185DFBDFA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4825-3E05-4DA3-BD7F-862E2A26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D8DD-745D-4C37-B1D2-975BD9FA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30D4-E283-4925-AB7F-945D42DA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30F7-EB5E-489E-BE59-91BA79D24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7138-51EE-4FBD-B0F8-85C6C464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B8D2-CF07-4C65-B447-8C00CB98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F261-9D99-4F5B-8725-C4E4E7FB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5C5D-21BA-4607-A99F-04676915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F3B2-D49D-42C2-B9FD-5A6B302E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F263B-E2CD-46A7-95D1-111D09D3F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426EC-3EA7-4D49-8341-B5E72F712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1EC6-3D69-4FA5-B32C-4F1E0574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23FB-F661-439C-8395-1258568F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E379-CD25-4CEE-B013-852B5DF4E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EB25-2148-438A-91F4-E870A2C8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DD6F-41C8-4475-8F69-1C93EC8E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B560-C992-44A1-B6EE-2C621803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634C-7972-46F4-B19C-C1D8DB62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EDEE-E6C1-4BA6-8CE9-93D7982F0F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BD25-FA82-4538-8449-5A9070D0E9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1447560"/>
            <a:ext cx="78487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Система оценки </a:t>
            </a:r>
            <a:br>
              <a:rPr sz="3600"/>
            </a:b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планируемых результатов основной образовательной программы ОУ как часть оценки качества образования в условиях введения ФГОС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3809880" y="5181120"/>
            <a:ext cx="5029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0360"/>
                <a:tab algn="l" pos="341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Т.С. Горбунова, ректор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0360"/>
                <a:tab algn="l" pos="341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БОУ ДПО «Институт развития образования Омской области», к.п.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6868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533520"/>
            <a:ext cx="9144000" cy="11430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4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Оптимальное сочетание различ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оценочных шкал с учётом возраст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особенностей обучающих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2286000"/>
            <a:ext cx="9144000" cy="13716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5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Целенаправленная работа по формированию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универсальных учебных действий и способ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деятельности, в том числе оценочн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4343400"/>
            <a:ext cx="9144000" cy="13716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6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Освоение и использование эффективны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форм, средств, методов, технолог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оценив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0" y="0"/>
          <a:ext cx="182520" cy="12049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"/>
          <p:cNvSpPr/>
          <p:nvPr/>
        </p:nvSpPr>
        <p:spPr>
          <a:xfrm>
            <a:off x="1800" y="12045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609480"/>
            <a:ext cx="335268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Оценочная шка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0880" y="1523880"/>
            <a:ext cx="2743200" cy="5335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количествен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81480" y="1447920"/>
            <a:ext cx="3429000" cy="5331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порядков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2666880"/>
            <a:ext cx="1828800" cy="12193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Times New Roman"/>
              </a:rPr>
              <a:t>абсолют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Times New Roman"/>
              </a:rPr>
              <a:t>(не связанна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Times New Roman"/>
              </a:rPr>
              <a:t>с учеником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57400" y="2666880"/>
            <a:ext cx="2209680" cy="12193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относите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(связа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с самим учеником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2362320"/>
            <a:ext cx="1752480" cy="6858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рангов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362320"/>
            <a:ext cx="2133720" cy="7617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дескриптив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описательна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0" y="3352680"/>
            <a:ext cx="1600200" cy="6098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рейтинг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00800" y="3429000"/>
            <a:ext cx="1371600" cy="5335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99"/>
                </a:solidFill>
                <a:latin typeface="Arial"/>
              </a:rPr>
              <a:t>аналог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924680" y="3429000"/>
            <a:ext cx="1143000" cy="5335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99"/>
                </a:solidFill>
                <a:latin typeface="Arial"/>
              </a:rPr>
              <a:t>знак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943600" y="4419720"/>
            <a:ext cx="1905120" cy="83808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образ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(характеристи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924680" y="4419720"/>
            <a:ext cx="1143000" cy="6094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язык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1" name=""/>
          <p:cNvCxnSpPr>
            <a:stCxn id="249" idx="1"/>
          </p:cNvCxnSpPr>
          <p:nvPr/>
        </p:nvCxnSpPr>
        <p:spPr>
          <a:xfrm flipV="1" rot="10800000">
            <a:off x="2133000" y="837000"/>
            <a:ext cx="457920" cy="68652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62" name=""/>
          <p:cNvCxnSpPr/>
          <p:nvPr/>
        </p:nvCxnSpPr>
        <p:spPr>
          <a:xfrm flipV="1" rot="10800000">
            <a:off x="4571280" y="-152280"/>
            <a:ext cx="1080" cy="15300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63" name=""/>
          <p:cNvSpPr/>
          <p:nvPr/>
        </p:nvSpPr>
        <p:spPr>
          <a:xfrm>
            <a:off x="5943600" y="838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400800" y="8380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001000" y="19810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715000" y="19810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562720" y="3048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315200" y="31240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534520" y="31240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533520" y="205740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438280" y="205740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534520" y="39625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933960" y="3962520"/>
            <a:ext cx="99036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0" y="1066680"/>
            <a:ext cx="8686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4920" y="1371600"/>
            <a:ext cx="8381880" cy="16002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7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риентация образовательного проце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личностные образовательные дости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ждого уче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04920" y="3733920"/>
            <a:ext cx="8381880" cy="16002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8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Повышение уровня компетентности педагог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 вопросам оцен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разовательных достижений обучающих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8600" y="76320"/>
            <a:ext cx="8915400" cy="914400"/>
          </a:xfrm>
          <a:prstGeom prst="rect">
            <a:avLst/>
          </a:prstGeom>
          <a:solidFill>
            <a:srgbClr val="afe1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6600"/>
                </a:solidFill>
                <a:uFillTx/>
                <a:latin typeface="Arial"/>
              </a:rPr>
              <a:t>Условия обновления системы оценивания учебных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6600"/>
                </a:solidFill>
                <a:uFillTx/>
                <a:latin typeface="Arial"/>
              </a:rPr>
              <a:t>достижений обучающихс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576360" y="189000"/>
            <a:ext cx="7920000" cy="143964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0068ae"/>
            </a:solidFill>
            <a:miter/>
          </a:ln>
          <a:effectLst>
            <a:outerShdw dist="107932" dir="2700000" blurRad="0" rotWithShape="0">
              <a:srgbClr val="008a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Планируемые результат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три основные группы результа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6360" y="5589720"/>
            <a:ext cx="57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79280" y="1943280"/>
            <a:ext cx="2519640" cy="15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ИЧНОСТНЫ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риентац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ценностно-смыслова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социальных ролях и меж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личностных отношениях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951280" y="1952640"/>
            <a:ext cx="2519280" cy="15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ТАПРЕДМЕТ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937120" y="1952640"/>
            <a:ext cx="2698920" cy="117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ДМЕТ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79280" y="3645000"/>
            <a:ext cx="252108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амоопределение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чностное, профес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иональное, жизненно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79280" y="4508640"/>
            <a:ext cx="251964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мыслообразование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вязь между целью (ре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ультатом) деятель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ее мотиво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79280" y="5481720"/>
            <a:ext cx="2519640" cy="115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Морально-этическа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ориента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987640" y="3645000"/>
            <a:ext cx="252108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Регулятивные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рганизация деятель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987640" y="4473720"/>
            <a:ext cx="2521080" cy="86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Коммуникативные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ечевые навыки 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авыки сотрудничеств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87640" y="5445000"/>
            <a:ext cx="2519280" cy="1211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ознавательные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еучебные, в т.ч – знако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-символические, логичес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ие, постановка и реше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блем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940360" y="3238560"/>
            <a:ext cx="1944720" cy="514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132760" y="3346560"/>
            <a:ext cx="431640" cy="2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12000" y="3213000"/>
            <a:ext cx="176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сновы систем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аучных знан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940360" y="3860640"/>
            <a:ext cx="2055960" cy="14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973840" y="3886200"/>
            <a:ext cx="2017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пыт «предметной» деятельности по получению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еобразованию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применению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ового зна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172360" y="3357720"/>
            <a:ext cx="41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РЯ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136000" y="3716280"/>
            <a:ext cx="431640" cy="2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136000" y="3718080"/>
            <a:ext cx="6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Ли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32760" y="4065480"/>
            <a:ext cx="431640" cy="2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136000" y="4076640"/>
            <a:ext cx="41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ИЯ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136000" y="4437000"/>
            <a:ext cx="431640" cy="2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139240" y="4448160"/>
            <a:ext cx="536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Ма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132760" y="4786200"/>
            <a:ext cx="431640" cy="2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136000" y="4797360"/>
            <a:ext cx="41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Е/н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132760" y="5362560"/>
            <a:ext cx="431640" cy="2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136000" y="537372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Муз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132760" y="5686560"/>
            <a:ext cx="431640" cy="2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136000" y="56973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ИЗО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132760" y="6010200"/>
            <a:ext cx="431640" cy="2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136000" y="60213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Тех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132760" y="6370560"/>
            <a:ext cx="431640" cy="2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136000" y="638172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Физ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264360" y="5445000"/>
            <a:ext cx="1476360" cy="108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940360" y="5626080"/>
            <a:ext cx="208764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977080" y="5661000"/>
            <a:ext cx="212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метные и метапредметные действия с учебным материало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132760" y="5073480"/>
            <a:ext cx="431640" cy="2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136000" y="5084640"/>
            <a:ext cx="5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о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178920" y="1233360"/>
            <a:ext cx="270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Объект оцен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Предмет оценк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Процедуры оцен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95280" y="1088640"/>
            <a:ext cx="5724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формированность личностных универсальных учебных действ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ффективность деятельности системы образования, О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ешние мониторинговые исследования с использова-нием неперсонифицированных потоков информ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152280"/>
            <a:ext cx="8964720" cy="57636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0068ae"/>
            </a:solidFill>
            <a:miter/>
          </a:ln>
          <a:effectLst>
            <a:outerShdw dist="107932" dir="2700000" blurRad="0" rotWithShape="0">
              <a:srgbClr val="008a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Оценка личностных результатов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142920" y="1160280"/>
            <a:ext cx="2665440" cy="55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Объект оцен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Предмет оценк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Процедуры оцен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808000" y="1125000"/>
            <a:ext cx="63356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формированность регулятивных, коммуникативных и познавательных универсальных учебных действ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ровень сформированности универсального учебного действ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) внутренняя накопленная оце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) итоговая оце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152280"/>
            <a:ext cx="8964720" cy="57636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0068ae"/>
            </a:solidFill>
            <a:miter/>
          </a:ln>
          <a:effectLst>
            <a:outerShdw dist="107932" dir="2700000" blurRad="0" rotWithShape="0">
              <a:srgbClr val="008a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Оценка метапредметных результатов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142920" y="1160280"/>
            <a:ext cx="2665440" cy="55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Объект оцен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Предмет оценк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Процедуры оцен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808000" y="1125000"/>
            <a:ext cx="63356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формированность учебных дей-ствий с предметным содержани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пособность к решению учебно-познавательных и учебно-практи-ческих задач с использованием средств, релевантных содержа-нию учебных предме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) внутренняя накопленная оце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) итоговая оце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) процедуры внешней оцен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152280"/>
            <a:ext cx="8964720" cy="57636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0068ae"/>
            </a:solidFill>
            <a:miter/>
          </a:ln>
          <a:effectLst>
            <a:outerShdw dist="107932" dir="2700000" blurRad="0" rotWithShape="0">
              <a:srgbClr val="008a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Оценка предметных результатов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152280"/>
            <a:ext cx="9036000" cy="57636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0068ae"/>
            </a:solidFill>
            <a:miter/>
          </a:ln>
          <a:effectLst>
            <a:outerShdw dist="107932" dir="2700000" blurRad="0" rotWithShape="0">
              <a:srgbClr val="008a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Портфель достижений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527280" y="1557360"/>
            <a:ext cx="2448000" cy="900000"/>
          </a:xfrm>
          <a:prstGeom prst="rect">
            <a:avLst/>
          </a:prstGeom>
          <a:gradFill rotWithShape="0">
            <a:gsLst>
              <a:gs pos="0">
                <a:srgbClr val="0068ae"/>
              </a:gs>
              <a:gs pos="50000">
                <a:srgbClr val="ffccff"/>
              </a:gs>
              <a:gs pos="100000">
                <a:srgbClr val="0068ae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усский язы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итературное чт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остранный язы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010200" y="1557360"/>
            <a:ext cx="3133800" cy="900000"/>
          </a:xfrm>
          <a:prstGeom prst="rect">
            <a:avLst/>
          </a:prstGeom>
          <a:gradFill rotWithShape="0">
            <a:gsLst>
              <a:gs pos="0">
                <a:srgbClr val="0068ae"/>
              </a:gs>
              <a:gs pos="50000">
                <a:srgbClr val="ffccff"/>
              </a:gs>
              <a:gs pos="100000">
                <a:srgbClr val="0068ae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диктанты, изложения, сочин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аудиозаписи монологов, диалог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дневники читател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иллюстрированные авторские рабо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материалы самоанализа и рефлек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525840" y="2600280"/>
            <a:ext cx="2448000" cy="900000"/>
          </a:xfrm>
          <a:prstGeom prst="rect">
            <a:avLst/>
          </a:prstGeom>
          <a:gradFill rotWithShape="0">
            <a:gsLst>
              <a:gs pos="0">
                <a:srgbClr val="0068ae"/>
              </a:gs>
              <a:gs pos="50000">
                <a:srgbClr val="ccffff"/>
              </a:gs>
              <a:gs pos="100000">
                <a:srgbClr val="0068ae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тема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010200" y="2602080"/>
            <a:ext cx="3133800" cy="900000"/>
          </a:xfrm>
          <a:prstGeom prst="rect">
            <a:avLst/>
          </a:prstGeom>
          <a:gradFill rotWithShape="0">
            <a:gsLst>
              <a:gs pos="0">
                <a:srgbClr val="0068ae"/>
              </a:gs>
              <a:gs pos="50000">
                <a:srgbClr val="ccffff"/>
              </a:gs>
              <a:gs pos="100000">
                <a:srgbClr val="0068ae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математические диктан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мини-исследования и мини-проекты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модели, решения зада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аудиозаписи устных ответ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материалы самоанализа и рефлек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525840" y="3645000"/>
            <a:ext cx="2448000" cy="900000"/>
          </a:xfrm>
          <a:prstGeom prst="rect">
            <a:avLst/>
          </a:prstGeom>
          <a:gradFill rotWithShape="0">
            <a:gsLst>
              <a:gs pos="0">
                <a:srgbClr val="0068ae"/>
              </a:gs>
              <a:gs pos="50000">
                <a:srgbClr val="ccffcc"/>
              </a:gs>
              <a:gs pos="100000">
                <a:srgbClr val="0068ae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кружающий мир</a:t>
            </a:r>
            <a:r>
              <a:rPr b="0" lang="en-US" sz="1800" spc="-1" strike="noStrike">
                <a:solidFill>
                  <a:srgbClr val="008ae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010200" y="3645000"/>
            <a:ext cx="3133800" cy="900000"/>
          </a:xfrm>
          <a:prstGeom prst="rect">
            <a:avLst/>
          </a:prstGeom>
          <a:gradFill rotWithShape="0">
            <a:gsLst>
              <a:gs pos="0">
                <a:srgbClr val="0068ae"/>
              </a:gs>
              <a:gs pos="50000">
                <a:srgbClr val="ccffcc"/>
              </a:gs>
              <a:gs pos="100000">
                <a:srgbClr val="0068ae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дневники наблюд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мини-исследования и мини-проек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интервью, творческие рабо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аудиозаписи устных ответ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материалы самоанализа и рефлек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525840" y="4653000"/>
            <a:ext cx="2448000" cy="900000"/>
          </a:xfrm>
          <a:prstGeom prst="rect">
            <a:avLst/>
          </a:prstGeom>
          <a:gradFill rotWithShape="0">
            <a:gsLst>
              <a:gs pos="0">
                <a:srgbClr val="0068ae"/>
              </a:gs>
              <a:gs pos="50000">
                <a:srgbClr val="009999"/>
              </a:gs>
              <a:gs pos="100000">
                <a:srgbClr val="0068ae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узы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хноло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010200" y="4653000"/>
            <a:ext cx="3133800" cy="900000"/>
          </a:xfrm>
          <a:prstGeom prst="rect">
            <a:avLst/>
          </a:prstGeom>
          <a:gradFill rotWithShape="0">
            <a:gsLst>
              <a:gs pos="0">
                <a:srgbClr val="0068ae"/>
              </a:gs>
              <a:gs pos="50000">
                <a:srgbClr val="009999"/>
              </a:gs>
              <a:gs pos="100000">
                <a:srgbClr val="0068ae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аудио-, фото- и видео-материал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продукты собственного творче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аудиозаписи устных ответ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материалы самоанализа и рефлек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10200" y="981000"/>
            <a:ext cx="45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246560" y="944640"/>
            <a:ext cx="38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борки детских рабо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525840" y="5695920"/>
            <a:ext cx="2448000" cy="900000"/>
          </a:xfrm>
          <a:prstGeom prst="rect">
            <a:avLst/>
          </a:prstGeom>
          <a:gradFill rotWithShape="0">
            <a:gsLst>
              <a:gs pos="0">
                <a:srgbClr val="0068ae"/>
              </a:gs>
              <a:gs pos="50000">
                <a:srgbClr val="cc99ff"/>
              </a:gs>
              <a:gs pos="100000">
                <a:srgbClr val="0068ae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из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ульту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010200" y="5697360"/>
            <a:ext cx="3133800" cy="900360"/>
          </a:xfrm>
          <a:prstGeom prst="rect">
            <a:avLst/>
          </a:prstGeom>
          <a:gradFill rotWithShape="0">
            <a:gsLst>
              <a:gs pos="0">
                <a:srgbClr val="0068ae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видео-материал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дневники наблюдений и самоконтрол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амостоятельные рабо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материалы самоанализа и рефлек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79280" y="2492280"/>
            <a:ext cx="31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мерный соста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3068640"/>
            <a:ext cx="3456000" cy="3670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8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22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ки детских раб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Aft>
                <a:spcPts val="22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ультаты стартов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агнос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Aft>
                <a:spcPts val="224"/>
              </a:spcAft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ериалы текущ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ценки: листы наблюде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й, оценочные лис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Aft>
                <a:spcPts val="224"/>
              </a:spcAft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ультаты и материа- лы тематических раб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Aft>
                <a:spcPts val="224"/>
              </a:spcAft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ультаты и матери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ы итогового контро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Aft>
                <a:spcPts val="224"/>
              </a:spcAft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стижения во внеучеб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й деятель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142920" y="944640"/>
            <a:ext cx="169236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Что нужно учесть при разработке системы оценивания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одержательной и критериальной базой оценки личностных, метапредметных и предметных результатов служат планируемые результаты начального образова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e1ff"/>
                </a:solidFill>
                <a:latin typeface="Arial"/>
              </a:rPr>
              <a:t>Проблемы в сфере оценивания учебных достиж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74988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42800">
              <a:lnSpc>
                <a:spcPct val="100000"/>
              </a:lnSpc>
              <a:buClr>
                <a:srgbClr val="99ff99"/>
              </a:buClr>
              <a:buFont typeface="Wingdings" charset="2"/>
              <a:buChar char="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одмена оценки как компонента учебной деятельности выставлением отметок по 5-ти балльной шкале для обеспечения «накопляемости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442800">
              <a:lnSpc>
                <a:spcPct val="100000"/>
              </a:lnSpc>
              <a:buClr>
                <a:srgbClr val="99ff99"/>
              </a:buClr>
              <a:buFont typeface="Wingdings" charset="2"/>
              <a:buChar char="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442800">
              <a:lnSpc>
                <a:spcPct val="100000"/>
              </a:lnSpc>
              <a:buClr>
                <a:srgbClr val="99ff99"/>
              </a:buClr>
              <a:buFont typeface="Wingdings" charset="2"/>
              <a:buChar char="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отсутствие единых подходов и преемственности в оценивании при переходе учащихся с одной ступени на другу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442800">
              <a:lnSpc>
                <a:spcPct val="100000"/>
              </a:lnSpc>
              <a:buClr>
                <a:srgbClr val="99ff99"/>
              </a:buClr>
              <a:buFont typeface="Wingdings" charset="2"/>
              <a:buChar char="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закрытость для учащихся требований, выполнение которых будет оцениваться, и неразработанность критериальной базы оценив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442800">
              <a:lnSpc>
                <a:spcPct val="100000"/>
              </a:lnSpc>
              <a:buClr>
                <a:srgbClr val="99ff99"/>
              </a:buClr>
              <a:buFont typeface="Wingdings" charset="2"/>
              <a:buChar char="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ориентация оценивания только на сформированность предметных ЗУН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228240" y="152280"/>
            <a:ext cx="8458200" cy="60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одержание и процедуры оценки личностных, метапредметных и предметных результатов конкретизируются по мере введения стандарта и уточнения состава и содержания планируемых результатов начального образова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190440" y="7621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 персонифицированную итоговую оценку, результаты которой используются при принятии решения о возможности или невозможности продолжения обучения на следующей ступени, в начальной школе выносятся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только предметные и метапредметные результаты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456840" y="380520"/>
            <a:ext cx="84582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Итоговая оценка выпускника формируется на основе накопленной оценки по всем учебным предметам и оценок за выполнение, как минимум, трех итоговых работ (по русскому языку, математике и комплексной работы на межпредметной основе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Внешняя оценка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– оценка, которая проводится внешними по отношению к школе службами, уполномоченными вести оценочную деятельност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ффективность внешней оценки зависит от того, в какой мере она выполняет свои основные функ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Внутренняя оценк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это оценка самой школы (ребенка, учителя, школьного психолога, администрации и др.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на выражается в текущих отметках, которые ставятся учителями; и результатах самооценки учащихся; в результатах наблюдений проводящихся учителями и школьными психологами; в промежуточных и итоговой оценках учащихся и, наконец, в решении педагогического совета школы о переводе выпускника в следующий класс или на следующую ступень обуч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Накопленная оценка обеспечивает материалы для выводов о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45252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формированности универсальных и предметных способов действий, а также опорной системы знаний, обеспечивающих возможность продолжения образования в основной школ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45252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формированности основ умения учиться, т.е. способности к самоорганизации с целью постановки и решения учебно-познавательных и учебно-практических задач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Накопленная оценка обеспечивает материалы для выводов о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Индивидуальном прогрессе в основных сферах развития личности – мотивационно-смысловой, познавательной, эмоциональной, волевой и саморегуля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0" y="120600"/>
            <a:ext cx="9539280" cy="67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560" y="2514240"/>
            <a:ext cx="8839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Arial"/>
              </a:rPr>
              <a:t>Как организовать разработку системы оценивания?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301680" y="304920"/>
            <a:ext cx="854064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45252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обходимо создать рабочую группу в образовательном учреждении (руководитель, учителя начальной школы, учителя основной и старшей школы, представители Совета школы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45252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вести «инвентаризацию» действующей организации оценивания в образовательном учреждении и определить степень соответствия характеристикам системы оценивания, предусмотренных в ФГОС. (Таблица 1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fe1ff"/>
                </a:solidFill>
                <a:latin typeface="Arial"/>
              </a:rPr>
              <a:t>Проблемы в сфере оценивания учебных достиж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44280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использование методов, средств, форм оценивания без учета возрастных особенностей школьник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44280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низкий уровень компетентности педагогов в области целей, задач, содержания, методов, форм и средств организации оценочной деятельности, её роли в формировании и развитии оценочных и рефлексивных умений учащихся, значении в сохранении психологического здоровья школьник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44280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слабая ориентация образовательного процесса на образовательные достижения каждого учени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84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Таблица 1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01680" y="380880"/>
            <a:ext cx="8842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Оценочный лист</a:t>
            </a:r>
            <a:br>
              <a:rPr sz="2400"/>
            </a:b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системы оценивания на предмет соответствия ФГ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644580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да «+»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нет «-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0" y="1447920"/>
          <a:ext cx="8839080" cy="4998960"/>
        </p:xfrm>
        <a:graphic>
          <a:graphicData uri="http://schemas.openxmlformats.org/drawingml/2006/table">
            <a:tbl>
              <a:tblPr/>
              <a:tblGrid>
                <a:gridCol w="542880"/>
                <a:gridCol w="5629320"/>
                <a:gridCol w="1219320"/>
                <a:gridCol w="1447560"/>
              </a:tblGrid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\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знаки, характерис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стема оцени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ществующ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роектированн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плексность (предусматривает оценку личностных, метапредметных, предметных результатов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м критериальной базы являются планируемые результа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еспечивает оценку динамики образовательных достижений каждого учен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усмотрены персонифицированная и неперсонифицированная процедура оцен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невость в разработке инструментария (2-х уровневость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усмотрена накопительная система оценивания (портфолио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ценка успешности освоения содержания отдельных учебных предметов осуществляется на основе системно-деятельностного подход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вод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54064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полнить матрицу (Таблица 2), отразив в ней основные характеристики существующей системы оценки. Провести анализ, выделить все отсутствующие компоненты или несоответствующие ФГО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83944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При проведении анализа можно ориентироваться на следующие вопросы: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ие компоненты в существующей системе оценивания отсутствую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ие компоненты существующей системы оценивания не соответствуют характеристикам системы оценивания, предусмотренными ФГОС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ие компоненты будущей системы оценивания требуют проектирования, конкретизации, разработк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4582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При проведении анализа можно ориентироваться на следующие вопросы: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4298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то будет концептуальным (теоретическим) основанием для создания процедур, инструментария оценивани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4298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сколько необходимо обновить существующую системы оценивания (существенно, незначительно, не требуется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4298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то необходимо сделать, чтобы осуществить процесс создания новой (обновленной) системы оценивания планируемых результатов освоения основной образовательной программ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54064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вести серию проектировочных семинаров рабочей группы с педагогическим коллективом с целью создания проекта новой системы оцени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ланировать действия по преобразованию существующей системы оценивания. (Таблица 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План действий </a:t>
            </a:r>
            <a:br>
              <a:rPr sz="2800"/>
            </a:b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по обновлению системы оценивания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301680" y="1371600"/>
          <a:ext cx="8540640" cy="5333760"/>
        </p:xfrm>
        <a:graphic>
          <a:graphicData uri="http://schemas.openxmlformats.org/drawingml/2006/table">
            <a:tbl>
              <a:tblPr/>
              <a:tblGrid>
                <a:gridCol w="577800"/>
                <a:gridCol w="2089080"/>
                <a:gridCol w="1928880"/>
                <a:gridCol w="2249640"/>
                <a:gridCol w="1695240"/>
              </a:tblGrid>
              <a:tr h="1004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\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действ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ки испол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астники и ответственные исполните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жидаемый результа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рмативно-правовое обеспечение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онно-методическое, учебно-методическое обеспечение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дровое обеспечение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ционное обеспечение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правление созданием (обновлением) системы оценивания</a:t>
                      </a:r>
                      <a:r>
                        <a:rPr b="0" i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анируемых результатов освоения основной образовательной программы 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8390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Нормативно-правовое обеспечение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усматривает наличие в образовательном учреждении положений, приказов, инструкций и т.п. по осуществлению оценивания, по использованию тех или иных процедур, инструмента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рганизационно-методическое, учебно-методическое обеспечение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полагает поэтапное создание не только планов, графиков проведения промежуточной и итоговой аттестации, но и формы и содержание КИМов, критериев, шкал оценивания, средств, форм проведения тех или иных оценочных процеду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152280" y="-360"/>
            <a:ext cx="883944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Кадровое обеспечени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предполагает обеспечение профессиональной готовности педагогических и руководящих работников к осуществлению оценивания планируемых результатов освоения основной образовательной программы в соответствии с создаваемой систем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Информационное обеспечение –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предусматривает работу со всеми субъектами образовательного процесса (обучающимися, родителями, педагогами, представителями органов государственно-общественного управления) по своевременному информированию, разъяснению сути происходящих изменений в системе оценивания и их результат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152280" y="609480"/>
            <a:ext cx="88394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Управление созданием (обновлением) системы оценивания планируемых результатов освоения основной образовательной программы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едполагает мотивацию планирования, организацию, контроль за процесс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763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Место, роль контроля и оценки в учебном процессе должны меняться в направлениях: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степенной передачи контрольно-оценочных механизмов от учителя к обучающимс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ерехода от контроля констатирующего к контролю диагностирующему, процессуальном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ближения школьной оценки выпускника с реальной оценкой этого выпускника обществом, между которыми в настоящее время, как известно, существует значительный разры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следовательно и кратко описать содержание с таблицы 2, отражающей проект системы. Полученное описание разместить разделом 9 основной образовательной программ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собенности предлагаемой системы оценки: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660033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660033"/>
                </a:solidFill>
                <a:latin typeface="Arial"/>
              </a:rPr>
              <a:t>комплексный подход к оценке результатов</a:t>
            </a:r>
            <a:r>
              <a:rPr b="0" lang="ru-RU" sz="2900" spc="-1" strike="noStrike">
                <a:solidFill>
                  <a:srgbClr val="660033"/>
                </a:solidFill>
                <a:latin typeface="Arial"/>
              </a:rPr>
              <a:t> образования (оценка предметных, метапредметных и личностных результатов общего образования)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660033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660033"/>
                </a:solidFill>
                <a:latin typeface="Arial"/>
              </a:rPr>
              <a:t>использование планируемых результатов освоения основных образовательных программ в качестве </a:t>
            </a:r>
            <a:r>
              <a:rPr b="0" i="1" lang="ru-RU" sz="2900" spc="-1" strike="noStrike">
                <a:solidFill>
                  <a:srgbClr val="660033"/>
                </a:solidFill>
                <a:latin typeface="Arial"/>
              </a:rPr>
              <a:t>содержательной и критериальной базы оценки</a:t>
            </a:r>
            <a:r>
              <a:rPr b="0" lang="ru-RU" sz="2900" spc="-1" strike="noStrike">
                <a:solidFill>
                  <a:srgbClr val="660033"/>
                </a:solidFill>
                <a:latin typeface="Arial"/>
              </a:rPr>
              <a:t>;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660033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660033"/>
                </a:solidFill>
                <a:latin typeface="Arial"/>
              </a:rPr>
              <a:t>оценку </a:t>
            </a:r>
            <a:r>
              <a:rPr b="0" lang="ru-RU" sz="2900" spc="-1" strike="noStrike">
                <a:solidFill>
                  <a:srgbClr val="660033"/>
                </a:solidFill>
                <a:latin typeface="Arial"/>
              </a:rPr>
              <a:t>успешности освоения содержания отдельных учебных предметов на основе системно-деятельностного подхода, проявляющегося в способности  выполнению учебно-практических и учебно-познавательных задач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solidFill>
            <a:srgbClr val="afe1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660033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660033"/>
                </a:solidFill>
                <a:latin typeface="Arial"/>
              </a:rPr>
              <a:t>оценку динамики</a:t>
            </a:r>
            <a:r>
              <a:rPr b="0" lang="ru-RU" sz="2900" spc="-1" strike="noStrike">
                <a:solidFill>
                  <a:srgbClr val="660033"/>
                </a:solidFill>
                <a:latin typeface="Arial"/>
              </a:rPr>
              <a:t> образовательных достижений учащихся;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660033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660033"/>
                </a:solidFill>
                <a:latin typeface="Arial"/>
              </a:rPr>
              <a:t>сочетание </a:t>
            </a:r>
            <a:r>
              <a:rPr b="0" i="1" lang="ru-RU" sz="2900" spc="-1" strike="noStrike">
                <a:solidFill>
                  <a:srgbClr val="660033"/>
                </a:solidFill>
                <a:latin typeface="Arial"/>
              </a:rPr>
              <a:t>внешней и внутренней оценки</a:t>
            </a:r>
            <a:r>
              <a:rPr b="0" lang="ru-RU" sz="2900" spc="-1" strike="noStrike">
                <a:solidFill>
                  <a:srgbClr val="660033"/>
                </a:solidFill>
                <a:latin typeface="Arial"/>
              </a:rPr>
              <a:t> как механизма обеспечения качества образования;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660033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660033"/>
                </a:solidFill>
                <a:latin typeface="Arial"/>
              </a:rPr>
              <a:t>использование </a:t>
            </a:r>
            <a:r>
              <a:rPr b="0" i="1" lang="ru-RU" sz="3100" spc="-1" strike="noStrike">
                <a:solidFill>
                  <a:srgbClr val="660033"/>
                </a:solidFill>
                <a:latin typeface="Arial"/>
              </a:rPr>
              <a:t>персонифицированных процедур</a:t>
            </a:r>
            <a:r>
              <a:rPr b="0" lang="ru-RU" sz="3100" spc="-1" strike="noStrike">
                <a:solidFill>
                  <a:srgbClr val="660033"/>
                </a:solidFill>
                <a:latin typeface="Arial"/>
              </a:rPr>
              <a:t> в целях итоговой оценки и аттестации обучающихся и </a:t>
            </a:r>
            <a:r>
              <a:rPr b="0" i="1" lang="ru-RU" sz="3100" spc="-1" strike="noStrike">
                <a:solidFill>
                  <a:srgbClr val="660033"/>
                </a:solidFill>
                <a:latin typeface="Arial"/>
              </a:rPr>
              <a:t>неперсонифицированных процедур</a:t>
            </a:r>
            <a:r>
              <a:rPr b="0" lang="ru-RU" sz="3100" spc="-1" strike="noStrike">
                <a:solidFill>
                  <a:srgbClr val="660033"/>
                </a:solidFill>
                <a:latin typeface="Arial"/>
              </a:rPr>
              <a:t> в целях оценки состояния и тенденций развития системы образования, а также в иных аттестационных целях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660033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660033"/>
                </a:solidFill>
                <a:latin typeface="Arial"/>
              </a:rPr>
              <a:t>уровневый подход</a:t>
            </a:r>
            <a:r>
              <a:rPr b="0" lang="ru-RU" sz="3100" spc="-1" strike="noStrike">
                <a:solidFill>
                  <a:srgbClr val="660033"/>
                </a:solidFill>
                <a:latin typeface="Arial"/>
              </a:rPr>
              <a:t> к разработке планируемых результатов, инструментария и представлению данных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152280" y="277920"/>
            <a:ext cx="86868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Особенности предлагаемой системы оценки: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собенности предлагаемой системы оценки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solidFill>
            <a:srgbClr val="ccecff"/>
          </a:solidFill>
          <a:ln w="9360">
            <a:solidFill>
              <a:srgbClr val="66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660033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33"/>
                </a:solidFill>
                <a:latin typeface="Arial"/>
              </a:rPr>
              <a:t>использование </a:t>
            </a:r>
            <a:r>
              <a:rPr b="0" i="1" lang="ru-RU" sz="2600" spc="-1" strike="noStrike">
                <a:solidFill>
                  <a:srgbClr val="660033"/>
                </a:solidFill>
                <a:latin typeface="Arial"/>
              </a:rPr>
              <a:t>накопительной системы оценивания (портфолио),</a:t>
            </a:r>
            <a:r>
              <a:rPr b="0" lang="ru-RU" sz="2600" spc="-1" strike="noStrike">
                <a:solidFill>
                  <a:srgbClr val="660033"/>
                </a:solidFill>
                <a:latin typeface="Arial"/>
              </a:rPr>
              <a:t> характеризующей динамику индивидуальных образовательных достижений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60033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33"/>
                </a:solidFill>
                <a:latin typeface="Arial"/>
              </a:rPr>
              <a:t>использование наряду со </a:t>
            </a:r>
            <a:r>
              <a:rPr b="0" i="1" lang="ru-RU" sz="2600" spc="-1" strike="noStrike">
                <a:solidFill>
                  <a:srgbClr val="660033"/>
                </a:solidFill>
                <a:latin typeface="Arial"/>
              </a:rPr>
              <a:t>стандартизированными письменными или устными работами</a:t>
            </a:r>
            <a:r>
              <a:rPr b="0" lang="ru-RU" sz="2600" spc="-1" strike="noStrike">
                <a:solidFill>
                  <a:srgbClr val="660033"/>
                </a:solidFill>
                <a:latin typeface="Arial"/>
              </a:rPr>
              <a:t> таких методов оценки, как </a:t>
            </a:r>
            <a:r>
              <a:rPr b="0" i="1" lang="ru-RU" sz="2600" spc="-1" strike="noStrike">
                <a:solidFill>
                  <a:srgbClr val="660033"/>
                </a:solidFill>
                <a:latin typeface="Arial"/>
              </a:rPr>
              <a:t>проекты, практические работы, творческие работы, самоанализ и самооценка, наблюдения</a:t>
            </a:r>
            <a:r>
              <a:rPr b="0" lang="ru-RU" sz="2600" spc="-1" strike="noStrike">
                <a:solidFill>
                  <a:srgbClr val="660033"/>
                </a:solidFill>
                <a:latin typeface="Arial"/>
              </a:rPr>
              <a:t> и др.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60033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33"/>
                </a:solidFill>
                <a:latin typeface="Arial"/>
              </a:rPr>
              <a:t>использование </a:t>
            </a:r>
            <a:r>
              <a:rPr b="0" i="1" lang="ru-RU" sz="2600" spc="-1" strike="noStrike">
                <a:solidFill>
                  <a:srgbClr val="660033"/>
                </a:solidFill>
                <a:latin typeface="Arial"/>
              </a:rPr>
              <a:t>контекстной информации</a:t>
            </a:r>
            <a:r>
              <a:rPr b="0" lang="ru-RU" sz="2600" spc="-1" strike="noStrike">
                <a:solidFill>
                  <a:srgbClr val="660033"/>
                </a:solidFill>
                <a:latin typeface="Arial"/>
              </a:rPr>
              <a:t> об условиях и особенностях реализации образовательных программ при интерпретации результатов педагогических измерений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546120" y="1841760"/>
            <a:ext cx="7746120" cy="16502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Наличие в образовательном учреждении нормативно-правовой базы, определяющей систему оценивания учебных достижений обучающихся в конкретном учрежден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2280" y="304920"/>
            <a:ext cx="8610840" cy="914400"/>
          </a:xfrm>
          <a:prstGeom prst="rect">
            <a:avLst/>
          </a:prstGeom>
          <a:solidFill>
            <a:srgbClr val="afe1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6600"/>
                </a:solidFill>
                <a:uFillTx/>
                <a:latin typeface="Arial"/>
              </a:rPr>
              <a:t>Условия обновления системы оценивания учеб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6600"/>
                </a:solidFill>
                <a:uFillTx/>
                <a:latin typeface="Arial"/>
              </a:rPr>
              <a:t>достижений обучающих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4114800"/>
            <a:ext cx="8001000" cy="1523880"/>
          </a:xfrm>
          <a:prstGeom prst="flowChartAlternate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Применение специально разработа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критериев оценивания учебных достиж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" y="76320"/>
            <a:ext cx="8915400" cy="914400"/>
          </a:xfrm>
          <a:prstGeom prst="rect">
            <a:avLst/>
          </a:prstGeom>
          <a:solidFill>
            <a:srgbClr val="afe1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6600"/>
                </a:solidFill>
                <a:uFillTx/>
                <a:latin typeface="Arial"/>
              </a:rPr>
              <a:t>Условия обновления системы оценивания учебных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6600"/>
                </a:solidFill>
                <a:uFillTx/>
                <a:latin typeface="Arial"/>
              </a:rPr>
              <a:t>достижений обучающихс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0880" y="1143000"/>
            <a:ext cx="8534520" cy="167652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Осуществление технологического подход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в обучении, обеспечивающего открытость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доступность требований, предъявляемых 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обучающимс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380880" y="4267080"/>
          <a:ext cx="8534160" cy="2362320"/>
        </p:xfrm>
        <a:graphic>
          <a:graphicData uri="http://schemas.openxmlformats.org/drawingml/2006/table">
            <a:tbl>
              <a:tblPr/>
              <a:tblGrid>
                <a:gridCol w="745560"/>
                <a:gridCol w="2817360"/>
                <a:gridCol w="2837880"/>
                <a:gridCol w="2133360"/>
              </a:tblGrid>
              <a:tr h="120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\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анируемые результа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оцен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ценка учител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1676520" y="3124080"/>
            <a:ext cx="5638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невник учебных достиж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усский язык, 6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рфология. Имя числительное -16ч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0-14T06:29:36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