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77E-7C7C-4F5A-B395-E47072BC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913-A8BE-46A1-A6B4-B500588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2AC-1263-4E74-B2AA-734DE499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FC1-B7C9-404F-8A4E-B0298D0D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7EAA-051A-4648-A05D-795DBDCB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D78-738E-4323-A72F-90C14CE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914D-97A2-403A-8A17-970C470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DDB-FD32-47DC-AAAD-A7C1734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280-EBEA-4013-AA03-19D8084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D7AE-2495-4A43-A19D-F8A2BF5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E6F2-16CD-4466-B389-ECEAFD8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649-FF8B-4D71-91F2-32F0C946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427-CCBE-4AC6-9A71-82B91BF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973-DC2B-485F-8B3A-BE499F6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6D3C-9AF3-4250-98F5-58460E8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414E-4B81-4A82-89D5-BB5A012D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668-6497-4683-8EDD-3F97A32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21D-F6A0-4B9B-9D1B-F61C3ED6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0F9-4D60-4A74-83CB-8817AB8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FE7-3CB4-4DF7-9AF8-7753BFA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415-B32C-4916-A39D-F1585E1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C94-C7B0-4C64-A847-D213DE8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9A0-6D7C-44ED-BB83-6FC42CE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697-E046-48BB-A648-9C4B4C9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196A-A038-41A2-9020-82FE249A6E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A758-0072-44F6-BED2-0F38121F5D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6000" spc="-1" strike="noStrike">
                <a:solidFill>
                  <a:srgbClr val="ff6600"/>
                </a:solidFill>
                <a:latin typeface="Garamond"/>
              </a:rPr>
              <a:t>Из опыта сотрудничества классного руководителя с родителями учеников</a:t>
            </a:r>
            <a:endParaRPr b="1" lang="en-US" sz="6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31640" y="2781360"/>
            <a:ext cx="555012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МОУ СОШ с. Дом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Учитель начальных класс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Викторук О.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4038480" cy="302904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й кружок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художественно-эстетическ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й классный час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«Люблю тебя, мама, за что, я не знаю» - Баева Е.В., «Профессия - лётчик» - Ислентьев Д.Н., «Интересные книги»- Пименова С.В., «Я имею право» - Колотовкина Ю.А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е рейды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1-2 раза в год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499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Танцевальный кружок «СЮРПРИЗ»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527280" cy="264492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3816360" cy="286236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3880080" cy="2910240"/>
          </a:xfrm>
          <a:prstGeom prst="rect">
            <a:avLst/>
          </a:prstGeom>
          <a:ln w="44280">
            <a:solidFill>
              <a:srgbClr val="ff00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843280" y="2924280"/>
            <a:ext cx="3673440" cy="2755800"/>
          </a:xfrm>
          <a:prstGeom prst="rect">
            <a:avLst/>
          </a:prstGeom>
          <a:ln w="44280">
            <a:solidFill>
              <a:srgbClr val="ffcc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64000" y="4149720"/>
            <a:ext cx="3384720" cy="253836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Круглый стол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«Отчего бывает трудно первокласснику?», «Первые удачи и неудачи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День открытых дверей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посещение любого урока в течение дн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Заочные конкурсы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«Рисуют мамы», «Лучший почерк», «Папины руки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Праздники и семейные вече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Исследовательская деятельность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484360" cy="331164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2213280" cy="295128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2249640" cy="3024360"/>
          </a:xfrm>
          <a:prstGeom prst="rect">
            <a:avLst/>
          </a:prstGeom>
          <a:ln w="44280">
            <a:solidFill>
              <a:srgbClr val="ff00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403280" y="1197000"/>
            <a:ext cx="2895840" cy="21715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219640" y="1125360"/>
            <a:ext cx="3384720" cy="2538720"/>
          </a:xfrm>
          <a:prstGeom prst="rect">
            <a:avLst/>
          </a:prstGeom>
          <a:ln w="44280">
            <a:solidFill>
              <a:srgbClr val="ff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Семейные вечера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3166920" cy="2374920"/>
          </a:xfrm>
          <a:prstGeom prst="rect">
            <a:avLst/>
          </a:prstGeom>
          <a:ln w="44280">
            <a:solidFill>
              <a:srgbClr val="cc99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384720" cy="253872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276720" y="1773360"/>
            <a:ext cx="3003480" cy="4005000"/>
          </a:xfrm>
          <a:prstGeom prst="rect">
            <a:avLst/>
          </a:prstGeom>
          <a:ln w="44280">
            <a:solidFill>
              <a:srgbClr val="00808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80000" y="4005360"/>
            <a:ext cx="3183120" cy="238752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3382920" cy="2536920"/>
          </a:xfrm>
          <a:prstGeom prst="rect">
            <a:avLst/>
          </a:prstGeom>
          <a:ln w="442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e43"/>
                </a:solidFill>
                <a:latin typeface="Garamond"/>
              </a:rPr>
              <a:t>Экран активности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052640"/>
          <a:ext cx="8748360" cy="10388160"/>
        </p:xfrm>
        <a:graphic>
          <a:graphicData uri="http://schemas.openxmlformats.org/drawingml/2006/table">
            <a:tbl>
              <a:tblPr/>
              <a:tblGrid>
                <a:gridCol w="1344600"/>
                <a:gridCol w="965520"/>
                <a:gridCol w="413640"/>
                <a:gridCol w="484560"/>
                <a:gridCol w="551520"/>
                <a:gridCol w="551880"/>
                <a:gridCol w="482760"/>
                <a:gridCol w="482400"/>
                <a:gridCol w="520920"/>
                <a:gridCol w="513360"/>
                <a:gridCol w="484560"/>
                <a:gridCol w="620640"/>
                <a:gridCol w="620640"/>
                <a:gridCol w="711360"/>
              </a:tblGrid>
              <a:tr h="16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дит.соб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бботн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я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ем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нь матер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доровая сем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урс чте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тфо-л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ектн.дея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-муш-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зеле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би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годняя игр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.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олет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е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сл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ка 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ст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ка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ел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ae43"/>
                </a:solidFill>
                <a:latin typeface="Garamond"/>
              </a:rPr>
              <a:t>Экскурси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72000" cy="2754360"/>
          </a:xfrm>
          <a:prstGeom prst="rect">
            <a:avLst/>
          </a:prstGeom>
          <a:ln w="44280">
            <a:solidFill>
              <a:srgbClr val="ff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3529080" cy="264636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2214720" cy="295272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924360" y="2492280"/>
            <a:ext cx="2895480" cy="217188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1042920" y="1052640"/>
            <a:ext cx="3313080" cy="248436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56000" y="3476520"/>
            <a:ext cx="4176720" cy="313236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249360" cy="243684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4103640" cy="307800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288040" y="179280"/>
            <a:ext cx="3100320" cy="2325960"/>
          </a:xfrm>
          <a:prstGeom prst="rect">
            <a:avLst/>
          </a:prstGeom>
          <a:ln w="60480">
            <a:solidFill>
              <a:srgbClr val="ff66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5376600"/>
            <a:ext cx="3240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76280"/>
            <a:ext cx="8605800" cy="6901920"/>
          </a:xfrm>
          <a:custGeom>
            <a:avLst/>
            <a:gdLst>
              <a:gd name="textAreaLeft" fmla="*/ 1964520 w 8605800"/>
              <a:gd name="textAreaRight" fmla="*/ 6641280 w 8605800"/>
              <a:gd name="textAreaTop" fmla="*/ 1575360 h 6901920"/>
              <a:gd name="textAreaBottom" fmla="*/ 5326560 h 690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>
              <a:alpha val="85000"/>
            </a:srgbClr>
          </a:solidFill>
          <a:ln w="9360">
            <a:solidFill>
              <a:srgbClr val="dc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Garamond"/>
              </a:rPr>
              <a:t>От правильного воспитания детей зависит благосостояние на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716360" cy="353700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ae43"/>
                </a:solidFill>
                <a:latin typeface="Garamond"/>
              </a:rPr>
              <a:t>Д.И. Менделеев сказал: «Образование без воспитания—меч в руках сумасшедшего».</a:t>
            </a:r>
            <a:endParaRPr b="1" lang="en-US" sz="32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ffae43"/>
                </a:solidFill>
                <a:uFillTx/>
                <a:latin typeface="Garamond"/>
              </a:rPr>
              <a:t>Воспитание</a:t>
            </a:r>
            <a:r>
              <a:rPr b="1" lang="en-US" sz="2400" spc="-1" strike="noStrike">
                <a:solidFill>
                  <a:srgbClr val="ffae4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 это целенаправленный процесс формирования у детей высоких гражданско-политических, морально-нравственных, психологических качеств, привычек поведения и действий в соответствии с предъявляемыми обществом социальными и педагогическими требования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en-US" sz="5400" spc="-1" strike="noStrike" u="sng">
                <a:solidFill>
                  <a:srgbClr val="ffae43"/>
                </a:solidFill>
                <a:uFillTx/>
                <a:latin typeface="Garamond"/>
              </a:rPr>
              <a:t>Цель:</a:t>
            </a:r>
            <a:r>
              <a:rPr b="0" i="1" lang="en-US" sz="5400" spc="-1" strike="noStrike">
                <a:solidFill>
                  <a:srgbClr val="ffae43"/>
                </a:solidFill>
                <a:latin typeface="Garamond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включение родителей в воспитательно – образовательный процесс как равноправных и равноответственных партнер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149360"/>
            <a:ext cx="7559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ae43"/>
                </a:solidFill>
                <a:uFillTx/>
                <a:latin typeface="Garamond"/>
              </a:rPr>
              <a:t>Задача ребенка:</a:t>
            </a:r>
            <a:r>
              <a:rPr b="1" lang="en-US" sz="4000" spc="-1" strike="noStrike">
                <a:solidFill>
                  <a:srgbClr val="dcf1f4"/>
                </a:solidFill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Garamond"/>
              </a:rPr>
              <a:t>познавая новое, открывать самого себя для себя</a:t>
            </a:r>
            <a:br>
              <a:rPr sz="4000"/>
            </a:br>
            <a:r>
              <a:rPr b="1" lang="en-US" sz="4000" spc="-1" strike="noStrike" u="sng">
                <a:solidFill>
                  <a:srgbClr val="ffae43"/>
                </a:solidFill>
                <a:uFillTx/>
                <a:latin typeface="Garamond"/>
              </a:rPr>
              <a:t>Задача взрослых:</a:t>
            </a:r>
            <a:r>
              <a:rPr b="1" lang="en-US" sz="4000" spc="-1" strike="noStrike" u="sng">
                <a:solidFill>
                  <a:srgbClr val="dcf1f4"/>
                </a:solidFill>
                <a:uFillTx/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Garamond"/>
              </a:rPr>
              <a:t>помочь ему в этом очень нелегком деле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22" name="Picture 11" descr="img1"/>
          <p:cNvPicPr/>
          <p:nvPr/>
        </p:nvPicPr>
        <p:blipFill>
          <a:blip r:embed="rId2"/>
          <a:stretch/>
        </p:blipFill>
        <p:spPr>
          <a:xfrm>
            <a:off x="2268360" y="333360"/>
            <a:ext cx="4464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Социальный паспорт класса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3124080"/>
        </p:xfrm>
        <a:graphic>
          <a:graphicData uri="http://schemas.openxmlformats.org/drawingml/2006/table">
            <a:tbl>
              <a:tblPr/>
              <a:tblGrid>
                <a:gridCol w="7265880"/>
                <a:gridCol w="963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алообеспечен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ногодет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непол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\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семей неблагополучн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Образование родителей </a:t>
            </a:r>
            <a:br>
              <a:rPr sz="4400"/>
            </a:br>
            <a:r>
              <a:rPr b="1" i="1" lang="en-US" sz="1600" spc="-1" strike="noStrike">
                <a:solidFill>
                  <a:srgbClr val="ffae43"/>
                </a:solidFill>
                <a:latin typeface="Garamond"/>
              </a:rPr>
              <a:t>(</a:t>
            </a:r>
            <a:r>
              <a:rPr b="1" i="1" lang="en-US" sz="1800" spc="-1" strike="noStrike">
                <a:solidFill>
                  <a:srgbClr val="ffae43"/>
                </a:solidFill>
                <a:latin typeface="Garamond"/>
              </a:rPr>
              <a:t>высшее-26; ср-спец-16; среднее-5)</a:t>
            </a:r>
            <a:endParaRPr b="1" lang="en-US" sz="18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197000"/>
          <a:ext cx="82296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296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Профессиональный статус </a:t>
            </a:r>
            <a:br>
              <a:rPr sz="4400"/>
            </a:br>
            <a:r>
              <a:rPr b="1" i="1" lang="en-US" sz="1800" spc="-1" strike="noStrike">
                <a:solidFill>
                  <a:srgbClr val="ffae43"/>
                </a:solidFill>
                <a:latin typeface="Garamond"/>
              </a:rPr>
              <a:t>(в/служ.-19 ч.; педагоги и медики-9 ч., ж/д, ЧП, общепит и др.-10;домохоз.-7)</a:t>
            </a:r>
            <a:endParaRPr b="1" lang="en-US" sz="18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ae43"/>
                </a:solidFill>
                <a:latin typeface="Garamond"/>
              </a:rPr>
              <a:t>С 2011 года в рамках реализации национальной образовательной инициативы «Наша новая школа» начался переход начальной школы на ФГОСы второго поколения</a:t>
            </a: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342864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Garamond"/>
              </a:rPr>
              <a:t>Одна из отличительных черт проекта -расширение общественного участия родителей в жизни школ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129440" cy="4192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2075040"/>
            <a:ext cx="77043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Родительское собра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Работа родительского комите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Индивидуальные беседы и консультации(с привлечением психолога, администрации школы, других родителей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1:09:10Z</dcterms:created>
  <dc:creator>Пользователь</dc:creator>
  <dc:description/>
  <dc:language>en-US</dc:language>
  <cp:lastModifiedBy>Пользователь</cp:lastModifiedBy>
  <dcterms:modified xsi:type="dcterms:W3CDTF">2012-10-07T07:17:12Z</dcterms:modified>
  <cp:revision>21</cp:revision>
  <dc:subject/>
  <dc:title>Слайд 1</dc:title>
</cp:coreProperties>
</file>