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6E9-AF93-443F-B0A2-8B361945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D1C-6CDF-404F-911A-B1AD47BA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A37-CEAE-4D89-8ED0-1CB65585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AC5-4170-4E86-8256-78375222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BD9-2FCB-4484-ABFC-8FCECC86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C8DF-2F60-42B1-B143-1C97B75F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90A0-A7BF-418F-935A-229BB012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CF6-426D-4CFD-AD5B-6847561B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053F-F9E2-4709-B7F7-67FC57A0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6E9E-9F1E-47AA-BB84-CFB35424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45AE-3A78-49DF-88F1-EF19C0A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EB2-AC1D-48FC-BD9F-873665EB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02B-2279-48F5-BD1B-2882F2D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3C3-1C94-4A2D-9F89-74751A3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27D-5D28-4641-A9FC-977E67C3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71C-FB50-480F-806E-8DA8BFC9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D2AE-4C7B-40B7-9242-BE59F42B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E99-6CCA-4F05-9B92-343B9C0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43F-1D40-4AB2-A543-7AACC86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4A9-93F3-42E3-BC0A-17EFBE5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0D8-20C1-4BE2-9B93-0DE8BBF3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A0C-8D48-490F-B674-E894909D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32E-5609-46A2-8B60-D586A90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6C9-B0D7-43CE-AAC8-EDA2F01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5EB0-A7EB-47F3-9D9D-CDF7F9A8CD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A254-3670-46A8-88EF-1B4099F1F0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6000" spc="-1" strike="noStrike">
                <a:solidFill>
                  <a:srgbClr val="ff6600"/>
                </a:solidFill>
                <a:latin typeface="Garamond"/>
              </a:rPr>
              <a:t>Из опыта сотрудничества классного руководителя с родителями учеников</a:t>
            </a:r>
            <a:endParaRPr b="1" lang="en-US" sz="6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31640" y="2781360"/>
            <a:ext cx="555012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Garamond"/>
              </a:rPr>
              <a:t>МОУ СОШ с. Дом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Garamond"/>
              </a:rPr>
              <a:t>Учитель начальных класс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Garamond"/>
              </a:rPr>
              <a:t>Викторук О.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4038480" cy="302904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Формы сотрудничества с родителям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Родительский кружок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художественно-эстетическ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Родительский классный час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«Люблю тебя, мама, за что, я не знаю» - Баева Е.В., «Профессия - лётчик» - Ислентьев Д.Н., «Интересные книги»- Пименова С.В., «Я имею право» - Колотовкина Ю.А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Родительские рейды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1-2 раза в год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499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Танцевальный кружок «СЮРПРИЗ»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527280" cy="264492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3816360" cy="286236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3880080" cy="2910240"/>
          </a:xfrm>
          <a:prstGeom prst="rect">
            <a:avLst/>
          </a:prstGeom>
          <a:ln w="44280">
            <a:solidFill>
              <a:srgbClr val="ff00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843280" y="2924280"/>
            <a:ext cx="3673440" cy="2755800"/>
          </a:xfrm>
          <a:prstGeom prst="rect">
            <a:avLst/>
          </a:prstGeom>
          <a:ln w="44280">
            <a:solidFill>
              <a:srgbClr val="ffcc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364000" y="4149720"/>
            <a:ext cx="3384720" cy="253836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Формы сотрудничества с родителям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Круглый стол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«Отчего бывает трудно первокласснику?», «Первые удачи и неудачи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Исследовательская раб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День открытых дверей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посещение любого урока в течение дн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Заочные конкурсы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«Рисуют мамы», «Лучший почерк», «Папины руки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Праздники и семейные вече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Исследовательская деятельность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484360" cy="331164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2213280" cy="295128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2249640" cy="3024360"/>
          </a:xfrm>
          <a:prstGeom prst="rect">
            <a:avLst/>
          </a:prstGeom>
          <a:ln w="44280">
            <a:solidFill>
              <a:srgbClr val="ff00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403280" y="1197000"/>
            <a:ext cx="2895840" cy="21715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219640" y="1125360"/>
            <a:ext cx="3384720" cy="2538720"/>
          </a:xfrm>
          <a:prstGeom prst="rect">
            <a:avLst/>
          </a:prstGeom>
          <a:ln w="44280">
            <a:solidFill>
              <a:srgbClr val="ff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Семейные вечера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3166920" cy="2374920"/>
          </a:xfrm>
          <a:prstGeom prst="rect">
            <a:avLst/>
          </a:prstGeom>
          <a:ln w="44280">
            <a:solidFill>
              <a:srgbClr val="cc99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384720" cy="253872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276720" y="1773360"/>
            <a:ext cx="3003480" cy="4005000"/>
          </a:xfrm>
          <a:prstGeom prst="rect">
            <a:avLst/>
          </a:prstGeom>
          <a:ln w="44280">
            <a:solidFill>
              <a:srgbClr val="00808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80000" y="4005360"/>
            <a:ext cx="3183120" cy="238752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250920" y="3860640"/>
            <a:ext cx="3382920" cy="2536920"/>
          </a:xfrm>
          <a:prstGeom prst="rect">
            <a:avLst/>
          </a:prstGeom>
          <a:ln w="442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e43"/>
                </a:solidFill>
                <a:latin typeface="Garamond"/>
              </a:rPr>
              <a:t>Экран активности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052640"/>
          <a:ext cx="8748360" cy="10388160"/>
        </p:xfrm>
        <a:graphic>
          <a:graphicData uri="http://schemas.openxmlformats.org/drawingml/2006/table">
            <a:tbl>
              <a:tblPr/>
              <a:tblGrid>
                <a:gridCol w="1344600"/>
                <a:gridCol w="965520"/>
                <a:gridCol w="413640"/>
                <a:gridCol w="484560"/>
                <a:gridCol w="551520"/>
                <a:gridCol w="551880"/>
                <a:gridCol w="482760"/>
                <a:gridCol w="482400"/>
                <a:gridCol w="520920"/>
                <a:gridCol w="513360"/>
                <a:gridCol w="484560"/>
                <a:gridCol w="620640"/>
                <a:gridCol w="620640"/>
                <a:gridCol w="711360"/>
              </a:tblGrid>
              <a:tr h="16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дит.соб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бботни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я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ем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нь матер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доровая сем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урс чте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ртфо-л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ектн.дея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-муш-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зеле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би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годняя игру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в.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с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а 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а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и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олет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е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дисла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а 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ри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ка 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ст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ка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ел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++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ae43"/>
                </a:solidFill>
                <a:latin typeface="Garamond"/>
              </a:rPr>
              <a:t>Экскурси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72000" cy="2754360"/>
          </a:xfrm>
          <a:prstGeom prst="rect">
            <a:avLst/>
          </a:prstGeom>
          <a:ln w="44280">
            <a:solidFill>
              <a:srgbClr val="ff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3529080" cy="264636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300720" y="836640"/>
            <a:ext cx="2214720" cy="295272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924360" y="2492280"/>
            <a:ext cx="2895480" cy="217188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1042920" y="1052640"/>
            <a:ext cx="3313080" cy="248436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356000" y="3476520"/>
            <a:ext cx="4176720" cy="313236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249360" cy="2436840"/>
          </a:xfrm>
          <a:prstGeom prst="rect">
            <a:avLst/>
          </a:prstGeom>
          <a:ln w="44280">
            <a:solidFill>
              <a:srgbClr val="00ff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39640" y="0"/>
            <a:ext cx="4103640" cy="3078000"/>
          </a:xfrm>
          <a:prstGeom prst="rect">
            <a:avLst/>
          </a:prstGeom>
          <a:ln w="44280">
            <a:solidFill>
              <a:srgbClr val="00ff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288040" y="179280"/>
            <a:ext cx="3100320" cy="2325960"/>
          </a:xfrm>
          <a:prstGeom prst="rect">
            <a:avLst/>
          </a:prstGeom>
          <a:ln w="60480">
            <a:solidFill>
              <a:srgbClr val="ff66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5376600"/>
            <a:ext cx="3240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76280"/>
            <a:ext cx="8605800" cy="6901920"/>
          </a:xfrm>
          <a:custGeom>
            <a:avLst/>
            <a:gdLst>
              <a:gd name="textAreaLeft" fmla="*/ 1964520 w 8605800"/>
              <a:gd name="textAreaRight" fmla="*/ 6641280 w 8605800"/>
              <a:gd name="textAreaTop" fmla="*/ 1575360 h 6901920"/>
              <a:gd name="textAreaBottom" fmla="*/ 5326560 h 690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>
              <a:alpha val="85000"/>
            </a:srgbClr>
          </a:solidFill>
          <a:ln w="9360">
            <a:solidFill>
              <a:srgbClr val="dc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Garamond"/>
              </a:rPr>
              <a:t>От правильного воспитания детей зависит благосостояние на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4716360" cy="353700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ae43"/>
                </a:solidFill>
                <a:latin typeface="Garamond"/>
              </a:rPr>
              <a:t>Д.И. Менделеев сказал: «Образование без воспитания—меч в руках сумасшедшего».</a:t>
            </a:r>
            <a:endParaRPr b="1" lang="en-US" sz="32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     </a:t>
            </a:r>
            <a:r>
              <a:rPr b="1" lang="en-US" sz="2400" spc="-1" strike="noStrike" u="sng">
                <a:solidFill>
                  <a:srgbClr val="ffae43"/>
                </a:solidFill>
                <a:uFillTx/>
                <a:latin typeface="Garamond"/>
              </a:rPr>
              <a:t>Воспитание</a:t>
            </a:r>
            <a:r>
              <a:rPr b="1" lang="en-US" sz="2400" spc="-1" strike="noStrike">
                <a:solidFill>
                  <a:srgbClr val="ffae4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 это целенаправленный процесс формирования у детей высоких гражданско-политических, морально-нравственных, психологических качеств, привычек поведения и действий в соответствии с предъявляемыми обществом социальными и педагогическими требования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i="1" lang="en-US" sz="5400" spc="-1" strike="noStrike" u="sng">
                <a:solidFill>
                  <a:srgbClr val="ffae43"/>
                </a:solidFill>
                <a:uFillTx/>
                <a:latin typeface="Garamond"/>
              </a:rPr>
              <a:t>Цель:</a:t>
            </a:r>
            <a:r>
              <a:rPr b="0" i="1" lang="en-US" sz="5400" spc="-1" strike="noStrike">
                <a:solidFill>
                  <a:srgbClr val="ffae43"/>
                </a:solidFill>
                <a:latin typeface="Garamond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aramond"/>
              </a:rPr>
              <a:t>включение родителей в воспитательно – образовательный процесс как равноправных и равноответственных партнер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149360"/>
            <a:ext cx="7559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ae43"/>
                </a:solidFill>
                <a:uFillTx/>
                <a:latin typeface="Garamond"/>
              </a:rPr>
              <a:t>Задача ребенка:</a:t>
            </a:r>
            <a:r>
              <a:rPr b="1" lang="en-US" sz="4000" spc="-1" strike="noStrike">
                <a:solidFill>
                  <a:srgbClr val="dcf1f4"/>
                </a:solidFill>
                <a:latin typeface="Garamond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Garamond"/>
              </a:rPr>
              <a:t>познавая новое, открывать самого себя для себя</a:t>
            </a:r>
            <a:br>
              <a:rPr sz="4000"/>
            </a:br>
            <a:r>
              <a:rPr b="1" lang="en-US" sz="4000" spc="-1" strike="noStrike" u="sng">
                <a:solidFill>
                  <a:srgbClr val="ffae43"/>
                </a:solidFill>
                <a:uFillTx/>
                <a:latin typeface="Garamond"/>
              </a:rPr>
              <a:t>Задача взрослых:</a:t>
            </a:r>
            <a:r>
              <a:rPr b="1" lang="en-US" sz="4000" spc="-1" strike="noStrike" u="sng">
                <a:solidFill>
                  <a:srgbClr val="dcf1f4"/>
                </a:solidFill>
                <a:uFillTx/>
                <a:latin typeface="Garamond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Garamond"/>
              </a:rPr>
              <a:t>помочь ему в этом очень нелегком деле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pic>
        <p:nvPicPr>
          <p:cNvPr id="122" name="Picture 11" descr="img1"/>
          <p:cNvPicPr/>
          <p:nvPr/>
        </p:nvPicPr>
        <p:blipFill>
          <a:blip r:embed="rId2"/>
          <a:stretch/>
        </p:blipFill>
        <p:spPr>
          <a:xfrm>
            <a:off x="2268360" y="333360"/>
            <a:ext cx="44643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Социальный паспорт класса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3124080"/>
        </p:xfrm>
        <a:graphic>
          <a:graphicData uri="http://schemas.openxmlformats.org/drawingml/2006/table">
            <a:tbl>
              <a:tblPr/>
              <a:tblGrid>
                <a:gridCol w="7265880"/>
                <a:gridCol w="963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малообеспеченных сем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многодетных сем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неполных сем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\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семей неблагополучн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Образование родителей </a:t>
            </a:r>
            <a:br>
              <a:rPr sz="4400"/>
            </a:br>
            <a:r>
              <a:rPr b="1" i="1" lang="en-US" sz="1600" spc="-1" strike="noStrike">
                <a:solidFill>
                  <a:srgbClr val="ffae43"/>
                </a:solidFill>
                <a:latin typeface="Garamond"/>
              </a:rPr>
              <a:t>(</a:t>
            </a:r>
            <a:r>
              <a:rPr b="1" i="1" lang="en-US" sz="1800" spc="-1" strike="noStrike">
                <a:solidFill>
                  <a:srgbClr val="ffae43"/>
                </a:solidFill>
                <a:latin typeface="Garamond"/>
              </a:rPr>
              <a:t>высшее-26; ср-спец-16; среднее-5)</a:t>
            </a:r>
            <a:endParaRPr b="1" lang="en-US" sz="18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197000"/>
          <a:ext cx="822960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296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e43"/>
                </a:solidFill>
                <a:latin typeface="Garamond"/>
              </a:rPr>
              <a:t>Профессиональный статус </a:t>
            </a:r>
            <a:br>
              <a:rPr sz="4400"/>
            </a:br>
            <a:r>
              <a:rPr b="1" i="1" lang="en-US" sz="1800" spc="-1" strike="noStrike">
                <a:solidFill>
                  <a:srgbClr val="ffae43"/>
                </a:solidFill>
                <a:latin typeface="Garamond"/>
              </a:rPr>
              <a:t>(в/служ.-19 ч.; педагоги и медики-9 ч., ж/д, ЧП, общепит и др.-10;домохоз.-7)</a:t>
            </a:r>
            <a:endParaRPr b="1" lang="en-US" sz="1800" spc="-1" strike="noStrike">
              <a:solidFill>
                <a:srgbClr val="dcf1f4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ae43"/>
                </a:solidFill>
                <a:latin typeface="Garamond"/>
              </a:rPr>
              <a:t>С 2011 года в рамках реализации национальной образовательной инициативы «Наша новая школа» начался переход начальной школы на ФГОСы второго поколения</a:t>
            </a:r>
            <a:endParaRPr b="1" lang="en-US" sz="36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342864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Garamond"/>
              </a:rPr>
              <a:t>Одна из отличительных черт проекта -расширение общественного участия родителей в жизни школ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129440" cy="4192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ae43"/>
                </a:solidFill>
                <a:latin typeface="Garamond"/>
              </a:rPr>
              <a:t>Формы сотрудничества с родителями</a:t>
            </a:r>
            <a:endParaRPr b="1" lang="en-US" sz="4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2075040"/>
            <a:ext cx="77043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Родительское собра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Работа родительского комите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Индивидуальные беседы и консультации(с привлечением психолога, администрации школы, других родителей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1:09:10Z</dcterms:created>
  <dc:creator>Пользователь</dc:creator>
  <dc:description/>
  <dc:language>en-US</dc:language>
  <cp:lastModifiedBy>Пользователь</cp:lastModifiedBy>
  <dcterms:modified xsi:type="dcterms:W3CDTF">2012-10-07T07:17:12Z</dcterms:modified>
  <cp:revision>21</cp:revision>
  <dc:subject/>
  <dc:title>Слайд 1</dc:title>
</cp:coreProperties>
</file>