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0A4-03DC-4D51-ACF2-FF483A06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B6E-1AD3-4B8E-8A05-136BD6EE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330-1B17-4C8F-8BCC-C9F1AB8A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E7F-7E65-49A9-8329-AB536E1F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2972-2004-4124-AC8D-A2D5159B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8E1C-19FA-4F19-A199-B492AABE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5766-E4FC-4029-8AD7-0A12AB27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8781-6811-42F3-9D8E-77060138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667E-0FC9-46FB-83F6-1615DF77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CDC5-7B92-42F5-96F5-EC7E3AF3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64EB-836E-43AE-A6AE-0386FF39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E8F-665D-4761-A5EB-0E1DCC98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A5C2-A5F6-419C-ADFB-8DF3FD3E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C583-FE5A-495B-8D2D-D0598E8A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79D4-584A-4FDA-B90A-F840C83A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B48C-6750-4459-99DA-4DD9F172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24E7-44C6-426C-95EA-08E15773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42A-306C-4AEA-ACF9-C3E9B018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429-0CE9-4520-85A0-E368BAC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61A-6D9B-4E65-8FA8-7220B4BA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6DB-9499-4241-8627-CB1CD5C8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6F6-8DF9-452B-8124-EAAB65A7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078-AD78-4AD5-9C4E-71CEA781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035-B0AD-4057-9DF5-1365690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016A-7816-4179-8666-4D59D9C9594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7349-19B4-49FC-9835-7A27FDF936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1844640"/>
            <a:ext cx="7416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Технология использования логическо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функции в электронных таблица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216000"/>
            <a:ext cx="91440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250920"/>
            <a:ext cx="91202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3760" y="260280"/>
            <a:ext cx="91202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22392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760" y="260280"/>
            <a:ext cx="9120240" cy="641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202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760" y="260280"/>
            <a:ext cx="91202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88506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22536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2920" y="549360"/>
            <a:ext cx="8893080" cy="59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81760" y="2010240"/>
            <a:ext cx="798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да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газин компьютерных аксессуаров продает товар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казанные в прайс-ли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имость указана в доллар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стоимость товара превышает некоторую сумм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купателю предоставляется ски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авить таблицу-шабло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озволяющую быстро рассчитать стоимость произвольной покуп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расчете учесть текущий курс долл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50920"/>
            <a:ext cx="914400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6:37:20Z</dcterms:created>
  <dc:creator>Mixa</dc:creator>
  <dc:description/>
  <dc:language>en-US</dc:language>
  <cp:lastModifiedBy>Mixa</cp:lastModifiedBy>
  <dcterms:modified xsi:type="dcterms:W3CDTF">2008-11-23T09:54:39Z</dcterms:modified>
  <cp:revision>8</cp:revision>
  <dc:subject/>
  <dc:title>Слайд 1</dc:title>
</cp:coreProperties>
</file>