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D6AB-6718-437A-B7B9-BF82C4D35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FA58-73C9-4564-BCE3-02B57B11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9D84-4BF0-42DD-BAB2-13CB1E1B3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1D3A-05CF-4417-9DEE-C333E3734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95663-17AF-4725-845A-622EF0E99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6A22-C855-465A-B8AC-177E0EC9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F9C3-2F77-4D25-BB2E-5DAA7E2F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049C3-0ECA-4670-824B-8B517649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6B36-EAE9-4013-BC0C-B6484568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AC7A-86B4-4228-A83B-991C2C4E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AF77-4E75-459A-AF40-5F233CF1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8186-B08A-42F0-BF2D-92629D6D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331E-49EC-4AAB-AF05-421DEEB3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21F0-1C12-4FD7-A62E-B85F3293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A301-892A-4B43-83B2-87D2129D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1ABE4-A277-479F-BBC7-96481B87B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1515-AA81-44DB-9A5B-40B7000D5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FBF4-CA54-4B57-8D2B-13A504C6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1BD1-EE47-4F7D-BBDB-A5FF82B1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FB71-26CB-4297-97C4-9D278D51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3D9B-B0A9-4F1A-8CA6-2F0AAADA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9047-EF3B-4F42-BC07-7A1DD8EA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8201-44E4-4B88-979C-217ABFC8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06A9-C752-4355-BDC1-F318BB52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8CAC-A8DA-46B3-AADF-A1F76ED0F3E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7D49-0123-47C0-B163-1BA8A76D9E4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755640" y="1844640"/>
            <a:ext cx="741672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Технология использования логической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функции в электронных таблицах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4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216000"/>
            <a:ext cx="9144000" cy="64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250920"/>
            <a:ext cx="91202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3760" y="260280"/>
            <a:ext cx="9120240" cy="64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223920"/>
            <a:ext cx="9144000" cy="64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3760" y="260280"/>
            <a:ext cx="9120240" cy="641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20240" cy="64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3760" y="260280"/>
            <a:ext cx="9120240" cy="64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885060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225360"/>
            <a:ext cx="914400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42920" y="549360"/>
            <a:ext cx="8893080" cy="59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81760" y="2010240"/>
            <a:ext cx="7981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задач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агазин компьютерных аксессуаров продает товар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казанные в прайс-лис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тоимость указана в доллар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стоимость товара превышает некоторую сумму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купателю предоставляется скид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ставить таблицу-шаблон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зволяющую быстро рассчитать стоимость произвольной покуп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расчете учесть текущий курс долла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4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4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250920"/>
            <a:ext cx="914400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4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6:37:20Z</dcterms:created>
  <dc:creator>Mixa</dc:creator>
  <dc:description/>
  <dc:language>en-US</dc:language>
  <cp:lastModifiedBy>Mixa</cp:lastModifiedBy>
  <dcterms:modified xsi:type="dcterms:W3CDTF">2008-11-23T09:54:39Z</dcterms:modified>
  <cp:revision>8</cp:revision>
  <dc:subject/>
  <dc:title>Слайд 1</dc:title>
</cp:coreProperties>
</file>