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967-A5BE-4F9B-9B03-7F2C6C36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2F6-6E18-4708-8860-1DDD02C1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8D0-8548-4B90-A4A8-16EE4927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5D4-2FEE-45B7-82D9-7738F6BB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FDC9-B161-45BF-95D3-47B04833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F8D6-220B-453B-B93A-15C6C9B5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9489-47A0-45C5-8C82-DA7DECD7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D768-9CA5-41AA-9724-A6B0D9B8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ED97-C095-4B8B-86BE-D246A315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6473-244F-4587-B1F5-EED64D42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16B7-7AA2-4B9B-9495-754AAAF1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1AE-3582-4F4D-887B-2EADD175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9D79-73E0-4617-BC8F-8990DF43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88E3-66D0-491D-B44E-6D7D6103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DAE3-6F62-48D6-A53C-4807243E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9C66-3C2F-4DEE-BA42-245BA28D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3662-2029-4C4F-8466-CF49146E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AF1C-70B3-40AB-86D4-2FFE5B4B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8A28-021D-4952-A6BA-CE64FA92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708-62B1-45B7-975E-50AE931C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FA59-5449-4E2B-9B51-0C17F3F5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D65-6409-4F7E-857D-010369A2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8F73-C973-4129-B55B-AED6D484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522-FF88-46AA-BAE0-FDA64463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88A4-738C-45C1-A801-CDB84B9ED8C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E6F2-F13A-4A98-B680-4D7AAAEA2F5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jka.ru/blog/podelki/259.html" TargetMode="External"/><Relationship Id="rId2" Type="http://schemas.openxmlformats.org/officeDocument/2006/relationships/hyperlink" Target="http://www.tnf.by/articles/get?id=43" TargetMode="External"/><Relationship Id="rId3" Type="http://schemas.openxmlformats.org/officeDocument/2006/relationships/hyperlink" Target="http://www.college5.msk.ru/.../gl.php?zag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Мастер-класс</a:t>
            </a:r>
            <a:br>
              <a:rPr sz="40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«Методика работы с гофрокартоном»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готовление фруктов и я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технике бумагокр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оследовательность выполнения из гофрокартона лимона и апельсин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644480"/>
            <a:ext cx="3124080" cy="444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675480" y="1628640"/>
            <a:ext cx="2000160" cy="2517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995640" y="3571920"/>
            <a:ext cx="2360880" cy="2521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4140360" y="1628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846840" y="4294080"/>
            <a:ext cx="1828800" cy="1798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3292560" cy="216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3211560"/>
            <a:ext cx="2541600" cy="2881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780000" y="3213000"/>
            <a:ext cx="2158920" cy="2880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724800" y="3211560"/>
            <a:ext cx="1950840" cy="2881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635280" y="141300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6875640" y="141300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 rot="19251600">
            <a:off x="4140000" y="1916280"/>
            <a:ext cx="2234880" cy="1079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оследовательность выполнения из гофрокартона фруктов и ягод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 spd="slow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08360" y="429264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оследовательность выполнения из гофрокартона виноград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1647720" cy="2519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2238480" cy="3238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386400" y="2421000"/>
            <a:ext cx="2289240" cy="3240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6372360" y="2421000"/>
            <a:ext cx="2317680" cy="3238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68360" y="2349360"/>
            <a:ext cx="2303280" cy="3313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1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1.85185E-006 C 0.04219 0.0044 0.08889 0.00949 0.11806 -0.02963 C 0.14705 -0.06805 0.16146 -0.19606 0.17118 -0.23287 C 0.18125 -0.26921 0.17882 -0.26018 0.17674 -0.25069 E">
                                      <p:cBhvr>
                                        <p:cTn id="11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00023 C -0.05625 0.00463 -0.11215 0.00949 -0.13923 -0.03542 C -0.16614 -0.08009 -0.15937 -0.22893 -0.16354 -0.26759 E">
                                      <p:cBhvr>
                                        <p:cTn id="11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арианты композиции фруктов в тарелочках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24360" y="134136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4797360" cy="359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724360" y="39038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Ресурсы, использованные при подготовке презентации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ejka.ru/blog/podelki/259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tnf.by/articles/get?id=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www.college5.msk.ru/.../gl.php?za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ъемное бумагокручение» Васехина Т.А., Селезнева Е.В. С-Петербург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 фруктов, изготовленных авт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076360" y="333360"/>
            <a:ext cx="381636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Ост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Garamond"/>
              </a:rPr>
              <a:t>Тамара Анатольев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зитель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кус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У СОШ №591 Не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0-2011 уч.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321080" cy="57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Задач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мастер-класс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 с техникой работы с гофрокарто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 скручивать полоски гофрокартона в спирали и видоизменять их фор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вать интерес к данной технике, желание самовыража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творческого воображения и художественного вк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мастер-класс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владеть технологией работы с гофрокарто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47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47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7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4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4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4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Материалы и инструмент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ветной гофрокарт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нцелярский но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ей П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инц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нкое ши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жниц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дноразовые тарел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0" y="4508640"/>
            <a:ext cx="2031840" cy="1523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2032200" cy="1524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0" y="2708280"/>
            <a:ext cx="2031840" cy="1523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804000" y="270828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804000" y="4508640"/>
            <a:ext cx="203220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Техника безопасности при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выполнении работ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Ножниц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анить в определенном месте, не держать ножницы острыми концами вверх, передавать кольцами впер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Канцелярский нож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давать только закрытым, при работе не держать нож за лез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Шил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ранить в специальных чехлах, не делать резких движений рукой с шилом, чтобы не поранить сидящего рядом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Что такое гофрокартон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фрированный картон (гофрокартон) – жесткий упаковочный материал, который изготовляют, наклеивая бумажное полотно с двух сторон гофрированной (волнообразной) бумаг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00720" y="364644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8360" y="364644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дготовка гофрокартон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3628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фрокартон нарезаем под линейку канцелярским ножом на полоски шириной 5-7 м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оска гофрокартона накручивается на шило или зубочист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4027320"/>
            <a:ext cx="2663640" cy="2065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40360" y="4057560"/>
            <a:ext cx="2773440" cy="2035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19640" y="4038480"/>
            <a:ext cx="2233440" cy="2054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Элементы фигурного скручивания гофрокартон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688000" cy="3549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612360" y="3789360"/>
            <a:ext cx="3564000" cy="1955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372360" y="2205000"/>
            <a:ext cx="2313000" cy="2951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оследовательность выполнения из гофрокартона яблока и груш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1619280" cy="2879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1558800" cy="2522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427640" y="2781360"/>
            <a:ext cx="1752480" cy="2876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516720" y="3571920"/>
            <a:ext cx="2152440" cy="2521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4294080"/>
            <a:ext cx="1763640" cy="1798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093080" y="1557360"/>
            <a:ext cx="1508040" cy="1798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13:25:45Z</dcterms:created>
  <dc:creator>Южик</dc:creator>
  <dc:description/>
  <dc:language>en-US</dc:language>
  <cp:lastModifiedBy>dom</cp:lastModifiedBy>
  <dcterms:modified xsi:type="dcterms:W3CDTF">2012-10-06T19:09:52Z</dcterms:modified>
  <cp:revision>33</cp:revision>
  <dc:subject/>
  <dc:title>Слайд 1</dc:title>
</cp:coreProperties>
</file>