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CAD-176A-46EF-8055-421E29B6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343-1836-4791-90D7-CDE8D030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318-F3AE-48C4-B1C5-B72BB68A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7D3-C194-435A-ABAA-767F23B1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1543-CF37-4D5C-98D2-6134A23E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BF07-25A3-4B6A-98FA-E0A7673E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F76A-EDE7-4D15-BA0F-B448D28C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AB6C-6C46-4062-A5F7-BEAD4DCD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FB4A-4F66-4F45-85E9-41425161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51A0-524D-4036-AC52-91509C07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F01F-51EB-4561-B22A-7D6B6334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724-C731-4B5D-8E5C-08DE4E48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72A5-6735-447B-8D23-D6CCED8B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6DB3-E0DC-4FC9-99A9-3B281369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C552-6575-4E38-9A1A-4C3421F3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B290-8911-456F-A108-651BF94F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37C6-CB3D-402D-B3B0-CBF00E43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749-5872-4AAB-9432-AF52D58B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B60-42A1-4D16-BA4B-049A22FF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2EA-BCEF-4034-87B8-FFB06C2E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E86-5267-4095-9648-8C6D21CB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53A-FEF1-4FC8-8DEC-B7B88AC3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81E-E551-4CFD-8F80-5B117706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AED9-6925-45B4-9C62-8417DC72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2F8F-020C-4BAC-B041-D5EAB4870B8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B33F-7C3C-4225-9BBC-A53E76D0327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jka.ru/blog/podelki/259.html" TargetMode="External"/><Relationship Id="rId2" Type="http://schemas.openxmlformats.org/officeDocument/2006/relationships/hyperlink" Target="http://www.tnf.by/articles/get?id=43" TargetMode="External"/><Relationship Id="rId3" Type="http://schemas.openxmlformats.org/officeDocument/2006/relationships/hyperlink" Target="http://www.college5.msk.ru/.../gl.php?zag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Мастер-класс</a:t>
            </a:r>
            <a:br>
              <a:rPr sz="40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«Методика работы с гофрокартоном»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готовление фруктов и я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технике бумагокр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оследовательность выполнения из гофрокартона лимона и апельсин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644480"/>
            <a:ext cx="3124080" cy="444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675480" y="1628640"/>
            <a:ext cx="2000160" cy="2517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995640" y="3571920"/>
            <a:ext cx="2360880" cy="2521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140360" y="1628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846840" y="4294080"/>
            <a:ext cx="1828800" cy="1798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3292560" cy="216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3211560"/>
            <a:ext cx="2541600" cy="2881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780000" y="3213000"/>
            <a:ext cx="2158920" cy="2880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724800" y="3211560"/>
            <a:ext cx="1950840" cy="2881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635280" y="141300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6875640" y="141300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 rot="19251600">
            <a:off x="4140000" y="1916280"/>
            <a:ext cx="2234880" cy="1079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оследовательность выполнения из гофрокартона фруктов и ягод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slow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08360" y="429264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оследовательность выполнения из гофрокартона виноград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1647720" cy="2519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2238480" cy="3238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386400" y="2421000"/>
            <a:ext cx="2289240" cy="3240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372360" y="2421000"/>
            <a:ext cx="2317680" cy="3238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68360" y="2349360"/>
            <a:ext cx="2303280" cy="3313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1.85185E-006 C 0.04219 0.0044 0.08889 0.00949 0.11806 -0.02963 C 0.14705 -0.06805 0.16146 -0.19606 0.17118 -0.23287 C 0.18125 -0.26921 0.17882 -0.26018 0.17674 -0.25069 E">
                                      <p:cBhvr>
                                        <p:cTn id="11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00023 C -0.05625 0.00463 -0.11215 0.00949 -0.13923 -0.03542 C -0.16614 -0.08009 -0.15937 -0.22893 -0.16354 -0.26759 E">
                                      <p:cBhvr>
                                        <p:cTn id="11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арианты композиции фруктов в тарелочках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4797360" cy="359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724360" y="39038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Ресурсы, использованные при подготовке презентации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ejka.ru/blog/podelki/259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tnf.by/articles/get?id=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www.college5.msk.ru/.../gl.php?z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ъемное бумагокручение» Васехина Т.А., Селезнева Е.В. С-Петербург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 фруктов, изготовленных авт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076360" y="333360"/>
            <a:ext cx="381636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Ост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Garamond"/>
              </a:rPr>
              <a:t>Тамара Анатолье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зитель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кус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У СОШ №591 Не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0-2011 уч.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321080" cy="57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Задач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мастер-класс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с техникой работы с гофрокарто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 скручивать полоски гофрокартона в спирали и видоизменять их фор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вать интерес к данной технике, желание самовыража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творческого воображения и художественного вк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мастер-класс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ладеть технологией работы с гофрокарто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47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47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7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4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4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4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Материалы и инструмент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ветной гофрокарт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нцелярский но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ей П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инц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нкое ши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жниц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норазовые тарел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0" y="4508640"/>
            <a:ext cx="2031840" cy="1523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2032200" cy="1524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0" y="2708280"/>
            <a:ext cx="2031840" cy="1523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804000" y="270828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804000" y="4508640"/>
            <a:ext cx="203220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Техника безопасности при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ыполнении работ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Ножниц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анить в определенном месте, не держать ножницы острыми концами вверх, передавать кольцами впер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Канцелярский нож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давать только закрытым, при работе не держать нож за лез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Шил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анить в специальных чехлах, не делать резких движений рукой с шилом, чтобы не поранить сидящего рядом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Что такое гофрокартон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фрированный картон (гофрокартон) – жесткий упаковочный материал, который изготовляют, наклеивая бумажное полотно с двух сторон гофрированной (волнообразной) бумаг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00720" y="364644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8360" y="364644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дготовка гофрокартон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362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фрокартон нарезаем под линейку канцелярским ножом на полоски шириной 5-7 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оска гофрокартона накручивается на шило или зубочист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4027320"/>
            <a:ext cx="2663640" cy="2065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40360" y="4057560"/>
            <a:ext cx="2773440" cy="2035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19640" y="4038480"/>
            <a:ext cx="2233440" cy="2054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Элементы фигурного скручивания гофрокартон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688000" cy="3549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612360" y="3789360"/>
            <a:ext cx="3564000" cy="1955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372360" y="2205000"/>
            <a:ext cx="2313000" cy="2951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оследовательность выполнения из гофрокартона яблока и груш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1619280" cy="2879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1558800" cy="2522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427640" y="2781360"/>
            <a:ext cx="1752480" cy="2876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516720" y="3571920"/>
            <a:ext cx="2152440" cy="2521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4294080"/>
            <a:ext cx="1763640" cy="1798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093080" y="1557360"/>
            <a:ext cx="1508040" cy="1798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13:25:45Z</dcterms:created>
  <dc:creator>Южик</dc:creator>
  <dc:description/>
  <dc:language>en-US</dc:language>
  <cp:lastModifiedBy>dom</cp:lastModifiedBy>
  <dcterms:modified xsi:type="dcterms:W3CDTF">2012-10-06T19:09:52Z</dcterms:modified>
  <cp:revision>33</cp:revision>
  <dc:subject/>
  <dc:title>Слайд 1</dc:title>
</cp:coreProperties>
</file>