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0E9-866E-4177-A763-C532E471E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87E-4695-4819-8C64-BCA68F58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85DA-739F-45B6-8314-93F7F42F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E61F3-A442-491C-8484-0CEEF462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75BA-67D4-4C38-9920-5608EA11C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3CBC-315F-42D5-862B-8C6E1DC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D340-F63E-4E92-BE99-2448D83AC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2C30-D5BA-4076-9FFB-70CDBCB9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2741-800C-44A5-A739-0FC62DB2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0448-500A-41C7-ACD4-AAFE7733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D3C5-B3A6-4A31-9B49-83727994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A528-B198-4EDD-A431-2B7EFCEEB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CEC9-3F63-44BF-A7CA-3CDF1724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33DFE-2B95-4973-A4F7-CD8D7704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C2942-73E9-4A01-9D4B-E2CA2450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4938-6986-4EB8-9190-C63238E3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AF647-FE8C-4D7F-80F1-5178AB817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E387E-4A1A-4DFF-9A3E-D5C5CE872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FF467-8FC3-4CE9-90D4-055543D07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EFA6-7164-43B9-BDC7-BB735195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C8AD1-5C80-40B4-BBE4-D4987EF48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8A988-AD89-4862-A2FA-07FE9D76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64A1-FAE2-4E17-9401-953E97FF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B466-E0DE-4D0B-9951-D721300CD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4128-032D-43B6-B8F5-EF84E3ED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98945-782D-485D-A2AA-A6DAB778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9CE48-4D05-4037-AFA0-0113ABA4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5EAEE-87FA-41D4-9500-17BFF5682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44855-7593-4C45-8603-FA7159786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67DC4-31DE-411F-B45B-228784F7A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B8817-1D45-4D9F-A2CC-0F1C991C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4352-2DF4-4C54-9D74-2C6849B64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D3924-4FE7-4554-849F-2C3B709C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D9DB-D41B-49F1-99D4-192FE696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679E4-B608-44BC-B79E-8EA51094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6F4DB-92BA-4DD0-8727-86C220EA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A5E6-7E2F-441E-BBA6-CED1B55F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FEFB2-172C-424D-84A9-2D33C8E73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FB363-DEAC-42D6-BDF3-6937282F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E5A6-7B1F-4D62-8A28-E5472C635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518047-0102-4238-A921-7507C680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919E7-D513-4484-BAE1-11A0F407C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924A32-E817-40C5-9B6A-B87D4337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1078A-F073-41B7-A70F-FE70CD257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590D-E99C-4893-859E-66D3D0E1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B4370-4FA2-4522-92A0-C1A3E9EC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47F61-0CCD-4130-8D66-76B9FE28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FA3FB-04B0-406A-A7B4-F5E93E10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106D8-D481-488A-ABFA-8E18785E7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02D56-8F8A-468C-9351-D1E265C6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7ADC1-A758-47D0-B580-9B67F90C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CAEA5C-B97C-4BE1-AFAC-6A7E5DE8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32BB31-283A-4718-A27D-85E91157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D9931-C63D-49B5-BC14-7ED83F105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F7A98B-4804-4074-9506-DEF7B57E1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E8E5-301B-4A93-AC6E-FB19F0300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8D636-EE32-44B1-AAE8-BE964C56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DF3A-AC0D-4070-8B9B-9D8B5A29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6970-92EF-4D79-A88D-44D5F11F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9BC-7419-4CD4-B646-CA6A8E9E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D7B8-BB19-4D0A-8F4D-1B698B3B3716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AB42D-C1B6-4DA7-AB59-064F66F028AD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867C-1634-40D9-9DE1-4EE2E2D5011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74C95-DDEB-4A90-81C9-16CED7C81BBA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B00F3-C807-4CBC-8385-C305A65E8F8D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359160" y="365040"/>
            <a:ext cx="5516640" cy="30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лемяшек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й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ельмешек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й, малыш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За что тебя постигла эта кара?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. Борис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ем суждено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ыстрадывать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удьбу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. Самой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бюстует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а фоне синих холмов Челлин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. Бродс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000" y="1916280"/>
            <a:ext cx="705636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ля истины нет потолка или дн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Её не докажешь войной и парадом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Пока не взойдёшь на костёр, о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Для многих останется просто правд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. Гаври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428400"/>
            <a:ext cx="723888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рипит автобус.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алк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в нем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и шатк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рожу 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битый ча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уже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битый, слава Богу..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казаться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бы мне не пришлось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у разбитой машины стиральной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будке толстая соба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тдыхала на износ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 каждый пятый нынче алко-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голь перекатная.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 У нас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щемящим русским словом «жалко»,      похоже, трудности сейчас…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Ю. Пермин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457200" y="571680"/>
            <a:ext cx="7238880" cy="58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рубашка мо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араспашку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душа…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каждый пятый наркоман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де звезды щурятся восточно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за словом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глупо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лезть в карман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гда в кармане есть заточк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не верил в любовь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с первого сглаз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любил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ловно вол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беспощадно и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юто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. Гаври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428400"/>
            <a:ext cx="7238880" cy="60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Только парень смотрит искоса,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кулис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его дери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ду, 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за душою ни грош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плохонького счастьица не купишь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ыр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 кармане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тем и хорош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без труда вмещае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укиш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пасем страну от ораторов и проблем!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то не сказано – прячетс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ежду стро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колько нужно – столько можно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не все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аждая баба с возу знай свой шесток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Ю. Бернадска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99680"/>
            <a:ext cx="7238880" cy="59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мучась всем, я умереть хоч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Тоска смотреть, как мается бедняк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как шутя живется богачу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доверять, и попадать впросак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наблюдать, как наглость лезет в све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честь девичья катится ко дну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знать, что ходу совершенствам не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видеть мощь у немощи в плену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вспоминать, что мысли заткнут ро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разум сносит глупости хулу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прямодушье простотой слывет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 доброта прислуживает злу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Измучась всем, не стал бы жить и дня,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Да другу трудно будет без мен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       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Б. Пастернак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28760" y="428760"/>
            <a:ext cx="7238880" cy="59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хота сдохнуть, глядя на эпоху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которой честен только выпивоха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гда земля растащена по крохам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хота сдохнуть, прежде чем все сдохну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хота сдохнуть, слыша пустобрех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невинность хам погрузится по локо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охочет накопительская похот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т этих рыл – увидите одно хоть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хота сдохнуть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а друга бросить среди этих тварищ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е по-товарищеск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. Вознесенс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457200" y="285840"/>
            <a:ext cx="723888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Я свет включу. Задвину штору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И – нет меня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Вдруг слышу: в дверь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тучат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        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Кто там об эту пору –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прохожий? слава? лютый зверь?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ам сатана? соседи снизу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мол, с потолка течет вода,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ты что же это, голубь сизый? –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ойдем до ЖЭКа и суда!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Открыл. Но в комнату с порога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дохнула вечность веково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…</a:t>
            </a: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тучало сердце. Слава Богу –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я думал: нету никого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1" lang="ru-RU" sz="2200" spc="-1" strike="noStrike">
                <a:solidFill>
                  <a:srgbClr val="000000"/>
                </a:solidFill>
                <a:latin typeface="Trebuchet MS"/>
              </a:rPr>
              <a:t>Ю. Перминов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254720" cy="115092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Аллегор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Гипербол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Ирон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Лит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Метафо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Метоним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Оксюморон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Олицетвор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Перифраз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инекдох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равн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Эпитет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99640" y="549360"/>
            <a:ext cx="6767640" cy="792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Назовите выразительные средства языка, используемые в предложенных фрагмент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71388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егодня железные птиц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ружились над сельвой опять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Ю. Друни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удет вновь виноградная кров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квартира у Сатирикон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. Кузнец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20840" y="420840"/>
            <a:ext cx="7254720" cy="761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28760" y="1213920"/>
            <a:ext cx="35208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афо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титез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Бессоюз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Градац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Инверс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Многосоюз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араллелизм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арцелляция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иторический вопро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48040" indent="-24804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214520" y="1356840"/>
            <a:ext cx="35211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иторическое восклица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иторическое обраще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яды однородных членов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Умолчание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ллипсис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Эпифор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493560" y="353880"/>
            <a:ext cx="7255080" cy="79848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468000" y="162864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Антони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Диалект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Неолог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Окказионал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Профессиона-л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Разговорная лексик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rebuchet MS"/>
              </a:rPr>
              <a:t>Синони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Стилистически окрашенные слов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Термин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Экспрессивная лексик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Фразеологизмы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Цитаты*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420840" y="347760"/>
            <a:ext cx="7254720" cy="658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500040" y="1214280"/>
            <a:ext cx="723888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вятковский А. П. Поэтический словарь. – М.: Сов. энциклопедия, 1966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Литературный энциклопедический словарь / Под ред. В.М. Кожевникова и П.А. Николаева. М., 1987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осквин В.П. Выразительные средства современной русской речи. Тропы и фигуры. Терминологический словарь. – Ростов н/Д.: Феникс, 2007. – 940 с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оварь литературоведческих терминов / Ред. Л.И. Тимофеев и С.В. Тураев. М., 1974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28760" y="12139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Хожу по светлой камере квартиры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лето, и терпенье на исходе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. Кузнец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горькой патокой печали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адил костер из кизяк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. Тарковс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рный снег ниспадавшего пепл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. Фирс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се, что было на нашем веку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еревалы, снега, холода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есу,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тащу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олоку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 морям, по земле, сквозь год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Г. Поженян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28760" y="1214280"/>
            <a:ext cx="7238880" cy="495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Он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(крик – М.Б.)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ошалело тыкался в звонки! Ломился в двери и в замках визжал!..             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Р. Рождественски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Каждый день отрываешь календарю язык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А он всё лопочет, сердечный, почём зря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В. Гаври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428760" y="99972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о чего ж лу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о – ка – ти – ла – ся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. Примеро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оседские часы пробили полночь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ще одна пробоина в пространстве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. Кузнец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йди измерь глубины или брод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уши, реки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. Сокол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6426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Человек никогда не прощает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ичиненного кем-то добра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А. Межиров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428760" y="1071720"/>
            <a:ext cx="7238880" cy="48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спытали бы вы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филантропы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к поэтам даются тропы!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. Старшинов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ы – темное, дремучее зверье –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ссильны были перед точным знаньем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 перед Павловым, и перед Фрейдом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оторый хоть и слыл антинаучным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Но действовал,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ерзавец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 безотказно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. Борис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рости, что я плохая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енелопа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вы, я недостойна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одиссея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. Кузнецов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пешат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раксители, Сократы, Эпикуры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 свободным женщинам –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Аспазиям и Фринам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Ю. Друнин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ww.PHILka.RU</cp:lastModifiedBy>
  <dcterms:modified xsi:type="dcterms:W3CDTF">2010-12-20T09:10:18Z</dcterms:modified>
  <cp:revision>42</cp:revision>
  <dc:subject/>
  <dc:title>Лексика, фразеология, изобразительно-выразительные средства языка</dc:title>
</cp:coreProperties>
</file>