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7C3D-A2A4-4A15-ABD3-07E7828C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76FC-72C6-4D9E-8C30-85291F97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2CB3-A82D-452D-8258-AC29AC46A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CF84-7EF7-4BCB-924D-B461A3647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88D6-E26B-4BD5-83B0-BAB3B404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4308-B52F-45A4-A049-86151709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263A-67B8-4299-8AA4-98EF6916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F8D9-FEFC-4F1A-A6CE-81D778DD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1D69-1AED-475D-A284-B8405F356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0D6EB-AE1B-4CB5-B031-6369B749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E3ED8-434D-4CA1-A3E7-2100C6EC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9650-CDC1-4F02-9122-10F29F28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E3950-4CDD-45FF-8004-A8DB843A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A865-3F32-40DF-9E8D-E4BC9CCF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49A9-DB9A-4AB2-8464-D013E144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3F14-DAEE-4F3F-8103-62FD026B8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BDF2-8F8B-4973-84C9-C362031E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DFE9D-BE43-4E89-A2BF-EAF59762A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350DC-BC32-4FF1-BDE1-E7B4BE10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9188C-0AFF-4118-B90A-32C15E55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56AC0-6279-4937-A95A-3BFD459A8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36413-6FF4-403C-8DAD-104559E72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6FBF-BC99-4C7F-9519-B170527A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73542-891A-4529-A1AD-20B66EAC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7A901-A0F9-40F6-B0A6-85655137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83AE7-A98C-47AC-AB61-CF2AFE91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CF8A8-853C-46BE-A8EC-4EEB04AA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B7912-782C-45DA-8D35-CD448DB4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3D655-BD52-4BE5-8EDC-02B1897A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F39F9C-B9A0-4C4B-A1F1-92713347C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C62A9-2E61-434D-AC0F-D35EF687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D8E96-2A98-43AF-82CC-7EAC0784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19D58-0322-4FDC-BAFD-0FD5EBE1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99A3-91CE-4A81-8165-7E65E518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72034-C9F0-44AA-92FA-8AFEC059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4B759-CDB7-42D8-8462-85254F8C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01FD9-CABC-406B-B177-A12C7180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0B0D2-F15A-4D01-A19D-D8A651FC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2381D-CBE0-48AF-88FD-910551F0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35EEF-72CD-4561-9184-055343B1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F23C3-1762-41B8-840A-CE65B8B9C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43562-72E1-4A2F-9DE2-BE99D49C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02169-6229-42DE-BB33-4371EB63F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5040D-D2FC-437D-85DE-92F1AEC45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1382-B59C-4D81-A95E-B64E9410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02801-E2C6-4A6C-8376-ABEFA66F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FB0A1-BDAC-472F-918A-05CD6C82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849B1-7E96-414B-9AB0-60AFED18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FA426-F135-4292-8171-2D9F664F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28EF6-C7F1-4E25-9ED1-7BB1519C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5DB1F-88A5-43F5-807D-33FAB2B7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9D766-2A7A-480D-AA69-C78C4AE8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A8D91B-40F0-448E-9321-F965D456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61267-91F9-422E-910A-A0AB277C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9F9FB-2288-4933-97E8-15254F5F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FBA-96C2-405C-9C37-6345E3DB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C0228-2466-4186-A821-AAE4BC893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BB58-AAFF-45F1-9583-A54390F4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E749-D2DA-445C-B85A-747B2C8E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E52C-42E3-41A9-A7D1-2D36D04B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6D820-5C1D-4A15-AE7D-B812B0268D8F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A33E-1CEF-4BBC-AD18-3E514181F1B4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9821-F17B-409C-8CEC-55265159A248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364B-21E2-45FF-B581-12E7DD778069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2827-7D15-4946-B26A-8C89CA7F926D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365040"/>
            <a:ext cx="551664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Племяшек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ой,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пельмешек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ой, малыш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За что тебя постигла эта кара?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. Борисов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сем суждено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выстрадывать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удьбу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. Самойл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…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бюстует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фоне синих холмов Челлини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. Бродски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4000" y="1916280"/>
            <a:ext cx="70563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Для истины нет потолка или дн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Её не докажешь войной и парадом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ка не взойдёшь на костёр, он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Для многих останется просто правдо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В. Гаврил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428400"/>
            <a:ext cx="7238880" cy="60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Хрипит автобус.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Валко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в нем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и шатко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рожу я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битый час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уже –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битый, слава Богу..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Оказаться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бы мне не пришлось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у разбитой машины стиральной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будке толстая соба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Отдыхала на износ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 каждый пятый нынче алко-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голь перекатная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… У нас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 щемящим русским словом «жалко»,      похоже, трудности сейчас…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Ю. Пермин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571680"/>
            <a:ext cx="7238880" cy="58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рубашка моя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нараспашку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душа…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де каждый пятый наркоман,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де звезды щурятся восточно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за словом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глупо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лезть в карман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огда в кармане есть заточка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Я не верил в любовь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с первого сглаз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Я любил,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словно волк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беспощадно и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юто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. Гаврил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428400"/>
            <a:ext cx="7238880" cy="60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олько парень смотрит искоса,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кулист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его дери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ду, а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за душою ни грош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плохонького счастьица не купишь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ыра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в кармане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тем и хорош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без труда вмещает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кукиш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!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пасем страну от ораторов и проблем!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не сказано – прячется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между строк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Сколько нужно – столько можно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о не всем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Каждая баба с возу знай свой шесток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Ю. Бернадск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499680"/>
            <a:ext cx="7238880" cy="59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змучась всем, я умереть хоч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оска смотреть, как мается бедняк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как шутя живется богачу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доверять, и попадать впросак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наблюдать, как наглость лезет в свет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честь девичья катится ко дну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знать, что ходу совершенствам нет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видеть мощь у немощи в плену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вспоминать, что мысли заткнут рот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разум сносит глупости хулу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прямодушье простотой слывет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доброта прислуживает зл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змучась всем, не стал бы жить и дня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а другу трудно будет без мен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Б. Пастернак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28760" y="428760"/>
            <a:ext cx="7238880" cy="59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хота сдохнуть, глядя на эпоху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которой честен только выпивоха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огда земля растащена по крохам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хота сдохнуть, прежде чем все сдохнут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хота сдохнуть, слыша пустобрех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невинность хам погрузится по локоть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Хохочет накопительская похоть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 этих рыл – увидите одно хоть –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хота сдохнуть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а друга бросить среди этих тварищ –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 по-товарищес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. Вознесенски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285840"/>
            <a:ext cx="72388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Я свет включу. Задвину штору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И – нет меня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друг слышу: в дверь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стучат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Кто там об эту пору –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прохожий? слава? лютый зверь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сам сатана? соседи снизу,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мол, с потолка течет вода,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ты что же это, голубь сизый? –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дойдем до ЖЭКа и суда!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Открыл. Но в комнату с порог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дохнула вечность веково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…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Стучало сердце. Слава Богу –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я думал: нету никого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Ю. Перминов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725472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Аллегор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Гипербол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Ирон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Лит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Метафор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Метоним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Оксюморон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Олицетворе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Перифраз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Синекдох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Сравне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Эпите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6767640" cy="79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зовите выразительные средства языка, используемые в предложенных фрагмент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138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егодня железные птиц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ружились над сельвой опять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Ю. Друнин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удет вновь виноградная кров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квартира у Сатирикона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. Кузнецов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420840" y="420840"/>
            <a:ext cx="7254720" cy="7617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28760" y="1213920"/>
            <a:ext cx="3520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Анафор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Антитез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Бессоюз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Градац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верс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Многосоюз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араллелизм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арцелляц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иторический вопрос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14520" y="1356840"/>
            <a:ext cx="3521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иторическое восклица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иторическое обраще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яды однородных членов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молча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Эллипсис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Эпифор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493560" y="353880"/>
            <a:ext cx="7255080" cy="7984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68000" y="162864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Антоним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иалектизм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еологизм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кказионализм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офессиона-лизм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азговорная лексик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иноним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Стилистически окрашенные слов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Термин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Экспрессивная лексик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Фразеологизм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Цитаты*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20840" y="347760"/>
            <a:ext cx="7254720" cy="658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500040" y="1214280"/>
            <a:ext cx="723888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вятковский А. П. Поэтический словарь. – М.: Сов. энциклопедия, 1966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итературный энциклопедический словарь / Под ред. В.М. Кожевникова и П.А. Николаева. М., 1987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осквин В.П. Выразительные средства современной русской речи. Тропы и фигуры. Терминологический словарь. – Ростов н/Д.: Феникс, 2007. – 940 с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ловарь литературоведческих терминов / Ред. Л.И. Тимофеев и С.В. Тураев. М., 1974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28760" y="1213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Хожу по светлой камере квартиры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лето, и терпенье на исходе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. Кузнецов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горькой патокой печал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адил костер из кизяка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. Тарковски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ерный снег ниспадавшего пепла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. Фирс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се, что было на нашем веку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еревалы, снега, холода –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Я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несу,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я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тащу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волок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 морям, по земле, сквозь года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. Поженян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28760" y="1214280"/>
            <a:ext cx="723888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н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(крик – М.Б.)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ошалело тыкался в звонки! Ломился в двери и в замках визжал!..           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Р. Рождественски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Каждый день отрываешь календарю язык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А он всё лопочет, сердечный, почём зря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В. Гаврил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28760" y="9997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о чего ж лун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о – ка – ти – ла – ся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. Примеров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седские часы пробили полночь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Еще одна пробоина в пространстве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. Кузнецов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йди измерь глубины или брод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уши, реки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. Сокол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28760" y="16426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еловек никогда не прощае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чиненного кем-то добра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. Межир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28760" y="1071720"/>
            <a:ext cx="7238880" cy="48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спытали бы вы,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филантропы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 поэтам даются тропы!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. Старшинов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ы – темное, дремучее зверье –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ессильны были перед точным знаньем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перед Павловым, и перед Фрейдом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оторый хоть и слыл антинаучным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о действовал,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мерзавец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безотказно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. Борисов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сти, что я плохая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пенелоп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вы, я недостойна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одиссея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. Кузнецов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пешат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Праксители, Сократы, Эпикур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 свободным женщинам –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Аспазиям и Фринам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Ю. Друнин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0-12-20T09:10:18Z</dcterms:modified>
  <cp:revision>42</cp:revision>
  <dc:subject/>
  <dc:title>Лексика, фразеология, изобразительно-выразительные средства языка</dc:title>
</cp:coreProperties>
</file>