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3BA-CA43-4533-890B-D5CA1011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F81-0531-48FC-BAA5-16BF153A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274-A71A-475F-9141-795CAD13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4CB-B2E9-425E-8BF3-0D1F2C56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0D72-A7E1-4085-8444-260E51D2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7DE7-5257-4C29-AFD2-4C0933B8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71B2-B761-49C8-866C-AA178798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94DA-FF08-4567-A34B-166E87F8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A87F-A97C-4300-84A3-6546BF59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F338-3432-4252-ACDF-BD674F98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D3A0-BB5C-4A3E-B045-12C725E9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12D-DB4F-4651-B77C-C0AC8EC9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58F2-941F-44B6-9613-BE876163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3732-6AB5-46B2-827C-B4C46762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BB87-455A-4F10-8BBA-A31C7EA9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5E82-4BEC-4CF9-9507-26C7C653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2240-3E56-4BDA-B83B-43C7E984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9A9-3A73-4042-8981-B0A41794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0B90-0CD1-4191-A5A0-27D0D3C5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9CEF-E742-4587-ABB0-C8D89A04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63D-B66A-432C-81FF-AC433C71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B09F-2E5C-4236-8DD6-3070242D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8D64-9221-4C3D-B6E7-12ABAC0B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E53E-508D-4D86-BD26-0E9C135E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B5F0-4263-44E3-B6DE-AB03D406DFE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0412-B21F-44C9-AB6D-793C8722031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971640" y="4437000"/>
          <a:ext cx="7200720" cy="1152720"/>
        </p:xfrm>
        <a:graphic>
          <a:graphicData uri="http://schemas.openxmlformats.org/drawingml/2006/table">
            <a:tbl>
              <a:tblPr/>
              <a:tblGrid>
                <a:gridCol w="900000"/>
                <a:gridCol w="900000"/>
                <a:gridCol w="936720"/>
                <a:gridCol w="863640"/>
                <a:gridCol w="900000"/>
                <a:gridCol w="900360"/>
                <a:gridCol w="900000"/>
                <a:gridCol w="90000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250920" y="40464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Verdana"/>
              </a:rPr>
              <a:t>Й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10+6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19700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Verdana"/>
              </a:rPr>
              <a:t>З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10+4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06064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Verdana"/>
              </a:rPr>
              <a:t>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10+2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88000" y="40464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Verdana"/>
              </a:rPr>
              <a:t>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10+3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88000" y="119700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Verdana"/>
              </a:rPr>
              <a:t>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10+1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206064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Verdana"/>
              </a:rPr>
              <a:t>К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10+5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3640" y="40464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Verdana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3640" y="1197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Verdana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3640" y="206064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Verdana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0720" y="40464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Verdana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0720" y="1197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Verdana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40720" y="206064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Verdana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501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Verdan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501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Verdana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501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Verdana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1280" y="501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Verdan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5013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5013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Verdana"/>
              </a:rPr>
              <a:t>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88000" y="501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Verdana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501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12000" y="2997360"/>
            <a:ext cx="777600" cy="1108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268360" y="2997360"/>
            <a:ext cx="723960" cy="10857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451640" y="5734080"/>
            <a:ext cx="1123920" cy="904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611280" y="5661000"/>
            <a:ext cx="1247760" cy="1038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4067280" y="1052640"/>
            <a:ext cx="7714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411280" y="33336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9+4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33336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9+1+3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75640" y="333360"/>
            <a:ext cx="194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99"/>
                </a:solidFill>
                <a:latin typeface="Arial"/>
              </a:rPr>
              <a:t>1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170028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7+5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170028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7+3+2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5640" y="1700280"/>
            <a:ext cx="194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99"/>
                </a:solidFill>
                <a:latin typeface="Arial"/>
              </a:rPr>
              <a:t>1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292428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8+6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79640" y="29242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8+2+4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3280" y="292428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99"/>
                </a:solidFill>
                <a:latin typeface="Arial"/>
              </a:rPr>
              <a:t>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422100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9+3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79640" y="422100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9+1+2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422100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99"/>
                </a:solidFill>
                <a:latin typeface="Arial"/>
              </a:rPr>
              <a:t>1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544500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6+5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79640" y="544500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6+4+1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544500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99"/>
                </a:solidFill>
                <a:latin typeface="Arial"/>
              </a:rPr>
              <a:t>1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 flipH="1">
            <a:off x="6300360" y="3500280"/>
            <a:ext cx="1947960" cy="223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88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6896160" y="0"/>
          <a:ext cx="2247840" cy="24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6160" y="0"/>
                    <a:ext cx="224784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0" y="4305240"/>
          <a:ext cx="2400480" cy="255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305240"/>
                    <a:ext cx="240048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2987640" y="2492280"/>
          <a:ext cx="319104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492280"/>
                    <a:ext cx="319104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6148440" y="3112920"/>
            <a:ext cx="2995560" cy="3745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9876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05:48Z</dcterms:created>
  <dc:creator>Мария</dc:creator>
  <dc:description/>
  <dc:language>en-US</dc:language>
  <cp:lastModifiedBy>Мария</cp:lastModifiedBy>
  <dcterms:modified xsi:type="dcterms:W3CDTF">2001-12-31T21:36:27Z</dcterms:modified>
  <cp:revision>11</cp:revision>
  <dc:subject/>
  <dc:title>Слайд 1</dc:title>
</cp:coreProperties>
</file>