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CC2-562F-45F6-A7F5-3F689F73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77B-3154-4750-B3DA-8348ED94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DC2-3A8B-4099-961F-C044C335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CE3-4B2F-44BD-B0C7-D961C0B4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0263-2EC3-4B8D-B50C-BE82FA63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C9F3-8737-42CA-BD9A-615ECE79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C789-6720-41CD-AF9A-23873868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9BE5-4ABA-4855-BD71-9ABAF6C9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E1A4-2141-4A97-97C7-459BF59D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9B9E-8FF0-48CC-9B1C-E6CA42C3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AF7C-9BEE-4A1E-8806-D22C3C51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E6C-1691-4B25-97C8-D8F6C614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9901-2113-49FB-8B87-7A9B2BE6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2444-E031-4984-AAE9-A79C15B9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9D42-82A7-44BE-898D-E1870B48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536C-89C6-49AE-99F8-B8993581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99F8-BFC9-4507-91FA-B96DB292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BD56-56C4-4BAC-A890-9D909D8C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D925-1A27-49F8-A919-0628DCB7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88D-72ED-4050-82B6-DCD3C35B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7A8-831E-44F7-A271-F654E44C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3DD-668D-42BE-88DD-54341535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442A-8354-46BF-BFEA-203008BF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B8E-7724-4267-8D79-0F5EA47F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CBAC-D56E-4BC5-AE64-F4396E8C643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A08A-E7FB-4B6C-AC7F-7FCC86EE4EF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971640" y="4437000"/>
          <a:ext cx="7200720" cy="1152720"/>
        </p:xfrm>
        <a:graphic>
          <a:graphicData uri="http://schemas.openxmlformats.org/drawingml/2006/table">
            <a:tbl>
              <a:tblPr/>
              <a:tblGrid>
                <a:gridCol w="900000"/>
                <a:gridCol w="900000"/>
                <a:gridCol w="936720"/>
                <a:gridCol w="863640"/>
                <a:gridCol w="900000"/>
                <a:gridCol w="900360"/>
                <a:gridCol w="900000"/>
                <a:gridCol w="90000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50920" y="40464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Verdana"/>
              </a:rPr>
              <a:t>Й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10+6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19700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Verdana"/>
              </a:rPr>
              <a:t>З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10+4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06064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Verdana"/>
              </a:rPr>
              <a:t>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10+2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40464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Verdana"/>
              </a:rPr>
              <a:t>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10+3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88000" y="119700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Verdana"/>
              </a:rPr>
              <a:t>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10+1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206064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Verdana"/>
              </a:rPr>
              <a:t>К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10+5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404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1197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3640" y="2060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404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0720" y="1197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40720" y="2060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Verdan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Verdan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Verdana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Verdan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5013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5013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Verdana"/>
              </a:rPr>
              <a:t>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8800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Verdana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777600" cy="1108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268360" y="2997360"/>
            <a:ext cx="723960" cy="1085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451640" y="5734080"/>
            <a:ext cx="1123920" cy="904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611280" y="5661000"/>
            <a:ext cx="1247760" cy="1038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067280" y="1052640"/>
            <a:ext cx="7714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411280" y="33336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9+4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33336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9+1+3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75640" y="33336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99"/>
                </a:solidFill>
                <a:latin typeface="Arial"/>
              </a:rPr>
              <a:t>1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170028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7+5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170028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7+3+2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5640" y="170028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99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292428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8+6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2924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8+2+4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92428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99"/>
                </a:solidFill>
                <a:latin typeface="Arial"/>
              </a:rPr>
              <a:t>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422100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9+3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422100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9+1+2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422100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99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544500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6+5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79640" y="544500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6+4+1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544500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99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 flipH="1">
            <a:off x="6300360" y="3500280"/>
            <a:ext cx="1947960" cy="223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88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6896160" y="0"/>
          <a:ext cx="2247840" cy="24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6160" y="0"/>
                    <a:ext cx="22478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0" y="4305240"/>
          <a:ext cx="2400480" cy="25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305240"/>
                    <a:ext cx="240048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2987640" y="2492280"/>
          <a:ext cx="319104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492280"/>
                    <a:ext cx="319104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6148440" y="3112920"/>
            <a:ext cx="2995560" cy="3745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9876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05:48Z</dcterms:created>
  <dc:creator>Мария</dc:creator>
  <dc:description/>
  <dc:language>en-US</dc:language>
  <cp:lastModifiedBy>Мария</cp:lastModifiedBy>
  <dcterms:modified xsi:type="dcterms:W3CDTF">2001-12-31T21:36:27Z</dcterms:modified>
  <cp:revision>11</cp:revision>
  <dc:subject/>
  <dc:title>Слайд 1</dc:title>
</cp:coreProperties>
</file>