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C92AF-B997-4C1E-AD1C-4F7DCC3C9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6D6BF-DE3F-4561-A992-1767A872E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0F631-AF91-40AA-BA9E-BF0E22793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B074C-B501-4393-AAF0-26F0FCF10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87422-0889-46C6-91A4-581689D5D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745D9-9CB9-4A58-A52F-EDD7CCF5C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AE172-9BA5-498F-A773-1977FB654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084CC-29BA-4035-92D3-09F92A79E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4DDEE-9600-42FD-939E-335E96FAC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1E6FD-8A29-4307-B53B-9BE7D96AE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6ECB2-3B85-4F80-9420-AC20149A0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5AC50-AF95-4C9F-872B-BE08CC5AC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0A4AE-BF0C-492E-84A5-6C0C31AB6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84C29-BC8F-4507-9AAE-245EF4987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89714-6633-4114-B6A7-72D44D9F3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E4DB8-C45E-4C54-AEE5-68BEAC2CC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3EAD3-B33D-477B-ADB0-2E613A52F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E4E20-D875-47CC-87D9-4CE1731B5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5BF7C-8A68-4D22-B685-F4B1EAE80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D3EE3-D7DB-4F2D-B311-9C9BD65AA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837BD-5B2C-4D97-B981-48731088A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6B015-ED70-4317-A5C1-8B46C9833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00F48-D973-4F9F-8682-5B642976C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633A1-FD9A-40AF-8601-40A858484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940AD-D192-49FF-B233-0E98889C0B18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A9CD6-B3E6-4600-845F-5C641EAE419E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Заголовок 1" descr=""/>
          <p:cNvPicPr/>
          <p:nvPr/>
        </p:nvPicPr>
        <p:blipFill>
          <a:blip r:embed="rId1"/>
          <a:stretch/>
        </p:blipFill>
        <p:spPr>
          <a:xfrm>
            <a:off x="414360" y="1365120"/>
            <a:ext cx="8242200" cy="205452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371600" y="33321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«Основы ФГТ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Заголовок 4" descr=""/>
          <p:cNvPicPr/>
          <p:nvPr/>
        </p:nvPicPr>
        <p:blipFill>
          <a:blip r:embed="rId1"/>
          <a:stretch/>
        </p:blipFill>
        <p:spPr>
          <a:xfrm>
            <a:off x="493560" y="281160"/>
            <a:ext cx="8242560" cy="871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5" name=""/>
          <p:cNvGraphicFramePr/>
          <p:nvPr/>
        </p:nvGraphicFramePr>
        <p:xfrm>
          <a:off x="642960" y="1285920"/>
          <a:ext cx="8158320" cy="4786200"/>
        </p:xfrm>
        <a:graphic>
          <a:graphicData uri="http://schemas.openxmlformats.org/drawingml/2006/table">
            <a:tbl>
              <a:tblPr/>
              <a:tblGrid>
                <a:gridCol w="4043520"/>
                <a:gridCol w="4114800"/>
              </a:tblGrid>
              <a:tr h="779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НАПРАВЛЕНИЕ РАЗВИТИЯ РЕБЁНК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ОБРАЗОВАТЕЛЬНЕ ОБЛАСТ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</a:tr>
              <a:tr h="882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Физическое развити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«Здоровье», «Физическая культура»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парциальные программы, «Здравик»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1325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Познавательно-речево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«Познание», «Коммуникация», «Чтение художественной литературы»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ФЭМП, развитие речи, логопедия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</a:tr>
              <a:tr h="898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Социально-личностно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«Социализация», «Труд», «Безопасность»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НПВ, ознакомление с окруж-м, ОБЖ, психолог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900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Художественно-эстетическо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«Музыка», «Художественное творчество»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всё по ИЗО деятельности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Заголовок 1" descr=""/>
          <p:cNvPicPr/>
          <p:nvPr/>
        </p:nvPicPr>
        <p:blipFill>
          <a:blip r:embed="rId1"/>
          <a:stretch/>
        </p:blipFill>
        <p:spPr>
          <a:xfrm>
            <a:off x="-6480" y="-36360"/>
            <a:ext cx="9217080" cy="1742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7" name=""/>
          <p:cNvGraphicFramePr/>
          <p:nvPr/>
        </p:nvGraphicFramePr>
        <p:xfrm>
          <a:off x="500040" y="2071800"/>
          <a:ext cx="8229600" cy="31860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6793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  <a:ea typeface="Calibri"/>
                        </a:rPr>
                        <a:t>Инвариантная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  <a:ea typeface="Calibri"/>
                        </a:rPr>
                        <a:t>Вариативна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</a:tr>
              <a:tr h="2506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Составляет обязательную часть ООП Д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 в любом ДОУ с госаккредитацией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База дош-го образования и дош-го воспитания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80% от ООП Д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Формируется самим ДОУ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 с учётом его специфики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Сюда включаются все комплексные, парциальные, авторские программы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0% от ООП Д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Заголовок 1" descr=""/>
          <p:cNvPicPr/>
          <p:nvPr/>
        </p:nvPicPr>
        <p:blipFill>
          <a:blip r:embed="rId1"/>
          <a:stretch/>
        </p:blipFill>
        <p:spPr>
          <a:xfrm>
            <a:off x="450720" y="96840"/>
            <a:ext cx="8242560" cy="1446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9" name=""/>
          <p:cNvGraphicFramePr/>
          <p:nvPr/>
        </p:nvGraphicFramePr>
        <p:xfrm>
          <a:off x="457200" y="1600200"/>
          <a:ext cx="8229600" cy="40435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8082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БЫЛО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ФГ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</a:tr>
              <a:tr h="8096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Выделяются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 модел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Выделяются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 модел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807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Учебный блок (сетка занятий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------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</a:tr>
              <a:tr h="808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Блок совместной деятельности детей и взрослы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Блок совместной деятельности детей и взрослы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809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Блок самостоятельной деятельности дете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Блок самостоятельной деятельности дете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1" name=""/>
          <p:cNvGraphicFramePr/>
          <p:nvPr/>
        </p:nvGraphicFramePr>
        <p:xfrm>
          <a:off x="457200" y="1785960"/>
          <a:ext cx="8229600" cy="42768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2808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ТРАДИЦИОННЫ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НЕТРАДИЦИОННЫ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</a:tr>
              <a:tr h="44928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Физическая культур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Безопасност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112248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.  Познание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ФЭМП, Сенсорное развитие ,развитие познавательно-исследовательской Д, продуктивной Д, конструктивной Д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.   Художественное творчество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 интегрирует традиционные области продуктивной Д:лепку, рисование и т.д.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</a:tr>
              <a:tr h="112248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.   Музык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.   Коммуникац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Все виды развития речи не самоцель, а как средство для развития навыков общения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56016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.  Труд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.  Социализац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не загораживать познанием!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</a:tr>
              <a:tr h="37008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.  Чтение художественной литературы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286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37152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.   Здоровь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9T08:54:56Z</dcterms:created>
  <dc:creator>Имя</dc:creator>
  <dc:description/>
  <dc:language>en-US</dc:language>
  <cp:lastModifiedBy>TERANTINO</cp:lastModifiedBy>
  <dcterms:modified xsi:type="dcterms:W3CDTF">2012-10-07T13:14:06Z</dcterms:modified>
  <cp:revision>3</cp:revision>
  <dc:subject/>
  <dc:title>Консультация</dc:title>
</cp:coreProperties>
</file>