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6A7-1174-437B-AA79-C14B4E53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B85-B8DD-4079-8524-BE80FF0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459-FEC1-445B-8302-DBAB2FB7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4DB-E82F-4A62-B8DD-4A7B8F04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5FB9-E147-442E-808E-E1A00A81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FA54-5477-4767-ADEA-DBB6F1D8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B2C0-56DA-4486-AD86-DAFF27C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49A0-CF21-47B6-85F4-810CF1DD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DD1A-269B-4456-A2B1-CA1775DF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C5B-01F5-46FD-9132-4221030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B2B-2C5B-425F-97DC-FC47A00C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C41-6F27-4138-9821-B567002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C885-9148-49A5-8EA6-D25BAE80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02FC-20A7-4328-94CB-D73F113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08DE-96AA-4063-A968-E275E8BA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C68C-D0EB-4AC3-9766-8CEB390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C3B-AAA1-4B8D-BE92-A87C1834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A9D-E43E-4E5F-B8C2-03B1505B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A59-EE13-430D-B6F0-597CD0A9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E10-8C45-4AA4-9712-A53A7F33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42D-70D4-471E-97A0-6F460A45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04E-7D78-474C-9F4D-3E8167C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F37-F722-44C2-8159-2925294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969-3F96-47B4-9527-19300E0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E875-36EF-4BE5-8057-D45C63D890D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714-50B2-4594-BDF5-3635C649127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Основы ФГ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4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8242560" cy="87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642960" y="1285920"/>
          <a:ext cx="8158320" cy="4786200"/>
        </p:xfrm>
        <a:graphic>
          <a:graphicData uri="http://schemas.openxmlformats.org/drawingml/2006/table">
            <a:tbl>
              <a:tblPr/>
              <a:tblGrid>
                <a:gridCol w="4043520"/>
                <a:gridCol w="4114800"/>
              </a:tblGrid>
              <a:tr h="77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ПРАВЛЕНИЕ РАЗВИТИЯ РЕБЁ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РАЗОВАТЕЛЬНЕ ОБЛ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Здоровье», «Физическая культур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арциальные программы, «Здравик»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о-рече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Познание», «Коммуникация», «Чтение художественной литератур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ФЭМП, развитие речи, логопед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9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ьно-личност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оциализация», «Труд», «Безопаснос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ПВ, ознакомление с окруж-м, ОБЖ, психоло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удожественно-эстетическ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Музыка», «Художественное творчество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всё по ИЗО деятельнос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217080" cy="174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00040" y="2071800"/>
          <a:ext cx="8229600" cy="318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Инвариантная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Вариатив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50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яет обязательную часть ООП Д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в любом ДОУ с госаккредитаци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за дош-го образования и дош-го воспит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% от ООП Д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ируется самим Д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с учётом его специфик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да включаются все комплексные, парциальные, авторские програм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 от ООП Д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Г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деляютс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мод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деляютс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мод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0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й блок (сетка занят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овместной деятельности детей и взросл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овместной деятельности детей и взросл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амостоятельной деятельности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лок самостоятельной деятельности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57200" y="1785960"/>
          <a:ext cx="8229600" cy="427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РАДИЦИО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ТРАДИЦИО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зическая 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опас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 Позна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ФЭМП, Сенсорное развитие ,развитие познавательно-исследовательской Д, продуктивной Д, конструктивной 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  Художественное твор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 интегрирует традиционные области продуктивной Д:лепку, рисование и т.д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  Музы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  Коммуник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Все виды развития речи не самоцель, а как средство для развития навыков общ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Тру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Соци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е загораживать познанием!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 Чтение художественной литерату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  Здоров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8:54:56Z</dcterms:created>
  <dc:creator>Имя</dc:creator>
  <dc:description/>
  <dc:language>en-US</dc:language>
  <cp:lastModifiedBy>TERANTINO</cp:lastModifiedBy>
  <dcterms:modified xsi:type="dcterms:W3CDTF">2012-10-07T13:14:06Z</dcterms:modified>
  <cp:revision>3</cp:revision>
  <dc:subject/>
  <dc:title>Консультация</dc:title>
</cp:coreProperties>
</file>