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2027-A9F8-4A33-9088-727CE1FAA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2C39-5DB1-4318-AF85-FB376033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FBA6-FC3C-4EE6-91EC-DA619F13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773-4E05-4D3A-A660-5239547A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39C-63A6-4EE4-A392-4F2486419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FACE-322C-4A3F-8E0C-DB1AF125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650-2C7B-4D9D-BF62-08A2CFD8C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AC3A-D0F7-4CC7-8F11-8C670C700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65FF-E72A-4D1B-8E64-DD37E222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024C-33DF-4EF8-96FB-AEDF4A7F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CA32-810C-40B1-B079-9933D720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69B8-DE93-4517-91AB-CC2053E5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D408-B1DF-4B36-BADF-CC60147B9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«По ГРИБЫ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Цель: Вспомнить и закрепить с детьми знакомые названия грибов, где растут грибы, как их нужно собирать, обратить внимание детей на строение и окраску грибов, что можно делать из грибов. Развивать и обогащать словарный запас детей. Учить правильно, согласовывать существительные и прилагатель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20" y="0"/>
            <a:ext cx="3280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. Новикова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от красавицы лис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чень дружные сестрички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 укрыться не легко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идно очень далек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54880" y="6156360"/>
            <a:ext cx="280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ЛИСИЧК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068280"/>
            <a:ext cx="91440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доль лесных дор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ного белых ножек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ках разноцветн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дали приметных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обирай, не мешкай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071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0"/>
            <a:ext cx="3203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. Чефан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полянке, вдоль дорожк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юду встретится она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-гриб хорош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ляпка издали видна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ёлтая и красна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ыроежка разна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1240" y="6156360"/>
            <a:ext cx="324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ЫРОЕЖ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914400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ст лесной подняли блюдца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травой они не бьются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тал грибник на блюдце – хрусть!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хрупкий чё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0"/>
            <a:ext cx="343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печален очень груздь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груздя напала грусть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чему он грустный?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тому, что вкусный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65800" y="6156360"/>
            <a:ext cx="216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ГРУЗД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3644640"/>
            <a:ext cx="96836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пеньке сидят братиш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е в веснушках, шалунишк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и дружные ребята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зываю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800" y="0"/>
            <a:ext cx="437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ять у опят на пеньке дискотека –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ну, потанцуйте в такой тесноте-ка!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лпятся на сцене пять сотен опят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опятах пенёк от макушки до пят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67240" y="6156360"/>
            <a:ext cx="2120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ОПЯ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9280" y="3644640"/>
            <a:ext cx="91440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шляпе розовой, мохнатой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Но не выглядит растяпой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Будто плюшевое ушко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Для соления …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60" y="0"/>
            <a:ext cx="3411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Гавриков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листвою три волнушк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ри подружки-хохотушки.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гибай пониже спину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игласи в свою корзин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5877000"/>
            <a:ext cx="456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ЛН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0" y="3715920"/>
            <a:ext cx="914400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Шоколадно-бурый гриб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кользкой шляпке лист прилип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оротник ажурный тонок -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риб такой зовут 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414036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де берёзки да дубы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м выросли  грибы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ут -  волнушки и опята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 -  лисички и маслята.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 сосной -  боровики,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к им рады грибн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Абина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0000" y="2205000"/>
            <a:ext cx="507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просил у гриба под осиною еж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жи, почему ты на зонтик похож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 гриб засмеялся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т странный вопрос!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едь я же в погоду дождливую рос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 Пляцковски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4724280"/>
            <a:ext cx="633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Какие съедобные грибы вы знает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Попробуйте отгадать загад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880" y="0"/>
            <a:ext cx="4460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шёл маслят.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ра за ножик братьс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А ну, в лукошко полезайте, братцы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ни смеются: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Мало нас найти!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перь ещё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пробуй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Ухвати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20320" y="6156360"/>
            <a:ext cx="324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МАСЛЕНО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 земле лежит лепёшк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 дождя она растё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Лишь дотронешься немножк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Её сразу разорвё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ых! И вырвался костё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ымным облаком из спор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9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207240" y="6156360"/>
            <a:ext cx="31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ДОЖДЕ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547640" y="2636640"/>
            <a:ext cx="54007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в лес по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гриб наш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чист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жарить с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Этот пальчик сел и съе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Оттого и потолсте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имнастика Гриб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2204640"/>
            <a:ext cx="91440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сле тёплого дождя —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шесть лисичек, три груздя,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ве волнушки, восемь белых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елке что с грибами делать?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е — сушить, вот эти — в бочку!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Будут славными грибочки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. Сашина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00"/>
                </a:solidFill>
                <a:latin typeface="Arial"/>
              </a:rPr>
              <a:t>Что можно делать с грибами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45800" y="2565360"/>
            <a:ext cx="238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Ж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390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99240" y="2565360"/>
            <a:ext cx="22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АР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0" y="3321000"/>
            <a:ext cx="4716360" cy="3537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5546880"/>
            <a:ext cx="51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ОЛИТЬ И МАРИНО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4500720" y="3375000"/>
            <a:ext cx="4643280" cy="348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870880" y="6156360"/>
            <a:ext cx="241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СУШИ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84680" y="6156360"/>
            <a:ext cx="670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И ДАЖЕ  ИСПЕЧЬ ПИРОГ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3573360"/>
            <a:ext cx="9144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т гриб живет под елью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ее огромной тенью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удрый бородач-старик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Житель бора - ..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160" y="0"/>
            <a:ext cx="3215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. Ерошин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 бродил в бору не зря –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ыскал богатыря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– Белый!- крикнул я.– Ура!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сё! Теперь Домой по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132000" y="6156360"/>
            <a:ext cx="38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БОРОВИ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3644640"/>
            <a:ext cx="914400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 в красной шапочке расту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еди корней осиновых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Меня узнаешь за версту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овусь я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6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080" y="0"/>
            <a:ext cx="279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. Грудан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 осинкой у ворот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осиновик растёт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горит, горит огнё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Шапка красная на нём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777400" y="6156360"/>
            <a:ext cx="422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ОСИНОВ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3789000"/>
            <a:ext cx="91440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роще у березки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стречались тезки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787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012000" y="0"/>
            <a:ext cx="313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 Лукашкина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 берёзой впереди –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одберёзовик, гляди,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 высокой стройной ножке…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жка в крапинках немножко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00000" y="615636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ОДБЕРЕЗОВ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3427920"/>
            <a:ext cx="892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д листами на поляне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прятки девочки играли.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таились три сестрички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ветло-желтые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7T13:03:42Z</dcterms:created>
  <dc:creator>www.PHILka.RU</dc:creator>
  <dc:description/>
  <dc:language>en-US</dc:language>
  <cp:lastModifiedBy>www.PHILka.RU</cp:lastModifiedBy>
  <dcterms:modified xsi:type="dcterms:W3CDTF">2012-10-07T17:53:26Z</dcterms:modified>
  <cp:revision>22</cp:revision>
  <dc:subject/>
  <dc:title>«По ГРИБЫ»</dc:title>
</cp:coreProperties>
</file>