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FB614-A4F5-4FE2-A3C3-C8BD63FD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20B81-CDC9-4856-AC68-C156E73F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9CCB4-05E1-40B2-9CDD-BA7B9E2E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2B483-BCF0-4B48-880F-E930F246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3E1B-2869-4783-8C4B-4339C433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CD98-FF81-41A4-8993-DBF04823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D604-FE6D-40C3-9E03-094B7E52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C45A-D48D-47FD-8223-C9F77AAA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0A84-C8BE-4274-82FE-1E86DF8E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8B20-1595-40B9-88B0-E8687B6F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3489-94CA-4BE3-BEDB-13BE7110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6EE08-82B8-4776-B6A4-CDA55238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96A2-37D2-4157-9AE1-E6A00990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F5E5-BE7D-49AB-A62F-0F9213BE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5EBA-5F46-45BD-830C-A4537BBA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A741-9A5D-4A85-943A-6A425B46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9706-12E3-43E3-B6F5-2AF6A591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E816B-C25E-4FB0-9E5D-BC97EE56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4BBE0-5E42-48FF-9DC8-EC813E5D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1C383-767B-4431-A5F7-1913F89E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86EAF-6C9A-4807-B290-B8A76786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3AA7D-BA9B-4BD5-8618-A45BC496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BDB2F-5A81-4BDC-A1BA-D27EAF40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7A7BD-B970-41E5-BF10-AFD8CD88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6259-5996-4A33-BE1F-6189FB5546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C9CB-DF99-4C35-8037-11333B609C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"/>
              </a:rPr>
              <a:t>ПРАВИЛА ПОВЕДЕНИЯ УЧАЩИХСЯ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е школы учащиес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едут себ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так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чтобы не уронить свою че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достоинство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е запятнать доброе имя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дение на занят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личие дневника, тетрадей, учебников и других школьных принадлежностей – обяза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ходе педагога в клас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чащиеся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стают в знак приветств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садятся после того, как педагог ответит на приветствие и разрешит сесть. Подобным образом учащиеся приветствуют любого взрослого, вошедшего в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ремя урока нельзя шуметь, отвлекаться самому и отвлекать товарища от занятий посторонними разговорами, играми и другими, не относящимися к уроку делами. Урочное время должно использовать учащимися только для учебных целей, успешного освоения школьной программы. Ученик не может пользоваться на уроке плеером и жевать жевательную резинку. Мобильный телефон на уроке должен быть отключ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учащийс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хочет задать 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чителю или ответить на вопрос учителя, он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днимает ру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 время занятий учащийся может по уважительной причине выйти из класса, попросив разрешения у педаг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 случае пропуска занят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по уважительной причине или нет) ученик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бязан изучить материал пропущенного уро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Отсутствие на уроке не освобождает от контроля знаний. Одноклассники не забывают про больных товарищей, звонят, интересуются их здоровьем, помогают с выполнением домашних за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ведение до начала, в перерывах и после окончания заня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о время перерывов (перемен), обяз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брать свое рабочее мест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йти из класса, чтобы была возможность проветрить помещ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чиниться дисциплинарным требованиям дежурных, педагогов и других работников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чащимся запрещае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урить в здании школы и на ее террит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носить, передавать или использовать оружие (в т.ч. холодное), спиртные напитки, табачные изделия, токсичные или наркотические вещества, которые могут привести к взрывам и пожар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нять физическую силу для выяснения отношений, запугивания или вымогатель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одить любые действия, влекущие за собой опасные последствия для окружающих: бегать по лестницам и коридорам, бросаться любыми предметами, громко кричать и толкать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ать без разрешения чужую собственность. Найдя утерянные вещи, следует сдавать их дежурному администратору или на пост охр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журный по классу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ивает порядок в кабинет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огает педагогу подготовить кабинет к следующему уро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 окончания занятий производит посильную уборку в кла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4. Учащиеся, находясь в столов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иняются требованию дежурных по столовой и работников столов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блюдают график питания и правила поведения в столовой (не входят в столовую верхней одежде, соблюдают очередь в буфете, полученные еду и напитки употребляют только в столовой, убирают за собой посуду, разговаривают спокойно и организованно, заходят и выходят в сопровождении педагог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бщие пра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о первого урока 8.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щиеся приходит в школу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 15–20 минут до начала занят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чистые и опрятные, снимают в гардеробе верхнюю одежду, надевают сменную обувь, занимают свое рабочее место и готовят все необходимые учебные принадлежности к предстоящему уро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аздывать на урок без уважительной причины запрещ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Школьные тради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ащиеся шко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Участвуют в классных и общественных делах и мероприят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Уважают и оказывают всяческую помощь Ученическому комитету шко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Соблюдают положения школьного уст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кольная одежда должна соответствовать стандартом школьной фор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льтрамодная, подчеркнутая неряшливая прическа, яркий макияж, броская бижутерия – это пренебрежение общепринятыми нормами внешнего вида уча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тфели, мобильные телефоны, деньги и другие ценные вещи не оставлять без присмотра (в т.ч. в гардеробе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щимся во время занятий в школ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льзя без разрешения педагогов уходить из школы и с ее террито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еждевременный ух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з школы возможен: в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лучае болезни по решению школьного врача (классного руководителя и учителя – предметника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 просьбе родите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в письменном виде) с подтверждением (подписью) классного руководителя и дежурного администра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 случае пропус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нятий учащийся должен предъявить классному руководителю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правку от врача или записку от родителей (лиц, их заменяющих) о причине отсутствия на занятия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опуски занятий без уважительной причины являются грубым нарушением Устава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еся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оброжелательно относятся друг к друг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не повышают голос и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е крича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вежливо разговаривают со взрослыми и между собой, не говорят друг другу оскорбительные слова и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е употребляя непристойные выра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еся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берегут имущество школ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в т. ч. цветы и зеленые насажд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лучае порчи школьного имущества ученик и его семья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бязаны возместить нанесенный ущер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еся поддерживают чистоту в школе, в классе, на рабочем месте, пользуясь ур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Чисто не там, где убрано, а там, где не соря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еся школы проявляют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важение к старш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дороваются со всеми взрослыми независимо от того, учат они их или н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заботятся о младш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кольники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ступают дорогу взрослым, старшие школьники – младшим, мальчики – девочка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поры решают только на принципах уважения чужого мнения, взглядов и убе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8:20:32Z</dcterms:created>
  <dc:creator>Admin</dc:creator>
  <dc:description/>
  <dc:language>en-US</dc:language>
  <cp:lastModifiedBy>Admin</cp:lastModifiedBy>
  <dcterms:modified xsi:type="dcterms:W3CDTF">2011-09-04T18:55:30Z</dcterms:modified>
  <cp:revision>17</cp:revision>
  <dc:subject/>
  <dc:title>ПРАВИЛА ПОВЕДЕНИЯ УЧАЩИХСЯ</dc:title>
</cp:coreProperties>
</file>