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5094-C3B8-4BE6-8B0B-2C04BCFB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52C3-1DE8-4144-ABCB-5F05ED1F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7FE6-5C97-486F-B7D8-2419B512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CF65-6B2B-4D45-B6CD-E2E62E8A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575F-7427-4D3F-BD12-B3E7FD49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799A-BDFD-4A9B-B1BC-A68DA10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478-A00E-4F0C-A4FD-59C300FE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43B0-E997-4B13-A2D2-E6E9D03D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C9A4-6E60-4EF3-B173-1CD60D98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E98-3BEE-4741-8964-4D97F81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38C5-8AE8-45D6-9E2D-C4CC8D6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0439-E21A-47D3-A1C9-851D90F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BA9B-C323-4167-8DB0-557A9C4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CD31-9FDF-4FA5-A40B-8F57314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12C-4066-4C46-87CC-5B6DB0FC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B5D1-952A-4545-AD2A-D4BFA50C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0FE-C531-4FDA-9C2F-32187FD8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19DD-89B9-4FCF-B15E-DA3402B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B6C9-AA74-4F7F-857A-8D43AAB7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64BF-0DEB-4037-8894-EBAAF12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45A4-768D-4684-81B1-88945906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BD75-A0F5-4B95-AE4E-EE45E97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9EC6-C8CC-4F86-9316-0D290B2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9940-B837-4FED-A5FB-733AD54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9C9F-6BED-421E-AC74-B9C8202C9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320-528E-4385-9E5C-6C810B555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ПРАВИЛА ПОВЕДЕНИЯ УЧАЩИХС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 школы учащие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дут себ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ак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не уронить свою ч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достоинство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запятнать доброе им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дение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ичие дневника, тетрадей, учебников и других школьных принадлежностей – обяз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ходе педагога в кла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тают в знак привет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садятся после того, как педагог ответит на приветствие и разрешит сесть. Подобным образом учащиеся приветствуют любого взрослого, вошедшего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урока нельзя шуметь, отвлекаться самому и отвлекать товарища от занятий посторонними разговорами, играми и другими, не относящимися к уроку делами. Урочное время должно использовать учащимися только для учебных целей, успешного освоения школьной программы. Ученик не может пользоваться на уроке плеером и жевать жевательную резинку. Мобильный телефон на уроке должен быть отключ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ащий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очет задать 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ителю или ответить на вопрос учителя, он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нимает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время занятий учащийся может по уважительной причине выйти из класса, попросив разрешения у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 за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 уважительной причине или нет) ученик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 изучить материал пропущенного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сутствие на уроке не освобождает от контроля знаний. Одноклассники не забывают про больных товарищей, звонят, интересуются их здоровьем, помогают с выполнением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едение до начала, в перерывах и после окончания за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 время перерывов (перемен), обяз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рать свое рабочее ме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йти из класса, чтобы была возможность проветрить поме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иться дисциплинарным требованиям дежурных, педагогов и других работник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щимся 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рить в здании школы и на ее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осить, передавать или использовать оружие (в т.ч. холодное), спиртные напитки, табачные изделия, токсичные или наркотические вещества, которые могут привести к взрывам и пожар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ять физическую силу для выяснения отношений, запугивания или вымогатель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ь любые действия, влекущие за собой опасные последствия для окружающих: бегать по лестницам и коридорам, бросаться любыми предметами, громко кричать и толк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 без разрешения чужую собственность. Найдя утерянные вещи, следует сдавать их дежурному администратору или на пост ох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журный по класс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ивает порядок в кабине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едагогу подготовить кабинет к следующему у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окончания занятий производит посильную уборку в кл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. Учащиеся, находясь в столо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иняются требованию дежурных по столовой и работников столо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людают график питания и правила поведения в столовой (не входят в столовую верхней одежде, соблюдают очередь в буфете, полученные еду и напитки употребляют только в столовой, убирают за собой посуду, разговаривают спокойно и организованно, заходят и выходят в сопровождении педаго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щи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первого урока 8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приходит в школ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 15–20 минут до начала занят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истые и опрятные, снимают в гардеробе верхнюю одежду, надевают сменную обувь, занимают свое рабочее место и готовят все необходимые учебные принадлежности к предстоящему у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здывать на урок без уважительной причины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е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Участвуют в классных и общественных делах и меропри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Уважают и оказывают всяческую помощь Ученическому комитету шко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Соблюдают положения школьного у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ая одежда должна соответствовать стандартом школьной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ьтрамодная, подчеркнутая неряшливая прическа, яркий макияж, броская бижутерия – это пренебрежение общепринятыми нормами внешнего вида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фели, мобильные телефоны, деньги и другие ценные вещи не оставлять без присмотра (в т.ч. в гардероб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во время занятий в школ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 без разрешения педагогов уходить из школы и с ее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ждевременный у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 школы возможен: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учае болезни по решению школьного врача (классного руководителя и учителя – предметника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 просьбе р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 письменном виде) с подтверждением (подписью) классного руководителя и дежурного админист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нятий учащийся должен предъявить классному руководител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равку от врача или записку от родителей (лиц, их заменяющих) о причине отсутствия на занят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пуски занятий без уважительной причины являются грубым нарушением Уста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брожелательно относятся друг к др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 повышают голос и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крич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ежливо разговаривают со взрослыми и между собой, не говорят друг другу оскорбительные слова 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употребляя непристойные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регут имущество шко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т. ч. цветы и зеленые наса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порчи школьного имущества ученик и его семь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ы возместить нанесенный ущер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поддерживают чистоту в школе, в классе, на рабочем месте, пользуясь ур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Чисто не там, где убрано, а там, где не с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школы проявляю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важение к старш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дороваются со всеми взрослыми независимо от того, учат они их или 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ботятся о младш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упают дорогу взрослым, старшие школьники – младшим, мальчики – девочк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ры решают только на принципах уважения чужого мнения, взглядов и уб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0:32Z</dcterms:created>
  <dc:creator>Admin</dc:creator>
  <dc:description/>
  <dc:language>en-US</dc:language>
  <cp:lastModifiedBy>Admin</cp:lastModifiedBy>
  <dcterms:modified xsi:type="dcterms:W3CDTF">2011-09-04T18:55:30Z</dcterms:modified>
  <cp:revision>17</cp:revision>
  <dc:subject/>
  <dc:title>ПРАВИЛА ПОВЕДЕНИЯ УЧАЩИХСЯ</dc:title>
</cp:coreProperties>
</file>