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5C2C-9F0D-418B-B802-8D76F2E9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C06-902A-48BD-9D3F-5D08CA1A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11C-8090-4449-BD24-C9AFCEF9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941-2FAB-45F8-9CD0-2864D52B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4616-92A5-46AA-91AA-ABC9A948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E112-5A47-4FEB-AD01-B12EE7CA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B70C-CAA8-488F-A873-D833DB68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9D93-D95D-476B-9D82-0006EC3D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5FDA-7F6F-4B74-B083-E60449A3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050C-F8A1-48B8-92AD-82A235B7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0611-B23A-46EF-9BC3-87BBC0DC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D14-89DA-419B-A6B3-18029046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5454-B474-4C75-B2FA-436FB17C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8B5C-285C-4AAC-942A-E0FCA0F3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8803-CA2C-4D64-91F2-87DA954A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D2BB-CAC0-490C-B875-0A5837AA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79B7-DC32-4C32-B61B-D5C49BEE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97242-844C-4F27-A41E-A045EF96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9E6E2-1FA4-4469-B05D-4439DD9D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55F76-15C2-423F-862E-071831FA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EDCDE-88C5-48CE-A982-42EEFA25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DA29D-BDB1-43B4-8F0D-1B5E8C48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0075-D1EA-4BCC-8FCB-F357ABF7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7F832-776F-4DB4-A2B5-74AC531C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0CB61-1D8C-45D1-B4DB-FC3F51BB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38A0D-4F91-4433-B530-3F538E83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69516-2F11-46E6-A1A2-341354D1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EE27F-C68C-4A9C-A074-F7A1466C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1BD0-8F8E-4AAB-8B4E-E9BD18ED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01ACE-6573-4B78-A0B8-742538FC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C0EF46-BF9C-4C75-816D-9456DA12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863759-1A77-4C73-8306-1770CA61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B23B5-BDC8-43DB-A5EF-E80BCF92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23E-0FBE-4704-A5CD-1673FDCC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FB5054-3800-4A84-8CEF-EB97C2F8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065CA-CC56-4401-936B-C22F12A6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01F0B5-A761-42CE-BCCE-30A0A6F8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53AE69-B66A-43D0-9637-BAB8D366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74584E-C901-4932-B3EE-0DE250D7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F012F9-FDF6-4FC3-9C7C-E0490406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6B5A88-C7AA-4052-9821-C0509538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1B69BB-53F3-4C21-845E-B6547871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852A73-E874-4310-A254-0F533C93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E9916-B9D4-4C5B-AAE4-7322D590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584-E44C-4E50-A637-7C0A1FC4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C7F56-A046-4402-9205-41C08350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56478-8CFE-4C3E-9CE0-993946AC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0D40B-8CF5-4DB3-BBD8-908C2CCF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D6550-7540-4050-96A3-6F552574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FC5E1-771F-4831-B04A-A4D9E354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93600-8EC5-4425-A94F-FD401A48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7DD5E-69B7-4F9A-B538-25B75D43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4A0AC-0C35-4659-AD43-8AC32799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E7C23-9C8F-4908-A526-539A7E3D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37734-C7DE-4697-8D75-786CC489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D7F-2965-4985-8346-717F68C3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1E264-D5F7-46C7-973C-B11B8A5C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26F-50B1-48C4-A587-39E19BD8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354-6113-4916-ADC8-6E10B23B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BCEF-481D-466F-B242-C8684ED7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FA92-357D-4F51-9156-BEA26559C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E551-2E85-4F6E-93DF-6CF2F6DB84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2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3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CB1D-4762-41DB-AE0F-AF3C6A0EEB0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16B2-6915-4970-96D0-6052F21F95D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92AF-833D-42F4-8FD2-2FDEA1D51A6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187280" y="765000"/>
            <a:ext cx="7058160" cy="60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ематика 2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к – закреп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: «Сложение и вычитание в пределах 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начальных классов Панкова Татьяна Васил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СОШ №1 г. Климов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68360" y="189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ревнования по бегу прибыло 100 участников. После первых забегов несколько участников выбыло и осталось 47 мужчин и 25 женщин. Сколько участников соревнований выбыло после первых забе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539640" y="3213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ыло - 100 у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37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422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лось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 муж. и 25 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68360" y="189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ревнования по бегу прибыло 100 участников. После первых забегов несколько участников выбыло и осталось 47 мужчин и 25 женщин. Сколько участников соревнований выбыло после первых забе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359" name="">
            <a:hlinkClick r:id="" action="ppaction://hlinkshowjump?jump=nextslide"/>
          </p:cNvPr>
          <p:cNvSpPr/>
          <p:nvPr/>
        </p:nvSpPr>
        <p:spPr>
          <a:xfrm>
            <a:off x="539640" y="3213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ыло - 100 у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9640" y="37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9640" y="422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лось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 муж. и 25 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68360" y="189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ревнования по бегу прибыло 100 участников. После первых забегов несколько участников выбыло и осталось 47 мужчин и 25 женщин. Сколько участников соревнований выбыло после первых забе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539640" y="3213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ыло - 100 у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9640" y="37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422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лось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 муж. и 25 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4360" y="508464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. . . + . . . = . . . (уч.) – осталос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68360" y="189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ревнования по бегу прибыло 100 участников. После первых забегов несколько участников выбыло и осталось 47 мужчин и 25 женщин. Сколько участников соревнований выбыло после первых забе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539640" y="3213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ыло - 100 у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9640" y="37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9640" y="422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лось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 муж. и 25 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4360" y="508464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. . . + . . . = . . . (уч.) – осталос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4360" y="558972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. . . - . . . = . . . (уч.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68360" y="189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ревнования по бегу прибыло 100 участников. После первых забегов несколько участников выбыло и осталось 47 мужчин и 25 женщин. Сколько участников соревнований выбыло после первых забе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539640" y="3213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ыло - 100 у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9640" y="37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9640" y="422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лось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 муж. и 25 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4360" y="508464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. . . + . . . = . . . (уч.) – осталос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4360" y="558972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. . . - . . . = . . . (уч.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84360" y="609300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 . . . участников выб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539640" y="3213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ыло - 100 у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9640" y="37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640" y="422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лось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 муж. и 25 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4360" y="508464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. . . + . . . = . . . (уч.) – осталос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4360" y="558972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. . . - . . . = . . . (уч.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609300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 . . . участников выб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639800" cy="1871640"/>
          </a:xfrm>
          <a:prstGeom prst="rect">
            <a:avLst/>
          </a:prstGeom>
          <a:ln w="0">
            <a:noFill/>
          </a:ln>
        </p:spPr>
      </p:pic>
      <p:sp>
        <p:nvSpPr>
          <p:cNvPr id="390" name="">
            <a:hlinkClick r:id="" action="ppaction://hlinkshowjump?jump=nextslide"/>
          </p:cNvPr>
          <p:cNvSpPr/>
          <p:nvPr/>
        </p:nvSpPr>
        <p:spPr>
          <a:xfrm>
            <a:off x="3924360" y="620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было - 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>
            <a:hlinkClick r:id="" action="ppaction://hlinkshowjump?jump=nextslide"/>
          </p:cNvPr>
          <p:cNvSpPr/>
          <p:nvPr/>
        </p:nvSpPr>
        <p:spPr>
          <a:xfrm>
            <a:off x="3851280" y="1197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ыло – 15 у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" action="ppaction://hlinkshowjump?jump=nextslide"/>
          </p:cNvPr>
          <p:cNvSpPr/>
          <p:nvPr/>
        </p:nvSpPr>
        <p:spPr>
          <a:xfrm>
            <a:off x="3924360" y="1844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лось – 26 жен. и 54 муж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340000" y="26028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Физминут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8736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268360" y="62064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Тенни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79280" y="2279520"/>
            <a:ext cx="1944720" cy="1008360"/>
          </a:xfrm>
          <a:prstGeom prst="parallelogram">
            <a:avLst>
              <a:gd name="adj" fmla="val 482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356000" y="1195560"/>
            <a:ext cx="2376720" cy="1439640"/>
          </a:xfrm>
          <a:custGeom>
            <a:avLst/>
            <a:gdLst>
              <a:gd name="textAreaLeft" fmla="*/ 522720 w 2376720"/>
              <a:gd name="textAreaRight" fmla="*/ 1854000 w 2376720"/>
              <a:gd name="textAreaTop" fmla="*/ 316440 h 1439640"/>
              <a:gd name="textAreaBottom" fmla="*/ 1123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79280" y="3792600"/>
            <a:ext cx="2160720" cy="16574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03640" y="4362480"/>
            <a:ext cx="2016000" cy="1800360"/>
          </a:xfrm>
          <a:prstGeom prst="hexagon">
            <a:avLst>
              <a:gd name="adj" fmla="val 27994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08720" y="2814480"/>
            <a:ext cx="1441440" cy="36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476360" y="170028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08720" y="170028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24360" y="191628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5640" y="43624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87640" y="2138400"/>
            <a:ext cx="1368360" cy="13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52720" y="4941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203640" y="25257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724360" y="46512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2279520"/>
            <a:ext cx="1944720" cy="1008360"/>
          </a:xfrm>
          <a:prstGeom prst="parallelogram">
            <a:avLst>
              <a:gd name="adj" fmla="val 482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356000" y="1195560"/>
            <a:ext cx="2376720" cy="1439640"/>
          </a:xfrm>
          <a:custGeom>
            <a:avLst/>
            <a:gdLst>
              <a:gd name="textAreaLeft" fmla="*/ 522720 w 2376720"/>
              <a:gd name="textAreaRight" fmla="*/ 1854000 w 2376720"/>
              <a:gd name="textAreaTop" fmla="*/ 316440 h 1439640"/>
              <a:gd name="textAreaBottom" fmla="*/ 1123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9280" y="3792600"/>
            <a:ext cx="2160720" cy="16574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03640" y="4362480"/>
            <a:ext cx="2016000" cy="1800360"/>
          </a:xfrm>
          <a:prstGeom prst="hexagon">
            <a:avLst>
              <a:gd name="adj" fmla="val 27994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08720" y="2814480"/>
            <a:ext cx="1441440" cy="367380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6360" y="170028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08720" y="170028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724360" y="191628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5640" y="43624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987640" y="2138400"/>
            <a:ext cx="1368360" cy="13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52720" y="4941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03640" y="25257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724360" y="46512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547640" y="907920"/>
            <a:ext cx="60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Привет участникам соревнований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1979640" y="4149720"/>
            <a:ext cx="518472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736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28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814840" cy="49323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900000" y="189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10800000">
            <a:off x="3354480" y="1700280"/>
            <a:ext cx="45468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16 метров больш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9640" y="5657760"/>
            <a:ext cx="28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 периметр теннисного к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3813120" y="404640"/>
            <a:ext cx="47512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2089440" cy="15681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3922560" y="260280"/>
            <a:ext cx="2089440" cy="15685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6012000" y="4775040"/>
            <a:ext cx="2089080" cy="1568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2268360" y="2565360"/>
            <a:ext cx="2124360" cy="1568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5364000" y="2565360"/>
            <a:ext cx="2089440" cy="1568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444600" y="4775040"/>
            <a:ext cx="3190680" cy="16750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187280" y="127476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+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11640" y="755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-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141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+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24360" y="314172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408720" y="5300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+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476360" y="1531800"/>
            <a:ext cx="2089080" cy="15685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871640" y="20559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+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444600" y="4775040"/>
            <a:ext cx="3190680" cy="16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444600" y="4775040"/>
            <a:ext cx="3190680" cy="16750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1332000" y="1628640"/>
            <a:ext cx="2089080" cy="15685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3240000" y="487440"/>
            <a:ext cx="2089080" cy="15685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3565440" y="10112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692360" y="20559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+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444600" y="4775040"/>
            <a:ext cx="3190680" cy="16750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403280" y="1638360"/>
            <a:ext cx="2089080" cy="15685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3240000" y="487440"/>
            <a:ext cx="2089080" cy="15685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5076720" y="1638360"/>
            <a:ext cx="1946520" cy="15685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692360" y="20559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+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65440" y="10112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329080" y="205596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+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444600" y="4775040"/>
            <a:ext cx="3190680" cy="16750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1332000" y="1638360"/>
            <a:ext cx="2089080" cy="15685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3240000" y="487440"/>
            <a:ext cx="2089080" cy="1568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5076720" y="1638360"/>
            <a:ext cx="1946520" cy="15685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5"/>
          <a:stretch/>
        </p:blipFill>
        <p:spPr>
          <a:xfrm>
            <a:off x="4429080" y="3206880"/>
            <a:ext cx="2089080" cy="15681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3565440" y="10112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92360" y="20559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+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329080" y="205596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+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896000" y="3716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-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44600" y="4775040"/>
            <a:ext cx="3190680" cy="16750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1295280" y="1638360"/>
            <a:ext cx="2089440" cy="15685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3240000" y="487440"/>
            <a:ext cx="2089080" cy="15685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4"/>
          <a:stretch/>
        </p:blipFill>
        <p:spPr>
          <a:xfrm>
            <a:off x="5076720" y="1638360"/>
            <a:ext cx="1946520" cy="15685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5"/>
          <a:stretch/>
        </p:blipFill>
        <p:spPr>
          <a:xfrm>
            <a:off x="4429080" y="3206880"/>
            <a:ext cx="2089080" cy="15681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6"/>
          <a:stretch/>
        </p:blipFill>
        <p:spPr>
          <a:xfrm>
            <a:off x="2340000" y="3206880"/>
            <a:ext cx="2089080" cy="15681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3565440" y="10112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92360" y="20559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+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329080" y="205596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+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96000" y="3716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-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700360" y="3716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+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547640" y="62064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трельба из лу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4572000" y="4292640"/>
            <a:ext cx="4392720" cy="144360"/>
          </a:xfrm>
          <a:prstGeom prst="leftArrow">
            <a:avLst>
              <a:gd name="adj1" fmla="val 50000"/>
              <a:gd name="adj2" fmla="val 760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0" y="4940280"/>
            <a:ext cx="4392720" cy="144360"/>
          </a:xfrm>
          <a:prstGeom prst="leftArrow">
            <a:avLst>
              <a:gd name="adj1" fmla="val 50000"/>
              <a:gd name="adj2" fmla="val 760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558792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0" y="623556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339840" y="2692440"/>
            <a:ext cx="3081240" cy="41655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5722920" y="3178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 – 25 -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22920" y="3925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0-27) +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22920" y="4573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– (24 +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51640" y="5221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+ Х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22920" y="5869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 - Х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339840" y="5493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2068560" y="5493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3895560" y="549360"/>
            <a:ext cx="1352880" cy="13525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5"/>
          <a:stretch/>
        </p:blipFill>
        <p:spPr>
          <a:xfrm>
            <a:off x="5651640" y="5493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6"/>
          <a:stretch/>
        </p:blipFill>
        <p:spPr>
          <a:xfrm>
            <a:off x="7396200" y="549360"/>
            <a:ext cx="1352520" cy="13525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8436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01200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248000" y="9079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48436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81200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0" y="357336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Motion origin="layout" path="M -0.18108 0.00486 L -0.41719 -0.15811 E">
                                      <p:cBhvr>
                                        <p:cTn id="18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4572000" y="4292640"/>
            <a:ext cx="4392720" cy="144360"/>
          </a:xfrm>
          <a:prstGeom prst="leftArrow">
            <a:avLst>
              <a:gd name="adj1" fmla="val 50000"/>
              <a:gd name="adj2" fmla="val 760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0" y="357336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0" y="4940280"/>
            <a:ext cx="4392720" cy="144360"/>
          </a:xfrm>
          <a:prstGeom prst="leftArrow">
            <a:avLst>
              <a:gd name="adj1" fmla="val 50000"/>
              <a:gd name="adj2" fmla="val 760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0" y="558792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72000" y="623556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339840" y="2692440"/>
            <a:ext cx="3081240" cy="41655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5722920" y="3925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339840" y="5493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3895560" y="549360"/>
            <a:ext cx="1352880" cy="13525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5651640" y="5493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5"/>
          <a:stretch/>
        </p:blipFill>
        <p:spPr>
          <a:xfrm>
            <a:off x="7396200" y="549360"/>
            <a:ext cx="1352520" cy="13525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68436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1200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248000" y="9079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48436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81200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51128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 – 25 -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722920" y="4573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– (24 +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51640" y="5221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+ Х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722920" y="5869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 - Х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Motion origin="layout" path="M -0.03143 -0.03611 L -0.09445 -0.26713 E">
                                      <p:cBhvr>
                                        <p:cTn id="27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Разминка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4572000" y="4292640"/>
            <a:ext cx="4392720" cy="144360"/>
          </a:xfrm>
          <a:prstGeom prst="leftArrow">
            <a:avLst>
              <a:gd name="adj1" fmla="val 50000"/>
              <a:gd name="adj2" fmla="val 760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0" y="357336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0" y="4940280"/>
            <a:ext cx="4392720" cy="144360"/>
          </a:xfrm>
          <a:prstGeom prst="leftArrow">
            <a:avLst>
              <a:gd name="adj1" fmla="val 50000"/>
              <a:gd name="adj2" fmla="val 760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558792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0" y="623556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39840" y="2692440"/>
            <a:ext cx="3081240" cy="41655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5075280" y="20844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2920" y="4573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– (24 +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339840" y="5493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3895560" y="549360"/>
            <a:ext cx="1352880" cy="13525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4"/>
          <a:stretch/>
        </p:blipFill>
        <p:spPr>
          <a:xfrm>
            <a:off x="7396200" y="549360"/>
            <a:ext cx="1352520" cy="135252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68436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1200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248000" y="9079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48436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81200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51128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 – 25 -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651640" y="5221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+ Х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722920" y="5869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 - Х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Motion origin="layout" path="M -0.14965 -0.01505 L -0.66945 -0.37199 E">
                                      <p:cBhvr>
                                        <p:cTn id="36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4572000" y="4292640"/>
            <a:ext cx="4392720" cy="144360"/>
          </a:xfrm>
          <a:prstGeom prst="leftArrow">
            <a:avLst>
              <a:gd name="adj1" fmla="val 50000"/>
              <a:gd name="adj2" fmla="val 760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572000" y="357336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72000" y="4940280"/>
            <a:ext cx="4392720" cy="144360"/>
          </a:xfrm>
          <a:prstGeom prst="leftArrow">
            <a:avLst>
              <a:gd name="adj1" fmla="val 50000"/>
              <a:gd name="adj2" fmla="val 760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0" y="558792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0" y="623556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339840" y="2692440"/>
            <a:ext cx="3081240" cy="41655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-396720" y="20844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– (24 +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22920" y="5221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3895560" y="549360"/>
            <a:ext cx="1352880" cy="1352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7396200" y="549360"/>
            <a:ext cx="1352520" cy="13525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68436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200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48000" y="9079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8436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81200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22920" y="5869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 - Х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51128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 – 25 -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75280" y="20844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-0.07083 -0.03611 L -0.29132 -0.45602 E">
                                      <p:cBhvr>
                                        <p:cTn id="45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572000" y="4292640"/>
            <a:ext cx="4392720" cy="144360"/>
          </a:xfrm>
          <a:prstGeom prst="leftArrow">
            <a:avLst>
              <a:gd name="adj1" fmla="val 50000"/>
              <a:gd name="adj2" fmla="val 760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0" y="357336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4940280"/>
            <a:ext cx="4392720" cy="144360"/>
          </a:xfrm>
          <a:prstGeom prst="leftArrow">
            <a:avLst>
              <a:gd name="adj1" fmla="val 50000"/>
              <a:gd name="adj2" fmla="val 760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0" y="558792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0" y="6235560"/>
            <a:ext cx="4392720" cy="144720"/>
          </a:xfrm>
          <a:prstGeom prst="leftArrow">
            <a:avLst>
              <a:gd name="adj1" fmla="val 50000"/>
              <a:gd name="adj2" fmla="val 758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39840" y="2692440"/>
            <a:ext cx="3081240" cy="41655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5075280" y="20844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- (83-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012000" y="5869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 – x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7396200" y="549360"/>
            <a:ext cx="1352520" cy="13525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68436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01200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248000" y="9079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48436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812000" y="90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80000" y="20844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51128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 – 25 -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-396720" y="20844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– (24 +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Motion origin="layout" path="M -0.02361 -0.03588 L 0.09444 -0.53982 E">
                                      <p:cBhvr>
                                        <p:cTn id="54" dur="2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Подведение итог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971640" y="1417680"/>
            <a:ext cx="71294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-252360" y="-819000"/>
            <a:ext cx="10585440" cy="7875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24000" y="2997360"/>
            <a:ext cx="59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cc"/>
                </a:solidFill>
                <a:latin typeface="Arial"/>
              </a:rPr>
              <a:t>Бег с препятствиям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68360" y="189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ревнования по бегу прибыло 100 участников. После первых забегов несколько участников выбыло и осталось 47 мужчин и 25 женщин. Сколько участников соревнований выбыло после первых забе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524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68360" y="189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ревнования по бегу прибыло 100 участников. После первых забегов несколько участников выбыло и осталось 47 мужчин и 25 женщин. Сколько участников соревнований выбыло после первых забе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539640" y="321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68360" y="189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ревнования по бегу прибыло 100 участников. После первых забегов несколько участников выбыло и осталось 47 мужчин и 25 женщин. Сколько участников соревнований выбыло после первых забе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539640" y="321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539640" y="37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68360" y="189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ревнования по бегу прибыло 100 участников. После первых забегов несколько участников выбыло и осталось 47 мужчин и 25 женщин. Сколько участников соревнований выбыло после первых забе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539640" y="321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9640" y="37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8360" y="4221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лось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68360" y="189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ревнования по бегу прибыло 100 участников. После первых забегов несколько участников выбыло и осталось 47 мужчин и 25 женщин. Сколько участников соревнований выбыло после первых забе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349" name="">
            <a:hlinkClick r:id="" action="ppaction://hlinkshowjump?jump=nextslide"/>
          </p:cNvPr>
          <p:cNvSpPr/>
          <p:nvPr/>
        </p:nvSpPr>
        <p:spPr>
          <a:xfrm>
            <a:off x="539640" y="3213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ыло - 100 у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371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ыл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422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лось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18:33:43Z</dcterms:created>
  <dc:creator>Admin</dc:creator>
  <dc:description/>
  <dc:language>en-US</dc:language>
  <cp:lastModifiedBy>Admin</cp:lastModifiedBy>
  <dcterms:modified xsi:type="dcterms:W3CDTF">2012-04-15T17:57:02Z</dcterms:modified>
  <cp:revision>20</cp:revision>
  <dc:subject/>
  <dc:title>Слайд 1</dc:title>
</cp:coreProperties>
</file>