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E1C-A152-4785-AF01-84E5FCAB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AFA-2BEF-49AA-B333-4960FD9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992-BE4E-42D9-BEDE-FD1F4259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B28-256C-467C-806E-FE069861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3490-DB9A-43D1-B63D-68306E22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D129-33FE-4D67-B151-209B44A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AD2-EED0-4E2C-A3C1-38042EF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8DA8-76C0-4281-8692-80C51B8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39D-9566-407F-9DFD-3C58627B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3541-7F5B-4A01-8BAC-DB8F6A1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00E4-2EE2-470F-9DDD-186C224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8A5-0AD0-4837-B3E7-3E5C699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3EC2-BDB5-4D02-952E-CC6AD79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360-458F-4845-95E3-51BF4F95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E56D-9CC5-423F-818B-074CC680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5A1-AAC9-40BA-BC5D-782DAD52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2EF9-0358-442E-8141-4DDFC870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63AA-B4BD-4C98-AF22-1E24FF1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2421-FC0A-4CCB-A529-7047988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36D3-B4D0-4B19-AE89-F7941B6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0ED5-F2D1-4ECA-BA2F-399C1123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998F-7AA6-4BDE-B838-5289982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99F-4C67-4F1A-8B4F-218D1C2E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D5B0-BA64-4703-96DA-B3BFD1F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485E-6B04-44C9-BA46-749DB4A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024F-F9B2-4E0C-8647-81E98B4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F852-6C04-4C36-8614-AF4B0F6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8E76-185C-4802-A082-B376B5CC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45A5-8D08-4AA3-8428-FBBD1EB7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52D9-C7B5-45B0-833A-10018120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0478D-779F-4E1D-8D95-A608CD5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3E0DB-8166-43BD-A3D0-019F3E3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0492D-9E08-4B37-BBC8-230F8E4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64D-2D03-444E-B74F-14E2AB4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6FE3B-27FC-4C84-8A4C-A3CBB46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4C754-4122-445E-ADEB-6310A5D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FF6D2-2779-448B-B102-7CDA0BC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7E9C3-3452-4B69-8E64-5222F83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9CA0C-665E-489B-AA04-66AA28C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6E648-6595-49F7-9BDD-2464FB0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8F3DC-7223-4D6F-961B-A2833CF0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EE02D-A3F4-4BE3-92FA-887A57BA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B7370-7519-49FF-B00B-804E242D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0FDC1-39A5-45EF-A8C5-05E577D8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184-8A4C-4740-AFCA-3FA582F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63D2-5C52-4DCC-98CB-89E612FF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91796-05A8-4247-8977-F0CDFC9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61B4-566A-4B0E-9FE5-115ED4D6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D090-CC74-4B99-98D6-731FFAE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465A-D70A-47D3-B85A-79D7216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374D-3470-4D4D-8D32-2EAC5B27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8272-CEEC-4EF5-B849-D3DFAE4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7A0F-8FA0-4D6B-9B45-C43FAF2D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92C5-5AD5-40CA-9DD5-1ACE6DB5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524F-8E2D-4766-9943-9841CE5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37E-1106-46DA-A684-59557E34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E3AA-03AE-4C12-9632-4232B63A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F5E-75BD-43AC-92B2-78B45AC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C51-050A-4B46-9B88-C3B5815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6F2-0CA6-48B2-9DA9-196CC1B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4269-F02D-4111-9942-F2D11D2F8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ACD-A702-43C5-A3E4-854B026EB4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5B36-2F4C-4BC3-A696-F65C6EE42C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D64-5D13-46ED-9C5B-B9FEDE3CA7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550-D97E-4C40-9619-725282358E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87280" y="765000"/>
            <a:ext cx="7058160" cy="60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ка 2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– 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«Сложение и вычитание в пределах 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Панкова Татьяна Васи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 г. Клим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360" y="609300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. . . участников вы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609300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. . . участников вы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39800" cy="18716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3924360" y="62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3851280" y="119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ыло – 15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3924360" y="184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– 26 жен. и 54 муж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340000" y="260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Физминут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736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268360" y="620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енни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79280" y="2279520"/>
            <a:ext cx="1944720" cy="1008360"/>
          </a:xfrm>
          <a:prstGeom prst="parallelogram">
            <a:avLst>
              <a:gd name="adj" fmla="val 482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356000" y="1195560"/>
            <a:ext cx="2376720" cy="1439640"/>
          </a:xfrm>
          <a:custGeom>
            <a:avLst/>
            <a:gdLst>
              <a:gd name="textAreaLeft" fmla="*/ 522720 w 2376720"/>
              <a:gd name="textAreaRight" fmla="*/ 1854000 w 237672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3792600"/>
            <a:ext cx="2160720" cy="1657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03640" y="4362480"/>
            <a:ext cx="2016000" cy="1800360"/>
          </a:xfrm>
          <a:prstGeom prst="hexagon">
            <a:avLst>
              <a:gd name="adj" fmla="val 2799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2814480"/>
            <a:ext cx="144144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7636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872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1916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436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87640" y="2138400"/>
            <a:ext cx="1368360" cy="13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4941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3640" y="25257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24360" y="46512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2279520"/>
            <a:ext cx="1944720" cy="1008360"/>
          </a:xfrm>
          <a:prstGeom prst="parallelogram">
            <a:avLst>
              <a:gd name="adj" fmla="val 482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1195560"/>
            <a:ext cx="2376720" cy="1439640"/>
          </a:xfrm>
          <a:custGeom>
            <a:avLst/>
            <a:gdLst>
              <a:gd name="textAreaLeft" fmla="*/ 522720 w 2376720"/>
              <a:gd name="textAreaRight" fmla="*/ 1854000 w 237672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3792600"/>
            <a:ext cx="2160720" cy="1657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4362480"/>
            <a:ext cx="2016000" cy="1800360"/>
          </a:xfrm>
          <a:prstGeom prst="hexagon">
            <a:avLst>
              <a:gd name="adj" fmla="val 2799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08720" y="2814480"/>
            <a:ext cx="1441440" cy="3673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1916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436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87640" y="2138400"/>
            <a:ext cx="1368360" cy="13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52720" y="4941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3640" y="25257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4360" y="46512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47640" y="907920"/>
            <a:ext cx="60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Привет участникам соревновани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51847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36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814840" cy="4932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00000" y="189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3354480" y="1700280"/>
            <a:ext cx="45468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6 метров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9640" y="5657760"/>
            <a:ext cx="28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 периметр теннисного к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813120" y="404640"/>
            <a:ext cx="47512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089440" cy="15681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922560" y="26028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12000" y="47750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2124360" cy="1568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5364000" y="256536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187280" y="12747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11640" y="755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24360" y="3141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872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476360" y="153180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7164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403280" y="163836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332000" y="163836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4429080" y="3206880"/>
            <a:ext cx="2089080" cy="15681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9600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295280" y="163836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4429080" y="3206880"/>
            <a:ext cx="2089080" cy="1568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>
            <a:off x="2340000" y="3206880"/>
            <a:ext cx="2089080" cy="15681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9600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547640" y="620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ельба из л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5722920" y="3178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2920" y="3925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-27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206856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Motion origin="layout" path="M -0.18108 0.00486 L -0.41719 -0.15811 E">
                                      <p:cBhvr>
                                        <p:cTn id="18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722920" y="3925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56516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-0.03143 -0.03611 L -0.09445 -0.26713 E">
                                      <p:cBhvr>
                                        <p:cTn id="27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Разминка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0.14965 -0.01505 L -0.66945 -0.37199 E">
                                      <p:cBhvr>
                                        <p:cTn id="36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-39672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2292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-0.07083 -0.03611 L -0.29132 -0.45602 E">
                                      <p:cBhvr>
                                        <p:cTn id="45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- (83-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1200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– x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20844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39672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Motion origin="layout" path="M -0.02361 -0.03588 L 0.09444 -0.53982 E">
                                      <p:cBhvr>
                                        <p:cTn id="54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129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10585440" cy="787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997360"/>
            <a:ext cx="59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cc"/>
                </a:solidFill>
                <a:latin typeface="Arial"/>
              </a:rPr>
              <a:t>Бег с препятствия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422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33:43Z</dcterms:created>
  <dc:creator>Admin</dc:creator>
  <dc:description/>
  <dc:language>en-US</dc:language>
  <cp:lastModifiedBy>Admin</cp:lastModifiedBy>
  <dcterms:modified xsi:type="dcterms:W3CDTF">2012-04-15T17:57:02Z</dcterms:modified>
  <cp:revision>20</cp:revision>
  <dc:subject/>
  <dc:title>Слайд 1</dc:title>
</cp:coreProperties>
</file>