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377-1381-47AE-95D5-2586AA93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214-F083-435C-BEEC-42C3C91A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3D6-7745-40E8-B14E-51B91D7B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4EA-556D-4E48-AFB6-E186A4A6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B25F-E823-4D21-94B9-BA4F24E2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A9FB-52BC-4E49-9E0A-0B8DCFC7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6417-41A9-45DF-A23A-960DDCBB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3942-049B-4123-B2DE-A8BF2B63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0E76-680E-42A3-92D2-31F9D8CF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E50D-9D59-4302-8FDE-6C9C32E7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E8D1-CB31-453A-ACF9-2B6C391E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C01-ABB0-4443-BC32-FB0F75FD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F28B-388A-4CA1-99E3-213D4EFB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DF2B-F40E-4504-8DCE-E936C09E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352C-795F-4F2F-971D-BDE39C6B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D139-28C5-46DE-8570-75A4FE42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828A-4C29-4DF0-A0A5-2B347A71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2B8C-DF19-44F3-8D81-E839BDF4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3932-C3E9-4937-B632-EF8A0930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A59F-5F64-49F9-9DEC-772609AA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8496-983B-40AD-B447-C74256E1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E1251-8DA6-4A7E-9CCE-A3F05979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B0E-36D6-4E77-885B-A1778DA2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D886E-7652-40A6-A158-7B1CDD9B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DCE26-0BDA-4AB3-9CF1-05CDD847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1288-BC20-44F6-8185-ADDE9F54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5A418-591B-42D5-BEBE-8B95D57C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D28E-005D-401B-85E7-97215976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4296-A336-4093-BA3E-9DC95BD3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9140-C462-454C-A251-0977E181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82C-748F-4737-8376-CD7730AD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4AD-4E51-4402-A2FF-4196DE4D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5E6-8B8C-4E5F-AA3C-9A7E6D8B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C5D-D201-4DAB-8A09-1C927F6F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57D-D25A-4555-8129-C0191882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BC2-A790-4CCB-ADFA-62C74DAC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805D-6502-4AB8-97AB-BC31F9B2C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CFC7-7601-44CD-A61C-4E43AFAF6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C841-87FF-4677-A48B-31045F75B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Фонетика как раздел лингвистики. Звуки ре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700000" y="3573000"/>
            <a:ext cx="507204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Урок русского языка и литературы в 5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Подготовили  Еременко Елена Кады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Евсина Оксана Фёдо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учителя  МАОУ СОШ №2 г.Курганинска  Краснодарского кр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39640" y="1268280"/>
            <a:ext cx="86043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осстановить в памяти учащихся основные сведения о фонетике и системе единиц, изучаемых в рамках этого разде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дать понятие о классификации зву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формировать умение классифицировать 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предмет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учить  слушать учителя и друг дру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обучать смысловому чте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развивать умение работать индивидуально и в групп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развивать умение последовательно излагать свои мысли, используя литературный язык и терминолог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закрепить умение обобщать  изученный учебный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развивать умение работать с различными словарями и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воспитывать любовь к родному языку и  художественному сло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рививать языковое чут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формировать самостоятельную дисциплину при выполнении заданий, навыки контроля и самоконтр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Необыкновенный язык наш есть еще тайна. В нем все тоны и оттенки, все переходы звуков от самых твердых до самых нежных и мягких..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.В.Гог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Елена\Desktop\урок\гоголь.jpeg"/>
          <p:cNvPicPr/>
          <p:nvPr/>
        </p:nvPicPr>
        <p:blipFill>
          <a:blip r:embed="rId1"/>
          <a:stretch/>
        </p:blipFill>
        <p:spPr>
          <a:xfrm>
            <a:off x="692280" y="1484280"/>
            <a:ext cx="2484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 Особенности звуков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. Предмет изучения фоне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. Цели изучения фонетики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4. Назначение транскрип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или-были КОТ и КИ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 - огромный, просто страшны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был маленький, домаш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мяукал. КОТ пыхте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купаться не хотел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огня воды боял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 всегда над ним смеялся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ремя так проводит КИТ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чью бродит, днем храпи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 плывет по океану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из блюдца ест сметану. Лов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мышей на суш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Users\Елена\Desktop\урок\кот.jpeg"/>
          <p:cNvPicPr/>
          <p:nvPr/>
        </p:nvPicPr>
        <p:blipFill>
          <a:blip r:embed="rId1"/>
          <a:stretch/>
        </p:blipFill>
        <p:spPr>
          <a:xfrm>
            <a:off x="4932360" y="1758960"/>
            <a:ext cx="35272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 на море бьет баклуши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царапался, кусался..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брый КОТ ни с кем не дрался..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Т любил залезть повыш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чью песни пел на крыш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зовешь его: «Кис, кис!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охотно спрыгнет вниз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бирались целый год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то тут КИ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где тут КО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суждали, не спеши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в конце концов решили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В этой сказке нет поряд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ней ошибка, опечат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то-то, против всяких правил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казке буквы перестави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правил «КИТ» на «КОТ»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КОТ» на «КИТ», наоборот!»  Б. Заходе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Елена\Desktop\урок\кит.jpg"/>
          <p:cNvPicPr/>
          <p:nvPr/>
        </p:nvPicPr>
        <p:blipFill>
          <a:blip r:embed="rId1"/>
          <a:stretch/>
        </p:blipFill>
        <p:spPr>
          <a:xfrm>
            <a:off x="4208400" y="1628640"/>
            <a:ext cx="4597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Елена\Desktop\урок\кит.jpg"/>
          <p:cNvPicPr/>
          <p:nvPr/>
        </p:nvPicPr>
        <p:blipFill>
          <a:blip r:embed="rId1"/>
          <a:stretch/>
        </p:blipFill>
        <p:spPr>
          <a:xfrm>
            <a:off x="5940360" y="1989000"/>
            <a:ext cx="2138400" cy="144000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7" descr=""/>
          <p:cNvPicPr/>
          <p:nvPr/>
        </p:nvPicPr>
        <p:blipFill>
          <a:blip r:embed="rId2"/>
          <a:stretch/>
        </p:blipFill>
        <p:spPr>
          <a:xfrm>
            <a:off x="5211720" y="3481560"/>
            <a:ext cx="3255840" cy="144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:\Users\Елена\Desktop\урок\кот.jpeg"/>
          <p:cNvPicPr/>
          <p:nvPr/>
        </p:nvPicPr>
        <p:blipFill>
          <a:blip r:embed="rId3"/>
          <a:stretch/>
        </p:blipFill>
        <p:spPr>
          <a:xfrm>
            <a:off x="1681200" y="2928960"/>
            <a:ext cx="1590480" cy="186696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8" descr=""/>
          <p:cNvPicPr/>
          <p:nvPr/>
        </p:nvPicPr>
        <p:blipFill>
          <a:blip r:embed="rId4"/>
          <a:stretch/>
        </p:blipFill>
        <p:spPr>
          <a:xfrm>
            <a:off x="1542960" y="1536840"/>
            <a:ext cx="3821040" cy="144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а  «Звуки реч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Елена\Desktop\урок\таблица звуки речи.jp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е и последнее задания после текста - пересказ по частям и заучивание непарных согласных звуков. § 3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вариант — упр. 202 (задание 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вариант — упр. 202 (задание 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вариант — упр. 20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20:23Z</dcterms:created>
  <dc:creator>Федотова Виктория Александровна</dc:creator>
  <dc:description/>
  <dc:language>en-US</dc:language>
  <cp:lastModifiedBy>Елена</cp:lastModifiedBy>
  <dcterms:modified xsi:type="dcterms:W3CDTF">2012-07-11T06:40:19Z</dcterms:modified>
  <cp:revision>9</cp:revision>
  <dc:subject/>
  <dc:title>Слайд 1</dc:title>
</cp:coreProperties>
</file>