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CAF-569B-4B11-8946-5B471153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792-9606-44CE-B032-3D5CAA9B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63B-C2B1-45C2-B1CB-E24A0597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D65-5EBA-45B1-B11E-B9701228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6D75-D159-4BF4-8D32-FA64DE02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A76F-A4C0-42CA-AB40-0D533C66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4FE0-01BD-4783-B094-FAAD21E2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99BC-975B-43D7-8D02-8F0B1F5B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3400-42FA-4712-A70F-42B283E9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6A51-BF97-400F-852F-C2E20180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1B45-BBEA-4D27-B31E-20B37C47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222-D994-4E1A-BC14-126DFE85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CA07-32CE-43AF-BC8A-5B8D89F3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FD26-B769-4586-B445-82A780A8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2148-2E3B-4F1A-AB7E-889457C7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C812-7BBF-468C-A273-F3FB93E1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1A47-2DF3-4C80-B84C-D70AF9A3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4D127-0921-4671-9B1F-73FECCC4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B3B4E-8AB3-4361-8D30-E16FF2B2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513F-3C86-47E8-A358-7CE0D7CB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9AD80-EE9A-4A19-86BA-CB5D5BE0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57EB2-7C7B-4D94-BABB-B6E0A56C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B3B-D459-4C47-8D82-8502637E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556C8-607C-4087-9F11-A361A571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A6227-E429-4EA6-B41F-7A70FEE5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FB83-F8E7-4888-9C66-CAB05602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26A27-7EE3-44E2-9D21-FCC40D3A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8E26A-7C1C-4CD4-B9DA-CFF3CEA9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2C5B3-A900-4467-BE1B-21398385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86970-3EF3-45DF-88B1-913B0F3E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FBA-C2B8-4441-8F49-9D774785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C5C-8DD4-4E1C-B47A-52102AF8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F8B-DD2A-4AE0-9BC9-6987738B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5A3-9F75-4064-848D-4A819CF3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E7C-9686-4BC9-A2C2-FD4DA0AB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829-77E2-4D95-A896-5610AEFC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7F76-5929-4C8E-A0FF-5DD48A3B77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6402-577F-44ED-A55F-5451FA3AAA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4B44-D793-45CF-BF14-0BCAA3FB9C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Фонетика как раздел лингвистики. Звуки реч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700000" y="3573000"/>
            <a:ext cx="507204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Урок русского языка и литературы в 5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Подготовили  Еременко Елена Кады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Евсина Оксана Фёдо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учителя  МАОУ СОШ №2 г.Курганинска  Краснодарского кр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39640" y="1268280"/>
            <a:ext cx="860436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восстановить в памяти учащихся основные сведения о фонетике и системе единиц, изучаемых в рамках этого разде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дать понятие о классификации зву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формировать умение классифицировать 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предмет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учить  слушать учителя и друг дру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обучать смысловому чтен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развивать умение работать индивидуально и в групп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развивать умение последовательно излагать свои мысли, используя литературный язык и терминолог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закрепить умение обобщать  изученный учебный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развивать умение работать с различными словарями и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воспитывать любовь к родному языку и  художественному сло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рививать языковое чут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формировать самостоятельную дисциплину при выполнении заданий, навыки контроля и самоконтро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Необыкновенный язык наш есть еще тайна. В нем все тоны и оттенки, все переходы звуков от самых твердых до самых нежных и мягких..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.В.Гог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Елена\Desktop\урок\гоголь.jpeg"/>
          <p:cNvPicPr/>
          <p:nvPr/>
        </p:nvPicPr>
        <p:blipFill>
          <a:blip r:embed="rId1"/>
          <a:stretch/>
        </p:blipFill>
        <p:spPr>
          <a:xfrm>
            <a:off x="692280" y="1484280"/>
            <a:ext cx="2484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. Особенности звуков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. Предмет изучения фоне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. Цели изучения фонетики в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4. Назначение транскрип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Жили-были КОТ и КИ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 - огромный, просто страшный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Т был маленький, домаш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Т мяукал. КОТ пыхте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Т купаться не хотел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огня воды боялс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 всегда над ним смеялся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ремя так проводит КИТ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чью бродит, днем храпи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 плывет по океану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Т из блюдца ест сметану. Лови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Т мышей на суш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C:\Users\Елена\Desktop\урок\кот.jpeg"/>
          <p:cNvPicPr/>
          <p:nvPr/>
        </p:nvPicPr>
        <p:blipFill>
          <a:blip r:embed="rId1"/>
          <a:stretch/>
        </p:blipFill>
        <p:spPr>
          <a:xfrm>
            <a:off x="4932360" y="1758960"/>
            <a:ext cx="352728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60020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 на море бьет баклуши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Т царапался, кусался..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брый КОТ ни с кем не дрался..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Т любил залезть повыше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чью песни пел на крыш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зовешь его: «Кис, кис!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охотно спрыгнет вниз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бирались целый год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то тут КИ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где тут КО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суждали, не спешил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в конце концов решили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В этой сказке нет порядк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ней ошибка, опечат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то-то, против всяких правил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казке буквы перестави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правил «КИТ» на «КОТ»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КОТ» на «КИТ», наоборот!»  Б. Заходе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Елена\Desktop\урок\кит.jpg"/>
          <p:cNvPicPr/>
          <p:nvPr/>
        </p:nvPicPr>
        <p:blipFill>
          <a:blip r:embed="rId1"/>
          <a:stretch/>
        </p:blipFill>
        <p:spPr>
          <a:xfrm>
            <a:off x="4208400" y="1628640"/>
            <a:ext cx="45975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Users\Елена\Desktop\урок\кит.jpg"/>
          <p:cNvPicPr/>
          <p:nvPr/>
        </p:nvPicPr>
        <p:blipFill>
          <a:blip r:embed="rId1"/>
          <a:stretch/>
        </p:blipFill>
        <p:spPr>
          <a:xfrm>
            <a:off x="5940360" y="1989000"/>
            <a:ext cx="2138400" cy="144000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7" descr=""/>
          <p:cNvPicPr/>
          <p:nvPr/>
        </p:nvPicPr>
        <p:blipFill>
          <a:blip r:embed="rId2"/>
          <a:stretch/>
        </p:blipFill>
        <p:spPr>
          <a:xfrm>
            <a:off x="5211720" y="3481560"/>
            <a:ext cx="3255840" cy="144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:\Users\Елена\Desktop\урок\кот.jpeg"/>
          <p:cNvPicPr/>
          <p:nvPr/>
        </p:nvPicPr>
        <p:blipFill>
          <a:blip r:embed="rId3"/>
          <a:stretch/>
        </p:blipFill>
        <p:spPr>
          <a:xfrm>
            <a:off x="1681200" y="2928960"/>
            <a:ext cx="1590480" cy="186696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8" descr=""/>
          <p:cNvPicPr/>
          <p:nvPr/>
        </p:nvPicPr>
        <p:blipFill>
          <a:blip r:embed="rId4"/>
          <a:stretch/>
        </p:blipFill>
        <p:spPr>
          <a:xfrm>
            <a:off x="1542960" y="1536840"/>
            <a:ext cx="3821040" cy="144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а  «Звуки реч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C:\Users\Елена\Desktop\урок\таблица звуки речи.jpg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е и последнее задания после текста - пересказ по частям и заучивание непарных согласных звуков. § 3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вариант — упр. 202 (задание 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вариант — упр. 202 (задание 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вариант — упр. 20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20:23Z</dcterms:created>
  <dc:creator>Федотова Виктория Александровна</dc:creator>
  <dc:description/>
  <dc:language>en-US</dc:language>
  <cp:lastModifiedBy>Елена</cp:lastModifiedBy>
  <dcterms:modified xsi:type="dcterms:W3CDTF">2012-07-11T06:40:19Z</dcterms:modified>
  <cp:revision>9</cp:revision>
  <dc:subject/>
  <dc:title>Слайд 1</dc:title>
</cp:coreProperties>
</file>