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37C-1FD4-4C2E-97C5-FC387EB8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767-ADB7-4AB7-B957-8DA3C53C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4EE-0C17-463C-9399-C4C81EAB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87C-E240-45EE-9BEF-B9FAF2F2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B2C-864C-4999-AAEE-0D86058A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F26-64AE-4FDE-8CF6-4001DD52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728-FD12-4FF1-B53B-F10EC97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AB9-76C1-4F3D-8819-A4932FC8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159-805F-44A2-94F8-633F1C2A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CFF-A6EA-46F4-B1D9-1210943C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62E-2784-4C4D-9A4C-EC859A84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E6A-1793-4595-B777-4249C340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39BE-B143-41F2-8364-D923FBC83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924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1440" y="29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g qu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1989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2360" y="1916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1413000"/>
            <a:ext cx="42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e / she /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n’t +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/ we / you /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n’t +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400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5440" y="4076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24200" y="3808440"/>
            <a:ext cx="47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+ he / she /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+ I / we / you /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692280"/>
            <a:ext cx="287280" cy="511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3200 h 5113080"/>
              <a:gd name="textAreaBottom" fmla="*/ 4979880 h 51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8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Я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907920"/>
            <a:ext cx="12938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10526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длежа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640" y="177336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916280"/>
            <a:ext cx="46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 (основное действ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56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2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86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08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084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5084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2637000"/>
            <a:ext cx="78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sentence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ительное(повествовательное)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32320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sentence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ое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6760" y="3881520"/>
            <a:ext cx="657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04920" y="3881520"/>
            <a:ext cx="75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neral)  question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 вопрос « Да / 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436572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question (wha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)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ьный вопрос (что / когда / почему / гд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72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522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 questio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тернативный вопрос ( выбор: «или/или 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68560" y="5897520"/>
            <a:ext cx="75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-question?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ительный вопрос ( «не так 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260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8900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ntence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верждени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4869000"/>
            <a:ext cx="2124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/she/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/We/You/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20000" y="5589720"/>
            <a:ext cx="33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484280"/>
            <a:ext cx="6983280" cy="27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have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е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have/has - h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resent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настоящем времен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ave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,We,you,th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has -   (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e / She / 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5587920"/>
            <a:ext cx="4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12000" y="189000"/>
            <a:ext cx="93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6093000"/>
            <a:ext cx="865080" cy="3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5229360"/>
            <a:ext cx="2374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ч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ready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9120" y="92880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изош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давно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/ ALRE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43657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составления утвердительного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260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3120" y="160200"/>
            <a:ext cx="64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ntence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вер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134136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as alre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a boo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25653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just read a magazin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3789360"/>
            <a:ext cx="3197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a bo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ha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189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entence.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ицание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89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628640"/>
            <a:ext cx="2162160" cy="158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/she/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We/You/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916280"/>
            <a:ext cx="4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1413000"/>
            <a:ext cx="1081080" cy="165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916280"/>
            <a:ext cx="10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236000" y="1916280"/>
            <a:ext cx="33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5440" y="1916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1773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19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2349360"/>
            <a:ext cx="9144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2205000"/>
            <a:ext cx="3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22100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2276280" cy="1733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87640" y="4653000"/>
            <a:ext cx="54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ten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 еще 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06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06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33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333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/N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) question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воп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А/НЕТ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51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Ha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ead a boo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No, I have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Have you writ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Yes , I hav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3889440" cy="1992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77080" y="206064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reading a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645000"/>
            <a:ext cx="8785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ES/NO ques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+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+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( Subject +has/ha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, (Subject+ has/have not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4149720"/>
            <a:ext cx="8713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al question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       have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 +   has       +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+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889440" cy="199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3120" y="1073160"/>
            <a:ext cx="43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6640"/>
            <a:ext cx="4844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Because he likes reading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ause h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er asked him to read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the book is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258444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321300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s just  read an interesting book 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89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3840" y="28116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question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вопро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333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6920" y="404640"/>
            <a:ext cx="70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ternative question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ьтернативный вопро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4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9840" y="1504800"/>
            <a:ext cx="27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rea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56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2637000"/>
            <a:ext cx="729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read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magas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 am read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907920"/>
            <a:ext cx="3384720" cy="1992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530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4000" y="5445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5392800"/>
            <a:ext cx="714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4960800"/>
            <a:ext cx="547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  + Subject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333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510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g question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делительны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484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55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1557360"/>
            <a:ext cx="554040" cy="627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76360" y="2637000"/>
          <a:ext cx="6985080" cy="2517480"/>
        </p:xfrm>
        <a:graphic>
          <a:graphicData uri="http://schemas.openxmlformats.org/drawingml/2006/table">
            <a:tbl>
              <a:tblPr/>
              <a:tblGrid>
                <a:gridCol w="4032360"/>
                <a:gridCol w="29527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written,hasn’t h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тверждаем утвержд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not read,has h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he hasn’t. 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тверждаем отрица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300720" y="162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not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56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2159280" cy="1368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90560" y="4437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5480" y="4508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2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32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8000" y="328464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280" y="4456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4164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1640" y="4600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6:28:17Z</dcterms:created>
  <dc:creator>admin</dc:creator>
  <dc:description/>
  <dc:language>en-US</dc:language>
  <cp:lastModifiedBy>admin</cp:lastModifiedBy>
  <dcterms:modified xsi:type="dcterms:W3CDTF">2012-09-23T17:21:50Z</dcterms:modified>
  <cp:revision>13</cp:revision>
  <dc:subject/>
  <dc:title>Слайд 1</dc:title>
</cp:coreProperties>
</file>