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516-2900-4AE4-9572-E7C6117F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3A0-5796-4E55-9E9C-8F2BC252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DA3-1F92-4464-A0A0-99DAFC82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8E8-B6E0-4C85-BF77-5CD5C02A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71C-61E3-4E00-AAAD-17B61517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2EE-B94C-4A97-9EEF-143CF274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CBF-B286-4F74-B94E-9A2A6991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6E8-7D94-47A2-B4F9-AC4D93B8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010-10E5-48B3-A7C0-9BCAED8B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AE0-340D-4C6A-A53A-C301140A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8F6-C417-456A-B725-BFC4EA1B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DF3-FC11-466E-BE4C-57B43646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107E-AD34-4B52-A4D4-11DB1FCCC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292428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1440" y="29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g ques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1989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2360" y="1916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1413000"/>
            <a:ext cx="42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e / she / 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n’t + Su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/ we / you /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n’t + Su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63640" y="4005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5440" y="4076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24200" y="3808440"/>
            <a:ext cx="47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+ he / she /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+ I / we / you /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a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Su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692280"/>
            <a:ext cx="287280" cy="511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33200 h 5113080"/>
              <a:gd name="textAreaBottom" fmla="*/ 4979880 h 51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89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ЗНАЧЕНИЯ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907920"/>
            <a:ext cx="12938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1052640"/>
            <a:ext cx="41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длежа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71640" y="177336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916280"/>
            <a:ext cx="46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 (основное действ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565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213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860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508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5084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5084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805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2637000"/>
            <a:ext cx="78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sentence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ительное(повествовательное)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32320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ve sentence -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ое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6760" y="3881520"/>
            <a:ext cx="657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04920" y="3881520"/>
            <a:ext cx="75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neral)  question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й вопрос « Да / Н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436572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question (wha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)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ьный вопрос (что / когда / почему / где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6720" y="522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5229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 questio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тернативный вопрос ( выбор: «или/или 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68560" y="5897520"/>
            <a:ext cx="75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-question?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ительный вопрос ( «не так 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26028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189000"/>
            <a:ext cx="66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entence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верждени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4869000"/>
            <a:ext cx="21240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jec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e/she/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/We/You/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020000" y="5589720"/>
            <a:ext cx="33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484280"/>
            <a:ext cx="6983280" cy="27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have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е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have/has - h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Present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настоящем времен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ave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I,We,you,th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has -   (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e / She / 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5587920"/>
            <a:ext cx="4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12000" y="189000"/>
            <a:ext cx="93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0360" y="6093000"/>
            <a:ext cx="865080" cy="3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5229360"/>
            <a:ext cx="237492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ч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ready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9120" y="92880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изош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давно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/ ALRE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43657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составления утвердительного пред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26028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3120" y="160200"/>
            <a:ext cx="64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entence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вер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134136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as alre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a book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256536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just read a magazin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3789360"/>
            <a:ext cx="31971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a boo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 has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189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sentence.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ицание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89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1628640"/>
            <a:ext cx="2162160" cy="158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/she/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We/You/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1916280"/>
            <a:ext cx="4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1413000"/>
            <a:ext cx="1081080" cy="165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1916280"/>
            <a:ext cx="10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236000" y="1916280"/>
            <a:ext cx="33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5440" y="1916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1773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19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2349360"/>
            <a:ext cx="9144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2205000"/>
            <a:ext cx="3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422100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2276280" cy="1733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987640" y="4653000"/>
            <a:ext cx="54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ritten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 еще 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060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060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33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33336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/N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) question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й воп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А/НЕТ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51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Hav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read a boo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No, I have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Have you writ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Yes , I hav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03640" y="836640"/>
            <a:ext cx="3889440" cy="1992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77080" y="206064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T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reading a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645000"/>
            <a:ext cx="8785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ES/NO ques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+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j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+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( Subject +has/ha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, (Subject+ has/have not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4149720"/>
            <a:ext cx="8713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al question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       have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 +   has       +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j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+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889440" cy="199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3120" y="1073160"/>
            <a:ext cx="43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36640"/>
            <a:ext cx="4844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he r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he rea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he rea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he rea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Because he likes reading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cause hi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cher asked him to read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the book is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258444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321300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has just  read an interesting book a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89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3840" y="281160"/>
            <a:ext cx="77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question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вопро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333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6920" y="404640"/>
            <a:ext cx="70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ternative question-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льтернативный вопро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413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39840" y="1504800"/>
            <a:ext cx="27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you rea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2565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2637000"/>
            <a:ext cx="729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ri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 a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you read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magas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 am read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80000" y="907920"/>
            <a:ext cx="3384720" cy="1992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5300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4000" y="5445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55840" y="5392800"/>
            <a:ext cx="714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4960800"/>
            <a:ext cx="5472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  + Subject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333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5100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g question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делительны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48428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55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1557360"/>
            <a:ext cx="554040" cy="627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76360" y="2637000"/>
          <a:ext cx="6985080" cy="2517480"/>
        </p:xfrm>
        <a:graphic>
          <a:graphicData uri="http://schemas.openxmlformats.org/drawingml/2006/table">
            <a:tbl>
              <a:tblPr/>
              <a:tblGrid>
                <a:gridCol w="4032360"/>
                <a:gridCol w="29527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 written,hasn’t h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тверждаем утвержд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 not read,has h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he hasn’t. 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тверждаем отрица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6300720" y="162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not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56536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92360" y="1052640"/>
            <a:ext cx="2159280" cy="1368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90560" y="4437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5480" y="450864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3213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3213000"/>
            <a:ext cx="554040" cy="55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8000" y="328464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9280" y="4456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41640" y="33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1640" y="4600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6:28:17Z</dcterms:created>
  <dc:creator>admin</dc:creator>
  <dc:description/>
  <dc:language>en-US</dc:language>
  <cp:lastModifiedBy>admin</cp:lastModifiedBy>
  <dcterms:modified xsi:type="dcterms:W3CDTF">2012-09-23T17:21:50Z</dcterms:modified>
  <cp:revision>13</cp:revision>
  <dc:subject/>
  <dc:title>Слайд 1</dc:title>
</cp:coreProperties>
</file>