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941-8B9F-40F8-89AB-C59FEF4A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A70-3F8B-4661-84AE-3697255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9F-E036-41ED-A0E9-937BF4C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FF7-FC72-497E-BFD1-CA5975A7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B4F-62C8-4312-BE84-CD7255C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E0E-81A8-4C15-A542-7D1A7234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ED9-7DFE-414C-9748-454AA6BF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19F-F6F2-4714-B746-55D9213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F49-16DF-4BAA-B0EB-630E0F0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05C-8319-4E63-B53C-6A4B9DF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EC7-34C4-4C36-B54E-AD2CDF9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AF9-2E88-44D2-8C43-C5EE837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C02F-10AB-4F9A-8195-171EBF971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42a"/>
                </a:solidFill>
                <a:latin typeface="Comic Sans MS"/>
              </a:rPr>
              <a:t>Психологическое сопровождение учебного процесса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55542a"/>
                </a:solidFill>
                <a:latin typeface="Comic Sans MS"/>
                <a:ea typeface="宋体"/>
              </a:rPr>
              <a:t>«Школьная психологическая служба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40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boys26"/>
          <p:cNvPicPr/>
          <p:nvPr/>
        </p:nvPicPr>
        <p:blipFill>
          <a:blip r:embed="rId1"/>
          <a:stretch/>
        </p:blipFill>
        <p:spPr>
          <a:xfrm>
            <a:off x="1692360" y="3933720"/>
            <a:ext cx="944640" cy="292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olls25"/>
          <p:cNvPicPr/>
          <p:nvPr/>
        </p:nvPicPr>
        <p:blipFill>
          <a:blip r:embed="rId2"/>
          <a:stretch/>
        </p:blipFill>
        <p:spPr>
          <a:xfrm>
            <a:off x="684360" y="4005360"/>
            <a:ext cx="1035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я 4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о-педагогическая и медико-социальная помощь обучающимся, осваивающим основные общеобразовательные програм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целях оказания помощи обучающимся, испытывающим трудности в освоении основных общеобразовательных программ, и организациям, осуществляющим образовательную деятельность, в которых они обучаются, для осуществления индивидуально ориентированной педагогической, психологической, социальной и медицинской помощи таким обучающимся органами государственной власти субъектов Российской Федерации и органами местного самоуправления создаются центры психолого-педагогической и медико-социальн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748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                                </a:t>
            </a: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Взаимодействуя со всеми участни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образовательного процесса, </a:t>
            </a:r>
            <a:r>
              <a:rPr b="1" lang="ru-RU" sz="3200" spc="-1" strike="noStrike">
                <a:solidFill>
                  <a:srgbClr val="55542a"/>
                </a:solidFill>
                <a:latin typeface="Comic Sans MS"/>
              </a:rPr>
              <a:t>психологиче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42a"/>
                </a:solidFill>
                <a:latin typeface="Comic Sans MS"/>
              </a:rPr>
              <a:t>служба  школы</a:t>
            </a: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 играет большую роль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формировании личности ребенка и культуры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психического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Inkv\Desktop\5 п фото и видео\1.09.11\IMG_1362.jpg"/>
          <p:cNvPicPr/>
          <p:nvPr/>
        </p:nvPicPr>
        <p:blipFill>
          <a:blip r:embed="rId1"/>
          <a:stretch/>
        </p:blipFill>
        <p:spPr>
          <a:xfrm>
            <a:off x="684360" y="404640"/>
            <a:ext cx="31082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3"/>
          <p:cNvSpPr/>
          <p:nvPr/>
        </p:nvSpPr>
        <p:spPr>
          <a:xfrm>
            <a:off x="2610000" y="2492280"/>
            <a:ext cx="318600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Центр психолого-педагогической  и  медико- социальн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право 4"/>
          <p:cNvSpPr/>
          <p:nvPr/>
        </p:nvSpPr>
        <p:spPr>
          <a:xfrm>
            <a:off x="5786280" y="3359160"/>
            <a:ext cx="863640" cy="504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лево 6"/>
          <p:cNvSpPr/>
          <p:nvPr/>
        </p:nvSpPr>
        <p:spPr>
          <a:xfrm>
            <a:off x="1790640" y="3359160"/>
            <a:ext cx="863640" cy="5047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верх 7"/>
          <p:cNvSpPr/>
          <p:nvPr/>
        </p:nvSpPr>
        <p:spPr>
          <a:xfrm>
            <a:off x="4086360" y="1773360"/>
            <a:ext cx="323640" cy="71892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низ 8"/>
          <p:cNvSpPr/>
          <p:nvPr/>
        </p:nvSpPr>
        <p:spPr>
          <a:xfrm>
            <a:off x="4049640" y="4532400"/>
            <a:ext cx="397080" cy="7189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83356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6649920" y="31352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2584440" y="549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дефект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50920" y="3125880"/>
            <a:ext cx="187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логоп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82520" y="1058760"/>
            <a:ext cx="718344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55640" y="404640"/>
            <a:ext cx="7182000" cy="387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ШКОЛЬНАЯ ПСИХОЛОГИЧЕСКАЯ СЛУЖ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82520" y="2543040"/>
            <a:ext cx="2052720" cy="1148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оздание оптимальных условий обучения и развития каждого ребе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79280" y="3645000"/>
            <a:ext cx="2051280" cy="1148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сихологическое сопровождение всех участников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9280" y="5013360"/>
            <a:ext cx="2051280" cy="1574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ирование ценности здоровья (физического, психического, социального) у подрастающего поко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63800" y="2049480"/>
            <a:ext cx="439560" cy="493560"/>
          </a:xfrm>
          <a:prstGeom prst="downArrow">
            <a:avLst>
              <a:gd name="adj1" fmla="val 50000"/>
              <a:gd name="adj2" fmla="val 28071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6046920" y="2049480"/>
            <a:ext cx="441360" cy="493560"/>
          </a:xfrm>
          <a:prstGeom prst="downArrow">
            <a:avLst>
              <a:gd name="adj1" fmla="val 50000"/>
              <a:gd name="adj2" fmla="val 27957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019840" y="1455840"/>
            <a:ext cx="2344680" cy="721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ОСНОВНЫЕ НАПРАВЛЕНИЯ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0"/>
          <p:cNvSpPr/>
          <p:nvPr/>
        </p:nvSpPr>
        <p:spPr>
          <a:xfrm>
            <a:off x="2529000" y="2543040"/>
            <a:ext cx="2490840" cy="69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68560" y="2643120"/>
            <a:ext cx="1611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МЛАДША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2529000" y="3236760"/>
            <a:ext cx="2490840" cy="69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968560" y="333540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СРЕДНЯ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4"/>
          <p:cNvSpPr/>
          <p:nvPr/>
        </p:nvSpPr>
        <p:spPr>
          <a:xfrm>
            <a:off x="2529000" y="3929040"/>
            <a:ext cx="2490840" cy="69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968560" y="4027320"/>
            <a:ext cx="1609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СТАРША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Oval 16"/>
          <p:cNvGrpSpPr/>
          <p:nvPr/>
        </p:nvGrpSpPr>
        <p:grpSpPr>
          <a:xfrm>
            <a:off x="2444760" y="4932360"/>
            <a:ext cx="2577960" cy="785880"/>
            <a:chOff x="2444760" y="4932360"/>
            <a:chExt cx="2577960" cy="785880"/>
          </a:xfrm>
        </p:grpSpPr>
        <p:pic>
          <p:nvPicPr>
            <p:cNvPr id="90" name="Oval 16" descr=""/>
            <p:cNvPicPr/>
            <p:nvPr/>
          </p:nvPicPr>
          <p:blipFill>
            <a:blip r:embed="rId1"/>
            <a:stretch/>
          </p:blipFill>
          <p:spPr>
            <a:xfrm>
              <a:off x="2444760" y="4932360"/>
              <a:ext cx="2577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894040" y="5119560"/>
              <a:ext cx="1760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2968560" y="511812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ПЕДАГ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Oval 18"/>
          <p:cNvGrpSpPr/>
          <p:nvPr/>
        </p:nvGrpSpPr>
        <p:grpSpPr>
          <a:xfrm>
            <a:off x="2444760" y="5724360"/>
            <a:ext cx="2577960" cy="785880"/>
            <a:chOff x="2444760" y="5724360"/>
            <a:chExt cx="2577960" cy="785880"/>
          </a:xfrm>
        </p:grpSpPr>
        <p:pic>
          <p:nvPicPr>
            <p:cNvPr id="94" name="Oval 18" descr=""/>
            <p:cNvPicPr/>
            <p:nvPr/>
          </p:nvPicPr>
          <p:blipFill>
            <a:blip r:embed="rId2"/>
            <a:stretch/>
          </p:blipFill>
          <p:spPr>
            <a:xfrm>
              <a:off x="2444760" y="5724360"/>
              <a:ext cx="2577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894040" y="5910120"/>
              <a:ext cx="1760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19"/>
          <p:cNvSpPr/>
          <p:nvPr/>
        </p:nvSpPr>
        <p:spPr>
          <a:xfrm>
            <a:off x="2968560" y="590868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РОДИТЕЛ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2382840" y="2840040"/>
            <a:ext cx="0" cy="3365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13240" y="2598840"/>
            <a:ext cx="205272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иагнос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Монитор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5313240" y="3335400"/>
            <a:ext cx="2051280" cy="508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5313240" y="412740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Консуль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5313240" y="497376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5313240" y="587700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5165640" y="2840040"/>
            <a:ext cx="1800" cy="3365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2382840" y="62056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8"/>
          <p:cNvSpPr/>
          <p:nvPr/>
        </p:nvSpPr>
        <p:spPr>
          <a:xfrm flipH="1">
            <a:off x="5019480" y="620568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29"/>
          <p:cNvSpPr/>
          <p:nvPr/>
        </p:nvSpPr>
        <p:spPr>
          <a:xfrm flipH="1">
            <a:off x="5019480" y="531504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30"/>
          <p:cNvSpPr/>
          <p:nvPr/>
        </p:nvSpPr>
        <p:spPr>
          <a:xfrm>
            <a:off x="2382840" y="53560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2382840" y="42688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2"/>
          <p:cNvSpPr/>
          <p:nvPr/>
        </p:nvSpPr>
        <p:spPr>
          <a:xfrm flipH="1">
            <a:off x="5019480" y="432432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2382840" y="353376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34"/>
          <p:cNvSpPr/>
          <p:nvPr/>
        </p:nvSpPr>
        <p:spPr>
          <a:xfrm flipH="1">
            <a:off x="5019480" y="353376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35"/>
          <p:cNvSpPr/>
          <p:nvPr/>
        </p:nvSpPr>
        <p:spPr>
          <a:xfrm>
            <a:off x="2382840" y="284004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5019480" y="284004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37"/>
          <p:cNvSpPr/>
          <p:nvPr/>
        </p:nvSpPr>
        <p:spPr>
          <a:xfrm>
            <a:off x="2235240" y="313704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2235240" y="4621320"/>
            <a:ext cx="14760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2235240" y="5808600"/>
            <a:ext cx="147600" cy="1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40"/>
          <p:cNvSpPr/>
          <p:nvPr/>
        </p:nvSpPr>
        <p:spPr>
          <a:xfrm flipH="1">
            <a:off x="5165640" y="2840040"/>
            <a:ext cx="14760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1"/>
          <p:cNvSpPr/>
          <p:nvPr/>
        </p:nvSpPr>
        <p:spPr>
          <a:xfrm>
            <a:off x="5165640" y="353376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2"/>
          <p:cNvSpPr/>
          <p:nvPr/>
        </p:nvSpPr>
        <p:spPr>
          <a:xfrm>
            <a:off x="5165640" y="432432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5165640" y="531504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5165640" y="620568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1346040" y="12555360"/>
            <a:ext cx="84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-647640" y="-56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64764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436680" y="931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-436680" y="1255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-647640" y="1255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1"/>
          <p:cNvSpPr/>
          <p:nvPr/>
        </p:nvSpPr>
        <p:spPr>
          <a:xfrm>
            <a:off x="182520" y="1455840"/>
            <a:ext cx="2346480" cy="508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2" descr="P9120115"/>
          <p:cNvPicPr/>
          <p:nvPr/>
        </p:nvPicPr>
        <p:blipFill>
          <a:blip r:embed="rId3"/>
          <a:stretch/>
        </p:blipFill>
        <p:spPr>
          <a:xfrm>
            <a:off x="174600" y="15876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3" descr="3"/>
          <p:cNvPicPr/>
          <p:nvPr/>
        </p:nvPicPr>
        <p:blipFill>
          <a:blip r:embed="rId4"/>
          <a:stretch/>
        </p:blipFill>
        <p:spPr>
          <a:xfrm>
            <a:off x="7677000" y="4835520"/>
            <a:ext cx="117000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828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«Развивающие часы с учащимися 1 и 4 -х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«Тропинка к своему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«Формирование навыков общения в коллектив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: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Развивать навыки межличност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Формировать умение общаться в больших   и  малых групп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Помочь осознать себя, как члена коллекти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Учить детей избегать конфликтов при межличностном  взаимодейств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Факультативные занятия с учащимися  7 класс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«Тропинка к своему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Самопозн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Развитие  умения отстаивать собственную точку зрения, умение говорить «н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Помочь познать себя, как субъекта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Научить конструктивным способам взаимодей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на охватывает всю человеческую жизнь до самого основания, овладевает ее и существенным образом определяет бытийный склад человека, а также способ понимания бытия челове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Е. Финка «Основные феномены человеческого бытия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Занятия с учащимися 9-11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Психологическая подготовка  к ГИА и ЕГ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 Научить ребенка методам саморегуляции в стрессовой ситу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 Научить методам повышения интеллектуальной активности, применяя определенные упраж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 Обратить внимание учащегося на особенности питания в процессе подготовки к экзамен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 Организация работы с родителями через групповые и 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Занятия с учащимися 8-9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Самоопределение в выборе профе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В 9-х классах  - элективный крс «Я и моя професс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 Выявить профессиональные интересны и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 Знакомство с современным миром професс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 Освещение ошибок в выборе проф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Программа дополнена тренинговыми упражнениями, видеофильмами о различных професс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50920" y="549360"/>
            <a:ext cx="87138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шей школе создано здоровьеформирующее пространство, позволяющее осуществля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уры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мы понимае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остную систему знаний, умений, навыков, а также опыт самостоятельной деятельности и личной ответственности обучающихся за свое здоровье и здоровье своих близки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5331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2a585c"/>
                </a:solidFill>
                <a:latin typeface="Comic Sans MS"/>
              </a:rPr>
              <a:t>Психологическое просвещени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0574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a5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585c"/>
                </a:solidFill>
                <a:latin typeface="Comic Sans MS"/>
              </a:rPr>
              <a:t>Классные часы и тематические занятия для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ЕГЭ Ольга"/>
          <p:cNvPicPr/>
          <p:nvPr/>
        </p:nvPicPr>
        <p:blipFill>
          <a:blip r:embed="rId1"/>
          <a:stretch/>
        </p:blipFill>
        <p:spPr>
          <a:xfrm>
            <a:off x="539640" y="256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Сложность выбора профессии"/>
          <p:cNvPicPr/>
          <p:nvPr/>
        </p:nvPicPr>
        <p:blipFill>
          <a:blip r:embed="rId2"/>
          <a:stretch/>
        </p:blipFill>
        <p:spPr>
          <a:xfrm>
            <a:off x="2987640" y="3357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Профессиональное самоопределение"/>
          <p:cNvPicPr/>
          <p:nvPr/>
        </p:nvPicPr>
        <p:blipFill>
          <a:blip r:embed="rId3"/>
          <a:stretch/>
        </p:blipFill>
        <p:spPr>
          <a:xfrm>
            <a:off x="565164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Школа , дача 025"/>
          <p:cNvPicPr/>
          <p:nvPr/>
        </p:nvPicPr>
        <p:blipFill>
          <a:blip r:embed="rId4"/>
          <a:stretch/>
        </p:blipFill>
        <p:spPr>
          <a:xfrm>
            <a:off x="468360" y="49896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SL372121"/>
          <p:cNvPicPr/>
          <p:nvPr/>
        </p:nvPicPr>
        <p:blipFill>
          <a:blip r:embed="rId5"/>
          <a:stretch/>
        </p:blipFill>
        <p:spPr>
          <a:xfrm>
            <a:off x="6443640" y="249228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1434960"/>
            <a:ext cx="8362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сихологического сопровождения является создание социально – психологических условий для развития личности учащихся и их успеш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опровождать - значит идти, ехать вместе с кем-либо в качестве спутника или провожающе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Толковом словаре русского язык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д редакцией Д. Ушаков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35593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     Систематическое отслеживание психолого-педагогического статуса ребёнка и динамики его психического развития в процессе школьного обуч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     Создание социально-психологических условий для развития личности ребенка и его успешного обуч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     Создание социально-психологических условий для оказания помощи детям, имеющим проблемы в психологическом развитии и обуче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Мониторинговые исследования развития УУД, готовности к ГИА и ЕГЭ, профориентационной деятельности личностных особенностей учащи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440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ервый раз – в первый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гружать все больше нас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753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!\Психоогия фото\SDC10177.JPG"/>
          <p:cNvPicPr/>
          <p:nvPr/>
        </p:nvPicPr>
        <p:blipFill>
          <a:blip r:embed="rId1"/>
          <a:stretch/>
        </p:blipFill>
        <p:spPr>
          <a:xfrm>
            <a:off x="611280" y="260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!\Психоогия фото\SDC10180.JPG"/>
          <p:cNvPicPr/>
          <p:nvPr/>
        </p:nvPicPr>
        <p:blipFill>
          <a:blip r:embed="rId2"/>
          <a:srcRect l="7648" t="38414" r="9083" b="0"/>
          <a:stretch/>
        </p:blipFill>
        <p:spPr>
          <a:xfrm>
            <a:off x="4716360" y="2060640"/>
            <a:ext cx="4052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ростков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раст - 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ума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24360" y="16509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ЕДЕРАЛЬНЫЙ ЗАКО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 образовании в Российской Федер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8:19:46Z</dcterms:created>
  <dc:creator>asus</dc:creator>
  <dc:description/>
  <dc:language>en-US</dc:language>
  <cp:lastModifiedBy>Марина</cp:lastModifiedBy>
  <dcterms:modified xsi:type="dcterms:W3CDTF">2012-10-07T06:20:06Z</dcterms:modified>
  <cp:revision>33</cp:revision>
  <dc:subject/>
  <dc:title>Игровые технологии в процессе психологического сопровождения ребенка в школе.</dc:title>
</cp:coreProperties>
</file>