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F8A-96FA-4C04-84C3-59FCF8E9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825-AE13-4E1C-8B22-61173A42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CBEE-929F-44A3-82EF-CC9639C8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FA0D-CABF-474D-A3F0-07276A42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D7D-0E92-4A89-B82E-73684585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C2D1-0721-4CD3-ABB2-D1149DE2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500A-8406-43AF-8D32-816DDBAA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E16-9219-48CD-813D-D006D4C0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6ED0-49C0-4BD4-84A7-B1EBF7C7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CF78-90BC-48CD-BCCD-3B4958F5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B28-A460-4B1A-8D0B-F581268F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CF8-6159-4A93-BDE5-C96C1547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2F94-7141-46EC-B17F-1840818FC1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5542a"/>
                </a:solidFill>
                <a:latin typeface="Comic Sans MS"/>
              </a:rPr>
              <a:t>Психологическое сопровождение учебного процесса</a:t>
            </a:r>
            <a:br>
              <a:rPr sz="28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55542a"/>
                </a:solidFill>
                <a:latin typeface="Comic Sans MS"/>
                <a:ea typeface="宋体"/>
              </a:rPr>
              <a:t>«Школьная психологическая служба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br>
              <a:rPr sz="4000"/>
            </a:br>
            <a:br>
              <a:rPr sz="3800"/>
            </a:br>
            <a:br>
              <a:rPr sz="3800"/>
            </a:br>
            <a:br>
              <a:rPr sz="3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boys26"/>
          <p:cNvPicPr/>
          <p:nvPr/>
        </p:nvPicPr>
        <p:blipFill>
          <a:blip r:embed="rId1"/>
          <a:stretch/>
        </p:blipFill>
        <p:spPr>
          <a:xfrm>
            <a:off x="1692360" y="3933720"/>
            <a:ext cx="944640" cy="292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olls25"/>
          <p:cNvPicPr/>
          <p:nvPr/>
        </p:nvPicPr>
        <p:blipFill>
          <a:blip r:embed="rId2"/>
          <a:stretch/>
        </p:blipFill>
        <p:spPr>
          <a:xfrm>
            <a:off x="684360" y="4005360"/>
            <a:ext cx="1035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тья 4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сихолого-педагогическая и медико-социальная помощь обучающимся, осваивающим основные общеобразовательные программ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целях оказания помощи обучающимся, испытывающим трудности в освоении основных общеобразовательных программ, и организациям, осуществляющим образовательную деятельность, в которых они обучаются, для осуществления индивидуально ориентированной педагогической, психологической, социальной и медицинской помощи таким обучающимся органами государственной власти субъектов Российской Федерации и органами местного самоуправления создаются центры психолого-педагогической и медико-социальн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748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42a"/>
                </a:solidFill>
                <a:latin typeface="Comic Sans MS"/>
              </a:rPr>
              <a:t>                                </a:t>
            </a:r>
            <a:r>
              <a:rPr b="0" lang="ru-RU" sz="3200" spc="-1" strike="noStrike">
                <a:solidFill>
                  <a:srgbClr val="55542a"/>
                </a:solidFill>
                <a:latin typeface="Comic Sans MS"/>
              </a:rPr>
              <a:t>Взаимодействуя со всеми участника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42a"/>
                </a:solidFill>
                <a:latin typeface="Comic Sans MS"/>
              </a:rPr>
              <a:t>образовательного процесса, </a:t>
            </a:r>
            <a:r>
              <a:rPr b="1" lang="ru-RU" sz="3200" spc="-1" strike="noStrike">
                <a:solidFill>
                  <a:srgbClr val="55542a"/>
                </a:solidFill>
                <a:latin typeface="Comic Sans MS"/>
              </a:rPr>
              <a:t>психологическ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542a"/>
                </a:solidFill>
                <a:latin typeface="Comic Sans MS"/>
              </a:rPr>
              <a:t>служба  школы</a:t>
            </a:r>
            <a:r>
              <a:rPr b="0" lang="ru-RU" sz="3200" spc="-1" strike="noStrike">
                <a:solidFill>
                  <a:srgbClr val="55542a"/>
                </a:solidFill>
                <a:latin typeface="Comic Sans MS"/>
              </a:rPr>
              <a:t> играет большую роль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42a"/>
                </a:solidFill>
                <a:latin typeface="Comic Sans MS"/>
              </a:rPr>
              <a:t>формировании личности ребенка и культуры е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42a"/>
                </a:solidFill>
                <a:latin typeface="Comic Sans MS"/>
              </a:rPr>
              <a:t>психического здоров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Inkv\Desktop\5 п фото и видео\1.09.11\IMG_1362.jpg"/>
          <p:cNvPicPr/>
          <p:nvPr/>
        </p:nvPicPr>
        <p:blipFill>
          <a:blip r:embed="rId1"/>
          <a:stretch/>
        </p:blipFill>
        <p:spPr>
          <a:xfrm>
            <a:off x="684360" y="404640"/>
            <a:ext cx="310824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Скругленный прямоугольник 3"/>
          <p:cNvSpPr/>
          <p:nvPr/>
        </p:nvSpPr>
        <p:spPr>
          <a:xfrm>
            <a:off x="2610000" y="2492280"/>
            <a:ext cx="3186000" cy="20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Центр психолого-педагогической  и  медико- социальн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трелка вправо 4"/>
          <p:cNvSpPr/>
          <p:nvPr/>
        </p:nvSpPr>
        <p:spPr>
          <a:xfrm>
            <a:off x="5786280" y="3359160"/>
            <a:ext cx="863640" cy="5047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трелка влево 6"/>
          <p:cNvSpPr/>
          <p:nvPr/>
        </p:nvSpPr>
        <p:spPr>
          <a:xfrm>
            <a:off x="1790640" y="3359160"/>
            <a:ext cx="863640" cy="50472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трелка вверх 7"/>
          <p:cNvSpPr/>
          <p:nvPr/>
        </p:nvSpPr>
        <p:spPr>
          <a:xfrm>
            <a:off x="4086360" y="1773360"/>
            <a:ext cx="323640" cy="718920"/>
          </a:xfrm>
          <a:prstGeom prst="up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трелка вниз 8"/>
          <p:cNvSpPr/>
          <p:nvPr/>
        </p:nvSpPr>
        <p:spPr>
          <a:xfrm>
            <a:off x="4049640" y="4532400"/>
            <a:ext cx="397080" cy="718920"/>
          </a:xfrm>
          <a:prstGeom prst="downArrow">
            <a:avLst>
              <a:gd name="adj1" fmla="val 50000"/>
              <a:gd name="adj2" fmla="val 4995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283356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дагог-психол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6649920" y="313524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циа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даг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2584440" y="549900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-дефектол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250920" y="3125880"/>
            <a:ext cx="187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-логоп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182520" y="1058760"/>
            <a:ext cx="7183440" cy="55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55640" y="404640"/>
            <a:ext cx="7182000" cy="387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ШКОЛЬНАЯ ПСИХОЛОГИЧЕСКАЯ СЛУЖБ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82520" y="2543040"/>
            <a:ext cx="2052720" cy="11480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Создание оптимальных условий обучения и развития каждого ребен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79280" y="3645000"/>
            <a:ext cx="2051280" cy="11480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Психологическое сопровождение всех участников образовательного процес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79280" y="5013360"/>
            <a:ext cx="2051280" cy="1574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Формирование ценности здоровья (физического, психического, социального) у подрастающего покол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063800" y="2049480"/>
            <a:ext cx="439560" cy="493560"/>
          </a:xfrm>
          <a:prstGeom prst="downArrow">
            <a:avLst>
              <a:gd name="adj1" fmla="val 50000"/>
              <a:gd name="adj2" fmla="val 28071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6046920" y="2049480"/>
            <a:ext cx="441360" cy="493560"/>
          </a:xfrm>
          <a:prstGeom prst="downArrow">
            <a:avLst>
              <a:gd name="adj1" fmla="val 50000"/>
              <a:gd name="adj2" fmla="val 27957"/>
            </a:avLst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5019840" y="1455840"/>
            <a:ext cx="2344680" cy="721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ОСНОВНЫЕ НАПРАВЛЕНИЯ РАБО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10"/>
          <p:cNvSpPr/>
          <p:nvPr/>
        </p:nvSpPr>
        <p:spPr>
          <a:xfrm>
            <a:off x="2529000" y="2543040"/>
            <a:ext cx="2490840" cy="693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99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990000"/>
            </a:solidFill>
            <a:miter/>
          </a:ln>
          <a:effectLst>
            <a:outerShdw dist="107932" dir="135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68560" y="2643120"/>
            <a:ext cx="16113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ru-RU" sz="1100" spc="-1" strike="noStrike">
                <a:solidFill>
                  <a:srgbClr val="990000"/>
                </a:solidFill>
                <a:latin typeface="Arial"/>
                <a:ea typeface="Times New Roman"/>
              </a:rPr>
              <a:t>МЛАДШАЯ ШКОЛ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12"/>
          <p:cNvSpPr/>
          <p:nvPr/>
        </p:nvSpPr>
        <p:spPr>
          <a:xfrm>
            <a:off x="2529000" y="3236760"/>
            <a:ext cx="2490840" cy="69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99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990000"/>
            </a:solidFill>
            <a:miter/>
          </a:ln>
          <a:effectLst>
            <a:outerShdw dist="107932" dir="135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968560" y="3335400"/>
            <a:ext cx="1609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ru-RU" sz="1100" spc="-1" strike="noStrike">
                <a:solidFill>
                  <a:srgbClr val="990000"/>
                </a:solidFill>
                <a:latin typeface="Arial"/>
                <a:ea typeface="Times New Roman"/>
              </a:rPr>
              <a:t>СРЕДНЯЯ ШКОЛ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14"/>
          <p:cNvSpPr/>
          <p:nvPr/>
        </p:nvSpPr>
        <p:spPr>
          <a:xfrm>
            <a:off x="2529000" y="3929040"/>
            <a:ext cx="2490840" cy="69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99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990000"/>
            </a:solidFill>
            <a:miter/>
          </a:ln>
          <a:effectLst>
            <a:outerShdw dist="107932" dir="135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968560" y="4027320"/>
            <a:ext cx="1609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ru-RU" sz="1100" spc="-1" strike="noStrike">
                <a:solidFill>
                  <a:srgbClr val="990000"/>
                </a:solidFill>
                <a:latin typeface="Arial"/>
                <a:ea typeface="Times New Roman"/>
              </a:rPr>
              <a:t>СТАРШАЯ ШКОЛ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Oval 16"/>
          <p:cNvGrpSpPr/>
          <p:nvPr/>
        </p:nvGrpSpPr>
        <p:grpSpPr>
          <a:xfrm>
            <a:off x="2444760" y="4932360"/>
            <a:ext cx="2577960" cy="785880"/>
            <a:chOff x="2444760" y="4932360"/>
            <a:chExt cx="2577960" cy="785880"/>
          </a:xfrm>
        </p:grpSpPr>
        <p:pic>
          <p:nvPicPr>
            <p:cNvPr id="90" name="Oval 16" descr=""/>
            <p:cNvPicPr/>
            <p:nvPr/>
          </p:nvPicPr>
          <p:blipFill>
            <a:blip r:embed="rId1"/>
            <a:stretch/>
          </p:blipFill>
          <p:spPr>
            <a:xfrm>
              <a:off x="2444760" y="4932360"/>
              <a:ext cx="257796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894040" y="5119560"/>
              <a:ext cx="1760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Text Box 17"/>
          <p:cNvSpPr/>
          <p:nvPr/>
        </p:nvSpPr>
        <p:spPr>
          <a:xfrm>
            <a:off x="2968560" y="5118120"/>
            <a:ext cx="1609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ru-RU" sz="1100" spc="-1" strike="noStrike">
                <a:solidFill>
                  <a:srgbClr val="990000"/>
                </a:solidFill>
                <a:latin typeface="Arial"/>
                <a:ea typeface="Times New Roman"/>
              </a:rPr>
              <a:t>ПЕДАГОГ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Oval 18"/>
          <p:cNvGrpSpPr/>
          <p:nvPr/>
        </p:nvGrpSpPr>
        <p:grpSpPr>
          <a:xfrm>
            <a:off x="2444760" y="5724360"/>
            <a:ext cx="2577960" cy="785880"/>
            <a:chOff x="2444760" y="5724360"/>
            <a:chExt cx="2577960" cy="785880"/>
          </a:xfrm>
        </p:grpSpPr>
        <p:pic>
          <p:nvPicPr>
            <p:cNvPr id="94" name="Oval 18" descr=""/>
            <p:cNvPicPr/>
            <p:nvPr/>
          </p:nvPicPr>
          <p:blipFill>
            <a:blip r:embed="rId2"/>
            <a:stretch/>
          </p:blipFill>
          <p:spPr>
            <a:xfrm>
              <a:off x="2444760" y="5724360"/>
              <a:ext cx="257796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894040" y="5910120"/>
              <a:ext cx="1760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 Box 19"/>
          <p:cNvSpPr/>
          <p:nvPr/>
        </p:nvSpPr>
        <p:spPr>
          <a:xfrm>
            <a:off x="2968560" y="5908680"/>
            <a:ext cx="1609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ru-RU" sz="1100" spc="-1" strike="noStrike">
                <a:solidFill>
                  <a:srgbClr val="990000"/>
                </a:solidFill>
                <a:latin typeface="Arial"/>
                <a:ea typeface="Times New Roman"/>
              </a:rPr>
              <a:t>РОДИТЕЛ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2382840" y="2840040"/>
            <a:ext cx="0" cy="33656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5313240" y="2598840"/>
            <a:ext cx="2052720" cy="615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Диагнос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Мониторин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5313240" y="3335400"/>
            <a:ext cx="2051280" cy="508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Развит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Коррек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5313240" y="4127400"/>
            <a:ext cx="2051280" cy="615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Консульт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5313240" y="4973760"/>
            <a:ext cx="2051280" cy="615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Просвещ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25"/>
          <p:cNvSpPr/>
          <p:nvPr/>
        </p:nvSpPr>
        <p:spPr>
          <a:xfrm>
            <a:off x="5313240" y="5877000"/>
            <a:ext cx="2051280" cy="615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26"/>
          <p:cNvSpPr/>
          <p:nvPr/>
        </p:nvSpPr>
        <p:spPr>
          <a:xfrm>
            <a:off x="5165640" y="2840040"/>
            <a:ext cx="1800" cy="33656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2382840" y="6205680"/>
            <a:ext cx="14616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Line 28"/>
          <p:cNvSpPr/>
          <p:nvPr/>
        </p:nvSpPr>
        <p:spPr>
          <a:xfrm flipH="1">
            <a:off x="5019480" y="6205680"/>
            <a:ext cx="1458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29"/>
          <p:cNvSpPr/>
          <p:nvPr/>
        </p:nvSpPr>
        <p:spPr>
          <a:xfrm flipH="1">
            <a:off x="5019480" y="5315040"/>
            <a:ext cx="1458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30"/>
          <p:cNvSpPr/>
          <p:nvPr/>
        </p:nvSpPr>
        <p:spPr>
          <a:xfrm>
            <a:off x="2382840" y="5356080"/>
            <a:ext cx="14616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31"/>
          <p:cNvSpPr/>
          <p:nvPr/>
        </p:nvSpPr>
        <p:spPr>
          <a:xfrm>
            <a:off x="2382840" y="4268880"/>
            <a:ext cx="14616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32"/>
          <p:cNvSpPr/>
          <p:nvPr/>
        </p:nvSpPr>
        <p:spPr>
          <a:xfrm flipH="1">
            <a:off x="5019480" y="4324320"/>
            <a:ext cx="1458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33"/>
          <p:cNvSpPr/>
          <p:nvPr/>
        </p:nvSpPr>
        <p:spPr>
          <a:xfrm>
            <a:off x="2382840" y="3533760"/>
            <a:ext cx="14616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34"/>
          <p:cNvSpPr/>
          <p:nvPr/>
        </p:nvSpPr>
        <p:spPr>
          <a:xfrm flipH="1">
            <a:off x="5019480" y="3533760"/>
            <a:ext cx="1458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35"/>
          <p:cNvSpPr/>
          <p:nvPr/>
        </p:nvSpPr>
        <p:spPr>
          <a:xfrm>
            <a:off x="2382840" y="2840040"/>
            <a:ext cx="14616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36"/>
          <p:cNvSpPr/>
          <p:nvPr/>
        </p:nvSpPr>
        <p:spPr>
          <a:xfrm flipH="1">
            <a:off x="5019480" y="2840040"/>
            <a:ext cx="1458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37"/>
          <p:cNvSpPr/>
          <p:nvPr/>
        </p:nvSpPr>
        <p:spPr>
          <a:xfrm>
            <a:off x="2235240" y="3137040"/>
            <a:ext cx="1476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38"/>
          <p:cNvSpPr/>
          <p:nvPr/>
        </p:nvSpPr>
        <p:spPr>
          <a:xfrm>
            <a:off x="2235240" y="4621320"/>
            <a:ext cx="147600" cy="1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39"/>
          <p:cNvSpPr/>
          <p:nvPr/>
        </p:nvSpPr>
        <p:spPr>
          <a:xfrm>
            <a:off x="2235240" y="5808600"/>
            <a:ext cx="147600" cy="180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40"/>
          <p:cNvSpPr/>
          <p:nvPr/>
        </p:nvSpPr>
        <p:spPr>
          <a:xfrm flipH="1">
            <a:off x="5165640" y="2840040"/>
            <a:ext cx="147600" cy="144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41"/>
          <p:cNvSpPr/>
          <p:nvPr/>
        </p:nvSpPr>
        <p:spPr>
          <a:xfrm>
            <a:off x="5165640" y="3533760"/>
            <a:ext cx="1476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42"/>
          <p:cNvSpPr/>
          <p:nvPr/>
        </p:nvSpPr>
        <p:spPr>
          <a:xfrm>
            <a:off x="5165640" y="4324320"/>
            <a:ext cx="1476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43"/>
          <p:cNvSpPr/>
          <p:nvPr/>
        </p:nvSpPr>
        <p:spPr>
          <a:xfrm>
            <a:off x="5165640" y="5315040"/>
            <a:ext cx="1476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44"/>
          <p:cNvSpPr/>
          <p:nvPr/>
        </p:nvSpPr>
        <p:spPr>
          <a:xfrm>
            <a:off x="5165640" y="6205680"/>
            <a:ext cx="14760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1346040" y="12555360"/>
            <a:ext cx="8444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-647640" y="-56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-64764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-40680" bIns="-40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-436680" y="931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-40680" bIns="-40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-436680" y="1255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-40680" bIns="-40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50"/>
          <p:cNvSpPr/>
          <p:nvPr/>
        </p:nvSpPr>
        <p:spPr>
          <a:xfrm>
            <a:off x="-647640" y="1255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-40680" bIns="-40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1"/>
          <p:cNvSpPr/>
          <p:nvPr/>
        </p:nvSpPr>
        <p:spPr>
          <a:xfrm>
            <a:off x="182520" y="1455840"/>
            <a:ext cx="2346480" cy="5086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cc"/>
              </a:gs>
              <a:gs pos="100000">
                <a:srgbClr val="ffcc99"/>
              </a:gs>
            </a:gsLst>
            <a:lin ang="2700000"/>
          </a:gra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ЦЕ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2" descr="P9120115"/>
          <p:cNvPicPr/>
          <p:nvPr/>
        </p:nvPicPr>
        <p:blipFill>
          <a:blip r:embed="rId3"/>
          <a:stretch/>
        </p:blipFill>
        <p:spPr>
          <a:xfrm>
            <a:off x="174600" y="158760"/>
            <a:ext cx="1176480" cy="115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3" descr="3"/>
          <p:cNvPicPr/>
          <p:nvPr/>
        </p:nvPicPr>
        <p:blipFill>
          <a:blip r:embed="rId4"/>
          <a:stretch/>
        </p:blipFill>
        <p:spPr>
          <a:xfrm>
            <a:off x="7677000" y="4835520"/>
            <a:ext cx="1170000" cy="16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10920" y="-360"/>
            <a:ext cx="8281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5542a"/>
                </a:solidFill>
                <a:uFillTx/>
                <a:latin typeface="Comic Sans MS"/>
              </a:rPr>
              <a:t>«Развивающие часы с учащимися 1 и 4 -х 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«Тропинка к своему 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Цель: 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«Формирование навыков общения в коллектив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Задачи: 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1.Развивать навыки межличностного 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2.Формировать умение общаться в больших   и  малых групп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3.Помочь осознать себя, как члена коллекти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4.Учить детей избегать конфликтов при межличностном  взаимодейств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353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5542a"/>
                </a:solidFill>
                <a:uFillTx/>
                <a:latin typeface="Comic Sans MS"/>
              </a:rPr>
              <a:t>Факультативные занятия с учащимися  7 классо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«Тропинка к своему 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Цель: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 Самопозн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Задачи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2.Развитие  умения отстаивать собственную точку зрения, умение говорить «нет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3.Помочь познать себя, как субъекта об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4.Научить конструктивным способам взаимодейств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Она охватывает всю человеческую жизнь до самого основания, овладевает ее и существенным образом определяет бытийный склад человека, а также способ понимания бытия челове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Е. Финка «Основные феномены человеческого бытия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353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5542a"/>
                </a:solidFill>
                <a:uFillTx/>
                <a:latin typeface="Comic Sans MS"/>
              </a:rPr>
              <a:t>Занятия с учащимися 9-11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Цель: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 Психологическая подготовка  к ГИА и ЕГ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Задачи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1. Научить ребенка методам саморегуляции в стрессовой ситу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2. Научить методам повышения интеллектуальной активности, применяя определенные упраж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3. Обратить внимание учащегося на особенности питания в процессе подготовки к экзамен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4. Организация работы с родителями через групповые и индивидуальные консуль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3534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5542a"/>
                </a:solidFill>
                <a:uFillTx/>
                <a:latin typeface="Comic Sans MS"/>
              </a:rPr>
              <a:t>Занятия с учащимися 8-9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Цель: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 Самоопределение в выборе профе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В 9-х классах  - элективный крс «Я и моя професс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55542a"/>
                </a:solidFill>
                <a:uFillTx/>
                <a:latin typeface="Comic Sans MS"/>
              </a:rPr>
              <a:t>Задачи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1. Выявить профессиональные интересны и способности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2. Знакомство с современным миром професс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3. Освещение ошибок в выборе профе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542a"/>
                </a:solidFill>
                <a:latin typeface="Comic Sans MS"/>
              </a:rPr>
              <a:t>Программа дополнена тренинговыми упражнениями, видеофильмами о различных професс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250920" y="549360"/>
            <a:ext cx="87138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ашей школе создано здоровьеформирующее пространство, позволяющее осуществля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ультуры здоров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оторой мы понимае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остную систему знаний, умений, навыков, а также опыт самостоятельной деятельности и личной ответственности обучающихся за свое здоровье и здоровье своих близки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53316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2a585c"/>
                </a:solidFill>
                <a:latin typeface="Comic Sans MS"/>
              </a:rPr>
              <a:t>Психологическое просвещение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20574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a5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585c"/>
                </a:solidFill>
                <a:latin typeface="Comic Sans MS"/>
              </a:rPr>
              <a:t>Классные часы и тематические занятия для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ЕГЭ Ольга"/>
          <p:cNvPicPr/>
          <p:nvPr/>
        </p:nvPicPr>
        <p:blipFill>
          <a:blip r:embed="rId1"/>
          <a:stretch/>
        </p:blipFill>
        <p:spPr>
          <a:xfrm>
            <a:off x="539640" y="2565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Сложность выбора профессии"/>
          <p:cNvPicPr/>
          <p:nvPr/>
        </p:nvPicPr>
        <p:blipFill>
          <a:blip r:embed="rId2"/>
          <a:stretch/>
        </p:blipFill>
        <p:spPr>
          <a:xfrm>
            <a:off x="2987640" y="335772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Профессиональное самоопределение"/>
          <p:cNvPicPr/>
          <p:nvPr/>
        </p:nvPicPr>
        <p:blipFill>
          <a:blip r:embed="rId3"/>
          <a:stretch/>
        </p:blipFill>
        <p:spPr>
          <a:xfrm>
            <a:off x="5651640" y="400536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Школа , дача 025"/>
          <p:cNvPicPr/>
          <p:nvPr/>
        </p:nvPicPr>
        <p:blipFill>
          <a:blip r:embed="rId4"/>
          <a:stretch/>
        </p:blipFill>
        <p:spPr>
          <a:xfrm>
            <a:off x="468360" y="4989600"/>
            <a:ext cx="2448000" cy="1631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SL372121"/>
          <p:cNvPicPr/>
          <p:nvPr/>
        </p:nvPicPr>
        <p:blipFill>
          <a:blip r:embed="rId5"/>
          <a:stretch/>
        </p:blipFill>
        <p:spPr>
          <a:xfrm>
            <a:off x="6443640" y="2492280"/>
            <a:ext cx="216072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00" y="1434960"/>
            <a:ext cx="836280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психологического сопровождения является создание социально – психологических условий для развития личности учащихся и их успешного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опровождать - значит идти, ехать вместе с кем-либо в качестве спутника или провожающег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Толковом словаре русского языка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под редакцией Д. Ушаков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292720" y="907920"/>
            <a:ext cx="355932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.      Систематическое отслеживание психолого-педагогического статуса ребёнка и динамики его психического развития в процессе школьного обуч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.      Создание социально-психологических условий для развития личности ребенка и его успешного обуч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      Создание социально-психологических условий для оказания помощи детям, имеющим проблемы в психологическом развитии и обучен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4. Мониторинговые исследования развития УУД, готовности к ГИА и ЕГЭ, профориентационной деятельности личностных особенностей учащис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404280"/>
            <a:ext cx="4402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ервый раз – в первый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гружать все больше нас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859280" y="404640"/>
            <a:ext cx="3753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D:\!\Психоогия фото\SDC10177.JPG"/>
          <p:cNvPicPr/>
          <p:nvPr/>
        </p:nvPicPr>
        <p:blipFill>
          <a:blip r:embed="rId1"/>
          <a:stretch/>
        </p:blipFill>
        <p:spPr>
          <a:xfrm>
            <a:off x="611280" y="2602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D:\!\Психоогия фото\SDC10180.JPG"/>
          <p:cNvPicPr/>
          <p:nvPr/>
        </p:nvPicPr>
        <p:blipFill>
          <a:blip r:embed="rId2"/>
          <a:srcRect l="7648" t="38414" r="9083" b="0"/>
          <a:stretch/>
        </p:blipFill>
        <p:spPr>
          <a:xfrm>
            <a:off x="4716360" y="2060640"/>
            <a:ext cx="40528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ростковы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озраст -  врем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умат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924360" y="16509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ЕДЕРАЛЬНЫЙ ЗАКОН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б образовании в Российской Федера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4T08:19:46Z</dcterms:created>
  <dc:creator>asus</dc:creator>
  <dc:description/>
  <dc:language>en-US</dc:language>
  <cp:lastModifiedBy>Марина</cp:lastModifiedBy>
  <dcterms:modified xsi:type="dcterms:W3CDTF">2012-10-07T06:20:06Z</dcterms:modified>
  <cp:revision>33</cp:revision>
  <dc:subject/>
  <dc:title>Игровые технологии в процессе психологического сопровождения ребенка в школе.</dc:title>
</cp:coreProperties>
</file>