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A1AC-C4BB-48C0-8B3B-3E05BDE5D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1662-A0D6-4816-9386-18639AE4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3E8F-4C1F-4D56-95E0-AA9184CD8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4C01-8A38-4202-8D69-4A3B12977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3580-1F67-4E8F-833D-A1E830FC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6212-2375-4CDB-95C7-7DDC4F82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713A-15AA-43D3-8210-7F4D86F9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B790-CC3D-4AD2-B87C-C21E728B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853C-F1FB-43BF-9CEE-F46A6D4A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DA6D-8D09-4C9A-BD35-A1E27B52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D411-AA7D-4080-A290-CFEE1F78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AE4B-95FD-41C9-81E5-A9819729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72C0-808C-4A4B-B9D8-B41DDA0E1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luntiki.ru/uploads/images/f/1/e/0/5/fe12a1cba3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zagadki.org.ua/pictures/rebuses/simple/ru/003_knuckle.p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011.radikal.ru/i318/1011/ce/f592fe1aa6e5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luntiki.ru/uploads/images/b/3/2/8/5/aab377b086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ebus.detsky-mir.com/uploads/images/6/5/2/4/2/df5fe8427c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luntiki.ru/uploads/images/f/d/0/d/5/948bfd469c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lad-lad.ru/images/stories/rebus/okno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luntiki.ru/uploads/images/1/0/1/6/5/2622dc04ba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Картинка 2 из 15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289080" y="476280"/>
            <a:ext cx="9433080" cy="677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Картинка 23 из 1594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Картинка 24 из 1594"/>
          <p:cNvPicPr/>
          <p:nvPr/>
        </p:nvPicPr>
        <p:blipFill>
          <a:blip r:embed="rId1"/>
          <a:stretch/>
        </p:blipFill>
        <p:spPr>
          <a:xfrm>
            <a:off x="-361800" y="260280"/>
            <a:ext cx="9505800" cy="63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Картинка 28 из 1594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Картинка 1 из 15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492360" y="333360"/>
            <a:ext cx="15050880" cy="61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Картинка 4 из 15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8809200" cy="64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Картинка 6 из 15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24000" y="404640"/>
            <a:ext cx="9937800" cy="600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Картинка 7 из 15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1017756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Картинка 8 из 15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60280"/>
            <a:ext cx="8964720" cy="631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8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Картинка 10 из 15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252360" y="620640"/>
            <a:ext cx="993780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Картинка 19 из 15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981000"/>
            <a:ext cx="1008072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Картинка 22 из 1594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3T13:13:14Z</dcterms:created>
  <dc:creator>878</dc:creator>
  <dc:description/>
  <dc:language>en-US</dc:language>
  <cp:lastModifiedBy>Admin</cp:lastModifiedBy>
  <dcterms:modified xsi:type="dcterms:W3CDTF">2012-05-23T17:12:03Z</dcterms:modified>
  <cp:revision>3</cp:revision>
  <dc:subject/>
  <dc:title> </dc:title>
</cp:coreProperties>
</file>