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902-DC17-4BE5-9E75-5AAEE180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4EE-6025-41F9-B47B-AD60B844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1E8-C174-4B64-9AC7-BE226ED8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261-3006-4565-9B13-A78A0BC3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766-7F4D-4B41-9279-96B5F79F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0E8-4106-4398-9E90-E0682988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3F5-9030-462F-B3C2-AC911574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B68-6855-44AE-9BB8-324295A1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9A5-D43E-49AA-A509-80E27763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72B-D805-4A27-B305-7E47E23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677-ABE3-4543-AA93-3FD13BB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37B-D8C7-465F-B495-0D7A916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D41D-FD98-4E98-9656-4E34163A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untiki.ru/uploads/images/f/1/e/0/5/fe12a1cba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zagadki.org.ua/pictures/rebuses/simple/ru/003_knuckle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011.radikal.ru/i318/1011/ce/f592fe1aa6e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untiki.ru/uploads/images/b/3/2/8/5/aab377b08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ebus.detsky-mir.com/uploads/images/6/5/2/4/2/df5fe8427c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untiki.ru/uploads/images/f/d/0/d/5/948bfd469c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ad-lad.ru/images/stories/rebus/okno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untiki.ru/uploads/images/1/0/1/6/5/2622dc04b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89080" y="476280"/>
            <a:ext cx="9433080" cy="67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23 из 1594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24 из 1594"/>
          <p:cNvPicPr/>
          <p:nvPr/>
        </p:nvPicPr>
        <p:blipFill>
          <a:blip r:embed="rId1"/>
          <a:stretch/>
        </p:blipFill>
        <p:spPr>
          <a:xfrm>
            <a:off x="-361800" y="260280"/>
            <a:ext cx="950580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28 из 1594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1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492360" y="333360"/>
            <a:ext cx="1505088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4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8092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6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24000" y="404640"/>
            <a:ext cx="9937800" cy="60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7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017756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8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896472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52360" y="620640"/>
            <a:ext cx="99378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9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100807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22 из 1594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3:13:14Z</dcterms:created>
  <dc:creator>878</dc:creator>
  <dc:description/>
  <dc:language>en-US</dc:language>
  <cp:lastModifiedBy>Admin</cp:lastModifiedBy>
  <dcterms:modified xsi:type="dcterms:W3CDTF">2012-05-23T17:12:03Z</dcterms:modified>
  <cp:revision>3</cp:revision>
  <dc:subject/>
  <dc:title> </dc:title>
</cp:coreProperties>
</file>