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4200-F220-48AB-AFEF-3ED587168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6322-9D93-4536-83BE-01631CC793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5994C-B299-428C-AA4A-41D75AFC7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367B7-A780-4868-8B4E-B3CAE6235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44E79-FB60-478B-91D9-8923415586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542A-988E-4632-B697-3FBA6EB0E3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79F35-FB2F-4924-BD4D-221E527552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83C93-99E0-463C-8968-89782E004E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64D37-D531-4673-A5CE-119731A24B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12ABF-EADE-4088-B3E2-D060500651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0AFC-3B35-484A-81EE-5EF5F4D4D7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A569C-B2CB-4F86-8AEE-461CE9CCF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66989-5D5C-47D5-9545-CF54E41A1D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59A13-E525-4364-9737-D1A0D65BA7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4E730-38E8-42C9-B5C1-260AB11B14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459A5-A71C-495F-A14A-B8C2CF582A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C4B25-D9ED-45C3-B829-65CA4C30C0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C75CF-4F26-4E11-A20F-8A738B687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114D-3A6D-4CA0-815C-E7009BD9E9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46A70-006A-4CFD-80AC-A85CF951B6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4B030-5A54-4FA8-B622-DF4422351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732C-DF15-43D9-8BDF-93C59CE140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466F5-615A-47C3-830F-AF3A11E38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05ED-E592-4E92-88F4-75ECECE48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414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9139320" cy="165420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3" name="Freeform 4"/>
              <p:cNvSpPr/>
              <p:nvPr/>
            </p:nvSpPr>
            <p:spPr>
              <a:xfrm>
                <a:off x="1440" y="16509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0" y="6330960"/>
                <a:ext cx="9139320" cy="651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0" y="581832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0" y="5340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0" y="4929120"/>
                <a:ext cx="9139320" cy="475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0" y="4538520"/>
                <a:ext cx="9139320" cy="558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0" y="4197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0" y="3862440"/>
                <a:ext cx="9139320" cy="554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0" y="35863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0" y="33177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0" y="30607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0" y="2611440"/>
                <a:ext cx="9139320" cy="176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0" y="28224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0" y="2413080"/>
                <a:ext cx="9139320" cy="172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0" y="221292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>
                <a:off x="0" y="20318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>
                <a:off x="0" y="186840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>
                <a:off x="0" y="3816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>
                <a:off x="0" y="2952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>
                <a:off x="0" y="75420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>
                <a:off x="0" y="5349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0" y="95256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0" y="11541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0" y="13352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0" y="149688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29"/>
              <p:cNvGrpSpPr/>
              <p:nvPr/>
            </p:nvGrpSpPr>
            <p:grpSpPr>
              <a:xfrm>
                <a:off x="0" y="0"/>
                <a:ext cx="9139320" cy="1657440"/>
                <a:chOff x="0" y="0"/>
                <a:chExt cx="9139320" cy="1657440"/>
              </a:xfrm>
            </p:grpSpPr>
            <p:sp>
              <p:nvSpPr>
                <p:cNvPr id="29" name="Freeform 30"/>
                <p:cNvSpPr/>
                <p:nvPr/>
              </p:nvSpPr>
              <p:spPr>
                <a:xfrm>
                  <a:off x="4522680" y="0"/>
                  <a:ext cx="65160" cy="1657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3809880" y="0"/>
                  <a:ext cx="244440" cy="165744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3122640" y="0"/>
                  <a:ext cx="379440" cy="1657440"/>
                </a:xfrm>
                <a:custGeom>
                  <a:avLst/>
                  <a:gdLst>
                    <a:gd name="textAreaLeft" fmla="*/ 0 w 379440"/>
                    <a:gd name="textAreaRight" fmla="*/ 379800 w 379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2467080" y="0"/>
                  <a:ext cx="558720" cy="1657440"/>
                </a:xfrm>
                <a:custGeom>
                  <a:avLst/>
                  <a:gdLst>
                    <a:gd name="textAreaLeft" fmla="*/ 0 w 558720"/>
                    <a:gd name="textAreaRight" fmla="*/ 559080 w 558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800360" y="0"/>
                  <a:ext cx="712800" cy="16574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3640" y="0"/>
                  <a:ext cx="855360" cy="165744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6"/>
                <p:cNvSpPr/>
                <p:nvPr/>
              </p:nvSpPr>
              <p:spPr>
                <a:xfrm>
                  <a:off x="485640" y="0"/>
                  <a:ext cx="1017720" cy="1657440"/>
                </a:xfrm>
                <a:custGeom>
                  <a:avLst/>
                  <a:gdLst>
                    <a:gd name="textAreaLeft" fmla="*/ 0 w 1017720"/>
                    <a:gd name="textAreaRight" fmla="*/ 1018080 w 1017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7"/>
                <p:cNvSpPr/>
                <p:nvPr/>
              </p:nvSpPr>
              <p:spPr>
                <a:xfrm>
                  <a:off x="0" y="171360"/>
                  <a:ext cx="998640" cy="1486080"/>
                </a:xfrm>
                <a:custGeom>
                  <a:avLst/>
                  <a:gdLst>
                    <a:gd name="textAreaLeft" fmla="*/ 0 w 998640"/>
                    <a:gd name="textAreaRight" fmla="*/ 999000 w 998640"/>
                    <a:gd name="textAreaTop" fmla="*/ 0 h 1486080"/>
                    <a:gd name="textAreaBottom" fmla="*/ 1486440 h 148608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8"/>
                <p:cNvSpPr/>
                <p:nvPr/>
              </p:nvSpPr>
              <p:spPr>
                <a:xfrm>
                  <a:off x="5065560" y="0"/>
                  <a:ext cx="244800" cy="1657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39"/>
                <p:cNvSpPr/>
                <p:nvPr/>
              </p:nvSpPr>
              <p:spPr>
                <a:xfrm>
                  <a:off x="5608800" y="0"/>
                  <a:ext cx="379080" cy="165744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0"/>
                <p:cNvSpPr/>
                <p:nvPr/>
              </p:nvSpPr>
              <p:spPr>
                <a:xfrm>
                  <a:off x="6066000" y="0"/>
                  <a:ext cx="568080" cy="1657440"/>
                </a:xfrm>
                <a:custGeom>
                  <a:avLst/>
                  <a:gdLst>
                    <a:gd name="textAreaLeft" fmla="*/ 0 w 568080"/>
                    <a:gd name="textAreaRight" fmla="*/ 568440 w 568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1"/>
                <p:cNvSpPr/>
                <p:nvPr/>
              </p:nvSpPr>
              <p:spPr>
                <a:xfrm>
                  <a:off x="6570720" y="0"/>
                  <a:ext cx="711000" cy="1657440"/>
                </a:xfrm>
                <a:custGeom>
                  <a:avLst/>
                  <a:gdLst>
                    <a:gd name="textAreaLeft" fmla="*/ 0 w 711000"/>
                    <a:gd name="textAreaRight" fmla="*/ 711360 w 7110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2"/>
                <p:cNvSpPr/>
                <p:nvPr/>
              </p:nvSpPr>
              <p:spPr>
                <a:xfrm>
                  <a:off x="7112160" y="0"/>
                  <a:ext cx="857160" cy="165744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3"/>
                <p:cNvSpPr/>
                <p:nvPr/>
              </p:nvSpPr>
              <p:spPr>
                <a:xfrm>
                  <a:off x="7569360" y="0"/>
                  <a:ext cx="1017360" cy="1657440"/>
                </a:xfrm>
                <a:custGeom>
                  <a:avLst/>
                  <a:gdLst>
                    <a:gd name="textAreaLeft" fmla="*/ 0 w 1017360"/>
                    <a:gd name="textAreaRight" fmla="*/ 1017720 w 1017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>
                  <a:off x="8074080" y="76320"/>
                  <a:ext cx="1065240" cy="1581120"/>
                </a:xfrm>
                <a:custGeom>
                  <a:avLst/>
                  <a:gdLst>
                    <a:gd name="textAreaLeft" fmla="*/ 0 w 1065240"/>
                    <a:gd name="textAreaRight" fmla="*/ 1065600 w 1065240"/>
                    <a:gd name="textAreaTop" fmla="*/ 0 h 1581120"/>
                    <a:gd name="textAreaBottom" fmla="*/ 1581480 h 158112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5"/>
              <p:cNvGrpSpPr/>
              <p:nvPr/>
            </p:nvGrpSpPr>
            <p:grpSpPr>
              <a:xfrm>
                <a:off x="0" y="885960"/>
                <a:ext cx="9139320" cy="771480"/>
                <a:chOff x="0" y="885960"/>
                <a:chExt cx="9139320" cy="771480"/>
              </a:xfrm>
            </p:grpSpPr>
            <p:sp>
              <p:nvSpPr>
                <p:cNvPr id="45" name="Freeform 46"/>
                <p:cNvSpPr/>
                <p:nvPr/>
              </p:nvSpPr>
              <p:spPr>
                <a:xfrm>
                  <a:off x="0" y="981000"/>
                  <a:ext cx="484200" cy="676440"/>
                </a:xfrm>
                <a:custGeom>
                  <a:avLst/>
                  <a:gdLst>
                    <a:gd name="textAreaLeft" fmla="*/ 0 w 484200"/>
                    <a:gd name="textAreaRight" fmla="*/ 484560 w 484200"/>
                    <a:gd name="textAreaTop" fmla="*/ 0 h 676440"/>
                    <a:gd name="textAreaBottom" fmla="*/ 676800 h 67644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>
                  <a:off x="8588520" y="885960"/>
                  <a:ext cx="550800" cy="771480"/>
                </a:xfrm>
                <a:custGeom>
                  <a:avLst/>
                  <a:gdLst>
                    <a:gd name="textAreaLeft" fmla="*/ 0 w 550800"/>
                    <a:gd name="textAreaRight" fmla="*/ 551160 w 550800"/>
                    <a:gd name="textAreaTop" fmla="*/ 0 h 771480"/>
                    <a:gd name="textAreaBottom" fmla="*/ 771840 h 77148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8"/>
              <p:cNvGrpSpPr/>
              <p:nvPr/>
            </p:nvGrpSpPr>
            <p:grpSpPr>
              <a:xfrm>
                <a:off x="419040" y="1649520"/>
                <a:ext cx="8253360" cy="5205240"/>
                <a:chOff x="419040" y="1649520"/>
                <a:chExt cx="8253360" cy="5205240"/>
              </a:xfrm>
            </p:grpSpPr>
            <p:sp>
              <p:nvSpPr>
                <p:cNvPr id="48" name="Freeform 49"/>
                <p:cNvSpPr/>
                <p:nvPr/>
              </p:nvSpPr>
              <p:spPr>
                <a:xfrm>
                  <a:off x="4522680" y="1649520"/>
                  <a:ext cx="65160" cy="5205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>
                  <a:off x="3419640" y="1649520"/>
                  <a:ext cx="634680" cy="5205240"/>
                </a:xfrm>
                <a:custGeom>
                  <a:avLst/>
                  <a:gdLst>
                    <a:gd name="textAreaLeft" fmla="*/ 0 w 634680"/>
                    <a:gd name="textAreaRight" fmla="*/ 635040 w 63468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1"/>
                <p:cNvSpPr/>
                <p:nvPr/>
              </p:nvSpPr>
              <p:spPr>
                <a:xfrm>
                  <a:off x="242892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2"/>
                <p:cNvSpPr/>
                <p:nvPr/>
              </p:nvSpPr>
              <p:spPr>
                <a:xfrm>
                  <a:off x="1390680" y="1649520"/>
                  <a:ext cx="1635120" cy="5205240"/>
                </a:xfrm>
                <a:custGeom>
                  <a:avLst/>
                  <a:gdLst>
                    <a:gd name="textAreaLeft" fmla="*/ 0 w 1635120"/>
                    <a:gd name="textAreaRight" fmla="*/ 1635480 w 16351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3"/>
                <p:cNvSpPr/>
                <p:nvPr/>
              </p:nvSpPr>
              <p:spPr>
                <a:xfrm>
                  <a:off x="419040" y="1649520"/>
                  <a:ext cx="2092320" cy="5205240"/>
                </a:xfrm>
                <a:custGeom>
                  <a:avLst/>
                  <a:gdLst>
                    <a:gd name="textAreaLeft" fmla="*/ 0 w 2092320"/>
                    <a:gd name="textAreaRight" fmla="*/ 2092680 w 20923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4"/>
                <p:cNvSpPr/>
                <p:nvPr/>
              </p:nvSpPr>
              <p:spPr>
                <a:xfrm>
                  <a:off x="5065560" y="1649520"/>
                  <a:ext cx="636840" cy="5205240"/>
                </a:xfrm>
                <a:custGeom>
                  <a:avLst/>
                  <a:gdLst>
                    <a:gd name="textAreaLeft" fmla="*/ 0 w 636840"/>
                    <a:gd name="textAreaRight" fmla="*/ 637200 w 63684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5"/>
                <p:cNvSpPr/>
                <p:nvPr/>
              </p:nvSpPr>
              <p:spPr>
                <a:xfrm>
                  <a:off x="560880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6"/>
                <p:cNvSpPr/>
                <p:nvPr/>
              </p:nvSpPr>
              <p:spPr>
                <a:xfrm>
                  <a:off x="6067440" y="1649520"/>
                  <a:ext cx="1643040" cy="520524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7"/>
                <p:cNvSpPr/>
                <p:nvPr/>
              </p:nvSpPr>
              <p:spPr>
                <a:xfrm>
                  <a:off x="6567480" y="1649520"/>
                  <a:ext cx="2104920" cy="5205240"/>
                </a:xfrm>
                <a:custGeom>
                  <a:avLst/>
                  <a:gdLst>
                    <a:gd name="textAreaLeft" fmla="*/ 0 w 2104920"/>
                    <a:gd name="textAreaRight" fmla="*/ 2105280 w 21049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8"/>
              <p:cNvSpPr/>
              <p:nvPr/>
            </p:nvSpPr>
            <p:spPr>
              <a:xfrm>
                <a:off x="0" y="1649520"/>
                <a:ext cx="1989000" cy="417672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4176720"/>
                  <a:gd name="textAreaBottom" fmla="*/ 4177080 h 417672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0" y="1649520"/>
                <a:ext cx="1503360" cy="2658960"/>
              </a:xfrm>
              <a:custGeom>
                <a:avLst/>
                <a:gdLst>
                  <a:gd name="textAreaLeft" fmla="*/ 0 w 1503360"/>
                  <a:gd name="textAreaRight" fmla="*/ 1503720 w 1503360"/>
                  <a:gd name="textAreaTop" fmla="*/ 0 h 2658960"/>
                  <a:gd name="textAreaBottom" fmla="*/ 2659320 h 265896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0" y="1649520"/>
                <a:ext cx="996840" cy="14857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1485720"/>
                  <a:gd name="textAreaBottom" fmla="*/ 1486080 h 14857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1"/>
              <p:cNvSpPr/>
              <p:nvPr/>
            </p:nvSpPr>
            <p:spPr>
              <a:xfrm>
                <a:off x="0" y="1649520"/>
                <a:ext cx="482760" cy="67608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2"/>
              <p:cNvSpPr/>
              <p:nvPr/>
            </p:nvSpPr>
            <p:spPr>
              <a:xfrm>
                <a:off x="7113600" y="1649520"/>
                <a:ext cx="2025720" cy="426240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4262400"/>
                  <a:gd name="textAreaBottom" fmla="*/ 4262760 h 426240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3"/>
              <p:cNvSpPr/>
              <p:nvPr/>
            </p:nvSpPr>
            <p:spPr>
              <a:xfrm>
                <a:off x="7572240" y="1649520"/>
                <a:ext cx="1567080" cy="27446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2744640"/>
                  <a:gd name="textAreaBottom" fmla="*/ 2745000 h 27446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4"/>
              <p:cNvSpPr/>
              <p:nvPr/>
            </p:nvSpPr>
            <p:spPr>
              <a:xfrm>
                <a:off x="8077320" y="1649520"/>
                <a:ext cx="1062000" cy="158112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1581120"/>
                  <a:gd name="textAreaBottom" fmla="*/ 1581480 h 158112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5"/>
              <p:cNvSpPr/>
              <p:nvPr/>
            </p:nvSpPr>
            <p:spPr>
              <a:xfrm>
                <a:off x="8591400" y="1649520"/>
                <a:ext cx="547920" cy="77148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Text Box 67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ldNum" idx="1"/>
          </p:nvPr>
        </p:nvSpPr>
        <p:spPr>
          <a:xfrm>
            <a:off x="6553080" y="624204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C76266-C5B9-42E9-89BD-63A82486AD4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414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Freeform 2"/>
            <p:cNvSpPr/>
            <p:nvPr/>
          </p:nvSpPr>
          <p:spPr>
            <a:xfrm>
              <a:off x="0" y="0"/>
              <a:ext cx="9139320" cy="165420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109" name="Freeform 4"/>
              <p:cNvSpPr/>
              <p:nvPr/>
            </p:nvSpPr>
            <p:spPr>
              <a:xfrm>
                <a:off x="1440" y="16509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5"/>
              <p:cNvSpPr/>
              <p:nvPr/>
            </p:nvSpPr>
            <p:spPr>
              <a:xfrm>
                <a:off x="0" y="6330960"/>
                <a:ext cx="9139320" cy="651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0" y="581832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7"/>
              <p:cNvSpPr/>
              <p:nvPr/>
            </p:nvSpPr>
            <p:spPr>
              <a:xfrm>
                <a:off x="0" y="5340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0" y="4929120"/>
                <a:ext cx="9139320" cy="475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0" y="4538520"/>
                <a:ext cx="9139320" cy="558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0" y="4197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0" y="3862440"/>
                <a:ext cx="9139320" cy="554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0" y="35863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0" y="33177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0" y="30607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0" y="2611440"/>
                <a:ext cx="9139320" cy="176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0" y="28224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0" y="2413080"/>
                <a:ext cx="9139320" cy="172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8"/>
              <p:cNvSpPr/>
              <p:nvPr/>
            </p:nvSpPr>
            <p:spPr>
              <a:xfrm>
                <a:off x="0" y="221292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19"/>
              <p:cNvSpPr/>
              <p:nvPr/>
            </p:nvSpPr>
            <p:spPr>
              <a:xfrm>
                <a:off x="0" y="20318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0"/>
              <p:cNvSpPr/>
              <p:nvPr/>
            </p:nvSpPr>
            <p:spPr>
              <a:xfrm>
                <a:off x="0" y="186840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1"/>
              <p:cNvSpPr/>
              <p:nvPr/>
            </p:nvSpPr>
            <p:spPr>
              <a:xfrm>
                <a:off x="0" y="3816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2"/>
              <p:cNvSpPr/>
              <p:nvPr/>
            </p:nvSpPr>
            <p:spPr>
              <a:xfrm>
                <a:off x="0" y="2952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3"/>
              <p:cNvSpPr/>
              <p:nvPr/>
            </p:nvSpPr>
            <p:spPr>
              <a:xfrm>
                <a:off x="0" y="75420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0" y="5349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0" y="95256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0" y="11541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0" y="13352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0" y="149688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29"/>
              <p:cNvGrpSpPr/>
              <p:nvPr/>
            </p:nvGrpSpPr>
            <p:grpSpPr>
              <a:xfrm>
                <a:off x="0" y="0"/>
                <a:ext cx="9139320" cy="1657440"/>
                <a:chOff x="0" y="0"/>
                <a:chExt cx="9139320" cy="1657440"/>
              </a:xfrm>
            </p:grpSpPr>
            <p:sp>
              <p:nvSpPr>
                <p:cNvPr id="135" name="Freeform 30"/>
                <p:cNvSpPr/>
                <p:nvPr/>
              </p:nvSpPr>
              <p:spPr>
                <a:xfrm>
                  <a:off x="4522680" y="0"/>
                  <a:ext cx="65160" cy="1657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1"/>
                <p:cNvSpPr/>
                <p:nvPr/>
              </p:nvSpPr>
              <p:spPr>
                <a:xfrm>
                  <a:off x="3809880" y="0"/>
                  <a:ext cx="244440" cy="165744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2"/>
                <p:cNvSpPr/>
                <p:nvPr/>
              </p:nvSpPr>
              <p:spPr>
                <a:xfrm>
                  <a:off x="3122640" y="0"/>
                  <a:ext cx="379440" cy="1657440"/>
                </a:xfrm>
                <a:custGeom>
                  <a:avLst/>
                  <a:gdLst>
                    <a:gd name="textAreaLeft" fmla="*/ 0 w 379440"/>
                    <a:gd name="textAreaRight" fmla="*/ 379800 w 379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3"/>
                <p:cNvSpPr/>
                <p:nvPr/>
              </p:nvSpPr>
              <p:spPr>
                <a:xfrm>
                  <a:off x="2467080" y="0"/>
                  <a:ext cx="558720" cy="1657440"/>
                </a:xfrm>
                <a:custGeom>
                  <a:avLst/>
                  <a:gdLst>
                    <a:gd name="textAreaLeft" fmla="*/ 0 w 558720"/>
                    <a:gd name="textAreaRight" fmla="*/ 559080 w 558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4"/>
                <p:cNvSpPr/>
                <p:nvPr/>
              </p:nvSpPr>
              <p:spPr>
                <a:xfrm>
                  <a:off x="1800360" y="0"/>
                  <a:ext cx="712800" cy="16574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5"/>
                <p:cNvSpPr/>
                <p:nvPr/>
              </p:nvSpPr>
              <p:spPr>
                <a:xfrm>
                  <a:off x="1133640" y="0"/>
                  <a:ext cx="855360" cy="165744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6"/>
                <p:cNvSpPr/>
                <p:nvPr/>
              </p:nvSpPr>
              <p:spPr>
                <a:xfrm>
                  <a:off x="485640" y="0"/>
                  <a:ext cx="1017720" cy="1657440"/>
                </a:xfrm>
                <a:custGeom>
                  <a:avLst/>
                  <a:gdLst>
                    <a:gd name="textAreaLeft" fmla="*/ 0 w 1017720"/>
                    <a:gd name="textAreaRight" fmla="*/ 1018080 w 1017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7"/>
                <p:cNvSpPr/>
                <p:nvPr/>
              </p:nvSpPr>
              <p:spPr>
                <a:xfrm>
                  <a:off x="0" y="171360"/>
                  <a:ext cx="998640" cy="1486080"/>
                </a:xfrm>
                <a:custGeom>
                  <a:avLst/>
                  <a:gdLst>
                    <a:gd name="textAreaLeft" fmla="*/ 0 w 998640"/>
                    <a:gd name="textAreaRight" fmla="*/ 999000 w 998640"/>
                    <a:gd name="textAreaTop" fmla="*/ 0 h 1486080"/>
                    <a:gd name="textAreaBottom" fmla="*/ 1486440 h 148608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8"/>
                <p:cNvSpPr/>
                <p:nvPr/>
              </p:nvSpPr>
              <p:spPr>
                <a:xfrm>
                  <a:off x="5065560" y="0"/>
                  <a:ext cx="244800" cy="1657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9"/>
                <p:cNvSpPr/>
                <p:nvPr/>
              </p:nvSpPr>
              <p:spPr>
                <a:xfrm>
                  <a:off x="5608800" y="0"/>
                  <a:ext cx="379080" cy="165744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0"/>
                <p:cNvSpPr/>
                <p:nvPr/>
              </p:nvSpPr>
              <p:spPr>
                <a:xfrm>
                  <a:off x="6066000" y="0"/>
                  <a:ext cx="568080" cy="1657440"/>
                </a:xfrm>
                <a:custGeom>
                  <a:avLst/>
                  <a:gdLst>
                    <a:gd name="textAreaLeft" fmla="*/ 0 w 568080"/>
                    <a:gd name="textAreaRight" fmla="*/ 568440 w 568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1"/>
                <p:cNvSpPr/>
                <p:nvPr/>
              </p:nvSpPr>
              <p:spPr>
                <a:xfrm>
                  <a:off x="6570720" y="0"/>
                  <a:ext cx="711000" cy="1657440"/>
                </a:xfrm>
                <a:custGeom>
                  <a:avLst/>
                  <a:gdLst>
                    <a:gd name="textAreaLeft" fmla="*/ 0 w 711000"/>
                    <a:gd name="textAreaRight" fmla="*/ 711360 w 7110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2"/>
                <p:cNvSpPr/>
                <p:nvPr/>
              </p:nvSpPr>
              <p:spPr>
                <a:xfrm>
                  <a:off x="7112160" y="0"/>
                  <a:ext cx="857160" cy="165744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3"/>
                <p:cNvSpPr/>
                <p:nvPr/>
              </p:nvSpPr>
              <p:spPr>
                <a:xfrm>
                  <a:off x="7569360" y="0"/>
                  <a:ext cx="1017360" cy="1657440"/>
                </a:xfrm>
                <a:custGeom>
                  <a:avLst/>
                  <a:gdLst>
                    <a:gd name="textAreaLeft" fmla="*/ 0 w 1017360"/>
                    <a:gd name="textAreaRight" fmla="*/ 1017720 w 1017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4"/>
                <p:cNvSpPr/>
                <p:nvPr/>
              </p:nvSpPr>
              <p:spPr>
                <a:xfrm>
                  <a:off x="8074080" y="76320"/>
                  <a:ext cx="1065240" cy="1581120"/>
                </a:xfrm>
                <a:custGeom>
                  <a:avLst/>
                  <a:gdLst>
                    <a:gd name="textAreaLeft" fmla="*/ 0 w 1065240"/>
                    <a:gd name="textAreaRight" fmla="*/ 1065600 w 1065240"/>
                    <a:gd name="textAreaTop" fmla="*/ 0 h 1581120"/>
                    <a:gd name="textAreaBottom" fmla="*/ 1581480 h 158112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5"/>
              <p:cNvGrpSpPr/>
              <p:nvPr/>
            </p:nvGrpSpPr>
            <p:grpSpPr>
              <a:xfrm>
                <a:off x="0" y="885960"/>
                <a:ext cx="9139320" cy="771480"/>
                <a:chOff x="0" y="885960"/>
                <a:chExt cx="9139320" cy="771480"/>
              </a:xfrm>
            </p:grpSpPr>
            <p:sp>
              <p:nvSpPr>
                <p:cNvPr id="151" name="Freeform 46"/>
                <p:cNvSpPr/>
                <p:nvPr/>
              </p:nvSpPr>
              <p:spPr>
                <a:xfrm>
                  <a:off x="0" y="981000"/>
                  <a:ext cx="484200" cy="676440"/>
                </a:xfrm>
                <a:custGeom>
                  <a:avLst/>
                  <a:gdLst>
                    <a:gd name="textAreaLeft" fmla="*/ 0 w 484200"/>
                    <a:gd name="textAreaRight" fmla="*/ 484560 w 484200"/>
                    <a:gd name="textAreaTop" fmla="*/ 0 h 676440"/>
                    <a:gd name="textAreaBottom" fmla="*/ 676800 h 67644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7"/>
                <p:cNvSpPr/>
                <p:nvPr/>
              </p:nvSpPr>
              <p:spPr>
                <a:xfrm>
                  <a:off x="8588520" y="885960"/>
                  <a:ext cx="550800" cy="771480"/>
                </a:xfrm>
                <a:custGeom>
                  <a:avLst/>
                  <a:gdLst>
                    <a:gd name="textAreaLeft" fmla="*/ 0 w 550800"/>
                    <a:gd name="textAreaRight" fmla="*/ 551160 w 550800"/>
                    <a:gd name="textAreaTop" fmla="*/ 0 h 771480"/>
                    <a:gd name="textAreaBottom" fmla="*/ 771840 h 77148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8"/>
              <p:cNvGrpSpPr/>
              <p:nvPr/>
            </p:nvGrpSpPr>
            <p:grpSpPr>
              <a:xfrm>
                <a:off x="419040" y="1649520"/>
                <a:ext cx="8253360" cy="5205240"/>
                <a:chOff x="419040" y="1649520"/>
                <a:chExt cx="8253360" cy="5205240"/>
              </a:xfrm>
            </p:grpSpPr>
            <p:sp>
              <p:nvSpPr>
                <p:cNvPr id="154" name="Freeform 49"/>
                <p:cNvSpPr/>
                <p:nvPr/>
              </p:nvSpPr>
              <p:spPr>
                <a:xfrm>
                  <a:off x="4522680" y="1649520"/>
                  <a:ext cx="65160" cy="5205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0"/>
                <p:cNvSpPr/>
                <p:nvPr/>
              </p:nvSpPr>
              <p:spPr>
                <a:xfrm>
                  <a:off x="3419640" y="1649520"/>
                  <a:ext cx="634680" cy="5205240"/>
                </a:xfrm>
                <a:custGeom>
                  <a:avLst/>
                  <a:gdLst>
                    <a:gd name="textAreaLeft" fmla="*/ 0 w 634680"/>
                    <a:gd name="textAreaRight" fmla="*/ 635040 w 63468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1"/>
                <p:cNvSpPr/>
                <p:nvPr/>
              </p:nvSpPr>
              <p:spPr>
                <a:xfrm>
                  <a:off x="242892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2"/>
                <p:cNvSpPr/>
                <p:nvPr/>
              </p:nvSpPr>
              <p:spPr>
                <a:xfrm>
                  <a:off x="1390680" y="1649520"/>
                  <a:ext cx="1635120" cy="5205240"/>
                </a:xfrm>
                <a:custGeom>
                  <a:avLst/>
                  <a:gdLst>
                    <a:gd name="textAreaLeft" fmla="*/ 0 w 1635120"/>
                    <a:gd name="textAreaRight" fmla="*/ 1635480 w 16351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3"/>
                <p:cNvSpPr/>
                <p:nvPr/>
              </p:nvSpPr>
              <p:spPr>
                <a:xfrm>
                  <a:off x="419040" y="1649520"/>
                  <a:ext cx="2092320" cy="5205240"/>
                </a:xfrm>
                <a:custGeom>
                  <a:avLst/>
                  <a:gdLst>
                    <a:gd name="textAreaLeft" fmla="*/ 0 w 2092320"/>
                    <a:gd name="textAreaRight" fmla="*/ 2092680 w 20923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4"/>
                <p:cNvSpPr/>
                <p:nvPr/>
              </p:nvSpPr>
              <p:spPr>
                <a:xfrm>
                  <a:off x="5065560" y="1649520"/>
                  <a:ext cx="636840" cy="5205240"/>
                </a:xfrm>
                <a:custGeom>
                  <a:avLst/>
                  <a:gdLst>
                    <a:gd name="textAreaLeft" fmla="*/ 0 w 636840"/>
                    <a:gd name="textAreaRight" fmla="*/ 637200 w 63684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5"/>
                <p:cNvSpPr/>
                <p:nvPr/>
              </p:nvSpPr>
              <p:spPr>
                <a:xfrm>
                  <a:off x="560880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6"/>
                <p:cNvSpPr/>
                <p:nvPr/>
              </p:nvSpPr>
              <p:spPr>
                <a:xfrm>
                  <a:off x="6067440" y="1649520"/>
                  <a:ext cx="1643040" cy="520524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7"/>
                <p:cNvSpPr/>
                <p:nvPr/>
              </p:nvSpPr>
              <p:spPr>
                <a:xfrm>
                  <a:off x="6567480" y="1649520"/>
                  <a:ext cx="2104920" cy="5205240"/>
                </a:xfrm>
                <a:custGeom>
                  <a:avLst/>
                  <a:gdLst>
                    <a:gd name="textAreaLeft" fmla="*/ 0 w 2104920"/>
                    <a:gd name="textAreaRight" fmla="*/ 2105280 w 21049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8"/>
              <p:cNvSpPr/>
              <p:nvPr/>
            </p:nvSpPr>
            <p:spPr>
              <a:xfrm>
                <a:off x="0" y="1649520"/>
                <a:ext cx="1989000" cy="417672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4176720"/>
                  <a:gd name="textAreaBottom" fmla="*/ 4177080 h 417672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0" y="1649520"/>
                <a:ext cx="1503360" cy="2658960"/>
              </a:xfrm>
              <a:custGeom>
                <a:avLst/>
                <a:gdLst>
                  <a:gd name="textAreaLeft" fmla="*/ 0 w 1503360"/>
                  <a:gd name="textAreaRight" fmla="*/ 1503720 w 1503360"/>
                  <a:gd name="textAreaTop" fmla="*/ 0 h 2658960"/>
                  <a:gd name="textAreaBottom" fmla="*/ 2659320 h 265896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0"/>
              <p:cNvSpPr/>
              <p:nvPr/>
            </p:nvSpPr>
            <p:spPr>
              <a:xfrm>
                <a:off x="0" y="1649520"/>
                <a:ext cx="996840" cy="14857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1485720"/>
                  <a:gd name="textAreaBottom" fmla="*/ 1486080 h 14857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1"/>
              <p:cNvSpPr/>
              <p:nvPr/>
            </p:nvSpPr>
            <p:spPr>
              <a:xfrm>
                <a:off x="0" y="1649520"/>
                <a:ext cx="482760" cy="67608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2"/>
              <p:cNvSpPr/>
              <p:nvPr/>
            </p:nvSpPr>
            <p:spPr>
              <a:xfrm>
                <a:off x="7113600" y="1649520"/>
                <a:ext cx="2025720" cy="426240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4262400"/>
                  <a:gd name="textAreaBottom" fmla="*/ 4262760 h 426240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3"/>
              <p:cNvSpPr/>
              <p:nvPr/>
            </p:nvSpPr>
            <p:spPr>
              <a:xfrm>
                <a:off x="7572240" y="1649520"/>
                <a:ext cx="1567080" cy="27446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2744640"/>
                  <a:gd name="textAreaBottom" fmla="*/ 2745000 h 27446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4"/>
              <p:cNvSpPr/>
              <p:nvPr/>
            </p:nvSpPr>
            <p:spPr>
              <a:xfrm>
                <a:off x="8077320" y="1649520"/>
                <a:ext cx="1062000" cy="158112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1581120"/>
                  <a:gd name="textAreaBottom" fmla="*/ 1581480 h 158112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5"/>
              <p:cNvSpPr/>
              <p:nvPr/>
            </p:nvSpPr>
            <p:spPr>
              <a:xfrm>
                <a:off x="8591400" y="1649520"/>
                <a:ext cx="547920" cy="77148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204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2B4155E-2A64-4483-AB43-0441196FE602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6836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55760" y="1598760"/>
            <a:ext cx="822636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Случайные величи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Дискретная случайная величина (ДС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Закон распределения 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Числовые характеристики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Теоретические моменты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Система двух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Числовые характеристики системы двух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Непрерывная 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Функция распределения Н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Функция плотности распределения Н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Числовые характеристики Н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Кривая распределения СВ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М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Меди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Равномерное распределение пло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Нормальный закон распределения. Функция Лапл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46836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оретические моменты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68360" y="1197000"/>
            <a:ext cx="828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чальным моментом порядка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ВХ называют математическое отношение Х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1116000" y="2133720"/>
            <a:ext cx="6046920" cy="620640"/>
            <a:chOff x="1116000" y="2133720"/>
            <a:chExt cx="6046920" cy="620640"/>
          </a:xfrm>
        </p:grpSpPr>
        <mc:AlternateContent>
          <mc:Choice xmlns:a14="http://schemas.microsoft.com/office/drawing/2010/main" Requires="a14">
            <p:sp>
              <p:nvSpPr>
                <p:cNvPr id="289" name="Object 4"/>
                <p:cNvSpPr txBox="1"/>
                <p:nvPr/>
              </p:nvSpPr>
              <p:spPr>
                <a:xfrm>
                  <a:off x="1116000" y="2133720"/>
                  <a:ext cx="6046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;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;ν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Text Box 5"/>
            <p:cNvSpPr/>
            <p:nvPr/>
          </p:nvSpPr>
          <p:spPr>
            <a:xfrm>
              <a:off x="1116000" y="2133720"/>
              <a:ext cx="604692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Rectangle 6"/>
          <p:cNvSpPr/>
          <p:nvPr/>
        </p:nvSpPr>
        <p:spPr>
          <a:xfrm>
            <a:off x="826920" y="2997360"/>
            <a:ext cx="7488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тральным моментом порядка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Х называют математическое ожидание велич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1908000" y="3860640"/>
            <a:ext cx="5254920" cy="2349720"/>
            <a:chOff x="1908000" y="3860640"/>
            <a:chExt cx="5254920" cy="2349720"/>
          </a:xfrm>
        </p:grpSpPr>
        <mc:AlternateContent>
          <mc:Choice xmlns:a14="http://schemas.microsoft.com/office/drawing/2010/main" Requires="a14">
            <p:sp>
              <p:nvSpPr>
                <p:cNvPr id="293" name="Object 8"/>
                <p:cNvSpPr txBox="1"/>
                <p:nvPr/>
              </p:nvSpPr>
              <p:spPr>
                <a:xfrm>
                  <a:off x="1908000" y="3860640"/>
                  <a:ext cx="525492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=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=ν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9"/>
            <p:cNvSpPr/>
            <p:nvPr/>
          </p:nvSpPr>
          <p:spPr>
            <a:xfrm>
              <a:off x="1908000" y="3860640"/>
              <a:ext cx="525492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AutoShape 10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двух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истему двух СВ (Х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 можно изображать случайной точкой на плоскости. Событие, состоящее в попадании случайной точки (Х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 в область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означают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X,Y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∩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Закон распределения системы двух ДСВ можно задать таблиц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двух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455760" y="1598760"/>
            <a:ext cx="83642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аблица, задающая закон распределения системы двух Д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2492280"/>
          <a:ext cx="4465440" cy="3738600"/>
        </p:xfrm>
        <a:graphic>
          <a:graphicData uri="http://schemas.openxmlformats.org/drawingml/2006/table">
            <a:tbl>
              <a:tblPr/>
              <a:tblGrid>
                <a:gridCol w="744480"/>
                <a:gridCol w="742680"/>
                <a:gridCol w="747720"/>
                <a:gridCol w="743040"/>
                <a:gridCol w="743040"/>
                <a:gridCol w="744480"/>
              </a:tblGrid>
              <a:tr h="9003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2" name="Group 40"/>
          <p:cNvGrpSpPr/>
          <p:nvPr/>
        </p:nvGrpSpPr>
        <p:grpSpPr>
          <a:xfrm>
            <a:off x="5111640" y="2421000"/>
            <a:ext cx="3489480" cy="2438280"/>
            <a:chOff x="5111640" y="2421000"/>
            <a:chExt cx="3489480" cy="2438280"/>
          </a:xfrm>
        </p:grpSpPr>
        <mc:AlternateContent>
          <mc:Choice xmlns:a14="http://schemas.microsoft.com/office/drawing/2010/main" Requires="a14">
            <p:sp>
              <p:nvSpPr>
                <p:cNvPr id="303" name="Object 41"/>
                <p:cNvSpPr txBox="1"/>
                <p:nvPr/>
              </p:nvSpPr>
              <p:spPr>
                <a:xfrm>
                  <a:off x="5111640" y="2421000"/>
                  <a:ext cx="3489480" cy="24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/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42"/>
            <p:cNvSpPr/>
            <p:nvPr/>
          </p:nvSpPr>
          <p:spPr>
            <a:xfrm>
              <a:off x="5111640" y="2421000"/>
              <a:ext cx="34894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AutoShape 4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Числовые хар-ки системы двух ДС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324000" y="1844640"/>
            <a:ext cx="3093840" cy="1712880"/>
            <a:chOff x="324000" y="1844640"/>
            <a:chExt cx="3093840" cy="1712880"/>
          </a:xfrm>
        </p:grpSpPr>
        <p:sp>
          <p:nvSpPr>
            <p:cNvPr id="309" name="Text Box 5"/>
            <p:cNvSpPr/>
            <p:nvPr/>
          </p:nvSpPr>
          <p:spPr>
            <a:xfrm>
              <a:off x="324000" y="1844640"/>
              <a:ext cx="3093840" cy="17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6"/>
          <p:cNvGrpSpPr/>
          <p:nvPr/>
        </p:nvGrpSpPr>
        <p:grpSpPr>
          <a:xfrm>
            <a:off x="4427640" y="1844640"/>
            <a:ext cx="3238560" cy="1700280"/>
            <a:chOff x="4427640" y="1844640"/>
            <a:chExt cx="3238560" cy="1700280"/>
          </a:xfrm>
        </p:grpSpPr>
        <p:sp>
          <p:nvSpPr>
            <p:cNvPr id="311" name="Text Box 8"/>
            <p:cNvSpPr/>
            <p:nvPr/>
          </p:nvSpPr>
          <p:spPr>
            <a:xfrm>
              <a:off x="4427640" y="1844640"/>
              <a:ext cx="323856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Text Box 10"/>
          <p:cNvSpPr/>
          <p:nvPr/>
        </p:nvSpPr>
        <p:spPr>
          <a:xfrm>
            <a:off x="179280" y="1413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атематическое ожидание и дисперсия системы двух ДСВ по опреде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258920" y="38606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и решении задач удобно применять форму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прерывная 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НС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называется такая величина, возможные значения которой непрерывно заполняют некоторый интервал (конечный или бесконечны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исло всех возможных значений НСВ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бесконечн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имер: Случайное отклонение по дальности точки падения снаряда от ц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ункция распределения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Функцией распределения называют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(x)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 определяющую для каждого значения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вероятность того, что СВХ примет значение, меньшее х, т.е. согласно определ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(x)=P(X&lt;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(x)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яет и ДСВ и НСВ.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(x)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кже называют интегральной функцией распред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ункция распределения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5760" y="1598760"/>
            <a:ext cx="5628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ойства функции распредел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2556000" y="2781360"/>
            <a:ext cx="1582560" cy="799920"/>
            <a:chOff x="2556000" y="2781360"/>
            <a:chExt cx="1582560" cy="799920"/>
          </a:xfrm>
        </p:grpSpPr>
        <mc:AlternateContent>
          <mc:Choice xmlns:a14="http://schemas.microsoft.com/office/drawing/2010/main" Requires="a14">
            <p:sp>
              <p:nvSpPr>
                <p:cNvPr id="324" name="Object 4"/>
                <p:cNvSpPr txBox="1"/>
                <p:nvPr/>
              </p:nvSpPr>
              <p:spPr>
                <a:xfrm>
                  <a:off x="2556000" y="2781360"/>
                  <a:ext cx="15825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≥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Text Box 5"/>
            <p:cNvSpPr/>
            <p:nvPr/>
          </p:nvSpPr>
          <p:spPr>
            <a:xfrm>
              <a:off x="2556000" y="2781360"/>
              <a:ext cx="15825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Group 6"/>
          <p:cNvGrpSpPr/>
          <p:nvPr/>
        </p:nvGrpSpPr>
        <p:grpSpPr>
          <a:xfrm>
            <a:off x="611280" y="2347920"/>
            <a:ext cx="1293840" cy="720720"/>
            <a:chOff x="611280" y="2347920"/>
            <a:chExt cx="1293840" cy="720720"/>
          </a:xfrm>
        </p:grpSpPr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611280" y="2347920"/>
                  <a:ext cx="12938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Text Box 8"/>
            <p:cNvSpPr/>
            <p:nvPr/>
          </p:nvSpPr>
          <p:spPr>
            <a:xfrm>
              <a:off x="611280" y="2347920"/>
              <a:ext cx="12938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9" name="Object 9"/>
              <p:cNvSpPr txBox="1"/>
              <p:nvPr/>
            </p:nvSpPr>
            <p:spPr>
              <a:xfrm>
                <a:off x="1187280" y="2708280"/>
                <a:ext cx="981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&gt;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Text Box 10"/>
          <p:cNvSpPr/>
          <p:nvPr/>
        </p:nvSpPr>
        <p:spPr>
          <a:xfrm>
            <a:off x="539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05092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39640" y="3355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835280" y="3355920"/>
                <a:ext cx="2944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&gt;x&lt;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Text Box 14"/>
          <p:cNvSpPr/>
          <p:nvPr/>
        </p:nvSpPr>
        <p:spPr>
          <a:xfrm>
            <a:off x="539640" y="3860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се возможные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Х принадлежат интервалу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;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lt;=a F(x)=0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&gt;=b F(x)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611280" y="5013360"/>
                <a:ext cx="14954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16"/>
          <p:cNvSpPr/>
          <p:nvPr/>
        </p:nvSpPr>
        <p:spPr>
          <a:xfrm>
            <a:off x="250920" y="2347920"/>
            <a:ext cx="43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9640" y="6165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я распределения непрерывна сл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18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455760" y="249120"/>
            <a:ext cx="822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Функция плотности распределения НС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455760" y="1598760"/>
            <a:ext cx="83642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Функцией плотности распределения вероятностей называют первую производную от функции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(x)=F`(x). f(x)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зывают дифференциальной функцией. Вероятность того, что НСВХ примет значения, принадлежащие интервалу (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;b)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числяемые по форму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2484360" y="2708280"/>
            <a:ext cx="2157480" cy="706320"/>
            <a:chOff x="2484360" y="2708280"/>
            <a:chExt cx="2157480" cy="706320"/>
          </a:xfrm>
        </p:grpSpPr>
        <mc:AlternateContent>
          <mc:Choice xmlns:a14="http://schemas.microsoft.com/office/drawing/2010/main" Requires="a14">
            <p:sp>
              <p:nvSpPr>
                <p:cNvPr id="342" name="Object 4"/>
                <p:cNvSpPr txBox="1"/>
                <p:nvPr/>
              </p:nvSpPr>
              <p:spPr>
                <a:xfrm>
                  <a:off x="2484360" y="2708280"/>
                  <a:ext cx="21574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&lt;x&lt;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Text Box 5"/>
            <p:cNvSpPr/>
            <p:nvPr/>
          </p:nvSpPr>
          <p:spPr>
            <a:xfrm>
              <a:off x="2484360" y="2708280"/>
              <a:ext cx="21574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6"/>
          <p:cNvGrpSpPr/>
          <p:nvPr/>
        </p:nvGrpSpPr>
        <p:grpSpPr>
          <a:xfrm>
            <a:off x="2771640" y="3860640"/>
            <a:ext cx="1654200" cy="736920"/>
            <a:chOff x="2771640" y="3860640"/>
            <a:chExt cx="1654200" cy="736920"/>
          </a:xfrm>
        </p:grpSpPr>
        <mc:AlternateContent>
          <mc:Choice xmlns:a14="http://schemas.microsoft.com/office/drawing/2010/main" Requires="a14">
            <p:sp>
              <p:nvSpPr>
                <p:cNvPr id="345" name="Object 7"/>
                <p:cNvSpPr txBox="1"/>
                <p:nvPr/>
              </p:nvSpPr>
              <p:spPr>
                <a:xfrm>
                  <a:off x="2771640" y="3860640"/>
                  <a:ext cx="165420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Text Box 8"/>
            <p:cNvSpPr/>
            <p:nvPr/>
          </p:nvSpPr>
          <p:spPr>
            <a:xfrm>
              <a:off x="2771640" y="3860640"/>
              <a:ext cx="16542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Text Box 9"/>
          <p:cNvSpPr/>
          <p:nvPr/>
        </p:nvSpPr>
        <p:spPr>
          <a:xfrm>
            <a:off x="826920" y="3573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ная плотность распределения, можно найти функцию 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3964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1"/>
              <p:cNvSpPr txBox="1"/>
              <p:nvPr/>
            </p:nvSpPr>
            <p:spPr>
              <a:xfrm>
                <a:off x="1187280" y="5084640"/>
                <a:ext cx="8780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2"/>
              <p:cNvSpPr txBox="1"/>
              <p:nvPr/>
            </p:nvSpPr>
            <p:spPr>
              <a:xfrm>
                <a:off x="1187280" y="5445000"/>
                <a:ext cx="12574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3"/>
          <p:cNvSpPr/>
          <p:nvPr/>
        </p:nvSpPr>
        <p:spPr>
          <a:xfrm>
            <a:off x="2340000" y="5589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частности, если все возможные значения СВ принадлеж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;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4"/>
              <p:cNvSpPr txBox="1"/>
              <p:nvPr/>
            </p:nvSpPr>
            <p:spPr>
              <a:xfrm>
                <a:off x="5292720" y="5950080"/>
                <a:ext cx="121608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15"/>
          <p:cNvSpPr/>
          <p:nvPr/>
        </p:nvSpPr>
        <p:spPr>
          <a:xfrm>
            <a:off x="755640" y="5084640"/>
            <a:ext cx="43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468360" y="1628640"/>
            <a:ext cx="76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тематическое ожидание НСВХ, все возможные значения которой принадлежат интервалу (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определяется равенств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059280" y="2205000"/>
            <a:ext cx="2519280" cy="1039680"/>
            <a:chOff x="3059280" y="2205000"/>
            <a:chExt cx="2519280" cy="1039680"/>
          </a:xfrm>
        </p:grpSpPr>
        <p:sp>
          <p:nvSpPr>
            <p:cNvPr id="358" name="Text Box 5"/>
            <p:cNvSpPr/>
            <p:nvPr/>
          </p:nvSpPr>
          <p:spPr>
            <a:xfrm>
              <a:off x="3059280" y="2205000"/>
              <a:ext cx="25192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468360" y="3213000"/>
            <a:ext cx="78613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Дисперсия НСВХ, все возможные значения которой принадлежат интервалу (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определяется равенств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2771640" y="3860640"/>
            <a:ext cx="3527640" cy="939960"/>
            <a:chOff x="2771640" y="3860640"/>
            <a:chExt cx="3527640" cy="939960"/>
          </a:xfrm>
        </p:grpSpPr>
        <p:sp>
          <p:nvSpPr>
            <p:cNvPr id="361" name="Text Box 9"/>
            <p:cNvSpPr/>
            <p:nvPr/>
          </p:nvSpPr>
          <p:spPr>
            <a:xfrm>
              <a:off x="2771640" y="3860640"/>
              <a:ext cx="35276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Rectangle 10"/>
          <p:cNvSpPr/>
          <p:nvPr/>
        </p:nvSpPr>
        <p:spPr>
          <a:xfrm>
            <a:off x="611280" y="4941720"/>
            <a:ext cx="7861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и решении задач применима форму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468360" y="1628640"/>
            <a:ext cx="763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реднеквадратичное отклонение определяется так же, как и для ДС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2916360" y="2133720"/>
            <a:ext cx="2519280" cy="644400"/>
            <a:chOff x="2916360" y="2133720"/>
            <a:chExt cx="2519280" cy="644400"/>
          </a:xfrm>
        </p:grpSpPr>
        <mc:AlternateContent>
          <mc:Choice xmlns:a14="http://schemas.microsoft.com/office/drawing/2010/main" Requires="a14">
            <p:sp>
              <p:nvSpPr>
                <p:cNvPr id="367" name="Object 4"/>
                <p:cNvSpPr txBox="1"/>
                <p:nvPr/>
              </p:nvSpPr>
              <p:spPr>
                <a:xfrm>
                  <a:off x="2916360" y="2133720"/>
                  <a:ext cx="251928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Text Box 5"/>
            <p:cNvSpPr/>
            <p:nvPr/>
          </p:nvSpPr>
          <p:spPr>
            <a:xfrm>
              <a:off x="2916360" y="2133720"/>
              <a:ext cx="2519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468360" y="3068640"/>
            <a:ext cx="786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чальный момент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ого порядка НСВ определяется равенств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59280" y="3500280"/>
            <a:ext cx="2030400" cy="939960"/>
            <a:chOff x="3059280" y="3500280"/>
            <a:chExt cx="2030400" cy="939960"/>
          </a:xfrm>
        </p:grpSpPr>
        <mc:AlternateContent>
          <mc:Choice xmlns:a14="http://schemas.microsoft.com/office/drawing/2010/main" Requires="a14">
            <p:sp>
              <p:nvSpPr>
                <p:cNvPr id="371" name="Object 8"/>
                <p:cNvSpPr txBox="1"/>
                <p:nvPr/>
              </p:nvSpPr>
              <p:spPr>
                <a:xfrm>
                  <a:off x="3059280" y="3500280"/>
                  <a:ext cx="20304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Text Box 9"/>
            <p:cNvSpPr/>
            <p:nvPr/>
          </p:nvSpPr>
          <p:spPr>
            <a:xfrm>
              <a:off x="3059280" y="3500280"/>
              <a:ext cx="20304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3276720" y="4797360"/>
                <a:ext cx="1436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2556000" y="5516640"/>
                <a:ext cx="32194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1128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лучайные величи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84360" y="2205000"/>
            <a:ext cx="7704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лучайной величиной (СВ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называется величина, которая в результате опыта может принять то или иное значение, причем заранее до опыта неизвестно, какое имен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елятся на два типа: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дискретные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В (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ДС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непрерывн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СВ (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НС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468360" y="1628640"/>
            <a:ext cx="763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Центральный момент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k-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го порядка НСВХ, все возможные значения которой принадлежат интервалу (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:b)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пределяется равенство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2050920" y="2060640"/>
            <a:ext cx="4102200" cy="1189080"/>
            <a:chOff x="2050920" y="2060640"/>
            <a:chExt cx="4102200" cy="1189080"/>
          </a:xfrm>
        </p:grpSpPr>
        <mc:AlternateContent>
          <mc:Choice xmlns:a14="http://schemas.microsoft.com/office/drawing/2010/main" Requires="a14">
            <p:sp>
              <p:nvSpPr>
                <p:cNvPr id="379" name="Object 4"/>
                <p:cNvSpPr txBox="1"/>
                <p:nvPr/>
              </p:nvSpPr>
              <p:spPr>
                <a:xfrm>
                  <a:off x="2050920" y="2060640"/>
                  <a:ext cx="41022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Text Box 5"/>
            <p:cNvSpPr/>
            <p:nvPr/>
          </p:nvSpPr>
          <p:spPr>
            <a:xfrm>
              <a:off x="2050920" y="2060640"/>
              <a:ext cx="4102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1" name="Object 6"/>
              <p:cNvSpPr txBox="1"/>
              <p:nvPr/>
            </p:nvSpPr>
            <p:spPr>
              <a:xfrm>
                <a:off x="611280" y="3500280"/>
                <a:ext cx="115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7"/>
              <p:cNvSpPr txBox="1"/>
              <p:nvPr/>
            </p:nvSpPr>
            <p:spPr>
              <a:xfrm>
                <a:off x="611280" y="4149720"/>
                <a:ext cx="1944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8"/>
          <p:cNvGrpSpPr/>
          <p:nvPr/>
        </p:nvGrpSpPr>
        <p:grpSpPr>
          <a:xfrm>
            <a:off x="611280" y="4797360"/>
            <a:ext cx="3992400" cy="663480"/>
            <a:chOff x="611280" y="4797360"/>
            <a:chExt cx="3992400" cy="663480"/>
          </a:xfrm>
        </p:grpSpPr>
        <mc:AlternateContent>
          <mc:Choice xmlns:a14="http://schemas.microsoft.com/office/drawing/2010/main" Requires="a14">
            <p:sp>
              <p:nvSpPr>
                <p:cNvPr id="384" name="Object 9"/>
                <p:cNvSpPr txBox="1"/>
                <p:nvPr/>
              </p:nvSpPr>
              <p:spPr>
                <a:xfrm>
                  <a:off x="611280" y="4797360"/>
                  <a:ext cx="399240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=ν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Text Box 10"/>
            <p:cNvSpPr/>
            <p:nvPr/>
          </p:nvSpPr>
          <p:spPr>
            <a:xfrm>
              <a:off x="611280" y="4797360"/>
              <a:ext cx="39924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11"/>
              <p:cNvSpPr txBox="1"/>
              <p:nvPr/>
            </p:nvSpPr>
            <p:spPr>
              <a:xfrm>
                <a:off x="611280" y="5661000"/>
                <a:ext cx="5607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ν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468360" y="1628640"/>
            <a:ext cx="7632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Если все возможные значения НСВХ принадлежат всей числовой оси ОХ, то во всех вышеуказанных формулах определенный интеграл заменяется несобственным интегралом с бесконечными нижним и верхним предел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468360" y="0"/>
            <a:ext cx="8226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ивая распределения СВ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2"/>
          <p:cNvGrpSpPr/>
          <p:nvPr/>
        </p:nvGrpSpPr>
        <p:grpSpPr>
          <a:xfrm>
            <a:off x="755640" y="907560"/>
            <a:ext cx="5183280" cy="2782800"/>
            <a:chOff x="755640" y="907560"/>
            <a:chExt cx="5183280" cy="2782800"/>
          </a:xfrm>
        </p:grpSpPr>
        <p:sp>
          <p:nvSpPr>
            <p:cNvPr id="393" name="Line 3"/>
            <p:cNvSpPr/>
            <p:nvPr/>
          </p:nvSpPr>
          <p:spPr>
            <a:xfrm flipV="1">
              <a:off x="1187280" y="907560"/>
              <a:ext cx="0" cy="252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"/>
            <p:cNvSpPr/>
            <p:nvPr/>
          </p:nvSpPr>
          <p:spPr>
            <a:xfrm>
              <a:off x="971640" y="3284640"/>
              <a:ext cx="475128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5"/>
            <p:cNvSpPr/>
            <p:nvPr/>
          </p:nvSpPr>
          <p:spPr>
            <a:xfrm>
              <a:off x="755640" y="909000"/>
              <a:ext cx="4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6"/>
            <p:cNvSpPr/>
            <p:nvPr/>
          </p:nvSpPr>
          <p:spPr>
            <a:xfrm>
              <a:off x="5508720" y="3284640"/>
              <a:ext cx="4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1258920" y="1816920"/>
              <a:ext cx="2913120" cy="1216800"/>
            </a:xfrm>
            <a:custGeom>
              <a:avLst/>
              <a:gdLst>
                <a:gd name="textAreaLeft" fmla="*/ 0 w 2913120"/>
                <a:gd name="textAreaRight" fmla="*/ 2913120 w 2913120"/>
                <a:gd name="textAreaTop" fmla="*/ 0 h 1216800"/>
                <a:gd name="textAreaBottom" fmla="*/ 1217160 h 1216800"/>
              </a:gdLst>
              <a:ahLst/>
              <a:rect l="textAreaLeft" t="textAreaTop" r="textAreaRight" b="textAreaBottom"/>
              <a:pathLst>
                <a:path w="1836" h="768">
                  <a:moveTo>
                    <a:pt x="0" y="738"/>
                  </a:moveTo>
                  <a:cubicBezTo>
                    <a:pt x="57" y="713"/>
                    <a:pt x="226" y="693"/>
                    <a:pt x="343" y="585"/>
                  </a:cubicBezTo>
                  <a:cubicBezTo>
                    <a:pt x="460" y="477"/>
                    <a:pt x="591" y="173"/>
                    <a:pt x="702" y="89"/>
                  </a:cubicBezTo>
                  <a:cubicBezTo>
                    <a:pt x="813" y="5"/>
                    <a:pt x="891" y="0"/>
                    <a:pt x="1009" y="78"/>
                  </a:cubicBezTo>
                  <a:cubicBezTo>
                    <a:pt x="1127" y="156"/>
                    <a:pt x="1284" y="449"/>
                    <a:pt x="1411" y="559"/>
                  </a:cubicBezTo>
                  <a:cubicBezTo>
                    <a:pt x="1538" y="669"/>
                    <a:pt x="1702" y="708"/>
                    <a:pt x="1769" y="738"/>
                  </a:cubicBezTo>
                  <a:cubicBezTo>
                    <a:pt x="1836" y="768"/>
                    <a:pt x="1818" y="749"/>
                    <a:pt x="1815" y="738"/>
                  </a:cubicBezTo>
                </a:path>
              </a:pathLst>
            </a:custGeom>
            <a:noFill/>
            <a:ln w="255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2411280" y="3284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Arial"/>
                </a:rPr>
                <a:t>М</a:t>
              </a:r>
              <a:r>
                <a:rPr b="0" lang="ru-RU" sz="1800" spc="-1" strike="noStrike" baseline="-25000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>
              <a:off x="2627280" y="1845360"/>
              <a:ext cx="0" cy="1437120"/>
            </a:xfrm>
            <a:prstGeom prst="line">
              <a:avLst/>
            </a:prstGeom>
            <a:ln w="255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2124000" y="2277360"/>
              <a:ext cx="0" cy="10054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1979640" y="3284640"/>
              <a:ext cx="28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2"/>
            <p:cNvSpPr/>
            <p:nvPr/>
          </p:nvSpPr>
          <p:spPr>
            <a:xfrm>
              <a:off x="3132000" y="2277360"/>
              <a:ext cx="0" cy="10054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2987640" y="3284640"/>
              <a:ext cx="28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4"/>
            <p:cNvSpPr/>
            <p:nvPr/>
          </p:nvSpPr>
          <p:spPr>
            <a:xfrm flipV="1">
              <a:off x="2124000" y="1843920"/>
              <a:ext cx="503280" cy="5774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 flipV="1">
              <a:off x="2124000" y="1914840"/>
              <a:ext cx="646200" cy="7218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6"/>
            <p:cNvSpPr/>
            <p:nvPr/>
          </p:nvSpPr>
          <p:spPr>
            <a:xfrm flipV="1">
              <a:off x="2124000" y="1987920"/>
              <a:ext cx="790560" cy="864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7"/>
            <p:cNvSpPr/>
            <p:nvPr/>
          </p:nvSpPr>
          <p:spPr>
            <a:xfrm flipV="1">
              <a:off x="2124000" y="2131200"/>
              <a:ext cx="862200" cy="9374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8"/>
            <p:cNvSpPr/>
            <p:nvPr/>
          </p:nvSpPr>
          <p:spPr>
            <a:xfrm flipV="1">
              <a:off x="2124000" y="2203920"/>
              <a:ext cx="1006560" cy="108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9"/>
            <p:cNvSpPr/>
            <p:nvPr/>
          </p:nvSpPr>
          <p:spPr>
            <a:xfrm flipV="1">
              <a:off x="2340000" y="2419560"/>
              <a:ext cx="790560" cy="864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0"/>
            <p:cNvSpPr/>
            <p:nvPr/>
          </p:nvSpPr>
          <p:spPr>
            <a:xfrm flipV="1">
              <a:off x="2556000" y="2635200"/>
              <a:ext cx="574560" cy="649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"/>
            <p:cNvSpPr/>
            <p:nvPr/>
          </p:nvSpPr>
          <p:spPr>
            <a:xfrm flipV="1">
              <a:off x="2771640" y="2851200"/>
              <a:ext cx="358920" cy="433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"/>
            <p:cNvSpPr/>
            <p:nvPr/>
          </p:nvSpPr>
          <p:spPr>
            <a:xfrm flipV="1">
              <a:off x="2987640" y="3138120"/>
              <a:ext cx="142920" cy="1458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23"/>
          <p:cNvSpPr/>
          <p:nvPr/>
        </p:nvSpPr>
        <p:spPr>
          <a:xfrm>
            <a:off x="4572000" y="1125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рафик функци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(x)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зывается кривой 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4"/>
          <p:cNvSpPr/>
          <p:nvPr/>
        </p:nvSpPr>
        <p:spPr>
          <a:xfrm>
            <a:off x="3995640" y="2133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ривая распред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 flipH="1">
            <a:off x="3417840" y="2349360"/>
            <a:ext cx="579600" cy="1429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324000" y="4005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еометрически вероятность попадания СВХ в промежуток (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равна площади соответствующей криволинейной трапеции, ограниченной кривой распределения осью ОХ и прямым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=a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=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27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468360" y="0"/>
            <a:ext cx="822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395280" y="981000"/>
            <a:ext cx="82202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Модой ДСВХ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азывается ее наиболее вероятное значение.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Модой НСВХ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азывается такое ее значени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ри котором плотность распределения максимальн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Для нахождения моды НСВ необходимо найти максимум функции с помощью первой или второй производ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=2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.к. 0.1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0.6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Геометрически мода является абсциссой той точки кривой или полигона распределения, ордината которой максималь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00000" y="2421000"/>
          <a:ext cx="2378160" cy="736560"/>
        </p:xfrm>
        <a:graphic>
          <a:graphicData uri="http://schemas.openxmlformats.org/drawingml/2006/table">
            <a:tbl>
              <a:tblPr/>
              <a:tblGrid>
                <a:gridCol w="595440"/>
                <a:gridCol w="595440"/>
                <a:gridCol w="591840"/>
                <a:gridCol w="59544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1" name="Group 12"/>
          <p:cNvGrpSpPr/>
          <p:nvPr/>
        </p:nvGrpSpPr>
        <p:grpSpPr>
          <a:xfrm>
            <a:off x="971640" y="4581360"/>
            <a:ext cx="3741480" cy="1783800"/>
            <a:chOff x="971640" y="4581360"/>
            <a:chExt cx="3741480" cy="1783800"/>
          </a:xfrm>
        </p:grpSpPr>
        <p:sp>
          <p:nvSpPr>
            <p:cNvPr id="422" name="Line 13"/>
            <p:cNvSpPr/>
            <p:nvPr/>
          </p:nvSpPr>
          <p:spPr>
            <a:xfrm flipV="1">
              <a:off x="1282680" y="4581360"/>
              <a:ext cx="0" cy="1462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4"/>
            <p:cNvSpPr/>
            <p:nvPr/>
          </p:nvSpPr>
          <p:spPr>
            <a:xfrm>
              <a:off x="1127160" y="5959440"/>
              <a:ext cx="343044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971640" y="45824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4403880" y="595944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7"/>
            <p:cNvSpPr/>
            <p:nvPr/>
          </p:nvSpPr>
          <p:spPr>
            <a:xfrm>
              <a:off x="1335240" y="5109120"/>
              <a:ext cx="2101680" cy="704160"/>
            </a:xfrm>
            <a:custGeom>
              <a:avLst/>
              <a:gdLst>
                <a:gd name="textAreaLeft" fmla="*/ 0 w 2101680"/>
                <a:gd name="textAreaRight" fmla="*/ 2102040 w 210168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1836" h="768">
                  <a:moveTo>
                    <a:pt x="0" y="738"/>
                  </a:moveTo>
                  <a:cubicBezTo>
                    <a:pt x="57" y="713"/>
                    <a:pt x="226" y="693"/>
                    <a:pt x="343" y="585"/>
                  </a:cubicBezTo>
                  <a:cubicBezTo>
                    <a:pt x="460" y="477"/>
                    <a:pt x="591" y="173"/>
                    <a:pt x="702" y="89"/>
                  </a:cubicBezTo>
                  <a:cubicBezTo>
                    <a:pt x="813" y="5"/>
                    <a:pt x="891" y="0"/>
                    <a:pt x="1009" y="78"/>
                  </a:cubicBezTo>
                  <a:cubicBezTo>
                    <a:pt x="1127" y="156"/>
                    <a:pt x="1284" y="449"/>
                    <a:pt x="1411" y="559"/>
                  </a:cubicBezTo>
                  <a:cubicBezTo>
                    <a:pt x="1538" y="669"/>
                    <a:pt x="1702" y="708"/>
                    <a:pt x="1769" y="738"/>
                  </a:cubicBezTo>
                  <a:cubicBezTo>
                    <a:pt x="1836" y="768"/>
                    <a:pt x="1818" y="749"/>
                    <a:pt x="1815" y="738"/>
                  </a:cubicBezTo>
                </a:path>
              </a:pathLst>
            </a:custGeom>
            <a:noFill/>
            <a:ln w="255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2166840" y="5959440"/>
              <a:ext cx="459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М</a:t>
              </a:r>
              <a:r>
                <a:rPr b="0" lang="ru-RU" sz="18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>
              <a:off x="2322360" y="5125320"/>
              <a:ext cx="0" cy="832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0"/>
            <p:cNvSpPr/>
            <p:nvPr/>
          </p:nvSpPr>
          <p:spPr>
            <a:xfrm>
              <a:off x="1959120" y="5375880"/>
              <a:ext cx="0" cy="58212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21"/>
            <p:cNvSpPr/>
            <p:nvPr/>
          </p:nvSpPr>
          <p:spPr>
            <a:xfrm>
              <a:off x="1855800" y="5959440"/>
              <a:ext cx="20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>
              <a:off x="2687760" y="5375880"/>
              <a:ext cx="0" cy="58212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"/>
            <p:cNvSpPr/>
            <p:nvPr/>
          </p:nvSpPr>
          <p:spPr>
            <a:xfrm>
              <a:off x="2583000" y="5959440"/>
              <a:ext cx="20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"/>
            <p:cNvSpPr/>
            <p:nvPr/>
          </p:nvSpPr>
          <p:spPr>
            <a:xfrm flipV="1">
              <a:off x="1959120" y="5123520"/>
              <a:ext cx="363240" cy="3362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 flipV="1">
              <a:off x="1959120" y="5164560"/>
              <a:ext cx="466560" cy="4201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6"/>
            <p:cNvSpPr/>
            <p:nvPr/>
          </p:nvSpPr>
          <p:spPr>
            <a:xfrm flipV="1">
              <a:off x="1959120" y="5207760"/>
              <a:ext cx="571320" cy="502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"/>
            <p:cNvSpPr/>
            <p:nvPr/>
          </p:nvSpPr>
          <p:spPr>
            <a:xfrm flipV="1">
              <a:off x="1959120" y="5289840"/>
              <a:ext cx="622080" cy="543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8"/>
            <p:cNvSpPr/>
            <p:nvPr/>
          </p:nvSpPr>
          <p:spPr>
            <a:xfrm flipV="1">
              <a:off x="1959120" y="5333040"/>
              <a:ext cx="726840" cy="6264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9"/>
            <p:cNvSpPr/>
            <p:nvPr/>
          </p:nvSpPr>
          <p:spPr>
            <a:xfrm flipV="1">
              <a:off x="2116080" y="5458320"/>
              <a:ext cx="569880" cy="500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 flipV="1">
              <a:off x="2271600" y="5583600"/>
              <a:ext cx="414360" cy="3758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1"/>
            <p:cNvSpPr/>
            <p:nvPr/>
          </p:nvSpPr>
          <p:spPr>
            <a:xfrm flipV="1">
              <a:off x="2427120" y="5708880"/>
              <a:ext cx="258840" cy="250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2"/>
            <p:cNvSpPr/>
            <p:nvPr/>
          </p:nvSpPr>
          <p:spPr>
            <a:xfrm flipV="1">
              <a:off x="2583000" y="5875200"/>
              <a:ext cx="102960" cy="83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AutoShape 3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468360" y="0"/>
            <a:ext cx="822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395280" y="981000"/>
            <a:ext cx="82202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едианой НСВХ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зывается такое ее значение М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, для которого одинаково вероятно, окажется ли случайная величина больше или меньше М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, т.е.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(x&lt;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</a:t>
            </a:r>
            <a:r>
              <a:rPr b="1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)=P(x&gt;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</a:t>
            </a:r>
            <a:r>
              <a:rPr b="1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)=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дината, проведенная к точке с абсциссой, равной М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делит пополам площадь, ограниченную кривой или полигоном распределения. Если прямая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x=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вляется осью симметрии кривой распределения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М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(Х)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вномерное распределение плот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5760" y="1598760"/>
            <a:ext cx="85089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Равномерным называется распределение таких СВ, все значения которых лежат на некотором отрезке (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и имеют постоянную плотность вероятности на этом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6084720" y="4221000"/>
            <a:ext cx="2733840" cy="1500480"/>
            <a:chOff x="6084720" y="4221000"/>
            <a:chExt cx="2733840" cy="1500480"/>
          </a:xfrm>
        </p:grpSpPr>
        <mc:AlternateContent>
          <mc:Choice xmlns:a14="http://schemas.microsoft.com/office/drawing/2010/main" Requires="a14">
            <p:sp>
              <p:nvSpPr>
                <p:cNvPr id="449" name="Object 4"/>
                <p:cNvSpPr txBox="1"/>
                <p:nvPr/>
              </p:nvSpPr>
              <p:spPr>
                <a:xfrm>
                  <a:off x="6084720" y="4221000"/>
                  <a:ext cx="2733840" cy="150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&gt;b</m:t>
                              </m:r>
                            </m:e>
                            <m:sup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,a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&lt;a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Text Box 5"/>
            <p:cNvSpPr/>
            <p:nvPr/>
          </p:nvSpPr>
          <p:spPr>
            <a:xfrm>
              <a:off x="6084720" y="4221000"/>
              <a:ext cx="273384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6"/>
          <p:cNvGrpSpPr/>
          <p:nvPr/>
        </p:nvGrpSpPr>
        <p:grpSpPr>
          <a:xfrm>
            <a:off x="5904000" y="2492280"/>
            <a:ext cx="3238560" cy="1776600"/>
            <a:chOff x="5904000" y="2492280"/>
            <a:chExt cx="3238560" cy="1776600"/>
          </a:xfrm>
        </p:grpSpPr>
        <p:sp>
          <p:nvSpPr>
            <p:cNvPr id="452" name="Line 7"/>
            <p:cNvSpPr/>
            <p:nvPr/>
          </p:nvSpPr>
          <p:spPr>
            <a:xfrm flipV="1">
              <a:off x="6227640" y="2492280"/>
              <a:ext cx="0" cy="1533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>
              <a:off x="6033960" y="3902040"/>
              <a:ext cx="297828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9"/>
            <p:cNvSpPr/>
            <p:nvPr/>
          </p:nvSpPr>
          <p:spPr>
            <a:xfrm>
              <a:off x="5904000" y="2553840"/>
              <a:ext cx="3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0"/>
            <p:cNvSpPr/>
            <p:nvPr/>
          </p:nvSpPr>
          <p:spPr>
            <a:xfrm>
              <a:off x="8755200" y="3900600"/>
              <a:ext cx="3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>
              <a:off x="7005600" y="3043800"/>
              <a:ext cx="0" cy="856800"/>
            </a:xfrm>
            <a:prstGeom prst="line">
              <a:avLst/>
            </a:prstGeom>
            <a:ln w="255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 flipH="1">
              <a:off x="7002360" y="3043800"/>
              <a:ext cx="974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6877080" y="3841920"/>
              <a:ext cx="25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4"/>
            <p:cNvSpPr/>
            <p:nvPr/>
          </p:nvSpPr>
          <p:spPr>
            <a:xfrm>
              <a:off x="7912080" y="3841920"/>
              <a:ext cx="25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>
              <a:off x="7977240" y="3043800"/>
              <a:ext cx="0" cy="856800"/>
            </a:xfrm>
            <a:prstGeom prst="line">
              <a:avLst/>
            </a:prstGeom>
            <a:ln w="255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H="1">
              <a:off x="6227280" y="3902040"/>
              <a:ext cx="777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 flipH="1">
              <a:off x="7976880" y="3902040"/>
              <a:ext cx="777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>
              <a:off x="6162840" y="3043800"/>
              <a:ext cx="1951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19"/>
            <p:cNvSpPr/>
            <p:nvPr/>
          </p:nvSpPr>
          <p:spPr>
            <a:xfrm>
              <a:off x="6219720" y="2737800"/>
              <a:ext cx="20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 baseline="-25000">
                  <a:solidFill>
                    <a:srgbClr val="eaeaea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0"/>
          <p:cNvGrpSpPr/>
          <p:nvPr/>
        </p:nvGrpSpPr>
        <p:grpSpPr>
          <a:xfrm>
            <a:off x="6156360" y="5805360"/>
            <a:ext cx="1076400" cy="709920"/>
            <a:chOff x="6156360" y="5805360"/>
            <a:chExt cx="1076400" cy="709920"/>
          </a:xfrm>
        </p:grpSpPr>
        <mc:AlternateContent>
          <mc:Choice xmlns:a14="http://schemas.microsoft.com/office/drawing/2010/main" Requires="a14">
            <p:sp>
              <p:nvSpPr>
                <p:cNvPr id="466" name="Object 21"/>
                <p:cNvSpPr txBox="1"/>
                <p:nvPr/>
              </p:nvSpPr>
              <p:spPr>
                <a:xfrm>
                  <a:off x="6156360" y="5805360"/>
                  <a:ext cx="1076400" cy="70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Text Box 22"/>
            <p:cNvSpPr/>
            <p:nvPr/>
          </p:nvSpPr>
          <p:spPr>
            <a:xfrm>
              <a:off x="6156360" y="5805360"/>
              <a:ext cx="10764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8" name="Object 23"/>
              <p:cNvSpPr txBox="1"/>
              <p:nvPr/>
            </p:nvSpPr>
            <p:spPr>
              <a:xfrm>
                <a:off x="1979640" y="3141720"/>
                <a:ext cx="1871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+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4"/>
              <p:cNvSpPr txBox="1"/>
              <p:nvPr/>
            </p:nvSpPr>
            <p:spPr>
              <a:xfrm>
                <a:off x="1979640" y="4149720"/>
                <a:ext cx="2089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5"/>
              <p:cNvSpPr txBox="1"/>
              <p:nvPr/>
            </p:nvSpPr>
            <p:spPr>
              <a:xfrm>
                <a:off x="2050920" y="5157720"/>
                <a:ext cx="18003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Rectangle 26"/>
          <p:cNvSpPr/>
          <p:nvPr/>
        </p:nvSpPr>
        <p:spPr>
          <a:xfrm>
            <a:off x="539640" y="2492280"/>
            <a:ext cx="5327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Математическое ожидание, дисперсия, среднеквадратичное отклонение равномерно распределенной С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4067280" y="4581360"/>
            <a:ext cx="4681440" cy="2087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46836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ормальный закон распределения. Функция Лапл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55760" y="1598760"/>
            <a:ext cx="8508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ормальный закон распределения характеризуется плотно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4500720" y="5084640"/>
            <a:ext cx="3814560" cy="1316160"/>
            <a:chOff x="4500720" y="5084640"/>
            <a:chExt cx="3814560" cy="1316160"/>
          </a:xfrm>
        </p:grpSpPr>
        <mc:AlternateContent>
          <mc:Choice xmlns:a14="http://schemas.microsoft.com/office/drawing/2010/main" Requires="a14">
            <p:sp>
              <p:nvSpPr>
                <p:cNvPr id="477" name="Object 5"/>
                <p:cNvSpPr txBox="1"/>
                <p:nvPr/>
              </p:nvSpPr>
              <p:spPr>
                <a:xfrm>
                  <a:off x="4500720" y="5084640"/>
                  <a:ext cx="381456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Ф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π</m:t>
                              </m:r>
                            </m:e>
                          </m:rad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u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</m:sup>
                          </m:sSup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Text Box 6"/>
            <p:cNvSpPr/>
            <p:nvPr/>
          </p:nvSpPr>
          <p:spPr>
            <a:xfrm>
              <a:off x="4500720" y="5084640"/>
              <a:ext cx="3814560" cy="13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Group 7"/>
          <p:cNvGrpSpPr/>
          <p:nvPr/>
        </p:nvGrpSpPr>
        <p:grpSpPr>
          <a:xfrm>
            <a:off x="7020000" y="2924280"/>
            <a:ext cx="795240" cy="709560"/>
            <a:chOff x="7020000" y="2924280"/>
            <a:chExt cx="795240" cy="709560"/>
          </a:xfrm>
        </p:grpSpPr>
        <mc:AlternateContent>
          <mc:Choice xmlns:a14="http://schemas.microsoft.com/office/drawing/2010/main" Requires="a14">
            <p:sp>
              <p:nvSpPr>
                <p:cNvPr id="480" name="Object 8"/>
                <p:cNvSpPr txBox="1"/>
                <p:nvPr/>
              </p:nvSpPr>
              <p:spPr>
                <a:xfrm>
                  <a:off x="7020000" y="2924280"/>
                  <a:ext cx="79524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π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1" name="Text Box 9"/>
            <p:cNvSpPr/>
            <p:nvPr/>
          </p:nvSpPr>
          <p:spPr>
            <a:xfrm>
              <a:off x="7020000" y="2924280"/>
              <a:ext cx="795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1979640" y="1844640"/>
                <a:ext cx="3024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1"/>
              <p:cNvSpPr txBox="1"/>
              <p:nvPr/>
            </p:nvSpPr>
            <p:spPr>
              <a:xfrm>
                <a:off x="3924360" y="3068640"/>
                <a:ext cx="1579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2"/>
              <p:cNvSpPr txBox="1"/>
              <p:nvPr/>
            </p:nvSpPr>
            <p:spPr>
              <a:xfrm>
                <a:off x="684360" y="4724280"/>
                <a:ext cx="1901520" cy="13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a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a=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5" name="Rectangle 13"/>
          <p:cNvSpPr/>
          <p:nvPr/>
        </p:nvSpPr>
        <p:spPr>
          <a:xfrm>
            <a:off x="5651640" y="1989000"/>
            <a:ext cx="34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Кривая распределения симметрична относительно прямой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x=a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. Максимальная ордината при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x=a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ра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 flipV="1">
            <a:off x="431640" y="2779200"/>
            <a:ext cx="1800" cy="15368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5"/>
          <p:cNvSpPr/>
          <p:nvPr/>
        </p:nvSpPr>
        <p:spPr>
          <a:xfrm>
            <a:off x="237960" y="4191120"/>
            <a:ext cx="2980080" cy="144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108000" y="284148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2959200" y="418932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8"/>
          <p:cNvSpPr/>
          <p:nvPr/>
        </p:nvSpPr>
        <p:spPr>
          <a:xfrm>
            <a:off x="1314360" y="3571920"/>
            <a:ext cx="1800" cy="644400"/>
          </a:xfrm>
          <a:prstGeom prst="line">
            <a:avLst/>
          </a:prstGeom>
          <a:ln w="255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1071720" y="414324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x=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1619280" y="3070080"/>
            <a:ext cx="22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 baseline="-25000">
                <a:solidFill>
                  <a:srgbClr val="eaeaea"/>
                </a:solidFill>
                <a:latin typeface="Arial"/>
              </a:rPr>
              <a:t>Кривая Гаусса, нормальная крив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21"/>
          <p:cNvSpPr/>
          <p:nvPr/>
        </p:nvSpPr>
        <p:spPr>
          <a:xfrm flipH="1">
            <a:off x="1498680" y="3357720"/>
            <a:ext cx="93960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5724360" y="3716280"/>
            <a:ext cx="341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сь абсцисс является асимптотой кривой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y=f(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4427640" y="4724280"/>
            <a:ext cx="374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Ф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x)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- Функция Лапла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24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25"/>
          <p:cNvSpPr/>
          <p:nvPr/>
        </p:nvSpPr>
        <p:spPr>
          <a:xfrm>
            <a:off x="428760" y="3571920"/>
            <a:ext cx="1704960" cy="56520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704975" h="565149">
                <a:moveTo>
                  <a:pt x="0" y="565149"/>
                </a:moveTo>
                <a:cubicBezTo>
                  <a:pt x="88106" y="556418"/>
                  <a:pt x="177011" y="551655"/>
                  <a:pt x="247650" y="522287"/>
                </a:cubicBezTo>
                <a:cubicBezTo>
                  <a:pt x="318289" y="492919"/>
                  <a:pt x="373036" y="434184"/>
                  <a:pt x="423836" y="388940"/>
                </a:cubicBezTo>
                <a:cubicBezTo>
                  <a:pt x="474636" y="343696"/>
                  <a:pt x="512758" y="295274"/>
                  <a:pt x="552450" y="250824"/>
                </a:cubicBezTo>
                <a:cubicBezTo>
                  <a:pt x="592142" y="206374"/>
                  <a:pt x="619125" y="161130"/>
                  <a:pt x="661987" y="122237"/>
                </a:cubicBezTo>
                <a:cubicBezTo>
                  <a:pt x="704849" y="83344"/>
                  <a:pt x="758825" y="34924"/>
                  <a:pt x="809625" y="17462"/>
                </a:cubicBezTo>
                <a:cubicBezTo>
                  <a:pt x="860425" y="0"/>
                  <a:pt x="920750" y="4762"/>
                  <a:pt x="966787" y="17462"/>
                </a:cubicBezTo>
                <a:cubicBezTo>
                  <a:pt x="1012824" y="30162"/>
                  <a:pt x="1046956" y="57943"/>
                  <a:pt x="1085850" y="93662"/>
                </a:cubicBezTo>
                <a:cubicBezTo>
                  <a:pt x="1124744" y="129381"/>
                  <a:pt x="1158081" y="183355"/>
                  <a:pt x="1200150" y="231774"/>
                </a:cubicBezTo>
                <a:cubicBezTo>
                  <a:pt x="1242219" y="280193"/>
                  <a:pt x="1286668" y="342105"/>
                  <a:pt x="1338262" y="384174"/>
                </a:cubicBezTo>
                <a:cubicBezTo>
                  <a:pt x="1389856" y="426243"/>
                  <a:pt x="1448593" y="457200"/>
                  <a:pt x="1509712" y="484187"/>
                </a:cubicBezTo>
                <a:cubicBezTo>
                  <a:pt x="1570831" y="511174"/>
                  <a:pt x="1637903" y="528636"/>
                  <a:pt x="1704975" y="5460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искретная случайная величина (ДСВ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СВ – такая величина ,число возможных испытаний которой либо конечно, либо бесконечное множество, но обязательно счет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пример, частота попаданий при 3 выстрелах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0, 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1, 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2, 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СВ будет полностью описана с вероятностной точки зрения, если будет указано, какую вероятность имеет каждое из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95280" y="981000"/>
            <a:ext cx="822024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коном распределения СВ называется соотношение, устанавливающее связь между возможным значением СВ и соответствующими вероят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Формы задания закона распредел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Arial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68360" y="0"/>
            <a:ext cx="8226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 распределения 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71640" y="3789360"/>
          <a:ext cx="2736720" cy="1158840"/>
        </p:xfrm>
        <a:graphic>
          <a:graphicData uri="http://schemas.openxmlformats.org/drawingml/2006/table">
            <a:tbl>
              <a:tblPr/>
              <a:tblGrid>
                <a:gridCol w="547560"/>
                <a:gridCol w="546120"/>
                <a:gridCol w="549360"/>
                <a:gridCol w="546120"/>
                <a:gridCol w="547560"/>
              </a:tblGrid>
              <a:tr h="579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3" name="Group 14"/>
          <p:cNvGrpSpPr/>
          <p:nvPr/>
        </p:nvGrpSpPr>
        <p:grpSpPr>
          <a:xfrm>
            <a:off x="4859280" y="3500280"/>
            <a:ext cx="1951200" cy="1543320"/>
            <a:chOff x="4859280" y="3500280"/>
            <a:chExt cx="1951200" cy="1543320"/>
          </a:xfrm>
        </p:grpSpPr>
        <mc:AlternateContent>
          <mc:Choice xmlns:a14="http://schemas.microsoft.com/office/drawing/2010/main" Requires="a14">
            <p:sp>
              <p:nvSpPr>
                <p:cNvPr id="224" name="Object 15"/>
                <p:cNvSpPr txBox="1"/>
                <p:nvPr/>
              </p:nvSpPr>
              <p:spPr>
                <a:xfrm>
                  <a:off x="4859280" y="3500280"/>
                  <a:ext cx="1951200" cy="154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Text Box 16"/>
            <p:cNvSpPr/>
            <p:nvPr/>
          </p:nvSpPr>
          <p:spPr>
            <a:xfrm>
              <a:off x="4859280" y="3500280"/>
              <a:ext cx="195120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AutoShape 17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395280" y="981000"/>
            <a:ext cx="8220240" cy="9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48280" indent="5943600">
              <a:spcBef>
                <a:spcPts val="499"/>
              </a:spcBef>
              <a:tabLst>
                <a:tab algn="l" pos="0"/>
                <a:tab algn="l" pos="18218160"/>
                <a:tab algn="l" pos="19132560"/>
                <a:tab algn="l" pos="20046960"/>
                <a:tab algn="l" pos="20961360"/>
                <a:tab algn="l" pos="21875760"/>
                <a:tab algn="l" pos="22790160"/>
                <a:tab algn="l" pos="23704560"/>
                <a:tab algn="l" pos="24618960"/>
                <a:tab algn="l" pos="25533360"/>
                <a:tab algn="l" pos="26447760"/>
                <a:tab algn="l" pos="2736216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угольник распре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48280" indent="5943600">
              <a:spcBef>
                <a:spcPts val="499"/>
              </a:spcBef>
              <a:tabLst>
                <a:tab algn="l" pos="0"/>
                <a:tab algn="l" pos="18218160"/>
                <a:tab algn="l" pos="19132560"/>
                <a:tab algn="l" pos="20046960"/>
                <a:tab algn="l" pos="20961360"/>
                <a:tab algn="l" pos="21875760"/>
                <a:tab algn="l" pos="22790160"/>
                <a:tab algn="l" pos="23704560"/>
                <a:tab algn="l" pos="24618960"/>
                <a:tab algn="l" pos="25533360"/>
                <a:tab algn="l" pos="26447760"/>
                <a:tab algn="l" pos="273621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468360" y="0"/>
            <a:ext cx="8226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 распределения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"/>
          <p:cNvSpPr/>
          <p:nvPr/>
        </p:nvSpPr>
        <p:spPr>
          <a:xfrm flipV="1">
            <a:off x="1187280" y="1482480"/>
            <a:ext cx="1800" cy="252396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971640" y="3860640"/>
            <a:ext cx="4752720" cy="180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755640" y="1484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508720" y="3860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76360" y="3789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11280" y="3789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59280" y="3789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067280" y="3789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826920" y="3429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826920" y="2852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826920" y="2349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826920" y="31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1619280" y="3282480"/>
            <a:ext cx="865080" cy="219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2484360" y="2635200"/>
            <a:ext cx="719280" cy="6508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3203640" y="2637000"/>
            <a:ext cx="1008000" cy="1008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1187280" y="3645000"/>
            <a:ext cx="3024360" cy="1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1187280" y="2637000"/>
            <a:ext cx="2016360" cy="1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1187280" y="3284640"/>
            <a:ext cx="1297080" cy="1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1187280" y="3500280"/>
            <a:ext cx="432000" cy="180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1619280" y="3500280"/>
            <a:ext cx="1440" cy="36036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2484360" y="3284640"/>
            <a:ext cx="1800" cy="57600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203640" y="2637000"/>
            <a:ext cx="1440" cy="12236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4211640" y="3645000"/>
            <a:ext cx="1440" cy="2156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706560" y="1916280"/>
            <a:ext cx="2235240" cy="115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940360" y="148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ногоугольник 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684360" y="4724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умма ординат многоугольника распределения, представляющая собой сумму вероятностей всех возможных значений СВ всегда равна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9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5760" y="1598760"/>
            <a:ext cx="843732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тематическое ожидание – сумма произведений значений СВ на их вероят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тематическое ожидание является хар-кой среднего значения случайной велич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826920" y="3084480"/>
            <a:ext cx="7054920" cy="1209600"/>
            <a:chOff x="826920" y="3084480"/>
            <a:chExt cx="7054920" cy="1209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26920" y="3084480"/>
                  <a:ext cx="705492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=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+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+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5"/>
            <p:cNvSpPr/>
            <p:nvPr/>
          </p:nvSpPr>
          <p:spPr>
            <a:xfrm>
              <a:off x="826920" y="3084480"/>
              <a:ext cx="705492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AutoShape 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68360" y="1773360"/>
            <a:ext cx="84376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йства математического ожид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611280" y="2638440"/>
            <a:ext cx="8062920" cy="2265480"/>
            <a:chOff x="611280" y="2638440"/>
            <a:chExt cx="8062920" cy="2265480"/>
          </a:xfrm>
        </p:grpSpPr>
        <mc:AlternateContent>
          <mc:Choice xmlns:a14="http://schemas.microsoft.com/office/drawing/2010/main" Requires="a14">
            <p:sp>
              <p:nvSpPr>
                <p:cNvPr id="265" name="Object 4"/>
                <p:cNvSpPr txBox="1"/>
                <p:nvPr/>
              </p:nvSpPr>
              <p:spPr>
                <a:xfrm>
                  <a:off x="611280" y="2638440"/>
                  <a:ext cx="8062920" cy="226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c,c=const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+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+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c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,c=cons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Text Box 5"/>
            <p:cNvSpPr/>
            <p:nvPr/>
          </p:nvSpPr>
          <p:spPr>
            <a:xfrm>
              <a:off x="611280" y="2638440"/>
              <a:ext cx="8062920" cy="22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AutoShape 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68360" y="0"/>
            <a:ext cx="8226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68360" y="981000"/>
            <a:ext cx="83646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. Дисперсией  ДСВХ называется математическое ожидание квадрата отклонения случайной величины от математического ожи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исперсия характеризует меру рассеяния значений СВ от математического ожи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 решении задач дисперсию удобно вычислять по формул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1461960" y="2643120"/>
            <a:ext cx="4776840" cy="787320"/>
            <a:chOff x="1461960" y="2643120"/>
            <a:chExt cx="4776840" cy="787320"/>
          </a:xfrm>
        </p:grpSpPr>
        <mc:AlternateContent>
          <mc:Choice xmlns:a14="http://schemas.microsoft.com/office/drawing/2010/main" Requires="a14">
            <p:sp>
              <p:nvSpPr>
                <p:cNvPr id="271" name="Object 4"/>
                <p:cNvSpPr txBox="1"/>
                <p:nvPr/>
              </p:nvSpPr>
              <p:spPr>
                <a:xfrm>
                  <a:off x="1461960" y="2643120"/>
                  <a:ext cx="47768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M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5"/>
            <p:cNvSpPr/>
            <p:nvPr/>
          </p:nvSpPr>
          <p:spPr>
            <a:xfrm>
              <a:off x="1461960" y="2643120"/>
              <a:ext cx="47768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Group 6"/>
          <p:cNvGrpSpPr/>
          <p:nvPr/>
        </p:nvGrpSpPr>
        <p:grpSpPr>
          <a:xfrm>
            <a:off x="539640" y="4149720"/>
            <a:ext cx="2989440" cy="755640"/>
            <a:chOff x="539640" y="4149720"/>
            <a:chExt cx="2989440" cy="755640"/>
          </a:xfrm>
        </p:grpSpPr>
        <mc:AlternateContent>
          <mc:Choice xmlns:a14="http://schemas.microsoft.com/office/drawing/2010/main" Requires="a14">
            <p:sp>
              <p:nvSpPr>
                <p:cNvPr id="274" name="Object 7"/>
                <p:cNvSpPr txBox="1"/>
                <p:nvPr/>
              </p:nvSpPr>
              <p:spPr>
                <a:xfrm>
                  <a:off x="539640" y="4149720"/>
                  <a:ext cx="298944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Text Box 8"/>
            <p:cNvSpPr/>
            <p:nvPr/>
          </p:nvSpPr>
          <p:spPr>
            <a:xfrm>
              <a:off x="539640" y="4149720"/>
              <a:ext cx="2989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4427640" y="4221000"/>
                <a:ext cx="1135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10"/>
          <p:cNvSpPr/>
          <p:nvPr/>
        </p:nvSpPr>
        <p:spPr>
          <a:xfrm>
            <a:off x="5508720" y="42210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неквадратичное откло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1"/>
              <p:cNvSpPr txBox="1"/>
              <p:nvPr/>
            </p:nvSpPr>
            <p:spPr>
              <a:xfrm>
                <a:off x="1214280" y="5857920"/>
                <a:ext cx="4429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68360" y="1773360"/>
            <a:ext cx="84376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йства диспер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539640" y="2421000"/>
            <a:ext cx="8207640" cy="1868400"/>
            <a:chOff x="539640" y="2421000"/>
            <a:chExt cx="8207640" cy="1868400"/>
          </a:xfrm>
        </p:grpSpPr>
        <mc:AlternateContent>
          <mc:Choice xmlns:a14="http://schemas.microsoft.com/office/drawing/2010/main" Requires="a14">
            <p:sp>
              <p:nvSpPr>
                <p:cNvPr id="283" name="Object 4"/>
                <p:cNvSpPr txBox="1"/>
                <p:nvPr/>
              </p:nvSpPr>
              <p:spPr>
                <a:xfrm>
                  <a:off x="539640" y="2421000"/>
                  <a:ext cx="8207640" cy="18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  <m:r>
                            <m:rPr>
                              <m:lit/>
                              <m:nor/>
                            </m:rPr>
                            <m:t xml:space="preserve">c=const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=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+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+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84" name="Text Box 5"/>
            <p:cNvSpPr/>
            <p:nvPr/>
          </p:nvSpPr>
          <p:spPr>
            <a:xfrm>
              <a:off x="539640" y="2421000"/>
              <a:ext cx="820764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AutoShape 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7:55:35Z</dcterms:created>
  <dc:creator>Алексей Плахин</dc:creator>
  <dc:description/>
  <dc:language>en-US</dc:language>
  <cp:lastModifiedBy>123</cp:lastModifiedBy>
  <dcterms:modified xsi:type="dcterms:W3CDTF">2012-09-16T15:35:37Z</dcterms:modified>
  <cp:revision>39</cp:revision>
  <dc:subject>ДСВ, НСВ в статистике</dc:subject>
  <dc:title>Случайные величины</dc:title>
</cp:coreProperties>
</file>