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gif" ContentType="image/gi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546B-AF64-4B2B-B3CF-7AAF315E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FA7C-CB12-4C38-910C-617FAC8E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6F3D-AA15-4787-B314-1E0B5450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A5EE-56F0-434A-AF0E-A5E5691C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90FB-E2B8-4A97-8E87-BC81FB48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0630-4DF4-49AF-AEBF-30764FE7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163F-FF20-4593-A1AE-00884255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53A8-CBFF-4C0A-AF82-9AD6DB25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D76C-37C2-40A6-9C66-BF2B02A6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21E6-F42F-4250-BB18-23BBEE5B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CDFA-5561-4EFC-9E22-D92C0728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FFB0-ABD9-4278-9CD3-B1E26129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4211-5F28-4173-9B1D-C8ACD30126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181120" y="5867280"/>
            <a:ext cx="39625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полнила: ученица 10 «а» класса Алиса Шевелё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уководитель:учитель биологии МОУ СОШ №6 Аблязизова Р.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5392800" y="380880"/>
            <a:ext cx="26668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виной гри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гноз течения болезни и показатели смерт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 сниженном иммунитете, а также у лиц, входящих в группы риска, возможно развитие тяжелых, опасных для жизни ослож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мертность при инфицировании данным вирусом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 превышает смертност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 поражении другими штаммами вируса. Согласно данным Гарвардской школы общественного здоровья смертность от свиного гриппа составляет 0,007 % от числа заболевших. Этот показатель ниже, чем у некоторых форм обычного сезонного грип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52280" y="609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ля создания данной презентации использованы: картинки с яндекс.ру, сайт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http://ru.wikipedia.org/wiki/%C2%E8%F0%F3%F1_H1N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http://fridrih.ru/archives/44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2057400" y="1219320"/>
            <a:ext cx="61722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Конец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виной грипп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 — условное название заболевания людей и животных, вызываемого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штаммами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вируса грипп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звание широко распространялось в СМИ в начале 2009 г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виной грипп распространён среди домашних свиней в США, Мексике, Канаде, Южной Америке, Европе, Кении, материковом Китае, Тайване, Японии и других странах Азии. При этом вирус может циркулировать в среде людей, птиц и др. видов; этот процесс сопровождается его мутац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7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heel(3)" transition="out">
                                      <p:cBhvr additive="repl">
                                        <p:cTn id="5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763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Эпидем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едача вируса от животного к человеку маловероятна, и правильно приготовленная свинина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 может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быть источником заражения. Передаваясь от животного к человеку, вирус не всегда вызывает заболевание. Люди, работающие со свиньями, подвергаются риску заражения этим заболеванием. С середины двадцатых годов XX века было зарегистрировано всего лишь 50 таких случаев. Некоторые из штаммов, вызвавших заболевание у людей, приобрели способность передаваться от человека к человеку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1N1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зывает у человека симптомы, типичные для гриппа и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РВ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Вирус свиного гриппа передается через контакт с заражёнными организмами, и воздушно-капельным пут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pllll"/>
          <p:cNvPicPr/>
          <p:nvPr/>
        </p:nvPicPr>
        <p:blipFill>
          <a:blip r:embed="rId1"/>
          <a:stretch/>
        </p:blipFill>
        <p:spPr>
          <a:xfrm>
            <a:off x="1371600" y="0"/>
            <a:ext cx="70866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офилакти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пидемиологи приветствуют вакцинацию от «сезонного» гриппа, содержащую антитела против повреждающих агентов (белков) трёх, отличающихся от «свиного» штамма видов виру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памятке ВОЗ о высокопатогенном гриппе указывается на необходимость исключить близкий контакт с людьми, которые «кажутся нездоровыми, имеющие высокую температуру тела и кашель». Рекомендуется тщательно и достаточно часто мыть руки с мылом. «Придерживайтесь здорового образа жизни, включая полноценный сон, употребление здоровой пищи, физическую активность». При должной термообработке вирус погиба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ч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ctangle 3" descr=""/>
          <p:cNvPicPr/>
          <p:nvPr/>
        </p:nvPicPr>
        <p:blipFill>
          <a:blip r:embed="rId2"/>
          <a:stretch/>
        </p:blipFill>
        <p:spPr>
          <a:xfrm>
            <a:off x="92160" y="665280"/>
            <a:ext cx="8369280" cy="4546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градус"/>
          <p:cNvPicPr/>
          <p:nvPr/>
        </p:nvPicPr>
        <p:blipFill>
          <a:blip r:embed="rId3"/>
          <a:stretch/>
        </p:blipFill>
        <p:spPr>
          <a:xfrm>
            <a:off x="2895480" y="5037120"/>
            <a:ext cx="3353040" cy="1685880"/>
          </a:xfrm>
          <a:prstGeom prst="rect">
            <a:avLst/>
          </a:prstGeom>
          <a:ln w="12600">
            <a:solidFill>
              <a:srgbClr val="3366ff"/>
            </a:solidFill>
            <a:miter/>
          </a:ln>
        </p:spPr>
      </p:pic>
      <p:pic>
        <p:nvPicPr>
          <p:cNvPr id="52" name="Picture 6" descr="арбид"/>
          <p:cNvPicPr/>
          <p:nvPr/>
        </p:nvPicPr>
        <p:blipFill>
          <a:blip r:embed="rId4"/>
          <a:stretch/>
        </p:blipFill>
        <p:spPr>
          <a:xfrm rot="21390600">
            <a:off x="74160" y="4347720"/>
            <a:ext cx="2481480" cy="2519280"/>
          </a:xfrm>
          <a:prstGeom prst="rect">
            <a:avLst/>
          </a:prstGeom>
          <a:ln w="12600">
            <a:solidFill>
              <a:srgbClr val="3366ff"/>
            </a:solidFill>
            <a:miter/>
          </a:ln>
        </p:spPr>
      </p:pic>
      <p:pic>
        <p:nvPicPr>
          <p:cNvPr id="53" name="Picture 7" descr="терапи"/>
          <p:cNvPicPr/>
          <p:nvPr/>
        </p:nvPicPr>
        <p:blipFill>
          <a:blip r:embed="rId5"/>
          <a:stretch/>
        </p:blipFill>
        <p:spPr>
          <a:xfrm rot="400800">
            <a:off x="6608880" y="4838400"/>
            <a:ext cx="2438280" cy="1812960"/>
          </a:xfrm>
          <a:prstGeom prst="rect">
            <a:avLst/>
          </a:prstGeom>
          <a:ln w="12600">
            <a:solidFill>
              <a:srgbClr val="3366ff"/>
            </a:solidFill>
            <a:miter/>
          </a:ln>
        </p:spPr>
      </p:pic>
    </p:spTree>
  </p:cSld>
  <p:transition>
    <p:wheel spokes="2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рочное обращение в медицинские учреждения необходимо при признаках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ыраженной дыхательной недостаточности, угнетения мозговой деятельности и нарушений функции сердечно-сосудистой системы: одышки, нехватке дыхания, цианозе (посинения кожи), обмороке, появлении окрашенной мокроты, низ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ровяном давлении, появле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олей в гру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язательное обращение к врачу необходимо при высокой температуре, не снижающейся на 4-й день, выраженного ухудшения состояния после временного улуч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скор"/>
          <p:cNvPicPr/>
          <p:nvPr/>
        </p:nvPicPr>
        <p:blipFill>
          <a:blip r:embed="rId2"/>
          <a:stretch/>
        </p:blipFill>
        <p:spPr>
          <a:xfrm>
            <a:off x="6248520" y="2819520"/>
            <a:ext cx="2666880" cy="2084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Эпидемии, вызванные вирусом гриппа H1N1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. Пандемия в 1918 г. — «Испанка» (умерло 50-100 млн чел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. Вспышка гриппа в 1976 год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. Вспышка гриппа в 1988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4. Вспышка гриппа в 2007 году (провинция Nueva Ecija и центральный Лусо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ндемия гриппа A/H1N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5715000" y="4037040"/>
            <a:ext cx="3429000" cy="28209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</p:spTree>
  </p:cSld>
  <p:transition>
    <p:wheel spokes="2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ипп и общество: социально-экономические последств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Гонконге в связи с угрозой эпидемии свиного гриппа с 1 мая введен режим чрезвычайной ситуации. Гостиница, где остановилась заболевшая туристка, блокирована и оцеплена полиц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филактические мероприятия усилили социальную напряженность и вылились в Египте в небольшой крестьянский бунт, когда 3 мая 300—400 «нехороших» свиноводов собрались на улицах Каирa, чтобы спасти от угрозы уничтожения своих кормильцев. Демонстранты бросали в полицейских камни и бутылки, поэтому спецподразделения полиции по борьбе с уличными беспорядками были вынуждены применить резиновые дубинки и слезоточивый газ, чтобы разогнать протестующ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зидент США Барак Обама 24 октября 2009 года объявил чрезвычайное положение в связи с гриппом А/H1N1. Как сообщают представители Белого дома, Обама подписал соответствующий акт, в котором говорится, что грипп А/H1N1 является национальной угрозой для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ИМА</dc:creator>
  <dc:description/>
  <dc:language>en-US</dc:language>
  <cp:lastModifiedBy>РИМА</cp:lastModifiedBy>
  <dcterms:modified xsi:type="dcterms:W3CDTF">2012-01-18T10:28:2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