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A6D-1EDC-4C9F-B732-4AF34EFD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7A5-5950-4C28-B57D-66038177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16D-1D2E-4197-8213-599A941B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F70-CA5A-45DD-A6A1-797C8A16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797-4944-41BF-8D0F-C15F5AE2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C1C-0E04-4933-A7EC-7219F9B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C8C-E931-4762-8B73-F35C7AC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1A9-579E-45C5-889A-CC91AC2F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B78-7A3E-49C1-8298-FF094B9B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F1D-5622-45FB-B810-68FED1B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657-F2D0-4425-BDE1-33CF46C7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7E8-7952-42E9-9424-C699D4D2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19B-BB64-452A-861D-ED3CECFA7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120" y="586728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полнила: ученица 10 «а» класса Алиса Шевел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:учитель биологии МОУ СОШ №6 Аблязизова Р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5392800" y="380880"/>
            <a:ext cx="26668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иной гри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гноз течения болезни и показатели смерт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сниженном иммунитете, а также у лиц, входящих в группы риска, возможно развитие тяжелых, опасных для жизни осло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ертность при инфицировании данным вирус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превышает смертнос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 поражении другими штаммами вируса. Согласно данным Гарвардской школы общественного здоровья смертность от свиного гриппа составляет 0,007 % от числа заболевших. Этот показатель ниже, чем у некоторых форм обычного сезонного гри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создания данной презентации использованы: картинки с яндекс.ру, сай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/wiki/%C2%E8%F0%F3%F1_H1N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fridrih.ru/archives/44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057400" y="1219320"/>
            <a:ext cx="6172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Конец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иной грип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 — условное название заболевания людей и животных, вызываемог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штаммам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ируса грип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вание широко распространялось в СМИ в начале 2009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виной грипп распространён среди домашних свиней в США, Мексике, Канаде, Южной Америке, Европе, Кении, материковом Китае, Тайване, Японии и других странах Азии. При этом вирус может циркулировать в среде людей, птиц и др. видов; этот процесс сопровождается его мутац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Эпидем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ача вируса от животного к человеку маловероятна, и правильно приготовленная свинин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може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быть источником заражения. Передаваясь от животного к человеку, вирус не всегда вызывает заболевание. Люди, работающие со свиньями, подвергаются риску заражения этим заболеванием. С середины двадцатых годов XX века было зарегистрировано всего лишь 50 таких случаев. Некоторые из штаммов, вызвавших заболевание у людей, приобрели способность передаваться от человека к человеку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1N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зывает у человека симптомы, типичные для гриппа 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В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Вирус свиного гриппа передается через контакт с заражёнными организмами, и воздушно-капельным пу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pllll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пидемиологи приветствуют вакцинацию от «сезонного» гриппа, содержащую антитела против повреждающих агентов (белков) трёх, отличающихся от «свиного» штамма видов виру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мятке ВОЗ о высокопатогенном гриппе указывается на необходимость исключить близкий контакт с людьми, которые «кажутся нездоровыми, имеющие высокую температуру тела и кашель». Рекомендуется тщательно и достаточно часто мыть руки с мылом. «Придерживайтесь здорового образа жизни, включая полноценный сон, употребление здоровой пищи, физическую активность». При должной термообработке вирус погиб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92160" y="665280"/>
            <a:ext cx="8369280" cy="454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градус"/>
          <p:cNvPicPr/>
          <p:nvPr/>
        </p:nvPicPr>
        <p:blipFill>
          <a:blip r:embed="rId3"/>
          <a:stretch/>
        </p:blipFill>
        <p:spPr>
          <a:xfrm>
            <a:off x="2895480" y="5037120"/>
            <a:ext cx="3353040" cy="1685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2" name="Picture 6" descr="арбид"/>
          <p:cNvPicPr/>
          <p:nvPr/>
        </p:nvPicPr>
        <p:blipFill>
          <a:blip r:embed="rId4"/>
          <a:stretch/>
        </p:blipFill>
        <p:spPr>
          <a:xfrm rot="21390600">
            <a:off x="74160" y="4347720"/>
            <a:ext cx="2481480" cy="25192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3" name="Picture 7" descr="терапи"/>
          <p:cNvPicPr/>
          <p:nvPr/>
        </p:nvPicPr>
        <p:blipFill>
          <a:blip r:embed="rId5"/>
          <a:stretch/>
        </p:blipFill>
        <p:spPr>
          <a:xfrm rot="400800">
            <a:off x="6608880" y="4838400"/>
            <a:ext cx="2438280" cy="181296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</p:spTree>
  </p:cSld>
  <p:transition>
    <p:wheel spokes="2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очное обращение в медицинские учреждения необходимо при признаках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раженной дыхательной недостаточности, угнетения мозговой деятельности и нарушений функции сердечно-сосудистой системы: одышки, нехватке дыхания, цианозе (посинения кожи), обмороке, появлении окрашенной мокроты, низ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овяном давлении, появл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лей в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язательное обращение к врачу необходимо при высокой температуре, не снижающейся на 4-й день, выраженного ухудшения состояния после временного улуч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кор"/>
          <p:cNvPicPr/>
          <p:nvPr/>
        </p:nvPicPr>
        <p:blipFill>
          <a:blip r:embed="rId2"/>
          <a:stretch/>
        </p:blipFill>
        <p:spPr>
          <a:xfrm>
            <a:off x="6248520" y="2819520"/>
            <a:ext cx="2666880" cy="2084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пидемии, вызванные вирусом гриппа H1N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Пандемия в 1918 г. — «Испанка» (умерло 50-100 млн че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Вспышка гриппа в 1976 г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Вспышка гриппа в 1988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Вспышка гриппа в 2007 году (провинция Nueva Ecija и центральный Лус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ндемия гриппа A/H1N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715000" y="4037040"/>
            <a:ext cx="3429000" cy="28209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>
    <p:wheel spokes="2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пп и общество: социально-экономические последств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Гонконге в связи с угрозой эпидемии свиного гриппа с 1 мая введен режим чрезвычайной ситуации. Гостиница, где остановилась заболевшая туристка, блокирована и оцеплена поли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филактические мероприятия усилили социальную напряженность и вылились в Египте в небольшой крестьянский бунт, когда 3 мая 300—400 «нехороших» свиноводов собрались на улицах Каирa, чтобы спасти от угрозы уничтожения своих кормильцев. Демонстранты бросали в полицейских камни и бутылки, поэтому спецподразделения полиции по борьбе с уличными беспорядками были вынуждены применить резиновые дубинки и слезоточивый газ, чтобы разогнать протесту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идент США Барак Обама 24 октября 2009 года объявил чрезвычайное положение в связи с гриппом А/H1N1. Как сообщают представители Белого дома, Обама подписал соответствующий акт, в котором говорится, что грипп А/H1N1 является национальной угрозой для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А</dc:creator>
  <dc:description/>
  <dc:language>en-US</dc:language>
  <cp:lastModifiedBy>РИМА</cp:lastModifiedBy>
  <dcterms:modified xsi:type="dcterms:W3CDTF">2012-01-18T10:28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