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1.wmf" ContentType="image/x-wmf"/>
  <Override PartName="/ppt/media/image27.png" ContentType="image/png"/>
  <Override PartName="/ppt/media/drumroll.wav" ContentType="audio/x-wav"/>
  <Override PartName="/ppt/media/image30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25.png" ContentType="image/png"/>
  <Override PartName="/ppt/media/image4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9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33.gif" ContentType="image/gif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4373-FAC0-4105-8D26-42911ECD2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180C-235F-4599-8484-6D428A557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2C1A-FB4D-4CAA-9234-4DFB56DC98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0F63-02C7-4969-9015-16B92ED75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759F-C7D9-4EE5-9B76-E7936C15C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DF03-989E-4052-AF51-3E6F4372B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05CF-1BA5-400C-9B85-0D79BF9E4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11ED-D4FB-4F75-A226-3E6AAED51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B94-C9D2-42DE-B67B-CDD40FC3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D2E-F018-4BAA-B0BE-14C0D49F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24F-901F-4586-A21A-0D001834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79F-47CB-4CD7-B653-6A96BB3F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AEB-5BE2-4596-A612-270240F9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C9E-91C1-40BD-91CD-70269F62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147-F6FF-4E08-AA82-3E00CFC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95E-183B-48A7-BD86-46B75CB4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24E-4104-4D32-BAF8-022C73E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F72-FBDF-4157-ABF1-B32C35A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376-349B-4A9E-8565-06A97A9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779-EEA7-4345-9634-220A350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8E2-BF52-4E41-8F1B-0CCD2081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2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" Target="slide3.xml"/><Relationship Id="rId11" Type="http://schemas.openxmlformats.org/officeDocument/2006/relationships/image" Target="../media/image12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" Target="slide3.xml"/><Relationship Id="rId11" Type="http://schemas.openxmlformats.org/officeDocument/2006/relationships/image" Target="../media/image12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" Target="slide32.xml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4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image" Target="../media/image11.jpeg"/><Relationship Id="rId32" Type="http://schemas.openxmlformats.org/officeDocument/2006/relationships/image" Target="../media/image11.jpeg"/><Relationship Id="rId33" Type="http://schemas.openxmlformats.org/officeDocument/2006/relationships/image" Target="../media/image11.jpeg"/><Relationship Id="rId34" Type="http://schemas.openxmlformats.org/officeDocument/2006/relationships/image" Target="../media/image11.jpeg"/><Relationship Id="rId35" Type="http://schemas.openxmlformats.org/officeDocument/2006/relationships/slide" Target="slide23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21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1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23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1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" Target="slide32.xml"/><Relationship Id="rId11" Type="http://schemas.openxmlformats.org/officeDocument/2006/relationships/image" Target="../media/image22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slide" Target="slide13.xml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" Target="slide13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" Target="slide13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" Target="slide13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6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13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7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13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2.png"/><Relationship Id="rId5" Type="http://schemas.openxmlformats.org/officeDocument/2006/relationships/image" Target="../media/image26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13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image" Target="../media/image11.jpeg"/><Relationship Id="rId32" Type="http://schemas.openxmlformats.org/officeDocument/2006/relationships/image" Target="../media/image11.jpeg"/><Relationship Id="rId33" Type="http://schemas.openxmlformats.org/officeDocument/2006/relationships/image" Target="../media/image11.jpeg"/><Relationship Id="rId34" Type="http://schemas.openxmlformats.org/officeDocument/2006/relationships/slide" Target="slide33.xml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3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3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4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4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5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slide" Target="slide13.xml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" Target="slide3.xml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" Target="slide3.xml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Данная игра проводится по типу телевизионной передачи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63640" y="5562720"/>
            <a:ext cx="44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Кошелева Марин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БОУ АО «Киземская СКОШ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7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8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Шуточные задач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98160" y="1916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785880" y="60721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1"/>
          <p:cNvSpPr/>
          <p:nvPr/>
        </p:nvSpPr>
        <p:spPr>
          <a:xfrm>
            <a:off x="395280" y="249228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33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6516720" y="55818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3"/>
          <p:cNvSpPr/>
          <p:nvPr/>
        </p:nvSpPr>
        <p:spPr>
          <a:xfrm>
            <a:off x="228600" y="2438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Двое шли – 3 конфеты наш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ледом четверо пойдут – сколько найдут?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6012000" y="5516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338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340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343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346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349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352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355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361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AutoShape 62"/>
          <p:cNvSpPr/>
          <p:nvPr/>
        </p:nvSpPr>
        <p:spPr>
          <a:xfrm>
            <a:off x="716292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67"/>
          <p:cNvSpPr txBox="1"/>
          <p:nvPr/>
        </p:nvSpPr>
        <p:spPr>
          <a:xfrm>
            <a:off x="7391520" y="45720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65" name="AutoShape 44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399" dur="3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7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54252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Шуточные задач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1042920" y="2492280"/>
            <a:ext cx="69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На грядке сидит 6 вороб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 ним прилетели еще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от схватил одного воробуш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колько воробьев осталось на грядк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579600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 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376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381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384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387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390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399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AutoShape 66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6"/>
          <p:cNvSpPr/>
          <p:nvPr/>
        </p:nvSpPr>
        <p:spPr>
          <a:xfrm>
            <a:off x="739152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68"/>
          <p:cNvSpPr txBox="1"/>
          <p:nvPr/>
        </p:nvSpPr>
        <p:spPr>
          <a:xfrm>
            <a:off x="7696080" y="533520"/>
            <a:ext cx="762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434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5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25380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Шуточные задач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97164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3"/>
          <p:cNvSpPr/>
          <p:nvPr/>
        </p:nvSpPr>
        <p:spPr>
          <a:xfrm>
            <a:off x="1979640" y="249228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На грядке сидит 6 вороб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 ним прилетели еще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от схватил одного воробуш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колько воробьев осталось на грядке?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4"/>
          <p:cNvSpPr/>
          <p:nvPr/>
        </p:nvSpPr>
        <p:spPr>
          <a:xfrm>
            <a:off x="6300720" y="530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П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415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417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420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423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426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429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432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438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AutoShape 119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65">
            <a:hlinkClick r:id="" action="ppaction://hlinkshowjump?jump=firstslide"/>
          </p:cNvPr>
          <p:cNvSpPr/>
          <p:nvPr/>
        </p:nvSpPr>
        <p:spPr>
          <a:xfrm>
            <a:off x="746748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69"/>
          <p:cNvSpPr txBox="1"/>
          <p:nvPr/>
        </p:nvSpPr>
        <p:spPr>
          <a:xfrm>
            <a:off x="7772400" y="53352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469" dur="3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00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95280" y="1700280"/>
          <a:ext cx="3600360" cy="412596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ов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 ящ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AutoShape 22"/>
          <p:cNvSpPr/>
          <p:nvPr/>
        </p:nvSpPr>
        <p:spPr>
          <a:xfrm>
            <a:off x="4038480" y="1828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5">
            <a:hlinkClick r:id="rId4" action="ppaction://hlinksldjump"/>
          </p:cNvPr>
          <p:cNvSpPr/>
          <p:nvPr/>
        </p:nvSpPr>
        <p:spPr>
          <a:xfrm>
            <a:off x="7543800" y="1828800"/>
            <a:ext cx="1382760" cy="1066680"/>
          </a:xfrm>
          <a:custGeom>
            <a:avLst/>
            <a:gdLst>
              <a:gd name="textAreaLeft" fmla="*/ 69120 w 1382760"/>
              <a:gd name="textAreaRight" fmla="*/ 1313640 w 13827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6"/>
          <p:cNvSpPr/>
          <p:nvPr/>
        </p:nvSpPr>
        <p:spPr>
          <a:xfrm>
            <a:off x="5715000" y="18288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27"/>
          <p:cNvSpPr txBox="1"/>
          <p:nvPr/>
        </p:nvSpPr>
        <p:spPr>
          <a:xfrm>
            <a:off x="4267080" y="19810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50" name="WordArt 28"/>
          <p:cNvSpPr txBox="1"/>
          <p:nvPr/>
        </p:nvSpPr>
        <p:spPr>
          <a:xfrm>
            <a:off x="601992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51" name="WordArt 29"/>
          <p:cNvSpPr txBox="1"/>
          <p:nvPr/>
        </p:nvSpPr>
        <p:spPr>
          <a:xfrm>
            <a:off x="777240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52" name="AutoShape 32"/>
          <p:cNvSpPr/>
          <p:nvPr/>
        </p:nvSpPr>
        <p:spPr>
          <a:xfrm>
            <a:off x="403848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5"/>
          <p:cNvSpPr/>
          <p:nvPr/>
        </p:nvSpPr>
        <p:spPr>
          <a:xfrm>
            <a:off x="7543800" y="30481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6"/>
          <p:cNvSpPr/>
          <p:nvPr/>
        </p:nvSpPr>
        <p:spPr>
          <a:xfrm>
            <a:off x="571500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7"/>
          <p:cNvSpPr/>
          <p:nvPr/>
        </p:nvSpPr>
        <p:spPr>
          <a:xfrm>
            <a:off x="403848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0"/>
          <p:cNvSpPr/>
          <p:nvPr/>
        </p:nvSpPr>
        <p:spPr>
          <a:xfrm>
            <a:off x="754380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1"/>
          <p:cNvSpPr/>
          <p:nvPr/>
        </p:nvSpPr>
        <p:spPr>
          <a:xfrm>
            <a:off x="5715000" y="4343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ff99cc">
              <a:alpha val="31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5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60" name="WordArt 5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61" name="WordArt 55"/>
          <p:cNvSpPr txBox="1"/>
          <p:nvPr/>
        </p:nvSpPr>
        <p:spPr>
          <a:xfrm>
            <a:off x="4267080" y="32004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2" name="WordArt 56"/>
          <p:cNvSpPr txBox="1"/>
          <p:nvPr/>
        </p:nvSpPr>
        <p:spPr>
          <a:xfrm>
            <a:off x="6019920" y="3200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3" name="WordArt 57"/>
          <p:cNvSpPr txBox="1"/>
          <p:nvPr/>
        </p:nvSpPr>
        <p:spPr>
          <a:xfrm>
            <a:off x="7772400" y="3200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4" name="WordArt 60"/>
          <p:cNvSpPr txBox="1"/>
          <p:nvPr/>
        </p:nvSpPr>
        <p:spPr>
          <a:xfrm>
            <a:off x="4267080" y="44956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5" name="WordArt 61"/>
          <p:cNvSpPr txBox="1"/>
          <p:nvPr/>
        </p:nvSpPr>
        <p:spPr>
          <a:xfrm>
            <a:off x="6095880" y="44956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1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6" name="WordArt 62"/>
          <p:cNvSpPr txBox="1"/>
          <p:nvPr/>
        </p:nvSpPr>
        <p:spPr>
          <a:xfrm>
            <a:off x="7848720" y="4495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7" name="AutoShape 74">
            <a:hlinkClick r:id="rId35" action="ppaction://hlinksldjump"/>
          </p:cNvPr>
          <p:cNvSpPr/>
          <p:nvPr/>
        </p:nvSpPr>
        <p:spPr>
          <a:xfrm>
            <a:off x="777240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69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98160" y="1916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0"/>
          <p:cNvSpPr/>
          <p:nvPr/>
        </p:nvSpPr>
        <p:spPr>
          <a:xfrm>
            <a:off x="395280" y="2421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6084720" y="5445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42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ЭКОНОМИ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7" name="Rectangle 43"/>
          <p:cNvSpPr/>
          <p:nvPr/>
        </p:nvSpPr>
        <p:spPr>
          <a:xfrm>
            <a:off x="1908000" y="227664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Угадай, что так зов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Что за деньги прод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Это не чудесный 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А просто напрос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6659640" y="5013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3"/>
          <p:cNvGrpSpPr/>
          <p:nvPr/>
        </p:nvGrpSpPr>
        <p:grpSpPr>
          <a:xfrm>
            <a:off x="4648320" y="4572000"/>
            <a:ext cx="4114800" cy="1752480"/>
            <a:chOff x="4648320" y="4572000"/>
            <a:chExt cx="4114800" cy="1752480"/>
          </a:xfrm>
        </p:grpSpPr>
        <p:sp>
          <p:nvSpPr>
            <p:cNvPr id="480" name="Freeform 14"/>
            <p:cNvSpPr/>
            <p:nvPr/>
          </p:nvSpPr>
          <p:spPr>
            <a:xfrm>
              <a:off x="4648320" y="4646520"/>
              <a:ext cx="4114800" cy="167796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1677960"/>
                <a:gd name="textAreaBottom" fmla="*/ 1678320 h 167796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15"/>
            <p:cNvGrpSpPr/>
            <p:nvPr/>
          </p:nvGrpSpPr>
          <p:grpSpPr>
            <a:xfrm>
              <a:off x="5215320" y="4572000"/>
              <a:ext cx="153000" cy="165960"/>
              <a:chOff x="5215320" y="4572000"/>
              <a:chExt cx="153000" cy="165960"/>
            </a:xfrm>
          </p:grpSpPr>
          <p:sp>
            <p:nvSpPr>
              <p:cNvPr id="482" name="Oval 16"/>
              <p:cNvSpPr/>
              <p:nvPr/>
            </p:nvSpPr>
            <p:spPr>
              <a:xfrm>
                <a:off x="527328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"/>
              <p:cNvSpPr/>
              <p:nvPr/>
            </p:nvSpPr>
            <p:spPr>
              <a:xfrm>
                <a:off x="521532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18"/>
            <p:cNvGrpSpPr/>
            <p:nvPr/>
          </p:nvGrpSpPr>
          <p:grpSpPr>
            <a:xfrm>
              <a:off x="5730840" y="4572360"/>
              <a:ext cx="154080" cy="166320"/>
              <a:chOff x="5730840" y="4572360"/>
              <a:chExt cx="154080" cy="166320"/>
            </a:xfrm>
          </p:grpSpPr>
          <p:sp>
            <p:nvSpPr>
              <p:cNvPr id="485" name="Oval 19"/>
              <p:cNvSpPr/>
              <p:nvPr/>
            </p:nvSpPr>
            <p:spPr>
              <a:xfrm>
                <a:off x="5789160" y="4697280"/>
                <a:ext cx="4572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0"/>
              <p:cNvSpPr/>
              <p:nvPr/>
            </p:nvSpPr>
            <p:spPr>
              <a:xfrm>
                <a:off x="5730840" y="4572360"/>
                <a:ext cx="154080" cy="1587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21"/>
            <p:cNvGrpSpPr/>
            <p:nvPr/>
          </p:nvGrpSpPr>
          <p:grpSpPr>
            <a:xfrm>
              <a:off x="6280920" y="4572360"/>
              <a:ext cx="153000" cy="166320"/>
              <a:chOff x="6280920" y="4572360"/>
              <a:chExt cx="153000" cy="166320"/>
            </a:xfrm>
          </p:grpSpPr>
          <p:sp>
            <p:nvSpPr>
              <p:cNvPr id="488" name="Oval 22"/>
              <p:cNvSpPr/>
              <p:nvPr/>
            </p:nvSpPr>
            <p:spPr>
              <a:xfrm>
                <a:off x="63388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"/>
              <p:cNvSpPr/>
              <p:nvPr/>
            </p:nvSpPr>
            <p:spPr>
              <a:xfrm>
                <a:off x="62809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4"/>
            <p:cNvGrpSpPr/>
            <p:nvPr/>
          </p:nvGrpSpPr>
          <p:grpSpPr>
            <a:xfrm>
              <a:off x="6829560" y="4572360"/>
              <a:ext cx="153000" cy="166320"/>
              <a:chOff x="6829560" y="4572360"/>
              <a:chExt cx="153000" cy="166320"/>
            </a:xfrm>
          </p:grpSpPr>
          <p:sp>
            <p:nvSpPr>
              <p:cNvPr id="491" name="Oval 25"/>
              <p:cNvSpPr/>
              <p:nvPr/>
            </p:nvSpPr>
            <p:spPr>
              <a:xfrm>
                <a:off x="688752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6"/>
              <p:cNvSpPr/>
              <p:nvPr/>
            </p:nvSpPr>
            <p:spPr>
              <a:xfrm>
                <a:off x="682956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27"/>
            <p:cNvGrpSpPr/>
            <p:nvPr/>
          </p:nvGrpSpPr>
          <p:grpSpPr>
            <a:xfrm>
              <a:off x="7316640" y="4572360"/>
              <a:ext cx="153000" cy="166320"/>
              <a:chOff x="7316640" y="4572360"/>
              <a:chExt cx="153000" cy="166320"/>
            </a:xfrm>
          </p:grpSpPr>
          <p:sp>
            <p:nvSpPr>
              <p:cNvPr id="494" name="Oval 28"/>
              <p:cNvSpPr/>
              <p:nvPr/>
            </p:nvSpPr>
            <p:spPr>
              <a:xfrm>
                <a:off x="737460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"/>
              <p:cNvSpPr/>
              <p:nvPr/>
            </p:nvSpPr>
            <p:spPr>
              <a:xfrm>
                <a:off x="731664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30"/>
            <p:cNvGrpSpPr/>
            <p:nvPr/>
          </p:nvGrpSpPr>
          <p:grpSpPr>
            <a:xfrm>
              <a:off x="7866720" y="4572360"/>
              <a:ext cx="153000" cy="166320"/>
              <a:chOff x="7866720" y="4572360"/>
              <a:chExt cx="153000" cy="166320"/>
            </a:xfrm>
          </p:grpSpPr>
          <p:sp>
            <p:nvSpPr>
              <p:cNvPr id="497" name="Oval 31"/>
              <p:cNvSpPr/>
              <p:nvPr/>
            </p:nvSpPr>
            <p:spPr>
              <a:xfrm>
                <a:off x="79246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2"/>
              <p:cNvSpPr/>
              <p:nvPr/>
            </p:nvSpPr>
            <p:spPr>
              <a:xfrm>
                <a:off x="78667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Freeform 33"/>
            <p:cNvSpPr/>
            <p:nvPr/>
          </p:nvSpPr>
          <p:spPr>
            <a:xfrm>
              <a:off x="7692840" y="5162760"/>
              <a:ext cx="235080" cy="1026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4"/>
            <p:cNvSpPr/>
            <p:nvPr/>
          </p:nvSpPr>
          <p:spPr>
            <a:xfrm>
              <a:off x="6738120" y="5422320"/>
              <a:ext cx="365760" cy="80856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5"/>
            <p:cNvSpPr/>
            <p:nvPr/>
          </p:nvSpPr>
          <p:spPr>
            <a:xfrm>
              <a:off x="5730840" y="5691960"/>
              <a:ext cx="366840" cy="5598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36"/>
            <p:cNvGrpSpPr/>
            <p:nvPr/>
          </p:nvGrpSpPr>
          <p:grpSpPr>
            <a:xfrm>
              <a:off x="8380080" y="4572000"/>
              <a:ext cx="153000" cy="165960"/>
              <a:chOff x="8380080" y="4572000"/>
              <a:chExt cx="153000" cy="165960"/>
            </a:xfrm>
          </p:grpSpPr>
          <p:sp>
            <p:nvSpPr>
              <p:cNvPr id="503" name="Oval 37"/>
              <p:cNvSpPr/>
              <p:nvPr/>
            </p:nvSpPr>
            <p:spPr>
              <a:xfrm>
                <a:off x="843804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8"/>
              <p:cNvSpPr/>
              <p:nvPr/>
            </p:nvSpPr>
            <p:spPr>
              <a:xfrm>
                <a:off x="838008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AutoShape 22"/>
          <p:cNvSpPr/>
          <p:nvPr/>
        </p:nvSpPr>
        <p:spPr>
          <a:xfrm>
            <a:off x="754380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27"/>
          <p:cNvSpPr txBox="1"/>
          <p:nvPr/>
        </p:nvSpPr>
        <p:spPr>
          <a:xfrm>
            <a:off x="7772400" y="4572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07" name="AutoShape 71">
            <a:hlinkClick r:id="rId13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559" dur="3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09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4252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ЭКОНОМИ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5" name="Rectangle 42"/>
          <p:cNvSpPr/>
          <p:nvPr/>
        </p:nvSpPr>
        <p:spPr>
          <a:xfrm>
            <a:off x="1042920" y="2492280"/>
            <a:ext cx="66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Тимофей носки свя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И на рынке их про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Дешевле, чем стоили н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Получил одн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3"/>
          <p:cNvSpPr/>
          <p:nvPr/>
        </p:nvSpPr>
        <p:spPr>
          <a:xfrm>
            <a:off x="579600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БЫ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3"/>
          <p:cNvGrpSpPr/>
          <p:nvPr/>
        </p:nvGrpSpPr>
        <p:grpSpPr>
          <a:xfrm>
            <a:off x="4648320" y="4572000"/>
            <a:ext cx="4114800" cy="1752480"/>
            <a:chOff x="4648320" y="4572000"/>
            <a:chExt cx="4114800" cy="1752480"/>
          </a:xfrm>
        </p:grpSpPr>
        <p:sp>
          <p:nvSpPr>
            <p:cNvPr id="518" name="Freeform 14"/>
            <p:cNvSpPr/>
            <p:nvPr/>
          </p:nvSpPr>
          <p:spPr>
            <a:xfrm>
              <a:off x="4648320" y="4646520"/>
              <a:ext cx="4114800" cy="167796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1677960"/>
                <a:gd name="textAreaBottom" fmla="*/ 1678320 h 167796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5215320" y="4572000"/>
              <a:ext cx="153000" cy="165960"/>
              <a:chOff x="5215320" y="4572000"/>
              <a:chExt cx="153000" cy="1659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527328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"/>
              <p:cNvSpPr/>
              <p:nvPr/>
            </p:nvSpPr>
            <p:spPr>
              <a:xfrm>
                <a:off x="521532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8"/>
            <p:cNvGrpSpPr/>
            <p:nvPr/>
          </p:nvGrpSpPr>
          <p:grpSpPr>
            <a:xfrm>
              <a:off x="5730840" y="4572360"/>
              <a:ext cx="154080" cy="166320"/>
              <a:chOff x="5730840" y="4572360"/>
              <a:chExt cx="154080" cy="166320"/>
            </a:xfrm>
          </p:grpSpPr>
          <p:sp>
            <p:nvSpPr>
              <p:cNvPr id="523" name="Oval 19"/>
              <p:cNvSpPr/>
              <p:nvPr/>
            </p:nvSpPr>
            <p:spPr>
              <a:xfrm>
                <a:off x="5789160" y="4697280"/>
                <a:ext cx="4572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0"/>
              <p:cNvSpPr/>
              <p:nvPr/>
            </p:nvSpPr>
            <p:spPr>
              <a:xfrm>
                <a:off x="5730840" y="4572360"/>
                <a:ext cx="154080" cy="1587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21"/>
            <p:cNvGrpSpPr/>
            <p:nvPr/>
          </p:nvGrpSpPr>
          <p:grpSpPr>
            <a:xfrm>
              <a:off x="6280920" y="4572360"/>
              <a:ext cx="153000" cy="166320"/>
              <a:chOff x="6280920" y="4572360"/>
              <a:chExt cx="153000" cy="16632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63388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3"/>
              <p:cNvSpPr/>
              <p:nvPr/>
            </p:nvSpPr>
            <p:spPr>
              <a:xfrm>
                <a:off x="62809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24"/>
            <p:cNvGrpSpPr/>
            <p:nvPr/>
          </p:nvGrpSpPr>
          <p:grpSpPr>
            <a:xfrm>
              <a:off x="6829560" y="4572360"/>
              <a:ext cx="153000" cy="166320"/>
              <a:chOff x="6829560" y="4572360"/>
              <a:chExt cx="153000" cy="166320"/>
            </a:xfrm>
          </p:grpSpPr>
          <p:sp>
            <p:nvSpPr>
              <p:cNvPr id="529" name="Oval 25"/>
              <p:cNvSpPr/>
              <p:nvPr/>
            </p:nvSpPr>
            <p:spPr>
              <a:xfrm>
                <a:off x="688752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6"/>
              <p:cNvSpPr/>
              <p:nvPr/>
            </p:nvSpPr>
            <p:spPr>
              <a:xfrm>
                <a:off x="682956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27"/>
            <p:cNvGrpSpPr/>
            <p:nvPr/>
          </p:nvGrpSpPr>
          <p:grpSpPr>
            <a:xfrm>
              <a:off x="7316640" y="4572360"/>
              <a:ext cx="153000" cy="166320"/>
              <a:chOff x="7316640" y="4572360"/>
              <a:chExt cx="153000" cy="166320"/>
            </a:xfrm>
          </p:grpSpPr>
          <p:sp>
            <p:nvSpPr>
              <p:cNvPr id="532" name="Oval 28"/>
              <p:cNvSpPr/>
              <p:nvPr/>
            </p:nvSpPr>
            <p:spPr>
              <a:xfrm>
                <a:off x="737460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9"/>
              <p:cNvSpPr/>
              <p:nvPr/>
            </p:nvSpPr>
            <p:spPr>
              <a:xfrm>
                <a:off x="731664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30"/>
            <p:cNvGrpSpPr/>
            <p:nvPr/>
          </p:nvGrpSpPr>
          <p:grpSpPr>
            <a:xfrm>
              <a:off x="7866720" y="4572360"/>
              <a:ext cx="153000" cy="166320"/>
              <a:chOff x="7866720" y="4572360"/>
              <a:chExt cx="153000" cy="166320"/>
            </a:xfrm>
          </p:grpSpPr>
          <p:sp>
            <p:nvSpPr>
              <p:cNvPr id="535" name="Oval 31"/>
              <p:cNvSpPr/>
              <p:nvPr/>
            </p:nvSpPr>
            <p:spPr>
              <a:xfrm>
                <a:off x="79246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2"/>
              <p:cNvSpPr/>
              <p:nvPr/>
            </p:nvSpPr>
            <p:spPr>
              <a:xfrm>
                <a:off x="78667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33"/>
            <p:cNvSpPr/>
            <p:nvPr/>
          </p:nvSpPr>
          <p:spPr>
            <a:xfrm>
              <a:off x="7692840" y="5162760"/>
              <a:ext cx="235080" cy="1026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6738120" y="5422320"/>
              <a:ext cx="365760" cy="80856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5730840" y="5691960"/>
              <a:ext cx="366840" cy="5598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36"/>
            <p:cNvGrpSpPr/>
            <p:nvPr/>
          </p:nvGrpSpPr>
          <p:grpSpPr>
            <a:xfrm>
              <a:off x="8380080" y="4572000"/>
              <a:ext cx="153000" cy="165960"/>
              <a:chOff x="8380080" y="4572000"/>
              <a:chExt cx="153000" cy="165960"/>
            </a:xfrm>
          </p:grpSpPr>
          <p:sp>
            <p:nvSpPr>
              <p:cNvPr id="541" name="Oval 37"/>
              <p:cNvSpPr/>
              <p:nvPr/>
            </p:nvSpPr>
            <p:spPr>
              <a:xfrm>
                <a:off x="843804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8"/>
              <p:cNvSpPr/>
              <p:nvPr/>
            </p:nvSpPr>
            <p:spPr>
              <a:xfrm>
                <a:off x="838008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AutoShape 26"/>
          <p:cNvSpPr/>
          <p:nvPr/>
        </p:nvSpPr>
        <p:spPr>
          <a:xfrm>
            <a:off x="7391520" y="228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28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45" name="AutoShape 71">
            <a:hlinkClick r:id="rId13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594" dur="3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7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25380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ЭКОНОМИ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53" name="Text Box 42"/>
          <p:cNvSpPr/>
          <p:nvPr/>
        </p:nvSpPr>
        <p:spPr>
          <a:xfrm>
            <a:off x="97164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3"/>
          <p:cNvSpPr/>
          <p:nvPr/>
        </p:nvSpPr>
        <p:spPr>
          <a:xfrm>
            <a:off x="1979640" y="249228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Чтобы продукты потребл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В платьях ярких щегол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Чтобы вкусно есть и п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Надо все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4"/>
          <p:cNvSpPr/>
          <p:nvPr/>
        </p:nvSpPr>
        <p:spPr>
          <a:xfrm>
            <a:off x="6300720" y="530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П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3"/>
          <p:cNvGrpSpPr/>
          <p:nvPr/>
        </p:nvGrpSpPr>
        <p:grpSpPr>
          <a:xfrm>
            <a:off x="4648320" y="4572000"/>
            <a:ext cx="4114800" cy="1752480"/>
            <a:chOff x="4648320" y="4572000"/>
            <a:chExt cx="4114800" cy="1752480"/>
          </a:xfrm>
        </p:grpSpPr>
        <p:sp>
          <p:nvSpPr>
            <p:cNvPr id="557" name="Freeform 14"/>
            <p:cNvSpPr/>
            <p:nvPr/>
          </p:nvSpPr>
          <p:spPr>
            <a:xfrm>
              <a:off x="4648320" y="4646520"/>
              <a:ext cx="4114800" cy="167796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1677960"/>
                <a:gd name="textAreaBottom" fmla="*/ 1678320 h 167796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5215320" y="4572000"/>
              <a:ext cx="153000" cy="165960"/>
              <a:chOff x="5215320" y="4572000"/>
              <a:chExt cx="153000" cy="16596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527328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7"/>
              <p:cNvSpPr/>
              <p:nvPr/>
            </p:nvSpPr>
            <p:spPr>
              <a:xfrm>
                <a:off x="521532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8"/>
            <p:cNvGrpSpPr/>
            <p:nvPr/>
          </p:nvGrpSpPr>
          <p:grpSpPr>
            <a:xfrm>
              <a:off x="5730840" y="4572360"/>
              <a:ext cx="154080" cy="166320"/>
              <a:chOff x="5730840" y="4572360"/>
              <a:chExt cx="154080" cy="166320"/>
            </a:xfrm>
          </p:grpSpPr>
          <p:sp>
            <p:nvSpPr>
              <p:cNvPr id="562" name="Oval 19"/>
              <p:cNvSpPr/>
              <p:nvPr/>
            </p:nvSpPr>
            <p:spPr>
              <a:xfrm>
                <a:off x="5789160" y="4697280"/>
                <a:ext cx="4572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0"/>
              <p:cNvSpPr/>
              <p:nvPr/>
            </p:nvSpPr>
            <p:spPr>
              <a:xfrm>
                <a:off x="5730840" y="4572360"/>
                <a:ext cx="154080" cy="1587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1"/>
            <p:cNvGrpSpPr/>
            <p:nvPr/>
          </p:nvGrpSpPr>
          <p:grpSpPr>
            <a:xfrm>
              <a:off x="6280920" y="4572360"/>
              <a:ext cx="153000" cy="166320"/>
              <a:chOff x="6280920" y="4572360"/>
              <a:chExt cx="153000" cy="16632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63388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3"/>
              <p:cNvSpPr/>
              <p:nvPr/>
            </p:nvSpPr>
            <p:spPr>
              <a:xfrm>
                <a:off x="62809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4"/>
            <p:cNvGrpSpPr/>
            <p:nvPr/>
          </p:nvGrpSpPr>
          <p:grpSpPr>
            <a:xfrm>
              <a:off x="6829560" y="4572360"/>
              <a:ext cx="153000" cy="166320"/>
              <a:chOff x="6829560" y="4572360"/>
              <a:chExt cx="153000" cy="166320"/>
            </a:xfrm>
          </p:grpSpPr>
          <p:sp>
            <p:nvSpPr>
              <p:cNvPr id="568" name="Oval 25"/>
              <p:cNvSpPr/>
              <p:nvPr/>
            </p:nvSpPr>
            <p:spPr>
              <a:xfrm>
                <a:off x="688752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"/>
              <p:cNvSpPr/>
              <p:nvPr/>
            </p:nvSpPr>
            <p:spPr>
              <a:xfrm>
                <a:off x="682956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7316640" y="4572360"/>
              <a:ext cx="153000" cy="166320"/>
              <a:chOff x="7316640" y="4572360"/>
              <a:chExt cx="153000" cy="166320"/>
            </a:xfrm>
          </p:grpSpPr>
          <p:sp>
            <p:nvSpPr>
              <p:cNvPr id="571" name="Oval 28"/>
              <p:cNvSpPr/>
              <p:nvPr/>
            </p:nvSpPr>
            <p:spPr>
              <a:xfrm>
                <a:off x="737460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9"/>
              <p:cNvSpPr/>
              <p:nvPr/>
            </p:nvSpPr>
            <p:spPr>
              <a:xfrm>
                <a:off x="731664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0"/>
            <p:cNvGrpSpPr/>
            <p:nvPr/>
          </p:nvGrpSpPr>
          <p:grpSpPr>
            <a:xfrm>
              <a:off x="7866720" y="4572360"/>
              <a:ext cx="153000" cy="166320"/>
              <a:chOff x="7866720" y="4572360"/>
              <a:chExt cx="153000" cy="166320"/>
            </a:xfrm>
          </p:grpSpPr>
          <p:sp>
            <p:nvSpPr>
              <p:cNvPr id="574" name="Oval 31"/>
              <p:cNvSpPr/>
              <p:nvPr/>
            </p:nvSpPr>
            <p:spPr>
              <a:xfrm>
                <a:off x="79246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2"/>
              <p:cNvSpPr/>
              <p:nvPr/>
            </p:nvSpPr>
            <p:spPr>
              <a:xfrm>
                <a:off x="78667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Freeform 33"/>
            <p:cNvSpPr/>
            <p:nvPr/>
          </p:nvSpPr>
          <p:spPr>
            <a:xfrm>
              <a:off x="7692840" y="5162760"/>
              <a:ext cx="235080" cy="1026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4"/>
            <p:cNvSpPr/>
            <p:nvPr/>
          </p:nvSpPr>
          <p:spPr>
            <a:xfrm>
              <a:off x="6738120" y="5422320"/>
              <a:ext cx="365760" cy="80856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5"/>
            <p:cNvSpPr/>
            <p:nvPr/>
          </p:nvSpPr>
          <p:spPr>
            <a:xfrm>
              <a:off x="5730840" y="5691960"/>
              <a:ext cx="366840" cy="5598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6"/>
            <p:cNvGrpSpPr/>
            <p:nvPr/>
          </p:nvGrpSpPr>
          <p:grpSpPr>
            <a:xfrm>
              <a:off x="8380080" y="4572000"/>
              <a:ext cx="153000" cy="165960"/>
              <a:chOff x="8380080" y="4572000"/>
              <a:chExt cx="153000" cy="165960"/>
            </a:xfrm>
          </p:grpSpPr>
          <p:sp>
            <p:nvSpPr>
              <p:cNvPr id="580" name="Oval 37"/>
              <p:cNvSpPr/>
              <p:nvPr/>
            </p:nvSpPr>
            <p:spPr>
              <a:xfrm>
                <a:off x="843804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"/>
              <p:cNvSpPr/>
              <p:nvPr/>
            </p:nvSpPr>
            <p:spPr>
              <a:xfrm>
                <a:off x="838008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AutoShape 25">
            <a:hlinkClick r:id="rId10" action="ppaction://hlinksldjump"/>
          </p:cNvPr>
          <p:cNvSpPr/>
          <p:nvPr/>
        </p:nvSpPr>
        <p:spPr>
          <a:xfrm>
            <a:off x="7543800" y="228600"/>
            <a:ext cx="1382760" cy="1066680"/>
          </a:xfrm>
          <a:custGeom>
            <a:avLst/>
            <a:gdLst>
              <a:gd name="textAreaLeft" fmla="*/ 69120 w 1382760"/>
              <a:gd name="textAreaRight" fmla="*/ 1313640 w 13827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29"/>
          <p:cNvSpPr txBox="1"/>
          <p:nvPr/>
        </p:nvSpPr>
        <p:spPr>
          <a:xfrm>
            <a:off x="7772400" y="4572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84" name="AutoShape 71">
            <a:hlinkClick r:id="rId14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629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6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7" name="WordArt 6"/>
          <p:cNvSpPr txBox="1"/>
          <p:nvPr/>
        </p:nvSpPr>
        <p:spPr>
          <a:xfrm>
            <a:off x="2411280" y="112536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Пословицы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8" name="Text Box 56"/>
          <p:cNvSpPr/>
          <p:nvPr/>
        </p:nvSpPr>
        <p:spPr>
          <a:xfrm>
            <a:off x="685800" y="2286000"/>
            <a:ext cx="6705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тавь пропущенное слово, чтобы получилась известн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дного не 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7"/>
          <p:cNvSpPr/>
          <p:nvPr/>
        </p:nvSpPr>
        <p:spPr>
          <a:xfrm>
            <a:off x="253800" y="1844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1"/>
          <p:cNvSpPr/>
          <p:nvPr/>
        </p:nvSpPr>
        <p:spPr>
          <a:xfrm>
            <a:off x="6629400" y="5486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58"/>
          <p:cNvGrpSpPr/>
          <p:nvPr/>
        </p:nvGrpSpPr>
        <p:grpSpPr>
          <a:xfrm>
            <a:off x="4343400" y="4419720"/>
            <a:ext cx="4654440" cy="1980720"/>
            <a:chOff x="4343400" y="4419720"/>
            <a:chExt cx="4654440" cy="1980720"/>
          </a:xfrm>
        </p:grpSpPr>
        <p:sp>
          <p:nvSpPr>
            <p:cNvPr id="592" name="Freeform 59"/>
            <p:cNvSpPr/>
            <p:nvPr/>
          </p:nvSpPr>
          <p:spPr>
            <a:xfrm>
              <a:off x="4343400" y="45039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60"/>
            <p:cNvGrpSpPr/>
            <p:nvPr/>
          </p:nvGrpSpPr>
          <p:grpSpPr>
            <a:xfrm>
              <a:off x="4984560" y="4419720"/>
              <a:ext cx="173160" cy="187920"/>
              <a:chOff x="4984560" y="4419720"/>
              <a:chExt cx="173160" cy="187920"/>
            </a:xfrm>
          </p:grpSpPr>
          <p:sp>
            <p:nvSpPr>
              <p:cNvPr id="594" name="Oval 61"/>
              <p:cNvSpPr/>
              <p:nvPr/>
            </p:nvSpPr>
            <p:spPr>
              <a:xfrm>
                <a:off x="5050080" y="45608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62"/>
              <p:cNvSpPr/>
              <p:nvPr/>
            </p:nvSpPr>
            <p:spPr>
              <a:xfrm>
                <a:off x="4984560" y="44197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63"/>
            <p:cNvGrpSpPr/>
            <p:nvPr/>
          </p:nvGrpSpPr>
          <p:grpSpPr>
            <a:xfrm>
              <a:off x="5568120" y="4420080"/>
              <a:ext cx="174240" cy="187920"/>
              <a:chOff x="5568120" y="4420080"/>
              <a:chExt cx="174240" cy="187920"/>
            </a:xfrm>
          </p:grpSpPr>
          <p:sp>
            <p:nvSpPr>
              <p:cNvPr id="597" name="Oval 64"/>
              <p:cNvSpPr/>
              <p:nvPr/>
            </p:nvSpPr>
            <p:spPr>
              <a:xfrm>
                <a:off x="563400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5"/>
              <p:cNvSpPr/>
              <p:nvPr/>
            </p:nvSpPr>
            <p:spPr>
              <a:xfrm>
                <a:off x="5568120" y="44200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66"/>
            <p:cNvGrpSpPr/>
            <p:nvPr/>
          </p:nvGrpSpPr>
          <p:grpSpPr>
            <a:xfrm>
              <a:off x="6190200" y="4420080"/>
              <a:ext cx="173160" cy="187920"/>
              <a:chOff x="6190200" y="4420080"/>
              <a:chExt cx="173160" cy="187920"/>
            </a:xfrm>
          </p:grpSpPr>
          <p:sp>
            <p:nvSpPr>
              <p:cNvPr id="600" name="Oval 67"/>
              <p:cNvSpPr/>
              <p:nvPr/>
            </p:nvSpPr>
            <p:spPr>
              <a:xfrm>
                <a:off x="625572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8"/>
              <p:cNvSpPr/>
              <p:nvPr/>
            </p:nvSpPr>
            <p:spPr>
              <a:xfrm>
                <a:off x="619020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69"/>
            <p:cNvGrpSpPr/>
            <p:nvPr/>
          </p:nvGrpSpPr>
          <p:grpSpPr>
            <a:xfrm>
              <a:off x="6810840" y="4420080"/>
              <a:ext cx="173160" cy="187920"/>
              <a:chOff x="6810840" y="4420080"/>
              <a:chExt cx="173160" cy="187920"/>
            </a:xfrm>
          </p:grpSpPr>
          <p:sp>
            <p:nvSpPr>
              <p:cNvPr id="603" name="Oval 70"/>
              <p:cNvSpPr/>
              <p:nvPr/>
            </p:nvSpPr>
            <p:spPr>
              <a:xfrm>
                <a:off x="687636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1"/>
              <p:cNvSpPr/>
              <p:nvPr/>
            </p:nvSpPr>
            <p:spPr>
              <a:xfrm>
                <a:off x="681084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72"/>
            <p:cNvGrpSpPr/>
            <p:nvPr/>
          </p:nvGrpSpPr>
          <p:grpSpPr>
            <a:xfrm>
              <a:off x="7361640" y="4420080"/>
              <a:ext cx="173160" cy="187920"/>
              <a:chOff x="7361640" y="4420080"/>
              <a:chExt cx="173160" cy="187920"/>
            </a:xfrm>
          </p:grpSpPr>
          <p:sp>
            <p:nvSpPr>
              <p:cNvPr id="606" name="Oval 73"/>
              <p:cNvSpPr/>
              <p:nvPr/>
            </p:nvSpPr>
            <p:spPr>
              <a:xfrm>
                <a:off x="742716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4"/>
              <p:cNvSpPr/>
              <p:nvPr/>
            </p:nvSpPr>
            <p:spPr>
              <a:xfrm>
                <a:off x="736164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75"/>
            <p:cNvGrpSpPr/>
            <p:nvPr/>
          </p:nvGrpSpPr>
          <p:grpSpPr>
            <a:xfrm>
              <a:off x="7983720" y="4420080"/>
              <a:ext cx="173160" cy="187920"/>
              <a:chOff x="7983720" y="4420080"/>
              <a:chExt cx="173160" cy="187920"/>
            </a:xfrm>
          </p:grpSpPr>
          <p:sp>
            <p:nvSpPr>
              <p:cNvPr id="609" name="Oval 76"/>
              <p:cNvSpPr/>
              <p:nvPr/>
            </p:nvSpPr>
            <p:spPr>
              <a:xfrm>
                <a:off x="804924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7"/>
              <p:cNvSpPr/>
              <p:nvPr/>
            </p:nvSpPr>
            <p:spPr>
              <a:xfrm>
                <a:off x="798372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Freeform 78"/>
            <p:cNvSpPr/>
            <p:nvPr/>
          </p:nvSpPr>
          <p:spPr>
            <a:xfrm>
              <a:off x="7787160" y="50875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"/>
            <p:cNvSpPr/>
            <p:nvPr/>
          </p:nvSpPr>
          <p:spPr>
            <a:xfrm>
              <a:off x="6707520" y="53809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0"/>
            <p:cNvSpPr/>
            <p:nvPr/>
          </p:nvSpPr>
          <p:spPr>
            <a:xfrm>
              <a:off x="5568120" y="56858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81"/>
            <p:cNvGrpSpPr/>
            <p:nvPr/>
          </p:nvGrpSpPr>
          <p:grpSpPr>
            <a:xfrm>
              <a:off x="8564400" y="4419720"/>
              <a:ext cx="173160" cy="187920"/>
              <a:chOff x="8564400" y="4419720"/>
              <a:chExt cx="173160" cy="187920"/>
            </a:xfrm>
          </p:grpSpPr>
          <p:sp>
            <p:nvSpPr>
              <p:cNvPr id="615" name="Oval 82"/>
              <p:cNvSpPr/>
              <p:nvPr/>
            </p:nvSpPr>
            <p:spPr>
              <a:xfrm>
                <a:off x="8629920" y="45608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83"/>
              <p:cNvSpPr/>
              <p:nvPr/>
            </p:nvSpPr>
            <p:spPr>
              <a:xfrm>
                <a:off x="8564400" y="44197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AutoShape 9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22" name="AutoShape 81">
            <a:hlinkClick r:id="rId7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664" dur="3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4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5" name="WordArt 6"/>
          <p:cNvSpPr txBox="1"/>
          <p:nvPr/>
        </p:nvSpPr>
        <p:spPr>
          <a:xfrm>
            <a:off x="2411280" y="112536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Пословицы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6" name="Text Box 56"/>
          <p:cNvSpPr/>
          <p:nvPr/>
        </p:nvSpPr>
        <p:spPr>
          <a:xfrm>
            <a:off x="685800" y="2286000"/>
            <a:ext cx="6705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тавь пропущенное слово, чтобы получилась известн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бещанного … года 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7"/>
          <p:cNvSpPr/>
          <p:nvPr/>
        </p:nvSpPr>
        <p:spPr>
          <a:xfrm>
            <a:off x="253800" y="1844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1"/>
          <p:cNvSpPr/>
          <p:nvPr/>
        </p:nvSpPr>
        <p:spPr>
          <a:xfrm>
            <a:off x="6629400" y="5486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58"/>
          <p:cNvGrpSpPr/>
          <p:nvPr/>
        </p:nvGrpSpPr>
        <p:grpSpPr>
          <a:xfrm>
            <a:off x="4489560" y="4572000"/>
            <a:ext cx="4654440" cy="1980720"/>
            <a:chOff x="4489560" y="4572000"/>
            <a:chExt cx="4654440" cy="1980720"/>
          </a:xfrm>
        </p:grpSpPr>
        <p:sp>
          <p:nvSpPr>
            <p:cNvPr id="630" name="Freeform 59"/>
            <p:cNvSpPr/>
            <p:nvPr/>
          </p:nvSpPr>
          <p:spPr>
            <a:xfrm>
              <a:off x="4489560" y="465624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60"/>
            <p:cNvGrpSpPr/>
            <p:nvPr/>
          </p:nvGrpSpPr>
          <p:grpSpPr>
            <a:xfrm>
              <a:off x="5130720" y="4572000"/>
              <a:ext cx="173160" cy="187920"/>
              <a:chOff x="5130720" y="4572000"/>
              <a:chExt cx="173160" cy="187920"/>
            </a:xfrm>
          </p:grpSpPr>
          <p:sp>
            <p:nvSpPr>
              <p:cNvPr id="632" name="Oval 61"/>
              <p:cNvSpPr/>
              <p:nvPr/>
            </p:nvSpPr>
            <p:spPr>
              <a:xfrm>
                <a:off x="5196240" y="471312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2"/>
              <p:cNvSpPr/>
              <p:nvPr/>
            </p:nvSpPr>
            <p:spPr>
              <a:xfrm>
                <a:off x="5130720" y="457200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63"/>
            <p:cNvGrpSpPr/>
            <p:nvPr/>
          </p:nvGrpSpPr>
          <p:grpSpPr>
            <a:xfrm>
              <a:off x="5714280" y="4572360"/>
              <a:ext cx="174240" cy="187920"/>
              <a:chOff x="5714280" y="4572360"/>
              <a:chExt cx="174240" cy="187920"/>
            </a:xfrm>
          </p:grpSpPr>
          <p:sp>
            <p:nvSpPr>
              <p:cNvPr id="635" name="Oval 64"/>
              <p:cNvSpPr/>
              <p:nvPr/>
            </p:nvSpPr>
            <p:spPr>
              <a:xfrm>
                <a:off x="578016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5"/>
              <p:cNvSpPr/>
              <p:nvPr/>
            </p:nvSpPr>
            <p:spPr>
              <a:xfrm>
                <a:off x="5714280" y="457236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66"/>
            <p:cNvGrpSpPr/>
            <p:nvPr/>
          </p:nvGrpSpPr>
          <p:grpSpPr>
            <a:xfrm>
              <a:off x="6336360" y="4572360"/>
              <a:ext cx="173160" cy="187920"/>
              <a:chOff x="6336360" y="4572360"/>
              <a:chExt cx="173160" cy="187920"/>
            </a:xfrm>
          </p:grpSpPr>
          <p:sp>
            <p:nvSpPr>
              <p:cNvPr id="638" name="Oval 67"/>
              <p:cNvSpPr/>
              <p:nvPr/>
            </p:nvSpPr>
            <p:spPr>
              <a:xfrm>
                <a:off x="640188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8"/>
              <p:cNvSpPr/>
              <p:nvPr/>
            </p:nvSpPr>
            <p:spPr>
              <a:xfrm>
                <a:off x="633636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69"/>
            <p:cNvGrpSpPr/>
            <p:nvPr/>
          </p:nvGrpSpPr>
          <p:grpSpPr>
            <a:xfrm>
              <a:off x="6957000" y="4572360"/>
              <a:ext cx="173160" cy="187920"/>
              <a:chOff x="6957000" y="4572360"/>
              <a:chExt cx="173160" cy="187920"/>
            </a:xfrm>
          </p:grpSpPr>
          <p:sp>
            <p:nvSpPr>
              <p:cNvPr id="641" name="Oval 70"/>
              <p:cNvSpPr/>
              <p:nvPr/>
            </p:nvSpPr>
            <p:spPr>
              <a:xfrm>
                <a:off x="702252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71"/>
              <p:cNvSpPr/>
              <p:nvPr/>
            </p:nvSpPr>
            <p:spPr>
              <a:xfrm>
                <a:off x="695700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72"/>
            <p:cNvGrpSpPr/>
            <p:nvPr/>
          </p:nvGrpSpPr>
          <p:grpSpPr>
            <a:xfrm>
              <a:off x="7507800" y="4572360"/>
              <a:ext cx="173160" cy="187920"/>
              <a:chOff x="7507800" y="4572360"/>
              <a:chExt cx="173160" cy="187920"/>
            </a:xfrm>
          </p:grpSpPr>
          <p:sp>
            <p:nvSpPr>
              <p:cNvPr id="644" name="Oval 73"/>
              <p:cNvSpPr/>
              <p:nvPr/>
            </p:nvSpPr>
            <p:spPr>
              <a:xfrm>
                <a:off x="757332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4"/>
              <p:cNvSpPr/>
              <p:nvPr/>
            </p:nvSpPr>
            <p:spPr>
              <a:xfrm>
                <a:off x="750780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75"/>
            <p:cNvGrpSpPr/>
            <p:nvPr/>
          </p:nvGrpSpPr>
          <p:grpSpPr>
            <a:xfrm>
              <a:off x="8129880" y="4572360"/>
              <a:ext cx="173160" cy="187920"/>
              <a:chOff x="8129880" y="4572360"/>
              <a:chExt cx="173160" cy="187920"/>
            </a:xfrm>
          </p:grpSpPr>
          <p:sp>
            <p:nvSpPr>
              <p:cNvPr id="647" name="Oval 76"/>
              <p:cNvSpPr/>
              <p:nvPr/>
            </p:nvSpPr>
            <p:spPr>
              <a:xfrm>
                <a:off x="819540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7"/>
              <p:cNvSpPr/>
              <p:nvPr/>
            </p:nvSpPr>
            <p:spPr>
              <a:xfrm>
                <a:off x="812988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Freeform 78"/>
            <p:cNvSpPr/>
            <p:nvPr/>
          </p:nvSpPr>
          <p:spPr>
            <a:xfrm>
              <a:off x="7933320" y="523980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9"/>
            <p:cNvSpPr/>
            <p:nvPr/>
          </p:nvSpPr>
          <p:spPr>
            <a:xfrm>
              <a:off x="6853680" y="553320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0"/>
            <p:cNvSpPr/>
            <p:nvPr/>
          </p:nvSpPr>
          <p:spPr>
            <a:xfrm>
              <a:off x="5714280" y="583812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81"/>
            <p:cNvGrpSpPr/>
            <p:nvPr/>
          </p:nvGrpSpPr>
          <p:grpSpPr>
            <a:xfrm>
              <a:off x="8710560" y="4572000"/>
              <a:ext cx="173160" cy="187920"/>
              <a:chOff x="8710560" y="4572000"/>
              <a:chExt cx="173160" cy="187920"/>
            </a:xfrm>
          </p:grpSpPr>
          <p:sp>
            <p:nvSpPr>
              <p:cNvPr id="653" name="Oval 82"/>
              <p:cNvSpPr/>
              <p:nvPr/>
            </p:nvSpPr>
            <p:spPr>
              <a:xfrm>
                <a:off x="8776080" y="471312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3"/>
              <p:cNvSpPr/>
              <p:nvPr/>
            </p:nvSpPr>
            <p:spPr>
              <a:xfrm>
                <a:off x="8710560" y="457200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AutoShape 9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9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9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0" name="AutoShape 40">
            <a:hlinkClick r:id="rId7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602 L 0.63924 -0.01111 E">
                                      <p:cBhvr>
                                        <p:cTn id="69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2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3" name="WordArt 6"/>
          <p:cNvSpPr txBox="1"/>
          <p:nvPr/>
        </p:nvSpPr>
        <p:spPr>
          <a:xfrm>
            <a:off x="2411280" y="112536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Пословицы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4" name="Text Box 56"/>
          <p:cNvSpPr/>
          <p:nvPr/>
        </p:nvSpPr>
        <p:spPr>
          <a:xfrm>
            <a:off x="685800" y="2286000"/>
            <a:ext cx="67057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тавь пропущенное слово, чтобы получилась известн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          …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з отмерь, … раз отре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7"/>
          <p:cNvSpPr/>
          <p:nvPr/>
        </p:nvSpPr>
        <p:spPr>
          <a:xfrm>
            <a:off x="253800" y="1844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1"/>
          <p:cNvSpPr/>
          <p:nvPr/>
        </p:nvSpPr>
        <p:spPr>
          <a:xfrm>
            <a:off x="6629400" y="5486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,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668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670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673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676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679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682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685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691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AutoShape 9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9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9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98" name="AutoShape 40">
            <a:hlinkClick r:id="rId7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734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8"/>
          <p:cNvPicPr/>
          <p:nvPr/>
        </p:nvPicPr>
        <p:blipFill>
          <a:blip r:embed="rId2"/>
          <a:stretch/>
        </p:blipFill>
        <p:spPr>
          <a:xfrm>
            <a:off x="0" y="3311640"/>
            <a:ext cx="4788000" cy="354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1"/>
          <p:cNvPicPr/>
          <p:nvPr/>
        </p:nvPicPr>
        <p:blipFill>
          <a:blip r:embed="rId3"/>
          <a:stretch/>
        </p:blipFill>
        <p:spPr>
          <a:xfrm>
            <a:off x="0" y="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2"/>
          <p:cNvPicPr/>
          <p:nvPr/>
        </p:nvPicPr>
        <p:blipFill>
          <a:blip r:embed="rId4"/>
          <a:stretch/>
        </p:blipFill>
        <p:spPr>
          <a:xfrm>
            <a:off x="4643280" y="3375000"/>
            <a:ext cx="4500720" cy="348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10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своя игра загл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2" descr=""/>
          <p:cNvPicPr/>
          <p:nvPr/>
        </p:nvPicPr>
        <p:blipFill>
          <a:blip r:embed="rId1"/>
          <a:stretch/>
        </p:blipFill>
        <p:spPr>
          <a:xfrm rot="649200">
            <a:off x="6372360" y="2421000"/>
            <a:ext cx="2400120" cy="1689120"/>
          </a:xfrm>
          <a:prstGeom prst="rect">
            <a:avLst/>
          </a:prstGeom>
          <a:ln w="0">
            <a:noFill/>
          </a:ln>
        </p:spPr>
      </p:pic>
      <p:sp>
        <p:nvSpPr>
          <p:cNvPr id="700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1" name="WordArt 5"/>
          <p:cNvSpPr txBox="1"/>
          <p:nvPr/>
        </p:nvSpPr>
        <p:spPr>
          <a:xfrm>
            <a:off x="324000" y="62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2" name="WordArt 6"/>
          <p:cNvSpPr txBox="1"/>
          <p:nvPr/>
        </p:nvSpPr>
        <p:spPr>
          <a:xfrm>
            <a:off x="2627280" y="105264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ЧЕРНЫЙ ЯЩИК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624852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40"/>
          <p:cNvSpPr/>
          <p:nvPr/>
        </p:nvSpPr>
        <p:spPr>
          <a:xfrm>
            <a:off x="4932360" y="3789360"/>
            <a:ext cx="51847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9"/>
          <p:cNvSpPr/>
          <p:nvPr/>
        </p:nvSpPr>
        <p:spPr>
          <a:xfrm>
            <a:off x="4932360" y="3865680"/>
            <a:ext cx="5106960" cy="346212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462120"/>
              <a:gd name="textAreaBottom" fmla="*/ 3462480 h 3462120"/>
            </a:gdLst>
            <a:ahLst/>
            <a:rect l="textAreaLeft" t="textAreaTop" r="textAreaRight" b="textAreaBottom"/>
            <a:pathLst>
              <a:path w="3724" h="2479">
                <a:moveTo>
                  <a:pt x="1204" y="366"/>
                </a:moveTo>
                <a:lnTo>
                  <a:pt x="1204" y="366"/>
                </a:lnTo>
                <a:lnTo>
                  <a:pt x="1198" y="366"/>
                </a:lnTo>
                <a:lnTo>
                  <a:pt x="1190" y="369"/>
                </a:lnTo>
                <a:lnTo>
                  <a:pt x="1178" y="375"/>
                </a:lnTo>
                <a:lnTo>
                  <a:pt x="1170" y="375"/>
                </a:lnTo>
                <a:lnTo>
                  <a:pt x="1161" y="378"/>
                </a:lnTo>
                <a:lnTo>
                  <a:pt x="1153" y="381"/>
                </a:lnTo>
                <a:lnTo>
                  <a:pt x="1144" y="386"/>
                </a:lnTo>
                <a:lnTo>
                  <a:pt x="1136" y="386"/>
                </a:lnTo>
                <a:lnTo>
                  <a:pt x="1127" y="392"/>
                </a:lnTo>
                <a:lnTo>
                  <a:pt x="1116" y="395"/>
                </a:lnTo>
                <a:lnTo>
                  <a:pt x="1107" y="398"/>
                </a:lnTo>
                <a:lnTo>
                  <a:pt x="1093" y="403"/>
                </a:lnTo>
                <a:lnTo>
                  <a:pt x="1082" y="406"/>
                </a:lnTo>
                <a:lnTo>
                  <a:pt x="1071" y="409"/>
                </a:lnTo>
                <a:lnTo>
                  <a:pt x="1056" y="415"/>
                </a:lnTo>
                <a:lnTo>
                  <a:pt x="1045" y="417"/>
                </a:lnTo>
                <a:lnTo>
                  <a:pt x="1031" y="423"/>
                </a:lnTo>
                <a:lnTo>
                  <a:pt x="1017" y="429"/>
                </a:lnTo>
                <a:lnTo>
                  <a:pt x="1005" y="434"/>
                </a:lnTo>
                <a:lnTo>
                  <a:pt x="988" y="437"/>
                </a:lnTo>
                <a:lnTo>
                  <a:pt x="974" y="443"/>
                </a:lnTo>
                <a:lnTo>
                  <a:pt x="960" y="449"/>
                </a:lnTo>
                <a:lnTo>
                  <a:pt x="946" y="454"/>
                </a:lnTo>
                <a:lnTo>
                  <a:pt x="932" y="460"/>
                </a:lnTo>
                <a:lnTo>
                  <a:pt x="918" y="466"/>
                </a:lnTo>
                <a:lnTo>
                  <a:pt x="901" y="471"/>
                </a:lnTo>
                <a:lnTo>
                  <a:pt x="886" y="477"/>
                </a:lnTo>
                <a:lnTo>
                  <a:pt x="872" y="480"/>
                </a:lnTo>
                <a:lnTo>
                  <a:pt x="855" y="486"/>
                </a:lnTo>
                <a:lnTo>
                  <a:pt x="841" y="491"/>
                </a:lnTo>
                <a:lnTo>
                  <a:pt x="827" y="497"/>
                </a:lnTo>
                <a:lnTo>
                  <a:pt x="813" y="503"/>
                </a:lnTo>
                <a:lnTo>
                  <a:pt x="796" y="505"/>
                </a:lnTo>
                <a:lnTo>
                  <a:pt x="782" y="511"/>
                </a:lnTo>
                <a:lnTo>
                  <a:pt x="768" y="517"/>
                </a:lnTo>
                <a:lnTo>
                  <a:pt x="753" y="523"/>
                </a:lnTo>
                <a:lnTo>
                  <a:pt x="739" y="525"/>
                </a:lnTo>
                <a:lnTo>
                  <a:pt x="725" y="531"/>
                </a:lnTo>
                <a:lnTo>
                  <a:pt x="711" y="537"/>
                </a:lnTo>
                <a:lnTo>
                  <a:pt x="697" y="542"/>
                </a:lnTo>
                <a:lnTo>
                  <a:pt x="685" y="545"/>
                </a:lnTo>
                <a:lnTo>
                  <a:pt x="674" y="551"/>
                </a:lnTo>
                <a:lnTo>
                  <a:pt x="663" y="557"/>
                </a:lnTo>
                <a:lnTo>
                  <a:pt x="651" y="559"/>
                </a:lnTo>
                <a:lnTo>
                  <a:pt x="640" y="565"/>
                </a:lnTo>
                <a:lnTo>
                  <a:pt x="629" y="568"/>
                </a:lnTo>
                <a:lnTo>
                  <a:pt x="620" y="574"/>
                </a:lnTo>
                <a:lnTo>
                  <a:pt x="609" y="576"/>
                </a:lnTo>
                <a:lnTo>
                  <a:pt x="600" y="579"/>
                </a:lnTo>
                <a:lnTo>
                  <a:pt x="592" y="582"/>
                </a:lnTo>
                <a:lnTo>
                  <a:pt x="583" y="588"/>
                </a:lnTo>
                <a:lnTo>
                  <a:pt x="578" y="591"/>
                </a:lnTo>
                <a:lnTo>
                  <a:pt x="569" y="591"/>
                </a:lnTo>
                <a:lnTo>
                  <a:pt x="564" y="594"/>
                </a:lnTo>
                <a:lnTo>
                  <a:pt x="561" y="599"/>
                </a:lnTo>
                <a:lnTo>
                  <a:pt x="552" y="602"/>
                </a:lnTo>
                <a:lnTo>
                  <a:pt x="549" y="608"/>
                </a:lnTo>
                <a:lnTo>
                  <a:pt x="544" y="611"/>
                </a:lnTo>
                <a:lnTo>
                  <a:pt x="538" y="613"/>
                </a:lnTo>
                <a:lnTo>
                  <a:pt x="527" y="619"/>
                </a:lnTo>
                <a:lnTo>
                  <a:pt x="518" y="628"/>
                </a:lnTo>
                <a:lnTo>
                  <a:pt x="510" y="633"/>
                </a:lnTo>
                <a:lnTo>
                  <a:pt x="504" y="636"/>
                </a:lnTo>
                <a:lnTo>
                  <a:pt x="496" y="642"/>
                </a:lnTo>
                <a:lnTo>
                  <a:pt x="487" y="650"/>
                </a:lnTo>
                <a:lnTo>
                  <a:pt x="479" y="656"/>
                </a:lnTo>
                <a:lnTo>
                  <a:pt x="473" y="662"/>
                </a:lnTo>
                <a:lnTo>
                  <a:pt x="464" y="667"/>
                </a:lnTo>
                <a:lnTo>
                  <a:pt x="453" y="676"/>
                </a:lnTo>
                <a:lnTo>
                  <a:pt x="445" y="682"/>
                </a:lnTo>
                <a:lnTo>
                  <a:pt x="433" y="690"/>
                </a:lnTo>
                <a:lnTo>
                  <a:pt x="425" y="699"/>
                </a:lnTo>
                <a:lnTo>
                  <a:pt x="414" y="707"/>
                </a:lnTo>
                <a:lnTo>
                  <a:pt x="402" y="713"/>
                </a:lnTo>
                <a:lnTo>
                  <a:pt x="391" y="721"/>
                </a:lnTo>
                <a:lnTo>
                  <a:pt x="380" y="730"/>
                </a:lnTo>
                <a:lnTo>
                  <a:pt x="371" y="738"/>
                </a:lnTo>
                <a:lnTo>
                  <a:pt x="357" y="747"/>
                </a:lnTo>
                <a:lnTo>
                  <a:pt x="348" y="758"/>
                </a:lnTo>
                <a:lnTo>
                  <a:pt x="334" y="767"/>
                </a:lnTo>
                <a:lnTo>
                  <a:pt x="323" y="775"/>
                </a:lnTo>
                <a:lnTo>
                  <a:pt x="312" y="784"/>
                </a:lnTo>
                <a:lnTo>
                  <a:pt x="300" y="795"/>
                </a:lnTo>
                <a:lnTo>
                  <a:pt x="289" y="804"/>
                </a:lnTo>
                <a:lnTo>
                  <a:pt x="278" y="815"/>
                </a:lnTo>
                <a:lnTo>
                  <a:pt x="263" y="824"/>
                </a:lnTo>
                <a:lnTo>
                  <a:pt x="252" y="832"/>
                </a:lnTo>
                <a:lnTo>
                  <a:pt x="241" y="841"/>
                </a:lnTo>
                <a:lnTo>
                  <a:pt x="229" y="849"/>
                </a:lnTo>
                <a:lnTo>
                  <a:pt x="218" y="858"/>
                </a:lnTo>
                <a:lnTo>
                  <a:pt x="207" y="869"/>
                </a:lnTo>
                <a:lnTo>
                  <a:pt x="195" y="877"/>
                </a:lnTo>
                <a:lnTo>
                  <a:pt x="184" y="889"/>
                </a:lnTo>
                <a:lnTo>
                  <a:pt x="173" y="897"/>
                </a:lnTo>
                <a:lnTo>
                  <a:pt x="161" y="906"/>
                </a:lnTo>
                <a:lnTo>
                  <a:pt x="150" y="914"/>
                </a:lnTo>
                <a:lnTo>
                  <a:pt x="139" y="923"/>
                </a:lnTo>
                <a:lnTo>
                  <a:pt x="127" y="931"/>
                </a:lnTo>
                <a:lnTo>
                  <a:pt x="119" y="940"/>
                </a:lnTo>
                <a:lnTo>
                  <a:pt x="110" y="948"/>
                </a:lnTo>
                <a:lnTo>
                  <a:pt x="102" y="957"/>
                </a:lnTo>
                <a:lnTo>
                  <a:pt x="93" y="963"/>
                </a:lnTo>
                <a:lnTo>
                  <a:pt x="82" y="971"/>
                </a:lnTo>
                <a:lnTo>
                  <a:pt x="74" y="977"/>
                </a:lnTo>
                <a:lnTo>
                  <a:pt x="68" y="985"/>
                </a:lnTo>
                <a:lnTo>
                  <a:pt x="59" y="991"/>
                </a:lnTo>
                <a:lnTo>
                  <a:pt x="51" y="1000"/>
                </a:lnTo>
                <a:lnTo>
                  <a:pt x="45" y="1005"/>
                </a:lnTo>
                <a:lnTo>
                  <a:pt x="40" y="1011"/>
                </a:lnTo>
                <a:lnTo>
                  <a:pt x="31" y="1022"/>
                </a:lnTo>
                <a:lnTo>
                  <a:pt x="23" y="1031"/>
                </a:lnTo>
                <a:lnTo>
                  <a:pt x="17" y="1039"/>
                </a:lnTo>
                <a:lnTo>
                  <a:pt x="14" y="1048"/>
                </a:lnTo>
                <a:lnTo>
                  <a:pt x="8" y="1056"/>
                </a:lnTo>
                <a:lnTo>
                  <a:pt x="6" y="1068"/>
                </a:lnTo>
                <a:lnTo>
                  <a:pt x="3" y="1076"/>
                </a:lnTo>
                <a:lnTo>
                  <a:pt x="0" y="1088"/>
                </a:lnTo>
                <a:lnTo>
                  <a:pt x="0" y="1096"/>
                </a:lnTo>
                <a:lnTo>
                  <a:pt x="0" y="1105"/>
                </a:lnTo>
                <a:lnTo>
                  <a:pt x="0" y="1116"/>
                </a:lnTo>
                <a:lnTo>
                  <a:pt x="3" y="1127"/>
                </a:lnTo>
                <a:lnTo>
                  <a:pt x="6" y="1133"/>
                </a:lnTo>
                <a:lnTo>
                  <a:pt x="8" y="1142"/>
                </a:lnTo>
                <a:lnTo>
                  <a:pt x="11" y="1150"/>
                </a:lnTo>
                <a:lnTo>
                  <a:pt x="17" y="1159"/>
                </a:lnTo>
                <a:lnTo>
                  <a:pt x="25" y="1170"/>
                </a:lnTo>
                <a:lnTo>
                  <a:pt x="40" y="1179"/>
                </a:lnTo>
                <a:lnTo>
                  <a:pt x="42" y="1179"/>
                </a:lnTo>
                <a:lnTo>
                  <a:pt x="48" y="1179"/>
                </a:lnTo>
                <a:lnTo>
                  <a:pt x="57" y="1179"/>
                </a:lnTo>
                <a:lnTo>
                  <a:pt x="65" y="1181"/>
                </a:lnTo>
                <a:lnTo>
                  <a:pt x="76" y="1181"/>
                </a:lnTo>
                <a:lnTo>
                  <a:pt x="88" y="1181"/>
                </a:lnTo>
                <a:lnTo>
                  <a:pt x="93" y="1181"/>
                </a:lnTo>
                <a:lnTo>
                  <a:pt x="102" y="1181"/>
                </a:lnTo>
                <a:lnTo>
                  <a:pt x="108" y="1181"/>
                </a:lnTo>
                <a:lnTo>
                  <a:pt x="116" y="1181"/>
                </a:lnTo>
                <a:lnTo>
                  <a:pt x="122" y="1181"/>
                </a:lnTo>
                <a:lnTo>
                  <a:pt x="130" y="1181"/>
                </a:lnTo>
                <a:lnTo>
                  <a:pt x="136" y="1181"/>
                </a:lnTo>
                <a:lnTo>
                  <a:pt x="144" y="1181"/>
                </a:lnTo>
                <a:lnTo>
                  <a:pt x="153" y="1181"/>
                </a:lnTo>
                <a:lnTo>
                  <a:pt x="161" y="1181"/>
                </a:lnTo>
                <a:lnTo>
                  <a:pt x="170" y="1181"/>
                </a:lnTo>
                <a:lnTo>
                  <a:pt x="178" y="1181"/>
                </a:lnTo>
                <a:lnTo>
                  <a:pt x="187" y="1181"/>
                </a:lnTo>
                <a:lnTo>
                  <a:pt x="195" y="1181"/>
                </a:lnTo>
                <a:lnTo>
                  <a:pt x="204" y="1181"/>
                </a:lnTo>
                <a:lnTo>
                  <a:pt x="215" y="1181"/>
                </a:lnTo>
                <a:lnTo>
                  <a:pt x="221" y="1181"/>
                </a:lnTo>
                <a:lnTo>
                  <a:pt x="232" y="1181"/>
                </a:lnTo>
                <a:lnTo>
                  <a:pt x="241" y="1181"/>
                </a:lnTo>
                <a:lnTo>
                  <a:pt x="252" y="1181"/>
                </a:lnTo>
                <a:lnTo>
                  <a:pt x="258" y="1181"/>
                </a:lnTo>
                <a:lnTo>
                  <a:pt x="266" y="1181"/>
                </a:lnTo>
                <a:lnTo>
                  <a:pt x="275" y="1181"/>
                </a:lnTo>
                <a:lnTo>
                  <a:pt x="283" y="1181"/>
                </a:lnTo>
                <a:lnTo>
                  <a:pt x="295" y="1179"/>
                </a:lnTo>
                <a:lnTo>
                  <a:pt x="303" y="1179"/>
                </a:lnTo>
                <a:lnTo>
                  <a:pt x="312" y="1179"/>
                </a:lnTo>
                <a:lnTo>
                  <a:pt x="320" y="1179"/>
                </a:lnTo>
                <a:lnTo>
                  <a:pt x="326" y="1179"/>
                </a:lnTo>
                <a:lnTo>
                  <a:pt x="334" y="1179"/>
                </a:lnTo>
                <a:lnTo>
                  <a:pt x="343" y="1179"/>
                </a:lnTo>
                <a:lnTo>
                  <a:pt x="348" y="1179"/>
                </a:lnTo>
                <a:lnTo>
                  <a:pt x="357" y="1179"/>
                </a:lnTo>
                <a:lnTo>
                  <a:pt x="363" y="1179"/>
                </a:lnTo>
                <a:lnTo>
                  <a:pt x="371" y="1179"/>
                </a:lnTo>
                <a:lnTo>
                  <a:pt x="380" y="1179"/>
                </a:lnTo>
                <a:lnTo>
                  <a:pt x="391" y="1179"/>
                </a:lnTo>
                <a:lnTo>
                  <a:pt x="399" y="1179"/>
                </a:lnTo>
                <a:lnTo>
                  <a:pt x="411" y="1179"/>
                </a:lnTo>
                <a:lnTo>
                  <a:pt x="419" y="1179"/>
                </a:lnTo>
                <a:lnTo>
                  <a:pt x="425" y="1179"/>
                </a:lnTo>
                <a:lnTo>
                  <a:pt x="430" y="1179"/>
                </a:lnTo>
                <a:lnTo>
                  <a:pt x="433" y="1179"/>
                </a:lnTo>
                <a:lnTo>
                  <a:pt x="436" y="1179"/>
                </a:lnTo>
                <a:lnTo>
                  <a:pt x="436" y="1187"/>
                </a:lnTo>
                <a:lnTo>
                  <a:pt x="436" y="1190"/>
                </a:lnTo>
                <a:lnTo>
                  <a:pt x="436" y="1198"/>
                </a:lnTo>
                <a:lnTo>
                  <a:pt x="436" y="1204"/>
                </a:lnTo>
                <a:lnTo>
                  <a:pt x="439" y="1213"/>
                </a:lnTo>
                <a:lnTo>
                  <a:pt x="439" y="1221"/>
                </a:lnTo>
                <a:lnTo>
                  <a:pt x="439" y="1230"/>
                </a:lnTo>
                <a:lnTo>
                  <a:pt x="439" y="1241"/>
                </a:lnTo>
                <a:lnTo>
                  <a:pt x="442" y="1252"/>
                </a:lnTo>
                <a:lnTo>
                  <a:pt x="442" y="1264"/>
                </a:lnTo>
                <a:lnTo>
                  <a:pt x="442" y="1278"/>
                </a:lnTo>
                <a:lnTo>
                  <a:pt x="442" y="1292"/>
                </a:lnTo>
                <a:lnTo>
                  <a:pt x="445" y="1306"/>
                </a:lnTo>
                <a:lnTo>
                  <a:pt x="445" y="1321"/>
                </a:lnTo>
                <a:lnTo>
                  <a:pt x="447" y="1335"/>
                </a:lnTo>
                <a:lnTo>
                  <a:pt x="447" y="1352"/>
                </a:lnTo>
                <a:lnTo>
                  <a:pt x="450" y="1369"/>
                </a:lnTo>
                <a:lnTo>
                  <a:pt x="450" y="1386"/>
                </a:lnTo>
                <a:lnTo>
                  <a:pt x="450" y="1403"/>
                </a:lnTo>
                <a:lnTo>
                  <a:pt x="453" y="1423"/>
                </a:lnTo>
                <a:lnTo>
                  <a:pt x="453" y="1440"/>
                </a:lnTo>
                <a:lnTo>
                  <a:pt x="453" y="1460"/>
                </a:lnTo>
                <a:lnTo>
                  <a:pt x="456" y="1480"/>
                </a:lnTo>
                <a:lnTo>
                  <a:pt x="459" y="1497"/>
                </a:lnTo>
                <a:lnTo>
                  <a:pt x="462" y="1516"/>
                </a:lnTo>
                <a:lnTo>
                  <a:pt x="462" y="1536"/>
                </a:lnTo>
                <a:lnTo>
                  <a:pt x="464" y="1556"/>
                </a:lnTo>
                <a:lnTo>
                  <a:pt x="464" y="1576"/>
                </a:lnTo>
                <a:lnTo>
                  <a:pt x="467" y="1599"/>
                </a:lnTo>
                <a:lnTo>
                  <a:pt x="467" y="1616"/>
                </a:lnTo>
                <a:lnTo>
                  <a:pt x="467" y="1636"/>
                </a:lnTo>
                <a:lnTo>
                  <a:pt x="470" y="1656"/>
                </a:lnTo>
                <a:lnTo>
                  <a:pt x="473" y="1676"/>
                </a:lnTo>
                <a:lnTo>
                  <a:pt x="473" y="1695"/>
                </a:lnTo>
                <a:lnTo>
                  <a:pt x="473" y="1715"/>
                </a:lnTo>
                <a:lnTo>
                  <a:pt x="476" y="1735"/>
                </a:lnTo>
                <a:lnTo>
                  <a:pt x="476" y="1755"/>
                </a:lnTo>
                <a:lnTo>
                  <a:pt x="476" y="1772"/>
                </a:lnTo>
                <a:lnTo>
                  <a:pt x="479" y="1792"/>
                </a:lnTo>
                <a:lnTo>
                  <a:pt x="479" y="1812"/>
                </a:lnTo>
                <a:lnTo>
                  <a:pt x="481" y="1829"/>
                </a:lnTo>
                <a:lnTo>
                  <a:pt x="481" y="1846"/>
                </a:lnTo>
                <a:lnTo>
                  <a:pt x="484" y="1863"/>
                </a:lnTo>
                <a:lnTo>
                  <a:pt x="484" y="1880"/>
                </a:lnTo>
                <a:lnTo>
                  <a:pt x="487" y="1897"/>
                </a:lnTo>
                <a:lnTo>
                  <a:pt x="487" y="1911"/>
                </a:lnTo>
                <a:lnTo>
                  <a:pt x="487" y="1928"/>
                </a:lnTo>
                <a:lnTo>
                  <a:pt x="487" y="1942"/>
                </a:lnTo>
                <a:lnTo>
                  <a:pt x="487" y="1957"/>
                </a:lnTo>
                <a:lnTo>
                  <a:pt x="487" y="1968"/>
                </a:lnTo>
                <a:lnTo>
                  <a:pt x="490" y="1982"/>
                </a:lnTo>
                <a:lnTo>
                  <a:pt x="490" y="1994"/>
                </a:lnTo>
                <a:lnTo>
                  <a:pt x="490" y="2005"/>
                </a:lnTo>
                <a:lnTo>
                  <a:pt x="490" y="2013"/>
                </a:lnTo>
                <a:lnTo>
                  <a:pt x="490" y="2022"/>
                </a:lnTo>
                <a:lnTo>
                  <a:pt x="490" y="2030"/>
                </a:lnTo>
                <a:lnTo>
                  <a:pt x="490" y="2039"/>
                </a:lnTo>
                <a:lnTo>
                  <a:pt x="490" y="2050"/>
                </a:lnTo>
                <a:lnTo>
                  <a:pt x="490" y="2056"/>
                </a:lnTo>
                <a:lnTo>
                  <a:pt x="487" y="2062"/>
                </a:lnTo>
                <a:lnTo>
                  <a:pt x="487" y="2067"/>
                </a:lnTo>
                <a:lnTo>
                  <a:pt x="484" y="2073"/>
                </a:lnTo>
                <a:lnTo>
                  <a:pt x="484" y="2082"/>
                </a:lnTo>
                <a:lnTo>
                  <a:pt x="479" y="2087"/>
                </a:lnTo>
                <a:lnTo>
                  <a:pt x="476" y="2096"/>
                </a:lnTo>
                <a:lnTo>
                  <a:pt x="476" y="2104"/>
                </a:lnTo>
                <a:lnTo>
                  <a:pt x="473" y="2116"/>
                </a:lnTo>
                <a:lnTo>
                  <a:pt x="467" y="2124"/>
                </a:lnTo>
                <a:lnTo>
                  <a:pt x="464" y="2136"/>
                </a:lnTo>
                <a:lnTo>
                  <a:pt x="464" y="2147"/>
                </a:lnTo>
                <a:lnTo>
                  <a:pt x="462" y="2158"/>
                </a:lnTo>
                <a:lnTo>
                  <a:pt x="456" y="2170"/>
                </a:lnTo>
                <a:lnTo>
                  <a:pt x="453" y="2181"/>
                </a:lnTo>
                <a:lnTo>
                  <a:pt x="453" y="2192"/>
                </a:lnTo>
                <a:lnTo>
                  <a:pt x="450" y="2207"/>
                </a:lnTo>
                <a:lnTo>
                  <a:pt x="447" y="2218"/>
                </a:lnTo>
                <a:lnTo>
                  <a:pt x="445" y="2229"/>
                </a:lnTo>
                <a:lnTo>
                  <a:pt x="442" y="2241"/>
                </a:lnTo>
                <a:lnTo>
                  <a:pt x="442" y="2252"/>
                </a:lnTo>
                <a:lnTo>
                  <a:pt x="442" y="2263"/>
                </a:lnTo>
                <a:lnTo>
                  <a:pt x="439" y="2275"/>
                </a:lnTo>
                <a:lnTo>
                  <a:pt x="439" y="2286"/>
                </a:lnTo>
                <a:lnTo>
                  <a:pt x="442" y="2297"/>
                </a:lnTo>
                <a:lnTo>
                  <a:pt x="442" y="2309"/>
                </a:lnTo>
                <a:lnTo>
                  <a:pt x="442" y="2317"/>
                </a:lnTo>
                <a:lnTo>
                  <a:pt x="442" y="2326"/>
                </a:lnTo>
                <a:lnTo>
                  <a:pt x="445" y="2337"/>
                </a:lnTo>
                <a:lnTo>
                  <a:pt x="447" y="2343"/>
                </a:lnTo>
                <a:lnTo>
                  <a:pt x="453" y="2351"/>
                </a:lnTo>
                <a:lnTo>
                  <a:pt x="456" y="2360"/>
                </a:lnTo>
                <a:lnTo>
                  <a:pt x="462" y="2366"/>
                </a:lnTo>
                <a:lnTo>
                  <a:pt x="464" y="2368"/>
                </a:lnTo>
                <a:lnTo>
                  <a:pt x="470" y="2371"/>
                </a:lnTo>
                <a:lnTo>
                  <a:pt x="479" y="2374"/>
                </a:lnTo>
                <a:lnTo>
                  <a:pt x="490" y="2377"/>
                </a:lnTo>
                <a:lnTo>
                  <a:pt x="501" y="2380"/>
                </a:lnTo>
                <a:lnTo>
                  <a:pt x="515" y="2383"/>
                </a:lnTo>
                <a:lnTo>
                  <a:pt x="530" y="2383"/>
                </a:lnTo>
                <a:lnTo>
                  <a:pt x="549" y="2388"/>
                </a:lnTo>
                <a:lnTo>
                  <a:pt x="569" y="2391"/>
                </a:lnTo>
                <a:lnTo>
                  <a:pt x="592" y="2391"/>
                </a:lnTo>
                <a:lnTo>
                  <a:pt x="612" y="2394"/>
                </a:lnTo>
                <a:lnTo>
                  <a:pt x="637" y="2400"/>
                </a:lnTo>
                <a:lnTo>
                  <a:pt x="663" y="2403"/>
                </a:lnTo>
                <a:lnTo>
                  <a:pt x="691" y="2403"/>
                </a:lnTo>
                <a:lnTo>
                  <a:pt x="719" y="2405"/>
                </a:lnTo>
                <a:lnTo>
                  <a:pt x="751" y="2411"/>
                </a:lnTo>
                <a:lnTo>
                  <a:pt x="782" y="2411"/>
                </a:lnTo>
                <a:lnTo>
                  <a:pt x="813" y="2414"/>
                </a:lnTo>
                <a:lnTo>
                  <a:pt x="847" y="2417"/>
                </a:lnTo>
                <a:lnTo>
                  <a:pt x="881" y="2420"/>
                </a:lnTo>
                <a:lnTo>
                  <a:pt x="918" y="2420"/>
                </a:lnTo>
                <a:lnTo>
                  <a:pt x="952" y="2425"/>
                </a:lnTo>
                <a:lnTo>
                  <a:pt x="991" y="2425"/>
                </a:lnTo>
                <a:lnTo>
                  <a:pt x="1028" y="2428"/>
                </a:lnTo>
                <a:lnTo>
                  <a:pt x="1065" y="2431"/>
                </a:lnTo>
                <a:lnTo>
                  <a:pt x="1105" y="2434"/>
                </a:lnTo>
                <a:lnTo>
                  <a:pt x="1141" y="2437"/>
                </a:lnTo>
                <a:lnTo>
                  <a:pt x="1184" y="2437"/>
                </a:lnTo>
                <a:lnTo>
                  <a:pt x="1221" y="2439"/>
                </a:lnTo>
                <a:lnTo>
                  <a:pt x="1260" y="2442"/>
                </a:lnTo>
                <a:lnTo>
                  <a:pt x="1300" y="2445"/>
                </a:lnTo>
                <a:lnTo>
                  <a:pt x="1342" y="2448"/>
                </a:lnTo>
                <a:lnTo>
                  <a:pt x="1382" y="2448"/>
                </a:lnTo>
                <a:lnTo>
                  <a:pt x="1422" y="2451"/>
                </a:lnTo>
                <a:lnTo>
                  <a:pt x="1461" y="2451"/>
                </a:lnTo>
                <a:lnTo>
                  <a:pt x="1501" y="2454"/>
                </a:lnTo>
                <a:lnTo>
                  <a:pt x="1541" y="2456"/>
                </a:lnTo>
                <a:lnTo>
                  <a:pt x="1578" y="2456"/>
                </a:lnTo>
                <a:lnTo>
                  <a:pt x="1617" y="2459"/>
                </a:lnTo>
                <a:lnTo>
                  <a:pt x="1657" y="2462"/>
                </a:lnTo>
                <a:lnTo>
                  <a:pt x="1694" y="2462"/>
                </a:lnTo>
                <a:lnTo>
                  <a:pt x="1730" y="2465"/>
                </a:lnTo>
                <a:lnTo>
                  <a:pt x="1767" y="2465"/>
                </a:lnTo>
                <a:lnTo>
                  <a:pt x="1804" y="2468"/>
                </a:lnTo>
                <a:lnTo>
                  <a:pt x="1838" y="2468"/>
                </a:lnTo>
                <a:lnTo>
                  <a:pt x="1872" y="2471"/>
                </a:lnTo>
                <a:lnTo>
                  <a:pt x="1903" y="2471"/>
                </a:lnTo>
                <a:lnTo>
                  <a:pt x="1937" y="2474"/>
                </a:lnTo>
                <a:lnTo>
                  <a:pt x="1966" y="2474"/>
                </a:lnTo>
                <a:lnTo>
                  <a:pt x="1994" y="2474"/>
                </a:lnTo>
                <a:lnTo>
                  <a:pt x="2022" y="2474"/>
                </a:lnTo>
                <a:lnTo>
                  <a:pt x="2051" y="2476"/>
                </a:lnTo>
                <a:lnTo>
                  <a:pt x="2073" y="2476"/>
                </a:lnTo>
                <a:lnTo>
                  <a:pt x="2099" y="2476"/>
                </a:lnTo>
                <a:lnTo>
                  <a:pt x="2118" y="2479"/>
                </a:lnTo>
                <a:lnTo>
                  <a:pt x="2141" y="2479"/>
                </a:lnTo>
                <a:lnTo>
                  <a:pt x="2158" y="2479"/>
                </a:lnTo>
                <a:lnTo>
                  <a:pt x="2175" y="2479"/>
                </a:lnTo>
                <a:lnTo>
                  <a:pt x="2189" y="2479"/>
                </a:lnTo>
                <a:lnTo>
                  <a:pt x="2203" y="2479"/>
                </a:lnTo>
                <a:lnTo>
                  <a:pt x="2215" y="2479"/>
                </a:lnTo>
                <a:lnTo>
                  <a:pt x="2223" y="2479"/>
                </a:lnTo>
                <a:lnTo>
                  <a:pt x="2232" y="2479"/>
                </a:lnTo>
                <a:lnTo>
                  <a:pt x="2237" y="2479"/>
                </a:lnTo>
                <a:lnTo>
                  <a:pt x="2240" y="2479"/>
                </a:lnTo>
                <a:lnTo>
                  <a:pt x="2243" y="2476"/>
                </a:lnTo>
                <a:lnTo>
                  <a:pt x="2252" y="2474"/>
                </a:lnTo>
                <a:lnTo>
                  <a:pt x="2257" y="2474"/>
                </a:lnTo>
                <a:lnTo>
                  <a:pt x="2266" y="2468"/>
                </a:lnTo>
                <a:lnTo>
                  <a:pt x="2277" y="2465"/>
                </a:lnTo>
                <a:lnTo>
                  <a:pt x="2286" y="2459"/>
                </a:lnTo>
                <a:lnTo>
                  <a:pt x="2300" y="2456"/>
                </a:lnTo>
                <a:lnTo>
                  <a:pt x="2311" y="2451"/>
                </a:lnTo>
                <a:lnTo>
                  <a:pt x="2328" y="2445"/>
                </a:lnTo>
                <a:lnTo>
                  <a:pt x="2339" y="2437"/>
                </a:lnTo>
                <a:lnTo>
                  <a:pt x="2356" y="2431"/>
                </a:lnTo>
                <a:lnTo>
                  <a:pt x="2371" y="2425"/>
                </a:lnTo>
                <a:lnTo>
                  <a:pt x="2390" y="2417"/>
                </a:lnTo>
                <a:lnTo>
                  <a:pt x="2407" y="2408"/>
                </a:lnTo>
                <a:lnTo>
                  <a:pt x="2427" y="2403"/>
                </a:lnTo>
                <a:lnTo>
                  <a:pt x="2447" y="2391"/>
                </a:lnTo>
                <a:lnTo>
                  <a:pt x="2467" y="2383"/>
                </a:lnTo>
                <a:lnTo>
                  <a:pt x="2487" y="2371"/>
                </a:lnTo>
                <a:lnTo>
                  <a:pt x="2509" y="2363"/>
                </a:lnTo>
                <a:lnTo>
                  <a:pt x="2529" y="2354"/>
                </a:lnTo>
                <a:lnTo>
                  <a:pt x="2552" y="2343"/>
                </a:lnTo>
                <a:lnTo>
                  <a:pt x="2572" y="2334"/>
                </a:lnTo>
                <a:lnTo>
                  <a:pt x="2597" y="2323"/>
                </a:lnTo>
                <a:lnTo>
                  <a:pt x="2620" y="2312"/>
                </a:lnTo>
                <a:lnTo>
                  <a:pt x="2642" y="2300"/>
                </a:lnTo>
                <a:lnTo>
                  <a:pt x="2665" y="2289"/>
                </a:lnTo>
                <a:lnTo>
                  <a:pt x="2691" y="2280"/>
                </a:lnTo>
                <a:lnTo>
                  <a:pt x="2713" y="2269"/>
                </a:lnTo>
                <a:lnTo>
                  <a:pt x="2739" y="2258"/>
                </a:lnTo>
                <a:lnTo>
                  <a:pt x="2761" y="2246"/>
                </a:lnTo>
                <a:lnTo>
                  <a:pt x="2787" y="2235"/>
                </a:lnTo>
                <a:lnTo>
                  <a:pt x="2810" y="2224"/>
                </a:lnTo>
                <a:lnTo>
                  <a:pt x="2832" y="2212"/>
                </a:lnTo>
                <a:lnTo>
                  <a:pt x="2858" y="2201"/>
                </a:lnTo>
                <a:lnTo>
                  <a:pt x="2880" y="2190"/>
                </a:lnTo>
                <a:lnTo>
                  <a:pt x="2903" y="2178"/>
                </a:lnTo>
                <a:lnTo>
                  <a:pt x="2926" y="2167"/>
                </a:lnTo>
                <a:lnTo>
                  <a:pt x="2948" y="2155"/>
                </a:lnTo>
                <a:lnTo>
                  <a:pt x="2974" y="2144"/>
                </a:lnTo>
                <a:lnTo>
                  <a:pt x="2994" y="2133"/>
                </a:lnTo>
                <a:lnTo>
                  <a:pt x="3016" y="2121"/>
                </a:lnTo>
                <a:lnTo>
                  <a:pt x="3036" y="2113"/>
                </a:lnTo>
                <a:lnTo>
                  <a:pt x="3059" y="2101"/>
                </a:lnTo>
                <a:lnTo>
                  <a:pt x="3079" y="2090"/>
                </a:lnTo>
                <a:lnTo>
                  <a:pt x="3098" y="2082"/>
                </a:lnTo>
                <a:lnTo>
                  <a:pt x="3115" y="2070"/>
                </a:lnTo>
                <a:lnTo>
                  <a:pt x="3135" y="2062"/>
                </a:lnTo>
                <a:lnTo>
                  <a:pt x="3152" y="2053"/>
                </a:lnTo>
                <a:lnTo>
                  <a:pt x="3169" y="2045"/>
                </a:lnTo>
                <a:lnTo>
                  <a:pt x="3183" y="2033"/>
                </a:lnTo>
                <a:lnTo>
                  <a:pt x="3200" y="2028"/>
                </a:lnTo>
                <a:lnTo>
                  <a:pt x="3212" y="2019"/>
                </a:lnTo>
                <a:lnTo>
                  <a:pt x="3226" y="2011"/>
                </a:lnTo>
                <a:lnTo>
                  <a:pt x="3237" y="2005"/>
                </a:lnTo>
                <a:lnTo>
                  <a:pt x="3251" y="1999"/>
                </a:lnTo>
                <a:lnTo>
                  <a:pt x="3260" y="1991"/>
                </a:lnTo>
                <a:lnTo>
                  <a:pt x="3271" y="1985"/>
                </a:lnTo>
                <a:lnTo>
                  <a:pt x="3277" y="1982"/>
                </a:lnTo>
                <a:lnTo>
                  <a:pt x="3285" y="1977"/>
                </a:lnTo>
                <a:lnTo>
                  <a:pt x="3297" y="1968"/>
                </a:lnTo>
                <a:lnTo>
                  <a:pt x="3302" y="1965"/>
                </a:lnTo>
                <a:lnTo>
                  <a:pt x="3302" y="1959"/>
                </a:lnTo>
                <a:lnTo>
                  <a:pt x="3302" y="1951"/>
                </a:lnTo>
                <a:lnTo>
                  <a:pt x="3302" y="1942"/>
                </a:lnTo>
                <a:lnTo>
                  <a:pt x="3302" y="1931"/>
                </a:lnTo>
                <a:lnTo>
                  <a:pt x="3302" y="1925"/>
                </a:lnTo>
                <a:lnTo>
                  <a:pt x="3302" y="1920"/>
                </a:lnTo>
                <a:lnTo>
                  <a:pt x="3302" y="1914"/>
                </a:lnTo>
                <a:lnTo>
                  <a:pt x="3302" y="1908"/>
                </a:lnTo>
                <a:lnTo>
                  <a:pt x="3302" y="1900"/>
                </a:lnTo>
                <a:lnTo>
                  <a:pt x="3302" y="1894"/>
                </a:lnTo>
                <a:lnTo>
                  <a:pt x="3302" y="1886"/>
                </a:lnTo>
                <a:lnTo>
                  <a:pt x="3302" y="1880"/>
                </a:lnTo>
                <a:lnTo>
                  <a:pt x="3302" y="1871"/>
                </a:lnTo>
                <a:lnTo>
                  <a:pt x="3302" y="1863"/>
                </a:lnTo>
                <a:lnTo>
                  <a:pt x="3302" y="1854"/>
                </a:lnTo>
                <a:lnTo>
                  <a:pt x="3302" y="1846"/>
                </a:lnTo>
                <a:lnTo>
                  <a:pt x="3300" y="1837"/>
                </a:lnTo>
                <a:lnTo>
                  <a:pt x="3300" y="1829"/>
                </a:lnTo>
                <a:lnTo>
                  <a:pt x="3300" y="1820"/>
                </a:lnTo>
                <a:lnTo>
                  <a:pt x="3300" y="1812"/>
                </a:lnTo>
                <a:lnTo>
                  <a:pt x="3297" y="1803"/>
                </a:lnTo>
                <a:lnTo>
                  <a:pt x="3297" y="1795"/>
                </a:lnTo>
                <a:lnTo>
                  <a:pt x="3294" y="1786"/>
                </a:lnTo>
                <a:lnTo>
                  <a:pt x="3294" y="1778"/>
                </a:lnTo>
                <a:lnTo>
                  <a:pt x="3294" y="1766"/>
                </a:lnTo>
                <a:lnTo>
                  <a:pt x="3294" y="1761"/>
                </a:lnTo>
                <a:lnTo>
                  <a:pt x="3291" y="1749"/>
                </a:lnTo>
                <a:lnTo>
                  <a:pt x="3291" y="1741"/>
                </a:lnTo>
                <a:lnTo>
                  <a:pt x="3291" y="1732"/>
                </a:lnTo>
                <a:lnTo>
                  <a:pt x="3291" y="1724"/>
                </a:lnTo>
                <a:lnTo>
                  <a:pt x="3288" y="1712"/>
                </a:lnTo>
                <a:lnTo>
                  <a:pt x="3288" y="1704"/>
                </a:lnTo>
                <a:lnTo>
                  <a:pt x="3285" y="1695"/>
                </a:lnTo>
                <a:lnTo>
                  <a:pt x="3285" y="1687"/>
                </a:lnTo>
                <a:lnTo>
                  <a:pt x="3283" y="1678"/>
                </a:lnTo>
                <a:lnTo>
                  <a:pt x="3283" y="1670"/>
                </a:lnTo>
                <a:lnTo>
                  <a:pt x="3283" y="1661"/>
                </a:lnTo>
                <a:lnTo>
                  <a:pt x="3283" y="1653"/>
                </a:lnTo>
                <a:lnTo>
                  <a:pt x="3280" y="1647"/>
                </a:lnTo>
                <a:lnTo>
                  <a:pt x="3280" y="1639"/>
                </a:lnTo>
                <a:lnTo>
                  <a:pt x="3280" y="1630"/>
                </a:lnTo>
                <a:lnTo>
                  <a:pt x="3277" y="1624"/>
                </a:lnTo>
                <a:lnTo>
                  <a:pt x="3277" y="1619"/>
                </a:lnTo>
                <a:lnTo>
                  <a:pt x="3277" y="1610"/>
                </a:lnTo>
                <a:lnTo>
                  <a:pt x="3274" y="1599"/>
                </a:lnTo>
                <a:lnTo>
                  <a:pt x="3274" y="1587"/>
                </a:lnTo>
                <a:lnTo>
                  <a:pt x="3271" y="1576"/>
                </a:lnTo>
                <a:lnTo>
                  <a:pt x="3271" y="1570"/>
                </a:lnTo>
                <a:lnTo>
                  <a:pt x="3271" y="1562"/>
                </a:lnTo>
                <a:lnTo>
                  <a:pt x="3271" y="1559"/>
                </a:lnTo>
                <a:lnTo>
                  <a:pt x="3271" y="1556"/>
                </a:lnTo>
                <a:lnTo>
                  <a:pt x="3339" y="804"/>
                </a:lnTo>
                <a:lnTo>
                  <a:pt x="3339" y="801"/>
                </a:lnTo>
                <a:lnTo>
                  <a:pt x="3345" y="801"/>
                </a:lnTo>
                <a:lnTo>
                  <a:pt x="3348" y="795"/>
                </a:lnTo>
                <a:lnTo>
                  <a:pt x="3356" y="792"/>
                </a:lnTo>
                <a:lnTo>
                  <a:pt x="3365" y="789"/>
                </a:lnTo>
                <a:lnTo>
                  <a:pt x="3376" y="784"/>
                </a:lnTo>
                <a:lnTo>
                  <a:pt x="3379" y="781"/>
                </a:lnTo>
                <a:lnTo>
                  <a:pt x="3387" y="778"/>
                </a:lnTo>
                <a:lnTo>
                  <a:pt x="3393" y="775"/>
                </a:lnTo>
                <a:lnTo>
                  <a:pt x="3401" y="772"/>
                </a:lnTo>
                <a:lnTo>
                  <a:pt x="3407" y="770"/>
                </a:lnTo>
                <a:lnTo>
                  <a:pt x="3416" y="767"/>
                </a:lnTo>
                <a:lnTo>
                  <a:pt x="3421" y="761"/>
                </a:lnTo>
                <a:lnTo>
                  <a:pt x="3430" y="758"/>
                </a:lnTo>
                <a:lnTo>
                  <a:pt x="3438" y="753"/>
                </a:lnTo>
                <a:lnTo>
                  <a:pt x="3447" y="750"/>
                </a:lnTo>
                <a:lnTo>
                  <a:pt x="3455" y="747"/>
                </a:lnTo>
                <a:lnTo>
                  <a:pt x="3464" y="741"/>
                </a:lnTo>
                <a:lnTo>
                  <a:pt x="3472" y="738"/>
                </a:lnTo>
                <a:lnTo>
                  <a:pt x="3481" y="733"/>
                </a:lnTo>
                <a:lnTo>
                  <a:pt x="3489" y="727"/>
                </a:lnTo>
                <a:lnTo>
                  <a:pt x="3501" y="724"/>
                </a:lnTo>
                <a:lnTo>
                  <a:pt x="3509" y="718"/>
                </a:lnTo>
                <a:lnTo>
                  <a:pt x="3518" y="716"/>
                </a:lnTo>
                <a:lnTo>
                  <a:pt x="3526" y="710"/>
                </a:lnTo>
                <a:lnTo>
                  <a:pt x="3537" y="707"/>
                </a:lnTo>
                <a:lnTo>
                  <a:pt x="3546" y="699"/>
                </a:lnTo>
                <a:lnTo>
                  <a:pt x="3554" y="696"/>
                </a:lnTo>
                <a:lnTo>
                  <a:pt x="3563" y="690"/>
                </a:lnTo>
                <a:lnTo>
                  <a:pt x="3571" y="684"/>
                </a:lnTo>
                <a:lnTo>
                  <a:pt x="3580" y="679"/>
                </a:lnTo>
                <a:lnTo>
                  <a:pt x="3588" y="676"/>
                </a:lnTo>
                <a:lnTo>
                  <a:pt x="3600" y="667"/>
                </a:lnTo>
                <a:lnTo>
                  <a:pt x="3608" y="664"/>
                </a:lnTo>
                <a:lnTo>
                  <a:pt x="3617" y="659"/>
                </a:lnTo>
                <a:lnTo>
                  <a:pt x="3625" y="653"/>
                </a:lnTo>
                <a:lnTo>
                  <a:pt x="3631" y="647"/>
                </a:lnTo>
                <a:lnTo>
                  <a:pt x="3642" y="645"/>
                </a:lnTo>
                <a:lnTo>
                  <a:pt x="3648" y="639"/>
                </a:lnTo>
                <a:lnTo>
                  <a:pt x="3654" y="633"/>
                </a:lnTo>
                <a:lnTo>
                  <a:pt x="3662" y="628"/>
                </a:lnTo>
                <a:lnTo>
                  <a:pt x="3671" y="625"/>
                </a:lnTo>
                <a:lnTo>
                  <a:pt x="3682" y="613"/>
                </a:lnTo>
                <a:lnTo>
                  <a:pt x="3693" y="605"/>
                </a:lnTo>
                <a:lnTo>
                  <a:pt x="3705" y="594"/>
                </a:lnTo>
                <a:lnTo>
                  <a:pt x="3713" y="588"/>
                </a:lnTo>
                <a:lnTo>
                  <a:pt x="3719" y="579"/>
                </a:lnTo>
                <a:lnTo>
                  <a:pt x="3722" y="571"/>
                </a:lnTo>
                <a:lnTo>
                  <a:pt x="3724" y="562"/>
                </a:lnTo>
                <a:lnTo>
                  <a:pt x="3724" y="557"/>
                </a:lnTo>
                <a:lnTo>
                  <a:pt x="3722" y="551"/>
                </a:lnTo>
                <a:lnTo>
                  <a:pt x="3719" y="542"/>
                </a:lnTo>
                <a:lnTo>
                  <a:pt x="3710" y="534"/>
                </a:lnTo>
                <a:lnTo>
                  <a:pt x="3705" y="525"/>
                </a:lnTo>
                <a:lnTo>
                  <a:pt x="3693" y="517"/>
                </a:lnTo>
                <a:lnTo>
                  <a:pt x="3685" y="505"/>
                </a:lnTo>
                <a:lnTo>
                  <a:pt x="3673" y="494"/>
                </a:lnTo>
                <a:lnTo>
                  <a:pt x="3659" y="486"/>
                </a:lnTo>
                <a:lnTo>
                  <a:pt x="3654" y="480"/>
                </a:lnTo>
                <a:lnTo>
                  <a:pt x="3645" y="471"/>
                </a:lnTo>
                <a:lnTo>
                  <a:pt x="3637" y="466"/>
                </a:lnTo>
                <a:lnTo>
                  <a:pt x="3631" y="460"/>
                </a:lnTo>
                <a:lnTo>
                  <a:pt x="3620" y="454"/>
                </a:lnTo>
                <a:lnTo>
                  <a:pt x="3614" y="449"/>
                </a:lnTo>
                <a:lnTo>
                  <a:pt x="3605" y="443"/>
                </a:lnTo>
                <a:lnTo>
                  <a:pt x="3597" y="437"/>
                </a:lnTo>
                <a:lnTo>
                  <a:pt x="3588" y="429"/>
                </a:lnTo>
                <a:lnTo>
                  <a:pt x="3580" y="426"/>
                </a:lnTo>
                <a:lnTo>
                  <a:pt x="3569" y="417"/>
                </a:lnTo>
                <a:lnTo>
                  <a:pt x="3563" y="412"/>
                </a:lnTo>
                <a:lnTo>
                  <a:pt x="3552" y="406"/>
                </a:lnTo>
                <a:lnTo>
                  <a:pt x="3546" y="400"/>
                </a:lnTo>
                <a:lnTo>
                  <a:pt x="3535" y="395"/>
                </a:lnTo>
                <a:lnTo>
                  <a:pt x="3526" y="389"/>
                </a:lnTo>
                <a:lnTo>
                  <a:pt x="3518" y="381"/>
                </a:lnTo>
                <a:lnTo>
                  <a:pt x="3509" y="375"/>
                </a:lnTo>
                <a:lnTo>
                  <a:pt x="3498" y="369"/>
                </a:lnTo>
                <a:lnTo>
                  <a:pt x="3489" y="363"/>
                </a:lnTo>
                <a:lnTo>
                  <a:pt x="3481" y="358"/>
                </a:lnTo>
                <a:lnTo>
                  <a:pt x="3472" y="352"/>
                </a:lnTo>
                <a:lnTo>
                  <a:pt x="3461" y="346"/>
                </a:lnTo>
                <a:lnTo>
                  <a:pt x="3452" y="344"/>
                </a:lnTo>
                <a:lnTo>
                  <a:pt x="3441" y="335"/>
                </a:lnTo>
                <a:lnTo>
                  <a:pt x="3433" y="332"/>
                </a:lnTo>
                <a:lnTo>
                  <a:pt x="3424" y="324"/>
                </a:lnTo>
                <a:lnTo>
                  <a:pt x="3418" y="321"/>
                </a:lnTo>
                <a:lnTo>
                  <a:pt x="3410" y="315"/>
                </a:lnTo>
                <a:lnTo>
                  <a:pt x="3401" y="310"/>
                </a:lnTo>
                <a:lnTo>
                  <a:pt x="3393" y="307"/>
                </a:lnTo>
                <a:lnTo>
                  <a:pt x="3387" y="304"/>
                </a:lnTo>
                <a:lnTo>
                  <a:pt x="3379" y="298"/>
                </a:lnTo>
                <a:lnTo>
                  <a:pt x="3370" y="295"/>
                </a:lnTo>
                <a:lnTo>
                  <a:pt x="3365" y="290"/>
                </a:lnTo>
                <a:lnTo>
                  <a:pt x="3356" y="287"/>
                </a:lnTo>
                <a:lnTo>
                  <a:pt x="3345" y="278"/>
                </a:lnTo>
                <a:lnTo>
                  <a:pt x="3334" y="275"/>
                </a:lnTo>
                <a:lnTo>
                  <a:pt x="3322" y="270"/>
                </a:lnTo>
                <a:lnTo>
                  <a:pt x="3314" y="267"/>
                </a:lnTo>
                <a:lnTo>
                  <a:pt x="3308" y="267"/>
                </a:lnTo>
                <a:lnTo>
                  <a:pt x="3302" y="267"/>
                </a:lnTo>
                <a:lnTo>
                  <a:pt x="3300" y="264"/>
                </a:lnTo>
                <a:lnTo>
                  <a:pt x="3294" y="264"/>
                </a:lnTo>
                <a:lnTo>
                  <a:pt x="3288" y="261"/>
                </a:lnTo>
                <a:lnTo>
                  <a:pt x="3283" y="261"/>
                </a:lnTo>
                <a:lnTo>
                  <a:pt x="3271" y="261"/>
                </a:lnTo>
                <a:lnTo>
                  <a:pt x="3263" y="261"/>
                </a:lnTo>
                <a:lnTo>
                  <a:pt x="3251" y="258"/>
                </a:lnTo>
                <a:lnTo>
                  <a:pt x="3240" y="258"/>
                </a:lnTo>
                <a:lnTo>
                  <a:pt x="3226" y="256"/>
                </a:lnTo>
                <a:lnTo>
                  <a:pt x="3212" y="256"/>
                </a:lnTo>
                <a:lnTo>
                  <a:pt x="3198" y="256"/>
                </a:lnTo>
                <a:lnTo>
                  <a:pt x="3181" y="256"/>
                </a:lnTo>
                <a:lnTo>
                  <a:pt x="3164" y="253"/>
                </a:lnTo>
                <a:lnTo>
                  <a:pt x="3147" y="250"/>
                </a:lnTo>
                <a:lnTo>
                  <a:pt x="3127" y="250"/>
                </a:lnTo>
                <a:lnTo>
                  <a:pt x="3110" y="250"/>
                </a:lnTo>
                <a:lnTo>
                  <a:pt x="3087" y="247"/>
                </a:lnTo>
                <a:lnTo>
                  <a:pt x="3067" y="244"/>
                </a:lnTo>
                <a:lnTo>
                  <a:pt x="3045" y="244"/>
                </a:lnTo>
                <a:lnTo>
                  <a:pt x="3022" y="244"/>
                </a:lnTo>
                <a:lnTo>
                  <a:pt x="2999" y="241"/>
                </a:lnTo>
                <a:lnTo>
                  <a:pt x="2977" y="239"/>
                </a:lnTo>
                <a:lnTo>
                  <a:pt x="2954" y="236"/>
                </a:lnTo>
                <a:lnTo>
                  <a:pt x="2931" y="236"/>
                </a:lnTo>
                <a:lnTo>
                  <a:pt x="2906" y="236"/>
                </a:lnTo>
                <a:lnTo>
                  <a:pt x="2880" y="233"/>
                </a:lnTo>
                <a:lnTo>
                  <a:pt x="2855" y="233"/>
                </a:lnTo>
                <a:lnTo>
                  <a:pt x="2829" y="230"/>
                </a:lnTo>
                <a:lnTo>
                  <a:pt x="2804" y="227"/>
                </a:lnTo>
                <a:lnTo>
                  <a:pt x="2781" y="227"/>
                </a:lnTo>
                <a:lnTo>
                  <a:pt x="2756" y="224"/>
                </a:lnTo>
                <a:lnTo>
                  <a:pt x="2730" y="224"/>
                </a:lnTo>
                <a:lnTo>
                  <a:pt x="2705" y="224"/>
                </a:lnTo>
                <a:lnTo>
                  <a:pt x="2676" y="221"/>
                </a:lnTo>
                <a:lnTo>
                  <a:pt x="2654" y="219"/>
                </a:lnTo>
                <a:lnTo>
                  <a:pt x="2628" y="219"/>
                </a:lnTo>
                <a:lnTo>
                  <a:pt x="2603" y="216"/>
                </a:lnTo>
                <a:lnTo>
                  <a:pt x="2580" y="213"/>
                </a:lnTo>
                <a:lnTo>
                  <a:pt x="2555" y="213"/>
                </a:lnTo>
                <a:lnTo>
                  <a:pt x="2532" y="213"/>
                </a:lnTo>
                <a:lnTo>
                  <a:pt x="2507" y="210"/>
                </a:lnTo>
                <a:lnTo>
                  <a:pt x="2484" y="207"/>
                </a:lnTo>
                <a:lnTo>
                  <a:pt x="2461" y="207"/>
                </a:lnTo>
                <a:lnTo>
                  <a:pt x="2441" y="204"/>
                </a:lnTo>
                <a:lnTo>
                  <a:pt x="2419" y="204"/>
                </a:lnTo>
                <a:lnTo>
                  <a:pt x="2399" y="202"/>
                </a:lnTo>
                <a:lnTo>
                  <a:pt x="2379" y="202"/>
                </a:lnTo>
                <a:lnTo>
                  <a:pt x="2359" y="202"/>
                </a:lnTo>
                <a:lnTo>
                  <a:pt x="2342" y="202"/>
                </a:lnTo>
                <a:lnTo>
                  <a:pt x="2325" y="199"/>
                </a:lnTo>
                <a:lnTo>
                  <a:pt x="2305" y="199"/>
                </a:lnTo>
                <a:lnTo>
                  <a:pt x="2291" y="199"/>
                </a:lnTo>
                <a:lnTo>
                  <a:pt x="2274" y="196"/>
                </a:lnTo>
                <a:lnTo>
                  <a:pt x="2263" y="196"/>
                </a:lnTo>
                <a:lnTo>
                  <a:pt x="2249" y="196"/>
                </a:lnTo>
                <a:lnTo>
                  <a:pt x="2240" y="196"/>
                </a:lnTo>
                <a:lnTo>
                  <a:pt x="2229" y="193"/>
                </a:lnTo>
                <a:lnTo>
                  <a:pt x="2220" y="193"/>
                </a:lnTo>
                <a:lnTo>
                  <a:pt x="2212" y="193"/>
                </a:lnTo>
                <a:lnTo>
                  <a:pt x="2206" y="193"/>
                </a:lnTo>
                <a:lnTo>
                  <a:pt x="2198" y="193"/>
                </a:lnTo>
                <a:lnTo>
                  <a:pt x="2195" y="193"/>
                </a:lnTo>
                <a:lnTo>
                  <a:pt x="2192" y="190"/>
                </a:lnTo>
                <a:lnTo>
                  <a:pt x="2186" y="182"/>
                </a:lnTo>
                <a:lnTo>
                  <a:pt x="2175" y="173"/>
                </a:lnTo>
                <a:lnTo>
                  <a:pt x="2167" y="162"/>
                </a:lnTo>
                <a:lnTo>
                  <a:pt x="2152" y="150"/>
                </a:lnTo>
                <a:lnTo>
                  <a:pt x="2138" y="142"/>
                </a:lnTo>
                <a:lnTo>
                  <a:pt x="2133" y="136"/>
                </a:lnTo>
                <a:lnTo>
                  <a:pt x="2124" y="133"/>
                </a:lnTo>
                <a:lnTo>
                  <a:pt x="2118" y="131"/>
                </a:lnTo>
                <a:lnTo>
                  <a:pt x="2113" y="131"/>
                </a:lnTo>
                <a:lnTo>
                  <a:pt x="2107" y="131"/>
                </a:lnTo>
                <a:lnTo>
                  <a:pt x="2101" y="131"/>
                </a:lnTo>
                <a:lnTo>
                  <a:pt x="2093" y="131"/>
                </a:lnTo>
                <a:lnTo>
                  <a:pt x="2087" y="131"/>
                </a:lnTo>
                <a:lnTo>
                  <a:pt x="2073" y="131"/>
                </a:lnTo>
                <a:lnTo>
                  <a:pt x="2062" y="133"/>
                </a:lnTo>
                <a:lnTo>
                  <a:pt x="2048" y="136"/>
                </a:lnTo>
                <a:lnTo>
                  <a:pt x="2039" y="139"/>
                </a:lnTo>
                <a:lnTo>
                  <a:pt x="2034" y="139"/>
                </a:lnTo>
                <a:lnTo>
                  <a:pt x="2034" y="142"/>
                </a:lnTo>
                <a:lnTo>
                  <a:pt x="2031" y="139"/>
                </a:lnTo>
                <a:lnTo>
                  <a:pt x="2028" y="136"/>
                </a:lnTo>
                <a:lnTo>
                  <a:pt x="2022" y="128"/>
                </a:lnTo>
                <a:lnTo>
                  <a:pt x="2017" y="122"/>
                </a:lnTo>
                <a:lnTo>
                  <a:pt x="2008" y="111"/>
                </a:lnTo>
                <a:lnTo>
                  <a:pt x="2000" y="102"/>
                </a:lnTo>
                <a:lnTo>
                  <a:pt x="1991" y="91"/>
                </a:lnTo>
                <a:lnTo>
                  <a:pt x="1980" y="79"/>
                </a:lnTo>
                <a:lnTo>
                  <a:pt x="1968" y="68"/>
                </a:lnTo>
                <a:lnTo>
                  <a:pt x="1957" y="57"/>
                </a:lnTo>
                <a:lnTo>
                  <a:pt x="1949" y="45"/>
                </a:lnTo>
                <a:lnTo>
                  <a:pt x="1937" y="37"/>
                </a:lnTo>
                <a:lnTo>
                  <a:pt x="1926" y="28"/>
                </a:lnTo>
                <a:lnTo>
                  <a:pt x="1915" y="23"/>
                </a:lnTo>
                <a:lnTo>
                  <a:pt x="1906" y="17"/>
                </a:lnTo>
                <a:lnTo>
                  <a:pt x="1900" y="17"/>
                </a:lnTo>
                <a:lnTo>
                  <a:pt x="1892" y="17"/>
                </a:lnTo>
                <a:lnTo>
                  <a:pt x="1883" y="17"/>
                </a:lnTo>
                <a:lnTo>
                  <a:pt x="1878" y="20"/>
                </a:lnTo>
                <a:lnTo>
                  <a:pt x="1872" y="23"/>
                </a:lnTo>
                <a:lnTo>
                  <a:pt x="1861" y="34"/>
                </a:lnTo>
                <a:lnTo>
                  <a:pt x="1852" y="45"/>
                </a:lnTo>
                <a:lnTo>
                  <a:pt x="1847" y="57"/>
                </a:lnTo>
                <a:lnTo>
                  <a:pt x="1844" y="68"/>
                </a:lnTo>
                <a:lnTo>
                  <a:pt x="1841" y="74"/>
                </a:lnTo>
                <a:lnTo>
                  <a:pt x="1841" y="79"/>
                </a:lnTo>
                <a:lnTo>
                  <a:pt x="1838" y="74"/>
                </a:lnTo>
                <a:lnTo>
                  <a:pt x="1832" y="65"/>
                </a:lnTo>
                <a:lnTo>
                  <a:pt x="1827" y="60"/>
                </a:lnTo>
                <a:lnTo>
                  <a:pt x="1824" y="54"/>
                </a:lnTo>
                <a:lnTo>
                  <a:pt x="1818" y="45"/>
                </a:lnTo>
                <a:lnTo>
                  <a:pt x="1813" y="40"/>
                </a:lnTo>
                <a:lnTo>
                  <a:pt x="1807" y="31"/>
                </a:lnTo>
                <a:lnTo>
                  <a:pt x="1798" y="23"/>
                </a:lnTo>
                <a:lnTo>
                  <a:pt x="1793" y="17"/>
                </a:lnTo>
                <a:lnTo>
                  <a:pt x="1784" y="11"/>
                </a:lnTo>
                <a:lnTo>
                  <a:pt x="1776" y="6"/>
                </a:lnTo>
                <a:lnTo>
                  <a:pt x="1767" y="3"/>
                </a:lnTo>
                <a:lnTo>
                  <a:pt x="1762" y="0"/>
                </a:lnTo>
                <a:lnTo>
                  <a:pt x="1753" y="0"/>
                </a:lnTo>
                <a:lnTo>
                  <a:pt x="1745" y="0"/>
                </a:lnTo>
                <a:lnTo>
                  <a:pt x="1736" y="3"/>
                </a:lnTo>
                <a:lnTo>
                  <a:pt x="1730" y="6"/>
                </a:lnTo>
                <a:lnTo>
                  <a:pt x="1725" y="11"/>
                </a:lnTo>
                <a:lnTo>
                  <a:pt x="1713" y="20"/>
                </a:lnTo>
                <a:lnTo>
                  <a:pt x="1708" y="31"/>
                </a:lnTo>
                <a:lnTo>
                  <a:pt x="1702" y="43"/>
                </a:lnTo>
                <a:lnTo>
                  <a:pt x="1696" y="54"/>
                </a:lnTo>
                <a:lnTo>
                  <a:pt x="1694" y="60"/>
                </a:lnTo>
                <a:lnTo>
                  <a:pt x="1694" y="62"/>
                </a:lnTo>
                <a:lnTo>
                  <a:pt x="1691" y="60"/>
                </a:lnTo>
                <a:lnTo>
                  <a:pt x="1688" y="57"/>
                </a:lnTo>
                <a:lnTo>
                  <a:pt x="1682" y="54"/>
                </a:lnTo>
                <a:lnTo>
                  <a:pt x="1677" y="48"/>
                </a:lnTo>
                <a:lnTo>
                  <a:pt x="1665" y="45"/>
                </a:lnTo>
                <a:lnTo>
                  <a:pt x="1654" y="43"/>
                </a:lnTo>
                <a:lnTo>
                  <a:pt x="1643" y="43"/>
                </a:lnTo>
                <a:lnTo>
                  <a:pt x="1629" y="45"/>
                </a:lnTo>
                <a:lnTo>
                  <a:pt x="1623" y="48"/>
                </a:lnTo>
                <a:lnTo>
                  <a:pt x="1614" y="54"/>
                </a:lnTo>
                <a:lnTo>
                  <a:pt x="1609" y="57"/>
                </a:lnTo>
                <a:lnTo>
                  <a:pt x="1603" y="65"/>
                </a:lnTo>
                <a:lnTo>
                  <a:pt x="1592" y="74"/>
                </a:lnTo>
                <a:lnTo>
                  <a:pt x="1583" y="88"/>
                </a:lnTo>
                <a:lnTo>
                  <a:pt x="1575" y="97"/>
                </a:lnTo>
                <a:lnTo>
                  <a:pt x="1569" y="108"/>
                </a:lnTo>
                <a:lnTo>
                  <a:pt x="1566" y="116"/>
                </a:lnTo>
                <a:lnTo>
                  <a:pt x="1566" y="119"/>
                </a:lnTo>
                <a:lnTo>
                  <a:pt x="1561" y="116"/>
                </a:lnTo>
                <a:lnTo>
                  <a:pt x="1555" y="114"/>
                </a:lnTo>
                <a:lnTo>
                  <a:pt x="1546" y="108"/>
                </a:lnTo>
                <a:lnTo>
                  <a:pt x="1544" y="108"/>
                </a:lnTo>
                <a:lnTo>
                  <a:pt x="1535" y="105"/>
                </a:lnTo>
                <a:lnTo>
                  <a:pt x="1529" y="102"/>
                </a:lnTo>
                <a:lnTo>
                  <a:pt x="1521" y="99"/>
                </a:lnTo>
                <a:lnTo>
                  <a:pt x="1512" y="97"/>
                </a:lnTo>
                <a:lnTo>
                  <a:pt x="1504" y="94"/>
                </a:lnTo>
                <a:lnTo>
                  <a:pt x="1495" y="94"/>
                </a:lnTo>
                <a:lnTo>
                  <a:pt x="1487" y="94"/>
                </a:lnTo>
                <a:lnTo>
                  <a:pt x="1478" y="94"/>
                </a:lnTo>
                <a:lnTo>
                  <a:pt x="1470" y="97"/>
                </a:lnTo>
                <a:lnTo>
                  <a:pt x="1464" y="99"/>
                </a:lnTo>
                <a:lnTo>
                  <a:pt x="1459" y="102"/>
                </a:lnTo>
                <a:lnTo>
                  <a:pt x="1450" y="108"/>
                </a:lnTo>
                <a:lnTo>
                  <a:pt x="1444" y="114"/>
                </a:lnTo>
                <a:lnTo>
                  <a:pt x="1442" y="122"/>
                </a:lnTo>
                <a:lnTo>
                  <a:pt x="1439" y="128"/>
                </a:lnTo>
                <a:lnTo>
                  <a:pt x="1433" y="139"/>
                </a:lnTo>
                <a:lnTo>
                  <a:pt x="1430" y="148"/>
                </a:lnTo>
                <a:lnTo>
                  <a:pt x="1430" y="159"/>
                </a:lnTo>
                <a:lnTo>
                  <a:pt x="1427" y="168"/>
                </a:lnTo>
                <a:lnTo>
                  <a:pt x="1427" y="176"/>
                </a:lnTo>
                <a:lnTo>
                  <a:pt x="1425" y="182"/>
                </a:lnTo>
                <a:lnTo>
                  <a:pt x="1425" y="193"/>
                </a:lnTo>
                <a:lnTo>
                  <a:pt x="1425" y="202"/>
                </a:lnTo>
                <a:lnTo>
                  <a:pt x="1425" y="207"/>
                </a:lnTo>
                <a:lnTo>
                  <a:pt x="1422" y="207"/>
                </a:lnTo>
                <a:lnTo>
                  <a:pt x="1416" y="207"/>
                </a:lnTo>
                <a:lnTo>
                  <a:pt x="1408" y="210"/>
                </a:lnTo>
                <a:lnTo>
                  <a:pt x="1396" y="213"/>
                </a:lnTo>
                <a:lnTo>
                  <a:pt x="1391" y="213"/>
                </a:lnTo>
                <a:lnTo>
                  <a:pt x="1382" y="216"/>
                </a:lnTo>
                <a:lnTo>
                  <a:pt x="1374" y="216"/>
                </a:lnTo>
                <a:lnTo>
                  <a:pt x="1368" y="219"/>
                </a:lnTo>
                <a:lnTo>
                  <a:pt x="1359" y="221"/>
                </a:lnTo>
                <a:lnTo>
                  <a:pt x="1354" y="224"/>
                </a:lnTo>
                <a:lnTo>
                  <a:pt x="1342" y="224"/>
                </a:lnTo>
                <a:lnTo>
                  <a:pt x="1337" y="230"/>
                </a:lnTo>
                <a:lnTo>
                  <a:pt x="1325" y="230"/>
                </a:lnTo>
                <a:lnTo>
                  <a:pt x="1320" y="233"/>
                </a:lnTo>
                <a:lnTo>
                  <a:pt x="1308" y="236"/>
                </a:lnTo>
                <a:lnTo>
                  <a:pt x="1300" y="239"/>
                </a:lnTo>
                <a:lnTo>
                  <a:pt x="1291" y="241"/>
                </a:lnTo>
                <a:lnTo>
                  <a:pt x="1286" y="244"/>
                </a:lnTo>
                <a:lnTo>
                  <a:pt x="1277" y="244"/>
                </a:lnTo>
                <a:lnTo>
                  <a:pt x="1269" y="250"/>
                </a:lnTo>
                <a:lnTo>
                  <a:pt x="1263" y="250"/>
                </a:lnTo>
                <a:lnTo>
                  <a:pt x="1255" y="256"/>
                </a:lnTo>
                <a:lnTo>
                  <a:pt x="1249" y="256"/>
                </a:lnTo>
                <a:lnTo>
                  <a:pt x="1246" y="258"/>
                </a:lnTo>
                <a:lnTo>
                  <a:pt x="1235" y="264"/>
                </a:lnTo>
                <a:lnTo>
                  <a:pt x="1229" y="267"/>
                </a:lnTo>
                <a:lnTo>
                  <a:pt x="1224" y="273"/>
                </a:lnTo>
                <a:lnTo>
                  <a:pt x="1218" y="278"/>
                </a:lnTo>
                <a:lnTo>
                  <a:pt x="1215" y="284"/>
                </a:lnTo>
                <a:lnTo>
                  <a:pt x="1212" y="290"/>
                </a:lnTo>
                <a:lnTo>
                  <a:pt x="1209" y="298"/>
                </a:lnTo>
                <a:lnTo>
                  <a:pt x="1207" y="307"/>
                </a:lnTo>
                <a:lnTo>
                  <a:pt x="1207" y="315"/>
                </a:lnTo>
                <a:lnTo>
                  <a:pt x="1207" y="324"/>
                </a:lnTo>
                <a:lnTo>
                  <a:pt x="1204" y="332"/>
                </a:lnTo>
                <a:lnTo>
                  <a:pt x="1204" y="338"/>
                </a:lnTo>
                <a:lnTo>
                  <a:pt x="1204" y="344"/>
                </a:lnTo>
                <a:lnTo>
                  <a:pt x="1204" y="352"/>
                </a:lnTo>
                <a:lnTo>
                  <a:pt x="1204" y="363"/>
                </a:lnTo>
                <a:lnTo>
                  <a:pt x="1204" y="36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38"/>
          <p:cNvSpPr/>
          <p:nvPr/>
        </p:nvSpPr>
        <p:spPr>
          <a:xfrm>
            <a:off x="7770960" y="4248000"/>
            <a:ext cx="1546200" cy="68760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1128" h="492">
                <a:moveTo>
                  <a:pt x="0" y="0"/>
                </a:moveTo>
                <a:lnTo>
                  <a:pt x="1128" y="86"/>
                </a:lnTo>
                <a:lnTo>
                  <a:pt x="15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37"/>
          <p:cNvSpPr/>
          <p:nvPr/>
        </p:nvSpPr>
        <p:spPr>
          <a:xfrm>
            <a:off x="5735520" y="4260960"/>
            <a:ext cx="1656000" cy="650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207" h="466">
                <a:moveTo>
                  <a:pt x="0" y="417"/>
                </a:moveTo>
                <a:lnTo>
                  <a:pt x="1071" y="0"/>
                </a:lnTo>
                <a:lnTo>
                  <a:pt x="1207" y="466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36"/>
          <p:cNvSpPr/>
          <p:nvPr/>
        </p:nvSpPr>
        <p:spPr>
          <a:xfrm>
            <a:off x="5091120" y="4348080"/>
            <a:ext cx="4805280" cy="1603440"/>
          </a:xfrm>
          <a:custGeom>
            <a:avLst/>
            <a:gdLst>
              <a:gd name="textAreaLeft" fmla="*/ 0 w 4805280"/>
              <a:gd name="textAreaRight" fmla="*/ 4805640 w 480528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3504" h="1148">
                <a:moveTo>
                  <a:pt x="0" y="722"/>
                </a:moveTo>
                <a:lnTo>
                  <a:pt x="456" y="370"/>
                </a:lnTo>
                <a:lnTo>
                  <a:pt x="1980" y="384"/>
                </a:lnTo>
                <a:lnTo>
                  <a:pt x="2121" y="418"/>
                </a:lnTo>
                <a:lnTo>
                  <a:pt x="3084" y="0"/>
                </a:lnTo>
                <a:lnTo>
                  <a:pt x="3150" y="3"/>
                </a:lnTo>
                <a:lnTo>
                  <a:pt x="3504" y="202"/>
                </a:lnTo>
                <a:lnTo>
                  <a:pt x="3421" y="250"/>
                </a:lnTo>
                <a:lnTo>
                  <a:pt x="1753" y="1148"/>
                </a:lnTo>
                <a:lnTo>
                  <a:pt x="405" y="722"/>
                </a:lnTo>
                <a:lnTo>
                  <a:pt x="0" y="722"/>
                </a:lnTo>
                <a:close/>
              </a:path>
            </a:pathLst>
          </a:custGeom>
          <a:solidFill>
            <a:srgbClr val="edb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35"/>
          <p:cNvSpPr/>
          <p:nvPr/>
        </p:nvSpPr>
        <p:spPr>
          <a:xfrm>
            <a:off x="7297560" y="4900680"/>
            <a:ext cx="2105280" cy="226512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1535" h="1622">
                <a:moveTo>
                  <a:pt x="493" y="26"/>
                </a:moveTo>
                <a:lnTo>
                  <a:pt x="779" y="100"/>
                </a:lnTo>
                <a:lnTo>
                  <a:pt x="1053" y="267"/>
                </a:lnTo>
                <a:lnTo>
                  <a:pt x="1447" y="26"/>
                </a:lnTo>
                <a:lnTo>
                  <a:pt x="1535" y="0"/>
                </a:lnTo>
                <a:lnTo>
                  <a:pt x="1461" y="764"/>
                </a:lnTo>
                <a:lnTo>
                  <a:pt x="1492" y="1150"/>
                </a:lnTo>
                <a:lnTo>
                  <a:pt x="456" y="1622"/>
                </a:lnTo>
                <a:lnTo>
                  <a:pt x="0" y="659"/>
                </a:lnTo>
                <a:lnTo>
                  <a:pt x="49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34"/>
          <p:cNvSpPr/>
          <p:nvPr/>
        </p:nvSpPr>
        <p:spPr>
          <a:xfrm>
            <a:off x="5654520" y="4916520"/>
            <a:ext cx="2303640" cy="226836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679" h="1624">
                <a:moveTo>
                  <a:pt x="0" y="315"/>
                </a:moveTo>
                <a:lnTo>
                  <a:pt x="1218" y="389"/>
                </a:lnTo>
                <a:lnTo>
                  <a:pt x="1648" y="0"/>
                </a:lnTo>
                <a:lnTo>
                  <a:pt x="1679" y="22"/>
                </a:lnTo>
                <a:lnTo>
                  <a:pt x="1620" y="1235"/>
                </a:lnTo>
                <a:lnTo>
                  <a:pt x="1662" y="1624"/>
                </a:lnTo>
                <a:lnTo>
                  <a:pt x="39" y="1533"/>
                </a:lnTo>
                <a:lnTo>
                  <a:pt x="82" y="1323"/>
                </a:lnTo>
                <a:lnTo>
                  <a:pt x="0" y="3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33"/>
          <p:cNvSpPr/>
          <p:nvPr/>
        </p:nvSpPr>
        <p:spPr>
          <a:xfrm>
            <a:off x="6757920" y="4016520"/>
            <a:ext cx="1227240" cy="61416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895" h="440">
                <a:moveTo>
                  <a:pt x="0" y="233"/>
                </a:moveTo>
                <a:lnTo>
                  <a:pt x="26" y="253"/>
                </a:lnTo>
                <a:lnTo>
                  <a:pt x="96" y="267"/>
                </a:lnTo>
                <a:lnTo>
                  <a:pt x="292" y="440"/>
                </a:lnTo>
                <a:lnTo>
                  <a:pt x="841" y="372"/>
                </a:lnTo>
                <a:lnTo>
                  <a:pt x="895" y="275"/>
                </a:lnTo>
                <a:lnTo>
                  <a:pt x="827" y="221"/>
                </a:lnTo>
                <a:lnTo>
                  <a:pt x="838" y="165"/>
                </a:lnTo>
                <a:lnTo>
                  <a:pt x="765" y="170"/>
                </a:lnTo>
                <a:lnTo>
                  <a:pt x="765" y="108"/>
                </a:lnTo>
                <a:lnTo>
                  <a:pt x="717" y="94"/>
                </a:lnTo>
                <a:lnTo>
                  <a:pt x="649" y="108"/>
                </a:lnTo>
                <a:lnTo>
                  <a:pt x="606" y="0"/>
                </a:lnTo>
                <a:lnTo>
                  <a:pt x="584" y="3"/>
                </a:lnTo>
                <a:lnTo>
                  <a:pt x="550" y="82"/>
                </a:lnTo>
                <a:lnTo>
                  <a:pt x="433" y="11"/>
                </a:lnTo>
                <a:lnTo>
                  <a:pt x="416" y="74"/>
                </a:lnTo>
                <a:lnTo>
                  <a:pt x="368" y="23"/>
                </a:lnTo>
                <a:lnTo>
                  <a:pt x="363" y="20"/>
                </a:lnTo>
                <a:lnTo>
                  <a:pt x="354" y="20"/>
                </a:lnTo>
                <a:lnTo>
                  <a:pt x="349" y="17"/>
                </a:lnTo>
                <a:lnTo>
                  <a:pt x="343" y="17"/>
                </a:lnTo>
                <a:lnTo>
                  <a:pt x="337" y="14"/>
                </a:lnTo>
                <a:lnTo>
                  <a:pt x="329" y="14"/>
                </a:lnTo>
                <a:lnTo>
                  <a:pt x="317" y="14"/>
                </a:lnTo>
                <a:lnTo>
                  <a:pt x="306" y="20"/>
                </a:lnTo>
                <a:lnTo>
                  <a:pt x="300" y="23"/>
                </a:lnTo>
                <a:lnTo>
                  <a:pt x="298" y="28"/>
                </a:lnTo>
                <a:lnTo>
                  <a:pt x="298" y="34"/>
                </a:lnTo>
                <a:lnTo>
                  <a:pt x="298" y="42"/>
                </a:lnTo>
                <a:lnTo>
                  <a:pt x="309" y="82"/>
                </a:lnTo>
                <a:lnTo>
                  <a:pt x="261" y="94"/>
                </a:lnTo>
                <a:lnTo>
                  <a:pt x="198" y="74"/>
                </a:lnTo>
                <a:lnTo>
                  <a:pt x="190" y="88"/>
                </a:lnTo>
                <a:lnTo>
                  <a:pt x="204" y="125"/>
                </a:lnTo>
                <a:lnTo>
                  <a:pt x="62" y="182"/>
                </a:lnTo>
                <a:lnTo>
                  <a:pt x="0" y="2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2"/>
          <p:cNvSpPr/>
          <p:nvPr/>
        </p:nvSpPr>
        <p:spPr>
          <a:xfrm>
            <a:off x="7631280" y="4324320"/>
            <a:ext cx="334800" cy="476280"/>
          </a:xfrm>
          <a:custGeom>
            <a:avLst/>
            <a:gdLst>
              <a:gd name="textAreaLeft" fmla="*/ 0 w 334800"/>
              <a:gd name="textAreaRight" fmla="*/ 335160 w 3348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44" h="341">
                <a:moveTo>
                  <a:pt x="0" y="57"/>
                </a:moveTo>
                <a:lnTo>
                  <a:pt x="0" y="57"/>
                </a:lnTo>
                <a:lnTo>
                  <a:pt x="6" y="57"/>
                </a:lnTo>
                <a:lnTo>
                  <a:pt x="15" y="57"/>
                </a:lnTo>
                <a:lnTo>
                  <a:pt x="26" y="57"/>
                </a:lnTo>
                <a:lnTo>
                  <a:pt x="34" y="57"/>
                </a:lnTo>
                <a:lnTo>
                  <a:pt x="43" y="54"/>
                </a:lnTo>
                <a:lnTo>
                  <a:pt x="51" y="52"/>
                </a:lnTo>
                <a:lnTo>
                  <a:pt x="54" y="46"/>
                </a:lnTo>
                <a:lnTo>
                  <a:pt x="54" y="37"/>
                </a:lnTo>
                <a:lnTo>
                  <a:pt x="54" y="32"/>
                </a:lnTo>
                <a:lnTo>
                  <a:pt x="54" y="23"/>
                </a:lnTo>
                <a:lnTo>
                  <a:pt x="54" y="15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3" y="15"/>
                </a:lnTo>
                <a:lnTo>
                  <a:pt x="66" y="20"/>
                </a:lnTo>
                <a:lnTo>
                  <a:pt x="68" y="26"/>
                </a:lnTo>
                <a:lnTo>
                  <a:pt x="74" y="37"/>
                </a:lnTo>
                <a:lnTo>
                  <a:pt x="80" y="46"/>
                </a:lnTo>
                <a:lnTo>
                  <a:pt x="85" y="52"/>
                </a:lnTo>
                <a:lnTo>
                  <a:pt x="91" y="60"/>
                </a:lnTo>
                <a:lnTo>
                  <a:pt x="97" y="66"/>
                </a:lnTo>
                <a:lnTo>
                  <a:pt x="105" y="74"/>
                </a:lnTo>
                <a:lnTo>
                  <a:pt x="117" y="83"/>
                </a:lnTo>
                <a:lnTo>
                  <a:pt x="128" y="86"/>
                </a:lnTo>
                <a:lnTo>
                  <a:pt x="136" y="83"/>
                </a:lnTo>
                <a:lnTo>
                  <a:pt x="145" y="80"/>
                </a:lnTo>
                <a:lnTo>
                  <a:pt x="148" y="77"/>
                </a:lnTo>
                <a:lnTo>
                  <a:pt x="153" y="74"/>
                </a:lnTo>
                <a:lnTo>
                  <a:pt x="159" y="71"/>
                </a:lnTo>
                <a:lnTo>
                  <a:pt x="162" y="69"/>
                </a:lnTo>
                <a:lnTo>
                  <a:pt x="159" y="71"/>
                </a:lnTo>
                <a:lnTo>
                  <a:pt x="159" y="77"/>
                </a:lnTo>
                <a:lnTo>
                  <a:pt x="159" y="83"/>
                </a:lnTo>
                <a:lnTo>
                  <a:pt x="159" y="94"/>
                </a:lnTo>
                <a:lnTo>
                  <a:pt x="159" y="103"/>
                </a:lnTo>
                <a:lnTo>
                  <a:pt x="162" y="111"/>
                </a:lnTo>
                <a:lnTo>
                  <a:pt x="165" y="120"/>
                </a:lnTo>
                <a:lnTo>
                  <a:pt x="167" y="128"/>
                </a:lnTo>
                <a:lnTo>
                  <a:pt x="170" y="131"/>
                </a:lnTo>
                <a:lnTo>
                  <a:pt x="179" y="131"/>
                </a:lnTo>
                <a:lnTo>
                  <a:pt x="187" y="128"/>
                </a:lnTo>
                <a:lnTo>
                  <a:pt x="196" y="125"/>
                </a:lnTo>
                <a:lnTo>
                  <a:pt x="204" y="120"/>
                </a:lnTo>
                <a:lnTo>
                  <a:pt x="213" y="117"/>
                </a:lnTo>
                <a:lnTo>
                  <a:pt x="221" y="111"/>
                </a:lnTo>
                <a:lnTo>
                  <a:pt x="221" y="134"/>
                </a:lnTo>
                <a:lnTo>
                  <a:pt x="224" y="134"/>
                </a:lnTo>
                <a:lnTo>
                  <a:pt x="235" y="142"/>
                </a:lnTo>
                <a:lnTo>
                  <a:pt x="238" y="148"/>
                </a:lnTo>
                <a:lnTo>
                  <a:pt x="244" y="157"/>
                </a:lnTo>
                <a:lnTo>
                  <a:pt x="244" y="162"/>
                </a:lnTo>
                <a:lnTo>
                  <a:pt x="244" y="168"/>
                </a:lnTo>
                <a:lnTo>
                  <a:pt x="244" y="174"/>
                </a:lnTo>
                <a:lnTo>
                  <a:pt x="244" y="185"/>
                </a:lnTo>
                <a:lnTo>
                  <a:pt x="241" y="185"/>
                </a:lnTo>
                <a:lnTo>
                  <a:pt x="238" y="194"/>
                </a:lnTo>
                <a:lnTo>
                  <a:pt x="233" y="199"/>
                </a:lnTo>
                <a:lnTo>
                  <a:pt x="230" y="211"/>
                </a:lnTo>
                <a:lnTo>
                  <a:pt x="224" y="222"/>
                </a:lnTo>
                <a:lnTo>
                  <a:pt x="218" y="236"/>
                </a:lnTo>
                <a:lnTo>
                  <a:pt x="216" y="242"/>
                </a:lnTo>
                <a:lnTo>
                  <a:pt x="213" y="250"/>
                </a:lnTo>
                <a:lnTo>
                  <a:pt x="210" y="259"/>
                </a:lnTo>
                <a:lnTo>
                  <a:pt x="207" y="265"/>
                </a:lnTo>
                <a:lnTo>
                  <a:pt x="201" y="273"/>
                </a:lnTo>
                <a:lnTo>
                  <a:pt x="199" y="279"/>
                </a:lnTo>
                <a:lnTo>
                  <a:pt x="196" y="284"/>
                </a:lnTo>
                <a:lnTo>
                  <a:pt x="193" y="293"/>
                </a:lnTo>
                <a:lnTo>
                  <a:pt x="187" y="304"/>
                </a:lnTo>
                <a:lnTo>
                  <a:pt x="182" y="316"/>
                </a:lnTo>
                <a:lnTo>
                  <a:pt x="176" y="327"/>
                </a:lnTo>
                <a:lnTo>
                  <a:pt x="173" y="333"/>
                </a:lnTo>
                <a:lnTo>
                  <a:pt x="170" y="338"/>
                </a:lnTo>
                <a:lnTo>
                  <a:pt x="170" y="341"/>
                </a:lnTo>
                <a:lnTo>
                  <a:pt x="37" y="256"/>
                </a:lnTo>
                <a:lnTo>
                  <a:pt x="0" y="5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31"/>
          <p:cNvSpPr/>
          <p:nvPr/>
        </p:nvSpPr>
        <p:spPr>
          <a:xfrm>
            <a:off x="5880240" y="4765680"/>
            <a:ext cx="722160" cy="344520"/>
          </a:xfrm>
          <a:custGeom>
            <a:avLst/>
            <a:gdLst>
              <a:gd name="textAreaLeft" fmla="*/ 0 w 722160"/>
              <a:gd name="textAreaRight" fmla="*/ 722160 w 722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527" h="247">
                <a:moveTo>
                  <a:pt x="0" y="196"/>
                </a:moveTo>
                <a:lnTo>
                  <a:pt x="6" y="164"/>
                </a:lnTo>
                <a:lnTo>
                  <a:pt x="125" y="37"/>
                </a:lnTo>
                <a:lnTo>
                  <a:pt x="227" y="0"/>
                </a:lnTo>
                <a:lnTo>
                  <a:pt x="343" y="0"/>
                </a:lnTo>
                <a:lnTo>
                  <a:pt x="470" y="42"/>
                </a:lnTo>
                <a:lnTo>
                  <a:pt x="527" y="79"/>
                </a:lnTo>
                <a:lnTo>
                  <a:pt x="487" y="96"/>
                </a:lnTo>
                <a:lnTo>
                  <a:pt x="408" y="173"/>
                </a:lnTo>
                <a:lnTo>
                  <a:pt x="343" y="224"/>
                </a:lnTo>
                <a:lnTo>
                  <a:pt x="331" y="210"/>
                </a:lnTo>
                <a:lnTo>
                  <a:pt x="323" y="170"/>
                </a:lnTo>
                <a:lnTo>
                  <a:pt x="255" y="232"/>
                </a:lnTo>
                <a:lnTo>
                  <a:pt x="207" y="238"/>
                </a:lnTo>
                <a:lnTo>
                  <a:pt x="195" y="193"/>
                </a:lnTo>
                <a:lnTo>
                  <a:pt x="113" y="247"/>
                </a:lnTo>
                <a:lnTo>
                  <a:pt x="77" y="232"/>
                </a:lnTo>
                <a:lnTo>
                  <a:pt x="79" y="184"/>
                </a:lnTo>
                <a:lnTo>
                  <a:pt x="26" y="207"/>
                </a:lnTo>
                <a:lnTo>
                  <a:pt x="0" y="19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30"/>
          <p:cNvSpPr/>
          <p:nvPr/>
        </p:nvSpPr>
        <p:spPr>
          <a:xfrm>
            <a:off x="6729480" y="4329000"/>
            <a:ext cx="1301760" cy="8017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949" h="574">
                <a:moveTo>
                  <a:pt x="153" y="0"/>
                </a:moveTo>
                <a:lnTo>
                  <a:pt x="159" y="6"/>
                </a:lnTo>
                <a:lnTo>
                  <a:pt x="170" y="14"/>
                </a:lnTo>
                <a:lnTo>
                  <a:pt x="176" y="17"/>
                </a:lnTo>
                <a:lnTo>
                  <a:pt x="182" y="23"/>
                </a:lnTo>
                <a:lnTo>
                  <a:pt x="190" y="23"/>
                </a:lnTo>
                <a:lnTo>
                  <a:pt x="199" y="23"/>
                </a:lnTo>
                <a:lnTo>
                  <a:pt x="374" y="239"/>
                </a:lnTo>
                <a:lnTo>
                  <a:pt x="686" y="83"/>
                </a:lnTo>
                <a:lnTo>
                  <a:pt x="689" y="85"/>
                </a:lnTo>
                <a:lnTo>
                  <a:pt x="700" y="97"/>
                </a:lnTo>
                <a:lnTo>
                  <a:pt x="708" y="100"/>
                </a:lnTo>
                <a:lnTo>
                  <a:pt x="714" y="105"/>
                </a:lnTo>
                <a:lnTo>
                  <a:pt x="723" y="105"/>
                </a:lnTo>
                <a:lnTo>
                  <a:pt x="728" y="102"/>
                </a:lnTo>
                <a:lnTo>
                  <a:pt x="731" y="97"/>
                </a:lnTo>
                <a:lnTo>
                  <a:pt x="731" y="88"/>
                </a:lnTo>
                <a:lnTo>
                  <a:pt x="731" y="77"/>
                </a:lnTo>
                <a:lnTo>
                  <a:pt x="731" y="68"/>
                </a:lnTo>
                <a:lnTo>
                  <a:pt x="731" y="60"/>
                </a:lnTo>
                <a:lnTo>
                  <a:pt x="731" y="54"/>
                </a:lnTo>
                <a:lnTo>
                  <a:pt x="731" y="49"/>
                </a:lnTo>
                <a:lnTo>
                  <a:pt x="731" y="46"/>
                </a:lnTo>
                <a:lnTo>
                  <a:pt x="765" y="139"/>
                </a:lnTo>
                <a:lnTo>
                  <a:pt x="796" y="137"/>
                </a:lnTo>
                <a:lnTo>
                  <a:pt x="793" y="139"/>
                </a:lnTo>
                <a:lnTo>
                  <a:pt x="790" y="148"/>
                </a:lnTo>
                <a:lnTo>
                  <a:pt x="785" y="154"/>
                </a:lnTo>
                <a:lnTo>
                  <a:pt x="785" y="159"/>
                </a:lnTo>
                <a:lnTo>
                  <a:pt x="782" y="171"/>
                </a:lnTo>
                <a:lnTo>
                  <a:pt x="779" y="179"/>
                </a:lnTo>
                <a:lnTo>
                  <a:pt x="774" y="185"/>
                </a:lnTo>
                <a:lnTo>
                  <a:pt x="774" y="193"/>
                </a:lnTo>
                <a:lnTo>
                  <a:pt x="771" y="202"/>
                </a:lnTo>
                <a:lnTo>
                  <a:pt x="768" y="210"/>
                </a:lnTo>
                <a:lnTo>
                  <a:pt x="768" y="216"/>
                </a:lnTo>
                <a:lnTo>
                  <a:pt x="768" y="222"/>
                </a:lnTo>
                <a:lnTo>
                  <a:pt x="768" y="225"/>
                </a:lnTo>
                <a:lnTo>
                  <a:pt x="771" y="230"/>
                </a:lnTo>
                <a:lnTo>
                  <a:pt x="779" y="236"/>
                </a:lnTo>
                <a:lnTo>
                  <a:pt x="790" y="233"/>
                </a:lnTo>
                <a:lnTo>
                  <a:pt x="796" y="230"/>
                </a:lnTo>
                <a:lnTo>
                  <a:pt x="799" y="230"/>
                </a:lnTo>
                <a:lnTo>
                  <a:pt x="796" y="236"/>
                </a:lnTo>
                <a:lnTo>
                  <a:pt x="793" y="242"/>
                </a:lnTo>
                <a:lnTo>
                  <a:pt x="790" y="250"/>
                </a:lnTo>
                <a:lnTo>
                  <a:pt x="785" y="259"/>
                </a:lnTo>
                <a:lnTo>
                  <a:pt x="782" y="270"/>
                </a:lnTo>
                <a:lnTo>
                  <a:pt x="779" y="276"/>
                </a:lnTo>
                <a:lnTo>
                  <a:pt x="782" y="284"/>
                </a:lnTo>
                <a:lnTo>
                  <a:pt x="790" y="293"/>
                </a:lnTo>
                <a:lnTo>
                  <a:pt x="802" y="298"/>
                </a:lnTo>
                <a:lnTo>
                  <a:pt x="813" y="301"/>
                </a:lnTo>
                <a:lnTo>
                  <a:pt x="819" y="304"/>
                </a:lnTo>
                <a:lnTo>
                  <a:pt x="884" y="242"/>
                </a:lnTo>
                <a:lnTo>
                  <a:pt x="949" y="296"/>
                </a:lnTo>
                <a:lnTo>
                  <a:pt x="949" y="372"/>
                </a:lnTo>
                <a:lnTo>
                  <a:pt x="909" y="421"/>
                </a:lnTo>
                <a:lnTo>
                  <a:pt x="731" y="398"/>
                </a:lnTo>
                <a:lnTo>
                  <a:pt x="663" y="443"/>
                </a:lnTo>
                <a:lnTo>
                  <a:pt x="623" y="520"/>
                </a:lnTo>
                <a:lnTo>
                  <a:pt x="555" y="557"/>
                </a:lnTo>
                <a:lnTo>
                  <a:pt x="536" y="545"/>
                </a:lnTo>
                <a:lnTo>
                  <a:pt x="530" y="477"/>
                </a:lnTo>
                <a:lnTo>
                  <a:pt x="462" y="563"/>
                </a:lnTo>
                <a:lnTo>
                  <a:pt x="411" y="574"/>
                </a:lnTo>
                <a:lnTo>
                  <a:pt x="400" y="551"/>
                </a:lnTo>
                <a:lnTo>
                  <a:pt x="422" y="477"/>
                </a:lnTo>
                <a:lnTo>
                  <a:pt x="340" y="537"/>
                </a:lnTo>
                <a:lnTo>
                  <a:pt x="289" y="557"/>
                </a:lnTo>
                <a:lnTo>
                  <a:pt x="275" y="531"/>
                </a:lnTo>
                <a:lnTo>
                  <a:pt x="298" y="457"/>
                </a:lnTo>
                <a:lnTo>
                  <a:pt x="204" y="528"/>
                </a:lnTo>
                <a:lnTo>
                  <a:pt x="176" y="526"/>
                </a:lnTo>
                <a:lnTo>
                  <a:pt x="153" y="500"/>
                </a:lnTo>
                <a:lnTo>
                  <a:pt x="170" y="452"/>
                </a:lnTo>
                <a:lnTo>
                  <a:pt x="218" y="403"/>
                </a:lnTo>
                <a:lnTo>
                  <a:pt x="14" y="398"/>
                </a:lnTo>
                <a:lnTo>
                  <a:pt x="0" y="270"/>
                </a:lnTo>
                <a:lnTo>
                  <a:pt x="31" y="145"/>
                </a:lnTo>
                <a:lnTo>
                  <a:pt x="153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9"/>
          <p:cNvSpPr/>
          <p:nvPr/>
        </p:nvSpPr>
        <p:spPr>
          <a:xfrm>
            <a:off x="6777000" y="4321080"/>
            <a:ext cx="963720" cy="569880"/>
          </a:xfrm>
          <a:custGeom>
            <a:avLst/>
            <a:gdLst>
              <a:gd name="textAreaLeft" fmla="*/ 0 w 963720"/>
              <a:gd name="textAreaRight" fmla="*/ 964080 w 9637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703" h="408">
                <a:moveTo>
                  <a:pt x="12" y="397"/>
                </a:moveTo>
                <a:lnTo>
                  <a:pt x="9" y="391"/>
                </a:lnTo>
                <a:lnTo>
                  <a:pt x="9" y="383"/>
                </a:lnTo>
                <a:lnTo>
                  <a:pt x="6" y="374"/>
                </a:lnTo>
                <a:lnTo>
                  <a:pt x="6" y="366"/>
                </a:lnTo>
                <a:lnTo>
                  <a:pt x="3" y="355"/>
                </a:lnTo>
                <a:lnTo>
                  <a:pt x="3" y="346"/>
                </a:lnTo>
                <a:lnTo>
                  <a:pt x="0" y="335"/>
                </a:lnTo>
                <a:lnTo>
                  <a:pt x="0" y="320"/>
                </a:lnTo>
                <a:lnTo>
                  <a:pt x="0" y="309"/>
                </a:lnTo>
                <a:lnTo>
                  <a:pt x="0" y="298"/>
                </a:lnTo>
                <a:lnTo>
                  <a:pt x="0" y="284"/>
                </a:lnTo>
                <a:lnTo>
                  <a:pt x="3" y="272"/>
                </a:lnTo>
                <a:lnTo>
                  <a:pt x="6" y="261"/>
                </a:lnTo>
                <a:lnTo>
                  <a:pt x="9" y="252"/>
                </a:lnTo>
                <a:lnTo>
                  <a:pt x="9" y="244"/>
                </a:lnTo>
                <a:lnTo>
                  <a:pt x="12" y="238"/>
                </a:lnTo>
                <a:lnTo>
                  <a:pt x="17" y="230"/>
                </a:lnTo>
                <a:lnTo>
                  <a:pt x="20" y="224"/>
                </a:lnTo>
                <a:lnTo>
                  <a:pt x="23" y="215"/>
                </a:lnTo>
                <a:lnTo>
                  <a:pt x="29" y="207"/>
                </a:lnTo>
                <a:lnTo>
                  <a:pt x="31" y="198"/>
                </a:lnTo>
                <a:lnTo>
                  <a:pt x="37" y="193"/>
                </a:lnTo>
                <a:lnTo>
                  <a:pt x="40" y="184"/>
                </a:lnTo>
                <a:lnTo>
                  <a:pt x="48" y="176"/>
                </a:lnTo>
                <a:lnTo>
                  <a:pt x="51" y="164"/>
                </a:lnTo>
                <a:lnTo>
                  <a:pt x="60" y="156"/>
                </a:lnTo>
                <a:lnTo>
                  <a:pt x="63" y="147"/>
                </a:lnTo>
                <a:lnTo>
                  <a:pt x="71" y="139"/>
                </a:lnTo>
                <a:lnTo>
                  <a:pt x="77" y="130"/>
                </a:lnTo>
                <a:lnTo>
                  <a:pt x="82" y="122"/>
                </a:lnTo>
                <a:lnTo>
                  <a:pt x="88" y="113"/>
                </a:lnTo>
                <a:lnTo>
                  <a:pt x="94" y="105"/>
                </a:lnTo>
                <a:lnTo>
                  <a:pt x="99" y="96"/>
                </a:lnTo>
                <a:lnTo>
                  <a:pt x="105" y="90"/>
                </a:lnTo>
                <a:lnTo>
                  <a:pt x="111" y="82"/>
                </a:lnTo>
                <a:lnTo>
                  <a:pt x="116" y="73"/>
                </a:lnTo>
                <a:lnTo>
                  <a:pt x="122" y="68"/>
                </a:lnTo>
                <a:lnTo>
                  <a:pt x="128" y="59"/>
                </a:lnTo>
                <a:lnTo>
                  <a:pt x="136" y="48"/>
                </a:lnTo>
                <a:lnTo>
                  <a:pt x="145" y="39"/>
                </a:lnTo>
                <a:lnTo>
                  <a:pt x="153" y="31"/>
                </a:lnTo>
                <a:lnTo>
                  <a:pt x="159" y="28"/>
                </a:lnTo>
                <a:lnTo>
                  <a:pt x="167" y="17"/>
                </a:lnTo>
                <a:lnTo>
                  <a:pt x="182" y="11"/>
                </a:lnTo>
                <a:lnTo>
                  <a:pt x="187" y="8"/>
                </a:lnTo>
                <a:lnTo>
                  <a:pt x="196" y="5"/>
                </a:lnTo>
                <a:lnTo>
                  <a:pt x="201" y="5"/>
                </a:lnTo>
                <a:lnTo>
                  <a:pt x="210" y="5"/>
                </a:lnTo>
                <a:lnTo>
                  <a:pt x="216" y="2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7" y="0"/>
                </a:lnTo>
                <a:lnTo>
                  <a:pt x="244" y="2"/>
                </a:lnTo>
                <a:lnTo>
                  <a:pt x="238" y="11"/>
                </a:lnTo>
                <a:lnTo>
                  <a:pt x="230" y="19"/>
                </a:lnTo>
                <a:lnTo>
                  <a:pt x="221" y="34"/>
                </a:lnTo>
                <a:lnTo>
                  <a:pt x="210" y="42"/>
                </a:lnTo>
                <a:lnTo>
                  <a:pt x="207" y="54"/>
                </a:lnTo>
                <a:lnTo>
                  <a:pt x="204" y="59"/>
                </a:lnTo>
                <a:lnTo>
                  <a:pt x="210" y="62"/>
                </a:lnTo>
                <a:lnTo>
                  <a:pt x="213" y="59"/>
                </a:lnTo>
                <a:lnTo>
                  <a:pt x="221" y="56"/>
                </a:lnTo>
                <a:lnTo>
                  <a:pt x="227" y="54"/>
                </a:lnTo>
                <a:lnTo>
                  <a:pt x="235" y="51"/>
                </a:lnTo>
                <a:lnTo>
                  <a:pt x="241" y="45"/>
                </a:lnTo>
                <a:lnTo>
                  <a:pt x="252" y="42"/>
                </a:lnTo>
                <a:lnTo>
                  <a:pt x="264" y="39"/>
                </a:lnTo>
                <a:lnTo>
                  <a:pt x="272" y="34"/>
                </a:lnTo>
                <a:lnTo>
                  <a:pt x="284" y="28"/>
                </a:lnTo>
                <a:lnTo>
                  <a:pt x="292" y="25"/>
                </a:lnTo>
                <a:lnTo>
                  <a:pt x="298" y="22"/>
                </a:lnTo>
                <a:lnTo>
                  <a:pt x="306" y="19"/>
                </a:lnTo>
                <a:lnTo>
                  <a:pt x="315" y="17"/>
                </a:lnTo>
                <a:lnTo>
                  <a:pt x="318" y="14"/>
                </a:lnTo>
                <a:lnTo>
                  <a:pt x="320" y="14"/>
                </a:lnTo>
                <a:lnTo>
                  <a:pt x="323" y="14"/>
                </a:lnTo>
                <a:lnTo>
                  <a:pt x="320" y="17"/>
                </a:lnTo>
                <a:lnTo>
                  <a:pt x="315" y="25"/>
                </a:lnTo>
                <a:lnTo>
                  <a:pt x="309" y="28"/>
                </a:lnTo>
                <a:lnTo>
                  <a:pt x="303" y="36"/>
                </a:lnTo>
                <a:lnTo>
                  <a:pt x="301" y="45"/>
                </a:lnTo>
                <a:lnTo>
                  <a:pt x="298" y="51"/>
                </a:lnTo>
                <a:lnTo>
                  <a:pt x="292" y="59"/>
                </a:lnTo>
                <a:lnTo>
                  <a:pt x="289" y="65"/>
                </a:lnTo>
                <a:lnTo>
                  <a:pt x="286" y="71"/>
                </a:lnTo>
                <a:lnTo>
                  <a:pt x="286" y="76"/>
                </a:lnTo>
                <a:lnTo>
                  <a:pt x="286" y="85"/>
                </a:lnTo>
                <a:lnTo>
                  <a:pt x="295" y="88"/>
                </a:lnTo>
                <a:lnTo>
                  <a:pt x="298" y="88"/>
                </a:lnTo>
                <a:lnTo>
                  <a:pt x="303" y="85"/>
                </a:lnTo>
                <a:lnTo>
                  <a:pt x="312" y="85"/>
                </a:lnTo>
                <a:lnTo>
                  <a:pt x="320" y="85"/>
                </a:lnTo>
                <a:lnTo>
                  <a:pt x="326" y="82"/>
                </a:lnTo>
                <a:lnTo>
                  <a:pt x="335" y="82"/>
                </a:lnTo>
                <a:lnTo>
                  <a:pt x="340" y="79"/>
                </a:lnTo>
                <a:lnTo>
                  <a:pt x="349" y="76"/>
                </a:lnTo>
                <a:lnTo>
                  <a:pt x="354" y="71"/>
                </a:lnTo>
                <a:lnTo>
                  <a:pt x="360" y="68"/>
                </a:lnTo>
                <a:lnTo>
                  <a:pt x="368" y="62"/>
                </a:lnTo>
                <a:lnTo>
                  <a:pt x="374" y="56"/>
                </a:lnTo>
                <a:lnTo>
                  <a:pt x="377" y="48"/>
                </a:lnTo>
                <a:lnTo>
                  <a:pt x="383" y="36"/>
                </a:lnTo>
                <a:lnTo>
                  <a:pt x="385" y="25"/>
                </a:lnTo>
                <a:lnTo>
                  <a:pt x="388" y="14"/>
                </a:lnTo>
                <a:lnTo>
                  <a:pt x="388" y="17"/>
                </a:lnTo>
                <a:lnTo>
                  <a:pt x="388" y="22"/>
                </a:lnTo>
                <a:lnTo>
                  <a:pt x="391" y="34"/>
                </a:lnTo>
                <a:lnTo>
                  <a:pt x="397" y="48"/>
                </a:lnTo>
                <a:lnTo>
                  <a:pt x="402" y="59"/>
                </a:lnTo>
                <a:lnTo>
                  <a:pt x="411" y="71"/>
                </a:lnTo>
                <a:lnTo>
                  <a:pt x="419" y="76"/>
                </a:lnTo>
                <a:lnTo>
                  <a:pt x="431" y="79"/>
                </a:lnTo>
                <a:lnTo>
                  <a:pt x="442" y="71"/>
                </a:lnTo>
                <a:lnTo>
                  <a:pt x="451" y="65"/>
                </a:lnTo>
                <a:lnTo>
                  <a:pt x="456" y="54"/>
                </a:lnTo>
                <a:lnTo>
                  <a:pt x="465" y="45"/>
                </a:lnTo>
                <a:lnTo>
                  <a:pt x="465" y="34"/>
                </a:lnTo>
                <a:lnTo>
                  <a:pt x="468" y="25"/>
                </a:lnTo>
                <a:lnTo>
                  <a:pt x="468" y="19"/>
                </a:lnTo>
                <a:lnTo>
                  <a:pt x="470" y="19"/>
                </a:lnTo>
                <a:lnTo>
                  <a:pt x="493" y="28"/>
                </a:lnTo>
                <a:lnTo>
                  <a:pt x="493" y="31"/>
                </a:lnTo>
                <a:lnTo>
                  <a:pt x="493" y="39"/>
                </a:lnTo>
                <a:lnTo>
                  <a:pt x="496" y="45"/>
                </a:lnTo>
                <a:lnTo>
                  <a:pt x="496" y="51"/>
                </a:lnTo>
                <a:lnTo>
                  <a:pt x="499" y="59"/>
                </a:lnTo>
                <a:lnTo>
                  <a:pt x="502" y="68"/>
                </a:lnTo>
                <a:lnTo>
                  <a:pt x="504" y="73"/>
                </a:lnTo>
                <a:lnTo>
                  <a:pt x="507" y="79"/>
                </a:lnTo>
                <a:lnTo>
                  <a:pt x="513" y="85"/>
                </a:lnTo>
                <a:lnTo>
                  <a:pt x="519" y="90"/>
                </a:lnTo>
                <a:lnTo>
                  <a:pt x="527" y="93"/>
                </a:lnTo>
                <a:lnTo>
                  <a:pt x="533" y="99"/>
                </a:lnTo>
                <a:lnTo>
                  <a:pt x="541" y="99"/>
                </a:lnTo>
                <a:lnTo>
                  <a:pt x="550" y="102"/>
                </a:lnTo>
                <a:lnTo>
                  <a:pt x="558" y="96"/>
                </a:lnTo>
                <a:lnTo>
                  <a:pt x="564" y="93"/>
                </a:lnTo>
                <a:lnTo>
                  <a:pt x="570" y="90"/>
                </a:lnTo>
                <a:lnTo>
                  <a:pt x="575" y="85"/>
                </a:lnTo>
                <a:lnTo>
                  <a:pt x="581" y="71"/>
                </a:lnTo>
                <a:lnTo>
                  <a:pt x="581" y="59"/>
                </a:lnTo>
                <a:lnTo>
                  <a:pt x="581" y="48"/>
                </a:lnTo>
                <a:lnTo>
                  <a:pt x="581" y="36"/>
                </a:lnTo>
                <a:lnTo>
                  <a:pt x="578" y="28"/>
                </a:lnTo>
                <a:lnTo>
                  <a:pt x="584" y="28"/>
                </a:lnTo>
                <a:lnTo>
                  <a:pt x="592" y="34"/>
                </a:lnTo>
                <a:lnTo>
                  <a:pt x="604" y="39"/>
                </a:lnTo>
                <a:lnTo>
                  <a:pt x="612" y="48"/>
                </a:lnTo>
                <a:lnTo>
                  <a:pt x="626" y="59"/>
                </a:lnTo>
                <a:lnTo>
                  <a:pt x="635" y="65"/>
                </a:lnTo>
                <a:lnTo>
                  <a:pt x="640" y="71"/>
                </a:lnTo>
                <a:lnTo>
                  <a:pt x="646" y="79"/>
                </a:lnTo>
                <a:lnTo>
                  <a:pt x="655" y="88"/>
                </a:lnTo>
                <a:lnTo>
                  <a:pt x="660" y="93"/>
                </a:lnTo>
                <a:lnTo>
                  <a:pt x="666" y="102"/>
                </a:lnTo>
                <a:lnTo>
                  <a:pt x="669" y="110"/>
                </a:lnTo>
                <a:lnTo>
                  <a:pt x="674" y="119"/>
                </a:lnTo>
                <a:lnTo>
                  <a:pt x="677" y="125"/>
                </a:lnTo>
                <a:lnTo>
                  <a:pt x="677" y="133"/>
                </a:lnTo>
                <a:lnTo>
                  <a:pt x="680" y="144"/>
                </a:lnTo>
                <a:lnTo>
                  <a:pt x="686" y="153"/>
                </a:lnTo>
                <a:lnTo>
                  <a:pt x="686" y="161"/>
                </a:lnTo>
                <a:lnTo>
                  <a:pt x="689" y="170"/>
                </a:lnTo>
                <a:lnTo>
                  <a:pt x="689" y="178"/>
                </a:lnTo>
                <a:lnTo>
                  <a:pt x="691" y="190"/>
                </a:lnTo>
                <a:lnTo>
                  <a:pt x="691" y="198"/>
                </a:lnTo>
                <a:lnTo>
                  <a:pt x="694" y="210"/>
                </a:lnTo>
                <a:lnTo>
                  <a:pt x="697" y="218"/>
                </a:lnTo>
                <a:lnTo>
                  <a:pt x="700" y="230"/>
                </a:lnTo>
                <a:lnTo>
                  <a:pt x="703" y="241"/>
                </a:lnTo>
                <a:lnTo>
                  <a:pt x="703" y="252"/>
                </a:lnTo>
                <a:lnTo>
                  <a:pt x="703" y="261"/>
                </a:lnTo>
                <a:lnTo>
                  <a:pt x="703" y="267"/>
                </a:lnTo>
                <a:lnTo>
                  <a:pt x="703" y="275"/>
                </a:lnTo>
                <a:lnTo>
                  <a:pt x="703" y="281"/>
                </a:lnTo>
                <a:lnTo>
                  <a:pt x="703" y="286"/>
                </a:lnTo>
                <a:lnTo>
                  <a:pt x="703" y="295"/>
                </a:lnTo>
                <a:lnTo>
                  <a:pt x="700" y="301"/>
                </a:lnTo>
                <a:lnTo>
                  <a:pt x="700" y="309"/>
                </a:lnTo>
                <a:lnTo>
                  <a:pt x="700" y="315"/>
                </a:lnTo>
                <a:lnTo>
                  <a:pt x="700" y="323"/>
                </a:lnTo>
                <a:lnTo>
                  <a:pt x="697" y="329"/>
                </a:lnTo>
                <a:lnTo>
                  <a:pt x="697" y="337"/>
                </a:lnTo>
                <a:lnTo>
                  <a:pt x="697" y="349"/>
                </a:lnTo>
                <a:lnTo>
                  <a:pt x="694" y="360"/>
                </a:lnTo>
                <a:lnTo>
                  <a:pt x="691" y="369"/>
                </a:lnTo>
                <a:lnTo>
                  <a:pt x="691" y="380"/>
                </a:lnTo>
                <a:lnTo>
                  <a:pt x="689" y="386"/>
                </a:lnTo>
                <a:lnTo>
                  <a:pt x="689" y="391"/>
                </a:lnTo>
                <a:lnTo>
                  <a:pt x="689" y="394"/>
                </a:lnTo>
                <a:lnTo>
                  <a:pt x="689" y="397"/>
                </a:lnTo>
                <a:lnTo>
                  <a:pt x="646" y="374"/>
                </a:lnTo>
                <a:lnTo>
                  <a:pt x="524" y="352"/>
                </a:lnTo>
                <a:lnTo>
                  <a:pt x="377" y="335"/>
                </a:lnTo>
                <a:lnTo>
                  <a:pt x="289" y="360"/>
                </a:lnTo>
                <a:lnTo>
                  <a:pt x="182" y="408"/>
                </a:lnTo>
                <a:lnTo>
                  <a:pt x="12" y="397"/>
                </a:lnTo>
                <a:close/>
              </a:path>
            </a:pathLst>
          </a:custGeom>
          <a:solidFill>
            <a:srgbClr val="ffd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28"/>
          <p:cNvSpPr/>
          <p:nvPr/>
        </p:nvSpPr>
        <p:spPr>
          <a:xfrm>
            <a:off x="5869080" y="4749840"/>
            <a:ext cx="771480" cy="371520"/>
          </a:xfrm>
          <a:custGeom>
            <a:avLst/>
            <a:gdLst>
              <a:gd name="textAreaLeft" fmla="*/ 0 w 771480"/>
              <a:gd name="textAreaRight" fmla="*/ 771840 w 7714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67">
                <a:moveTo>
                  <a:pt x="484" y="97"/>
                </a:moveTo>
                <a:lnTo>
                  <a:pt x="481" y="97"/>
                </a:lnTo>
                <a:lnTo>
                  <a:pt x="478" y="102"/>
                </a:lnTo>
                <a:lnTo>
                  <a:pt x="470" y="108"/>
                </a:lnTo>
                <a:lnTo>
                  <a:pt x="464" y="120"/>
                </a:lnTo>
                <a:lnTo>
                  <a:pt x="453" y="128"/>
                </a:lnTo>
                <a:lnTo>
                  <a:pt x="444" y="142"/>
                </a:lnTo>
                <a:lnTo>
                  <a:pt x="433" y="154"/>
                </a:lnTo>
                <a:lnTo>
                  <a:pt x="422" y="168"/>
                </a:lnTo>
                <a:lnTo>
                  <a:pt x="407" y="179"/>
                </a:lnTo>
                <a:lnTo>
                  <a:pt x="396" y="191"/>
                </a:lnTo>
                <a:lnTo>
                  <a:pt x="385" y="199"/>
                </a:lnTo>
                <a:lnTo>
                  <a:pt x="373" y="208"/>
                </a:lnTo>
                <a:lnTo>
                  <a:pt x="365" y="213"/>
                </a:lnTo>
                <a:lnTo>
                  <a:pt x="359" y="216"/>
                </a:lnTo>
                <a:lnTo>
                  <a:pt x="354" y="216"/>
                </a:lnTo>
                <a:lnTo>
                  <a:pt x="351" y="213"/>
                </a:lnTo>
                <a:lnTo>
                  <a:pt x="345" y="199"/>
                </a:lnTo>
                <a:lnTo>
                  <a:pt x="342" y="185"/>
                </a:lnTo>
                <a:lnTo>
                  <a:pt x="342" y="171"/>
                </a:lnTo>
                <a:lnTo>
                  <a:pt x="345" y="159"/>
                </a:lnTo>
                <a:lnTo>
                  <a:pt x="348" y="148"/>
                </a:lnTo>
                <a:lnTo>
                  <a:pt x="351" y="142"/>
                </a:lnTo>
                <a:lnTo>
                  <a:pt x="354" y="137"/>
                </a:lnTo>
                <a:lnTo>
                  <a:pt x="354" y="134"/>
                </a:lnTo>
                <a:lnTo>
                  <a:pt x="351" y="134"/>
                </a:lnTo>
                <a:lnTo>
                  <a:pt x="348" y="139"/>
                </a:lnTo>
                <a:lnTo>
                  <a:pt x="342" y="145"/>
                </a:lnTo>
                <a:lnTo>
                  <a:pt x="339" y="151"/>
                </a:lnTo>
                <a:lnTo>
                  <a:pt x="331" y="159"/>
                </a:lnTo>
                <a:lnTo>
                  <a:pt x="322" y="171"/>
                </a:lnTo>
                <a:lnTo>
                  <a:pt x="314" y="182"/>
                </a:lnTo>
                <a:lnTo>
                  <a:pt x="305" y="193"/>
                </a:lnTo>
                <a:lnTo>
                  <a:pt x="294" y="202"/>
                </a:lnTo>
                <a:lnTo>
                  <a:pt x="283" y="213"/>
                </a:lnTo>
                <a:lnTo>
                  <a:pt x="274" y="219"/>
                </a:lnTo>
                <a:lnTo>
                  <a:pt x="266" y="227"/>
                </a:lnTo>
                <a:lnTo>
                  <a:pt x="254" y="233"/>
                </a:lnTo>
                <a:lnTo>
                  <a:pt x="246" y="239"/>
                </a:lnTo>
                <a:lnTo>
                  <a:pt x="237" y="239"/>
                </a:lnTo>
                <a:lnTo>
                  <a:pt x="235" y="239"/>
                </a:lnTo>
                <a:lnTo>
                  <a:pt x="226" y="233"/>
                </a:lnTo>
                <a:lnTo>
                  <a:pt x="223" y="227"/>
                </a:lnTo>
                <a:lnTo>
                  <a:pt x="220" y="219"/>
                </a:lnTo>
                <a:lnTo>
                  <a:pt x="220" y="213"/>
                </a:lnTo>
                <a:lnTo>
                  <a:pt x="220" y="205"/>
                </a:lnTo>
                <a:lnTo>
                  <a:pt x="223" y="196"/>
                </a:lnTo>
                <a:lnTo>
                  <a:pt x="223" y="185"/>
                </a:lnTo>
                <a:lnTo>
                  <a:pt x="226" y="179"/>
                </a:lnTo>
                <a:lnTo>
                  <a:pt x="229" y="168"/>
                </a:lnTo>
                <a:lnTo>
                  <a:pt x="232" y="159"/>
                </a:lnTo>
                <a:lnTo>
                  <a:pt x="235" y="151"/>
                </a:lnTo>
                <a:lnTo>
                  <a:pt x="237" y="148"/>
                </a:lnTo>
                <a:lnTo>
                  <a:pt x="243" y="137"/>
                </a:lnTo>
                <a:lnTo>
                  <a:pt x="246" y="134"/>
                </a:lnTo>
                <a:lnTo>
                  <a:pt x="243" y="134"/>
                </a:lnTo>
                <a:lnTo>
                  <a:pt x="240" y="139"/>
                </a:lnTo>
                <a:lnTo>
                  <a:pt x="235" y="145"/>
                </a:lnTo>
                <a:lnTo>
                  <a:pt x="226" y="154"/>
                </a:lnTo>
                <a:lnTo>
                  <a:pt x="218" y="162"/>
                </a:lnTo>
                <a:lnTo>
                  <a:pt x="209" y="173"/>
                </a:lnTo>
                <a:lnTo>
                  <a:pt x="198" y="185"/>
                </a:lnTo>
                <a:lnTo>
                  <a:pt x="186" y="196"/>
                </a:lnTo>
                <a:lnTo>
                  <a:pt x="175" y="208"/>
                </a:lnTo>
                <a:lnTo>
                  <a:pt x="164" y="216"/>
                </a:lnTo>
                <a:lnTo>
                  <a:pt x="153" y="225"/>
                </a:lnTo>
                <a:lnTo>
                  <a:pt x="141" y="236"/>
                </a:lnTo>
                <a:lnTo>
                  <a:pt x="130" y="239"/>
                </a:lnTo>
                <a:lnTo>
                  <a:pt x="119" y="244"/>
                </a:lnTo>
                <a:lnTo>
                  <a:pt x="113" y="244"/>
                </a:lnTo>
                <a:lnTo>
                  <a:pt x="107" y="242"/>
                </a:lnTo>
                <a:lnTo>
                  <a:pt x="99" y="233"/>
                </a:lnTo>
                <a:lnTo>
                  <a:pt x="96" y="227"/>
                </a:lnTo>
                <a:lnTo>
                  <a:pt x="96" y="219"/>
                </a:lnTo>
                <a:lnTo>
                  <a:pt x="96" y="210"/>
                </a:lnTo>
                <a:lnTo>
                  <a:pt x="96" y="202"/>
                </a:lnTo>
                <a:lnTo>
                  <a:pt x="99" y="193"/>
                </a:lnTo>
                <a:lnTo>
                  <a:pt x="102" y="185"/>
                </a:lnTo>
                <a:lnTo>
                  <a:pt x="107" y="176"/>
                </a:lnTo>
                <a:lnTo>
                  <a:pt x="110" y="168"/>
                </a:lnTo>
                <a:lnTo>
                  <a:pt x="116" y="159"/>
                </a:lnTo>
                <a:lnTo>
                  <a:pt x="121" y="154"/>
                </a:lnTo>
                <a:lnTo>
                  <a:pt x="127" y="148"/>
                </a:lnTo>
                <a:lnTo>
                  <a:pt x="133" y="139"/>
                </a:lnTo>
                <a:lnTo>
                  <a:pt x="136" y="137"/>
                </a:lnTo>
                <a:lnTo>
                  <a:pt x="127" y="137"/>
                </a:lnTo>
                <a:lnTo>
                  <a:pt x="121" y="139"/>
                </a:lnTo>
                <a:lnTo>
                  <a:pt x="113" y="151"/>
                </a:lnTo>
                <a:lnTo>
                  <a:pt x="104" y="156"/>
                </a:lnTo>
                <a:lnTo>
                  <a:pt x="99" y="162"/>
                </a:lnTo>
                <a:lnTo>
                  <a:pt x="87" y="171"/>
                </a:lnTo>
                <a:lnTo>
                  <a:pt x="82" y="182"/>
                </a:lnTo>
                <a:lnTo>
                  <a:pt x="70" y="188"/>
                </a:lnTo>
                <a:lnTo>
                  <a:pt x="65" y="193"/>
                </a:lnTo>
                <a:lnTo>
                  <a:pt x="56" y="199"/>
                </a:lnTo>
                <a:lnTo>
                  <a:pt x="48" y="205"/>
                </a:lnTo>
                <a:lnTo>
                  <a:pt x="42" y="208"/>
                </a:lnTo>
                <a:lnTo>
                  <a:pt x="34" y="210"/>
                </a:lnTo>
                <a:lnTo>
                  <a:pt x="31" y="208"/>
                </a:lnTo>
                <a:lnTo>
                  <a:pt x="28" y="205"/>
                </a:lnTo>
                <a:lnTo>
                  <a:pt x="25" y="199"/>
                </a:lnTo>
                <a:lnTo>
                  <a:pt x="25" y="193"/>
                </a:lnTo>
                <a:lnTo>
                  <a:pt x="25" y="185"/>
                </a:lnTo>
                <a:lnTo>
                  <a:pt x="31" y="179"/>
                </a:lnTo>
                <a:lnTo>
                  <a:pt x="34" y="171"/>
                </a:lnTo>
                <a:lnTo>
                  <a:pt x="39" y="162"/>
                </a:lnTo>
                <a:lnTo>
                  <a:pt x="45" y="154"/>
                </a:lnTo>
                <a:lnTo>
                  <a:pt x="53" y="145"/>
                </a:lnTo>
                <a:lnTo>
                  <a:pt x="59" y="137"/>
                </a:lnTo>
                <a:lnTo>
                  <a:pt x="65" y="128"/>
                </a:lnTo>
                <a:lnTo>
                  <a:pt x="76" y="120"/>
                </a:lnTo>
                <a:lnTo>
                  <a:pt x="85" y="111"/>
                </a:lnTo>
                <a:lnTo>
                  <a:pt x="90" y="105"/>
                </a:lnTo>
                <a:lnTo>
                  <a:pt x="99" y="97"/>
                </a:lnTo>
                <a:lnTo>
                  <a:pt x="107" y="88"/>
                </a:lnTo>
                <a:lnTo>
                  <a:pt x="116" y="85"/>
                </a:lnTo>
                <a:lnTo>
                  <a:pt x="121" y="80"/>
                </a:lnTo>
                <a:lnTo>
                  <a:pt x="130" y="74"/>
                </a:lnTo>
                <a:lnTo>
                  <a:pt x="136" y="66"/>
                </a:lnTo>
                <a:lnTo>
                  <a:pt x="144" y="60"/>
                </a:lnTo>
                <a:lnTo>
                  <a:pt x="153" y="54"/>
                </a:lnTo>
                <a:lnTo>
                  <a:pt x="161" y="49"/>
                </a:lnTo>
                <a:lnTo>
                  <a:pt x="172" y="43"/>
                </a:lnTo>
                <a:lnTo>
                  <a:pt x="184" y="37"/>
                </a:lnTo>
                <a:lnTo>
                  <a:pt x="186" y="34"/>
                </a:lnTo>
                <a:lnTo>
                  <a:pt x="192" y="31"/>
                </a:lnTo>
                <a:lnTo>
                  <a:pt x="198" y="29"/>
                </a:lnTo>
                <a:lnTo>
                  <a:pt x="206" y="29"/>
                </a:lnTo>
                <a:lnTo>
                  <a:pt x="212" y="26"/>
                </a:lnTo>
                <a:lnTo>
                  <a:pt x="220" y="23"/>
                </a:lnTo>
                <a:lnTo>
                  <a:pt x="226" y="23"/>
                </a:lnTo>
                <a:lnTo>
                  <a:pt x="237" y="23"/>
                </a:lnTo>
                <a:lnTo>
                  <a:pt x="246" y="20"/>
                </a:lnTo>
                <a:lnTo>
                  <a:pt x="254" y="20"/>
                </a:lnTo>
                <a:lnTo>
                  <a:pt x="263" y="20"/>
                </a:lnTo>
                <a:lnTo>
                  <a:pt x="274" y="20"/>
                </a:lnTo>
                <a:lnTo>
                  <a:pt x="286" y="20"/>
                </a:lnTo>
                <a:lnTo>
                  <a:pt x="297" y="20"/>
                </a:lnTo>
                <a:lnTo>
                  <a:pt x="311" y="20"/>
                </a:lnTo>
                <a:lnTo>
                  <a:pt x="322" y="23"/>
                </a:lnTo>
                <a:lnTo>
                  <a:pt x="334" y="23"/>
                </a:lnTo>
                <a:lnTo>
                  <a:pt x="348" y="23"/>
                </a:lnTo>
                <a:lnTo>
                  <a:pt x="359" y="26"/>
                </a:lnTo>
                <a:lnTo>
                  <a:pt x="371" y="29"/>
                </a:lnTo>
                <a:lnTo>
                  <a:pt x="379" y="29"/>
                </a:lnTo>
                <a:lnTo>
                  <a:pt x="390" y="31"/>
                </a:lnTo>
                <a:lnTo>
                  <a:pt x="399" y="34"/>
                </a:lnTo>
                <a:lnTo>
                  <a:pt x="410" y="37"/>
                </a:lnTo>
                <a:lnTo>
                  <a:pt x="419" y="40"/>
                </a:lnTo>
                <a:lnTo>
                  <a:pt x="427" y="43"/>
                </a:lnTo>
                <a:lnTo>
                  <a:pt x="436" y="43"/>
                </a:lnTo>
                <a:lnTo>
                  <a:pt x="444" y="49"/>
                </a:lnTo>
                <a:lnTo>
                  <a:pt x="450" y="51"/>
                </a:lnTo>
                <a:lnTo>
                  <a:pt x="458" y="54"/>
                </a:lnTo>
                <a:lnTo>
                  <a:pt x="464" y="57"/>
                </a:lnTo>
                <a:lnTo>
                  <a:pt x="470" y="63"/>
                </a:lnTo>
                <a:lnTo>
                  <a:pt x="478" y="66"/>
                </a:lnTo>
                <a:lnTo>
                  <a:pt x="490" y="74"/>
                </a:lnTo>
                <a:lnTo>
                  <a:pt x="495" y="77"/>
                </a:lnTo>
                <a:lnTo>
                  <a:pt x="504" y="83"/>
                </a:lnTo>
                <a:lnTo>
                  <a:pt x="512" y="91"/>
                </a:lnTo>
                <a:lnTo>
                  <a:pt x="515" y="94"/>
                </a:lnTo>
                <a:lnTo>
                  <a:pt x="563" y="94"/>
                </a:lnTo>
                <a:lnTo>
                  <a:pt x="560" y="91"/>
                </a:lnTo>
                <a:lnTo>
                  <a:pt x="549" y="83"/>
                </a:lnTo>
                <a:lnTo>
                  <a:pt x="541" y="77"/>
                </a:lnTo>
                <a:lnTo>
                  <a:pt x="532" y="71"/>
                </a:lnTo>
                <a:lnTo>
                  <a:pt x="521" y="66"/>
                </a:lnTo>
                <a:lnTo>
                  <a:pt x="509" y="57"/>
                </a:lnTo>
                <a:lnTo>
                  <a:pt x="501" y="54"/>
                </a:lnTo>
                <a:lnTo>
                  <a:pt x="492" y="51"/>
                </a:lnTo>
                <a:lnTo>
                  <a:pt x="487" y="46"/>
                </a:lnTo>
                <a:lnTo>
                  <a:pt x="478" y="43"/>
                </a:lnTo>
                <a:lnTo>
                  <a:pt x="470" y="40"/>
                </a:lnTo>
                <a:lnTo>
                  <a:pt x="458" y="34"/>
                </a:lnTo>
                <a:lnTo>
                  <a:pt x="447" y="31"/>
                </a:lnTo>
                <a:lnTo>
                  <a:pt x="439" y="29"/>
                </a:lnTo>
                <a:lnTo>
                  <a:pt x="427" y="26"/>
                </a:lnTo>
                <a:lnTo>
                  <a:pt x="416" y="23"/>
                </a:lnTo>
                <a:lnTo>
                  <a:pt x="405" y="17"/>
                </a:lnTo>
                <a:lnTo>
                  <a:pt x="393" y="14"/>
                </a:lnTo>
                <a:lnTo>
                  <a:pt x="385" y="12"/>
                </a:lnTo>
                <a:lnTo>
                  <a:pt x="379" y="12"/>
                </a:lnTo>
                <a:lnTo>
                  <a:pt x="373" y="12"/>
                </a:lnTo>
                <a:lnTo>
                  <a:pt x="365" y="12"/>
                </a:lnTo>
                <a:lnTo>
                  <a:pt x="354" y="9"/>
                </a:lnTo>
                <a:lnTo>
                  <a:pt x="339" y="6"/>
                </a:lnTo>
                <a:lnTo>
                  <a:pt x="334" y="3"/>
                </a:lnTo>
                <a:lnTo>
                  <a:pt x="325" y="3"/>
                </a:lnTo>
                <a:lnTo>
                  <a:pt x="317" y="0"/>
                </a:lnTo>
                <a:lnTo>
                  <a:pt x="311" y="0"/>
                </a:lnTo>
                <a:lnTo>
                  <a:pt x="297" y="0"/>
                </a:lnTo>
                <a:lnTo>
                  <a:pt x="286" y="0"/>
                </a:lnTo>
                <a:lnTo>
                  <a:pt x="271" y="0"/>
                </a:lnTo>
                <a:lnTo>
                  <a:pt x="260" y="0"/>
                </a:lnTo>
                <a:lnTo>
                  <a:pt x="249" y="0"/>
                </a:lnTo>
                <a:lnTo>
                  <a:pt x="240" y="3"/>
                </a:lnTo>
                <a:lnTo>
                  <a:pt x="229" y="3"/>
                </a:lnTo>
                <a:lnTo>
                  <a:pt x="220" y="3"/>
                </a:lnTo>
                <a:lnTo>
                  <a:pt x="209" y="6"/>
                </a:lnTo>
                <a:lnTo>
                  <a:pt x="201" y="9"/>
                </a:lnTo>
                <a:lnTo>
                  <a:pt x="192" y="12"/>
                </a:lnTo>
                <a:lnTo>
                  <a:pt x="184" y="12"/>
                </a:lnTo>
                <a:lnTo>
                  <a:pt x="178" y="17"/>
                </a:lnTo>
                <a:lnTo>
                  <a:pt x="172" y="20"/>
                </a:lnTo>
                <a:lnTo>
                  <a:pt x="164" y="23"/>
                </a:lnTo>
                <a:lnTo>
                  <a:pt x="155" y="26"/>
                </a:lnTo>
                <a:lnTo>
                  <a:pt x="150" y="29"/>
                </a:lnTo>
                <a:lnTo>
                  <a:pt x="144" y="31"/>
                </a:lnTo>
                <a:lnTo>
                  <a:pt x="133" y="40"/>
                </a:lnTo>
                <a:lnTo>
                  <a:pt x="124" y="49"/>
                </a:lnTo>
                <a:lnTo>
                  <a:pt x="116" y="54"/>
                </a:lnTo>
                <a:lnTo>
                  <a:pt x="110" y="63"/>
                </a:lnTo>
                <a:lnTo>
                  <a:pt x="102" y="68"/>
                </a:lnTo>
                <a:lnTo>
                  <a:pt x="96" y="74"/>
                </a:lnTo>
                <a:lnTo>
                  <a:pt x="87" y="80"/>
                </a:lnTo>
                <a:lnTo>
                  <a:pt x="82" y="85"/>
                </a:lnTo>
                <a:lnTo>
                  <a:pt x="76" y="94"/>
                </a:lnTo>
                <a:lnTo>
                  <a:pt x="70" y="100"/>
                </a:lnTo>
                <a:lnTo>
                  <a:pt x="62" y="108"/>
                </a:lnTo>
                <a:lnTo>
                  <a:pt x="56" y="117"/>
                </a:lnTo>
                <a:lnTo>
                  <a:pt x="48" y="125"/>
                </a:lnTo>
                <a:lnTo>
                  <a:pt x="39" y="134"/>
                </a:lnTo>
                <a:lnTo>
                  <a:pt x="34" y="139"/>
                </a:lnTo>
                <a:lnTo>
                  <a:pt x="25" y="148"/>
                </a:lnTo>
                <a:lnTo>
                  <a:pt x="19" y="156"/>
                </a:lnTo>
                <a:lnTo>
                  <a:pt x="14" y="165"/>
                </a:lnTo>
                <a:lnTo>
                  <a:pt x="8" y="173"/>
                </a:lnTo>
                <a:lnTo>
                  <a:pt x="5" y="182"/>
                </a:lnTo>
                <a:lnTo>
                  <a:pt x="2" y="188"/>
                </a:lnTo>
                <a:lnTo>
                  <a:pt x="2" y="196"/>
                </a:lnTo>
                <a:lnTo>
                  <a:pt x="0" y="205"/>
                </a:lnTo>
                <a:lnTo>
                  <a:pt x="0" y="213"/>
                </a:lnTo>
                <a:lnTo>
                  <a:pt x="0" y="219"/>
                </a:lnTo>
                <a:lnTo>
                  <a:pt x="2" y="225"/>
                </a:lnTo>
                <a:lnTo>
                  <a:pt x="8" y="225"/>
                </a:lnTo>
                <a:lnTo>
                  <a:pt x="14" y="227"/>
                </a:lnTo>
                <a:lnTo>
                  <a:pt x="22" y="227"/>
                </a:lnTo>
                <a:lnTo>
                  <a:pt x="28" y="227"/>
                </a:lnTo>
                <a:lnTo>
                  <a:pt x="34" y="225"/>
                </a:lnTo>
                <a:lnTo>
                  <a:pt x="42" y="225"/>
                </a:lnTo>
                <a:lnTo>
                  <a:pt x="51" y="222"/>
                </a:lnTo>
                <a:lnTo>
                  <a:pt x="59" y="216"/>
                </a:lnTo>
                <a:lnTo>
                  <a:pt x="65" y="213"/>
                </a:lnTo>
                <a:lnTo>
                  <a:pt x="70" y="208"/>
                </a:lnTo>
                <a:lnTo>
                  <a:pt x="76" y="205"/>
                </a:lnTo>
                <a:lnTo>
                  <a:pt x="76" y="208"/>
                </a:lnTo>
                <a:lnTo>
                  <a:pt x="76" y="213"/>
                </a:lnTo>
                <a:lnTo>
                  <a:pt x="73" y="219"/>
                </a:lnTo>
                <a:lnTo>
                  <a:pt x="73" y="230"/>
                </a:lnTo>
                <a:lnTo>
                  <a:pt x="73" y="239"/>
                </a:lnTo>
                <a:lnTo>
                  <a:pt x="76" y="250"/>
                </a:lnTo>
                <a:lnTo>
                  <a:pt x="85" y="259"/>
                </a:lnTo>
                <a:lnTo>
                  <a:pt x="96" y="267"/>
                </a:lnTo>
                <a:lnTo>
                  <a:pt x="102" y="267"/>
                </a:lnTo>
                <a:lnTo>
                  <a:pt x="110" y="267"/>
                </a:lnTo>
                <a:lnTo>
                  <a:pt x="119" y="267"/>
                </a:lnTo>
                <a:lnTo>
                  <a:pt x="127" y="264"/>
                </a:lnTo>
                <a:lnTo>
                  <a:pt x="133" y="259"/>
                </a:lnTo>
                <a:lnTo>
                  <a:pt x="141" y="256"/>
                </a:lnTo>
                <a:lnTo>
                  <a:pt x="153" y="250"/>
                </a:lnTo>
                <a:lnTo>
                  <a:pt x="161" y="244"/>
                </a:lnTo>
                <a:lnTo>
                  <a:pt x="167" y="239"/>
                </a:lnTo>
                <a:lnTo>
                  <a:pt x="175" y="233"/>
                </a:lnTo>
                <a:lnTo>
                  <a:pt x="181" y="227"/>
                </a:lnTo>
                <a:lnTo>
                  <a:pt x="189" y="225"/>
                </a:lnTo>
                <a:lnTo>
                  <a:pt x="198" y="216"/>
                </a:lnTo>
                <a:lnTo>
                  <a:pt x="201" y="213"/>
                </a:lnTo>
                <a:lnTo>
                  <a:pt x="201" y="216"/>
                </a:lnTo>
                <a:lnTo>
                  <a:pt x="201" y="222"/>
                </a:lnTo>
                <a:lnTo>
                  <a:pt x="201" y="227"/>
                </a:lnTo>
                <a:lnTo>
                  <a:pt x="203" y="236"/>
                </a:lnTo>
                <a:lnTo>
                  <a:pt x="203" y="244"/>
                </a:lnTo>
                <a:lnTo>
                  <a:pt x="209" y="253"/>
                </a:lnTo>
                <a:lnTo>
                  <a:pt x="215" y="259"/>
                </a:lnTo>
                <a:lnTo>
                  <a:pt x="226" y="264"/>
                </a:lnTo>
                <a:lnTo>
                  <a:pt x="232" y="262"/>
                </a:lnTo>
                <a:lnTo>
                  <a:pt x="237" y="262"/>
                </a:lnTo>
                <a:lnTo>
                  <a:pt x="246" y="259"/>
                </a:lnTo>
                <a:lnTo>
                  <a:pt x="254" y="256"/>
                </a:lnTo>
                <a:lnTo>
                  <a:pt x="260" y="250"/>
                </a:lnTo>
                <a:lnTo>
                  <a:pt x="269" y="247"/>
                </a:lnTo>
                <a:lnTo>
                  <a:pt x="277" y="239"/>
                </a:lnTo>
                <a:lnTo>
                  <a:pt x="286" y="236"/>
                </a:lnTo>
                <a:lnTo>
                  <a:pt x="291" y="227"/>
                </a:lnTo>
                <a:lnTo>
                  <a:pt x="300" y="222"/>
                </a:lnTo>
                <a:lnTo>
                  <a:pt x="305" y="216"/>
                </a:lnTo>
                <a:lnTo>
                  <a:pt x="311" y="213"/>
                </a:lnTo>
                <a:lnTo>
                  <a:pt x="320" y="205"/>
                </a:lnTo>
                <a:lnTo>
                  <a:pt x="322" y="202"/>
                </a:lnTo>
                <a:lnTo>
                  <a:pt x="322" y="208"/>
                </a:lnTo>
                <a:lnTo>
                  <a:pt x="322" y="213"/>
                </a:lnTo>
                <a:lnTo>
                  <a:pt x="322" y="222"/>
                </a:lnTo>
                <a:lnTo>
                  <a:pt x="325" y="227"/>
                </a:lnTo>
                <a:lnTo>
                  <a:pt x="331" y="236"/>
                </a:lnTo>
                <a:lnTo>
                  <a:pt x="337" y="239"/>
                </a:lnTo>
                <a:lnTo>
                  <a:pt x="345" y="242"/>
                </a:lnTo>
                <a:lnTo>
                  <a:pt x="354" y="239"/>
                </a:lnTo>
                <a:lnTo>
                  <a:pt x="362" y="236"/>
                </a:lnTo>
                <a:lnTo>
                  <a:pt x="371" y="227"/>
                </a:lnTo>
                <a:lnTo>
                  <a:pt x="385" y="219"/>
                </a:lnTo>
                <a:lnTo>
                  <a:pt x="388" y="213"/>
                </a:lnTo>
                <a:lnTo>
                  <a:pt x="396" y="210"/>
                </a:lnTo>
                <a:lnTo>
                  <a:pt x="402" y="205"/>
                </a:lnTo>
                <a:lnTo>
                  <a:pt x="410" y="199"/>
                </a:lnTo>
                <a:lnTo>
                  <a:pt x="416" y="193"/>
                </a:lnTo>
                <a:lnTo>
                  <a:pt x="424" y="188"/>
                </a:lnTo>
                <a:lnTo>
                  <a:pt x="430" y="182"/>
                </a:lnTo>
                <a:lnTo>
                  <a:pt x="439" y="176"/>
                </a:lnTo>
                <a:lnTo>
                  <a:pt x="450" y="165"/>
                </a:lnTo>
                <a:lnTo>
                  <a:pt x="464" y="154"/>
                </a:lnTo>
                <a:lnTo>
                  <a:pt x="475" y="142"/>
                </a:lnTo>
                <a:lnTo>
                  <a:pt x="487" y="134"/>
                </a:lnTo>
                <a:lnTo>
                  <a:pt x="495" y="125"/>
                </a:lnTo>
                <a:lnTo>
                  <a:pt x="501" y="120"/>
                </a:lnTo>
                <a:lnTo>
                  <a:pt x="507" y="114"/>
                </a:lnTo>
                <a:lnTo>
                  <a:pt x="509" y="114"/>
                </a:lnTo>
                <a:lnTo>
                  <a:pt x="484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27"/>
          <p:cNvSpPr/>
          <p:nvPr/>
        </p:nvSpPr>
        <p:spPr>
          <a:xfrm>
            <a:off x="6935760" y="4668840"/>
            <a:ext cx="824040" cy="493560"/>
          </a:xfrm>
          <a:custGeom>
            <a:avLst/>
            <a:gdLst>
              <a:gd name="textAreaLeft" fmla="*/ 0 w 824040"/>
              <a:gd name="textAreaRight" fmla="*/ 824400 w 8240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01" h="353">
                <a:moveTo>
                  <a:pt x="357" y="111"/>
                </a:moveTo>
                <a:lnTo>
                  <a:pt x="354" y="108"/>
                </a:lnTo>
                <a:lnTo>
                  <a:pt x="352" y="108"/>
                </a:lnTo>
                <a:lnTo>
                  <a:pt x="346" y="108"/>
                </a:lnTo>
                <a:lnTo>
                  <a:pt x="337" y="108"/>
                </a:lnTo>
                <a:lnTo>
                  <a:pt x="329" y="106"/>
                </a:lnTo>
                <a:lnTo>
                  <a:pt x="318" y="106"/>
                </a:lnTo>
                <a:lnTo>
                  <a:pt x="306" y="106"/>
                </a:lnTo>
                <a:lnTo>
                  <a:pt x="295" y="106"/>
                </a:lnTo>
                <a:lnTo>
                  <a:pt x="281" y="106"/>
                </a:lnTo>
                <a:lnTo>
                  <a:pt x="269" y="106"/>
                </a:lnTo>
                <a:lnTo>
                  <a:pt x="255" y="106"/>
                </a:lnTo>
                <a:lnTo>
                  <a:pt x="244" y="106"/>
                </a:lnTo>
                <a:lnTo>
                  <a:pt x="233" y="106"/>
                </a:lnTo>
                <a:lnTo>
                  <a:pt x="224" y="106"/>
                </a:lnTo>
                <a:lnTo>
                  <a:pt x="213" y="108"/>
                </a:lnTo>
                <a:lnTo>
                  <a:pt x="207" y="111"/>
                </a:lnTo>
                <a:lnTo>
                  <a:pt x="199" y="111"/>
                </a:lnTo>
                <a:lnTo>
                  <a:pt x="190" y="114"/>
                </a:lnTo>
                <a:lnTo>
                  <a:pt x="179" y="117"/>
                </a:lnTo>
                <a:lnTo>
                  <a:pt x="168" y="123"/>
                </a:lnTo>
                <a:lnTo>
                  <a:pt x="156" y="128"/>
                </a:lnTo>
                <a:lnTo>
                  <a:pt x="142" y="134"/>
                </a:lnTo>
                <a:lnTo>
                  <a:pt x="128" y="142"/>
                </a:lnTo>
                <a:lnTo>
                  <a:pt x="117" y="151"/>
                </a:lnTo>
                <a:lnTo>
                  <a:pt x="108" y="154"/>
                </a:lnTo>
                <a:lnTo>
                  <a:pt x="102" y="159"/>
                </a:lnTo>
                <a:lnTo>
                  <a:pt x="94" y="162"/>
                </a:lnTo>
                <a:lnTo>
                  <a:pt x="88" y="168"/>
                </a:lnTo>
                <a:lnTo>
                  <a:pt x="77" y="174"/>
                </a:lnTo>
                <a:lnTo>
                  <a:pt x="66" y="185"/>
                </a:lnTo>
                <a:lnTo>
                  <a:pt x="54" y="194"/>
                </a:lnTo>
                <a:lnTo>
                  <a:pt x="46" y="202"/>
                </a:lnTo>
                <a:lnTo>
                  <a:pt x="37" y="211"/>
                </a:lnTo>
                <a:lnTo>
                  <a:pt x="32" y="219"/>
                </a:lnTo>
                <a:lnTo>
                  <a:pt x="23" y="233"/>
                </a:lnTo>
                <a:lnTo>
                  <a:pt x="20" y="245"/>
                </a:lnTo>
                <a:lnTo>
                  <a:pt x="20" y="253"/>
                </a:lnTo>
                <a:lnTo>
                  <a:pt x="23" y="262"/>
                </a:lnTo>
                <a:lnTo>
                  <a:pt x="29" y="265"/>
                </a:lnTo>
                <a:lnTo>
                  <a:pt x="34" y="267"/>
                </a:lnTo>
                <a:lnTo>
                  <a:pt x="43" y="265"/>
                </a:lnTo>
                <a:lnTo>
                  <a:pt x="49" y="262"/>
                </a:lnTo>
                <a:lnTo>
                  <a:pt x="51" y="259"/>
                </a:lnTo>
                <a:lnTo>
                  <a:pt x="60" y="253"/>
                </a:lnTo>
                <a:lnTo>
                  <a:pt x="66" y="248"/>
                </a:lnTo>
                <a:lnTo>
                  <a:pt x="77" y="242"/>
                </a:lnTo>
                <a:lnTo>
                  <a:pt x="88" y="236"/>
                </a:lnTo>
                <a:lnTo>
                  <a:pt x="102" y="228"/>
                </a:lnTo>
                <a:lnTo>
                  <a:pt x="114" y="219"/>
                </a:lnTo>
                <a:lnTo>
                  <a:pt x="125" y="213"/>
                </a:lnTo>
                <a:lnTo>
                  <a:pt x="136" y="205"/>
                </a:lnTo>
                <a:lnTo>
                  <a:pt x="151" y="199"/>
                </a:lnTo>
                <a:lnTo>
                  <a:pt x="159" y="194"/>
                </a:lnTo>
                <a:lnTo>
                  <a:pt x="170" y="188"/>
                </a:lnTo>
                <a:lnTo>
                  <a:pt x="179" y="182"/>
                </a:lnTo>
                <a:lnTo>
                  <a:pt x="185" y="179"/>
                </a:lnTo>
                <a:lnTo>
                  <a:pt x="187" y="177"/>
                </a:lnTo>
                <a:lnTo>
                  <a:pt x="190" y="177"/>
                </a:lnTo>
                <a:lnTo>
                  <a:pt x="199" y="191"/>
                </a:lnTo>
                <a:lnTo>
                  <a:pt x="196" y="191"/>
                </a:lnTo>
                <a:lnTo>
                  <a:pt x="193" y="196"/>
                </a:lnTo>
                <a:lnTo>
                  <a:pt x="187" y="199"/>
                </a:lnTo>
                <a:lnTo>
                  <a:pt x="185" y="208"/>
                </a:lnTo>
                <a:lnTo>
                  <a:pt x="179" y="216"/>
                </a:lnTo>
                <a:lnTo>
                  <a:pt x="170" y="225"/>
                </a:lnTo>
                <a:lnTo>
                  <a:pt x="165" y="233"/>
                </a:lnTo>
                <a:lnTo>
                  <a:pt x="159" y="245"/>
                </a:lnTo>
                <a:lnTo>
                  <a:pt x="153" y="253"/>
                </a:lnTo>
                <a:lnTo>
                  <a:pt x="148" y="265"/>
                </a:lnTo>
                <a:lnTo>
                  <a:pt x="145" y="270"/>
                </a:lnTo>
                <a:lnTo>
                  <a:pt x="145" y="282"/>
                </a:lnTo>
                <a:lnTo>
                  <a:pt x="145" y="287"/>
                </a:lnTo>
                <a:lnTo>
                  <a:pt x="148" y="293"/>
                </a:lnTo>
                <a:lnTo>
                  <a:pt x="153" y="293"/>
                </a:lnTo>
                <a:lnTo>
                  <a:pt x="162" y="296"/>
                </a:lnTo>
                <a:lnTo>
                  <a:pt x="173" y="293"/>
                </a:lnTo>
                <a:lnTo>
                  <a:pt x="185" y="287"/>
                </a:lnTo>
                <a:lnTo>
                  <a:pt x="196" y="282"/>
                </a:lnTo>
                <a:lnTo>
                  <a:pt x="207" y="273"/>
                </a:lnTo>
                <a:lnTo>
                  <a:pt x="219" y="265"/>
                </a:lnTo>
                <a:lnTo>
                  <a:pt x="230" y="256"/>
                </a:lnTo>
                <a:lnTo>
                  <a:pt x="241" y="248"/>
                </a:lnTo>
                <a:lnTo>
                  <a:pt x="252" y="239"/>
                </a:lnTo>
                <a:lnTo>
                  <a:pt x="261" y="230"/>
                </a:lnTo>
                <a:lnTo>
                  <a:pt x="269" y="222"/>
                </a:lnTo>
                <a:lnTo>
                  <a:pt x="275" y="213"/>
                </a:lnTo>
                <a:lnTo>
                  <a:pt x="284" y="208"/>
                </a:lnTo>
                <a:lnTo>
                  <a:pt x="295" y="196"/>
                </a:lnTo>
                <a:lnTo>
                  <a:pt x="298" y="194"/>
                </a:lnTo>
                <a:lnTo>
                  <a:pt x="298" y="208"/>
                </a:lnTo>
                <a:lnTo>
                  <a:pt x="295" y="213"/>
                </a:lnTo>
                <a:lnTo>
                  <a:pt x="292" y="216"/>
                </a:lnTo>
                <a:lnTo>
                  <a:pt x="289" y="225"/>
                </a:lnTo>
                <a:lnTo>
                  <a:pt x="284" y="233"/>
                </a:lnTo>
                <a:lnTo>
                  <a:pt x="281" y="245"/>
                </a:lnTo>
                <a:lnTo>
                  <a:pt x="275" y="256"/>
                </a:lnTo>
                <a:lnTo>
                  <a:pt x="272" y="267"/>
                </a:lnTo>
                <a:lnTo>
                  <a:pt x="269" y="276"/>
                </a:lnTo>
                <a:lnTo>
                  <a:pt x="267" y="287"/>
                </a:lnTo>
                <a:lnTo>
                  <a:pt x="264" y="296"/>
                </a:lnTo>
                <a:lnTo>
                  <a:pt x="264" y="304"/>
                </a:lnTo>
                <a:lnTo>
                  <a:pt x="264" y="310"/>
                </a:lnTo>
                <a:lnTo>
                  <a:pt x="267" y="316"/>
                </a:lnTo>
                <a:lnTo>
                  <a:pt x="269" y="319"/>
                </a:lnTo>
                <a:lnTo>
                  <a:pt x="278" y="319"/>
                </a:lnTo>
                <a:lnTo>
                  <a:pt x="286" y="316"/>
                </a:lnTo>
                <a:lnTo>
                  <a:pt x="295" y="310"/>
                </a:lnTo>
                <a:lnTo>
                  <a:pt x="306" y="304"/>
                </a:lnTo>
                <a:lnTo>
                  <a:pt x="315" y="296"/>
                </a:lnTo>
                <a:lnTo>
                  <a:pt x="323" y="287"/>
                </a:lnTo>
                <a:lnTo>
                  <a:pt x="335" y="279"/>
                </a:lnTo>
                <a:lnTo>
                  <a:pt x="343" y="270"/>
                </a:lnTo>
                <a:lnTo>
                  <a:pt x="352" y="262"/>
                </a:lnTo>
                <a:lnTo>
                  <a:pt x="360" y="250"/>
                </a:lnTo>
                <a:lnTo>
                  <a:pt x="369" y="239"/>
                </a:lnTo>
                <a:lnTo>
                  <a:pt x="374" y="230"/>
                </a:lnTo>
                <a:lnTo>
                  <a:pt x="380" y="225"/>
                </a:lnTo>
                <a:lnTo>
                  <a:pt x="383" y="216"/>
                </a:lnTo>
                <a:lnTo>
                  <a:pt x="388" y="213"/>
                </a:lnTo>
                <a:lnTo>
                  <a:pt x="391" y="211"/>
                </a:lnTo>
                <a:lnTo>
                  <a:pt x="403" y="219"/>
                </a:lnTo>
                <a:lnTo>
                  <a:pt x="400" y="222"/>
                </a:lnTo>
                <a:lnTo>
                  <a:pt x="397" y="228"/>
                </a:lnTo>
                <a:lnTo>
                  <a:pt x="394" y="239"/>
                </a:lnTo>
                <a:lnTo>
                  <a:pt x="391" y="250"/>
                </a:lnTo>
                <a:lnTo>
                  <a:pt x="388" y="262"/>
                </a:lnTo>
                <a:lnTo>
                  <a:pt x="388" y="273"/>
                </a:lnTo>
                <a:lnTo>
                  <a:pt x="391" y="282"/>
                </a:lnTo>
                <a:lnTo>
                  <a:pt x="397" y="287"/>
                </a:lnTo>
                <a:lnTo>
                  <a:pt x="403" y="290"/>
                </a:lnTo>
                <a:lnTo>
                  <a:pt x="411" y="290"/>
                </a:lnTo>
                <a:lnTo>
                  <a:pt x="422" y="284"/>
                </a:lnTo>
                <a:lnTo>
                  <a:pt x="437" y="282"/>
                </a:lnTo>
                <a:lnTo>
                  <a:pt x="448" y="270"/>
                </a:lnTo>
                <a:lnTo>
                  <a:pt x="459" y="262"/>
                </a:lnTo>
                <a:lnTo>
                  <a:pt x="468" y="250"/>
                </a:lnTo>
                <a:lnTo>
                  <a:pt x="476" y="239"/>
                </a:lnTo>
                <a:lnTo>
                  <a:pt x="479" y="233"/>
                </a:lnTo>
                <a:lnTo>
                  <a:pt x="482" y="225"/>
                </a:lnTo>
                <a:lnTo>
                  <a:pt x="488" y="216"/>
                </a:lnTo>
                <a:lnTo>
                  <a:pt x="490" y="211"/>
                </a:lnTo>
                <a:lnTo>
                  <a:pt x="496" y="205"/>
                </a:lnTo>
                <a:lnTo>
                  <a:pt x="502" y="196"/>
                </a:lnTo>
                <a:lnTo>
                  <a:pt x="507" y="191"/>
                </a:lnTo>
                <a:lnTo>
                  <a:pt x="513" y="185"/>
                </a:lnTo>
                <a:lnTo>
                  <a:pt x="524" y="174"/>
                </a:lnTo>
                <a:lnTo>
                  <a:pt x="536" y="168"/>
                </a:lnTo>
                <a:lnTo>
                  <a:pt x="547" y="162"/>
                </a:lnTo>
                <a:lnTo>
                  <a:pt x="556" y="162"/>
                </a:lnTo>
                <a:lnTo>
                  <a:pt x="561" y="157"/>
                </a:lnTo>
                <a:lnTo>
                  <a:pt x="567" y="157"/>
                </a:lnTo>
                <a:lnTo>
                  <a:pt x="573" y="157"/>
                </a:lnTo>
                <a:lnTo>
                  <a:pt x="581" y="159"/>
                </a:lnTo>
                <a:lnTo>
                  <a:pt x="592" y="159"/>
                </a:lnTo>
                <a:lnTo>
                  <a:pt x="601" y="162"/>
                </a:lnTo>
                <a:lnTo>
                  <a:pt x="595" y="162"/>
                </a:lnTo>
                <a:lnTo>
                  <a:pt x="590" y="165"/>
                </a:lnTo>
                <a:lnTo>
                  <a:pt x="578" y="168"/>
                </a:lnTo>
                <a:lnTo>
                  <a:pt x="567" y="177"/>
                </a:lnTo>
                <a:lnTo>
                  <a:pt x="553" y="182"/>
                </a:lnTo>
                <a:lnTo>
                  <a:pt x="541" y="191"/>
                </a:lnTo>
                <a:lnTo>
                  <a:pt x="533" y="196"/>
                </a:lnTo>
                <a:lnTo>
                  <a:pt x="527" y="205"/>
                </a:lnTo>
                <a:lnTo>
                  <a:pt x="519" y="211"/>
                </a:lnTo>
                <a:lnTo>
                  <a:pt x="513" y="225"/>
                </a:lnTo>
                <a:lnTo>
                  <a:pt x="507" y="228"/>
                </a:lnTo>
                <a:lnTo>
                  <a:pt x="505" y="236"/>
                </a:lnTo>
                <a:lnTo>
                  <a:pt x="502" y="242"/>
                </a:lnTo>
                <a:lnTo>
                  <a:pt x="496" y="250"/>
                </a:lnTo>
                <a:lnTo>
                  <a:pt x="488" y="262"/>
                </a:lnTo>
                <a:lnTo>
                  <a:pt x="479" y="276"/>
                </a:lnTo>
                <a:lnTo>
                  <a:pt x="471" y="287"/>
                </a:lnTo>
                <a:lnTo>
                  <a:pt x="462" y="296"/>
                </a:lnTo>
                <a:lnTo>
                  <a:pt x="448" y="301"/>
                </a:lnTo>
                <a:lnTo>
                  <a:pt x="437" y="307"/>
                </a:lnTo>
                <a:lnTo>
                  <a:pt x="425" y="313"/>
                </a:lnTo>
                <a:lnTo>
                  <a:pt x="414" y="319"/>
                </a:lnTo>
                <a:lnTo>
                  <a:pt x="403" y="321"/>
                </a:lnTo>
                <a:lnTo>
                  <a:pt x="394" y="321"/>
                </a:lnTo>
                <a:lnTo>
                  <a:pt x="388" y="319"/>
                </a:lnTo>
                <a:lnTo>
                  <a:pt x="383" y="316"/>
                </a:lnTo>
                <a:lnTo>
                  <a:pt x="377" y="304"/>
                </a:lnTo>
                <a:lnTo>
                  <a:pt x="377" y="296"/>
                </a:lnTo>
                <a:lnTo>
                  <a:pt x="374" y="284"/>
                </a:lnTo>
                <a:lnTo>
                  <a:pt x="377" y="273"/>
                </a:lnTo>
                <a:lnTo>
                  <a:pt x="377" y="262"/>
                </a:lnTo>
                <a:lnTo>
                  <a:pt x="377" y="253"/>
                </a:lnTo>
                <a:lnTo>
                  <a:pt x="380" y="248"/>
                </a:lnTo>
                <a:lnTo>
                  <a:pt x="377" y="248"/>
                </a:lnTo>
                <a:lnTo>
                  <a:pt x="374" y="250"/>
                </a:lnTo>
                <a:lnTo>
                  <a:pt x="369" y="256"/>
                </a:lnTo>
                <a:lnTo>
                  <a:pt x="366" y="265"/>
                </a:lnTo>
                <a:lnTo>
                  <a:pt x="357" y="270"/>
                </a:lnTo>
                <a:lnTo>
                  <a:pt x="349" y="282"/>
                </a:lnTo>
                <a:lnTo>
                  <a:pt x="340" y="293"/>
                </a:lnTo>
                <a:lnTo>
                  <a:pt x="332" y="304"/>
                </a:lnTo>
                <a:lnTo>
                  <a:pt x="323" y="316"/>
                </a:lnTo>
                <a:lnTo>
                  <a:pt x="312" y="327"/>
                </a:lnTo>
                <a:lnTo>
                  <a:pt x="303" y="333"/>
                </a:lnTo>
                <a:lnTo>
                  <a:pt x="292" y="341"/>
                </a:lnTo>
                <a:lnTo>
                  <a:pt x="284" y="347"/>
                </a:lnTo>
                <a:lnTo>
                  <a:pt x="272" y="353"/>
                </a:lnTo>
                <a:lnTo>
                  <a:pt x="267" y="353"/>
                </a:lnTo>
                <a:lnTo>
                  <a:pt x="261" y="353"/>
                </a:lnTo>
                <a:lnTo>
                  <a:pt x="252" y="347"/>
                </a:lnTo>
                <a:lnTo>
                  <a:pt x="247" y="341"/>
                </a:lnTo>
                <a:lnTo>
                  <a:pt x="244" y="336"/>
                </a:lnTo>
                <a:lnTo>
                  <a:pt x="241" y="327"/>
                </a:lnTo>
                <a:lnTo>
                  <a:pt x="241" y="319"/>
                </a:lnTo>
                <a:lnTo>
                  <a:pt x="241" y="310"/>
                </a:lnTo>
                <a:lnTo>
                  <a:pt x="241" y="301"/>
                </a:lnTo>
                <a:lnTo>
                  <a:pt x="244" y="293"/>
                </a:lnTo>
                <a:lnTo>
                  <a:pt x="247" y="282"/>
                </a:lnTo>
                <a:lnTo>
                  <a:pt x="250" y="273"/>
                </a:lnTo>
                <a:lnTo>
                  <a:pt x="252" y="267"/>
                </a:lnTo>
                <a:lnTo>
                  <a:pt x="252" y="262"/>
                </a:lnTo>
                <a:lnTo>
                  <a:pt x="258" y="250"/>
                </a:lnTo>
                <a:lnTo>
                  <a:pt x="261" y="248"/>
                </a:lnTo>
                <a:lnTo>
                  <a:pt x="258" y="248"/>
                </a:lnTo>
                <a:lnTo>
                  <a:pt x="255" y="250"/>
                </a:lnTo>
                <a:lnTo>
                  <a:pt x="250" y="253"/>
                </a:lnTo>
                <a:lnTo>
                  <a:pt x="241" y="262"/>
                </a:lnTo>
                <a:lnTo>
                  <a:pt x="233" y="267"/>
                </a:lnTo>
                <a:lnTo>
                  <a:pt x="224" y="276"/>
                </a:lnTo>
                <a:lnTo>
                  <a:pt x="216" y="282"/>
                </a:lnTo>
                <a:lnTo>
                  <a:pt x="204" y="293"/>
                </a:lnTo>
                <a:lnTo>
                  <a:pt x="193" y="301"/>
                </a:lnTo>
                <a:lnTo>
                  <a:pt x="182" y="307"/>
                </a:lnTo>
                <a:lnTo>
                  <a:pt x="170" y="316"/>
                </a:lnTo>
                <a:lnTo>
                  <a:pt x="159" y="321"/>
                </a:lnTo>
                <a:lnTo>
                  <a:pt x="148" y="324"/>
                </a:lnTo>
                <a:lnTo>
                  <a:pt x="139" y="327"/>
                </a:lnTo>
                <a:lnTo>
                  <a:pt x="134" y="327"/>
                </a:lnTo>
                <a:lnTo>
                  <a:pt x="125" y="327"/>
                </a:lnTo>
                <a:lnTo>
                  <a:pt x="119" y="324"/>
                </a:lnTo>
                <a:lnTo>
                  <a:pt x="117" y="319"/>
                </a:lnTo>
                <a:lnTo>
                  <a:pt x="117" y="313"/>
                </a:lnTo>
                <a:lnTo>
                  <a:pt x="117" y="304"/>
                </a:lnTo>
                <a:lnTo>
                  <a:pt x="117" y="296"/>
                </a:lnTo>
                <a:lnTo>
                  <a:pt x="117" y="290"/>
                </a:lnTo>
                <a:lnTo>
                  <a:pt x="117" y="282"/>
                </a:lnTo>
                <a:lnTo>
                  <a:pt x="122" y="273"/>
                </a:lnTo>
                <a:lnTo>
                  <a:pt x="125" y="265"/>
                </a:lnTo>
                <a:lnTo>
                  <a:pt x="125" y="256"/>
                </a:lnTo>
                <a:lnTo>
                  <a:pt x="128" y="248"/>
                </a:lnTo>
                <a:lnTo>
                  <a:pt x="134" y="242"/>
                </a:lnTo>
                <a:lnTo>
                  <a:pt x="136" y="233"/>
                </a:lnTo>
                <a:lnTo>
                  <a:pt x="139" y="230"/>
                </a:lnTo>
                <a:lnTo>
                  <a:pt x="136" y="233"/>
                </a:lnTo>
                <a:lnTo>
                  <a:pt x="128" y="239"/>
                </a:lnTo>
                <a:lnTo>
                  <a:pt x="122" y="245"/>
                </a:lnTo>
                <a:lnTo>
                  <a:pt x="117" y="250"/>
                </a:lnTo>
                <a:lnTo>
                  <a:pt x="108" y="256"/>
                </a:lnTo>
                <a:lnTo>
                  <a:pt x="102" y="265"/>
                </a:lnTo>
                <a:lnTo>
                  <a:pt x="94" y="270"/>
                </a:lnTo>
                <a:lnTo>
                  <a:pt x="85" y="276"/>
                </a:lnTo>
                <a:lnTo>
                  <a:pt x="80" y="282"/>
                </a:lnTo>
                <a:lnTo>
                  <a:pt x="74" y="287"/>
                </a:lnTo>
                <a:lnTo>
                  <a:pt x="60" y="293"/>
                </a:lnTo>
                <a:lnTo>
                  <a:pt x="51" y="299"/>
                </a:lnTo>
                <a:lnTo>
                  <a:pt x="43" y="296"/>
                </a:lnTo>
                <a:lnTo>
                  <a:pt x="37" y="296"/>
                </a:lnTo>
                <a:lnTo>
                  <a:pt x="29" y="293"/>
                </a:lnTo>
                <a:lnTo>
                  <a:pt x="20" y="287"/>
                </a:lnTo>
                <a:lnTo>
                  <a:pt x="12" y="282"/>
                </a:lnTo>
                <a:lnTo>
                  <a:pt x="6" y="273"/>
                </a:lnTo>
                <a:lnTo>
                  <a:pt x="0" y="262"/>
                </a:lnTo>
                <a:lnTo>
                  <a:pt x="0" y="253"/>
                </a:lnTo>
                <a:lnTo>
                  <a:pt x="0" y="245"/>
                </a:lnTo>
                <a:lnTo>
                  <a:pt x="0" y="239"/>
                </a:lnTo>
                <a:lnTo>
                  <a:pt x="3" y="228"/>
                </a:lnTo>
                <a:lnTo>
                  <a:pt x="9" y="219"/>
                </a:lnTo>
                <a:lnTo>
                  <a:pt x="12" y="208"/>
                </a:lnTo>
                <a:lnTo>
                  <a:pt x="20" y="199"/>
                </a:lnTo>
                <a:lnTo>
                  <a:pt x="29" y="188"/>
                </a:lnTo>
                <a:lnTo>
                  <a:pt x="40" y="177"/>
                </a:lnTo>
                <a:lnTo>
                  <a:pt x="49" y="165"/>
                </a:lnTo>
                <a:lnTo>
                  <a:pt x="63" y="154"/>
                </a:lnTo>
                <a:lnTo>
                  <a:pt x="68" y="148"/>
                </a:lnTo>
                <a:lnTo>
                  <a:pt x="74" y="142"/>
                </a:lnTo>
                <a:lnTo>
                  <a:pt x="83" y="137"/>
                </a:lnTo>
                <a:lnTo>
                  <a:pt x="91" y="134"/>
                </a:lnTo>
                <a:lnTo>
                  <a:pt x="100" y="128"/>
                </a:lnTo>
                <a:lnTo>
                  <a:pt x="108" y="123"/>
                </a:lnTo>
                <a:lnTo>
                  <a:pt x="117" y="120"/>
                </a:lnTo>
                <a:lnTo>
                  <a:pt x="125" y="114"/>
                </a:lnTo>
                <a:lnTo>
                  <a:pt x="136" y="111"/>
                </a:lnTo>
                <a:lnTo>
                  <a:pt x="148" y="106"/>
                </a:lnTo>
                <a:lnTo>
                  <a:pt x="156" y="103"/>
                </a:lnTo>
                <a:lnTo>
                  <a:pt x="168" y="100"/>
                </a:lnTo>
                <a:lnTo>
                  <a:pt x="165" y="100"/>
                </a:lnTo>
                <a:lnTo>
                  <a:pt x="159" y="97"/>
                </a:lnTo>
                <a:lnTo>
                  <a:pt x="148" y="91"/>
                </a:lnTo>
                <a:lnTo>
                  <a:pt x="136" y="88"/>
                </a:lnTo>
                <a:lnTo>
                  <a:pt x="125" y="80"/>
                </a:lnTo>
                <a:lnTo>
                  <a:pt x="117" y="74"/>
                </a:lnTo>
                <a:lnTo>
                  <a:pt x="111" y="66"/>
                </a:lnTo>
                <a:lnTo>
                  <a:pt x="111" y="57"/>
                </a:lnTo>
                <a:lnTo>
                  <a:pt x="114" y="46"/>
                </a:lnTo>
                <a:lnTo>
                  <a:pt x="119" y="35"/>
                </a:lnTo>
                <a:lnTo>
                  <a:pt x="128" y="26"/>
                </a:lnTo>
                <a:lnTo>
                  <a:pt x="136" y="15"/>
                </a:lnTo>
                <a:lnTo>
                  <a:pt x="145" y="6"/>
                </a:lnTo>
                <a:lnTo>
                  <a:pt x="153" y="3"/>
                </a:lnTo>
                <a:lnTo>
                  <a:pt x="159" y="0"/>
                </a:lnTo>
                <a:lnTo>
                  <a:pt x="165" y="3"/>
                </a:lnTo>
                <a:lnTo>
                  <a:pt x="168" y="6"/>
                </a:lnTo>
                <a:lnTo>
                  <a:pt x="168" y="15"/>
                </a:lnTo>
                <a:lnTo>
                  <a:pt x="165" y="20"/>
                </a:lnTo>
                <a:lnTo>
                  <a:pt x="165" y="26"/>
                </a:lnTo>
                <a:lnTo>
                  <a:pt x="162" y="26"/>
                </a:lnTo>
                <a:lnTo>
                  <a:pt x="156" y="35"/>
                </a:lnTo>
                <a:lnTo>
                  <a:pt x="151" y="43"/>
                </a:lnTo>
                <a:lnTo>
                  <a:pt x="153" y="54"/>
                </a:lnTo>
                <a:lnTo>
                  <a:pt x="156" y="57"/>
                </a:lnTo>
                <a:lnTo>
                  <a:pt x="162" y="63"/>
                </a:lnTo>
                <a:lnTo>
                  <a:pt x="170" y="69"/>
                </a:lnTo>
                <a:lnTo>
                  <a:pt x="182" y="74"/>
                </a:lnTo>
                <a:lnTo>
                  <a:pt x="190" y="80"/>
                </a:lnTo>
                <a:lnTo>
                  <a:pt x="199" y="83"/>
                </a:lnTo>
                <a:lnTo>
                  <a:pt x="204" y="86"/>
                </a:lnTo>
                <a:lnTo>
                  <a:pt x="207" y="86"/>
                </a:lnTo>
                <a:lnTo>
                  <a:pt x="210" y="86"/>
                </a:lnTo>
                <a:lnTo>
                  <a:pt x="219" y="83"/>
                </a:lnTo>
                <a:lnTo>
                  <a:pt x="224" y="80"/>
                </a:lnTo>
                <a:lnTo>
                  <a:pt x="230" y="80"/>
                </a:lnTo>
                <a:lnTo>
                  <a:pt x="238" y="80"/>
                </a:lnTo>
                <a:lnTo>
                  <a:pt x="250" y="80"/>
                </a:lnTo>
                <a:lnTo>
                  <a:pt x="258" y="77"/>
                </a:lnTo>
                <a:lnTo>
                  <a:pt x="269" y="77"/>
                </a:lnTo>
                <a:lnTo>
                  <a:pt x="281" y="77"/>
                </a:lnTo>
                <a:lnTo>
                  <a:pt x="292" y="77"/>
                </a:lnTo>
                <a:lnTo>
                  <a:pt x="303" y="77"/>
                </a:lnTo>
                <a:lnTo>
                  <a:pt x="318" y="80"/>
                </a:lnTo>
                <a:lnTo>
                  <a:pt x="329" y="80"/>
                </a:lnTo>
                <a:lnTo>
                  <a:pt x="343" y="83"/>
                </a:lnTo>
                <a:lnTo>
                  <a:pt x="354" y="86"/>
                </a:lnTo>
                <a:lnTo>
                  <a:pt x="366" y="88"/>
                </a:lnTo>
                <a:lnTo>
                  <a:pt x="377" y="88"/>
                </a:lnTo>
                <a:lnTo>
                  <a:pt x="388" y="91"/>
                </a:lnTo>
                <a:lnTo>
                  <a:pt x="397" y="94"/>
                </a:lnTo>
                <a:lnTo>
                  <a:pt x="408" y="97"/>
                </a:lnTo>
                <a:lnTo>
                  <a:pt x="414" y="100"/>
                </a:lnTo>
                <a:lnTo>
                  <a:pt x="422" y="100"/>
                </a:lnTo>
                <a:lnTo>
                  <a:pt x="431" y="103"/>
                </a:lnTo>
                <a:lnTo>
                  <a:pt x="434" y="106"/>
                </a:lnTo>
                <a:lnTo>
                  <a:pt x="439" y="106"/>
                </a:lnTo>
                <a:lnTo>
                  <a:pt x="445" y="108"/>
                </a:lnTo>
                <a:lnTo>
                  <a:pt x="445" y="111"/>
                </a:lnTo>
                <a:lnTo>
                  <a:pt x="445" y="117"/>
                </a:lnTo>
                <a:lnTo>
                  <a:pt x="437" y="117"/>
                </a:lnTo>
                <a:lnTo>
                  <a:pt x="425" y="117"/>
                </a:lnTo>
                <a:lnTo>
                  <a:pt x="417" y="117"/>
                </a:lnTo>
                <a:lnTo>
                  <a:pt x="411" y="117"/>
                </a:lnTo>
                <a:lnTo>
                  <a:pt x="403" y="114"/>
                </a:lnTo>
                <a:lnTo>
                  <a:pt x="394" y="114"/>
                </a:lnTo>
                <a:lnTo>
                  <a:pt x="388" y="114"/>
                </a:lnTo>
                <a:lnTo>
                  <a:pt x="380" y="111"/>
                </a:lnTo>
                <a:lnTo>
                  <a:pt x="371" y="111"/>
                </a:lnTo>
                <a:lnTo>
                  <a:pt x="369" y="111"/>
                </a:lnTo>
                <a:lnTo>
                  <a:pt x="360" y="111"/>
                </a:lnTo>
                <a:lnTo>
                  <a:pt x="357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26"/>
          <p:cNvSpPr/>
          <p:nvPr/>
        </p:nvSpPr>
        <p:spPr>
          <a:xfrm>
            <a:off x="5064120" y="4237200"/>
            <a:ext cx="4867200" cy="2971800"/>
          </a:xfrm>
          <a:custGeom>
            <a:avLst/>
            <a:gdLst>
              <a:gd name="textAreaLeft" fmla="*/ 0 w 4867200"/>
              <a:gd name="textAreaRight" fmla="*/ 4867560 w 48672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3549" h="2127">
                <a:moveTo>
                  <a:pt x="1790" y="420"/>
                </a:moveTo>
                <a:lnTo>
                  <a:pt x="1793" y="420"/>
                </a:lnTo>
                <a:lnTo>
                  <a:pt x="1799" y="420"/>
                </a:lnTo>
                <a:lnTo>
                  <a:pt x="1807" y="423"/>
                </a:lnTo>
                <a:lnTo>
                  <a:pt x="1816" y="423"/>
                </a:lnTo>
                <a:lnTo>
                  <a:pt x="1824" y="426"/>
                </a:lnTo>
                <a:lnTo>
                  <a:pt x="1836" y="429"/>
                </a:lnTo>
                <a:lnTo>
                  <a:pt x="1850" y="432"/>
                </a:lnTo>
                <a:lnTo>
                  <a:pt x="1858" y="434"/>
                </a:lnTo>
                <a:lnTo>
                  <a:pt x="1870" y="440"/>
                </a:lnTo>
                <a:lnTo>
                  <a:pt x="1881" y="443"/>
                </a:lnTo>
                <a:lnTo>
                  <a:pt x="1892" y="446"/>
                </a:lnTo>
                <a:lnTo>
                  <a:pt x="1901" y="451"/>
                </a:lnTo>
                <a:lnTo>
                  <a:pt x="1909" y="457"/>
                </a:lnTo>
                <a:lnTo>
                  <a:pt x="1915" y="463"/>
                </a:lnTo>
                <a:lnTo>
                  <a:pt x="1921" y="468"/>
                </a:lnTo>
                <a:lnTo>
                  <a:pt x="2062" y="486"/>
                </a:lnTo>
                <a:lnTo>
                  <a:pt x="2059" y="486"/>
                </a:lnTo>
                <a:lnTo>
                  <a:pt x="2056" y="488"/>
                </a:lnTo>
                <a:lnTo>
                  <a:pt x="2051" y="494"/>
                </a:lnTo>
                <a:lnTo>
                  <a:pt x="2045" y="500"/>
                </a:lnTo>
                <a:lnTo>
                  <a:pt x="2034" y="505"/>
                </a:lnTo>
                <a:lnTo>
                  <a:pt x="2025" y="514"/>
                </a:lnTo>
                <a:lnTo>
                  <a:pt x="2011" y="525"/>
                </a:lnTo>
                <a:lnTo>
                  <a:pt x="2000" y="537"/>
                </a:lnTo>
                <a:lnTo>
                  <a:pt x="1991" y="539"/>
                </a:lnTo>
                <a:lnTo>
                  <a:pt x="1983" y="548"/>
                </a:lnTo>
                <a:lnTo>
                  <a:pt x="1977" y="551"/>
                </a:lnTo>
                <a:lnTo>
                  <a:pt x="1969" y="559"/>
                </a:lnTo>
                <a:lnTo>
                  <a:pt x="1960" y="565"/>
                </a:lnTo>
                <a:lnTo>
                  <a:pt x="1952" y="571"/>
                </a:lnTo>
                <a:lnTo>
                  <a:pt x="1943" y="579"/>
                </a:lnTo>
                <a:lnTo>
                  <a:pt x="1935" y="588"/>
                </a:lnTo>
                <a:lnTo>
                  <a:pt x="1926" y="593"/>
                </a:lnTo>
                <a:lnTo>
                  <a:pt x="1915" y="602"/>
                </a:lnTo>
                <a:lnTo>
                  <a:pt x="1906" y="608"/>
                </a:lnTo>
                <a:lnTo>
                  <a:pt x="1898" y="616"/>
                </a:lnTo>
                <a:lnTo>
                  <a:pt x="1887" y="625"/>
                </a:lnTo>
                <a:lnTo>
                  <a:pt x="1878" y="633"/>
                </a:lnTo>
                <a:lnTo>
                  <a:pt x="1870" y="642"/>
                </a:lnTo>
                <a:lnTo>
                  <a:pt x="1861" y="650"/>
                </a:lnTo>
                <a:lnTo>
                  <a:pt x="1850" y="656"/>
                </a:lnTo>
                <a:lnTo>
                  <a:pt x="1841" y="664"/>
                </a:lnTo>
                <a:lnTo>
                  <a:pt x="1830" y="673"/>
                </a:lnTo>
                <a:lnTo>
                  <a:pt x="1819" y="681"/>
                </a:lnTo>
                <a:lnTo>
                  <a:pt x="1810" y="687"/>
                </a:lnTo>
                <a:lnTo>
                  <a:pt x="1802" y="699"/>
                </a:lnTo>
                <a:lnTo>
                  <a:pt x="1790" y="704"/>
                </a:lnTo>
                <a:lnTo>
                  <a:pt x="1785" y="713"/>
                </a:lnTo>
                <a:lnTo>
                  <a:pt x="1773" y="721"/>
                </a:lnTo>
                <a:lnTo>
                  <a:pt x="1765" y="730"/>
                </a:lnTo>
                <a:lnTo>
                  <a:pt x="1756" y="738"/>
                </a:lnTo>
                <a:lnTo>
                  <a:pt x="1748" y="747"/>
                </a:lnTo>
                <a:lnTo>
                  <a:pt x="1736" y="752"/>
                </a:lnTo>
                <a:lnTo>
                  <a:pt x="1731" y="761"/>
                </a:lnTo>
                <a:lnTo>
                  <a:pt x="1722" y="770"/>
                </a:lnTo>
                <a:lnTo>
                  <a:pt x="1714" y="778"/>
                </a:lnTo>
                <a:lnTo>
                  <a:pt x="1705" y="784"/>
                </a:lnTo>
                <a:lnTo>
                  <a:pt x="1700" y="789"/>
                </a:lnTo>
                <a:lnTo>
                  <a:pt x="1691" y="795"/>
                </a:lnTo>
                <a:lnTo>
                  <a:pt x="1685" y="804"/>
                </a:lnTo>
                <a:lnTo>
                  <a:pt x="1671" y="815"/>
                </a:lnTo>
                <a:lnTo>
                  <a:pt x="1660" y="829"/>
                </a:lnTo>
                <a:lnTo>
                  <a:pt x="1651" y="841"/>
                </a:lnTo>
                <a:lnTo>
                  <a:pt x="1643" y="849"/>
                </a:lnTo>
                <a:lnTo>
                  <a:pt x="1637" y="860"/>
                </a:lnTo>
                <a:lnTo>
                  <a:pt x="1634" y="869"/>
                </a:lnTo>
                <a:lnTo>
                  <a:pt x="1634" y="866"/>
                </a:lnTo>
                <a:lnTo>
                  <a:pt x="1632" y="866"/>
                </a:lnTo>
                <a:lnTo>
                  <a:pt x="1626" y="866"/>
                </a:lnTo>
                <a:lnTo>
                  <a:pt x="1620" y="866"/>
                </a:lnTo>
                <a:lnTo>
                  <a:pt x="1612" y="863"/>
                </a:lnTo>
                <a:lnTo>
                  <a:pt x="1603" y="863"/>
                </a:lnTo>
                <a:lnTo>
                  <a:pt x="1592" y="860"/>
                </a:lnTo>
                <a:lnTo>
                  <a:pt x="1581" y="860"/>
                </a:lnTo>
                <a:lnTo>
                  <a:pt x="1564" y="860"/>
                </a:lnTo>
                <a:lnTo>
                  <a:pt x="1550" y="858"/>
                </a:lnTo>
                <a:lnTo>
                  <a:pt x="1533" y="858"/>
                </a:lnTo>
                <a:lnTo>
                  <a:pt x="1516" y="855"/>
                </a:lnTo>
                <a:lnTo>
                  <a:pt x="1496" y="852"/>
                </a:lnTo>
                <a:lnTo>
                  <a:pt x="1479" y="852"/>
                </a:lnTo>
                <a:lnTo>
                  <a:pt x="1456" y="849"/>
                </a:lnTo>
                <a:lnTo>
                  <a:pt x="1436" y="849"/>
                </a:lnTo>
                <a:lnTo>
                  <a:pt x="1411" y="846"/>
                </a:lnTo>
                <a:lnTo>
                  <a:pt x="1385" y="843"/>
                </a:lnTo>
                <a:lnTo>
                  <a:pt x="1360" y="841"/>
                </a:lnTo>
                <a:lnTo>
                  <a:pt x="1334" y="838"/>
                </a:lnTo>
                <a:lnTo>
                  <a:pt x="1306" y="838"/>
                </a:lnTo>
                <a:lnTo>
                  <a:pt x="1278" y="835"/>
                </a:lnTo>
                <a:lnTo>
                  <a:pt x="1249" y="832"/>
                </a:lnTo>
                <a:lnTo>
                  <a:pt x="1224" y="829"/>
                </a:lnTo>
                <a:lnTo>
                  <a:pt x="1193" y="826"/>
                </a:lnTo>
                <a:lnTo>
                  <a:pt x="1162" y="826"/>
                </a:lnTo>
                <a:lnTo>
                  <a:pt x="1130" y="821"/>
                </a:lnTo>
                <a:lnTo>
                  <a:pt x="1099" y="821"/>
                </a:lnTo>
                <a:lnTo>
                  <a:pt x="1068" y="818"/>
                </a:lnTo>
                <a:lnTo>
                  <a:pt x="1034" y="815"/>
                </a:lnTo>
                <a:lnTo>
                  <a:pt x="1003" y="812"/>
                </a:lnTo>
                <a:lnTo>
                  <a:pt x="972" y="812"/>
                </a:lnTo>
                <a:lnTo>
                  <a:pt x="938" y="806"/>
                </a:lnTo>
                <a:lnTo>
                  <a:pt x="904" y="806"/>
                </a:lnTo>
                <a:lnTo>
                  <a:pt x="870" y="804"/>
                </a:lnTo>
                <a:lnTo>
                  <a:pt x="836" y="801"/>
                </a:lnTo>
                <a:lnTo>
                  <a:pt x="802" y="798"/>
                </a:lnTo>
                <a:lnTo>
                  <a:pt x="771" y="798"/>
                </a:lnTo>
                <a:lnTo>
                  <a:pt x="737" y="795"/>
                </a:lnTo>
                <a:lnTo>
                  <a:pt x="703" y="795"/>
                </a:lnTo>
                <a:lnTo>
                  <a:pt x="669" y="792"/>
                </a:lnTo>
                <a:lnTo>
                  <a:pt x="635" y="789"/>
                </a:lnTo>
                <a:lnTo>
                  <a:pt x="601" y="787"/>
                </a:lnTo>
                <a:lnTo>
                  <a:pt x="567" y="787"/>
                </a:lnTo>
                <a:lnTo>
                  <a:pt x="536" y="784"/>
                </a:lnTo>
                <a:lnTo>
                  <a:pt x="504" y="784"/>
                </a:lnTo>
                <a:lnTo>
                  <a:pt x="473" y="781"/>
                </a:lnTo>
                <a:lnTo>
                  <a:pt x="442" y="781"/>
                </a:lnTo>
                <a:lnTo>
                  <a:pt x="411" y="781"/>
                </a:lnTo>
                <a:lnTo>
                  <a:pt x="380" y="778"/>
                </a:lnTo>
                <a:lnTo>
                  <a:pt x="351" y="778"/>
                </a:lnTo>
                <a:lnTo>
                  <a:pt x="323" y="778"/>
                </a:lnTo>
                <a:lnTo>
                  <a:pt x="295" y="778"/>
                </a:lnTo>
                <a:lnTo>
                  <a:pt x="267" y="778"/>
                </a:lnTo>
                <a:lnTo>
                  <a:pt x="241" y="778"/>
                </a:lnTo>
                <a:lnTo>
                  <a:pt x="216" y="778"/>
                </a:lnTo>
                <a:lnTo>
                  <a:pt x="190" y="778"/>
                </a:lnTo>
                <a:lnTo>
                  <a:pt x="167" y="778"/>
                </a:lnTo>
                <a:lnTo>
                  <a:pt x="145" y="778"/>
                </a:lnTo>
                <a:lnTo>
                  <a:pt x="122" y="781"/>
                </a:lnTo>
                <a:lnTo>
                  <a:pt x="102" y="781"/>
                </a:lnTo>
                <a:lnTo>
                  <a:pt x="85" y="784"/>
                </a:lnTo>
                <a:lnTo>
                  <a:pt x="65" y="784"/>
                </a:lnTo>
                <a:lnTo>
                  <a:pt x="51" y="787"/>
                </a:lnTo>
                <a:lnTo>
                  <a:pt x="485" y="457"/>
                </a:lnTo>
                <a:lnTo>
                  <a:pt x="677" y="460"/>
                </a:lnTo>
                <a:lnTo>
                  <a:pt x="700" y="437"/>
                </a:lnTo>
                <a:lnTo>
                  <a:pt x="530" y="437"/>
                </a:lnTo>
                <a:lnTo>
                  <a:pt x="1283" y="139"/>
                </a:lnTo>
                <a:lnTo>
                  <a:pt x="1300" y="102"/>
                </a:lnTo>
                <a:lnTo>
                  <a:pt x="470" y="420"/>
                </a:lnTo>
                <a:lnTo>
                  <a:pt x="459" y="451"/>
                </a:lnTo>
                <a:lnTo>
                  <a:pt x="456" y="451"/>
                </a:lnTo>
                <a:lnTo>
                  <a:pt x="453" y="454"/>
                </a:lnTo>
                <a:lnTo>
                  <a:pt x="445" y="457"/>
                </a:lnTo>
                <a:lnTo>
                  <a:pt x="439" y="466"/>
                </a:lnTo>
                <a:lnTo>
                  <a:pt x="428" y="471"/>
                </a:lnTo>
                <a:lnTo>
                  <a:pt x="417" y="480"/>
                </a:lnTo>
                <a:lnTo>
                  <a:pt x="408" y="483"/>
                </a:lnTo>
                <a:lnTo>
                  <a:pt x="400" y="491"/>
                </a:lnTo>
                <a:lnTo>
                  <a:pt x="394" y="494"/>
                </a:lnTo>
                <a:lnTo>
                  <a:pt x="388" y="503"/>
                </a:lnTo>
                <a:lnTo>
                  <a:pt x="377" y="505"/>
                </a:lnTo>
                <a:lnTo>
                  <a:pt x="368" y="514"/>
                </a:lnTo>
                <a:lnTo>
                  <a:pt x="360" y="517"/>
                </a:lnTo>
                <a:lnTo>
                  <a:pt x="351" y="525"/>
                </a:lnTo>
                <a:lnTo>
                  <a:pt x="340" y="531"/>
                </a:lnTo>
                <a:lnTo>
                  <a:pt x="332" y="537"/>
                </a:lnTo>
                <a:lnTo>
                  <a:pt x="320" y="545"/>
                </a:lnTo>
                <a:lnTo>
                  <a:pt x="312" y="554"/>
                </a:lnTo>
                <a:lnTo>
                  <a:pt x="301" y="559"/>
                </a:lnTo>
                <a:lnTo>
                  <a:pt x="292" y="568"/>
                </a:lnTo>
                <a:lnTo>
                  <a:pt x="281" y="576"/>
                </a:lnTo>
                <a:lnTo>
                  <a:pt x="272" y="582"/>
                </a:lnTo>
                <a:lnTo>
                  <a:pt x="261" y="591"/>
                </a:lnTo>
                <a:lnTo>
                  <a:pt x="250" y="599"/>
                </a:lnTo>
                <a:lnTo>
                  <a:pt x="238" y="605"/>
                </a:lnTo>
                <a:lnTo>
                  <a:pt x="230" y="613"/>
                </a:lnTo>
                <a:lnTo>
                  <a:pt x="218" y="622"/>
                </a:lnTo>
                <a:lnTo>
                  <a:pt x="207" y="630"/>
                </a:lnTo>
                <a:lnTo>
                  <a:pt x="196" y="636"/>
                </a:lnTo>
                <a:lnTo>
                  <a:pt x="184" y="645"/>
                </a:lnTo>
                <a:lnTo>
                  <a:pt x="173" y="653"/>
                </a:lnTo>
                <a:lnTo>
                  <a:pt x="165" y="659"/>
                </a:lnTo>
                <a:lnTo>
                  <a:pt x="153" y="667"/>
                </a:lnTo>
                <a:lnTo>
                  <a:pt x="145" y="676"/>
                </a:lnTo>
                <a:lnTo>
                  <a:pt x="133" y="681"/>
                </a:lnTo>
                <a:lnTo>
                  <a:pt x="122" y="690"/>
                </a:lnTo>
                <a:lnTo>
                  <a:pt x="114" y="696"/>
                </a:lnTo>
                <a:lnTo>
                  <a:pt x="105" y="704"/>
                </a:lnTo>
                <a:lnTo>
                  <a:pt x="94" y="710"/>
                </a:lnTo>
                <a:lnTo>
                  <a:pt x="85" y="716"/>
                </a:lnTo>
                <a:lnTo>
                  <a:pt x="80" y="721"/>
                </a:lnTo>
                <a:lnTo>
                  <a:pt x="71" y="730"/>
                </a:lnTo>
                <a:lnTo>
                  <a:pt x="63" y="735"/>
                </a:lnTo>
                <a:lnTo>
                  <a:pt x="54" y="741"/>
                </a:lnTo>
                <a:lnTo>
                  <a:pt x="48" y="744"/>
                </a:lnTo>
                <a:lnTo>
                  <a:pt x="40" y="752"/>
                </a:lnTo>
                <a:lnTo>
                  <a:pt x="29" y="761"/>
                </a:lnTo>
                <a:lnTo>
                  <a:pt x="20" y="770"/>
                </a:lnTo>
                <a:lnTo>
                  <a:pt x="12" y="775"/>
                </a:lnTo>
                <a:lnTo>
                  <a:pt x="6" y="784"/>
                </a:lnTo>
                <a:lnTo>
                  <a:pt x="0" y="787"/>
                </a:lnTo>
                <a:lnTo>
                  <a:pt x="3" y="789"/>
                </a:lnTo>
                <a:lnTo>
                  <a:pt x="3" y="795"/>
                </a:lnTo>
                <a:lnTo>
                  <a:pt x="6" y="804"/>
                </a:lnTo>
                <a:lnTo>
                  <a:pt x="6" y="812"/>
                </a:lnTo>
                <a:lnTo>
                  <a:pt x="12" y="818"/>
                </a:lnTo>
                <a:lnTo>
                  <a:pt x="14" y="823"/>
                </a:lnTo>
                <a:lnTo>
                  <a:pt x="17" y="829"/>
                </a:lnTo>
                <a:lnTo>
                  <a:pt x="23" y="829"/>
                </a:lnTo>
                <a:lnTo>
                  <a:pt x="31" y="829"/>
                </a:lnTo>
                <a:lnTo>
                  <a:pt x="34" y="826"/>
                </a:lnTo>
                <a:lnTo>
                  <a:pt x="40" y="826"/>
                </a:lnTo>
                <a:lnTo>
                  <a:pt x="48" y="826"/>
                </a:lnTo>
                <a:lnTo>
                  <a:pt x="60" y="826"/>
                </a:lnTo>
                <a:lnTo>
                  <a:pt x="63" y="823"/>
                </a:lnTo>
                <a:lnTo>
                  <a:pt x="71" y="823"/>
                </a:lnTo>
                <a:lnTo>
                  <a:pt x="80" y="823"/>
                </a:lnTo>
                <a:lnTo>
                  <a:pt x="88" y="823"/>
                </a:lnTo>
                <a:lnTo>
                  <a:pt x="94" y="823"/>
                </a:lnTo>
                <a:lnTo>
                  <a:pt x="105" y="823"/>
                </a:lnTo>
                <a:lnTo>
                  <a:pt x="114" y="823"/>
                </a:lnTo>
                <a:lnTo>
                  <a:pt x="125" y="823"/>
                </a:lnTo>
                <a:lnTo>
                  <a:pt x="133" y="821"/>
                </a:lnTo>
                <a:lnTo>
                  <a:pt x="145" y="821"/>
                </a:lnTo>
                <a:lnTo>
                  <a:pt x="156" y="821"/>
                </a:lnTo>
                <a:lnTo>
                  <a:pt x="167" y="821"/>
                </a:lnTo>
                <a:lnTo>
                  <a:pt x="179" y="818"/>
                </a:lnTo>
                <a:lnTo>
                  <a:pt x="190" y="818"/>
                </a:lnTo>
                <a:lnTo>
                  <a:pt x="201" y="818"/>
                </a:lnTo>
                <a:lnTo>
                  <a:pt x="216" y="818"/>
                </a:lnTo>
                <a:lnTo>
                  <a:pt x="227" y="818"/>
                </a:lnTo>
                <a:lnTo>
                  <a:pt x="241" y="818"/>
                </a:lnTo>
                <a:lnTo>
                  <a:pt x="252" y="818"/>
                </a:lnTo>
                <a:lnTo>
                  <a:pt x="269" y="818"/>
                </a:lnTo>
                <a:lnTo>
                  <a:pt x="284" y="818"/>
                </a:lnTo>
                <a:lnTo>
                  <a:pt x="295" y="818"/>
                </a:lnTo>
                <a:lnTo>
                  <a:pt x="309" y="818"/>
                </a:lnTo>
                <a:lnTo>
                  <a:pt x="326" y="818"/>
                </a:lnTo>
                <a:lnTo>
                  <a:pt x="337" y="815"/>
                </a:lnTo>
                <a:lnTo>
                  <a:pt x="351" y="815"/>
                </a:lnTo>
                <a:lnTo>
                  <a:pt x="366" y="815"/>
                </a:lnTo>
                <a:lnTo>
                  <a:pt x="380" y="815"/>
                </a:lnTo>
                <a:lnTo>
                  <a:pt x="394" y="815"/>
                </a:lnTo>
                <a:lnTo>
                  <a:pt x="408" y="815"/>
                </a:lnTo>
                <a:lnTo>
                  <a:pt x="422" y="815"/>
                </a:lnTo>
                <a:lnTo>
                  <a:pt x="436" y="815"/>
                </a:lnTo>
                <a:lnTo>
                  <a:pt x="451" y="815"/>
                </a:lnTo>
                <a:lnTo>
                  <a:pt x="465" y="815"/>
                </a:lnTo>
                <a:lnTo>
                  <a:pt x="479" y="815"/>
                </a:lnTo>
                <a:lnTo>
                  <a:pt x="493" y="815"/>
                </a:lnTo>
                <a:lnTo>
                  <a:pt x="504" y="815"/>
                </a:lnTo>
                <a:lnTo>
                  <a:pt x="519" y="815"/>
                </a:lnTo>
                <a:lnTo>
                  <a:pt x="533" y="815"/>
                </a:lnTo>
                <a:lnTo>
                  <a:pt x="547" y="815"/>
                </a:lnTo>
                <a:lnTo>
                  <a:pt x="558" y="815"/>
                </a:lnTo>
                <a:lnTo>
                  <a:pt x="570" y="815"/>
                </a:lnTo>
                <a:lnTo>
                  <a:pt x="584" y="815"/>
                </a:lnTo>
                <a:lnTo>
                  <a:pt x="595" y="815"/>
                </a:lnTo>
                <a:lnTo>
                  <a:pt x="606" y="815"/>
                </a:lnTo>
                <a:lnTo>
                  <a:pt x="618" y="815"/>
                </a:lnTo>
                <a:lnTo>
                  <a:pt x="629" y="815"/>
                </a:lnTo>
                <a:lnTo>
                  <a:pt x="640" y="815"/>
                </a:lnTo>
                <a:lnTo>
                  <a:pt x="652" y="815"/>
                </a:lnTo>
                <a:lnTo>
                  <a:pt x="660" y="815"/>
                </a:lnTo>
                <a:lnTo>
                  <a:pt x="672" y="815"/>
                </a:lnTo>
                <a:lnTo>
                  <a:pt x="680" y="815"/>
                </a:lnTo>
                <a:lnTo>
                  <a:pt x="689" y="815"/>
                </a:lnTo>
                <a:lnTo>
                  <a:pt x="697" y="818"/>
                </a:lnTo>
                <a:lnTo>
                  <a:pt x="706" y="818"/>
                </a:lnTo>
                <a:lnTo>
                  <a:pt x="714" y="818"/>
                </a:lnTo>
                <a:lnTo>
                  <a:pt x="720" y="818"/>
                </a:lnTo>
                <a:lnTo>
                  <a:pt x="728" y="818"/>
                </a:lnTo>
                <a:lnTo>
                  <a:pt x="734" y="818"/>
                </a:lnTo>
                <a:lnTo>
                  <a:pt x="745" y="818"/>
                </a:lnTo>
                <a:lnTo>
                  <a:pt x="754" y="818"/>
                </a:lnTo>
                <a:lnTo>
                  <a:pt x="765" y="821"/>
                </a:lnTo>
                <a:lnTo>
                  <a:pt x="776" y="821"/>
                </a:lnTo>
                <a:lnTo>
                  <a:pt x="790" y="823"/>
                </a:lnTo>
                <a:lnTo>
                  <a:pt x="802" y="823"/>
                </a:lnTo>
                <a:lnTo>
                  <a:pt x="813" y="823"/>
                </a:lnTo>
                <a:lnTo>
                  <a:pt x="830" y="823"/>
                </a:lnTo>
                <a:lnTo>
                  <a:pt x="844" y="826"/>
                </a:lnTo>
                <a:lnTo>
                  <a:pt x="858" y="826"/>
                </a:lnTo>
                <a:lnTo>
                  <a:pt x="873" y="826"/>
                </a:lnTo>
                <a:lnTo>
                  <a:pt x="890" y="826"/>
                </a:lnTo>
                <a:lnTo>
                  <a:pt x="907" y="829"/>
                </a:lnTo>
                <a:lnTo>
                  <a:pt x="921" y="829"/>
                </a:lnTo>
                <a:lnTo>
                  <a:pt x="941" y="832"/>
                </a:lnTo>
                <a:lnTo>
                  <a:pt x="955" y="832"/>
                </a:lnTo>
                <a:lnTo>
                  <a:pt x="975" y="835"/>
                </a:lnTo>
                <a:lnTo>
                  <a:pt x="992" y="835"/>
                </a:lnTo>
                <a:lnTo>
                  <a:pt x="1011" y="835"/>
                </a:lnTo>
                <a:lnTo>
                  <a:pt x="1028" y="838"/>
                </a:lnTo>
                <a:lnTo>
                  <a:pt x="1048" y="838"/>
                </a:lnTo>
                <a:lnTo>
                  <a:pt x="1065" y="841"/>
                </a:lnTo>
                <a:lnTo>
                  <a:pt x="1085" y="841"/>
                </a:lnTo>
                <a:lnTo>
                  <a:pt x="1105" y="843"/>
                </a:lnTo>
                <a:lnTo>
                  <a:pt x="1125" y="846"/>
                </a:lnTo>
                <a:lnTo>
                  <a:pt x="1142" y="846"/>
                </a:lnTo>
                <a:lnTo>
                  <a:pt x="1162" y="849"/>
                </a:lnTo>
                <a:lnTo>
                  <a:pt x="1181" y="849"/>
                </a:lnTo>
                <a:lnTo>
                  <a:pt x="1201" y="852"/>
                </a:lnTo>
                <a:lnTo>
                  <a:pt x="1221" y="852"/>
                </a:lnTo>
                <a:lnTo>
                  <a:pt x="1238" y="855"/>
                </a:lnTo>
                <a:lnTo>
                  <a:pt x="1258" y="858"/>
                </a:lnTo>
                <a:lnTo>
                  <a:pt x="1278" y="860"/>
                </a:lnTo>
                <a:lnTo>
                  <a:pt x="1295" y="860"/>
                </a:lnTo>
                <a:lnTo>
                  <a:pt x="1312" y="860"/>
                </a:lnTo>
                <a:lnTo>
                  <a:pt x="1331" y="863"/>
                </a:lnTo>
                <a:lnTo>
                  <a:pt x="1351" y="866"/>
                </a:lnTo>
                <a:lnTo>
                  <a:pt x="1365" y="866"/>
                </a:lnTo>
                <a:lnTo>
                  <a:pt x="1385" y="869"/>
                </a:lnTo>
                <a:lnTo>
                  <a:pt x="1402" y="872"/>
                </a:lnTo>
                <a:lnTo>
                  <a:pt x="1419" y="872"/>
                </a:lnTo>
                <a:lnTo>
                  <a:pt x="1436" y="875"/>
                </a:lnTo>
                <a:lnTo>
                  <a:pt x="1450" y="877"/>
                </a:lnTo>
                <a:lnTo>
                  <a:pt x="1467" y="877"/>
                </a:lnTo>
                <a:lnTo>
                  <a:pt x="1482" y="880"/>
                </a:lnTo>
                <a:lnTo>
                  <a:pt x="1496" y="880"/>
                </a:lnTo>
                <a:lnTo>
                  <a:pt x="1510" y="883"/>
                </a:lnTo>
                <a:lnTo>
                  <a:pt x="1521" y="886"/>
                </a:lnTo>
                <a:lnTo>
                  <a:pt x="1535" y="889"/>
                </a:lnTo>
                <a:lnTo>
                  <a:pt x="1547" y="889"/>
                </a:lnTo>
                <a:lnTo>
                  <a:pt x="1561" y="892"/>
                </a:lnTo>
                <a:lnTo>
                  <a:pt x="1572" y="892"/>
                </a:lnTo>
                <a:lnTo>
                  <a:pt x="1584" y="894"/>
                </a:lnTo>
                <a:lnTo>
                  <a:pt x="1592" y="897"/>
                </a:lnTo>
                <a:lnTo>
                  <a:pt x="1600" y="900"/>
                </a:lnTo>
                <a:lnTo>
                  <a:pt x="1606" y="900"/>
                </a:lnTo>
                <a:lnTo>
                  <a:pt x="1615" y="903"/>
                </a:lnTo>
                <a:lnTo>
                  <a:pt x="1620" y="903"/>
                </a:lnTo>
                <a:lnTo>
                  <a:pt x="1629" y="906"/>
                </a:lnTo>
                <a:lnTo>
                  <a:pt x="1632" y="909"/>
                </a:lnTo>
                <a:lnTo>
                  <a:pt x="1637" y="912"/>
                </a:lnTo>
                <a:lnTo>
                  <a:pt x="1637" y="909"/>
                </a:lnTo>
                <a:lnTo>
                  <a:pt x="1643" y="903"/>
                </a:lnTo>
                <a:lnTo>
                  <a:pt x="1649" y="897"/>
                </a:lnTo>
                <a:lnTo>
                  <a:pt x="1660" y="892"/>
                </a:lnTo>
                <a:lnTo>
                  <a:pt x="1666" y="883"/>
                </a:lnTo>
                <a:lnTo>
                  <a:pt x="1671" y="877"/>
                </a:lnTo>
                <a:lnTo>
                  <a:pt x="1680" y="872"/>
                </a:lnTo>
                <a:lnTo>
                  <a:pt x="1685" y="863"/>
                </a:lnTo>
                <a:lnTo>
                  <a:pt x="1694" y="855"/>
                </a:lnTo>
                <a:lnTo>
                  <a:pt x="1702" y="849"/>
                </a:lnTo>
                <a:lnTo>
                  <a:pt x="1711" y="838"/>
                </a:lnTo>
                <a:lnTo>
                  <a:pt x="1722" y="829"/>
                </a:lnTo>
                <a:lnTo>
                  <a:pt x="1725" y="821"/>
                </a:lnTo>
                <a:lnTo>
                  <a:pt x="1734" y="815"/>
                </a:lnTo>
                <a:lnTo>
                  <a:pt x="1739" y="806"/>
                </a:lnTo>
                <a:lnTo>
                  <a:pt x="1751" y="798"/>
                </a:lnTo>
                <a:lnTo>
                  <a:pt x="1762" y="787"/>
                </a:lnTo>
                <a:lnTo>
                  <a:pt x="1773" y="778"/>
                </a:lnTo>
                <a:lnTo>
                  <a:pt x="1779" y="772"/>
                </a:lnTo>
                <a:lnTo>
                  <a:pt x="1785" y="767"/>
                </a:lnTo>
                <a:lnTo>
                  <a:pt x="1793" y="761"/>
                </a:lnTo>
                <a:lnTo>
                  <a:pt x="1799" y="755"/>
                </a:lnTo>
                <a:lnTo>
                  <a:pt x="1807" y="747"/>
                </a:lnTo>
                <a:lnTo>
                  <a:pt x="1813" y="741"/>
                </a:lnTo>
                <a:lnTo>
                  <a:pt x="1819" y="735"/>
                </a:lnTo>
                <a:lnTo>
                  <a:pt x="1827" y="730"/>
                </a:lnTo>
                <a:lnTo>
                  <a:pt x="1836" y="721"/>
                </a:lnTo>
                <a:lnTo>
                  <a:pt x="1841" y="716"/>
                </a:lnTo>
                <a:lnTo>
                  <a:pt x="1850" y="710"/>
                </a:lnTo>
                <a:lnTo>
                  <a:pt x="1858" y="701"/>
                </a:lnTo>
                <a:lnTo>
                  <a:pt x="1867" y="696"/>
                </a:lnTo>
                <a:lnTo>
                  <a:pt x="1872" y="687"/>
                </a:lnTo>
                <a:lnTo>
                  <a:pt x="1884" y="679"/>
                </a:lnTo>
                <a:lnTo>
                  <a:pt x="1892" y="673"/>
                </a:lnTo>
                <a:lnTo>
                  <a:pt x="1898" y="667"/>
                </a:lnTo>
                <a:lnTo>
                  <a:pt x="1906" y="659"/>
                </a:lnTo>
                <a:lnTo>
                  <a:pt x="1915" y="653"/>
                </a:lnTo>
                <a:lnTo>
                  <a:pt x="1926" y="645"/>
                </a:lnTo>
                <a:lnTo>
                  <a:pt x="1932" y="639"/>
                </a:lnTo>
                <a:lnTo>
                  <a:pt x="1940" y="630"/>
                </a:lnTo>
                <a:lnTo>
                  <a:pt x="1946" y="625"/>
                </a:lnTo>
                <a:lnTo>
                  <a:pt x="1957" y="616"/>
                </a:lnTo>
                <a:lnTo>
                  <a:pt x="1963" y="610"/>
                </a:lnTo>
                <a:lnTo>
                  <a:pt x="1972" y="602"/>
                </a:lnTo>
                <a:lnTo>
                  <a:pt x="1977" y="596"/>
                </a:lnTo>
                <a:lnTo>
                  <a:pt x="1986" y="591"/>
                </a:lnTo>
                <a:lnTo>
                  <a:pt x="1991" y="582"/>
                </a:lnTo>
                <a:lnTo>
                  <a:pt x="2000" y="579"/>
                </a:lnTo>
                <a:lnTo>
                  <a:pt x="2008" y="571"/>
                </a:lnTo>
                <a:lnTo>
                  <a:pt x="2014" y="565"/>
                </a:lnTo>
                <a:lnTo>
                  <a:pt x="2028" y="554"/>
                </a:lnTo>
                <a:lnTo>
                  <a:pt x="2039" y="545"/>
                </a:lnTo>
                <a:lnTo>
                  <a:pt x="2051" y="534"/>
                </a:lnTo>
                <a:lnTo>
                  <a:pt x="2059" y="525"/>
                </a:lnTo>
                <a:lnTo>
                  <a:pt x="2068" y="520"/>
                </a:lnTo>
                <a:lnTo>
                  <a:pt x="2076" y="514"/>
                </a:lnTo>
                <a:lnTo>
                  <a:pt x="2088" y="505"/>
                </a:lnTo>
                <a:lnTo>
                  <a:pt x="2093" y="503"/>
                </a:lnTo>
                <a:lnTo>
                  <a:pt x="2090" y="505"/>
                </a:lnTo>
                <a:lnTo>
                  <a:pt x="2090" y="514"/>
                </a:lnTo>
                <a:lnTo>
                  <a:pt x="2090" y="520"/>
                </a:lnTo>
                <a:lnTo>
                  <a:pt x="2090" y="528"/>
                </a:lnTo>
                <a:lnTo>
                  <a:pt x="2088" y="537"/>
                </a:lnTo>
                <a:lnTo>
                  <a:pt x="2088" y="548"/>
                </a:lnTo>
                <a:lnTo>
                  <a:pt x="2088" y="559"/>
                </a:lnTo>
                <a:lnTo>
                  <a:pt x="2085" y="571"/>
                </a:lnTo>
                <a:lnTo>
                  <a:pt x="2085" y="585"/>
                </a:lnTo>
                <a:lnTo>
                  <a:pt x="2082" y="602"/>
                </a:lnTo>
                <a:lnTo>
                  <a:pt x="2082" y="616"/>
                </a:lnTo>
                <a:lnTo>
                  <a:pt x="2082" y="636"/>
                </a:lnTo>
                <a:lnTo>
                  <a:pt x="2079" y="653"/>
                </a:lnTo>
                <a:lnTo>
                  <a:pt x="2079" y="673"/>
                </a:lnTo>
                <a:lnTo>
                  <a:pt x="2076" y="690"/>
                </a:lnTo>
                <a:lnTo>
                  <a:pt x="2076" y="713"/>
                </a:lnTo>
                <a:lnTo>
                  <a:pt x="2073" y="733"/>
                </a:lnTo>
                <a:lnTo>
                  <a:pt x="2073" y="755"/>
                </a:lnTo>
                <a:lnTo>
                  <a:pt x="2071" y="778"/>
                </a:lnTo>
                <a:lnTo>
                  <a:pt x="2071" y="804"/>
                </a:lnTo>
                <a:lnTo>
                  <a:pt x="2068" y="826"/>
                </a:lnTo>
                <a:lnTo>
                  <a:pt x="2068" y="852"/>
                </a:lnTo>
                <a:lnTo>
                  <a:pt x="2065" y="877"/>
                </a:lnTo>
                <a:lnTo>
                  <a:pt x="2065" y="903"/>
                </a:lnTo>
                <a:lnTo>
                  <a:pt x="2062" y="929"/>
                </a:lnTo>
                <a:lnTo>
                  <a:pt x="2062" y="957"/>
                </a:lnTo>
                <a:lnTo>
                  <a:pt x="2059" y="983"/>
                </a:lnTo>
                <a:lnTo>
                  <a:pt x="2059" y="1011"/>
                </a:lnTo>
                <a:lnTo>
                  <a:pt x="2056" y="1039"/>
                </a:lnTo>
                <a:lnTo>
                  <a:pt x="2056" y="1068"/>
                </a:lnTo>
                <a:lnTo>
                  <a:pt x="2054" y="1096"/>
                </a:lnTo>
                <a:lnTo>
                  <a:pt x="2054" y="1125"/>
                </a:lnTo>
                <a:lnTo>
                  <a:pt x="2051" y="1150"/>
                </a:lnTo>
                <a:lnTo>
                  <a:pt x="2051" y="1181"/>
                </a:lnTo>
                <a:lnTo>
                  <a:pt x="2048" y="1207"/>
                </a:lnTo>
                <a:lnTo>
                  <a:pt x="2048" y="1235"/>
                </a:lnTo>
                <a:lnTo>
                  <a:pt x="2045" y="1267"/>
                </a:lnTo>
                <a:lnTo>
                  <a:pt x="2045" y="1295"/>
                </a:lnTo>
                <a:lnTo>
                  <a:pt x="2042" y="1320"/>
                </a:lnTo>
                <a:lnTo>
                  <a:pt x="2042" y="1349"/>
                </a:lnTo>
                <a:lnTo>
                  <a:pt x="2042" y="1377"/>
                </a:lnTo>
                <a:lnTo>
                  <a:pt x="2042" y="1406"/>
                </a:lnTo>
                <a:lnTo>
                  <a:pt x="2039" y="1431"/>
                </a:lnTo>
                <a:lnTo>
                  <a:pt x="2039" y="1460"/>
                </a:lnTo>
                <a:lnTo>
                  <a:pt x="2039" y="1485"/>
                </a:lnTo>
                <a:lnTo>
                  <a:pt x="2039" y="1514"/>
                </a:lnTo>
                <a:lnTo>
                  <a:pt x="2037" y="1536"/>
                </a:lnTo>
                <a:lnTo>
                  <a:pt x="2037" y="1562"/>
                </a:lnTo>
                <a:lnTo>
                  <a:pt x="2037" y="1587"/>
                </a:lnTo>
                <a:lnTo>
                  <a:pt x="2037" y="1610"/>
                </a:lnTo>
                <a:lnTo>
                  <a:pt x="2037" y="1633"/>
                </a:lnTo>
                <a:lnTo>
                  <a:pt x="2037" y="1656"/>
                </a:lnTo>
                <a:lnTo>
                  <a:pt x="2037" y="1678"/>
                </a:lnTo>
                <a:lnTo>
                  <a:pt x="2037" y="1701"/>
                </a:lnTo>
                <a:lnTo>
                  <a:pt x="2037" y="1718"/>
                </a:lnTo>
                <a:lnTo>
                  <a:pt x="2037" y="1741"/>
                </a:lnTo>
                <a:lnTo>
                  <a:pt x="2037" y="1758"/>
                </a:lnTo>
                <a:lnTo>
                  <a:pt x="2039" y="1775"/>
                </a:lnTo>
                <a:lnTo>
                  <a:pt x="2039" y="1792"/>
                </a:lnTo>
                <a:lnTo>
                  <a:pt x="2039" y="1806"/>
                </a:lnTo>
                <a:lnTo>
                  <a:pt x="2042" y="1820"/>
                </a:lnTo>
                <a:lnTo>
                  <a:pt x="2042" y="1834"/>
                </a:lnTo>
                <a:lnTo>
                  <a:pt x="2042" y="1846"/>
                </a:lnTo>
                <a:lnTo>
                  <a:pt x="2045" y="1857"/>
                </a:lnTo>
                <a:lnTo>
                  <a:pt x="2045" y="1869"/>
                </a:lnTo>
                <a:lnTo>
                  <a:pt x="2045" y="1880"/>
                </a:lnTo>
                <a:lnTo>
                  <a:pt x="2045" y="1891"/>
                </a:lnTo>
                <a:lnTo>
                  <a:pt x="2048" y="1903"/>
                </a:lnTo>
                <a:lnTo>
                  <a:pt x="2048" y="1911"/>
                </a:lnTo>
                <a:lnTo>
                  <a:pt x="2051" y="1923"/>
                </a:lnTo>
                <a:lnTo>
                  <a:pt x="2051" y="1934"/>
                </a:lnTo>
                <a:lnTo>
                  <a:pt x="2051" y="1942"/>
                </a:lnTo>
                <a:lnTo>
                  <a:pt x="2051" y="1951"/>
                </a:lnTo>
                <a:lnTo>
                  <a:pt x="2051" y="1959"/>
                </a:lnTo>
                <a:lnTo>
                  <a:pt x="2051" y="1965"/>
                </a:lnTo>
                <a:lnTo>
                  <a:pt x="2051" y="1976"/>
                </a:lnTo>
                <a:lnTo>
                  <a:pt x="2051" y="1982"/>
                </a:lnTo>
                <a:lnTo>
                  <a:pt x="2054" y="1991"/>
                </a:lnTo>
                <a:lnTo>
                  <a:pt x="2054" y="1999"/>
                </a:lnTo>
                <a:lnTo>
                  <a:pt x="2054" y="2005"/>
                </a:lnTo>
                <a:lnTo>
                  <a:pt x="2054" y="2011"/>
                </a:lnTo>
                <a:lnTo>
                  <a:pt x="2054" y="2019"/>
                </a:lnTo>
                <a:lnTo>
                  <a:pt x="2054" y="2030"/>
                </a:lnTo>
                <a:lnTo>
                  <a:pt x="2054" y="2042"/>
                </a:lnTo>
                <a:lnTo>
                  <a:pt x="2054" y="2050"/>
                </a:lnTo>
                <a:lnTo>
                  <a:pt x="2054" y="2062"/>
                </a:lnTo>
                <a:lnTo>
                  <a:pt x="2054" y="2067"/>
                </a:lnTo>
                <a:lnTo>
                  <a:pt x="2056" y="2076"/>
                </a:lnTo>
                <a:lnTo>
                  <a:pt x="2054" y="2087"/>
                </a:lnTo>
                <a:lnTo>
                  <a:pt x="2054" y="2099"/>
                </a:lnTo>
                <a:lnTo>
                  <a:pt x="2054" y="2104"/>
                </a:lnTo>
                <a:lnTo>
                  <a:pt x="2054" y="2113"/>
                </a:lnTo>
                <a:lnTo>
                  <a:pt x="2054" y="2116"/>
                </a:lnTo>
                <a:lnTo>
                  <a:pt x="2054" y="2118"/>
                </a:lnTo>
                <a:lnTo>
                  <a:pt x="2056" y="2118"/>
                </a:lnTo>
                <a:lnTo>
                  <a:pt x="2062" y="2121"/>
                </a:lnTo>
                <a:lnTo>
                  <a:pt x="2073" y="2124"/>
                </a:lnTo>
                <a:lnTo>
                  <a:pt x="2085" y="2127"/>
                </a:lnTo>
                <a:lnTo>
                  <a:pt x="2093" y="2127"/>
                </a:lnTo>
                <a:lnTo>
                  <a:pt x="2105" y="2127"/>
                </a:lnTo>
                <a:lnTo>
                  <a:pt x="2107" y="2124"/>
                </a:lnTo>
                <a:lnTo>
                  <a:pt x="2107" y="2118"/>
                </a:lnTo>
                <a:lnTo>
                  <a:pt x="2105" y="2113"/>
                </a:lnTo>
                <a:lnTo>
                  <a:pt x="2105" y="2104"/>
                </a:lnTo>
                <a:lnTo>
                  <a:pt x="2105" y="2093"/>
                </a:lnTo>
                <a:lnTo>
                  <a:pt x="2105" y="2087"/>
                </a:lnTo>
                <a:lnTo>
                  <a:pt x="2102" y="2076"/>
                </a:lnTo>
                <a:lnTo>
                  <a:pt x="2102" y="2067"/>
                </a:lnTo>
                <a:lnTo>
                  <a:pt x="2099" y="2053"/>
                </a:lnTo>
                <a:lnTo>
                  <a:pt x="2099" y="2042"/>
                </a:lnTo>
                <a:lnTo>
                  <a:pt x="2096" y="2025"/>
                </a:lnTo>
                <a:lnTo>
                  <a:pt x="2096" y="2011"/>
                </a:lnTo>
                <a:lnTo>
                  <a:pt x="2096" y="1996"/>
                </a:lnTo>
                <a:lnTo>
                  <a:pt x="2093" y="1976"/>
                </a:lnTo>
                <a:lnTo>
                  <a:pt x="2093" y="1959"/>
                </a:lnTo>
                <a:lnTo>
                  <a:pt x="2093" y="1942"/>
                </a:lnTo>
                <a:lnTo>
                  <a:pt x="2090" y="1920"/>
                </a:lnTo>
                <a:lnTo>
                  <a:pt x="2090" y="1900"/>
                </a:lnTo>
                <a:lnTo>
                  <a:pt x="2088" y="1877"/>
                </a:lnTo>
                <a:lnTo>
                  <a:pt x="2088" y="1854"/>
                </a:lnTo>
                <a:lnTo>
                  <a:pt x="2088" y="1832"/>
                </a:lnTo>
                <a:lnTo>
                  <a:pt x="2085" y="1806"/>
                </a:lnTo>
                <a:lnTo>
                  <a:pt x="2085" y="1783"/>
                </a:lnTo>
                <a:lnTo>
                  <a:pt x="2085" y="1758"/>
                </a:lnTo>
                <a:lnTo>
                  <a:pt x="2082" y="1729"/>
                </a:lnTo>
                <a:lnTo>
                  <a:pt x="2082" y="1704"/>
                </a:lnTo>
                <a:lnTo>
                  <a:pt x="2082" y="1675"/>
                </a:lnTo>
                <a:lnTo>
                  <a:pt x="2082" y="1647"/>
                </a:lnTo>
                <a:lnTo>
                  <a:pt x="2079" y="1619"/>
                </a:lnTo>
                <a:lnTo>
                  <a:pt x="2079" y="1590"/>
                </a:lnTo>
                <a:lnTo>
                  <a:pt x="2079" y="1562"/>
                </a:lnTo>
                <a:lnTo>
                  <a:pt x="2079" y="1533"/>
                </a:lnTo>
                <a:lnTo>
                  <a:pt x="2079" y="1502"/>
                </a:lnTo>
                <a:lnTo>
                  <a:pt x="2079" y="1471"/>
                </a:lnTo>
                <a:lnTo>
                  <a:pt x="2076" y="1440"/>
                </a:lnTo>
                <a:lnTo>
                  <a:pt x="2076" y="1409"/>
                </a:lnTo>
                <a:lnTo>
                  <a:pt x="2076" y="1374"/>
                </a:lnTo>
                <a:lnTo>
                  <a:pt x="2076" y="1343"/>
                </a:lnTo>
                <a:lnTo>
                  <a:pt x="2076" y="1312"/>
                </a:lnTo>
                <a:lnTo>
                  <a:pt x="2079" y="1281"/>
                </a:lnTo>
                <a:lnTo>
                  <a:pt x="2079" y="1247"/>
                </a:lnTo>
                <a:lnTo>
                  <a:pt x="2079" y="1215"/>
                </a:lnTo>
                <a:lnTo>
                  <a:pt x="2079" y="1181"/>
                </a:lnTo>
                <a:lnTo>
                  <a:pt x="2082" y="1150"/>
                </a:lnTo>
                <a:lnTo>
                  <a:pt x="2082" y="1116"/>
                </a:lnTo>
                <a:lnTo>
                  <a:pt x="2082" y="1085"/>
                </a:lnTo>
                <a:lnTo>
                  <a:pt x="2085" y="1051"/>
                </a:lnTo>
                <a:lnTo>
                  <a:pt x="2088" y="1019"/>
                </a:lnTo>
                <a:lnTo>
                  <a:pt x="2088" y="985"/>
                </a:lnTo>
                <a:lnTo>
                  <a:pt x="2090" y="954"/>
                </a:lnTo>
                <a:lnTo>
                  <a:pt x="2090" y="920"/>
                </a:lnTo>
                <a:lnTo>
                  <a:pt x="2093" y="889"/>
                </a:lnTo>
                <a:lnTo>
                  <a:pt x="2096" y="858"/>
                </a:lnTo>
                <a:lnTo>
                  <a:pt x="2099" y="826"/>
                </a:lnTo>
                <a:lnTo>
                  <a:pt x="2102" y="795"/>
                </a:lnTo>
                <a:lnTo>
                  <a:pt x="2105" y="764"/>
                </a:lnTo>
                <a:lnTo>
                  <a:pt x="2107" y="733"/>
                </a:lnTo>
                <a:lnTo>
                  <a:pt x="2113" y="701"/>
                </a:lnTo>
                <a:lnTo>
                  <a:pt x="2116" y="673"/>
                </a:lnTo>
                <a:lnTo>
                  <a:pt x="2122" y="645"/>
                </a:lnTo>
                <a:lnTo>
                  <a:pt x="2124" y="613"/>
                </a:lnTo>
                <a:lnTo>
                  <a:pt x="2130" y="588"/>
                </a:lnTo>
                <a:lnTo>
                  <a:pt x="2136" y="559"/>
                </a:lnTo>
                <a:lnTo>
                  <a:pt x="2141" y="534"/>
                </a:lnTo>
                <a:lnTo>
                  <a:pt x="2150" y="534"/>
                </a:lnTo>
                <a:lnTo>
                  <a:pt x="2153" y="534"/>
                </a:lnTo>
                <a:lnTo>
                  <a:pt x="2161" y="537"/>
                </a:lnTo>
                <a:lnTo>
                  <a:pt x="2167" y="537"/>
                </a:lnTo>
                <a:lnTo>
                  <a:pt x="2178" y="539"/>
                </a:lnTo>
                <a:lnTo>
                  <a:pt x="2184" y="539"/>
                </a:lnTo>
                <a:lnTo>
                  <a:pt x="2192" y="542"/>
                </a:lnTo>
                <a:lnTo>
                  <a:pt x="2204" y="545"/>
                </a:lnTo>
                <a:lnTo>
                  <a:pt x="2215" y="548"/>
                </a:lnTo>
                <a:lnTo>
                  <a:pt x="2226" y="551"/>
                </a:lnTo>
                <a:lnTo>
                  <a:pt x="2238" y="554"/>
                </a:lnTo>
                <a:lnTo>
                  <a:pt x="2249" y="557"/>
                </a:lnTo>
                <a:lnTo>
                  <a:pt x="2263" y="559"/>
                </a:lnTo>
                <a:lnTo>
                  <a:pt x="2275" y="562"/>
                </a:lnTo>
                <a:lnTo>
                  <a:pt x="2286" y="565"/>
                </a:lnTo>
                <a:lnTo>
                  <a:pt x="2297" y="568"/>
                </a:lnTo>
                <a:lnTo>
                  <a:pt x="2311" y="571"/>
                </a:lnTo>
                <a:lnTo>
                  <a:pt x="2323" y="574"/>
                </a:lnTo>
                <a:lnTo>
                  <a:pt x="2334" y="576"/>
                </a:lnTo>
                <a:lnTo>
                  <a:pt x="2348" y="579"/>
                </a:lnTo>
                <a:lnTo>
                  <a:pt x="2360" y="585"/>
                </a:lnTo>
                <a:lnTo>
                  <a:pt x="2371" y="588"/>
                </a:lnTo>
                <a:lnTo>
                  <a:pt x="2382" y="591"/>
                </a:lnTo>
                <a:lnTo>
                  <a:pt x="2391" y="593"/>
                </a:lnTo>
                <a:lnTo>
                  <a:pt x="2402" y="596"/>
                </a:lnTo>
                <a:lnTo>
                  <a:pt x="2411" y="599"/>
                </a:lnTo>
                <a:lnTo>
                  <a:pt x="2419" y="602"/>
                </a:lnTo>
                <a:lnTo>
                  <a:pt x="2425" y="608"/>
                </a:lnTo>
                <a:lnTo>
                  <a:pt x="2433" y="610"/>
                </a:lnTo>
                <a:lnTo>
                  <a:pt x="2439" y="613"/>
                </a:lnTo>
                <a:lnTo>
                  <a:pt x="2444" y="616"/>
                </a:lnTo>
                <a:lnTo>
                  <a:pt x="2453" y="622"/>
                </a:lnTo>
                <a:lnTo>
                  <a:pt x="2461" y="625"/>
                </a:lnTo>
                <a:lnTo>
                  <a:pt x="2467" y="630"/>
                </a:lnTo>
                <a:lnTo>
                  <a:pt x="2476" y="636"/>
                </a:lnTo>
                <a:lnTo>
                  <a:pt x="2487" y="642"/>
                </a:lnTo>
                <a:lnTo>
                  <a:pt x="2495" y="647"/>
                </a:lnTo>
                <a:lnTo>
                  <a:pt x="2504" y="653"/>
                </a:lnTo>
                <a:lnTo>
                  <a:pt x="2515" y="659"/>
                </a:lnTo>
                <a:lnTo>
                  <a:pt x="2524" y="667"/>
                </a:lnTo>
                <a:lnTo>
                  <a:pt x="2532" y="673"/>
                </a:lnTo>
                <a:lnTo>
                  <a:pt x="2541" y="679"/>
                </a:lnTo>
                <a:lnTo>
                  <a:pt x="2552" y="687"/>
                </a:lnTo>
                <a:lnTo>
                  <a:pt x="2561" y="693"/>
                </a:lnTo>
                <a:lnTo>
                  <a:pt x="2572" y="701"/>
                </a:lnTo>
                <a:lnTo>
                  <a:pt x="2580" y="707"/>
                </a:lnTo>
                <a:lnTo>
                  <a:pt x="2589" y="713"/>
                </a:lnTo>
                <a:lnTo>
                  <a:pt x="2597" y="718"/>
                </a:lnTo>
                <a:lnTo>
                  <a:pt x="2609" y="724"/>
                </a:lnTo>
                <a:lnTo>
                  <a:pt x="2617" y="730"/>
                </a:lnTo>
                <a:lnTo>
                  <a:pt x="2626" y="735"/>
                </a:lnTo>
                <a:lnTo>
                  <a:pt x="2634" y="741"/>
                </a:lnTo>
                <a:lnTo>
                  <a:pt x="2643" y="744"/>
                </a:lnTo>
                <a:lnTo>
                  <a:pt x="2648" y="747"/>
                </a:lnTo>
                <a:lnTo>
                  <a:pt x="2654" y="752"/>
                </a:lnTo>
                <a:lnTo>
                  <a:pt x="2663" y="752"/>
                </a:lnTo>
                <a:lnTo>
                  <a:pt x="2668" y="758"/>
                </a:lnTo>
                <a:lnTo>
                  <a:pt x="2680" y="761"/>
                </a:lnTo>
                <a:lnTo>
                  <a:pt x="2688" y="761"/>
                </a:lnTo>
                <a:lnTo>
                  <a:pt x="2691" y="758"/>
                </a:lnTo>
                <a:lnTo>
                  <a:pt x="2697" y="755"/>
                </a:lnTo>
                <a:lnTo>
                  <a:pt x="2702" y="750"/>
                </a:lnTo>
                <a:lnTo>
                  <a:pt x="2711" y="747"/>
                </a:lnTo>
                <a:lnTo>
                  <a:pt x="2719" y="741"/>
                </a:lnTo>
                <a:lnTo>
                  <a:pt x="2731" y="735"/>
                </a:lnTo>
                <a:lnTo>
                  <a:pt x="2739" y="727"/>
                </a:lnTo>
                <a:lnTo>
                  <a:pt x="2750" y="721"/>
                </a:lnTo>
                <a:lnTo>
                  <a:pt x="2762" y="713"/>
                </a:lnTo>
                <a:lnTo>
                  <a:pt x="2776" y="704"/>
                </a:lnTo>
                <a:lnTo>
                  <a:pt x="2784" y="699"/>
                </a:lnTo>
                <a:lnTo>
                  <a:pt x="2790" y="696"/>
                </a:lnTo>
                <a:lnTo>
                  <a:pt x="2799" y="690"/>
                </a:lnTo>
                <a:lnTo>
                  <a:pt x="2804" y="687"/>
                </a:lnTo>
                <a:lnTo>
                  <a:pt x="2813" y="681"/>
                </a:lnTo>
                <a:lnTo>
                  <a:pt x="2818" y="676"/>
                </a:lnTo>
                <a:lnTo>
                  <a:pt x="2827" y="670"/>
                </a:lnTo>
                <a:lnTo>
                  <a:pt x="2835" y="667"/>
                </a:lnTo>
                <a:lnTo>
                  <a:pt x="2841" y="662"/>
                </a:lnTo>
                <a:lnTo>
                  <a:pt x="2849" y="656"/>
                </a:lnTo>
                <a:lnTo>
                  <a:pt x="2858" y="653"/>
                </a:lnTo>
                <a:lnTo>
                  <a:pt x="2866" y="647"/>
                </a:lnTo>
                <a:lnTo>
                  <a:pt x="2875" y="642"/>
                </a:lnTo>
                <a:lnTo>
                  <a:pt x="2881" y="636"/>
                </a:lnTo>
                <a:lnTo>
                  <a:pt x="2889" y="633"/>
                </a:lnTo>
                <a:lnTo>
                  <a:pt x="2898" y="628"/>
                </a:lnTo>
                <a:lnTo>
                  <a:pt x="2903" y="622"/>
                </a:lnTo>
                <a:lnTo>
                  <a:pt x="2912" y="616"/>
                </a:lnTo>
                <a:lnTo>
                  <a:pt x="2920" y="610"/>
                </a:lnTo>
                <a:lnTo>
                  <a:pt x="2929" y="608"/>
                </a:lnTo>
                <a:lnTo>
                  <a:pt x="2937" y="602"/>
                </a:lnTo>
                <a:lnTo>
                  <a:pt x="2943" y="596"/>
                </a:lnTo>
                <a:lnTo>
                  <a:pt x="2951" y="591"/>
                </a:lnTo>
                <a:lnTo>
                  <a:pt x="2960" y="588"/>
                </a:lnTo>
                <a:lnTo>
                  <a:pt x="2966" y="582"/>
                </a:lnTo>
                <a:lnTo>
                  <a:pt x="2974" y="579"/>
                </a:lnTo>
                <a:lnTo>
                  <a:pt x="2983" y="574"/>
                </a:lnTo>
                <a:lnTo>
                  <a:pt x="2988" y="571"/>
                </a:lnTo>
                <a:lnTo>
                  <a:pt x="3002" y="562"/>
                </a:lnTo>
                <a:lnTo>
                  <a:pt x="3017" y="554"/>
                </a:lnTo>
                <a:lnTo>
                  <a:pt x="3028" y="548"/>
                </a:lnTo>
                <a:lnTo>
                  <a:pt x="3042" y="539"/>
                </a:lnTo>
                <a:lnTo>
                  <a:pt x="3051" y="534"/>
                </a:lnTo>
                <a:lnTo>
                  <a:pt x="3062" y="528"/>
                </a:lnTo>
                <a:lnTo>
                  <a:pt x="3070" y="525"/>
                </a:lnTo>
                <a:lnTo>
                  <a:pt x="3082" y="522"/>
                </a:lnTo>
                <a:lnTo>
                  <a:pt x="3090" y="520"/>
                </a:lnTo>
                <a:lnTo>
                  <a:pt x="3099" y="514"/>
                </a:lnTo>
                <a:lnTo>
                  <a:pt x="3110" y="508"/>
                </a:lnTo>
                <a:lnTo>
                  <a:pt x="3124" y="505"/>
                </a:lnTo>
                <a:lnTo>
                  <a:pt x="3130" y="500"/>
                </a:lnTo>
                <a:lnTo>
                  <a:pt x="3136" y="497"/>
                </a:lnTo>
                <a:lnTo>
                  <a:pt x="3144" y="494"/>
                </a:lnTo>
                <a:lnTo>
                  <a:pt x="3153" y="491"/>
                </a:lnTo>
                <a:lnTo>
                  <a:pt x="3161" y="486"/>
                </a:lnTo>
                <a:lnTo>
                  <a:pt x="3167" y="483"/>
                </a:lnTo>
                <a:lnTo>
                  <a:pt x="3175" y="480"/>
                </a:lnTo>
                <a:lnTo>
                  <a:pt x="3187" y="474"/>
                </a:lnTo>
                <a:lnTo>
                  <a:pt x="3192" y="471"/>
                </a:lnTo>
                <a:lnTo>
                  <a:pt x="3201" y="466"/>
                </a:lnTo>
                <a:lnTo>
                  <a:pt x="3209" y="463"/>
                </a:lnTo>
                <a:lnTo>
                  <a:pt x="3218" y="457"/>
                </a:lnTo>
                <a:lnTo>
                  <a:pt x="3229" y="451"/>
                </a:lnTo>
                <a:lnTo>
                  <a:pt x="3238" y="449"/>
                </a:lnTo>
                <a:lnTo>
                  <a:pt x="3246" y="443"/>
                </a:lnTo>
                <a:lnTo>
                  <a:pt x="3257" y="440"/>
                </a:lnTo>
                <a:lnTo>
                  <a:pt x="3266" y="434"/>
                </a:lnTo>
                <a:lnTo>
                  <a:pt x="3274" y="432"/>
                </a:lnTo>
                <a:lnTo>
                  <a:pt x="3283" y="426"/>
                </a:lnTo>
                <a:lnTo>
                  <a:pt x="3294" y="420"/>
                </a:lnTo>
                <a:lnTo>
                  <a:pt x="3303" y="417"/>
                </a:lnTo>
                <a:lnTo>
                  <a:pt x="3314" y="412"/>
                </a:lnTo>
                <a:lnTo>
                  <a:pt x="3322" y="406"/>
                </a:lnTo>
                <a:lnTo>
                  <a:pt x="3334" y="403"/>
                </a:lnTo>
                <a:lnTo>
                  <a:pt x="3342" y="397"/>
                </a:lnTo>
                <a:lnTo>
                  <a:pt x="3351" y="392"/>
                </a:lnTo>
                <a:lnTo>
                  <a:pt x="3359" y="389"/>
                </a:lnTo>
                <a:lnTo>
                  <a:pt x="3368" y="383"/>
                </a:lnTo>
                <a:lnTo>
                  <a:pt x="3376" y="378"/>
                </a:lnTo>
                <a:lnTo>
                  <a:pt x="3388" y="375"/>
                </a:lnTo>
                <a:lnTo>
                  <a:pt x="3393" y="369"/>
                </a:lnTo>
                <a:lnTo>
                  <a:pt x="3405" y="366"/>
                </a:lnTo>
                <a:lnTo>
                  <a:pt x="3410" y="361"/>
                </a:lnTo>
                <a:lnTo>
                  <a:pt x="3419" y="355"/>
                </a:lnTo>
                <a:lnTo>
                  <a:pt x="3427" y="352"/>
                </a:lnTo>
                <a:lnTo>
                  <a:pt x="3436" y="346"/>
                </a:lnTo>
                <a:lnTo>
                  <a:pt x="3444" y="344"/>
                </a:lnTo>
                <a:lnTo>
                  <a:pt x="3453" y="341"/>
                </a:lnTo>
                <a:lnTo>
                  <a:pt x="3458" y="335"/>
                </a:lnTo>
                <a:lnTo>
                  <a:pt x="3467" y="332"/>
                </a:lnTo>
                <a:lnTo>
                  <a:pt x="3478" y="324"/>
                </a:lnTo>
                <a:lnTo>
                  <a:pt x="3490" y="318"/>
                </a:lnTo>
                <a:lnTo>
                  <a:pt x="3501" y="312"/>
                </a:lnTo>
                <a:lnTo>
                  <a:pt x="3509" y="307"/>
                </a:lnTo>
                <a:lnTo>
                  <a:pt x="3518" y="301"/>
                </a:lnTo>
                <a:lnTo>
                  <a:pt x="3524" y="298"/>
                </a:lnTo>
                <a:lnTo>
                  <a:pt x="3529" y="295"/>
                </a:lnTo>
                <a:lnTo>
                  <a:pt x="3532" y="295"/>
                </a:lnTo>
                <a:lnTo>
                  <a:pt x="3535" y="287"/>
                </a:lnTo>
                <a:lnTo>
                  <a:pt x="3541" y="281"/>
                </a:lnTo>
                <a:lnTo>
                  <a:pt x="3543" y="273"/>
                </a:lnTo>
                <a:lnTo>
                  <a:pt x="3546" y="264"/>
                </a:lnTo>
                <a:lnTo>
                  <a:pt x="3546" y="258"/>
                </a:lnTo>
                <a:lnTo>
                  <a:pt x="3546" y="250"/>
                </a:lnTo>
                <a:lnTo>
                  <a:pt x="3546" y="247"/>
                </a:lnTo>
                <a:lnTo>
                  <a:pt x="3549" y="247"/>
                </a:lnTo>
                <a:lnTo>
                  <a:pt x="3546" y="247"/>
                </a:lnTo>
                <a:lnTo>
                  <a:pt x="3543" y="250"/>
                </a:lnTo>
                <a:lnTo>
                  <a:pt x="3535" y="256"/>
                </a:lnTo>
                <a:lnTo>
                  <a:pt x="3526" y="261"/>
                </a:lnTo>
                <a:lnTo>
                  <a:pt x="3521" y="267"/>
                </a:lnTo>
                <a:lnTo>
                  <a:pt x="3515" y="270"/>
                </a:lnTo>
                <a:lnTo>
                  <a:pt x="3507" y="275"/>
                </a:lnTo>
                <a:lnTo>
                  <a:pt x="3501" y="281"/>
                </a:lnTo>
                <a:lnTo>
                  <a:pt x="3492" y="287"/>
                </a:lnTo>
                <a:lnTo>
                  <a:pt x="3484" y="292"/>
                </a:lnTo>
                <a:lnTo>
                  <a:pt x="3475" y="298"/>
                </a:lnTo>
                <a:lnTo>
                  <a:pt x="3467" y="304"/>
                </a:lnTo>
                <a:lnTo>
                  <a:pt x="3461" y="307"/>
                </a:lnTo>
                <a:lnTo>
                  <a:pt x="3453" y="312"/>
                </a:lnTo>
                <a:lnTo>
                  <a:pt x="3444" y="315"/>
                </a:lnTo>
                <a:lnTo>
                  <a:pt x="3436" y="321"/>
                </a:lnTo>
                <a:lnTo>
                  <a:pt x="3422" y="324"/>
                </a:lnTo>
                <a:lnTo>
                  <a:pt x="3410" y="332"/>
                </a:lnTo>
                <a:lnTo>
                  <a:pt x="3399" y="338"/>
                </a:lnTo>
                <a:lnTo>
                  <a:pt x="3385" y="344"/>
                </a:lnTo>
                <a:lnTo>
                  <a:pt x="3376" y="346"/>
                </a:lnTo>
                <a:lnTo>
                  <a:pt x="3371" y="352"/>
                </a:lnTo>
                <a:lnTo>
                  <a:pt x="3362" y="355"/>
                </a:lnTo>
                <a:lnTo>
                  <a:pt x="3356" y="358"/>
                </a:lnTo>
                <a:lnTo>
                  <a:pt x="3345" y="361"/>
                </a:lnTo>
                <a:lnTo>
                  <a:pt x="3339" y="366"/>
                </a:lnTo>
                <a:lnTo>
                  <a:pt x="3331" y="369"/>
                </a:lnTo>
                <a:lnTo>
                  <a:pt x="3322" y="372"/>
                </a:lnTo>
                <a:lnTo>
                  <a:pt x="3314" y="378"/>
                </a:lnTo>
                <a:lnTo>
                  <a:pt x="3305" y="380"/>
                </a:lnTo>
                <a:lnTo>
                  <a:pt x="3297" y="383"/>
                </a:lnTo>
                <a:lnTo>
                  <a:pt x="3288" y="389"/>
                </a:lnTo>
                <a:lnTo>
                  <a:pt x="3280" y="392"/>
                </a:lnTo>
                <a:lnTo>
                  <a:pt x="3271" y="397"/>
                </a:lnTo>
                <a:lnTo>
                  <a:pt x="3263" y="400"/>
                </a:lnTo>
                <a:lnTo>
                  <a:pt x="3255" y="406"/>
                </a:lnTo>
                <a:lnTo>
                  <a:pt x="3246" y="409"/>
                </a:lnTo>
                <a:lnTo>
                  <a:pt x="3238" y="412"/>
                </a:lnTo>
                <a:lnTo>
                  <a:pt x="3229" y="417"/>
                </a:lnTo>
                <a:lnTo>
                  <a:pt x="3221" y="420"/>
                </a:lnTo>
                <a:lnTo>
                  <a:pt x="3212" y="423"/>
                </a:lnTo>
                <a:lnTo>
                  <a:pt x="3204" y="429"/>
                </a:lnTo>
                <a:lnTo>
                  <a:pt x="3195" y="432"/>
                </a:lnTo>
                <a:lnTo>
                  <a:pt x="3187" y="434"/>
                </a:lnTo>
                <a:lnTo>
                  <a:pt x="3178" y="437"/>
                </a:lnTo>
                <a:lnTo>
                  <a:pt x="3170" y="440"/>
                </a:lnTo>
                <a:lnTo>
                  <a:pt x="3161" y="446"/>
                </a:lnTo>
                <a:lnTo>
                  <a:pt x="3153" y="449"/>
                </a:lnTo>
                <a:lnTo>
                  <a:pt x="3147" y="451"/>
                </a:lnTo>
                <a:lnTo>
                  <a:pt x="3138" y="457"/>
                </a:lnTo>
                <a:lnTo>
                  <a:pt x="3133" y="460"/>
                </a:lnTo>
                <a:lnTo>
                  <a:pt x="3124" y="463"/>
                </a:lnTo>
                <a:lnTo>
                  <a:pt x="3119" y="466"/>
                </a:lnTo>
                <a:lnTo>
                  <a:pt x="3110" y="468"/>
                </a:lnTo>
                <a:lnTo>
                  <a:pt x="3104" y="471"/>
                </a:lnTo>
                <a:lnTo>
                  <a:pt x="3099" y="474"/>
                </a:lnTo>
                <a:lnTo>
                  <a:pt x="3087" y="480"/>
                </a:lnTo>
                <a:lnTo>
                  <a:pt x="3076" y="486"/>
                </a:lnTo>
                <a:lnTo>
                  <a:pt x="3068" y="488"/>
                </a:lnTo>
                <a:lnTo>
                  <a:pt x="3059" y="494"/>
                </a:lnTo>
                <a:lnTo>
                  <a:pt x="3053" y="497"/>
                </a:lnTo>
                <a:lnTo>
                  <a:pt x="3048" y="500"/>
                </a:lnTo>
                <a:lnTo>
                  <a:pt x="3042" y="503"/>
                </a:lnTo>
                <a:lnTo>
                  <a:pt x="3036" y="505"/>
                </a:lnTo>
                <a:lnTo>
                  <a:pt x="3028" y="508"/>
                </a:lnTo>
                <a:lnTo>
                  <a:pt x="3019" y="514"/>
                </a:lnTo>
                <a:lnTo>
                  <a:pt x="3008" y="520"/>
                </a:lnTo>
                <a:lnTo>
                  <a:pt x="2997" y="525"/>
                </a:lnTo>
                <a:lnTo>
                  <a:pt x="2985" y="534"/>
                </a:lnTo>
                <a:lnTo>
                  <a:pt x="2971" y="542"/>
                </a:lnTo>
                <a:lnTo>
                  <a:pt x="2963" y="548"/>
                </a:lnTo>
                <a:lnTo>
                  <a:pt x="2957" y="551"/>
                </a:lnTo>
                <a:lnTo>
                  <a:pt x="2949" y="554"/>
                </a:lnTo>
                <a:lnTo>
                  <a:pt x="2943" y="559"/>
                </a:lnTo>
                <a:lnTo>
                  <a:pt x="2934" y="562"/>
                </a:lnTo>
                <a:lnTo>
                  <a:pt x="2926" y="568"/>
                </a:lnTo>
                <a:lnTo>
                  <a:pt x="2920" y="574"/>
                </a:lnTo>
                <a:lnTo>
                  <a:pt x="2912" y="579"/>
                </a:lnTo>
                <a:lnTo>
                  <a:pt x="2903" y="582"/>
                </a:lnTo>
                <a:lnTo>
                  <a:pt x="2898" y="588"/>
                </a:lnTo>
                <a:lnTo>
                  <a:pt x="2889" y="591"/>
                </a:lnTo>
                <a:lnTo>
                  <a:pt x="2881" y="596"/>
                </a:lnTo>
                <a:lnTo>
                  <a:pt x="2872" y="602"/>
                </a:lnTo>
                <a:lnTo>
                  <a:pt x="2866" y="605"/>
                </a:lnTo>
                <a:lnTo>
                  <a:pt x="2858" y="610"/>
                </a:lnTo>
                <a:lnTo>
                  <a:pt x="2849" y="616"/>
                </a:lnTo>
                <a:lnTo>
                  <a:pt x="2841" y="622"/>
                </a:lnTo>
                <a:lnTo>
                  <a:pt x="2835" y="625"/>
                </a:lnTo>
                <a:lnTo>
                  <a:pt x="2827" y="630"/>
                </a:lnTo>
                <a:lnTo>
                  <a:pt x="2818" y="636"/>
                </a:lnTo>
                <a:lnTo>
                  <a:pt x="2810" y="639"/>
                </a:lnTo>
                <a:lnTo>
                  <a:pt x="2804" y="645"/>
                </a:lnTo>
                <a:lnTo>
                  <a:pt x="2796" y="650"/>
                </a:lnTo>
                <a:lnTo>
                  <a:pt x="2790" y="656"/>
                </a:lnTo>
                <a:lnTo>
                  <a:pt x="2782" y="659"/>
                </a:lnTo>
                <a:lnTo>
                  <a:pt x="2773" y="662"/>
                </a:lnTo>
                <a:lnTo>
                  <a:pt x="2767" y="667"/>
                </a:lnTo>
                <a:lnTo>
                  <a:pt x="2762" y="670"/>
                </a:lnTo>
                <a:lnTo>
                  <a:pt x="2750" y="679"/>
                </a:lnTo>
                <a:lnTo>
                  <a:pt x="2739" y="687"/>
                </a:lnTo>
                <a:lnTo>
                  <a:pt x="2728" y="693"/>
                </a:lnTo>
                <a:lnTo>
                  <a:pt x="2716" y="699"/>
                </a:lnTo>
                <a:lnTo>
                  <a:pt x="2708" y="704"/>
                </a:lnTo>
                <a:lnTo>
                  <a:pt x="2702" y="710"/>
                </a:lnTo>
                <a:lnTo>
                  <a:pt x="2691" y="716"/>
                </a:lnTo>
                <a:lnTo>
                  <a:pt x="2688" y="718"/>
                </a:lnTo>
                <a:lnTo>
                  <a:pt x="2685" y="716"/>
                </a:lnTo>
                <a:lnTo>
                  <a:pt x="2680" y="713"/>
                </a:lnTo>
                <a:lnTo>
                  <a:pt x="2668" y="707"/>
                </a:lnTo>
                <a:lnTo>
                  <a:pt x="2657" y="699"/>
                </a:lnTo>
                <a:lnTo>
                  <a:pt x="2648" y="696"/>
                </a:lnTo>
                <a:lnTo>
                  <a:pt x="2640" y="690"/>
                </a:lnTo>
                <a:lnTo>
                  <a:pt x="2631" y="684"/>
                </a:lnTo>
                <a:lnTo>
                  <a:pt x="2623" y="679"/>
                </a:lnTo>
                <a:lnTo>
                  <a:pt x="2612" y="673"/>
                </a:lnTo>
                <a:lnTo>
                  <a:pt x="2603" y="667"/>
                </a:lnTo>
                <a:lnTo>
                  <a:pt x="2592" y="662"/>
                </a:lnTo>
                <a:lnTo>
                  <a:pt x="2583" y="656"/>
                </a:lnTo>
                <a:lnTo>
                  <a:pt x="2572" y="650"/>
                </a:lnTo>
                <a:lnTo>
                  <a:pt x="2561" y="645"/>
                </a:lnTo>
                <a:lnTo>
                  <a:pt x="2549" y="636"/>
                </a:lnTo>
                <a:lnTo>
                  <a:pt x="2541" y="633"/>
                </a:lnTo>
                <a:lnTo>
                  <a:pt x="2529" y="625"/>
                </a:lnTo>
                <a:lnTo>
                  <a:pt x="2521" y="622"/>
                </a:lnTo>
                <a:lnTo>
                  <a:pt x="2510" y="613"/>
                </a:lnTo>
                <a:lnTo>
                  <a:pt x="2501" y="610"/>
                </a:lnTo>
                <a:lnTo>
                  <a:pt x="2493" y="602"/>
                </a:lnTo>
                <a:lnTo>
                  <a:pt x="2484" y="599"/>
                </a:lnTo>
                <a:lnTo>
                  <a:pt x="2476" y="593"/>
                </a:lnTo>
                <a:lnTo>
                  <a:pt x="2470" y="591"/>
                </a:lnTo>
                <a:lnTo>
                  <a:pt x="2456" y="582"/>
                </a:lnTo>
                <a:lnTo>
                  <a:pt x="2450" y="579"/>
                </a:lnTo>
                <a:lnTo>
                  <a:pt x="2444" y="574"/>
                </a:lnTo>
                <a:lnTo>
                  <a:pt x="2439" y="571"/>
                </a:lnTo>
                <a:lnTo>
                  <a:pt x="2433" y="571"/>
                </a:lnTo>
                <a:lnTo>
                  <a:pt x="2425" y="568"/>
                </a:lnTo>
                <a:lnTo>
                  <a:pt x="2416" y="562"/>
                </a:lnTo>
                <a:lnTo>
                  <a:pt x="2408" y="559"/>
                </a:lnTo>
                <a:lnTo>
                  <a:pt x="2399" y="557"/>
                </a:lnTo>
                <a:lnTo>
                  <a:pt x="2391" y="554"/>
                </a:lnTo>
                <a:lnTo>
                  <a:pt x="2379" y="551"/>
                </a:lnTo>
                <a:lnTo>
                  <a:pt x="2368" y="548"/>
                </a:lnTo>
                <a:lnTo>
                  <a:pt x="2357" y="542"/>
                </a:lnTo>
                <a:lnTo>
                  <a:pt x="2345" y="539"/>
                </a:lnTo>
                <a:lnTo>
                  <a:pt x="2334" y="537"/>
                </a:lnTo>
                <a:lnTo>
                  <a:pt x="2323" y="534"/>
                </a:lnTo>
                <a:lnTo>
                  <a:pt x="2311" y="528"/>
                </a:lnTo>
                <a:lnTo>
                  <a:pt x="2300" y="525"/>
                </a:lnTo>
                <a:lnTo>
                  <a:pt x="2289" y="522"/>
                </a:lnTo>
                <a:lnTo>
                  <a:pt x="2277" y="520"/>
                </a:lnTo>
                <a:lnTo>
                  <a:pt x="2266" y="514"/>
                </a:lnTo>
                <a:lnTo>
                  <a:pt x="2255" y="511"/>
                </a:lnTo>
                <a:lnTo>
                  <a:pt x="2243" y="508"/>
                </a:lnTo>
                <a:lnTo>
                  <a:pt x="2235" y="505"/>
                </a:lnTo>
                <a:lnTo>
                  <a:pt x="2226" y="503"/>
                </a:lnTo>
                <a:lnTo>
                  <a:pt x="2218" y="503"/>
                </a:lnTo>
                <a:lnTo>
                  <a:pt x="2209" y="500"/>
                </a:lnTo>
                <a:lnTo>
                  <a:pt x="2204" y="497"/>
                </a:lnTo>
                <a:lnTo>
                  <a:pt x="2195" y="494"/>
                </a:lnTo>
                <a:lnTo>
                  <a:pt x="2192" y="494"/>
                </a:lnTo>
                <a:lnTo>
                  <a:pt x="2184" y="494"/>
                </a:lnTo>
                <a:lnTo>
                  <a:pt x="2187" y="491"/>
                </a:lnTo>
                <a:lnTo>
                  <a:pt x="2192" y="486"/>
                </a:lnTo>
                <a:lnTo>
                  <a:pt x="2198" y="483"/>
                </a:lnTo>
                <a:lnTo>
                  <a:pt x="2207" y="480"/>
                </a:lnTo>
                <a:lnTo>
                  <a:pt x="2212" y="477"/>
                </a:lnTo>
                <a:lnTo>
                  <a:pt x="2224" y="474"/>
                </a:lnTo>
                <a:lnTo>
                  <a:pt x="2235" y="468"/>
                </a:lnTo>
                <a:lnTo>
                  <a:pt x="2246" y="463"/>
                </a:lnTo>
                <a:lnTo>
                  <a:pt x="2258" y="457"/>
                </a:lnTo>
                <a:lnTo>
                  <a:pt x="2275" y="451"/>
                </a:lnTo>
                <a:lnTo>
                  <a:pt x="2286" y="446"/>
                </a:lnTo>
                <a:lnTo>
                  <a:pt x="2303" y="440"/>
                </a:lnTo>
                <a:lnTo>
                  <a:pt x="2317" y="434"/>
                </a:lnTo>
                <a:lnTo>
                  <a:pt x="2337" y="429"/>
                </a:lnTo>
                <a:lnTo>
                  <a:pt x="2354" y="420"/>
                </a:lnTo>
                <a:lnTo>
                  <a:pt x="2371" y="412"/>
                </a:lnTo>
                <a:lnTo>
                  <a:pt x="2391" y="403"/>
                </a:lnTo>
                <a:lnTo>
                  <a:pt x="2411" y="395"/>
                </a:lnTo>
                <a:lnTo>
                  <a:pt x="2430" y="386"/>
                </a:lnTo>
                <a:lnTo>
                  <a:pt x="2450" y="378"/>
                </a:lnTo>
                <a:lnTo>
                  <a:pt x="2473" y="369"/>
                </a:lnTo>
                <a:lnTo>
                  <a:pt x="2495" y="361"/>
                </a:lnTo>
                <a:lnTo>
                  <a:pt x="2515" y="349"/>
                </a:lnTo>
                <a:lnTo>
                  <a:pt x="2538" y="341"/>
                </a:lnTo>
                <a:lnTo>
                  <a:pt x="2561" y="332"/>
                </a:lnTo>
                <a:lnTo>
                  <a:pt x="2583" y="324"/>
                </a:lnTo>
                <a:lnTo>
                  <a:pt x="2606" y="312"/>
                </a:lnTo>
                <a:lnTo>
                  <a:pt x="2629" y="304"/>
                </a:lnTo>
                <a:lnTo>
                  <a:pt x="2651" y="292"/>
                </a:lnTo>
                <a:lnTo>
                  <a:pt x="2677" y="284"/>
                </a:lnTo>
                <a:lnTo>
                  <a:pt x="2697" y="273"/>
                </a:lnTo>
                <a:lnTo>
                  <a:pt x="2719" y="264"/>
                </a:lnTo>
                <a:lnTo>
                  <a:pt x="2742" y="253"/>
                </a:lnTo>
                <a:lnTo>
                  <a:pt x="2767" y="244"/>
                </a:lnTo>
                <a:lnTo>
                  <a:pt x="2787" y="236"/>
                </a:lnTo>
                <a:lnTo>
                  <a:pt x="2810" y="224"/>
                </a:lnTo>
                <a:lnTo>
                  <a:pt x="2833" y="216"/>
                </a:lnTo>
                <a:lnTo>
                  <a:pt x="2855" y="207"/>
                </a:lnTo>
                <a:lnTo>
                  <a:pt x="2875" y="196"/>
                </a:lnTo>
                <a:lnTo>
                  <a:pt x="2895" y="187"/>
                </a:lnTo>
                <a:lnTo>
                  <a:pt x="2915" y="179"/>
                </a:lnTo>
                <a:lnTo>
                  <a:pt x="2937" y="170"/>
                </a:lnTo>
                <a:lnTo>
                  <a:pt x="2954" y="162"/>
                </a:lnTo>
                <a:lnTo>
                  <a:pt x="2974" y="153"/>
                </a:lnTo>
                <a:lnTo>
                  <a:pt x="2991" y="148"/>
                </a:lnTo>
                <a:lnTo>
                  <a:pt x="3011" y="142"/>
                </a:lnTo>
                <a:lnTo>
                  <a:pt x="3025" y="133"/>
                </a:lnTo>
                <a:lnTo>
                  <a:pt x="3042" y="125"/>
                </a:lnTo>
                <a:lnTo>
                  <a:pt x="3056" y="119"/>
                </a:lnTo>
                <a:lnTo>
                  <a:pt x="3070" y="111"/>
                </a:lnTo>
                <a:lnTo>
                  <a:pt x="3082" y="105"/>
                </a:lnTo>
                <a:lnTo>
                  <a:pt x="3096" y="99"/>
                </a:lnTo>
                <a:lnTo>
                  <a:pt x="3104" y="96"/>
                </a:lnTo>
                <a:lnTo>
                  <a:pt x="3116" y="91"/>
                </a:lnTo>
                <a:lnTo>
                  <a:pt x="3124" y="88"/>
                </a:lnTo>
                <a:lnTo>
                  <a:pt x="3133" y="82"/>
                </a:lnTo>
                <a:lnTo>
                  <a:pt x="3138" y="79"/>
                </a:lnTo>
                <a:lnTo>
                  <a:pt x="3144" y="77"/>
                </a:lnTo>
                <a:lnTo>
                  <a:pt x="3150" y="74"/>
                </a:lnTo>
                <a:lnTo>
                  <a:pt x="3153" y="74"/>
                </a:lnTo>
                <a:lnTo>
                  <a:pt x="3150" y="71"/>
                </a:lnTo>
                <a:lnTo>
                  <a:pt x="3147" y="71"/>
                </a:lnTo>
                <a:lnTo>
                  <a:pt x="3141" y="68"/>
                </a:lnTo>
                <a:lnTo>
                  <a:pt x="3136" y="68"/>
                </a:lnTo>
                <a:lnTo>
                  <a:pt x="3127" y="68"/>
                </a:lnTo>
                <a:lnTo>
                  <a:pt x="3119" y="68"/>
                </a:lnTo>
                <a:lnTo>
                  <a:pt x="3110" y="65"/>
                </a:lnTo>
                <a:lnTo>
                  <a:pt x="3099" y="65"/>
                </a:lnTo>
                <a:lnTo>
                  <a:pt x="3085" y="65"/>
                </a:lnTo>
                <a:lnTo>
                  <a:pt x="3073" y="62"/>
                </a:lnTo>
                <a:lnTo>
                  <a:pt x="3059" y="62"/>
                </a:lnTo>
                <a:lnTo>
                  <a:pt x="3042" y="62"/>
                </a:lnTo>
                <a:lnTo>
                  <a:pt x="3025" y="60"/>
                </a:lnTo>
                <a:lnTo>
                  <a:pt x="3008" y="57"/>
                </a:lnTo>
                <a:lnTo>
                  <a:pt x="2991" y="57"/>
                </a:lnTo>
                <a:lnTo>
                  <a:pt x="2974" y="57"/>
                </a:lnTo>
                <a:lnTo>
                  <a:pt x="2951" y="54"/>
                </a:lnTo>
                <a:lnTo>
                  <a:pt x="2932" y="54"/>
                </a:lnTo>
                <a:lnTo>
                  <a:pt x="2912" y="51"/>
                </a:lnTo>
                <a:lnTo>
                  <a:pt x="2889" y="51"/>
                </a:lnTo>
                <a:lnTo>
                  <a:pt x="2866" y="48"/>
                </a:lnTo>
                <a:lnTo>
                  <a:pt x="2844" y="45"/>
                </a:lnTo>
                <a:lnTo>
                  <a:pt x="2821" y="43"/>
                </a:lnTo>
                <a:lnTo>
                  <a:pt x="2799" y="43"/>
                </a:lnTo>
                <a:lnTo>
                  <a:pt x="2773" y="43"/>
                </a:lnTo>
                <a:lnTo>
                  <a:pt x="2750" y="40"/>
                </a:lnTo>
                <a:lnTo>
                  <a:pt x="2725" y="40"/>
                </a:lnTo>
                <a:lnTo>
                  <a:pt x="2699" y="37"/>
                </a:lnTo>
                <a:lnTo>
                  <a:pt x="2677" y="34"/>
                </a:lnTo>
                <a:lnTo>
                  <a:pt x="2651" y="34"/>
                </a:lnTo>
                <a:lnTo>
                  <a:pt x="2626" y="34"/>
                </a:lnTo>
                <a:lnTo>
                  <a:pt x="2603" y="34"/>
                </a:lnTo>
                <a:lnTo>
                  <a:pt x="2575" y="31"/>
                </a:lnTo>
                <a:lnTo>
                  <a:pt x="2549" y="28"/>
                </a:lnTo>
                <a:lnTo>
                  <a:pt x="2527" y="25"/>
                </a:lnTo>
                <a:lnTo>
                  <a:pt x="2501" y="25"/>
                </a:lnTo>
                <a:lnTo>
                  <a:pt x="2476" y="23"/>
                </a:lnTo>
                <a:lnTo>
                  <a:pt x="2453" y="23"/>
                </a:lnTo>
                <a:lnTo>
                  <a:pt x="2427" y="20"/>
                </a:lnTo>
                <a:lnTo>
                  <a:pt x="2405" y="20"/>
                </a:lnTo>
                <a:lnTo>
                  <a:pt x="2382" y="17"/>
                </a:lnTo>
                <a:lnTo>
                  <a:pt x="2360" y="17"/>
                </a:lnTo>
                <a:lnTo>
                  <a:pt x="2337" y="14"/>
                </a:lnTo>
                <a:lnTo>
                  <a:pt x="2314" y="14"/>
                </a:lnTo>
                <a:lnTo>
                  <a:pt x="2292" y="11"/>
                </a:lnTo>
                <a:lnTo>
                  <a:pt x="2272" y="11"/>
                </a:lnTo>
                <a:lnTo>
                  <a:pt x="2255" y="11"/>
                </a:lnTo>
                <a:lnTo>
                  <a:pt x="2235" y="11"/>
                </a:lnTo>
                <a:lnTo>
                  <a:pt x="2215" y="8"/>
                </a:lnTo>
                <a:lnTo>
                  <a:pt x="2198" y="8"/>
                </a:lnTo>
                <a:lnTo>
                  <a:pt x="2181" y="6"/>
                </a:lnTo>
                <a:lnTo>
                  <a:pt x="2167" y="6"/>
                </a:lnTo>
                <a:lnTo>
                  <a:pt x="2150" y="6"/>
                </a:lnTo>
                <a:lnTo>
                  <a:pt x="2136" y="3"/>
                </a:lnTo>
                <a:lnTo>
                  <a:pt x="2124" y="3"/>
                </a:lnTo>
                <a:lnTo>
                  <a:pt x="2116" y="3"/>
                </a:lnTo>
                <a:lnTo>
                  <a:pt x="2105" y="3"/>
                </a:lnTo>
                <a:lnTo>
                  <a:pt x="2093" y="0"/>
                </a:lnTo>
                <a:lnTo>
                  <a:pt x="2085" y="0"/>
                </a:lnTo>
                <a:lnTo>
                  <a:pt x="2082" y="0"/>
                </a:lnTo>
                <a:lnTo>
                  <a:pt x="2073" y="0"/>
                </a:lnTo>
                <a:lnTo>
                  <a:pt x="2071" y="0"/>
                </a:lnTo>
                <a:lnTo>
                  <a:pt x="2071" y="34"/>
                </a:lnTo>
                <a:lnTo>
                  <a:pt x="3034" y="99"/>
                </a:lnTo>
                <a:lnTo>
                  <a:pt x="2141" y="477"/>
                </a:lnTo>
                <a:lnTo>
                  <a:pt x="1943" y="454"/>
                </a:lnTo>
                <a:lnTo>
                  <a:pt x="1940" y="451"/>
                </a:lnTo>
                <a:lnTo>
                  <a:pt x="1938" y="451"/>
                </a:lnTo>
                <a:lnTo>
                  <a:pt x="1932" y="449"/>
                </a:lnTo>
                <a:lnTo>
                  <a:pt x="1926" y="446"/>
                </a:lnTo>
                <a:lnTo>
                  <a:pt x="1915" y="440"/>
                </a:lnTo>
                <a:lnTo>
                  <a:pt x="1904" y="434"/>
                </a:lnTo>
                <a:lnTo>
                  <a:pt x="1892" y="432"/>
                </a:lnTo>
                <a:lnTo>
                  <a:pt x="1881" y="426"/>
                </a:lnTo>
                <a:lnTo>
                  <a:pt x="1872" y="420"/>
                </a:lnTo>
                <a:lnTo>
                  <a:pt x="1864" y="420"/>
                </a:lnTo>
                <a:lnTo>
                  <a:pt x="1858" y="417"/>
                </a:lnTo>
                <a:lnTo>
                  <a:pt x="1850" y="415"/>
                </a:lnTo>
                <a:lnTo>
                  <a:pt x="1841" y="409"/>
                </a:lnTo>
                <a:lnTo>
                  <a:pt x="1833" y="409"/>
                </a:lnTo>
                <a:lnTo>
                  <a:pt x="1824" y="406"/>
                </a:lnTo>
                <a:lnTo>
                  <a:pt x="1819" y="406"/>
                </a:lnTo>
                <a:lnTo>
                  <a:pt x="1807" y="400"/>
                </a:lnTo>
                <a:lnTo>
                  <a:pt x="1799" y="400"/>
                </a:lnTo>
                <a:lnTo>
                  <a:pt x="1790" y="397"/>
                </a:lnTo>
                <a:lnTo>
                  <a:pt x="1782" y="397"/>
                </a:lnTo>
                <a:lnTo>
                  <a:pt x="1773" y="395"/>
                </a:lnTo>
                <a:lnTo>
                  <a:pt x="1765" y="395"/>
                </a:lnTo>
                <a:lnTo>
                  <a:pt x="1756" y="395"/>
                </a:lnTo>
                <a:lnTo>
                  <a:pt x="1748" y="395"/>
                </a:lnTo>
                <a:lnTo>
                  <a:pt x="1790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5"/>
          <p:cNvSpPr/>
          <p:nvPr/>
        </p:nvSpPr>
        <p:spPr>
          <a:xfrm>
            <a:off x="6527880" y="4867200"/>
            <a:ext cx="533160" cy="41400"/>
          </a:xfrm>
          <a:custGeom>
            <a:avLst/>
            <a:gdLst>
              <a:gd name="textAreaLeft" fmla="*/ 0 w 533160"/>
              <a:gd name="textAreaRight" fmla="*/ 533520 w 533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8" h="29">
                <a:moveTo>
                  <a:pt x="34" y="0"/>
                </a:moveTo>
                <a:lnTo>
                  <a:pt x="28" y="0"/>
                </a:lnTo>
                <a:lnTo>
                  <a:pt x="20" y="0"/>
                </a:lnTo>
                <a:lnTo>
                  <a:pt x="9" y="0"/>
                </a:lnTo>
                <a:lnTo>
                  <a:pt x="3" y="9"/>
                </a:lnTo>
                <a:lnTo>
                  <a:pt x="0" y="17"/>
                </a:lnTo>
                <a:lnTo>
                  <a:pt x="6" y="23"/>
                </a:lnTo>
                <a:lnTo>
                  <a:pt x="11" y="26"/>
                </a:lnTo>
                <a:lnTo>
                  <a:pt x="14" y="29"/>
                </a:lnTo>
                <a:lnTo>
                  <a:pt x="346" y="29"/>
                </a:lnTo>
                <a:lnTo>
                  <a:pt x="388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24"/>
          <p:cNvSpPr/>
          <p:nvPr/>
        </p:nvSpPr>
        <p:spPr>
          <a:xfrm>
            <a:off x="7927920" y="4879800"/>
            <a:ext cx="1506600" cy="2329200"/>
          </a:xfrm>
          <a:custGeom>
            <a:avLst/>
            <a:gdLst>
              <a:gd name="textAreaLeft" fmla="*/ 0 w 1506600"/>
              <a:gd name="textAreaRight" fmla="*/ 1506960 w 1506600"/>
              <a:gd name="textAreaTop" fmla="*/ 0 h 2329200"/>
              <a:gd name="textAreaBottom" fmla="*/ 2329560 h 2329200"/>
            </a:gdLst>
            <a:ahLst/>
            <a:rect l="textAreaLeft" t="textAreaTop" r="textAreaRight" b="textAreaBottom"/>
            <a:pathLst>
              <a:path w="1099" h="1667">
                <a:moveTo>
                  <a:pt x="1059" y="11"/>
                </a:moveTo>
                <a:lnTo>
                  <a:pt x="1056" y="11"/>
                </a:lnTo>
                <a:lnTo>
                  <a:pt x="1056" y="17"/>
                </a:lnTo>
                <a:lnTo>
                  <a:pt x="1056" y="20"/>
                </a:lnTo>
                <a:lnTo>
                  <a:pt x="1056" y="26"/>
                </a:lnTo>
                <a:lnTo>
                  <a:pt x="1053" y="31"/>
                </a:lnTo>
                <a:lnTo>
                  <a:pt x="1053" y="40"/>
                </a:lnTo>
                <a:lnTo>
                  <a:pt x="1053" y="45"/>
                </a:lnTo>
                <a:lnTo>
                  <a:pt x="1053" y="54"/>
                </a:lnTo>
                <a:lnTo>
                  <a:pt x="1050" y="62"/>
                </a:lnTo>
                <a:lnTo>
                  <a:pt x="1050" y="71"/>
                </a:lnTo>
                <a:lnTo>
                  <a:pt x="1050" y="82"/>
                </a:lnTo>
                <a:lnTo>
                  <a:pt x="1050" y="94"/>
                </a:lnTo>
                <a:lnTo>
                  <a:pt x="1048" y="105"/>
                </a:lnTo>
                <a:lnTo>
                  <a:pt x="1048" y="116"/>
                </a:lnTo>
                <a:lnTo>
                  <a:pt x="1045" y="128"/>
                </a:lnTo>
                <a:lnTo>
                  <a:pt x="1045" y="142"/>
                </a:lnTo>
                <a:lnTo>
                  <a:pt x="1045" y="153"/>
                </a:lnTo>
                <a:lnTo>
                  <a:pt x="1042" y="168"/>
                </a:lnTo>
                <a:lnTo>
                  <a:pt x="1039" y="182"/>
                </a:lnTo>
                <a:lnTo>
                  <a:pt x="1039" y="196"/>
                </a:lnTo>
                <a:lnTo>
                  <a:pt x="1036" y="213"/>
                </a:lnTo>
                <a:lnTo>
                  <a:pt x="1036" y="227"/>
                </a:lnTo>
                <a:lnTo>
                  <a:pt x="1033" y="244"/>
                </a:lnTo>
                <a:lnTo>
                  <a:pt x="1033" y="258"/>
                </a:lnTo>
                <a:lnTo>
                  <a:pt x="1033" y="275"/>
                </a:lnTo>
                <a:lnTo>
                  <a:pt x="1033" y="292"/>
                </a:lnTo>
                <a:lnTo>
                  <a:pt x="1031" y="310"/>
                </a:lnTo>
                <a:lnTo>
                  <a:pt x="1031" y="327"/>
                </a:lnTo>
                <a:lnTo>
                  <a:pt x="1028" y="344"/>
                </a:lnTo>
                <a:lnTo>
                  <a:pt x="1028" y="361"/>
                </a:lnTo>
                <a:lnTo>
                  <a:pt x="1025" y="378"/>
                </a:lnTo>
                <a:lnTo>
                  <a:pt x="1022" y="392"/>
                </a:lnTo>
                <a:lnTo>
                  <a:pt x="1022" y="409"/>
                </a:lnTo>
                <a:lnTo>
                  <a:pt x="1022" y="426"/>
                </a:lnTo>
                <a:lnTo>
                  <a:pt x="1019" y="443"/>
                </a:lnTo>
                <a:lnTo>
                  <a:pt x="1016" y="460"/>
                </a:lnTo>
                <a:lnTo>
                  <a:pt x="1014" y="477"/>
                </a:lnTo>
                <a:lnTo>
                  <a:pt x="1014" y="494"/>
                </a:lnTo>
                <a:lnTo>
                  <a:pt x="1014" y="508"/>
                </a:lnTo>
                <a:lnTo>
                  <a:pt x="1011" y="525"/>
                </a:lnTo>
                <a:lnTo>
                  <a:pt x="1011" y="542"/>
                </a:lnTo>
                <a:lnTo>
                  <a:pt x="1008" y="559"/>
                </a:lnTo>
                <a:lnTo>
                  <a:pt x="1008" y="574"/>
                </a:lnTo>
                <a:lnTo>
                  <a:pt x="1005" y="588"/>
                </a:lnTo>
                <a:lnTo>
                  <a:pt x="1005" y="602"/>
                </a:lnTo>
                <a:lnTo>
                  <a:pt x="1005" y="619"/>
                </a:lnTo>
                <a:lnTo>
                  <a:pt x="1002" y="630"/>
                </a:lnTo>
                <a:lnTo>
                  <a:pt x="1002" y="645"/>
                </a:lnTo>
                <a:lnTo>
                  <a:pt x="999" y="656"/>
                </a:lnTo>
                <a:lnTo>
                  <a:pt x="999" y="670"/>
                </a:lnTo>
                <a:lnTo>
                  <a:pt x="999" y="682"/>
                </a:lnTo>
                <a:lnTo>
                  <a:pt x="997" y="693"/>
                </a:lnTo>
                <a:lnTo>
                  <a:pt x="997" y="704"/>
                </a:lnTo>
                <a:lnTo>
                  <a:pt x="997" y="716"/>
                </a:lnTo>
                <a:lnTo>
                  <a:pt x="997" y="724"/>
                </a:lnTo>
                <a:lnTo>
                  <a:pt x="994" y="733"/>
                </a:lnTo>
                <a:lnTo>
                  <a:pt x="994" y="741"/>
                </a:lnTo>
                <a:lnTo>
                  <a:pt x="994" y="750"/>
                </a:lnTo>
                <a:lnTo>
                  <a:pt x="994" y="755"/>
                </a:lnTo>
                <a:lnTo>
                  <a:pt x="994" y="761"/>
                </a:lnTo>
                <a:lnTo>
                  <a:pt x="994" y="767"/>
                </a:lnTo>
                <a:lnTo>
                  <a:pt x="994" y="772"/>
                </a:lnTo>
                <a:lnTo>
                  <a:pt x="991" y="781"/>
                </a:lnTo>
                <a:lnTo>
                  <a:pt x="991" y="789"/>
                </a:lnTo>
                <a:lnTo>
                  <a:pt x="991" y="798"/>
                </a:lnTo>
                <a:lnTo>
                  <a:pt x="994" y="809"/>
                </a:lnTo>
                <a:lnTo>
                  <a:pt x="994" y="821"/>
                </a:lnTo>
                <a:lnTo>
                  <a:pt x="994" y="832"/>
                </a:lnTo>
                <a:lnTo>
                  <a:pt x="994" y="838"/>
                </a:lnTo>
                <a:lnTo>
                  <a:pt x="994" y="843"/>
                </a:lnTo>
                <a:lnTo>
                  <a:pt x="997" y="852"/>
                </a:lnTo>
                <a:lnTo>
                  <a:pt x="997" y="860"/>
                </a:lnTo>
                <a:lnTo>
                  <a:pt x="997" y="872"/>
                </a:lnTo>
                <a:lnTo>
                  <a:pt x="999" y="886"/>
                </a:lnTo>
                <a:lnTo>
                  <a:pt x="999" y="892"/>
                </a:lnTo>
                <a:lnTo>
                  <a:pt x="1002" y="900"/>
                </a:lnTo>
                <a:lnTo>
                  <a:pt x="1002" y="909"/>
                </a:lnTo>
                <a:lnTo>
                  <a:pt x="1002" y="914"/>
                </a:lnTo>
                <a:lnTo>
                  <a:pt x="1002" y="923"/>
                </a:lnTo>
                <a:lnTo>
                  <a:pt x="1005" y="931"/>
                </a:lnTo>
                <a:lnTo>
                  <a:pt x="1005" y="937"/>
                </a:lnTo>
                <a:lnTo>
                  <a:pt x="1008" y="946"/>
                </a:lnTo>
                <a:lnTo>
                  <a:pt x="1008" y="954"/>
                </a:lnTo>
                <a:lnTo>
                  <a:pt x="1008" y="960"/>
                </a:lnTo>
                <a:lnTo>
                  <a:pt x="1011" y="968"/>
                </a:lnTo>
                <a:lnTo>
                  <a:pt x="1011" y="977"/>
                </a:lnTo>
                <a:lnTo>
                  <a:pt x="1011" y="983"/>
                </a:lnTo>
                <a:lnTo>
                  <a:pt x="1011" y="991"/>
                </a:lnTo>
                <a:lnTo>
                  <a:pt x="1011" y="997"/>
                </a:lnTo>
                <a:lnTo>
                  <a:pt x="1014" y="1002"/>
                </a:lnTo>
                <a:lnTo>
                  <a:pt x="1014" y="1011"/>
                </a:lnTo>
                <a:lnTo>
                  <a:pt x="1014" y="1017"/>
                </a:lnTo>
                <a:lnTo>
                  <a:pt x="1014" y="1025"/>
                </a:lnTo>
                <a:lnTo>
                  <a:pt x="1014" y="1034"/>
                </a:lnTo>
                <a:lnTo>
                  <a:pt x="1014" y="1045"/>
                </a:lnTo>
                <a:lnTo>
                  <a:pt x="1016" y="1059"/>
                </a:lnTo>
                <a:lnTo>
                  <a:pt x="1016" y="1071"/>
                </a:lnTo>
                <a:lnTo>
                  <a:pt x="1016" y="1085"/>
                </a:lnTo>
                <a:lnTo>
                  <a:pt x="1016" y="1093"/>
                </a:lnTo>
                <a:lnTo>
                  <a:pt x="1016" y="1105"/>
                </a:lnTo>
                <a:lnTo>
                  <a:pt x="1016" y="1113"/>
                </a:lnTo>
                <a:lnTo>
                  <a:pt x="1016" y="1125"/>
                </a:lnTo>
                <a:lnTo>
                  <a:pt x="1014" y="1130"/>
                </a:lnTo>
                <a:lnTo>
                  <a:pt x="1014" y="1139"/>
                </a:lnTo>
                <a:lnTo>
                  <a:pt x="1011" y="1144"/>
                </a:lnTo>
                <a:lnTo>
                  <a:pt x="1011" y="1150"/>
                </a:lnTo>
                <a:lnTo>
                  <a:pt x="1005" y="1150"/>
                </a:lnTo>
                <a:lnTo>
                  <a:pt x="1002" y="1153"/>
                </a:lnTo>
                <a:lnTo>
                  <a:pt x="999" y="1159"/>
                </a:lnTo>
                <a:lnTo>
                  <a:pt x="991" y="1162"/>
                </a:lnTo>
                <a:lnTo>
                  <a:pt x="982" y="1164"/>
                </a:lnTo>
                <a:lnTo>
                  <a:pt x="977" y="1170"/>
                </a:lnTo>
                <a:lnTo>
                  <a:pt x="968" y="1176"/>
                </a:lnTo>
                <a:lnTo>
                  <a:pt x="957" y="1181"/>
                </a:lnTo>
                <a:lnTo>
                  <a:pt x="946" y="1187"/>
                </a:lnTo>
                <a:lnTo>
                  <a:pt x="931" y="1193"/>
                </a:lnTo>
                <a:lnTo>
                  <a:pt x="917" y="1201"/>
                </a:lnTo>
                <a:lnTo>
                  <a:pt x="906" y="1207"/>
                </a:lnTo>
                <a:lnTo>
                  <a:pt x="889" y="1215"/>
                </a:lnTo>
                <a:lnTo>
                  <a:pt x="875" y="1224"/>
                </a:lnTo>
                <a:lnTo>
                  <a:pt x="855" y="1232"/>
                </a:lnTo>
                <a:lnTo>
                  <a:pt x="841" y="1241"/>
                </a:lnTo>
                <a:lnTo>
                  <a:pt x="821" y="1250"/>
                </a:lnTo>
                <a:lnTo>
                  <a:pt x="801" y="1258"/>
                </a:lnTo>
                <a:lnTo>
                  <a:pt x="781" y="1269"/>
                </a:lnTo>
                <a:lnTo>
                  <a:pt x="761" y="1278"/>
                </a:lnTo>
                <a:lnTo>
                  <a:pt x="742" y="1289"/>
                </a:lnTo>
                <a:lnTo>
                  <a:pt x="719" y="1298"/>
                </a:lnTo>
                <a:lnTo>
                  <a:pt x="699" y="1309"/>
                </a:lnTo>
                <a:lnTo>
                  <a:pt x="677" y="1321"/>
                </a:lnTo>
                <a:lnTo>
                  <a:pt x="654" y="1329"/>
                </a:lnTo>
                <a:lnTo>
                  <a:pt x="631" y="1340"/>
                </a:lnTo>
                <a:lnTo>
                  <a:pt x="609" y="1349"/>
                </a:lnTo>
                <a:lnTo>
                  <a:pt x="586" y="1360"/>
                </a:lnTo>
                <a:lnTo>
                  <a:pt x="563" y="1372"/>
                </a:lnTo>
                <a:lnTo>
                  <a:pt x="541" y="1383"/>
                </a:lnTo>
                <a:lnTo>
                  <a:pt x="518" y="1394"/>
                </a:lnTo>
                <a:lnTo>
                  <a:pt x="495" y="1406"/>
                </a:lnTo>
                <a:lnTo>
                  <a:pt x="473" y="1414"/>
                </a:lnTo>
                <a:lnTo>
                  <a:pt x="447" y="1426"/>
                </a:lnTo>
                <a:lnTo>
                  <a:pt x="424" y="1434"/>
                </a:lnTo>
                <a:lnTo>
                  <a:pt x="402" y="1445"/>
                </a:lnTo>
                <a:lnTo>
                  <a:pt x="379" y="1457"/>
                </a:lnTo>
                <a:lnTo>
                  <a:pt x="356" y="1465"/>
                </a:lnTo>
                <a:lnTo>
                  <a:pt x="334" y="1477"/>
                </a:lnTo>
                <a:lnTo>
                  <a:pt x="311" y="1488"/>
                </a:lnTo>
                <a:lnTo>
                  <a:pt x="289" y="1497"/>
                </a:lnTo>
                <a:lnTo>
                  <a:pt x="269" y="1505"/>
                </a:lnTo>
                <a:lnTo>
                  <a:pt x="246" y="1516"/>
                </a:lnTo>
                <a:lnTo>
                  <a:pt x="229" y="1525"/>
                </a:lnTo>
                <a:lnTo>
                  <a:pt x="209" y="1534"/>
                </a:lnTo>
                <a:lnTo>
                  <a:pt x="189" y="1542"/>
                </a:lnTo>
                <a:lnTo>
                  <a:pt x="170" y="1551"/>
                </a:lnTo>
                <a:lnTo>
                  <a:pt x="155" y="1559"/>
                </a:lnTo>
                <a:lnTo>
                  <a:pt x="136" y="1568"/>
                </a:lnTo>
                <a:lnTo>
                  <a:pt x="121" y="1573"/>
                </a:lnTo>
                <a:lnTo>
                  <a:pt x="104" y="1582"/>
                </a:lnTo>
                <a:lnTo>
                  <a:pt x="90" y="1587"/>
                </a:lnTo>
                <a:lnTo>
                  <a:pt x="76" y="1593"/>
                </a:lnTo>
                <a:lnTo>
                  <a:pt x="65" y="1599"/>
                </a:lnTo>
                <a:lnTo>
                  <a:pt x="51" y="1602"/>
                </a:lnTo>
                <a:lnTo>
                  <a:pt x="42" y="1610"/>
                </a:lnTo>
                <a:lnTo>
                  <a:pt x="31" y="1613"/>
                </a:lnTo>
                <a:lnTo>
                  <a:pt x="22" y="1616"/>
                </a:lnTo>
                <a:lnTo>
                  <a:pt x="17" y="1619"/>
                </a:lnTo>
                <a:lnTo>
                  <a:pt x="11" y="1622"/>
                </a:lnTo>
                <a:lnTo>
                  <a:pt x="2" y="1627"/>
                </a:lnTo>
                <a:lnTo>
                  <a:pt x="0" y="1630"/>
                </a:lnTo>
                <a:lnTo>
                  <a:pt x="5" y="1667"/>
                </a:lnTo>
                <a:lnTo>
                  <a:pt x="5" y="1664"/>
                </a:lnTo>
                <a:lnTo>
                  <a:pt x="14" y="1661"/>
                </a:lnTo>
                <a:lnTo>
                  <a:pt x="19" y="1658"/>
                </a:lnTo>
                <a:lnTo>
                  <a:pt x="28" y="1656"/>
                </a:lnTo>
                <a:lnTo>
                  <a:pt x="36" y="1650"/>
                </a:lnTo>
                <a:lnTo>
                  <a:pt x="48" y="1647"/>
                </a:lnTo>
                <a:lnTo>
                  <a:pt x="59" y="1641"/>
                </a:lnTo>
                <a:lnTo>
                  <a:pt x="70" y="1636"/>
                </a:lnTo>
                <a:lnTo>
                  <a:pt x="82" y="1630"/>
                </a:lnTo>
                <a:lnTo>
                  <a:pt x="99" y="1622"/>
                </a:lnTo>
                <a:lnTo>
                  <a:pt x="113" y="1616"/>
                </a:lnTo>
                <a:lnTo>
                  <a:pt x="130" y="1607"/>
                </a:lnTo>
                <a:lnTo>
                  <a:pt x="147" y="1602"/>
                </a:lnTo>
                <a:lnTo>
                  <a:pt x="167" y="1593"/>
                </a:lnTo>
                <a:lnTo>
                  <a:pt x="184" y="1582"/>
                </a:lnTo>
                <a:lnTo>
                  <a:pt x="201" y="1573"/>
                </a:lnTo>
                <a:lnTo>
                  <a:pt x="221" y="1565"/>
                </a:lnTo>
                <a:lnTo>
                  <a:pt x="243" y="1556"/>
                </a:lnTo>
                <a:lnTo>
                  <a:pt x="263" y="1545"/>
                </a:lnTo>
                <a:lnTo>
                  <a:pt x="286" y="1536"/>
                </a:lnTo>
                <a:lnTo>
                  <a:pt x="308" y="1525"/>
                </a:lnTo>
                <a:lnTo>
                  <a:pt x="331" y="1516"/>
                </a:lnTo>
                <a:lnTo>
                  <a:pt x="354" y="1505"/>
                </a:lnTo>
                <a:lnTo>
                  <a:pt x="376" y="1494"/>
                </a:lnTo>
                <a:lnTo>
                  <a:pt x="399" y="1482"/>
                </a:lnTo>
                <a:lnTo>
                  <a:pt x="424" y="1474"/>
                </a:lnTo>
                <a:lnTo>
                  <a:pt x="450" y="1463"/>
                </a:lnTo>
                <a:lnTo>
                  <a:pt x="473" y="1451"/>
                </a:lnTo>
                <a:lnTo>
                  <a:pt x="498" y="1440"/>
                </a:lnTo>
                <a:lnTo>
                  <a:pt x="524" y="1428"/>
                </a:lnTo>
                <a:lnTo>
                  <a:pt x="546" y="1417"/>
                </a:lnTo>
                <a:lnTo>
                  <a:pt x="569" y="1406"/>
                </a:lnTo>
                <a:lnTo>
                  <a:pt x="594" y="1394"/>
                </a:lnTo>
                <a:lnTo>
                  <a:pt x="620" y="1383"/>
                </a:lnTo>
                <a:lnTo>
                  <a:pt x="643" y="1372"/>
                </a:lnTo>
                <a:lnTo>
                  <a:pt x="665" y="1360"/>
                </a:lnTo>
                <a:lnTo>
                  <a:pt x="688" y="1349"/>
                </a:lnTo>
                <a:lnTo>
                  <a:pt x="713" y="1338"/>
                </a:lnTo>
                <a:lnTo>
                  <a:pt x="733" y="1326"/>
                </a:lnTo>
                <a:lnTo>
                  <a:pt x="756" y="1315"/>
                </a:lnTo>
                <a:lnTo>
                  <a:pt x="778" y="1303"/>
                </a:lnTo>
                <a:lnTo>
                  <a:pt x="801" y="1295"/>
                </a:lnTo>
                <a:lnTo>
                  <a:pt x="821" y="1284"/>
                </a:lnTo>
                <a:lnTo>
                  <a:pt x="841" y="1275"/>
                </a:lnTo>
                <a:lnTo>
                  <a:pt x="861" y="1267"/>
                </a:lnTo>
                <a:lnTo>
                  <a:pt x="880" y="1258"/>
                </a:lnTo>
                <a:lnTo>
                  <a:pt x="897" y="1247"/>
                </a:lnTo>
                <a:lnTo>
                  <a:pt x="914" y="1238"/>
                </a:lnTo>
                <a:lnTo>
                  <a:pt x="931" y="1232"/>
                </a:lnTo>
                <a:lnTo>
                  <a:pt x="948" y="1224"/>
                </a:lnTo>
                <a:lnTo>
                  <a:pt x="960" y="1215"/>
                </a:lnTo>
                <a:lnTo>
                  <a:pt x="974" y="1210"/>
                </a:lnTo>
                <a:lnTo>
                  <a:pt x="985" y="1204"/>
                </a:lnTo>
                <a:lnTo>
                  <a:pt x="999" y="1198"/>
                </a:lnTo>
                <a:lnTo>
                  <a:pt x="1008" y="1193"/>
                </a:lnTo>
                <a:lnTo>
                  <a:pt x="1016" y="1187"/>
                </a:lnTo>
                <a:lnTo>
                  <a:pt x="1025" y="1181"/>
                </a:lnTo>
                <a:lnTo>
                  <a:pt x="1033" y="1179"/>
                </a:lnTo>
                <a:lnTo>
                  <a:pt x="1042" y="1173"/>
                </a:lnTo>
                <a:lnTo>
                  <a:pt x="1045" y="1170"/>
                </a:lnTo>
                <a:lnTo>
                  <a:pt x="1045" y="1164"/>
                </a:lnTo>
                <a:lnTo>
                  <a:pt x="1045" y="1162"/>
                </a:lnTo>
                <a:lnTo>
                  <a:pt x="1045" y="1150"/>
                </a:lnTo>
                <a:lnTo>
                  <a:pt x="1045" y="1144"/>
                </a:lnTo>
                <a:lnTo>
                  <a:pt x="1045" y="1133"/>
                </a:lnTo>
                <a:lnTo>
                  <a:pt x="1045" y="1122"/>
                </a:lnTo>
                <a:lnTo>
                  <a:pt x="1045" y="1108"/>
                </a:lnTo>
                <a:lnTo>
                  <a:pt x="1045" y="1096"/>
                </a:lnTo>
                <a:lnTo>
                  <a:pt x="1042" y="1088"/>
                </a:lnTo>
                <a:lnTo>
                  <a:pt x="1042" y="1082"/>
                </a:lnTo>
                <a:lnTo>
                  <a:pt x="1042" y="1073"/>
                </a:lnTo>
                <a:lnTo>
                  <a:pt x="1042" y="1065"/>
                </a:lnTo>
                <a:lnTo>
                  <a:pt x="1042" y="1056"/>
                </a:lnTo>
                <a:lnTo>
                  <a:pt x="1042" y="1051"/>
                </a:lnTo>
                <a:lnTo>
                  <a:pt x="1042" y="1042"/>
                </a:lnTo>
                <a:lnTo>
                  <a:pt x="1042" y="1034"/>
                </a:lnTo>
                <a:lnTo>
                  <a:pt x="1039" y="1022"/>
                </a:lnTo>
                <a:lnTo>
                  <a:pt x="1039" y="1017"/>
                </a:lnTo>
                <a:lnTo>
                  <a:pt x="1039" y="1005"/>
                </a:lnTo>
                <a:lnTo>
                  <a:pt x="1039" y="1000"/>
                </a:lnTo>
                <a:lnTo>
                  <a:pt x="1039" y="991"/>
                </a:lnTo>
                <a:lnTo>
                  <a:pt x="1039" y="980"/>
                </a:lnTo>
                <a:lnTo>
                  <a:pt x="1039" y="971"/>
                </a:lnTo>
                <a:lnTo>
                  <a:pt x="1039" y="966"/>
                </a:lnTo>
                <a:lnTo>
                  <a:pt x="1036" y="954"/>
                </a:lnTo>
                <a:lnTo>
                  <a:pt x="1036" y="946"/>
                </a:lnTo>
                <a:lnTo>
                  <a:pt x="1036" y="937"/>
                </a:lnTo>
                <a:lnTo>
                  <a:pt x="1036" y="929"/>
                </a:lnTo>
                <a:lnTo>
                  <a:pt x="1033" y="920"/>
                </a:lnTo>
                <a:lnTo>
                  <a:pt x="1033" y="912"/>
                </a:lnTo>
                <a:lnTo>
                  <a:pt x="1033" y="903"/>
                </a:lnTo>
                <a:lnTo>
                  <a:pt x="1033" y="895"/>
                </a:lnTo>
                <a:lnTo>
                  <a:pt x="1033" y="886"/>
                </a:lnTo>
                <a:lnTo>
                  <a:pt x="1033" y="880"/>
                </a:lnTo>
                <a:lnTo>
                  <a:pt x="1033" y="872"/>
                </a:lnTo>
                <a:lnTo>
                  <a:pt x="1033" y="863"/>
                </a:lnTo>
                <a:lnTo>
                  <a:pt x="1033" y="858"/>
                </a:lnTo>
                <a:lnTo>
                  <a:pt x="1033" y="849"/>
                </a:lnTo>
                <a:lnTo>
                  <a:pt x="1033" y="843"/>
                </a:lnTo>
                <a:lnTo>
                  <a:pt x="1033" y="838"/>
                </a:lnTo>
                <a:lnTo>
                  <a:pt x="1031" y="824"/>
                </a:lnTo>
                <a:lnTo>
                  <a:pt x="1031" y="815"/>
                </a:lnTo>
                <a:lnTo>
                  <a:pt x="1031" y="804"/>
                </a:lnTo>
                <a:lnTo>
                  <a:pt x="1031" y="798"/>
                </a:lnTo>
                <a:lnTo>
                  <a:pt x="1031" y="787"/>
                </a:lnTo>
                <a:lnTo>
                  <a:pt x="1031" y="784"/>
                </a:lnTo>
                <a:lnTo>
                  <a:pt x="1099" y="0"/>
                </a:lnTo>
                <a:lnTo>
                  <a:pt x="105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3"/>
          <p:cNvSpPr/>
          <p:nvPr/>
        </p:nvSpPr>
        <p:spPr>
          <a:xfrm>
            <a:off x="5641920" y="5364000"/>
            <a:ext cx="2286000" cy="1837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837080"/>
              <a:gd name="textAreaBottom" fmla="*/ 1837440 h 1837080"/>
            </a:gdLst>
            <a:ahLst/>
            <a:rect l="textAreaLeft" t="textAreaTop" r="textAreaRight" b="textAreaBottom"/>
            <a:pathLst>
              <a:path w="1666" h="1315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5"/>
                </a:lnTo>
                <a:lnTo>
                  <a:pt x="0" y="23"/>
                </a:lnTo>
                <a:lnTo>
                  <a:pt x="0" y="32"/>
                </a:lnTo>
                <a:lnTo>
                  <a:pt x="0" y="43"/>
                </a:lnTo>
                <a:lnTo>
                  <a:pt x="0" y="52"/>
                </a:lnTo>
                <a:lnTo>
                  <a:pt x="3" y="66"/>
                </a:lnTo>
                <a:lnTo>
                  <a:pt x="3" y="74"/>
                </a:lnTo>
                <a:lnTo>
                  <a:pt x="6" y="91"/>
                </a:lnTo>
                <a:lnTo>
                  <a:pt x="6" y="106"/>
                </a:lnTo>
                <a:lnTo>
                  <a:pt x="6" y="120"/>
                </a:lnTo>
                <a:lnTo>
                  <a:pt x="9" y="137"/>
                </a:lnTo>
                <a:lnTo>
                  <a:pt x="9" y="154"/>
                </a:lnTo>
                <a:lnTo>
                  <a:pt x="9" y="171"/>
                </a:lnTo>
                <a:lnTo>
                  <a:pt x="12" y="191"/>
                </a:lnTo>
                <a:lnTo>
                  <a:pt x="12" y="208"/>
                </a:lnTo>
                <a:lnTo>
                  <a:pt x="14" y="228"/>
                </a:lnTo>
                <a:lnTo>
                  <a:pt x="17" y="248"/>
                </a:lnTo>
                <a:lnTo>
                  <a:pt x="20" y="270"/>
                </a:lnTo>
                <a:lnTo>
                  <a:pt x="20" y="290"/>
                </a:lnTo>
                <a:lnTo>
                  <a:pt x="23" y="313"/>
                </a:lnTo>
                <a:lnTo>
                  <a:pt x="23" y="336"/>
                </a:lnTo>
                <a:lnTo>
                  <a:pt x="26" y="358"/>
                </a:lnTo>
                <a:lnTo>
                  <a:pt x="29" y="381"/>
                </a:lnTo>
                <a:lnTo>
                  <a:pt x="31" y="404"/>
                </a:lnTo>
                <a:lnTo>
                  <a:pt x="31" y="426"/>
                </a:lnTo>
                <a:lnTo>
                  <a:pt x="34" y="452"/>
                </a:lnTo>
                <a:lnTo>
                  <a:pt x="34" y="475"/>
                </a:lnTo>
                <a:lnTo>
                  <a:pt x="37" y="497"/>
                </a:lnTo>
                <a:lnTo>
                  <a:pt x="37" y="520"/>
                </a:lnTo>
                <a:lnTo>
                  <a:pt x="40" y="546"/>
                </a:lnTo>
                <a:lnTo>
                  <a:pt x="43" y="568"/>
                </a:lnTo>
                <a:lnTo>
                  <a:pt x="43" y="591"/>
                </a:lnTo>
                <a:lnTo>
                  <a:pt x="43" y="614"/>
                </a:lnTo>
                <a:lnTo>
                  <a:pt x="46" y="637"/>
                </a:lnTo>
                <a:lnTo>
                  <a:pt x="48" y="659"/>
                </a:lnTo>
                <a:lnTo>
                  <a:pt x="51" y="682"/>
                </a:lnTo>
                <a:lnTo>
                  <a:pt x="51" y="705"/>
                </a:lnTo>
                <a:lnTo>
                  <a:pt x="51" y="725"/>
                </a:lnTo>
                <a:lnTo>
                  <a:pt x="54" y="747"/>
                </a:lnTo>
                <a:lnTo>
                  <a:pt x="57" y="767"/>
                </a:lnTo>
                <a:lnTo>
                  <a:pt x="57" y="787"/>
                </a:lnTo>
                <a:lnTo>
                  <a:pt x="60" y="807"/>
                </a:lnTo>
                <a:lnTo>
                  <a:pt x="60" y="827"/>
                </a:lnTo>
                <a:lnTo>
                  <a:pt x="63" y="847"/>
                </a:lnTo>
                <a:lnTo>
                  <a:pt x="63" y="861"/>
                </a:lnTo>
                <a:lnTo>
                  <a:pt x="63" y="881"/>
                </a:lnTo>
                <a:lnTo>
                  <a:pt x="63" y="895"/>
                </a:lnTo>
                <a:lnTo>
                  <a:pt x="65" y="912"/>
                </a:lnTo>
                <a:lnTo>
                  <a:pt x="65" y="923"/>
                </a:lnTo>
                <a:lnTo>
                  <a:pt x="65" y="938"/>
                </a:lnTo>
                <a:lnTo>
                  <a:pt x="68" y="952"/>
                </a:lnTo>
                <a:lnTo>
                  <a:pt x="68" y="963"/>
                </a:lnTo>
                <a:lnTo>
                  <a:pt x="68" y="975"/>
                </a:lnTo>
                <a:lnTo>
                  <a:pt x="68" y="983"/>
                </a:lnTo>
                <a:lnTo>
                  <a:pt x="68" y="989"/>
                </a:lnTo>
                <a:lnTo>
                  <a:pt x="71" y="997"/>
                </a:lnTo>
                <a:lnTo>
                  <a:pt x="71" y="1006"/>
                </a:lnTo>
                <a:lnTo>
                  <a:pt x="71" y="1009"/>
                </a:lnTo>
                <a:lnTo>
                  <a:pt x="71" y="1011"/>
                </a:lnTo>
                <a:lnTo>
                  <a:pt x="71" y="1017"/>
                </a:lnTo>
                <a:lnTo>
                  <a:pt x="68" y="1020"/>
                </a:lnTo>
                <a:lnTo>
                  <a:pt x="65" y="1031"/>
                </a:lnTo>
                <a:lnTo>
                  <a:pt x="63" y="1034"/>
                </a:lnTo>
                <a:lnTo>
                  <a:pt x="63" y="1040"/>
                </a:lnTo>
                <a:lnTo>
                  <a:pt x="60" y="1048"/>
                </a:lnTo>
                <a:lnTo>
                  <a:pt x="60" y="1057"/>
                </a:lnTo>
                <a:lnTo>
                  <a:pt x="57" y="1063"/>
                </a:lnTo>
                <a:lnTo>
                  <a:pt x="57" y="1071"/>
                </a:lnTo>
                <a:lnTo>
                  <a:pt x="54" y="1080"/>
                </a:lnTo>
                <a:lnTo>
                  <a:pt x="54" y="1088"/>
                </a:lnTo>
                <a:lnTo>
                  <a:pt x="51" y="1097"/>
                </a:lnTo>
                <a:lnTo>
                  <a:pt x="51" y="1105"/>
                </a:lnTo>
                <a:lnTo>
                  <a:pt x="51" y="1114"/>
                </a:lnTo>
                <a:lnTo>
                  <a:pt x="51" y="1125"/>
                </a:lnTo>
                <a:lnTo>
                  <a:pt x="48" y="1131"/>
                </a:lnTo>
                <a:lnTo>
                  <a:pt x="46" y="1139"/>
                </a:lnTo>
                <a:lnTo>
                  <a:pt x="46" y="1148"/>
                </a:lnTo>
                <a:lnTo>
                  <a:pt x="43" y="1156"/>
                </a:lnTo>
                <a:lnTo>
                  <a:pt x="43" y="1165"/>
                </a:lnTo>
                <a:lnTo>
                  <a:pt x="43" y="1170"/>
                </a:lnTo>
                <a:lnTo>
                  <a:pt x="43" y="1179"/>
                </a:lnTo>
                <a:lnTo>
                  <a:pt x="43" y="1188"/>
                </a:lnTo>
                <a:lnTo>
                  <a:pt x="43" y="1199"/>
                </a:lnTo>
                <a:lnTo>
                  <a:pt x="43" y="1210"/>
                </a:lnTo>
                <a:lnTo>
                  <a:pt x="43" y="1219"/>
                </a:lnTo>
                <a:lnTo>
                  <a:pt x="48" y="1224"/>
                </a:lnTo>
                <a:lnTo>
                  <a:pt x="51" y="1224"/>
                </a:lnTo>
                <a:lnTo>
                  <a:pt x="57" y="1224"/>
                </a:lnTo>
                <a:lnTo>
                  <a:pt x="65" y="1227"/>
                </a:lnTo>
                <a:lnTo>
                  <a:pt x="77" y="1227"/>
                </a:lnTo>
                <a:lnTo>
                  <a:pt x="88" y="1227"/>
                </a:lnTo>
                <a:lnTo>
                  <a:pt x="102" y="1230"/>
                </a:lnTo>
                <a:lnTo>
                  <a:pt x="119" y="1233"/>
                </a:lnTo>
                <a:lnTo>
                  <a:pt x="136" y="1233"/>
                </a:lnTo>
                <a:lnTo>
                  <a:pt x="156" y="1236"/>
                </a:lnTo>
                <a:lnTo>
                  <a:pt x="176" y="1236"/>
                </a:lnTo>
                <a:lnTo>
                  <a:pt x="199" y="1236"/>
                </a:lnTo>
                <a:lnTo>
                  <a:pt x="221" y="1239"/>
                </a:lnTo>
                <a:lnTo>
                  <a:pt x="247" y="1241"/>
                </a:lnTo>
                <a:lnTo>
                  <a:pt x="275" y="1241"/>
                </a:lnTo>
                <a:lnTo>
                  <a:pt x="303" y="1244"/>
                </a:lnTo>
                <a:lnTo>
                  <a:pt x="332" y="1244"/>
                </a:lnTo>
                <a:lnTo>
                  <a:pt x="360" y="1247"/>
                </a:lnTo>
                <a:lnTo>
                  <a:pt x="391" y="1247"/>
                </a:lnTo>
                <a:lnTo>
                  <a:pt x="422" y="1250"/>
                </a:lnTo>
                <a:lnTo>
                  <a:pt x="456" y="1253"/>
                </a:lnTo>
                <a:lnTo>
                  <a:pt x="490" y="1256"/>
                </a:lnTo>
                <a:lnTo>
                  <a:pt x="524" y="1256"/>
                </a:lnTo>
                <a:lnTo>
                  <a:pt x="561" y="1259"/>
                </a:lnTo>
                <a:lnTo>
                  <a:pt x="595" y="1259"/>
                </a:lnTo>
                <a:lnTo>
                  <a:pt x="632" y="1261"/>
                </a:lnTo>
                <a:lnTo>
                  <a:pt x="666" y="1264"/>
                </a:lnTo>
                <a:lnTo>
                  <a:pt x="706" y="1267"/>
                </a:lnTo>
                <a:lnTo>
                  <a:pt x="742" y="1267"/>
                </a:lnTo>
                <a:lnTo>
                  <a:pt x="779" y="1270"/>
                </a:lnTo>
                <a:lnTo>
                  <a:pt x="816" y="1273"/>
                </a:lnTo>
                <a:lnTo>
                  <a:pt x="856" y="1276"/>
                </a:lnTo>
                <a:lnTo>
                  <a:pt x="890" y="1276"/>
                </a:lnTo>
                <a:lnTo>
                  <a:pt x="929" y="1278"/>
                </a:lnTo>
                <a:lnTo>
                  <a:pt x="963" y="1278"/>
                </a:lnTo>
                <a:lnTo>
                  <a:pt x="1003" y="1281"/>
                </a:lnTo>
                <a:lnTo>
                  <a:pt x="1037" y="1284"/>
                </a:lnTo>
                <a:lnTo>
                  <a:pt x="1074" y="1287"/>
                </a:lnTo>
                <a:lnTo>
                  <a:pt x="1111" y="1287"/>
                </a:lnTo>
                <a:lnTo>
                  <a:pt x="1145" y="1290"/>
                </a:lnTo>
                <a:lnTo>
                  <a:pt x="1178" y="1290"/>
                </a:lnTo>
                <a:lnTo>
                  <a:pt x="1212" y="1293"/>
                </a:lnTo>
                <a:lnTo>
                  <a:pt x="1246" y="1293"/>
                </a:lnTo>
                <a:lnTo>
                  <a:pt x="1280" y="1295"/>
                </a:lnTo>
                <a:lnTo>
                  <a:pt x="1312" y="1298"/>
                </a:lnTo>
                <a:lnTo>
                  <a:pt x="1343" y="1298"/>
                </a:lnTo>
                <a:lnTo>
                  <a:pt x="1371" y="1301"/>
                </a:lnTo>
                <a:lnTo>
                  <a:pt x="1402" y="1304"/>
                </a:lnTo>
                <a:lnTo>
                  <a:pt x="1428" y="1304"/>
                </a:lnTo>
                <a:lnTo>
                  <a:pt x="1453" y="1304"/>
                </a:lnTo>
                <a:lnTo>
                  <a:pt x="1479" y="1307"/>
                </a:lnTo>
                <a:lnTo>
                  <a:pt x="1504" y="1307"/>
                </a:lnTo>
                <a:lnTo>
                  <a:pt x="1524" y="1310"/>
                </a:lnTo>
                <a:lnTo>
                  <a:pt x="1544" y="1310"/>
                </a:lnTo>
                <a:lnTo>
                  <a:pt x="1564" y="1310"/>
                </a:lnTo>
                <a:lnTo>
                  <a:pt x="1581" y="1312"/>
                </a:lnTo>
                <a:lnTo>
                  <a:pt x="1595" y="1312"/>
                </a:lnTo>
                <a:lnTo>
                  <a:pt x="1609" y="1312"/>
                </a:lnTo>
                <a:lnTo>
                  <a:pt x="1620" y="1312"/>
                </a:lnTo>
                <a:lnTo>
                  <a:pt x="1632" y="1315"/>
                </a:lnTo>
                <a:lnTo>
                  <a:pt x="1640" y="1315"/>
                </a:lnTo>
                <a:lnTo>
                  <a:pt x="1646" y="1315"/>
                </a:lnTo>
                <a:lnTo>
                  <a:pt x="1649" y="1315"/>
                </a:lnTo>
                <a:lnTo>
                  <a:pt x="1651" y="1315"/>
                </a:lnTo>
                <a:lnTo>
                  <a:pt x="1666" y="1281"/>
                </a:lnTo>
                <a:lnTo>
                  <a:pt x="1663" y="1278"/>
                </a:lnTo>
                <a:lnTo>
                  <a:pt x="1660" y="1278"/>
                </a:lnTo>
                <a:lnTo>
                  <a:pt x="1654" y="1278"/>
                </a:lnTo>
                <a:lnTo>
                  <a:pt x="1649" y="1278"/>
                </a:lnTo>
                <a:lnTo>
                  <a:pt x="1637" y="1278"/>
                </a:lnTo>
                <a:lnTo>
                  <a:pt x="1626" y="1278"/>
                </a:lnTo>
                <a:lnTo>
                  <a:pt x="1612" y="1276"/>
                </a:lnTo>
                <a:lnTo>
                  <a:pt x="1598" y="1276"/>
                </a:lnTo>
                <a:lnTo>
                  <a:pt x="1578" y="1276"/>
                </a:lnTo>
                <a:lnTo>
                  <a:pt x="1561" y="1276"/>
                </a:lnTo>
                <a:lnTo>
                  <a:pt x="1541" y="1273"/>
                </a:lnTo>
                <a:lnTo>
                  <a:pt x="1518" y="1273"/>
                </a:lnTo>
                <a:lnTo>
                  <a:pt x="1493" y="1270"/>
                </a:lnTo>
                <a:lnTo>
                  <a:pt x="1470" y="1270"/>
                </a:lnTo>
                <a:lnTo>
                  <a:pt x="1445" y="1267"/>
                </a:lnTo>
                <a:lnTo>
                  <a:pt x="1419" y="1267"/>
                </a:lnTo>
                <a:lnTo>
                  <a:pt x="1388" y="1267"/>
                </a:lnTo>
                <a:lnTo>
                  <a:pt x="1360" y="1264"/>
                </a:lnTo>
                <a:lnTo>
                  <a:pt x="1329" y="1264"/>
                </a:lnTo>
                <a:lnTo>
                  <a:pt x="1297" y="1261"/>
                </a:lnTo>
                <a:lnTo>
                  <a:pt x="1263" y="1259"/>
                </a:lnTo>
                <a:lnTo>
                  <a:pt x="1229" y="1259"/>
                </a:lnTo>
                <a:lnTo>
                  <a:pt x="1195" y="1256"/>
                </a:lnTo>
                <a:lnTo>
                  <a:pt x="1164" y="1256"/>
                </a:lnTo>
                <a:lnTo>
                  <a:pt x="1128" y="1253"/>
                </a:lnTo>
                <a:lnTo>
                  <a:pt x="1091" y="1253"/>
                </a:lnTo>
                <a:lnTo>
                  <a:pt x="1057" y="1250"/>
                </a:lnTo>
                <a:lnTo>
                  <a:pt x="1020" y="1247"/>
                </a:lnTo>
                <a:lnTo>
                  <a:pt x="983" y="1244"/>
                </a:lnTo>
                <a:lnTo>
                  <a:pt x="946" y="1244"/>
                </a:lnTo>
                <a:lnTo>
                  <a:pt x="909" y="1244"/>
                </a:lnTo>
                <a:lnTo>
                  <a:pt x="873" y="1241"/>
                </a:lnTo>
                <a:lnTo>
                  <a:pt x="836" y="1239"/>
                </a:lnTo>
                <a:lnTo>
                  <a:pt x="796" y="1236"/>
                </a:lnTo>
                <a:lnTo>
                  <a:pt x="759" y="1236"/>
                </a:lnTo>
                <a:lnTo>
                  <a:pt x="723" y="1233"/>
                </a:lnTo>
                <a:lnTo>
                  <a:pt x="686" y="1230"/>
                </a:lnTo>
                <a:lnTo>
                  <a:pt x="649" y="1230"/>
                </a:lnTo>
                <a:lnTo>
                  <a:pt x="612" y="1227"/>
                </a:lnTo>
                <a:lnTo>
                  <a:pt x="581" y="1224"/>
                </a:lnTo>
                <a:lnTo>
                  <a:pt x="544" y="1224"/>
                </a:lnTo>
                <a:lnTo>
                  <a:pt x="510" y="1222"/>
                </a:lnTo>
                <a:lnTo>
                  <a:pt x="476" y="1219"/>
                </a:lnTo>
                <a:lnTo>
                  <a:pt x="445" y="1219"/>
                </a:lnTo>
                <a:lnTo>
                  <a:pt x="411" y="1216"/>
                </a:lnTo>
                <a:lnTo>
                  <a:pt x="380" y="1213"/>
                </a:lnTo>
                <a:lnTo>
                  <a:pt x="351" y="1213"/>
                </a:lnTo>
                <a:lnTo>
                  <a:pt x="326" y="1210"/>
                </a:lnTo>
                <a:lnTo>
                  <a:pt x="295" y="1207"/>
                </a:lnTo>
                <a:lnTo>
                  <a:pt x="269" y="1207"/>
                </a:lnTo>
                <a:lnTo>
                  <a:pt x="244" y="1205"/>
                </a:lnTo>
                <a:lnTo>
                  <a:pt x="221" y="1202"/>
                </a:lnTo>
                <a:lnTo>
                  <a:pt x="199" y="1202"/>
                </a:lnTo>
                <a:lnTo>
                  <a:pt x="179" y="1199"/>
                </a:lnTo>
                <a:lnTo>
                  <a:pt x="159" y="1196"/>
                </a:lnTo>
                <a:lnTo>
                  <a:pt x="142" y="1196"/>
                </a:lnTo>
                <a:lnTo>
                  <a:pt x="125" y="1193"/>
                </a:lnTo>
                <a:lnTo>
                  <a:pt x="114" y="1193"/>
                </a:lnTo>
                <a:lnTo>
                  <a:pt x="99" y="1190"/>
                </a:lnTo>
                <a:lnTo>
                  <a:pt x="91" y="1190"/>
                </a:lnTo>
                <a:lnTo>
                  <a:pt x="82" y="1188"/>
                </a:lnTo>
                <a:lnTo>
                  <a:pt x="77" y="1188"/>
                </a:lnTo>
                <a:lnTo>
                  <a:pt x="74" y="1185"/>
                </a:lnTo>
                <a:lnTo>
                  <a:pt x="74" y="1179"/>
                </a:lnTo>
                <a:lnTo>
                  <a:pt x="74" y="1170"/>
                </a:lnTo>
                <a:lnTo>
                  <a:pt x="74" y="1159"/>
                </a:lnTo>
                <a:lnTo>
                  <a:pt x="74" y="1148"/>
                </a:lnTo>
                <a:lnTo>
                  <a:pt x="74" y="1136"/>
                </a:lnTo>
                <a:lnTo>
                  <a:pt x="77" y="1125"/>
                </a:lnTo>
                <a:lnTo>
                  <a:pt x="80" y="1111"/>
                </a:lnTo>
                <a:lnTo>
                  <a:pt x="82" y="1099"/>
                </a:lnTo>
                <a:lnTo>
                  <a:pt x="82" y="1088"/>
                </a:lnTo>
                <a:lnTo>
                  <a:pt x="85" y="1077"/>
                </a:lnTo>
                <a:lnTo>
                  <a:pt x="85" y="1065"/>
                </a:lnTo>
                <a:lnTo>
                  <a:pt x="88" y="1057"/>
                </a:lnTo>
                <a:lnTo>
                  <a:pt x="88" y="1048"/>
                </a:lnTo>
                <a:lnTo>
                  <a:pt x="91" y="1043"/>
                </a:lnTo>
                <a:lnTo>
                  <a:pt x="91" y="1040"/>
                </a:lnTo>
                <a:lnTo>
                  <a:pt x="94" y="1040"/>
                </a:lnTo>
                <a:lnTo>
                  <a:pt x="99" y="1040"/>
                </a:lnTo>
                <a:lnTo>
                  <a:pt x="105" y="1040"/>
                </a:lnTo>
                <a:lnTo>
                  <a:pt x="114" y="1040"/>
                </a:lnTo>
                <a:lnTo>
                  <a:pt x="122" y="1037"/>
                </a:lnTo>
                <a:lnTo>
                  <a:pt x="128" y="1037"/>
                </a:lnTo>
                <a:lnTo>
                  <a:pt x="131" y="1031"/>
                </a:lnTo>
                <a:lnTo>
                  <a:pt x="128" y="1028"/>
                </a:lnTo>
                <a:lnTo>
                  <a:pt x="125" y="1020"/>
                </a:lnTo>
                <a:lnTo>
                  <a:pt x="116" y="1009"/>
                </a:lnTo>
                <a:lnTo>
                  <a:pt x="111" y="997"/>
                </a:lnTo>
                <a:lnTo>
                  <a:pt x="105" y="986"/>
                </a:lnTo>
                <a:lnTo>
                  <a:pt x="99" y="972"/>
                </a:lnTo>
                <a:lnTo>
                  <a:pt x="97" y="963"/>
                </a:lnTo>
                <a:lnTo>
                  <a:pt x="94" y="955"/>
                </a:lnTo>
                <a:lnTo>
                  <a:pt x="3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2"/>
          <p:cNvSpPr/>
          <p:nvPr/>
        </p:nvSpPr>
        <p:spPr>
          <a:xfrm>
            <a:off x="5824440" y="681192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71">
                <a:moveTo>
                  <a:pt x="9" y="0"/>
                </a:moveTo>
                <a:lnTo>
                  <a:pt x="0" y="26"/>
                </a:lnTo>
                <a:lnTo>
                  <a:pt x="0" y="28"/>
                </a:lnTo>
                <a:lnTo>
                  <a:pt x="3" y="34"/>
                </a:lnTo>
                <a:lnTo>
                  <a:pt x="12" y="45"/>
                </a:lnTo>
                <a:lnTo>
                  <a:pt x="17" y="57"/>
                </a:lnTo>
                <a:lnTo>
                  <a:pt x="23" y="65"/>
                </a:lnTo>
                <a:lnTo>
                  <a:pt x="29" y="71"/>
                </a:lnTo>
                <a:lnTo>
                  <a:pt x="34" y="71"/>
                </a:lnTo>
                <a:lnTo>
                  <a:pt x="34" y="68"/>
                </a:lnTo>
                <a:lnTo>
                  <a:pt x="32" y="54"/>
                </a:lnTo>
                <a:lnTo>
                  <a:pt x="29" y="43"/>
                </a:lnTo>
                <a:lnTo>
                  <a:pt x="23" y="31"/>
                </a:lnTo>
                <a:lnTo>
                  <a:pt x="20" y="23"/>
                </a:lnTo>
                <a:lnTo>
                  <a:pt x="15" y="11"/>
                </a:lnTo>
                <a:lnTo>
                  <a:pt x="12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1"/>
          <p:cNvSpPr/>
          <p:nvPr/>
        </p:nvSpPr>
        <p:spPr>
          <a:xfrm>
            <a:off x="9328320" y="4329000"/>
            <a:ext cx="603000" cy="314280"/>
          </a:xfrm>
          <a:custGeom>
            <a:avLst/>
            <a:gdLst>
              <a:gd name="textAreaLeft" fmla="*/ 0 w 603000"/>
              <a:gd name="textAreaRight" fmla="*/ 603360 w 603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39" h="225">
                <a:moveTo>
                  <a:pt x="0" y="14"/>
                </a:moveTo>
                <a:lnTo>
                  <a:pt x="405" y="225"/>
                </a:lnTo>
                <a:lnTo>
                  <a:pt x="411" y="222"/>
                </a:lnTo>
                <a:lnTo>
                  <a:pt x="419" y="219"/>
                </a:lnTo>
                <a:lnTo>
                  <a:pt x="428" y="213"/>
                </a:lnTo>
                <a:lnTo>
                  <a:pt x="433" y="210"/>
                </a:lnTo>
                <a:lnTo>
                  <a:pt x="439" y="205"/>
                </a:lnTo>
                <a:lnTo>
                  <a:pt x="439" y="199"/>
                </a:lnTo>
                <a:lnTo>
                  <a:pt x="436" y="193"/>
                </a:lnTo>
                <a:lnTo>
                  <a:pt x="431" y="191"/>
                </a:lnTo>
                <a:lnTo>
                  <a:pt x="425" y="188"/>
                </a:lnTo>
                <a:lnTo>
                  <a:pt x="419" y="182"/>
                </a:lnTo>
                <a:lnTo>
                  <a:pt x="411" y="179"/>
                </a:lnTo>
                <a:lnTo>
                  <a:pt x="399" y="173"/>
                </a:lnTo>
                <a:lnTo>
                  <a:pt x="388" y="168"/>
                </a:lnTo>
                <a:lnTo>
                  <a:pt x="377" y="162"/>
                </a:lnTo>
                <a:lnTo>
                  <a:pt x="363" y="156"/>
                </a:lnTo>
                <a:lnTo>
                  <a:pt x="354" y="151"/>
                </a:lnTo>
                <a:lnTo>
                  <a:pt x="348" y="148"/>
                </a:lnTo>
                <a:lnTo>
                  <a:pt x="340" y="142"/>
                </a:lnTo>
                <a:lnTo>
                  <a:pt x="331" y="139"/>
                </a:lnTo>
                <a:lnTo>
                  <a:pt x="323" y="137"/>
                </a:lnTo>
                <a:lnTo>
                  <a:pt x="317" y="131"/>
                </a:lnTo>
                <a:lnTo>
                  <a:pt x="309" y="128"/>
                </a:lnTo>
                <a:lnTo>
                  <a:pt x="300" y="125"/>
                </a:lnTo>
                <a:lnTo>
                  <a:pt x="289" y="120"/>
                </a:lnTo>
                <a:lnTo>
                  <a:pt x="283" y="117"/>
                </a:lnTo>
                <a:lnTo>
                  <a:pt x="272" y="111"/>
                </a:lnTo>
                <a:lnTo>
                  <a:pt x="266" y="108"/>
                </a:lnTo>
                <a:lnTo>
                  <a:pt x="258" y="102"/>
                </a:lnTo>
                <a:lnTo>
                  <a:pt x="246" y="97"/>
                </a:lnTo>
                <a:lnTo>
                  <a:pt x="238" y="94"/>
                </a:lnTo>
                <a:lnTo>
                  <a:pt x="232" y="91"/>
                </a:lnTo>
                <a:lnTo>
                  <a:pt x="221" y="85"/>
                </a:lnTo>
                <a:lnTo>
                  <a:pt x="212" y="83"/>
                </a:lnTo>
                <a:lnTo>
                  <a:pt x="204" y="77"/>
                </a:lnTo>
                <a:lnTo>
                  <a:pt x="195" y="74"/>
                </a:lnTo>
                <a:lnTo>
                  <a:pt x="187" y="68"/>
                </a:lnTo>
                <a:lnTo>
                  <a:pt x="178" y="66"/>
                </a:lnTo>
                <a:lnTo>
                  <a:pt x="170" y="60"/>
                </a:lnTo>
                <a:lnTo>
                  <a:pt x="161" y="57"/>
                </a:lnTo>
                <a:lnTo>
                  <a:pt x="153" y="54"/>
                </a:lnTo>
                <a:lnTo>
                  <a:pt x="145" y="49"/>
                </a:lnTo>
                <a:lnTo>
                  <a:pt x="139" y="46"/>
                </a:lnTo>
                <a:lnTo>
                  <a:pt x="130" y="43"/>
                </a:lnTo>
                <a:lnTo>
                  <a:pt x="122" y="37"/>
                </a:lnTo>
                <a:lnTo>
                  <a:pt x="116" y="34"/>
                </a:lnTo>
                <a:lnTo>
                  <a:pt x="108" y="31"/>
                </a:lnTo>
                <a:lnTo>
                  <a:pt x="102" y="29"/>
                </a:lnTo>
                <a:lnTo>
                  <a:pt x="88" y="23"/>
                </a:lnTo>
                <a:lnTo>
                  <a:pt x="79" y="17"/>
                </a:lnTo>
                <a:lnTo>
                  <a:pt x="68" y="12"/>
                </a:lnTo>
                <a:lnTo>
                  <a:pt x="62" y="9"/>
                </a:lnTo>
                <a:lnTo>
                  <a:pt x="54" y="3"/>
                </a:lnTo>
                <a:lnTo>
                  <a:pt x="51" y="3"/>
                </a:ln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0"/>
          <p:cNvSpPr/>
          <p:nvPr/>
        </p:nvSpPr>
        <p:spPr>
          <a:xfrm>
            <a:off x="6935760" y="4570560"/>
            <a:ext cx="63360" cy="147600"/>
          </a:xfrm>
          <a:custGeom>
            <a:avLst/>
            <a:gdLst>
              <a:gd name="textAreaLeft" fmla="*/ 0 w 63360"/>
              <a:gd name="textAreaRight" fmla="*/ 63720 w 63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6" h="106">
                <a:moveTo>
                  <a:pt x="34" y="9"/>
                </a:moveTo>
                <a:lnTo>
                  <a:pt x="29" y="3"/>
                </a:lnTo>
                <a:lnTo>
                  <a:pt x="20" y="0"/>
                </a:lnTo>
                <a:lnTo>
                  <a:pt x="15" y="3"/>
                </a:lnTo>
                <a:lnTo>
                  <a:pt x="9" y="15"/>
                </a:lnTo>
                <a:lnTo>
                  <a:pt x="6" y="23"/>
                </a:lnTo>
                <a:lnTo>
                  <a:pt x="3" y="35"/>
                </a:lnTo>
                <a:lnTo>
                  <a:pt x="3" y="40"/>
                </a:lnTo>
                <a:lnTo>
                  <a:pt x="3" y="49"/>
                </a:lnTo>
                <a:lnTo>
                  <a:pt x="3" y="57"/>
                </a:lnTo>
                <a:lnTo>
                  <a:pt x="3" y="63"/>
                </a:lnTo>
                <a:lnTo>
                  <a:pt x="0" y="77"/>
                </a:lnTo>
                <a:lnTo>
                  <a:pt x="3" y="89"/>
                </a:lnTo>
                <a:lnTo>
                  <a:pt x="6" y="97"/>
                </a:lnTo>
                <a:lnTo>
                  <a:pt x="12" y="103"/>
                </a:lnTo>
                <a:lnTo>
                  <a:pt x="23" y="106"/>
                </a:lnTo>
                <a:lnTo>
                  <a:pt x="32" y="106"/>
                </a:lnTo>
                <a:lnTo>
                  <a:pt x="40" y="103"/>
                </a:lnTo>
                <a:lnTo>
                  <a:pt x="46" y="100"/>
                </a:lnTo>
                <a:lnTo>
                  <a:pt x="46" y="91"/>
                </a:lnTo>
                <a:lnTo>
                  <a:pt x="46" y="80"/>
                </a:lnTo>
                <a:lnTo>
                  <a:pt x="43" y="71"/>
                </a:lnTo>
                <a:lnTo>
                  <a:pt x="43" y="63"/>
                </a:lnTo>
                <a:lnTo>
                  <a:pt x="43" y="57"/>
                </a:lnTo>
                <a:lnTo>
                  <a:pt x="43" y="49"/>
                </a:lnTo>
                <a:lnTo>
                  <a:pt x="43" y="40"/>
                </a:lnTo>
                <a:lnTo>
                  <a:pt x="43" y="35"/>
                </a:lnTo>
                <a:lnTo>
                  <a:pt x="40" y="26"/>
                </a:lnTo>
                <a:lnTo>
                  <a:pt x="40" y="20"/>
                </a:lnTo>
                <a:lnTo>
                  <a:pt x="37" y="9"/>
                </a:lnTo>
                <a:lnTo>
                  <a:pt x="3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9"/>
          <p:cNvSpPr/>
          <p:nvPr/>
        </p:nvSpPr>
        <p:spPr>
          <a:xfrm>
            <a:off x="6808680" y="4765680"/>
            <a:ext cx="81000" cy="114120"/>
          </a:xfrm>
          <a:custGeom>
            <a:avLst/>
            <a:gdLst>
              <a:gd name="textAreaLeft" fmla="*/ 0 w 81000"/>
              <a:gd name="textAreaRight" fmla="*/ 81360 w 81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9" h="82">
                <a:moveTo>
                  <a:pt x="0" y="19"/>
                </a:moveTo>
                <a:lnTo>
                  <a:pt x="3" y="31"/>
                </a:lnTo>
                <a:lnTo>
                  <a:pt x="8" y="37"/>
                </a:lnTo>
                <a:lnTo>
                  <a:pt x="14" y="39"/>
                </a:lnTo>
                <a:lnTo>
                  <a:pt x="17" y="42"/>
                </a:lnTo>
                <a:lnTo>
                  <a:pt x="23" y="82"/>
                </a:lnTo>
                <a:lnTo>
                  <a:pt x="54" y="82"/>
                </a:lnTo>
                <a:lnTo>
                  <a:pt x="40" y="37"/>
                </a:lnTo>
                <a:lnTo>
                  <a:pt x="45" y="34"/>
                </a:lnTo>
                <a:lnTo>
                  <a:pt x="51" y="31"/>
                </a:lnTo>
                <a:lnTo>
                  <a:pt x="59" y="25"/>
                </a:lnTo>
                <a:lnTo>
                  <a:pt x="59" y="17"/>
                </a:lnTo>
                <a:lnTo>
                  <a:pt x="59" y="8"/>
                </a:lnTo>
                <a:lnTo>
                  <a:pt x="57" y="2"/>
                </a:lnTo>
                <a:lnTo>
                  <a:pt x="54" y="0"/>
                </a:lnTo>
                <a:lnTo>
                  <a:pt x="51" y="0"/>
                </a:lnTo>
                <a:lnTo>
                  <a:pt x="45" y="0"/>
                </a:lnTo>
                <a:lnTo>
                  <a:pt x="40" y="0"/>
                </a:lnTo>
                <a:lnTo>
                  <a:pt x="34" y="0"/>
                </a:lnTo>
                <a:lnTo>
                  <a:pt x="28" y="5"/>
                </a:lnTo>
                <a:lnTo>
                  <a:pt x="20" y="8"/>
                </a:lnTo>
                <a:lnTo>
                  <a:pt x="14" y="11"/>
                </a:lnTo>
                <a:lnTo>
                  <a:pt x="3" y="1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8"/>
          <p:cNvSpPr/>
          <p:nvPr/>
        </p:nvSpPr>
        <p:spPr>
          <a:xfrm>
            <a:off x="6699240" y="4098960"/>
            <a:ext cx="504720" cy="797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368" h="570">
                <a:moveTo>
                  <a:pt x="53" y="562"/>
                </a:moveTo>
                <a:lnTo>
                  <a:pt x="53" y="562"/>
                </a:lnTo>
                <a:lnTo>
                  <a:pt x="53" y="556"/>
                </a:lnTo>
                <a:lnTo>
                  <a:pt x="51" y="548"/>
                </a:lnTo>
                <a:lnTo>
                  <a:pt x="48" y="536"/>
                </a:lnTo>
                <a:lnTo>
                  <a:pt x="45" y="528"/>
                </a:lnTo>
                <a:lnTo>
                  <a:pt x="42" y="519"/>
                </a:lnTo>
                <a:lnTo>
                  <a:pt x="42" y="514"/>
                </a:lnTo>
                <a:lnTo>
                  <a:pt x="42" y="505"/>
                </a:lnTo>
                <a:lnTo>
                  <a:pt x="39" y="496"/>
                </a:lnTo>
                <a:lnTo>
                  <a:pt x="39" y="488"/>
                </a:lnTo>
                <a:lnTo>
                  <a:pt x="39" y="477"/>
                </a:lnTo>
                <a:lnTo>
                  <a:pt x="39" y="468"/>
                </a:lnTo>
                <a:lnTo>
                  <a:pt x="39" y="457"/>
                </a:lnTo>
                <a:lnTo>
                  <a:pt x="39" y="445"/>
                </a:lnTo>
                <a:lnTo>
                  <a:pt x="39" y="434"/>
                </a:lnTo>
                <a:lnTo>
                  <a:pt x="42" y="426"/>
                </a:lnTo>
                <a:lnTo>
                  <a:pt x="42" y="414"/>
                </a:lnTo>
                <a:lnTo>
                  <a:pt x="45" y="403"/>
                </a:lnTo>
                <a:lnTo>
                  <a:pt x="45" y="391"/>
                </a:lnTo>
                <a:lnTo>
                  <a:pt x="51" y="380"/>
                </a:lnTo>
                <a:lnTo>
                  <a:pt x="53" y="369"/>
                </a:lnTo>
                <a:lnTo>
                  <a:pt x="56" y="357"/>
                </a:lnTo>
                <a:lnTo>
                  <a:pt x="62" y="343"/>
                </a:lnTo>
                <a:lnTo>
                  <a:pt x="68" y="332"/>
                </a:lnTo>
                <a:lnTo>
                  <a:pt x="73" y="320"/>
                </a:lnTo>
                <a:lnTo>
                  <a:pt x="79" y="309"/>
                </a:lnTo>
                <a:lnTo>
                  <a:pt x="87" y="301"/>
                </a:lnTo>
                <a:lnTo>
                  <a:pt x="96" y="289"/>
                </a:lnTo>
                <a:lnTo>
                  <a:pt x="104" y="278"/>
                </a:lnTo>
                <a:lnTo>
                  <a:pt x="113" y="269"/>
                </a:lnTo>
                <a:lnTo>
                  <a:pt x="119" y="258"/>
                </a:lnTo>
                <a:lnTo>
                  <a:pt x="127" y="249"/>
                </a:lnTo>
                <a:lnTo>
                  <a:pt x="133" y="241"/>
                </a:lnTo>
                <a:lnTo>
                  <a:pt x="138" y="235"/>
                </a:lnTo>
                <a:lnTo>
                  <a:pt x="144" y="227"/>
                </a:lnTo>
                <a:lnTo>
                  <a:pt x="150" y="221"/>
                </a:lnTo>
                <a:lnTo>
                  <a:pt x="158" y="207"/>
                </a:lnTo>
                <a:lnTo>
                  <a:pt x="167" y="198"/>
                </a:lnTo>
                <a:lnTo>
                  <a:pt x="172" y="187"/>
                </a:lnTo>
                <a:lnTo>
                  <a:pt x="178" y="181"/>
                </a:lnTo>
                <a:lnTo>
                  <a:pt x="184" y="170"/>
                </a:lnTo>
                <a:lnTo>
                  <a:pt x="187" y="164"/>
                </a:lnTo>
                <a:lnTo>
                  <a:pt x="184" y="161"/>
                </a:lnTo>
                <a:lnTo>
                  <a:pt x="178" y="161"/>
                </a:lnTo>
                <a:lnTo>
                  <a:pt x="170" y="161"/>
                </a:lnTo>
                <a:lnTo>
                  <a:pt x="161" y="164"/>
                </a:lnTo>
                <a:lnTo>
                  <a:pt x="150" y="170"/>
                </a:lnTo>
                <a:lnTo>
                  <a:pt x="138" y="176"/>
                </a:lnTo>
                <a:lnTo>
                  <a:pt x="127" y="178"/>
                </a:lnTo>
                <a:lnTo>
                  <a:pt x="116" y="184"/>
                </a:lnTo>
                <a:lnTo>
                  <a:pt x="107" y="187"/>
                </a:lnTo>
                <a:lnTo>
                  <a:pt x="102" y="187"/>
                </a:lnTo>
                <a:lnTo>
                  <a:pt x="93" y="184"/>
                </a:lnTo>
                <a:lnTo>
                  <a:pt x="87" y="184"/>
                </a:lnTo>
                <a:lnTo>
                  <a:pt x="79" y="184"/>
                </a:lnTo>
                <a:lnTo>
                  <a:pt x="76" y="181"/>
                </a:lnTo>
                <a:lnTo>
                  <a:pt x="68" y="178"/>
                </a:lnTo>
                <a:lnTo>
                  <a:pt x="65" y="176"/>
                </a:lnTo>
                <a:lnTo>
                  <a:pt x="65" y="173"/>
                </a:lnTo>
                <a:lnTo>
                  <a:pt x="70" y="164"/>
                </a:lnTo>
                <a:lnTo>
                  <a:pt x="76" y="161"/>
                </a:lnTo>
                <a:lnTo>
                  <a:pt x="82" y="156"/>
                </a:lnTo>
                <a:lnTo>
                  <a:pt x="87" y="150"/>
                </a:lnTo>
                <a:lnTo>
                  <a:pt x="96" y="144"/>
                </a:lnTo>
                <a:lnTo>
                  <a:pt x="104" y="139"/>
                </a:lnTo>
                <a:lnTo>
                  <a:pt x="113" y="133"/>
                </a:lnTo>
                <a:lnTo>
                  <a:pt x="124" y="127"/>
                </a:lnTo>
                <a:lnTo>
                  <a:pt x="136" y="124"/>
                </a:lnTo>
                <a:lnTo>
                  <a:pt x="147" y="119"/>
                </a:lnTo>
                <a:lnTo>
                  <a:pt x="158" y="113"/>
                </a:lnTo>
                <a:lnTo>
                  <a:pt x="170" y="110"/>
                </a:lnTo>
                <a:lnTo>
                  <a:pt x="181" y="105"/>
                </a:lnTo>
                <a:lnTo>
                  <a:pt x="192" y="102"/>
                </a:lnTo>
                <a:lnTo>
                  <a:pt x="204" y="99"/>
                </a:lnTo>
                <a:lnTo>
                  <a:pt x="212" y="96"/>
                </a:lnTo>
                <a:lnTo>
                  <a:pt x="221" y="93"/>
                </a:lnTo>
                <a:lnTo>
                  <a:pt x="229" y="90"/>
                </a:lnTo>
                <a:lnTo>
                  <a:pt x="235" y="90"/>
                </a:lnTo>
                <a:lnTo>
                  <a:pt x="243" y="90"/>
                </a:lnTo>
                <a:lnTo>
                  <a:pt x="252" y="90"/>
                </a:lnTo>
                <a:lnTo>
                  <a:pt x="257" y="90"/>
                </a:lnTo>
                <a:lnTo>
                  <a:pt x="266" y="93"/>
                </a:lnTo>
                <a:lnTo>
                  <a:pt x="274" y="96"/>
                </a:lnTo>
                <a:lnTo>
                  <a:pt x="280" y="99"/>
                </a:lnTo>
                <a:lnTo>
                  <a:pt x="291" y="99"/>
                </a:lnTo>
                <a:lnTo>
                  <a:pt x="297" y="102"/>
                </a:lnTo>
                <a:lnTo>
                  <a:pt x="303" y="99"/>
                </a:lnTo>
                <a:lnTo>
                  <a:pt x="297" y="90"/>
                </a:lnTo>
                <a:lnTo>
                  <a:pt x="289" y="85"/>
                </a:lnTo>
                <a:lnTo>
                  <a:pt x="277" y="76"/>
                </a:lnTo>
                <a:lnTo>
                  <a:pt x="266" y="68"/>
                </a:lnTo>
                <a:lnTo>
                  <a:pt x="255" y="59"/>
                </a:lnTo>
                <a:lnTo>
                  <a:pt x="246" y="51"/>
                </a:lnTo>
                <a:lnTo>
                  <a:pt x="240" y="42"/>
                </a:lnTo>
                <a:lnTo>
                  <a:pt x="240" y="34"/>
                </a:lnTo>
                <a:lnTo>
                  <a:pt x="240" y="31"/>
                </a:lnTo>
                <a:lnTo>
                  <a:pt x="246" y="28"/>
                </a:lnTo>
                <a:lnTo>
                  <a:pt x="249" y="28"/>
                </a:lnTo>
                <a:lnTo>
                  <a:pt x="257" y="31"/>
                </a:lnTo>
                <a:lnTo>
                  <a:pt x="266" y="34"/>
                </a:lnTo>
                <a:lnTo>
                  <a:pt x="274" y="39"/>
                </a:lnTo>
                <a:lnTo>
                  <a:pt x="283" y="45"/>
                </a:lnTo>
                <a:lnTo>
                  <a:pt x="294" y="53"/>
                </a:lnTo>
                <a:lnTo>
                  <a:pt x="303" y="56"/>
                </a:lnTo>
                <a:lnTo>
                  <a:pt x="311" y="65"/>
                </a:lnTo>
                <a:lnTo>
                  <a:pt x="320" y="71"/>
                </a:lnTo>
                <a:lnTo>
                  <a:pt x="328" y="76"/>
                </a:lnTo>
                <a:lnTo>
                  <a:pt x="340" y="85"/>
                </a:lnTo>
                <a:lnTo>
                  <a:pt x="345" y="90"/>
                </a:lnTo>
                <a:lnTo>
                  <a:pt x="368" y="88"/>
                </a:lnTo>
                <a:lnTo>
                  <a:pt x="362" y="82"/>
                </a:lnTo>
                <a:lnTo>
                  <a:pt x="351" y="73"/>
                </a:lnTo>
                <a:lnTo>
                  <a:pt x="342" y="65"/>
                </a:lnTo>
                <a:lnTo>
                  <a:pt x="337" y="59"/>
                </a:lnTo>
                <a:lnTo>
                  <a:pt x="328" y="51"/>
                </a:lnTo>
                <a:lnTo>
                  <a:pt x="320" y="45"/>
                </a:lnTo>
                <a:lnTo>
                  <a:pt x="308" y="34"/>
                </a:lnTo>
                <a:lnTo>
                  <a:pt x="297" y="25"/>
                </a:lnTo>
                <a:lnTo>
                  <a:pt x="286" y="19"/>
                </a:lnTo>
                <a:lnTo>
                  <a:pt x="277" y="14"/>
                </a:lnTo>
                <a:lnTo>
                  <a:pt x="266" y="5"/>
                </a:lnTo>
                <a:lnTo>
                  <a:pt x="257" y="2"/>
                </a:lnTo>
                <a:lnTo>
                  <a:pt x="246" y="0"/>
                </a:lnTo>
                <a:lnTo>
                  <a:pt x="240" y="0"/>
                </a:lnTo>
                <a:lnTo>
                  <a:pt x="226" y="0"/>
                </a:lnTo>
                <a:lnTo>
                  <a:pt x="218" y="5"/>
                </a:lnTo>
                <a:lnTo>
                  <a:pt x="212" y="11"/>
                </a:lnTo>
                <a:lnTo>
                  <a:pt x="209" y="22"/>
                </a:lnTo>
                <a:lnTo>
                  <a:pt x="206" y="31"/>
                </a:lnTo>
                <a:lnTo>
                  <a:pt x="212" y="39"/>
                </a:lnTo>
                <a:lnTo>
                  <a:pt x="215" y="45"/>
                </a:lnTo>
                <a:lnTo>
                  <a:pt x="218" y="48"/>
                </a:lnTo>
                <a:lnTo>
                  <a:pt x="223" y="53"/>
                </a:lnTo>
                <a:lnTo>
                  <a:pt x="232" y="56"/>
                </a:lnTo>
                <a:lnTo>
                  <a:pt x="229" y="56"/>
                </a:lnTo>
                <a:lnTo>
                  <a:pt x="223" y="59"/>
                </a:lnTo>
                <a:lnTo>
                  <a:pt x="212" y="62"/>
                </a:lnTo>
                <a:lnTo>
                  <a:pt x="201" y="68"/>
                </a:lnTo>
                <a:lnTo>
                  <a:pt x="192" y="71"/>
                </a:lnTo>
                <a:lnTo>
                  <a:pt x="184" y="73"/>
                </a:lnTo>
                <a:lnTo>
                  <a:pt x="175" y="76"/>
                </a:lnTo>
                <a:lnTo>
                  <a:pt x="167" y="82"/>
                </a:lnTo>
                <a:lnTo>
                  <a:pt x="158" y="85"/>
                </a:lnTo>
                <a:lnTo>
                  <a:pt x="150" y="88"/>
                </a:lnTo>
                <a:lnTo>
                  <a:pt x="141" y="93"/>
                </a:lnTo>
                <a:lnTo>
                  <a:pt x="133" y="99"/>
                </a:lnTo>
                <a:lnTo>
                  <a:pt x="121" y="102"/>
                </a:lnTo>
                <a:lnTo>
                  <a:pt x="113" y="105"/>
                </a:lnTo>
                <a:lnTo>
                  <a:pt x="102" y="110"/>
                </a:lnTo>
                <a:lnTo>
                  <a:pt x="96" y="113"/>
                </a:lnTo>
                <a:lnTo>
                  <a:pt x="85" y="116"/>
                </a:lnTo>
                <a:lnTo>
                  <a:pt x="76" y="122"/>
                </a:lnTo>
                <a:lnTo>
                  <a:pt x="68" y="124"/>
                </a:lnTo>
                <a:lnTo>
                  <a:pt x="62" y="130"/>
                </a:lnTo>
                <a:lnTo>
                  <a:pt x="53" y="133"/>
                </a:lnTo>
                <a:lnTo>
                  <a:pt x="45" y="136"/>
                </a:lnTo>
                <a:lnTo>
                  <a:pt x="39" y="142"/>
                </a:lnTo>
                <a:lnTo>
                  <a:pt x="34" y="144"/>
                </a:lnTo>
                <a:lnTo>
                  <a:pt x="25" y="150"/>
                </a:lnTo>
                <a:lnTo>
                  <a:pt x="22" y="156"/>
                </a:lnTo>
                <a:lnTo>
                  <a:pt x="17" y="161"/>
                </a:lnTo>
                <a:lnTo>
                  <a:pt x="17" y="167"/>
                </a:lnTo>
                <a:lnTo>
                  <a:pt x="17" y="173"/>
                </a:lnTo>
                <a:lnTo>
                  <a:pt x="22" y="178"/>
                </a:lnTo>
                <a:lnTo>
                  <a:pt x="25" y="181"/>
                </a:lnTo>
                <a:lnTo>
                  <a:pt x="34" y="187"/>
                </a:lnTo>
                <a:lnTo>
                  <a:pt x="39" y="190"/>
                </a:lnTo>
                <a:lnTo>
                  <a:pt x="45" y="195"/>
                </a:lnTo>
                <a:lnTo>
                  <a:pt x="51" y="198"/>
                </a:lnTo>
                <a:lnTo>
                  <a:pt x="59" y="201"/>
                </a:lnTo>
                <a:lnTo>
                  <a:pt x="68" y="201"/>
                </a:lnTo>
                <a:lnTo>
                  <a:pt x="79" y="204"/>
                </a:lnTo>
                <a:lnTo>
                  <a:pt x="87" y="204"/>
                </a:lnTo>
                <a:lnTo>
                  <a:pt x="99" y="204"/>
                </a:lnTo>
                <a:lnTo>
                  <a:pt x="104" y="204"/>
                </a:lnTo>
                <a:lnTo>
                  <a:pt x="107" y="204"/>
                </a:lnTo>
                <a:lnTo>
                  <a:pt x="104" y="207"/>
                </a:lnTo>
                <a:lnTo>
                  <a:pt x="99" y="213"/>
                </a:lnTo>
                <a:lnTo>
                  <a:pt x="96" y="215"/>
                </a:lnTo>
                <a:lnTo>
                  <a:pt x="93" y="221"/>
                </a:lnTo>
                <a:lnTo>
                  <a:pt x="87" y="227"/>
                </a:lnTo>
                <a:lnTo>
                  <a:pt x="85" y="235"/>
                </a:lnTo>
                <a:lnTo>
                  <a:pt x="76" y="241"/>
                </a:lnTo>
                <a:lnTo>
                  <a:pt x="73" y="249"/>
                </a:lnTo>
                <a:lnTo>
                  <a:pt x="65" y="258"/>
                </a:lnTo>
                <a:lnTo>
                  <a:pt x="62" y="269"/>
                </a:lnTo>
                <a:lnTo>
                  <a:pt x="53" y="281"/>
                </a:lnTo>
                <a:lnTo>
                  <a:pt x="51" y="292"/>
                </a:lnTo>
                <a:lnTo>
                  <a:pt x="42" y="303"/>
                </a:lnTo>
                <a:lnTo>
                  <a:pt x="39" y="315"/>
                </a:lnTo>
                <a:lnTo>
                  <a:pt x="34" y="326"/>
                </a:lnTo>
                <a:lnTo>
                  <a:pt x="28" y="340"/>
                </a:lnTo>
                <a:lnTo>
                  <a:pt x="22" y="346"/>
                </a:lnTo>
                <a:lnTo>
                  <a:pt x="22" y="355"/>
                </a:lnTo>
                <a:lnTo>
                  <a:pt x="19" y="363"/>
                </a:lnTo>
                <a:lnTo>
                  <a:pt x="17" y="369"/>
                </a:lnTo>
                <a:lnTo>
                  <a:pt x="14" y="377"/>
                </a:lnTo>
                <a:lnTo>
                  <a:pt x="11" y="386"/>
                </a:lnTo>
                <a:lnTo>
                  <a:pt x="11" y="391"/>
                </a:lnTo>
                <a:lnTo>
                  <a:pt x="8" y="400"/>
                </a:lnTo>
                <a:lnTo>
                  <a:pt x="8" y="408"/>
                </a:lnTo>
                <a:lnTo>
                  <a:pt x="5" y="414"/>
                </a:lnTo>
                <a:lnTo>
                  <a:pt x="5" y="423"/>
                </a:lnTo>
                <a:lnTo>
                  <a:pt x="5" y="434"/>
                </a:lnTo>
                <a:lnTo>
                  <a:pt x="2" y="440"/>
                </a:lnTo>
                <a:lnTo>
                  <a:pt x="0" y="448"/>
                </a:lnTo>
                <a:lnTo>
                  <a:pt x="0" y="454"/>
                </a:lnTo>
                <a:lnTo>
                  <a:pt x="0" y="465"/>
                </a:lnTo>
                <a:lnTo>
                  <a:pt x="0" y="471"/>
                </a:lnTo>
                <a:lnTo>
                  <a:pt x="0" y="479"/>
                </a:lnTo>
                <a:lnTo>
                  <a:pt x="0" y="488"/>
                </a:lnTo>
                <a:lnTo>
                  <a:pt x="2" y="499"/>
                </a:lnTo>
                <a:lnTo>
                  <a:pt x="2" y="508"/>
                </a:lnTo>
                <a:lnTo>
                  <a:pt x="2" y="516"/>
                </a:lnTo>
                <a:lnTo>
                  <a:pt x="2" y="525"/>
                </a:lnTo>
                <a:lnTo>
                  <a:pt x="5" y="533"/>
                </a:lnTo>
                <a:lnTo>
                  <a:pt x="8" y="542"/>
                </a:lnTo>
                <a:lnTo>
                  <a:pt x="11" y="550"/>
                </a:lnTo>
                <a:lnTo>
                  <a:pt x="11" y="559"/>
                </a:lnTo>
                <a:lnTo>
                  <a:pt x="17" y="570"/>
                </a:lnTo>
                <a:lnTo>
                  <a:pt x="53" y="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7"/>
          <p:cNvSpPr/>
          <p:nvPr/>
        </p:nvSpPr>
        <p:spPr>
          <a:xfrm>
            <a:off x="7149960" y="4075200"/>
            <a:ext cx="128880" cy="135000"/>
          </a:xfrm>
          <a:custGeom>
            <a:avLst/>
            <a:gdLst>
              <a:gd name="textAreaLeft" fmla="*/ 0 w 128880"/>
              <a:gd name="textAreaRight" fmla="*/ 129240 w 128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4" h="97">
                <a:moveTo>
                  <a:pt x="17" y="0"/>
                </a:moveTo>
                <a:lnTo>
                  <a:pt x="6" y="3"/>
                </a:lnTo>
                <a:lnTo>
                  <a:pt x="0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3" y="35"/>
                </a:lnTo>
                <a:lnTo>
                  <a:pt x="6" y="40"/>
                </a:lnTo>
                <a:lnTo>
                  <a:pt x="14" y="52"/>
                </a:lnTo>
                <a:lnTo>
                  <a:pt x="26" y="60"/>
                </a:lnTo>
                <a:lnTo>
                  <a:pt x="37" y="71"/>
                </a:lnTo>
                <a:lnTo>
                  <a:pt x="48" y="77"/>
                </a:lnTo>
                <a:lnTo>
                  <a:pt x="60" y="86"/>
                </a:lnTo>
                <a:lnTo>
                  <a:pt x="68" y="91"/>
                </a:lnTo>
                <a:lnTo>
                  <a:pt x="74" y="94"/>
                </a:lnTo>
                <a:lnTo>
                  <a:pt x="82" y="97"/>
                </a:lnTo>
                <a:lnTo>
                  <a:pt x="91" y="97"/>
                </a:lnTo>
                <a:lnTo>
                  <a:pt x="94" y="94"/>
                </a:lnTo>
                <a:lnTo>
                  <a:pt x="91" y="86"/>
                </a:lnTo>
                <a:lnTo>
                  <a:pt x="82" y="77"/>
                </a:lnTo>
                <a:lnTo>
                  <a:pt x="74" y="66"/>
                </a:lnTo>
                <a:lnTo>
                  <a:pt x="65" y="60"/>
                </a:lnTo>
                <a:lnTo>
                  <a:pt x="60" y="52"/>
                </a:lnTo>
                <a:lnTo>
                  <a:pt x="54" y="43"/>
                </a:lnTo>
                <a:lnTo>
                  <a:pt x="48" y="37"/>
                </a:lnTo>
                <a:lnTo>
                  <a:pt x="40" y="32"/>
                </a:lnTo>
                <a:lnTo>
                  <a:pt x="34" y="23"/>
                </a:lnTo>
                <a:lnTo>
                  <a:pt x="29" y="18"/>
                </a:lnTo>
                <a:lnTo>
                  <a:pt x="26" y="12"/>
                </a:lnTo>
                <a:lnTo>
                  <a:pt x="20" y="3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"/>
          <p:cNvSpPr/>
          <p:nvPr/>
        </p:nvSpPr>
        <p:spPr>
          <a:xfrm>
            <a:off x="7257960" y="3992400"/>
            <a:ext cx="405000" cy="284400"/>
          </a:xfrm>
          <a:custGeom>
            <a:avLst/>
            <a:gdLst>
              <a:gd name="textAreaLeft" fmla="*/ 0 w 405000"/>
              <a:gd name="textAreaRight" fmla="*/ 405360 w 4050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95" h="204">
                <a:moveTo>
                  <a:pt x="9" y="37"/>
                </a:moveTo>
                <a:lnTo>
                  <a:pt x="3" y="37"/>
                </a:lnTo>
                <a:lnTo>
                  <a:pt x="0" y="45"/>
                </a:lnTo>
                <a:lnTo>
                  <a:pt x="0" y="48"/>
                </a:lnTo>
                <a:lnTo>
                  <a:pt x="6" y="57"/>
                </a:lnTo>
                <a:lnTo>
                  <a:pt x="9" y="65"/>
                </a:lnTo>
                <a:lnTo>
                  <a:pt x="15" y="77"/>
                </a:lnTo>
                <a:lnTo>
                  <a:pt x="17" y="79"/>
                </a:lnTo>
                <a:lnTo>
                  <a:pt x="23" y="88"/>
                </a:lnTo>
                <a:lnTo>
                  <a:pt x="29" y="94"/>
                </a:lnTo>
                <a:lnTo>
                  <a:pt x="34" y="102"/>
                </a:lnTo>
                <a:lnTo>
                  <a:pt x="40" y="111"/>
                </a:lnTo>
                <a:lnTo>
                  <a:pt x="46" y="116"/>
                </a:lnTo>
                <a:lnTo>
                  <a:pt x="51" y="125"/>
                </a:lnTo>
                <a:lnTo>
                  <a:pt x="60" y="133"/>
                </a:lnTo>
                <a:lnTo>
                  <a:pt x="71" y="145"/>
                </a:lnTo>
                <a:lnTo>
                  <a:pt x="83" y="150"/>
                </a:lnTo>
                <a:lnTo>
                  <a:pt x="91" y="153"/>
                </a:lnTo>
                <a:lnTo>
                  <a:pt x="97" y="150"/>
                </a:lnTo>
                <a:lnTo>
                  <a:pt x="97" y="145"/>
                </a:lnTo>
                <a:lnTo>
                  <a:pt x="97" y="142"/>
                </a:lnTo>
                <a:lnTo>
                  <a:pt x="97" y="133"/>
                </a:lnTo>
                <a:lnTo>
                  <a:pt x="97" y="128"/>
                </a:lnTo>
                <a:lnTo>
                  <a:pt x="97" y="119"/>
                </a:lnTo>
                <a:lnTo>
                  <a:pt x="97" y="111"/>
                </a:lnTo>
                <a:lnTo>
                  <a:pt x="94" y="102"/>
                </a:lnTo>
                <a:lnTo>
                  <a:pt x="94" y="96"/>
                </a:lnTo>
                <a:lnTo>
                  <a:pt x="94" y="88"/>
                </a:lnTo>
                <a:lnTo>
                  <a:pt x="91" y="79"/>
                </a:lnTo>
                <a:lnTo>
                  <a:pt x="91" y="74"/>
                </a:lnTo>
                <a:lnTo>
                  <a:pt x="91" y="68"/>
                </a:lnTo>
                <a:lnTo>
                  <a:pt x="91" y="59"/>
                </a:lnTo>
                <a:lnTo>
                  <a:pt x="91" y="57"/>
                </a:lnTo>
                <a:lnTo>
                  <a:pt x="91" y="59"/>
                </a:lnTo>
                <a:lnTo>
                  <a:pt x="102" y="71"/>
                </a:lnTo>
                <a:lnTo>
                  <a:pt x="111" y="79"/>
                </a:lnTo>
                <a:lnTo>
                  <a:pt x="117" y="88"/>
                </a:lnTo>
                <a:lnTo>
                  <a:pt x="125" y="96"/>
                </a:lnTo>
                <a:lnTo>
                  <a:pt x="136" y="105"/>
                </a:lnTo>
                <a:lnTo>
                  <a:pt x="145" y="113"/>
                </a:lnTo>
                <a:lnTo>
                  <a:pt x="153" y="122"/>
                </a:lnTo>
                <a:lnTo>
                  <a:pt x="162" y="128"/>
                </a:lnTo>
                <a:lnTo>
                  <a:pt x="170" y="133"/>
                </a:lnTo>
                <a:lnTo>
                  <a:pt x="176" y="136"/>
                </a:lnTo>
                <a:lnTo>
                  <a:pt x="185" y="139"/>
                </a:lnTo>
                <a:lnTo>
                  <a:pt x="187" y="139"/>
                </a:lnTo>
                <a:lnTo>
                  <a:pt x="193" y="139"/>
                </a:lnTo>
                <a:lnTo>
                  <a:pt x="196" y="133"/>
                </a:lnTo>
                <a:lnTo>
                  <a:pt x="199" y="128"/>
                </a:lnTo>
                <a:lnTo>
                  <a:pt x="199" y="119"/>
                </a:lnTo>
                <a:lnTo>
                  <a:pt x="202" y="113"/>
                </a:lnTo>
                <a:lnTo>
                  <a:pt x="204" y="105"/>
                </a:lnTo>
                <a:lnTo>
                  <a:pt x="207" y="96"/>
                </a:lnTo>
                <a:lnTo>
                  <a:pt x="210" y="88"/>
                </a:lnTo>
                <a:lnTo>
                  <a:pt x="213" y="79"/>
                </a:lnTo>
                <a:lnTo>
                  <a:pt x="213" y="71"/>
                </a:lnTo>
                <a:lnTo>
                  <a:pt x="216" y="65"/>
                </a:lnTo>
                <a:lnTo>
                  <a:pt x="219" y="57"/>
                </a:lnTo>
                <a:lnTo>
                  <a:pt x="221" y="54"/>
                </a:lnTo>
                <a:lnTo>
                  <a:pt x="224" y="45"/>
                </a:lnTo>
                <a:lnTo>
                  <a:pt x="230" y="45"/>
                </a:lnTo>
                <a:lnTo>
                  <a:pt x="236" y="48"/>
                </a:lnTo>
                <a:lnTo>
                  <a:pt x="241" y="54"/>
                </a:lnTo>
                <a:lnTo>
                  <a:pt x="247" y="62"/>
                </a:lnTo>
                <a:lnTo>
                  <a:pt x="253" y="71"/>
                </a:lnTo>
                <a:lnTo>
                  <a:pt x="258" y="79"/>
                </a:lnTo>
                <a:lnTo>
                  <a:pt x="261" y="91"/>
                </a:lnTo>
                <a:lnTo>
                  <a:pt x="264" y="102"/>
                </a:lnTo>
                <a:lnTo>
                  <a:pt x="264" y="113"/>
                </a:lnTo>
                <a:lnTo>
                  <a:pt x="264" y="128"/>
                </a:lnTo>
                <a:lnTo>
                  <a:pt x="264" y="133"/>
                </a:lnTo>
                <a:lnTo>
                  <a:pt x="264" y="142"/>
                </a:lnTo>
                <a:lnTo>
                  <a:pt x="264" y="148"/>
                </a:lnTo>
                <a:lnTo>
                  <a:pt x="264" y="153"/>
                </a:lnTo>
                <a:lnTo>
                  <a:pt x="264" y="165"/>
                </a:lnTo>
                <a:lnTo>
                  <a:pt x="264" y="179"/>
                </a:lnTo>
                <a:lnTo>
                  <a:pt x="267" y="187"/>
                </a:lnTo>
                <a:lnTo>
                  <a:pt x="272" y="193"/>
                </a:lnTo>
                <a:lnTo>
                  <a:pt x="278" y="199"/>
                </a:lnTo>
                <a:lnTo>
                  <a:pt x="287" y="204"/>
                </a:lnTo>
                <a:lnTo>
                  <a:pt x="289" y="201"/>
                </a:lnTo>
                <a:lnTo>
                  <a:pt x="292" y="199"/>
                </a:lnTo>
                <a:lnTo>
                  <a:pt x="292" y="193"/>
                </a:lnTo>
                <a:lnTo>
                  <a:pt x="295" y="182"/>
                </a:lnTo>
                <a:lnTo>
                  <a:pt x="295" y="173"/>
                </a:lnTo>
                <a:lnTo>
                  <a:pt x="295" y="165"/>
                </a:lnTo>
                <a:lnTo>
                  <a:pt x="295" y="153"/>
                </a:lnTo>
                <a:lnTo>
                  <a:pt x="295" y="148"/>
                </a:lnTo>
                <a:lnTo>
                  <a:pt x="295" y="136"/>
                </a:lnTo>
                <a:lnTo>
                  <a:pt x="295" y="128"/>
                </a:lnTo>
                <a:lnTo>
                  <a:pt x="295" y="119"/>
                </a:lnTo>
                <a:lnTo>
                  <a:pt x="295" y="111"/>
                </a:lnTo>
                <a:lnTo>
                  <a:pt x="295" y="99"/>
                </a:lnTo>
                <a:lnTo>
                  <a:pt x="292" y="91"/>
                </a:lnTo>
                <a:lnTo>
                  <a:pt x="289" y="79"/>
                </a:lnTo>
                <a:lnTo>
                  <a:pt x="289" y="71"/>
                </a:lnTo>
                <a:lnTo>
                  <a:pt x="284" y="62"/>
                </a:lnTo>
                <a:lnTo>
                  <a:pt x="284" y="54"/>
                </a:lnTo>
                <a:lnTo>
                  <a:pt x="278" y="48"/>
                </a:lnTo>
                <a:lnTo>
                  <a:pt x="275" y="40"/>
                </a:lnTo>
                <a:lnTo>
                  <a:pt x="264" y="28"/>
                </a:lnTo>
                <a:lnTo>
                  <a:pt x="253" y="20"/>
                </a:lnTo>
                <a:lnTo>
                  <a:pt x="244" y="11"/>
                </a:lnTo>
                <a:lnTo>
                  <a:pt x="236" y="6"/>
                </a:lnTo>
                <a:lnTo>
                  <a:pt x="227" y="3"/>
                </a:lnTo>
                <a:lnTo>
                  <a:pt x="219" y="0"/>
                </a:lnTo>
                <a:lnTo>
                  <a:pt x="213" y="0"/>
                </a:lnTo>
                <a:lnTo>
                  <a:pt x="210" y="3"/>
                </a:lnTo>
                <a:lnTo>
                  <a:pt x="204" y="6"/>
                </a:lnTo>
                <a:lnTo>
                  <a:pt x="199" y="17"/>
                </a:lnTo>
                <a:lnTo>
                  <a:pt x="196" y="23"/>
                </a:lnTo>
                <a:lnTo>
                  <a:pt x="193" y="28"/>
                </a:lnTo>
                <a:lnTo>
                  <a:pt x="190" y="37"/>
                </a:lnTo>
                <a:lnTo>
                  <a:pt x="190" y="45"/>
                </a:lnTo>
                <a:lnTo>
                  <a:pt x="187" y="51"/>
                </a:lnTo>
                <a:lnTo>
                  <a:pt x="185" y="59"/>
                </a:lnTo>
                <a:lnTo>
                  <a:pt x="182" y="65"/>
                </a:lnTo>
                <a:lnTo>
                  <a:pt x="179" y="71"/>
                </a:lnTo>
                <a:lnTo>
                  <a:pt x="176" y="79"/>
                </a:lnTo>
                <a:lnTo>
                  <a:pt x="176" y="82"/>
                </a:lnTo>
                <a:lnTo>
                  <a:pt x="173" y="79"/>
                </a:lnTo>
                <a:lnTo>
                  <a:pt x="162" y="71"/>
                </a:lnTo>
                <a:lnTo>
                  <a:pt x="156" y="65"/>
                </a:lnTo>
                <a:lnTo>
                  <a:pt x="148" y="59"/>
                </a:lnTo>
                <a:lnTo>
                  <a:pt x="139" y="54"/>
                </a:lnTo>
                <a:lnTo>
                  <a:pt x="131" y="48"/>
                </a:lnTo>
                <a:lnTo>
                  <a:pt x="119" y="40"/>
                </a:lnTo>
                <a:lnTo>
                  <a:pt x="111" y="31"/>
                </a:lnTo>
                <a:lnTo>
                  <a:pt x="102" y="25"/>
                </a:lnTo>
                <a:lnTo>
                  <a:pt x="94" y="20"/>
                </a:lnTo>
                <a:lnTo>
                  <a:pt x="85" y="11"/>
                </a:lnTo>
                <a:lnTo>
                  <a:pt x="77" y="8"/>
                </a:lnTo>
                <a:lnTo>
                  <a:pt x="71" y="3"/>
                </a:lnTo>
                <a:lnTo>
                  <a:pt x="68" y="3"/>
                </a:lnTo>
                <a:lnTo>
                  <a:pt x="60" y="0"/>
                </a:lnTo>
                <a:lnTo>
                  <a:pt x="51" y="6"/>
                </a:lnTo>
                <a:lnTo>
                  <a:pt x="49" y="17"/>
                </a:lnTo>
                <a:lnTo>
                  <a:pt x="46" y="31"/>
                </a:lnTo>
                <a:lnTo>
                  <a:pt x="43" y="42"/>
                </a:lnTo>
                <a:lnTo>
                  <a:pt x="43" y="54"/>
                </a:lnTo>
                <a:lnTo>
                  <a:pt x="43" y="62"/>
                </a:lnTo>
                <a:lnTo>
                  <a:pt x="43" y="68"/>
                </a:lnTo>
                <a:lnTo>
                  <a:pt x="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5"/>
          <p:cNvSpPr/>
          <p:nvPr/>
        </p:nvSpPr>
        <p:spPr>
          <a:xfrm>
            <a:off x="7694640" y="4122720"/>
            <a:ext cx="312840" cy="463680"/>
          </a:xfrm>
          <a:custGeom>
            <a:avLst/>
            <a:gdLst>
              <a:gd name="textAreaLeft" fmla="*/ 0 w 312840"/>
              <a:gd name="textAreaRight" fmla="*/ 313200 w 312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29" h="332">
                <a:moveTo>
                  <a:pt x="39" y="2"/>
                </a:moveTo>
                <a:lnTo>
                  <a:pt x="34" y="5"/>
                </a:lnTo>
                <a:lnTo>
                  <a:pt x="28" y="14"/>
                </a:lnTo>
                <a:lnTo>
                  <a:pt x="20" y="22"/>
                </a:lnTo>
                <a:lnTo>
                  <a:pt x="11" y="34"/>
                </a:lnTo>
                <a:lnTo>
                  <a:pt x="5" y="45"/>
                </a:lnTo>
                <a:lnTo>
                  <a:pt x="3" y="54"/>
                </a:lnTo>
                <a:lnTo>
                  <a:pt x="0" y="59"/>
                </a:lnTo>
                <a:lnTo>
                  <a:pt x="5" y="68"/>
                </a:lnTo>
                <a:lnTo>
                  <a:pt x="11" y="65"/>
                </a:lnTo>
                <a:lnTo>
                  <a:pt x="20" y="65"/>
                </a:lnTo>
                <a:lnTo>
                  <a:pt x="28" y="62"/>
                </a:lnTo>
                <a:lnTo>
                  <a:pt x="39" y="59"/>
                </a:lnTo>
                <a:lnTo>
                  <a:pt x="48" y="59"/>
                </a:lnTo>
                <a:lnTo>
                  <a:pt x="54" y="56"/>
                </a:lnTo>
                <a:lnTo>
                  <a:pt x="59" y="56"/>
                </a:lnTo>
                <a:lnTo>
                  <a:pt x="59" y="59"/>
                </a:lnTo>
                <a:lnTo>
                  <a:pt x="56" y="68"/>
                </a:lnTo>
                <a:lnTo>
                  <a:pt x="54" y="76"/>
                </a:lnTo>
                <a:lnTo>
                  <a:pt x="48" y="88"/>
                </a:lnTo>
                <a:lnTo>
                  <a:pt x="45" y="102"/>
                </a:lnTo>
                <a:lnTo>
                  <a:pt x="39" y="113"/>
                </a:lnTo>
                <a:lnTo>
                  <a:pt x="39" y="125"/>
                </a:lnTo>
                <a:lnTo>
                  <a:pt x="39" y="133"/>
                </a:lnTo>
                <a:lnTo>
                  <a:pt x="48" y="136"/>
                </a:lnTo>
                <a:lnTo>
                  <a:pt x="56" y="133"/>
                </a:lnTo>
                <a:lnTo>
                  <a:pt x="65" y="130"/>
                </a:lnTo>
                <a:lnTo>
                  <a:pt x="76" y="125"/>
                </a:lnTo>
                <a:lnTo>
                  <a:pt x="87" y="116"/>
                </a:lnTo>
                <a:lnTo>
                  <a:pt x="96" y="110"/>
                </a:lnTo>
                <a:lnTo>
                  <a:pt x="107" y="105"/>
                </a:lnTo>
                <a:lnTo>
                  <a:pt x="113" y="99"/>
                </a:lnTo>
                <a:lnTo>
                  <a:pt x="121" y="99"/>
                </a:lnTo>
                <a:lnTo>
                  <a:pt x="130" y="107"/>
                </a:lnTo>
                <a:lnTo>
                  <a:pt x="133" y="119"/>
                </a:lnTo>
                <a:lnTo>
                  <a:pt x="133" y="127"/>
                </a:lnTo>
                <a:lnTo>
                  <a:pt x="133" y="136"/>
                </a:lnTo>
                <a:lnTo>
                  <a:pt x="127" y="139"/>
                </a:lnTo>
                <a:lnTo>
                  <a:pt x="119" y="147"/>
                </a:lnTo>
                <a:lnTo>
                  <a:pt x="113" y="156"/>
                </a:lnTo>
                <a:lnTo>
                  <a:pt x="104" y="167"/>
                </a:lnTo>
                <a:lnTo>
                  <a:pt x="96" y="176"/>
                </a:lnTo>
                <a:lnTo>
                  <a:pt x="93" y="184"/>
                </a:lnTo>
                <a:lnTo>
                  <a:pt x="93" y="190"/>
                </a:lnTo>
                <a:lnTo>
                  <a:pt x="99" y="193"/>
                </a:lnTo>
                <a:lnTo>
                  <a:pt x="110" y="190"/>
                </a:lnTo>
                <a:lnTo>
                  <a:pt x="121" y="190"/>
                </a:lnTo>
                <a:lnTo>
                  <a:pt x="133" y="184"/>
                </a:lnTo>
                <a:lnTo>
                  <a:pt x="147" y="181"/>
                </a:lnTo>
                <a:lnTo>
                  <a:pt x="155" y="178"/>
                </a:lnTo>
                <a:lnTo>
                  <a:pt x="167" y="178"/>
                </a:lnTo>
                <a:lnTo>
                  <a:pt x="172" y="178"/>
                </a:lnTo>
                <a:lnTo>
                  <a:pt x="175" y="184"/>
                </a:lnTo>
                <a:lnTo>
                  <a:pt x="178" y="196"/>
                </a:lnTo>
                <a:lnTo>
                  <a:pt x="178" y="210"/>
                </a:lnTo>
                <a:lnTo>
                  <a:pt x="175" y="224"/>
                </a:lnTo>
                <a:lnTo>
                  <a:pt x="175" y="235"/>
                </a:lnTo>
                <a:lnTo>
                  <a:pt x="172" y="241"/>
                </a:lnTo>
                <a:lnTo>
                  <a:pt x="170" y="244"/>
                </a:lnTo>
                <a:lnTo>
                  <a:pt x="164" y="252"/>
                </a:lnTo>
                <a:lnTo>
                  <a:pt x="164" y="258"/>
                </a:lnTo>
                <a:lnTo>
                  <a:pt x="158" y="267"/>
                </a:lnTo>
                <a:lnTo>
                  <a:pt x="155" y="275"/>
                </a:lnTo>
                <a:lnTo>
                  <a:pt x="150" y="284"/>
                </a:lnTo>
                <a:lnTo>
                  <a:pt x="144" y="292"/>
                </a:lnTo>
                <a:lnTo>
                  <a:pt x="141" y="298"/>
                </a:lnTo>
                <a:lnTo>
                  <a:pt x="136" y="306"/>
                </a:lnTo>
                <a:lnTo>
                  <a:pt x="133" y="312"/>
                </a:lnTo>
                <a:lnTo>
                  <a:pt x="130" y="318"/>
                </a:lnTo>
                <a:lnTo>
                  <a:pt x="127" y="329"/>
                </a:lnTo>
                <a:lnTo>
                  <a:pt x="127" y="332"/>
                </a:lnTo>
                <a:lnTo>
                  <a:pt x="130" y="329"/>
                </a:lnTo>
                <a:lnTo>
                  <a:pt x="133" y="326"/>
                </a:lnTo>
                <a:lnTo>
                  <a:pt x="141" y="320"/>
                </a:lnTo>
                <a:lnTo>
                  <a:pt x="147" y="315"/>
                </a:lnTo>
                <a:lnTo>
                  <a:pt x="155" y="306"/>
                </a:lnTo>
                <a:lnTo>
                  <a:pt x="164" y="298"/>
                </a:lnTo>
                <a:lnTo>
                  <a:pt x="175" y="286"/>
                </a:lnTo>
                <a:lnTo>
                  <a:pt x="187" y="275"/>
                </a:lnTo>
                <a:lnTo>
                  <a:pt x="195" y="264"/>
                </a:lnTo>
                <a:lnTo>
                  <a:pt x="204" y="252"/>
                </a:lnTo>
                <a:lnTo>
                  <a:pt x="212" y="241"/>
                </a:lnTo>
                <a:lnTo>
                  <a:pt x="221" y="230"/>
                </a:lnTo>
                <a:lnTo>
                  <a:pt x="223" y="218"/>
                </a:lnTo>
                <a:lnTo>
                  <a:pt x="229" y="210"/>
                </a:lnTo>
                <a:lnTo>
                  <a:pt x="229" y="201"/>
                </a:lnTo>
                <a:lnTo>
                  <a:pt x="229" y="193"/>
                </a:lnTo>
                <a:lnTo>
                  <a:pt x="221" y="181"/>
                </a:lnTo>
                <a:lnTo>
                  <a:pt x="209" y="170"/>
                </a:lnTo>
                <a:lnTo>
                  <a:pt x="198" y="164"/>
                </a:lnTo>
                <a:lnTo>
                  <a:pt x="187" y="159"/>
                </a:lnTo>
                <a:lnTo>
                  <a:pt x="175" y="156"/>
                </a:lnTo>
                <a:lnTo>
                  <a:pt x="167" y="153"/>
                </a:lnTo>
                <a:lnTo>
                  <a:pt x="161" y="153"/>
                </a:lnTo>
                <a:lnTo>
                  <a:pt x="161" y="150"/>
                </a:lnTo>
                <a:lnTo>
                  <a:pt x="164" y="147"/>
                </a:lnTo>
                <a:lnTo>
                  <a:pt x="170" y="139"/>
                </a:lnTo>
                <a:lnTo>
                  <a:pt x="175" y="133"/>
                </a:lnTo>
                <a:lnTo>
                  <a:pt x="178" y="125"/>
                </a:lnTo>
                <a:lnTo>
                  <a:pt x="184" y="116"/>
                </a:lnTo>
                <a:lnTo>
                  <a:pt x="184" y="107"/>
                </a:lnTo>
                <a:lnTo>
                  <a:pt x="184" y="105"/>
                </a:lnTo>
                <a:lnTo>
                  <a:pt x="175" y="90"/>
                </a:lnTo>
                <a:lnTo>
                  <a:pt x="167" y="79"/>
                </a:lnTo>
                <a:lnTo>
                  <a:pt x="158" y="71"/>
                </a:lnTo>
                <a:lnTo>
                  <a:pt x="153" y="68"/>
                </a:lnTo>
                <a:lnTo>
                  <a:pt x="144" y="62"/>
                </a:lnTo>
                <a:lnTo>
                  <a:pt x="138" y="59"/>
                </a:lnTo>
                <a:lnTo>
                  <a:pt x="127" y="59"/>
                </a:lnTo>
                <a:lnTo>
                  <a:pt x="121" y="59"/>
                </a:lnTo>
                <a:lnTo>
                  <a:pt x="113" y="65"/>
                </a:lnTo>
                <a:lnTo>
                  <a:pt x="104" y="68"/>
                </a:lnTo>
                <a:lnTo>
                  <a:pt x="93" y="76"/>
                </a:lnTo>
                <a:lnTo>
                  <a:pt x="90" y="82"/>
                </a:lnTo>
                <a:lnTo>
                  <a:pt x="90" y="79"/>
                </a:lnTo>
                <a:lnTo>
                  <a:pt x="90" y="71"/>
                </a:lnTo>
                <a:lnTo>
                  <a:pt x="93" y="62"/>
                </a:lnTo>
                <a:lnTo>
                  <a:pt x="96" y="51"/>
                </a:lnTo>
                <a:lnTo>
                  <a:pt x="96" y="39"/>
                </a:lnTo>
                <a:lnTo>
                  <a:pt x="99" y="28"/>
                </a:lnTo>
                <a:lnTo>
                  <a:pt x="96" y="17"/>
                </a:lnTo>
                <a:lnTo>
                  <a:pt x="96" y="11"/>
                </a:lnTo>
                <a:lnTo>
                  <a:pt x="90" y="8"/>
                </a:lnTo>
                <a:lnTo>
                  <a:pt x="82" y="5"/>
                </a:lnTo>
                <a:lnTo>
                  <a:pt x="73" y="2"/>
                </a:lnTo>
                <a:lnTo>
                  <a:pt x="65" y="2"/>
                </a:lnTo>
                <a:lnTo>
                  <a:pt x="54" y="0"/>
                </a:lnTo>
                <a:lnTo>
                  <a:pt x="48" y="0"/>
                </a:lnTo>
                <a:lnTo>
                  <a:pt x="42" y="0"/>
                </a:lnTo>
                <a:lnTo>
                  <a:pt x="3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"/>
          <p:cNvSpPr/>
          <p:nvPr/>
        </p:nvSpPr>
        <p:spPr>
          <a:xfrm>
            <a:off x="7837560" y="4575240"/>
            <a:ext cx="231840" cy="360360"/>
          </a:xfrm>
          <a:custGeom>
            <a:avLst/>
            <a:gdLst>
              <a:gd name="textAreaLeft" fmla="*/ 0 w 231840"/>
              <a:gd name="textAreaRight" fmla="*/ 232200 w 231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70" h="259">
                <a:moveTo>
                  <a:pt x="77" y="12"/>
                </a:moveTo>
                <a:lnTo>
                  <a:pt x="71" y="15"/>
                </a:lnTo>
                <a:lnTo>
                  <a:pt x="60" y="26"/>
                </a:lnTo>
                <a:lnTo>
                  <a:pt x="51" y="29"/>
                </a:lnTo>
                <a:lnTo>
                  <a:pt x="46" y="37"/>
                </a:lnTo>
                <a:lnTo>
                  <a:pt x="40" y="46"/>
                </a:lnTo>
                <a:lnTo>
                  <a:pt x="34" y="54"/>
                </a:lnTo>
                <a:lnTo>
                  <a:pt x="26" y="60"/>
                </a:lnTo>
                <a:lnTo>
                  <a:pt x="20" y="68"/>
                </a:lnTo>
                <a:lnTo>
                  <a:pt x="12" y="77"/>
                </a:lnTo>
                <a:lnTo>
                  <a:pt x="9" y="86"/>
                </a:lnTo>
                <a:lnTo>
                  <a:pt x="3" y="91"/>
                </a:lnTo>
                <a:lnTo>
                  <a:pt x="0" y="100"/>
                </a:lnTo>
                <a:lnTo>
                  <a:pt x="0" y="103"/>
                </a:lnTo>
                <a:lnTo>
                  <a:pt x="0" y="108"/>
                </a:lnTo>
                <a:lnTo>
                  <a:pt x="3" y="120"/>
                </a:lnTo>
                <a:lnTo>
                  <a:pt x="6" y="128"/>
                </a:lnTo>
                <a:lnTo>
                  <a:pt x="12" y="131"/>
                </a:lnTo>
                <a:lnTo>
                  <a:pt x="20" y="128"/>
                </a:lnTo>
                <a:lnTo>
                  <a:pt x="29" y="122"/>
                </a:lnTo>
                <a:lnTo>
                  <a:pt x="34" y="114"/>
                </a:lnTo>
                <a:lnTo>
                  <a:pt x="46" y="108"/>
                </a:lnTo>
                <a:lnTo>
                  <a:pt x="57" y="103"/>
                </a:lnTo>
                <a:lnTo>
                  <a:pt x="68" y="97"/>
                </a:lnTo>
                <a:lnTo>
                  <a:pt x="80" y="94"/>
                </a:lnTo>
                <a:lnTo>
                  <a:pt x="91" y="97"/>
                </a:lnTo>
                <a:lnTo>
                  <a:pt x="105" y="103"/>
                </a:lnTo>
                <a:lnTo>
                  <a:pt x="114" y="108"/>
                </a:lnTo>
                <a:lnTo>
                  <a:pt x="122" y="117"/>
                </a:lnTo>
                <a:lnTo>
                  <a:pt x="128" y="125"/>
                </a:lnTo>
                <a:lnTo>
                  <a:pt x="131" y="137"/>
                </a:lnTo>
                <a:lnTo>
                  <a:pt x="131" y="145"/>
                </a:lnTo>
                <a:lnTo>
                  <a:pt x="131" y="156"/>
                </a:lnTo>
                <a:lnTo>
                  <a:pt x="128" y="162"/>
                </a:lnTo>
                <a:lnTo>
                  <a:pt x="128" y="168"/>
                </a:lnTo>
                <a:lnTo>
                  <a:pt x="125" y="176"/>
                </a:lnTo>
                <a:lnTo>
                  <a:pt x="125" y="185"/>
                </a:lnTo>
                <a:lnTo>
                  <a:pt x="119" y="196"/>
                </a:lnTo>
                <a:lnTo>
                  <a:pt x="114" y="208"/>
                </a:lnTo>
                <a:lnTo>
                  <a:pt x="105" y="216"/>
                </a:lnTo>
                <a:lnTo>
                  <a:pt x="100" y="225"/>
                </a:lnTo>
                <a:lnTo>
                  <a:pt x="94" y="230"/>
                </a:lnTo>
                <a:lnTo>
                  <a:pt x="91" y="236"/>
                </a:lnTo>
                <a:lnTo>
                  <a:pt x="85" y="239"/>
                </a:lnTo>
                <a:lnTo>
                  <a:pt x="119" y="259"/>
                </a:lnTo>
                <a:lnTo>
                  <a:pt x="119" y="256"/>
                </a:lnTo>
                <a:lnTo>
                  <a:pt x="125" y="250"/>
                </a:lnTo>
                <a:lnTo>
                  <a:pt x="134" y="242"/>
                </a:lnTo>
                <a:lnTo>
                  <a:pt x="142" y="230"/>
                </a:lnTo>
                <a:lnTo>
                  <a:pt x="145" y="222"/>
                </a:lnTo>
                <a:lnTo>
                  <a:pt x="151" y="213"/>
                </a:lnTo>
                <a:lnTo>
                  <a:pt x="156" y="205"/>
                </a:lnTo>
                <a:lnTo>
                  <a:pt x="159" y="196"/>
                </a:lnTo>
                <a:lnTo>
                  <a:pt x="162" y="188"/>
                </a:lnTo>
                <a:lnTo>
                  <a:pt x="168" y="176"/>
                </a:lnTo>
                <a:lnTo>
                  <a:pt x="168" y="168"/>
                </a:lnTo>
                <a:lnTo>
                  <a:pt x="170" y="156"/>
                </a:lnTo>
                <a:lnTo>
                  <a:pt x="168" y="148"/>
                </a:lnTo>
                <a:lnTo>
                  <a:pt x="168" y="137"/>
                </a:lnTo>
                <a:lnTo>
                  <a:pt x="165" y="125"/>
                </a:lnTo>
                <a:lnTo>
                  <a:pt x="162" y="114"/>
                </a:lnTo>
                <a:lnTo>
                  <a:pt x="156" y="105"/>
                </a:lnTo>
                <a:lnTo>
                  <a:pt x="151" y="97"/>
                </a:lnTo>
                <a:lnTo>
                  <a:pt x="145" y="91"/>
                </a:lnTo>
                <a:lnTo>
                  <a:pt x="139" y="83"/>
                </a:lnTo>
                <a:lnTo>
                  <a:pt x="134" y="77"/>
                </a:lnTo>
                <a:lnTo>
                  <a:pt x="125" y="71"/>
                </a:lnTo>
                <a:lnTo>
                  <a:pt x="119" y="66"/>
                </a:lnTo>
                <a:lnTo>
                  <a:pt x="114" y="63"/>
                </a:lnTo>
                <a:lnTo>
                  <a:pt x="105" y="60"/>
                </a:lnTo>
                <a:lnTo>
                  <a:pt x="100" y="60"/>
                </a:lnTo>
                <a:lnTo>
                  <a:pt x="94" y="57"/>
                </a:lnTo>
                <a:lnTo>
                  <a:pt x="88" y="60"/>
                </a:lnTo>
                <a:lnTo>
                  <a:pt x="88" y="57"/>
                </a:lnTo>
                <a:lnTo>
                  <a:pt x="91" y="54"/>
                </a:lnTo>
                <a:lnTo>
                  <a:pt x="94" y="49"/>
                </a:lnTo>
                <a:lnTo>
                  <a:pt x="100" y="43"/>
                </a:lnTo>
                <a:lnTo>
                  <a:pt x="102" y="34"/>
                </a:lnTo>
                <a:lnTo>
                  <a:pt x="105" y="26"/>
                </a:lnTo>
                <a:lnTo>
                  <a:pt x="105" y="17"/>
                </a:lnTo>
                <a:lnTo>
                  <a:pt x="105" y="12"/>
                </a:lnTo>
                <a:lnTo>
                  <a:pt x="100" y="6"/>
                </a:lnTo>
                <a:lnTo>
                  <a:pt x="94" y="3"/>
                </a:lnTo>
                <a:lnTo>
                  <a:pt x="91" y="0"/>
                </a:lnTo>
                <a:lnTo>
                  <a:pt x="85" y="3"/>
                </a:lnTo>
                <a:lnTo>
                  <a:pt x="80" y="6"/>
                </a:lnTo>
                <a:lnTo>
                  <a:pt x="7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3"/>
          <p:cNvSpPr/>
          <p:nvPr/>
        </p:nvSpPr>
        <p:spPr>
          <a:xfrm>
            <a:off x="7467480" y="4567320"/>
            <a:ext cx="58680" cy="150840"/>
          </a:xfrm>
          <a:custGeom>
            <a:avLst/>
            <a:gdLst>
              <a:gd name="textAreaLeft" fmla="*/ 0 w 58680"/>
              <a:gd name="textAreaRight" fmla="*/ 59040 w 58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3" h="108">
                <a:moveTo>
                  <a:pt x="34" y="5"/>
                </a:moveTo>
                <a:lnTo>
                  <a:pt x="26" y="0"/>
                </a:lnTo>
                <a:lnTo>
                  <a:pt x="20" y="0"/>
                </a:lnTo>
                <a:lnTo>
                  <a:pt x="15" y="0"/>
                </a:lnTo>
                <a:lnTo>
                  <a:pt x="12" y="5"/>
                </a:lnTo>
                <a:lnTo>
                  <a:pt x="9" y="8"/>
                </a:lnTo>
                <a:lnTo>
                  <a:pt x="9" y="17"/>
                </a:lnTo>
                <a:lnTo>
                  <a:pt x="3" y="22"/>
                </a:lnTo>
                <a:lnTo>
                  <a:pt x="3" y="34"/>
                </a:lnTo>
                <a:lnTo>
                  <a:pt x="0" y="42"/>
                </a:lnTo>
                <a:lnTo>
                  <a:pt x="0" y="48"/>
                </a:lnTo>
                <a:lnTo>
                  <a:pt x="0" y="56"/>
                </a:lnTo>
                <a:lnTo>
                  <a:pt x="0" y="65"/>
                </a:lnTo>
                <a:lnTo>
                  <a:pt x="0" y="76"/>
                </a:lnTo>
                <a:lnTo>
                  <a:pt x="0" y="88"/>
                </a:lnTo>
                <a:lnTo>
                  <a:pt x="3" y="99"/>
                </a:lnTo>
                <a:lnTo>
                  <a:pt x="9" y="105"/>
                </a:lnTo>
                <a:lnTo>
                  <a:pt x="20" y="108"/>
                </a:lnTo>
                <a:lnTo>
                  <a:pt x="32" y="108"/>
                </a:lnTo>
                <a:lnTo>
                  <a:pt x="37" y="105"/>
                </a:lnTo>
                <a:lnTo>
                  <a:pt x="43" y="99"/>
                </a:lnTo>
                <a:lnTo>
                  <a:pt x="43" y="88"/>
                </a:lnTo>
                <a:lnTo>
                  <a:pt x="40" y="76"/>
                </a:lnTo>
                <a:lnTo>
                  <a:pt x="40" y="71"/>
                </a:lnTo>
                <a:lnTo>
                  <a:pt x="40" y="62"/>
                </a:lnTo>
                <a:lnTo>
                  <a:pt x="40" y="54"/>
                </a:lnTo>
                <a:lnTo>
                  <a:pt x="40" y="48"/>
                </a:lnTo>
                <a:lnTo>
                  <a:pt x="37" y="39"/>
                </a:lnTo>
                <a:lnTo>
                  <a:pt x="37" y="34"/>
                </a:lnTo>
                <a:lnTo>
                  <a:pt x="34" y="25"/>
                </a:lnTo>
                <a:lnTo>
                  <a:pt x="34" y="20"/>
                </a:lnTo>
                <a:lnTo>
                  <a:pt x="34" y="8"/>
                </a:lnTo>
                <a:lnTo>
                  <a:pt x="3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2"/>
          <p:cNvSpPr/>
          <p:nvPr/>
        </p:nvSpPr>
        <p:spPr>
          <a:xfrm>
            <a:off x="6234120" y="5562720"/>
            <a:ext cx="733320" cy="976320"/>
          </a:xfrm>
          <a:custGeom>
            <a:avLst/>
            <a:gdLst>
              <a:gd name="textAreaLeft" fmla="*/ 0 w 733320"/>
              <a:gd name="textAreaRight" fmla="*/ 733680 w 733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535" h="699">
                <a:moveTo>
                  <a:pt x="243" y="0"/>
                </a:moveTo>
                <a:lnTo>
                  <a:pt x="0" y="327"/>
                </a:lnTo>
                <a:lnTo>
                  <a:pt x="170" y="330"/>
                </a:lnTo>
                <a:lnTo>
                  <a:pt x="173" y="693"/>
                </a:lnTo>
                <a:lnTo>
                  <a:pt x="379" y="699"/>
                </a:lnTo>
                <a:lnTo>
                  <a:pt x="359" y="333"/>
                </a:lnTo>
                <a:lnTo>
                  <a:pt x="535" y="333"/>
                </a:lnTo>
                <a:lnTo>
                  <a:pt x="2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"/>
          <p:cNvSpPr/>
          <p:nvPr/>
        </p:nvSpPr>
        <p:spPr>
          <a:xfrm>
            <a:off x="6467400" y="6589800"/>
            <a:ext cx="290520" cy="83880"/>
          </a:xfrm>
          <a:custGeom>
            <a:avLst/>
            <a:gdLst>
              <a:gd name="textAreaLeft" fmla="*/ 0 w 290520"/>
              <a:gd name="textAreaRight" fmla="*/ 290880 w 290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2" h="60">
                <a:moveTo>
                  <a:pt x="5" y="0"/>
                </a:moveTo>
                <a:lnTo>
                  <a:pt x="0" y="60"/>
                </a:lnTo>
                <a:lnTo>
                  <a:pt x="206" y="54"/>
                </a:lnTo>
                <a:lnTo>
                  <a:pt x="212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4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45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46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7"/>
          <p:cNvSpPr/>
          <p:nvPr/>
        </p:nvSpPr>
        <p:spPr>
          <a:xfrm>
            <a:off x="253800" y="1557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8"/>
          <p:cNvSpPr/>
          <p:nvPr/>
        </p:nvSpPr>
        <p:spPr>
          <a:xfrm>
            <a:off x="25092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ибор для измерения градусной меры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7"/>
          <p:cNvSpPr/>
          <p:nvPr/>
        </p:nvSpPr>
        <p:spPr>
          <a:xfrm>
            <a:off x="74674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WordArt 60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1" name="AutoShape 49">
            <a:hlinkClick r:id="rId8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40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1866960" cy="18288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4" name="WordArt 5"/>
          <p:cNvSpPr txBox="1"/>
          <p:nvPr/>
        </p:nvSpPr>
        <p:spPr>
          <a:xfrm>
            <a:off x="324000" y="62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5" name="WordArt 6"/>
          <p:cNvSpPr txBox="1"/>
          <p:nvPr/>
        </p:nvSpPr>
        <p:spPr>
          <a:xfrm>
            <a:off x="2771640" y="90792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ЧЕРНЫЙ ЯЩИК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6" name="AutoShape 9"/>
          <p:cNvSpPr/>
          <p:nvPr/>
        </p:nvSpPr>
        <p:spPr>
          <a:xfrm>
            <a:off x="4932360" y="3789360"/>
            <a:ext cx="51847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"/>
          <p:cNvSpPr/>
          <p:nvPr/>
        </p:nvSpPr>
        <p:spPr>
          <a:xfrm>
            <a:off x="4932360" y="3865680"/>
            <a:ext cx="5106960" cy="346212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462120"/>
              <a:gd name="textAreaBottom" fmla="*/ 3462480 h 3462120"/>
            </a:gdLst>
            <a:ahLst/>
            <a:rect l="textAreaLeft" t="textAreaTop" r="textAreaRight" b="textAreaBottom"/>
            <a:pathLst>
              <a:path w="3724" h="2479">
                <a:moveTo>
                  <a:pt x="1204" y="366"/>
                </a:moveTo>
                <a:lnTo>
                  <a:pt x="1204" y="366"/>
                </a:lnTo>
                <a:lnTo>
                  <a:pt x="1198" y="366"/>
                </a:lnTo>
                <a:lnTo>
                  <a:pt x="1190" y="369"/>
                </a:lnTo>
                <a:lnTo>
                  <a:pt x="1178" y="375"/>
                </a:lnTo>
                <a:lnTo>
                  <a:pt x="1170" y="375"/>
                </a:lnTo>
                <a:lnTo>
                  <a:pt x="1161" y="378"/>
                </a:lnTo>
                <a:lnTo>
                  <a:pt x="1153" y="381"/>
                </a:lnTo>
                <a:lnTo>
                  <a:pt x="1144" y="386"/>
                </a:lnTo>
                <a:lnTo>
                  <a:pt x="1136" y="386"/>
                </a:lnTo>
                <a:lnTo>
                  <a:pt x="1127" y="392"/>
                </a:lnTo>
                <a:lnTo>
                  <a:pt x="1116" y="395"/>
                </a:lnTo>
                <a:lnTo>
                  <a:pt x="1107" y="398"/>
                </a:lnTo>
                <a:lnTo>
                  <a:pt x="1093" y="403"/>
                </a:lnTo>
                <a:lnTo>
                  <a:pt x="1082" y="406"/>
                </a:lnTo>
                <a:lnTo>
                  <a:pt x="1071" y="409"/>
                </a:lnTo>
                <a:lnTo>
                  <a:pt x="1056" y="415"/>
                </a:lnTo>
                <a:lnTo>
                  <a:pt x="1045" y="417"/>
                </a:lnTo>
                <a:lnTo>
                  <a:pt x="1031" y="423"/>
                </a:lnTo>
                <a:lnTo>
                  <a:pt x="1017" y="429"/>
                </a:lnTo>
                <a:lnTo>
                  <a:pt x="1005" y="434"/>
                </a:lnTo>
                <a:lnTo>
                  <a:pt x="988" y="437"/>
                </a:lnTo>
                <a:lnTo>
                  <a:pt x="974" y="443"/>
                </a:lnTo>
                <a:lnTo>
                  <a:pt x="960" y="449"/>
                </a:lnTo>
                <a:lnTo>
                  <a:pt x="946" y="454"/>
                </a:lnTo>
                <a:lnTo>
                  <a:pt x="932" y="460"/>
                </a:lnTo>
                <a:lnTo>
                  <a:pt x="918" y="466"/>
                </a:lnTo>
                <a:lnTo>
                  <a:pt x="901" y="471"/>
                </a:lnTo>
                <a:lnTo>
                  <a:pt x="886" y="477"/>
                </a:lnTo>
                <a:lnTo>
                  <a:pt x="872" y="480"/>
                </a:lnTo>
                <a:lnTo>
                  <a:pt x="855" y="486"/>
                </a:lnTo>
                <a:lnTo>
                  <a:pt x="841" y="491"/>
                </a:lnTo>
                <a:lnTo>
                  <a:pt x="827" y="497"/>
                </a:lnTo>
                <a:lnTo>
                  <a:pt x="813" y="503"/>
                </a:lnTo>
                <a:lnTo>
                  <a:pt x="796" y="505"/>
                </a:lnTo>
                <a:lnTo>
                  <a:pt x="782" y="511"/>
                </a:lnTo>
                <a:lnTo>
                  <a:pt x="768" y="517"/>
                </a:lnTo>
                <a:lnTo>
                  <a:pt x="753" y="523"/>
                </a:lnTo>
                <a:lnTo>
                  <a:pt x="739" y="525"/>
                </a:lnTo>
                <a:lnTo>
                  <a:pt x="725" y="531"/>
                </a:lnTo>
                <a:lnTo>
                  <a:pt x="711" y="537"/>
                </a:lnTo>
                <a:lnTo>
                  <a:pt x="697" y="542"/>
                </a:lnTo>
                <a:lnTo>
                  <a:pt x="685" y="545"/>
                </a:lnTo>
                <a:lnTo>
                  <a:pt x="674" y="551"/>
                </a:lnTo>
                <a:lnTo>
                  <a:pt x="663" y="557"/>
                </a:lnTo>
                <a:lnTo>
                  <a:pt x="651" y="559"/>
                </a:lnTo>
                <a:lnTo>
                  <a:pt x="640" y="565"/>
                </a:lnTo>
                <a:lnTo>
                  <a:pt x="629" y="568"/>
                </a:lnTo>
                <a:lnTo>
                  <a:pt x="620" y="574"/>
                </a:lnTo>
                <a:lnTo>
                  <a:pt x="609" y="576"/>
                </a:lnTo>
                <a:lnTo>
                  <a:pt x="600" y="579"/>
                </a:lnTo>
                <a:lnTo>
                  <a:pt x="592" y="582"/>
                </a:lnTo>
                <a:lnTo>
                  <a:pt x="583" y="588"/>
                </a:lnTo>
                <a:lnTo>
                  <a:pt x="578" y="591"/>
                </a:lnTo>
                <a:lnTo>
                  <a:pt x="569" y="591"/>
                </a:lnTo>
                <a:lnTo>
                  <a:pt x="564" y="594"/>
                </a:lnTo>
                <a:lnTo>
                  <a:pt x="561" y="599"/>
                </a:lnTo>
                <a:lnTo>
                  <a:pt x="552" y="602"/>
                </a:lnTo>
                <a:lnTo>
                  <a:pt x="549" y="608"/>
                </a:lnTo>
                <a:lnTo>
                  <a:pt x="544" y="611"/>
                </a:lnTo>
                <a:lnTo>
                  <a:pt x="538" y="613"/>
                </a:lnTo>
                <a:lnTo>
                  <a:pt x="527" y="619"/>
                </a:lnTo>
                <a:lnTo>
                  <a:pt x="518" y="628"/>
                </a:lnTo>
                <a:lnTo>
                  <a:pt x="510" y="633"/>
                </a:lnTo>
                <a:lnTo>
                  <a:pt x="504" y="636"/>
                </a:lnTo>
                <a:lnTo>
                  <a:pt x="496" y="642"/>
                </a:lnTo>
                <a:lnTo>
                  <a:pt x="487" y="650"/>
                </a:lnTo>
                <a:lnTo>
                  <a:pt x="479" y="656"/>
                </a:lnTo>
                <a:lnTo>
                  <a:pt x="473" y="662"/>
                </a:lnTo>
                <a:lnTo>
                  <a:pt x="464" y="667"/>
                </a:lnTo>
                <a:lnTo>
                  <a:pt x="453" y="676"/>
                </a:lnTo>
                <a:lnTo>
                  <a:pt x="445" y="682"/>
                </a:lnTo>
                <a:lnTo>
                  <a:pt x="433" y="690"/>
                </a:lnTo>
                <a:lnTo>
                  <a:pt x="425" y="699"/>
                </a:lnTo>
                <a:lnTo>
                  <a:pt x="414" y="707"/>
                </a:lnTo>
                <a:lnTo>
                  <a:pt x="402" y="713"/>
                </a:lnTo>
                <a:lnTo>
                  <a:pt x="391" y="721"/>
                </a:lnTo>
                <a:lnTo>
                  <a:pt x="380" y="730"/>
                </a:lnTo>
                <a:lnTo>
                  <a:pt x="371" y="738"/>
                </a:lnTo>
                <a:lnTo>
                  <a:pt x="357" y="747"/>
                </a:lnTo>
                <a:lnTo>
                  <a:pt x="348" y="758"/>
                </a:lnTo>
                <a:lnTo>
                  <a:pt x="334" y="767"/>
                </a:lnTo>
                <a:lnTo>
                  <a:pt x="323" y="775"/>
                </a:lnTo>
                <a:lnTo>
                  <a:pt x="312" y="784"/>
                </a:lnTo>
                <a:lnTo>
                  <a:pt x="300" y="795"/>
                </a:lnTo>
                <a:lnTo>
                  <a:pt x="289" y="804"/>
                </a:lnTo>
                <a:lnTo>
                  <a:pt x="278" y="815"/>
                </a:lnTo>
                <a:lnTo>
                  <a:pt x="263" y="824"/>
                </a:lnTo>
                <a:lnTo>
                  <a:pt x="252" y="832"/>
                </a:lnTo>
                <a:lnTo>
                  <a:pt x="241" y="841"/>
                </a:lnTo>
                <a:lnTo>
                  <a:pt x="229" y="849"/>
                </a:lnTo>
                <a:lnTo>
                  <a:pt x="218" y="858"/>
                </a:lnTo>
                <a:lnTo>
                  <a:pt x="207" y="869"/>
                </a:lnTo>
                <a:lnTo>
                  <a:pt x="195" y="877"/>
                </a:lnTo>
                <a:lnTo>
                  <a:pt x="184" y="889"/>
                </a:lnTo>
                <a:lnTo>
                  <a:pt x="173" y="897"/>
                </a:lnTo>
                <a:lnTo>
                  <a:pt x="161" y="906"/>
                </a:lnTo>
                <a:lnTo>
                  <a:pt x="150" y="914"/>
                </a:lnTo>
                <a:lnTo>
                  <a:pt x="139" y="923"/>
                </a:lnTo>
                <a:lnTo>
                  <a:pt x="127" y="931"/>
                </a:lnTo>
                <a:lnTo>
                  <a:pt x="119" y="940"/>
                </a:lnTo>
                <a:lnTo>
                  <a:pt x="110" y="948"/>
                </a:lnTo>
                <a:lnTo>
                  <a:pt x="102" y="957"/>
                </a:lnTo>
                <a:lnTo>
                  <a:pt x="93" y="963"/>
                </a:lnTo>
                <a:lnTo>
                  <a:pt x="82" y="971"/>
                </a:lnTo>
                <a:lnTo>
                  <a:pt x="74" y="977"/>
                </a:lnTo>
                <a:lnTo>
                  <a:pt x="68" y="985"/>
                </a:lnTo>
                <a:lnTo>
                  <a:pt x="59" y="991"/>
                </a:lnTo>
                <a:lnTo>
                  <a:pt x="51" y="1000"/>
                </a:lnTo>
                <a:lnTo>
                  <a:pt x="45" y="1005"/>
                </a:lnTo>
                <a:lnTo>
                  <a:pt x="40" y="1011"/>
                </a:lnTo>
                <a:lnTo>
                  <a:pt x="31" y="1022"/>
                </a:lnTo>
                <a:lnTo>
                  <a:pt x="23" y="1031"/>
                </a:lnTo>
                <a:lnTo>
                  <a:pt x="17" y="1039"/>
                </a:lnTo>
                <a:lnTo>
                  <a:pt x="14" y="1048"/>
                </a:lnTo>
                <a:lnTo>
                  <a:pt x="8" y="1056"/>
                </a:lnTo>
                <a:lnTo>
                  <a:pt x="6" y="1068"/>
                </a:lnTo>
                <a:lnTo>
                  <a:pt x="3" y="1076"/>
                </a:lnTo>
                <a:lnTo>
                  <a:pt x="0" y="1088"/>
                </a:lnTo>
                <a:lnTo>
                  <a:pt x="0" y="1096"/>
                </a:lnTo>
                <a:lnTo>
                  <a:pt x="0" y="1105"/>
                </a:lnTo>
                <a:lnTo>
                  <a:pt x="0" y="1116"/>
                </a:lnTo>
                <a:lnTo>
                  <a:pt x="3" y="1127"/>
                </a:lnTo>
                <a:lnTo>
                  <a:pt x="6" y="1133"/>
                </a:lnTo>
                <a:lnTo>
                  <a:pt x="8" y="1142"/>
                </a:lnTo>
                <a:lnTo>
                  <a:pt x="11" y="1150"/>
                </a:lnTo>
                <a:lnTo>
                  <a:pt x="17" y="1159"/>
                </a:lnTo>
                <a:lnTo>
                  <a:pt x="25" y="1170"/>
                </a:lnTo>
                <a:lnTo>
                  <a:pt x="40" y="1179"/>
                </a:lnTo>
                <a:lnTo>
                  <a:pt x="42" y="1179"/>
                </a:lnTo>
                <a:lnTo>
                  <a:pt x="48" y="1179"/>
                </a:lnTo>
                <a:lnTo>
                  <a:pt x="57" y="1179"/>
                </a:lnTo>
                <a:lnTo>
                  <a:pt x="65" y="1181"/>
                </a:lnTo>
                <a:lnTo>
                  <a:pt x="76" y="1181"/>
                </a:lnTo>
                <a:lnTo>
                  <a:pt x="88" y="1181"/>
                </a:lnTo>
                <a:lnTo>
                  <a:pt x="93" y="1181"/>
                </a:lnTo>
                <a:lnTo>
                  <a:pt x="102" y="1181"/>
                </a:lnTo>
                <a:lnTo>
                  <a:pt x="108" y="1181"/>
                </a:lnTo>
                <a:lnTo>
                  <a:pt x="116" y="1181"/>
                </a:lnTo>
                <a:lnTo>
                  <a:pt x="122" y="1181"/>
                </a:lnTo>
                <a:lnTo>
                  <a:pt x="130" y="1181"/>
                </a:lnTo>
                <a:lnTo>
                  <a:pt x="136" y="1181"/>
                </a:lnTo>
                <a:lnTo>
                  <a:pt x="144" y="1181"/>
                </a:lnTo>
                <a:lnTo>
                  <a:pt x="153" y="1181"/>
                </a:lnTo>
                <a:lnTo>
                  <a:pt x="161" y="1181"/>
                </a:lnTo>
                <a:lnTo>
                  <a:pt x="170" y="1181"/>
                </a:lnTo>
                <a:lnTo>
                  <a:pt x="178" y="1181"/>
                </a:lnTo>
                <a:lnTo>
                  <a:pt x="187" y="1181"/>
                </a:lnTo>
                <a:lnTo>
                  <a:pt x="195" y="1181"/>
                </a:lnTo>
                <a:lnTo>
                  <a:pt x="204" y="1181"/>
                </a:lnTo>
                <a:lnTo>
                  <a:pt x="215" y="1181"/>
                </a:lnTo>
                <a:lnTo>
                  <a:pt x="221" y="1181"/>
                </a:lnTo>
                <a:lnTo>
                  <a:pt x="232" y="1181"/>
                </a:lnTo>
                <a:lnTo>
                  <a:pt x="241" y="1181"/>
                </a:lnTo>
                <a:lnTo>
                  <a:pt x="252" y="1181"/>
                </a:lnTo>
                <a:lnTo>
                  <a:pt x="258" y="1181"/>
                </a:lnTo>
                <a:lnTo>
                  <a:pt x="266" y="1181"/>
                </a:lnTo>
                <a:lnTo>
                  <a:pt x="275" y="1181"/>
                </a:lnTo>
                <a:lnTo>
                  <a:pt x="283" y="1181"/>
                </a:lnTo>
                <a:lnTo>
                  <a:pt x="295" y="1179"/>
                </a:lnTo>
                <a:lnTo>
                  <a:pt x="303" y="1179"/>
                </a:lnTo>
                <a:lnTo>
                  <a:pt x="312" y="1179"/>
                </a:lnTo>
                <a:lnTo>
                  <a:pt x="320" y="1179"/>
                </a:lnTo>
                <a:lnTo>
                  <a:pt x="326" y="1179"/>
                </a:lnTo>
                <a:lnTo>
                  <a:pt x="334" y="1179"/>
                </a:lnTo>
                <a:lnTo>
                  <a:pt x="343" y="1179"/>
                </a:lnTo>
                <a:lnTo>
                  <a:pt x="348" y="1179"/>
                </a:lnTo>
                <a:lnTo>
                  <a:pt x="357" y="1179"/>
                </a:lnTo>
                <a:lnTo>
                  <a:pt x="363" y="1179"/>
                </a:lnTo>
                <a:lnTo>
                  <a:pt x="371" y="1179"/>
                </a:lnTo>
                <a:lnTo>
                  <a:pt x="380" y="1179"/>
                </a:lnTo>
                <a:lnTo>
                  <a:pt x="391" y="1179"/>
                </a:lnTo>
                <a:lnTo>
                  <a:pt x="399" y="1179"/>
                </a:lnTo>
                <a:lnTo>
                  <a:pt x="411" y="1179"/>
                </a:lnTo>
                <a:lnTo>
                  <a:pt x="419" y="1179"/>
                </a:lnTo>
                <a:lnTo>
                  <a:pt x="425" y="1179"/>
                </a:lnTo>
                <a:lnTo>
                  <a:pt x="430" y="1179"/>
                </a:lnTo>
                <a:lnTo>
                  <a:pt x="433" y="1179"/>
                </a:lnTo>
                <a:lnTo>
                  <a:pt x="436" y="1179"/>
                </a:lnTo>
                <a:lnTo>
                  <a:pt x="436" y="1187"/>
                </a:lnTo>
                <a:lnTo>
                  <a:pt x="436" y="1190"/>
                </a:lnTo>
                <a:lnTo>
                  <a:pt x="436" y="1198"/>
                </a:lnTo>
                <a:lnTo>
                  <a:pt x="436" y="1204"/>
                </a:lnTo>
                <a:lnTo>
                  <a:pt x="439" y="1213"/>
                </a:lnTo>
                <a:lnTo>
                  <a:pt x="439" y="1221"/>
                </a:lnTo>
                <a:lnTo>
                  <a:pt x="439" y="1230"/>
                </a:lnTo>
                <a:lnTo>
                  <a:pt x="439" y="1241"/>
                </a:lnTo>
                <a:lnTo>
                  <a:pt x="442" y="1252"/>
                </a:lnTo>
                <a:lnTo>
                  <a:pt x="442" y="1264"/>
                </a:lnTo>
                <a:lnTo>
                  <a:pt x="442" y="1278"/>
                </a:lnTo>
                <a:lnTo>
                  <a:pt x="442" y="1292"/>
                </a:lnTo>
                <a:lnTo>
                  <a:pt x="445" y="1306"/>
                </a:lnTo>
                <a:lnTo>
                  <a:pt x="445" y="1321"/>
                </a:lnTo>
                <a:lnTo>
                  <a:pt x="447" y="1335"/>
                </a:lnTo>
                <a:lnTo>
                  <a:pt x="447" y="1352"/>
                </a:lnTo>
                <a:lnTo>
                  <a:pt x="450" y="1369"/>
                </a:lnTo>
                <a:lnTo>
                  <a:pt x="450" y="1386"/>
                </a:lnTo>
                <a:lnTo>
                  <a:pt x="450" y="1403"/>
                </a:lnTo>
                <a:lnTo>
                  <a:pt x="453" y="1423"/>
                </a:lnTo>
                <a:lnTo>
                  <a:pt x="453" y="1440"/>
                </a:lnTo>
                <a:lnTo>
                  <a:pt x="453" y="1460"/>
                </a:lnTo>
                <a:lnTo>
                  <a:pt x="456" y="1480"/>
                </a:lnTo>
                <a:lnTo>
                  <a:pt x="459" y="1497"/>
                </a:lnTo>
                <a:lnTo>
                  <a:pt x="462" y="1516"/>
                </a:lnTo>
                <a:lnTo>
                  <a:pt x="462" y="1536"/>
                </a:lnTo>
                <a:lnTo>
                  <a:pt x="464" y="1556"/>
                </a:lnTo>
                <a:lnTo>
                  <a:pt x="464" y="1576"/>
                </a:lnTo>
                <a:lnTo>
                  <a:pt x="467" y="1599"/>
                </a:lnTo>
                <a:lnTo>
                  <a:pt x="467" y="1616"/>
                </a:lnTo>
                <a:lnTo>
                  <a:pt x="467" y="1636"/>
                </a:lnTo>
                <a:lnTo>
                  <a:pt x="470" y="1656"/>
                </a:lnTo>
                <a:lnTo>
                  <a:pt x="473" y="1676"/>
                </a:lnTo>
                <a:lnTo>
                  <a:pt x="473" y="1695"/>
                </a:lnTo>
                <a:lnTo>
                  <a:pt x="473" y="1715"/>
                </a:lnTo>
                <a:lnTo>
                  <a:pt x="476" y="1735"/>
                </a:lnTo>
                <a:lnTo>
                  <a:pt x="476" y="1755"/>
                </a:lnTo>
                <a:lnTo>
                  <a:pt x="476" y="1772"/>
                </a:lnTo>
                <a:lnTo>
                  <a:pt x="479" y="1792"/>
                </a:lnTo>
                <a:lnTo>
                  <a:pt x="479" y="1812"/>
                </a:lnTo>
                <a:lnTo>
                  <a:pt x="481" y="1829"/>
                </a:lnTo>
                <a:lnTo>
                  <a:pt x="481" y="1846"/>
                </a:lnTo>
                <a:lnTo>
                  <a:pt x="484" y="1863"/>
                </a:lnTo>
                <a:lnTo>
                  <a:pt x="484" y="1880"/>
                </a:lnTo>
                <a:lnTo>
                  <a:pt x="487" y="1897"/>
                </a:lnTo>
                <a:lnTo>
                  <a:pt x="487" y="1911"/>
                </a:lnTo>
                <a:lnTo>
                  <a:pt x="487" y="1928"/>
                </a:lnTo>
                <a:lnTo>
                  <a:pt x="487" y="1942"/>
                </a:lnTo>
                <a:lnTo>
                  <a:pt x="487" y="1957"/>
                </a:lnTo>
                <a:lnTo>
                  <a:pt x="487" y="1968"/>
                </a:lnTo>
                <a:lnTo>
                  <a:pt x="490" y="1982"/>
                </a:lnTo>
                <a:lnTo>
                  <a:pt x="490" y="1994"/>
                </a:lnTo>
                <a:lnTo>
                  <a:pt x="490" y="2005"/>
                </a:lnTo>
                <a:lnTo>
                  <a:pt x="490" y="2013"/>
                </a:lnTo>
                <a:lnTo>
                  <a:pt x="490" y="2022"/>
                </a:lnTo>
                <a:lnTo>
                  <a:pt x="490" y="2030"/>
                </a:lnTo>
                <a:lnTo>
                  <a:pt x="490" y="2039"/>
                </a:lnTo>
                <a:lnTo>
                  <a:pt x="490" y="2050"/>
                </a:lnTo>
                <a:lnTo>
                  <a:pt x="490" y="2056"/>
                </a:lnTo>
                <a:lnTo>
                  <a:pt x="487" y="2062"/>
                </a:lnTo>
                <a:lnTo>
                  <a:pt x="487" y="2067"/>
                </a:lnTo>
                <a:lnTo>
                  <a:pt x="484" y="2073"/>
                </a:lnTo>
                <a:lnTo>
                  <a:pt x="484" y="2082"/>
                </a:lnTo>
                <a:lnTo>
                  <a:pt x="479" y="2087"/>
                </a:lnTo>
                <a:lnTo>
                  <a:pt x="476" y="2096"/>
                </a:lnTo>
                <a:lnTo>
                  <a:pt x="476" y="2104"/>
                </a:lnTo>
                <a:lnTo>
                  <a:pt x="473" y="2116"/>
                </a:lnTo>
                <a:lnTo>
                  <a:pt x="467" y="2124"/>
                </a:lnTo>
                <a:lnTo>
                  <a:pt x="464" y="2136"/>
                </a:lnTo>
                <a:lnTo>
                  <a:pt x="464" y="2147"/>
                </a:lnTo>
                <a:lnTo>
                  <a:pt x="462" y="2158"/>
                </a:lnTo>
                <a:lnTo>
                  <a:pt x="456" y="2170"/>
                </a:lnTo>
                <a:lnTo>
                  <a:pt x="453" y="2181"/>
                </a:lnTo>
                <a:lnTo>
                  <a:pt x="453" y="2192"/>
                </a:lnTo>
                <a:lnTo>
                  <a:pt x="450" y="2207"/>
                </a:lnTo>
                <a:lnTo>
                  <a:pt x="447" y="2218"/>
                </a:lnTo>
                <a:lnTo>
                  <a:pt x="445" y="2229"/>
                </a:lnTo>
                <a:lnTo>
                  <a:pt x="442" y="2241"/>
                </a:lnTo>
                <a:lnTo>
                  <a:pt x="442" y="2252"/>
                </a:lnTo>
                <a:lnTo>
                  <a:pt x="442" y="2263"/>
                </a:lnTo>
                <a:lnTo>
                  <a:pt x="439" y="2275"/>
                </a:lnTo>
                <a:lnTo>
                  <a:pt x="439" y="2286"/>
                </a:lnTo>
                <a:lnTo>
                  <a:pt x="442" y="2297"/>
                </a:lnTo>
                <a:lnTo>
                  <a:pt x="442" y="2309"/>
                </a:lnTo>
                <a:lnTo>
                  <a:pt x="442" y="2317"/>
                </a:lnTo>
                <a:lnTo>
                  <a:pt x="442" y="2326"/>
                </a:lnTo>
                <a:lnTo>
                  <a:pt x="445" y="2337"/>
                </a:lnTo>
                <a:lnTo>
                  <a:pt x="447" y="2343"/>
                </a:lnTo>
                <a:lnTo>
                  <a:pt x="453" y="2351"/>
                </a:lnTo>
                <a:lnTo>
                  <a:pt x="456" y="2360"/>
                </a:lnTo>
                <a:lnTo>
                  <a:pt x="462" y="2366"/>
                </a:lnTo>
                <a:lnTo>
                  <a:pt x="464" y="2368"/>
                </a:lnTo>
                <a:lnTo>
                  <a:pt x="470" y="2371"/>
                </a:lnTo>
                <a:lnTo>
                  <a:pt x="479" y="2374"/>
                </a:lnTo>
                <a:lnTo>
                  <a:pt x="490" y="2377"/>
                </a:lnTo>
                <a:lnTo>
                  <a:pt x="501" y="2380"/>
                </a:lnTo>
                <a:lnTo>
                  <a:pt x="515" y="2383"/>
                </a:lnTo>
                <a:lnTo>
                  <a:pt x="530" y="2383"/>
                </a:lnTo>
                <a:lnTo>
                  <a:pt x="549" y="2388"/>
                </a:lnTo>
                <a:lnTo>
                  <a:pt x="569" y="2391"/>
                </a:lnTo>
                <a:lnTo>
                  <a:pt x="592" y="2391"/>
                </a:lnTo>
                <a:lnTo>
                  <a:pt x="612" y="2394"/>
                </a:lnTo>
                <a:lnTo>
                  <a:pt x="637" y="2400"/>
                </a:lnTo>
                <a:lnTo>
                  <a:pt x="663" y="2403"/>
                </a:lnTo>
                <a:lnTo>
                  <a:pt x="691" y="2403"/>
                </a:lnTo>
                <a:lnTo>
                  <a:pt x="719" y="2405"/>
                </a:lnTo>
                <a:lnTo>
                  <a:pt x="751" y="2411"/>
                </a:lnTo>
                <a:lnTo>
                  <a:pt x="782" y="2411"/>
                </a:lnTo>
                <a:lnTo>
                  <a:pt x="813" y="2414"/>
                </a:lnTo>
                <a:lnTo>
                  <a:pt x="847" y="2417"/>
                </a:lnTo>
                <a:lnTo>
                  <a:pt x="881" y="2420"/>
                </a:lnTo>
                <a:lnTo>
                  <a:pt x="918" y="2420"/>
                </a:lnTo>
                <a:lnTo>
                  <a:pt x="952" y="2425"/>
                </a:lnTo>
                <a:lnTo>
                  <a:pt x="991" y="2425"/>
                </a:lnTo>
                <a:lnTo>
                  <a:pt x="1028" y="2428"/>
                </a:lnTo>
                <a:lnTo>
                  <a:pt x="1065" y="2431"/>
                </a:lnTo>
                <a:lnTo>
                  <a:pt x="1105" y="2434"/>
                </a:lnTo>
                <a:lnTo>
                  <a:pt x="1141" y="2437"/>
                </a:lnTo>
                <a:lnTo>
                  <a:pt x="1184" y="2437"/>
                </a:lnTo>
                <a:lnTo>
                  <a:pt x="1221" y="2439"/>
                </a:lnTo>
                <a:lnTo>
                  <a:pt x="1260" y="2442"/>
                </a:lnTo>
                <a:lnTo>
                  <a:pt x="1300" y="2445"/>
                </a:lnTo>
                <a:lnTo>
                  <a:pt x="1342" y="2448"/>
                </a:lnTo>
                <a:lnTo>
                  <a:pt x="1382" y="2448"/>
                </a:lnTo>
                <a:lnTo>
                  <a:pt x="1422" y="2451"/>
                </a:lnTo>
                <a:lnTo>
                  <a:pt x="1461" y="2451"/>
                </a:lnTo>
                <a:lnTo>
                  <a:pt x="1501" y="2454"/>
                </a:lnTo>
                <a:lnTo>
                  <a:pt x="1541" y="2456"/>
                </a:lnTo>
                <a:lnTo>
                  <a:pt x="1578" y="2456"/>
                </a:lnTo>
                <a:lnTo>
                  <a:pt x="1617" y="2459"/>
                </a:lnTo>
                <a:lnTo>
                  <a:pt x="1657" y="2462"/>
                </a:lnTo>
                <a:lnTo>
                  <a:pt x="1694" y="2462"/>
                </a:lnTo>
                <a:lnTo>
                  <a:pt x="1730" y="2465"/>
                </a:lnTo>
                <a:lnTo>
                  <a:pt x="1767" y="2465"/>
                </a:lnTo>
                <a:lnTo>
                  <a:pt x="1804" y="2468"/>
                </a:lnTo>
                <a:lnTo>
                  <a:pt x="1838" y="2468"/>
                </a:lnTo>
                <a:lnTo>
                  <a:pt x="1872" y="2471"/>
                </a:lnTo>
                <a:lnTo>
                  <a:pt x="1903" y="2471"/>
                </a:lnTo>
                <a:lnTo>
                  <a:pt x="1937" y="2474"/>
                </a:lnTo>
                <a:lnTo>
                  <a:pt x="1966" y="2474"/>
                </a:lnTo>
                <a:lnTo>
                  <a:pt x="1994" y="2474"/>
                </a:lnTo>
                <a:lnTo>
                  <a:pt x="2022" y="2474"/>
                </a:lnTo>
                <a:lnTo>
                  <a:pt x="2051" y="2476"/>
                </a:lnTo>
                <a:lnTo>
                  <a:pt x="2073" y="2476"/>
                </a:lnTo>
                <a:lnTo>
                  <a:pt x="2099" y="2476"/>
                </a:lnTo>
                <a:lnTo>
                  <a:pt x="2118" y="2479"/>
                </a:lnTo>
                <a:lnTo>
                  <a:pt x="2141" y="2479"/>
                </a:lnTo>
                <a:lnTo>
                  <a:pt x="2158" y="2479"/>
                </a:lnTo>
                <a:lnTo>
                  <a:pt x="2175" y="2479"/>
                </a:lnTo>
                <a:lnTo>
                  <a:pt x="2189" y="2479"/>
                </a:lnTo>
                <a:lnTo>
                  <a:pt x="2203" y="2479"/>
                </a:lnTo>
                <a:lnTo>
                  <a:pt x="2215" y="2479"/>
                </a:lnTo>
                <a:lnTo>
                  <a:pt x="2223" y="2479"/>
                </a:lnTo>
                <a:lnTo>
                  <a:pt x="2232" y="2479"/>
                </a:lnTo>
                <a:lnTo>
                  <a:pt x="2237" y="2479"/>
                </a:lnTo>
                <a:lnTo>
                  <a:pt x="2240" y="2479"/>
                </a:lnTo>
                <a:lnTo>
                  <a:pt x="2243" y="2476"/>
                </a:lnTo>
                <a:lnTo>
                  <a:pt x="2252" y="2474"/>
                </a:lnTo>
                <a:lnTo>
                  <a:pt x="2257" y="2474"/>
                </a:lnTo>
                <a:lnTo>
                  <a:pt x="2266" y="2468"/>
                </a:lnTo>
                <a:lnTo>
                  <a:pt x="2277" y="2465"/>
                </a:lnTo>
                <a:lnTo>
                  <a:pt x="2286" y="2459"/>
                </a:lnTo>
                <a:lnTo>
                  <a:pt x="2300" y="2456"/>
                </a:lnTo>
                <a:lnTo>
                  <a:pt x="2311" y="2451"/>
                </a:lnTo>
                <a:lnTo>
                  <a:pt x="2328" y="2445"/>
                </a:lnTo>
                <a:lnTo>
                  <a:pt x="2339" y="2437"/>
                </a:lnTo>
                <a:lnTo>
                  <a:pt x="2356" y="2431"/>
                </a:lnTo>
                <a:lnTo>
                  <a:pt x="2371" y="2425"/>
                </a:lnTo>
                <a:lnTo>
                  <a:pt x="2390" y="2417"/>
                </a:lnTo>
                <a:lnTo>
                  <a:pt x="2407" y="2408"/>
                </a:lnTo>
                <a:lnTo>
                  <a:pt x="2427" y="2403"/>
                </a:lnTo>
                <a:lnTo>
                  <a:pt x="2447" y="2391"/>
                </a:lnTo>
                <a:lnTo>
                  <a:pt x="2467" y="2383"/>
                </a:lnTo>
                <a:lnTo>
                  <a:pt x="2487" y="2371"/>
                </a:lnTo>
                <a:lnTo>
                  <a:pt x="2509" y="2363"/>
                </a:lnTo>
                <a:lnTo>
                  <a:pt x="2529" y="2354"/>
                </a:lnTo>
                <a:lnTo>
                  <a:pt x="2552" y="2343"/>
                </a:lnTo>
                <a:lnTo>
                  <a:pt x="2572" y="2334"/>
                </a:lnTo>
                <a:lnTo>
                  <a:pt x="2597" y="2323"/>
                </a:lnTo>
                <a:lnTo>
                  <a:pt x="2620" y="2312"/>
                </a:lnTo>
                <a:lnTo>
                  <a:pt x="2642" y="2300"/>
                </a:lnTo>
                <a:lnTo>
                  <a:pt x="2665" y="2289"/>
                </a:lnTo>
                <a:lnTo>
                  <a:pt x="2691" y="2280"/>
                </a:lnTo>
                <a:lnTo>
                  <a:pt x="2713" y="2269"/>
                </a:lnTo>
                <a:lnTo>
                  <a:pt x="2739" y="2258"/>
                </a:lnTo>
                <a:lnTo>
                  <a:pt x="2761" y="2246"/>
                </a:lnTo>
                <a:lnTo>
                  <a:pt x="2787" y="2235"/>
                </a:lnTo>
                <a:lnTo>
                  <a:pt x="2810" y="2224"/>
                </a:lnTo>
                <a:lnTo>
                  <a:pt x="2832" y="2212"/>
                </a:lnTo>
                <a:lnTo>
                  <a:pt x="2858" y="2201"/>
                </a:lnTo>
                <a:lnTo>
                  <a:pt x="2880" y="2190"/>
                </a:lnTo>
                <a:lnTo>
                  <a:pt x="2903" y="2178"/>
                </a:lnTo>
                <a:lnTo>
                  <a:pt x="2926" y="2167"/>
                </a:lnTo>
                <a:lnTo>
                  <a:pt x="2948" y="2155"/>
                </a:lnTo>
                <a:lnTo>
                  <a:pt x="2974" y="2144"/>
                </a:lnTo>
                <a:lnTo>
                  <a:pt x="2994" y="2133"/>
                </a:lnTo>
                <a:lnTo>
                  <a:pt x="3016" y="2121"/>
                </a:lnTo>
                <a:lnTo>
                  <a:pt x="3036" y="2113"/>
                </a:lnTo>
                <a:lnTo>
                  <a:pt x="3059" y="2101"/>
                </a:lnTo>
                <a:lnTo>
                  <a:pt x="3079" y="2090"/>
                </a:lnTo>
                <a:lnTo>
                  <a:pt x="3098" y="2082"/>
                </a:lnTo>
                <a:lnTo>
                  <a:pt x="3115" y="2070"/>
                </a:lnTo>
                <a:lnTo>
                  <a:pt x="3135" y="2062"/>
                </a:lnTo>
                <a:lnTo>
                  <a:pt x="3152" y="2053"/>
                </a:lnTo>
                <a:lnTo>
                  <a:pt x="3169" y="2045"/>
                </a:lnTo>
                <a:lnTo>
                  <a:pt x="3183" y="2033"/>
                </a:lnTo>
                <a:lnTo>
                  <a:pt x="3200" y="2028"/>
                </a:lnTo>
                <a:lnTo>
                  <a:pt x="3212" y="2019"/>
                </a:lnTo>
                <a:lnTo>
                  <a:pt x="3226" y="2011"/>
                </a:lnTo>
                <a:lnTo>
                  <a:pt x="3237" y="2005"/>
                </a:lnTo>
                <a:lnTo>
                  <a:pt x="3251" y="1999"/>
                </a:lnTo>
                <a:lnTo>
                  <a:pt x="3260" y="1991"/>
                </a:lnTo>
                <a:lnTo>
                  <a:pt x="3271" y="1985"/>
                </a:lnTo>
                <a:lnTo>
                  <a:pt x="3277" y="1982"/>
                </a:lnTo>
                <a:lnTo>
                  <a:pt x="3285" y="1977"/>
                </a:lnTo>
                <a:lnTo>
                  <a:pt x="3297" y="1968"/>
                </a:lnTo>
                <a:lnTo>
                  <a:pt x="3302" y="1965"/>
                </a:lnTo>
                <a:lnTo>
                  <a:pt x="3302" y="1959"/>
                </a:lnTo>
                <a:lnTo>
                  <a:pt x="3302" y="1951"/>
                </a:lnTo>
                <a:lnTo>
                  <a:pt x="3302" y="1942"/>
                </a:lnTo>
                <a:lnTo>
                  <a:pt x="3302" y="1931"/>
                </a:lnTo>
                <a:lnTo>
                  <a:pt x="3302" y="1925"/>
                </a:lnTo>
                <a:lnTo>
                  <a:pt x="3302" y="1920"/>
                </a:lnTo>
                <a:lnTo>
                  <a:pt x="3302" y="1914"/>
                </a:lnTo>
                <a:lnTo>
                  <a:pt x="3302" y="1908"/>
                </a:lnTo>
                <a:lnTo>
                  <a:pt x="3302" y="1900"/>
                </a:lnTo>
                <a:lnTo>
                  <a:pt x="3302" y="1894"/>
                </a:lnTo>
                <a:lnTo>
                  <a:pt x="3302" y="1886"/>
                </a:lnTo>
                <a:lnTo>
                  <a:pt x="3302" y="1880"/>
                </a:lnTo>
                <a:lnTo>
                  <a:pt x="3302" y="1871"/>
                </a:lnTo>
                <a:lnTo>
                  <a:pt x="3302" y="1863"/>
                </a:lnTo>
                <a:lnTo>
                  <a:pt x="3302" y="1854"/>
                </a:lnTo>
                <a:lnTo>
                  <a:pt x="3302" y="1846"/>
                </a:lnTo>
                <a:lnTo>
                  <a:pt x="3300" y="1837"/>
                </a:lnTo>
                <a:lnTo>
                  <a:pt x="3300" y="1829"/>
                </a:lnTo>
                <a:lnTo>
                  <a:pt x="3300" y="1820"/>
                </a:lnTo>
                <a:lnTo>
                  <a:pt x="3300" y="1812"/>
                </a:lnTo>
                <a:lnTo>
                  <a:pt x="3297" y="1803"/>
                </a:lnTo>
                <a:lnTo>
                  <a:pt x="3297" y="1795"/>
                </a:lnTo>
                <a:lnTo>
                  <a:pt x="3294" y="1786"/>
                </a:lnTo>
                <a:lnTo>
                  <a:pt x="3294" y="1778"/>
                </a:lnTo>
                <a:lnTo>
                  <a:pt x="3294" y="1766"/>
                </a:lnTo>
                <a:lnTo>
                  <a:pt x="3294" y="1761"/>
                </a:lnTo>
                <a:lnTo>
                  <a:pt x="3291" y="1749"/>
                </a:lnTo>
                <a:lnTo>
                  <a:pt x="3291" y="1741"/>
                </a:lnTo>
                <a:lnTo>
                  <a:pt x="3291" y="1732"/>
                </a:lnTo>
                <a:lnTo>
                  <a:pt x="3291" y="1724"/>
                </a:lnTo>
                <a:lnTo>
                  <a:pt x="3288" y="1712"/>
                </a:lnTo>
                <a:lnTo>
                  <a:pt x="3288" y="1704"/>
                </a:lnTo>
                <a:lnTo>
                  <a:pt x="3285" y="1695"/>
                </a:lnTo>
                <a:lnTo>
                  <a:pt x="3285" y="1687"/>
                </a:lnTo>
                <a:lnTo>
                  <a:pt x="3283" y="1678"/>
                </a:lnTo>
                <a:lnTo>
                  <a:pt x="3283" y="1670"/>
                </a:lnTo>
                <a:lnTo>
                  <a:pt x="3283" y="1661"/>
                </a:lnTo>
                <a:lnTo>
                  <a:pt x="3283" y="1653"/>
                </a:lnTo>
                <a:lnTo>
                  <a:pt x="3280" y="1647"/>
                </a:lnTo>
                <a:lnTo>
                  <a:pt x="3280" y="1639"/>
                </a:lnTo>
                <a:lnTo>
                  <a:pt x="3280" y="1630"/>
                </a:lnTo>
                <a:lnTo>
                  <a:pt x="3277" y="1624"/>
                </a:lnTo>
                <a:lnTo>
                  <a:pt x="3277" y="1619"/>
                </a:lnTo>
                <a:lnTo>
                  <a:pt x="3277" y="1610"/>
                </a:lnTo>
                <a:lnTo>
                  <a:pt x="3274" y="1599"/>
                </a:lnTo>
                <a:lnTo>
                  <a:pt x="3274" y="1587"/>
                </a:lnTo>
                <a:lnTo>
                  <a:pt x="3271" y="1576"/>
                </a:lnTo>
                <a:lnTo>
                  <a:pt x="3271" y="1570"/>
                </a:lnTo>
                <a:lnTo>
                  <a:pt x="3271" y="1562"/>
                </a:lnTo>
                <a:lnTo>
                  <a:pt x="3271" y="1559"/>
                </a:lnTo>
                <a:lnTo>
                  <a:pt x="3271" y="1556"/>
                </a:lnTo>
                <a:lnTo>
                  <a:pt x="3339" y="804"/>
                </a:lnTo>
                <a:lnTo>
                  <a:pt x="3339" y="801"/>
                </a:lnTo>
                <a:lnTo>
                  <a:pt x="3345" y="801"/>
                </a:lnTo>
                <a:lnTo>
                  <a:pt x="3348" y="795"/>
                </a:lnTo>
                <a:lnTo>
                  <a:pt x="3356" y="792"/>
                </a:lnTo>
                <a:lnTo>
                  <a:pt x="3365" y="789"/>
                </a:lnTo>
                <a:lnTo>
                  <a:pt x="3376" y="784"/>
                </a:lnTo>
                <a:lnTo>
                  <a:pt x="3379" y="781"/>
                </a:lnTo>
                <a:lnTo>
                  <a:pt x="3387" y="778"/>
                </a:lnTo>
                <a:lnTo>
                  <a:pt x="3393" y="775"/>
                </a:lnTo>
                <a:lnTo>
                  <a:pt x="3401" y="772"/>
                </a:lnTo>
                <a:lnTo>
                  <a:pt x="3407" y="770"/>
                </a:lnTo>
                <a:lnTo>
                  <a:pt x="3416" y="767"/>
                </a:lnTo>
                <a:lnTo>
                  <a:pt x="3421" y="761"/>
                </a:lnTo>
                <a:lnTo>
                  <a:pt x="3430" y="758"/>
                </a:lnTo>
                <a:lnTo>
                  <a:pt x="3438" y="753"/>
                </a:lnTo>
                <a:lnTo>
                  <a:pt x="3447" y="750"/>
                </a:lnTo>
                <a:lnTo>
                  <a:pt x="3455" y="747"/>
                </a:lnTo>
                <a:lnTo>
                  <a:pt x="3464" y="741"/>
                </a:lnTo>
                <a:lnTo>
                  <a:pt x="3472" y="738"/>
                </a:lnTo>
                <a:lnTo>
                  <a:pt x="3481" y="733"/>
                </a:lnTo>
                <a:lnTo>
                  <a:pt x="3489" y="727"/>
                </a:lnTo>
                <a:lnTo>
                  <a:pt x="3501" y="724"/>
                </a:lnTo>
                <a:lnTo>
                  <a:pt x="3509" y="718"/>
                </a:lnTo>
                <a:lnTo>
                  <a:pt x="3518" y="716"/>
                </a:lnTo>
                <a:lnTo>
                  <a:pt x="3526" y="710"/>
                </a:lnTo>
                <a:lnTo>
                  <a:pt x="3537" y="707"/>
                </a:lnTo>
                <a:lnTo>
                  <a:pt x="3546" y="699"/>
                </a:lnTo>
                <a:lnTo>
                  <a:pt x="3554" y="696"/>
                </a:lnTo>
                <a:lnTo>
                  <a:pt x="3563" y="690"/>
                </a:lnTo>
                <a:lnTo>
                  <a:pt x="3571" y="684"/>
                </a:lnTo>
                <a:lnTo>
                  <a:pt x="3580" y="679"/>
                </a:lnTo>
                <a:lnTo>
                  <a:pt x="3588" y="676"/>
                </a:lnTo>
                <a:lnTo>
                  <a:pt x="3600" y="667"/>
                </a:lnTo>
                <a:lnTo>
                  <a:pt x="3608" y="664"/>
                </a:lnTo>
                <a:lnTo>
                  <a:pt x="3617" y="659"/>
                </a:lnTo>
                <a:lnTo>
                  <a:pt x="3625" y="653"/>
                </a:lnTo>
                <a:lnTo>
                  <a:pt x="3631" y="647"/>
                </a:lnTo>
                <a:lnTo>
                  <a:pt x="3642" y="645"/>
                </a:lnTo>
                <a:lnTo>
                  <a:pt x="3648" y="639"/>
                </a:lnTo>
                <a:lnTo>
                  <a:pt x="3654" y="633"/>
                </a:lnTo>
                <a:lnTo>
                  <a:pt x="3662" y="628"/>
                </a:lnTo>
                <a:lnTo>
                  <a:pt x="3671" y="625"/>
                </a:lnTo>
                <a:lnTo>
                  <a:pt x="3682" y="613"/>
                </a:lnTo>
                <a:lnTo>
                  <a:pt x="3693" y="605"/>
                </a:lnTo>
                <a:lnTo>
                  <a:pt x="3705" y="594"/>
                </a:lnTo>
                <a:lnTo>
                  <a:pt x="3713" y="588"/>
                </a:lnTo>
                <a:lnTo>
                  <a:pt x="3719" y="579"/>
                </a:lnTo>
                <a:lnTo>
                  <a:pt x="3722" y="571"/>
                </a:lnTo>
                <a:lnTo>
                  <a:pt x="3724" y="562"/>
                </a:lnTo>
                <a:lnTo>
                  <a:pt x="3724" y="557"/>
                </a:lnTo>
                <a:lnTo>
                  <a:pt x="3722" y="551"/>
                </a:lnTo>
                <a:lnTo>
                  <a:pt x="3719" y="542"/>
                </a:lnTo>
                <a:lnTo>
                  <a:pt x="3710" y="534"/>
                </a:lnTo>
                <a:lnTo>
                  <a:pt x="3705" y="525"/>
                </a:lnTo>
                <a:lnTo>
                  <a:pt x="3693" y="517"/>
                </a:lnTo>
                <a:lnTo>
                  <a:pt x="3685" y="505"/>
                </a:lnTo>
                <a:lnTo>
                  <a:pt x="3673" y="494"/>
                </a:lnTo>
                <a:lnTo>
                  <a:pt x="3659" y="486"/>
                </a:lnTo>
                <a:lnTo>
                  <a:pt x="3654" y="480"/>
                </a:lnTo>
                <a:lnTo>
                  <a:pt x="3645" y="471"/>
                </a:lnTo>
                <a:lnTo>
                  <a:pt x="3637" y="466"/>
                </a:lnTo>
                <a:lnTo>
                  <a:pt x="3631" y="460"/>
                </a:lnTo>
                <a:lnTo>
                  <a:pt x="3620" y="454"/>
                </a:lnTo>
                <a:lnTo>
                  <a:pt x="3614" y="449"/>
                </a:lnTo>
                <a:lnTo>
                  <a:pt x="3605" y="443"/>
                </a:lnTo>
                <a:lnTo>
                  <a:pt x="3597" y="437"/>
                </a:lnTo>
                <a:lnTo>
                  <a:pt x="3588" y="429"/>
                </a:lnTo>
                <a:lnTo>
                  <a:pt x="3580" y="426"/>
                </a:lnTo>
                <a:lnTo>
                  <a:pt x="3569" y="417"/>
                </a:lnTo>
                <a:lnTo>
                  <a:pt x="3563" y="412"/>
                </a:lnTo>
                <a:lnTo>
                  <a:pt x="3552" y="406"/>
                </a:lnTo>
                <a:lnTo>
                  <a:pt x="3546" y="400"/>
                </a:lnTo>
                <a:lnTo>
                  <a:pt x="3535" y="395"/>
                </a:lnTo>
                <a:lnTo>
                  <a:pt x="3526" y="389"/>
                </a:lnTo>
                <a:lnTo>
                  <a:pt x="3518" y="381"/>
                </a:lnTo>
                <a:lnTo>
                  <a:pt x="3509" y="375"/>
                </a:lnTo>
                <a:lnTo>
                  <a:pt x="3498" y="369"/>
                </a:lnTo>
                <a:lnTo>
                  <a:pt x="3489" y="363"/>
                </a:lnTo>
                <a:lnTo>
                  <a:pt x="3481" y="358"/>
                </a:lnTo>
                <a:lnTo>
                  <a:pt x="3472" y="352"/>
                </a:lnTo>
                <a:lnTo>
                  <a:pt x="3461" y="346"/>
                </a:lnTo>
                <a:lnTo>
                  <a:pt x="3452" y="344"/>
                </a:lnTo>
                <a:lnTo>
                  <a:pt x="3441" y="335"/>
                </a:lnTo>
                <a:lnTo>
                  <a:pt x="3433" y="332"/>
                </a:lnTo>
                <a:lnTo>
                  <a:pt x="3424" y="324"/>
                </a:lnTo>
                <a:lnTo>
                  <a:pt x="3418" y="321"/>
                </a:lnTo>
                <a:lnTo>
                  <a:pt x="3410" y="315"/>
                </a:lnTo>
                <a:lnTo>
                  <a:pt x="3401" y="310"/>
                </a:lnTo>
                <a:lnTo>
                  <a:pt x="3393" y="307"/>
                </a:lnTo>
                <a:lnTo>
                  <a:pt x="3387" y="304"/>
                </a:lnTo>
                <a:lnTo>
                  <a:pt x="3379" y="298"/>
                </a:lnTo>
                <a:lnTo>
                  <a:pt x="3370" y="295"/>
                </a:lnTo>
                <a:lnTo>
                  <a:pt x="3365" y="290"/>
                </a:lnTo>
                <a:lnTo>
                  <a:pt x="3356" y="287"/>
                </a:lnTo>
                <a:lnTo>
                  <a:pt x="3345" y="278"/>
                </a:lnTo>
                <a:lnTo>
                  <a:pt x="3334" y="275"/>
                </a:lnTo>
                <a:lnTo>
                  <a:pt x="3322" y="270"/>
                </a:lnTo>
                <a:lnTo>
                  <a:pt x="3314" y="267"/>
                </a:lnTo>
                <a:lnTo>
                  <a:pt x="3308" y="267"/>
                </a:lnTo>
                <a:lnTo>
                  <a:pt x="3302" y="267"/>
                </a:lnTo>
                <a:lnTo>
                  <a:pt x="3300" y="264"/>
                </a:lnTo>
                <a:lnTo>
                  <a:pt x="3294" y="264"/>
                </a:lnTo>
                <a:lnTo>
                  <a:pt x="3288" y="261"/>
                </a:lnTo>
                <a:lnTo>
                  <a:pt x="3283" y="261"/>
                </a:lnTo>
                <a:lnTo>
                  <a:pt x="3271" y="261"/>
                </a:lnTo>
                <a:lnTo>
                  <a:pt x="3263" y="261"/>
                </a:lnTo>
                <a:lnTo>
                  <a:pt x="3251" y="258"/>
                </a:lnTo>
                <a:lnTo>
                  <a:pt x="3240" y="258"/>
                </a:lnTo>
                <a:lnTo>
                  <a:pt x="3226" y="256"/>
                </a:lnTo>
                <a:lnTo>
                  <a:pt x="3212" y="256"/>
                </a:lnTo>
                <a:lnTo>
                  <a:pt x="3198" y="256"/>
                </a:lnTo>
                <a:lnTo>
                  <a:pt x="3181" y="256"/>
                </a:lnTo>
                <a:lnTo>
                  <a:pt x="3164" y="253"/>
                </a:lnTo>
                <a:lnTo>
                  <a:pt x="3147" y="250"/>
                </a:lnTo>
                <a:lnTo>
                  <a:pt x="3127" y="250"/>
                </a:lnTo>
                <a:lnTo>
                  <a:pt x="3110" y="250"/>
                </a:lnTo>
                <a:lnTo>
                  <a:pt x="3087" y="247"/>
                </a:lnTo>
                <a:lnTo>
                  <a:pt x="3067" y="244"/>
                </a:lnTo>
                <a:lnTo>
                  <a:pt x="3045" y="244"/>
                </a:lnTo>
                <a:lnTo>
                  <a:pt x="3022" y="244"/>
                </a:lnTo>
                <a:lnTo>
                  <a:pt x="2999" y="241"/>
                </a:lnTo>
                <a:lnTo>
                  <a:pt x="2977" y="239"/>
                </a:lnTo>
                <a:lnTo>
                  <a:pt x="2954" y="236"/>
                </a:lnTo>
                <a:lnTo>
                  <a:pt x="2931" y="236"/>
                </a:lnTo>
                <a:lnTo>
                  <a:pt x="2906" y="236"/>
                </a:lnTo>
                <a:lnTo>
                  <a:pt x="2880" y="233"/>
                </a:lnTo>
                <a:lnTo>
                  <a:pt x="2855" y="233"/>
                </a:lnTo>
                <a:lnTo>
                  <a:pt x="2829" y="230"/>
                </a:lnTo>
                <a:lnTo>
                  <a:pt x="2804" y="227"/>
                </a:lnTo>
                <a:lnTo>
                  <a:pt x="2781" y="227"/>
                </a:lnTo>
                <a:lnTo>
                  <a:pt x="2756" y="224"/>
                </a:lnTo>
                <a:lnTo>
                  <a:pt x="2730" y="224"/>
                </a:lnTo>
                <a:lnTo>
                  <a:pt x="2705" y="224"/>
                </a:lnTo>
                <a:lnTo>
                  <a:pt x="2676" y="221"/>
                </a:lnTo>
                <a:lnTo>
                  <a:pt x="2654" y="219"/>
                </a:lnTo>
                <a:lnTo>
                  <a:pt x="2628" y="219"/>
                </a:lnTo>
                <a:lnTo>
                  <a:pt x="2603" y="216"/>
                </a:lnTo>
                <a:lnTo>
                  <a:pt x="2580" y="213"/>
                </a:lnTo>
                <a:lnTo>
                  <a:pt x="2555" y="213"/>
                </a:lnTo>
                <a:lnTo>
                  <a:pt x="2532" y="213"/>
                </a:lnTo>
                <a:lnTo>
                  <a:pt x="2507" y="210"/>
                </a:lnTo>
                <a:lnTo>
                  <a:pt x="2484" y="207"/>
                </a:lnTo>
                <a:lnTo>
                  <a:pt x="2461" y="207"/>
                </a:lnTo>
                <a:lnTo>
                  <a:pt x="2441" y="204"/>
                </a:lnTo>
                <a:lnTo>
                  <a:pt x="2419" y="204"/>
                </a:lnTo>
                <a:lnTo>
                  <a:pt x="2399" y="202"/>
                </a:lnTo>
                <a:lnTo>
                  <a:pt x="2379" y="202"/>
                </a:lnTo>
                <a:lnTo>
                  <a:pt x="2359" y="202"/>
                </a:lnTo>
                <a:lnTo>
                  <a:pt x="2342" y="202"/>
                </a:lnTo>
                <a:lnTo>
                  <a:pt x="2325" y="199"/>
                </a:lnTo>
                <a:lnTo>
                  <a:pt x="2305" y="199"/>
                </a:lnTo>
                <a:lnTo>
                  <a:pt x="2291" y="199"/>
                </a:lnTo>
                <a:lnTo>
                  <a:pt x="2274" y="196"/>
                </a:lnTo>
                <a:lnTo>
                  <a:pt x="2263" y="196"/>
                </a:lnTo>
                <a:lnTo>
                  <a:pt x="2249" y="196"/>
                </a:lnTo>
                <a:lnTo>
                  <a:pt x="2240" y="196"/>
                </a:lnTo>
                <a:lnTo>
                  <a:pt x="2229" y="193"/>
                </a:lnTo>
                <a:lnTo>
                  <a:pt x="2220" y="193"/>
                </a:lnTo>
                <a:lnTo>
                  <a:pt x="2212" y="193"/>
                </a:lnTo>
                <a:lnTo>
                  <a:pt x="2206" y="193"/>
                </a:lnTo>
                <a:lnTo>
                  <a:pt x="2198" y="193"/>
                </a:lnTo>
                <a:lnTo>
                  <a:pt x="2195" y="193"/>
                </a:lnTo>
                <a:lnTo>
                  <a:pt x="2192" y="190"/>
                </a:lnTo>
                <a:lnTo>
                  <a:pt x="2186" y="182"/>
                </a:lnTo>
                <a:lnTo>
                  <a:pt x="2175" y="173"/>
                </a:lnTo>
                <a:lnTo>
                  <a:pt x="2167" y="162"/>
                </a:lnTo>
                <a:lnTo>
                  <a:pt x="2152" y="150"/>
                </a:lnTo>
                <a:lnTo>
                  <a:pt x="2138" y="142"/>
                </a:lnTo>
                <a:lnTo>
                  <a:pt x="2133" y="136"/>
                </a:lnTo>
                <a:lnTo>
                  <a:pt x="2124" y="133"/>
                </a:lnTo>
                <a:lnTo>
                  <a:pt x="2118" y="131"/>
                </a:lnTo>
                <a:lnTo>
                  <a:pt x="2113" y="131"/>
                </a:lnTo>
                <a:lnTo>
                  <a:pt x="2107" y="131"/>
                </a:lnTo>
                <a:lnTo>
                  <a:pt x="2101" y="131"/>
                </a:lnTo>
                <a:lnTo>
                  <a:pt x="2093" y="131"/>
                </a:lnTo>
                <a:lnTo>
                  <a:pt x="2087" y="131"/>
                </a:lnTo>
                <a:lnTo>
                  <a:pt x="2073" y="131"/>
                </a:lnTo>
                <a:lnTo>
                  <a:pt x="2062" y="133"/>
                </a:lnTo>
                <a:lnTo>
                  <a:pt x="2048" y="136"/>
                </a:lnTo>
                <a:lnTo>
                  <a:pt x="2039" y="139"/>
                </a:lnTo>
                <a:lnTo>
                  <a:pt x="2034" y="139"/>
                </a:lnTo>
                <a:lnTo>
                  <a:pt x="2034" y="142"/>
                </a:lnTo>
                <a:lnTo>
                  <a:pt x="2031" y="139"/>
                </a:lnTo>
                <a:lnTo>
                  <a:pt x="2028" y="136"/>
                </a:lnTo>
                <a:lnTo>
                  <a:pt x="2022" y="128"/>
                </a:lnTo>
                <a:lnTo>
                  <a:pt x="2017" y="122"/>
                </a:lnTo>
                <a:lnTo>
                  <a:pt x="2008" y="111"/>
                </a:lnTo>
                <a:lnTo>
                  <a:pt x="2000" y="102"/>
                </a:lnTo>
                <a:lnTo>
                  <a:pt x="1991" y="91"/>
                </a:lnTo>
                <a:lnTo>
                  <a:pt x="1980" y="79"/>
                </a:lnTo>
                <a:lnTo>
                  <a:pt x="1968" y="68"/>
                </a:lnTo>
                <a:lnTo>
                  <a:pt x="1957" y="57"/>
                </a:lnTo>
                <a:lnTo>
                  <a:pt x="1949" y="45"/>
                </a:lnTo>
                <a:lnTo>
                  <a:pt x="1937" y="37"/>
                </a:lnTo>
                <a:lnTo>
                  <a:pt x="1926" y="28"/>
                </a:lnTo>
                <a:lnTo>
                  <a:pt x="1915" y="23"/>
                </a:lnTo>
                <a:lnTo>
                  <a:pt x="1906" y="17"/>
                </a:lnTo>
                <a:lnTo>
                  <a:pt x="1900" y="17"/>
                </a:lnTo>
                <a:lnTo>
                  <a:pt x="1892" y="17"/>
                </a:lnTo>
                <a:lnTo>
                  <a:pt x="1883" y="17"/>
                </a:lnTo>
                <a:lnTo>
                  <a:pt x="1878" y="20"/>
                </a:lnTo>
                <a:lnTo>
                  <a:pt x="1872" y="23"/>
                </a:lnTo>
                <a:lnTo>
                  <a:pt x="1861" y="34"/>
                </a:lnTo>
                <a:lnTo>
                  <a:pt x="1852" y="45"/>
                </a:lnTo>
                <a:lnTo>
                  <a:pt x="1847" y="57"/>
                </a:lnTo>
                <a:lnTo>
                  <a:pt x="1844" y="68"/>
                </a:lnTo>
                <a:lnTo>
                  <a:pt x="1841" y="74"/>
                </a:lnTo>
                <a:lnTo>
                  <a:pt x="1841" y="79"/>
                </a:lnTo>
                <a:lnTo>
                  <a:pt x="1838" y="74"/>
                </a:lnTo>
                <a:lnTo>
                  <a:pt x="1832" y="65"/>
                </a:lnTo>
                <a:lnTo>
                  <a:pt x="1827" y="60"/>
                </a:lnTo>
                <a:lnTo>
                  <a:pt x="1824" y="54"/>
                </a:lnTo>
                <a:lnTo>
                  <a:pt x="1818" y="45"/>
                </a:lnTo>
                <a:lnTo>
                  <a:pt x="1813" y="40"/>
                </a:lnTo>
                <a:lnTo>
                  <a:pt x="1807" y="31"/>
                </a:lnTo>
                <a:lnTo>
                  <a:pt x="1798" y="23"/>
                </a:lnTo>
                <a:lnTo>
                  <a:pt x="1793" y="17"/>
                </a:lnTo>
                <a:lnTo>
                  <a:pt x="1784" y="11"/>
                </a:lnTo>
                <a:lnTo>
                  <a:pt x="1776" y="6"/>
                </a:lnTo>
                <a:lnTo>
                  <a:pt x="1767" y="3"/>
                </a:lnTo>
                <a:lnTo>
                  <a:pt x="1762" y="0"/>
                </a:lnTo>
                <a:lnTo>
                  <a:pt x="1753" y="0"/>
                </a:lnTo>
                <a:lnTo>
                  <a:pt x="1745" y="0"/>
                </a:lnTo>
                <a:lnTo>
                  <a:pt x="1736" y="3"/>
                </a:lnTo>
                <a:lnTo>
                  <a:pt x="1730" y="6"/>
                </a:lnTo>
                <a:lnTo>
                  <a:pt x="1725" y="11"/>
                </a:lnTo>
                <a:lnTo>
                  <a:pt x="1713" y="20"/>
                </a:lnTo>
                <a:lnTo>
                  <a:pt x="1708" y="31"/>
                </a:lnTo>
                <a:lnTo>
                  <a:pt x="1702" y="43"/>
                </a:lnTo>
                <a:lnTo>
                  <a:pt x="1696" y="54"/>
                </a:lnTo>
                <a:lnTo>
                  <a:pt x="1694" y="60"/>
                </a:lnTo>
                <a:lnTo>
                  <a:pt x="1694" y="62"/>
                </a:lnTo>
                <a:lnTo>
                  <a:pt x="1691" y="60"/>
                </a:lnTo>
                <a:lnTo>
                  <a:pt x="1688" y="57"/>
                </a:lnTo>
                <a:lnTo>
                  <a:pt x="1682" y="54"/>
                </a:lnTo>
                <a:lnTo>
                  <a:pt x="1677" y="48"/>
                </a:lnTo>
                <a:lnTo>
                  <a:pt x="1665" y="45"/>
                </a:lnTo>
                <a:lnTo>
                  <a:pt x="1654" y="43"/>
                </a:lnTo>
                <a:lnTo>
                  <a:pt x="1643" y="43"/>
                </a:lnTo>
                <a:lnTo>
                  <a:pt x="1629" y="45"/>
                </a:lnTo>
                <a:lnTo>
                  <a:pt x="1623" y="48"/>
                </a:lnTo>
                <a:lnTo>
                  <a:pt x="1614" y="54"/>
                </a:lnTo>
                <a:lnTo>
                  <a:pt x="1609" y="57"/>
                </a:lnTo>
                <a:lnTo>
                  <a:pt x="1603" y="65"/>
                </a:lnTo>
                <a:lnTo>
                  <a:pt x="1592" y="74"/>
                </a:lnTo>
                <a:lnTo>
                  <a:pt x="1583" y="88"/>
                </a:lnTo>
                <a:lnTo>
                  <a:pt x="1575" y="97"/>
                </a:lnTo>
                <a:lnTo>
                  <a:pt x="1569" y="108"/>
                </a:lnTo>
                <a:lnTo>
                  <a:pt x="1566" y="116"/>
                </a:lnTo>
                <a:lnTo>
                  <a:pt x="1566" y="119"/>
                </a:lnTo>
                <a:lnTo>
                  <a:pt x="1561" y="116"/>
                </a:lnTo>
                <a:lnTo>
                  <a:pt x="1555" y="114"/>
                </a:lnTo>
                <a:lnTo>
                  <a:pt x="1546" y="108"/>
                </a:lnTo>
                <a:lnTo>
                  <a:pt x="1544" y="108"/>
                </a:lnTo>
                <a:lnTo>
                  <a:pt x="1535" y="105"/>
                </a:lnTo>
                <a:lnTo>
                  <a:pt x="1529" y="102"/>
                </a:lnTo>
                <a:lnTo>
                  <a:pt x="1521" y="99"/>
                </a:lnTo>
                <a:lnTo>
                  <a:pt x="1512" y="97"/>
                </a:lnTo>
                <a:lnTo>
                  <a:pt x="1504" y="94"/>
                </a:lnTo>
                <a:lnTo>
                  <a:pt x="1495" y="94"/>
                </a:lnTo>
                <a:lnTo>
                  <a:pt x="1487" y="94"/>
                </a:lnTo>
                <a:lnTo>
                  <a:pt x="1478" y="94"/>
                </a:lnTo>
                <a:lnTo>
                  <a:pt x="1470" y="97"/>
                </a:lnTo>
                <a:lnTo>
                  <a:pt x="1464" y="99"/>
                </a:lnTo>
                <a:lnTo>
                  <a:pt x="1459" y="102"/>
                </a:lnTo>
                <a:lnTo>
                  <a:pt x="1450" y="108"/>
                </a:lnTo>
                <a:lnTo>
                  <a:pt x="1444" y="114"/>
                </a:lnTo>
                <a:lnTo>
                  <a:pt x="1442" y="122"/>
                </a:lnTo>
                <a:lnTo>
                  <a:pt x="1439" y="128"/>
                </a:lnTo>
                <a:lnTo>
                  <a:pt x="1433" y="139"/>
                </a:lnTo>
                <a:lnTo>
                  <a:pt x="1430" y="148"/>
                </a:lnTo>
                <a:lnTo>
                  <a:pt x="1430" y="159"/>
                </a:lnTo>
                <a:lnTo>
                  <a:pt x="1427" y="168"/>
                </a:lnTo>
                <a:lnTo>
                  <a:pt x="1427" y="176"/>
                </a:lnTo>
                <a:lnTo>
                  <a:pt x="1425" y="182"/>
                </a:lnTo>
                <a:lnTo>
                  <a:pt x="1425" y="193"/>
                </a:lnTo>
                <a:lnTo>
                  <a:pt x="1425" y="202"/>
                </a:lnTo>
                <a:lnTo>
                  <a:pt x="1425" y="207"/>
                </a:lnTo>
                <a:lnTo>
                  <a:pt x="1422" y="207"/>
                </a:lnTo>
                <a:lnTo>
                  <a:pt x="1416" y="207"/>
                </a:lnTo>
                <a:lnTo>
                  <a:pt x="1408" y="210"/>
                </a:lnTo>
                <a:lnTo>
                  <a:pt x="1396" y="213"/>
                </a:lnTo>
                <a:lnTo>
                  <a:pt x="1391" y="213"/>
                </a:lnTo>
                <a:lnTo>
                  <a:pt x="1382" y="216"/>
                </a:lnTo>
                <a:lnTo>
                  <a:pt x="1374" y="216"/>
                </a:lnTo>
                <a:lnTo>
                  <a:pt x="1368" y="219"/>
                </a:lnTo>
                <a:lnTo>
                  <a:pt x="1359" y="221"/>
                </a:lnTo>
                <a:lnTo>
                  <a:pt x="1354" y="224"/>
                </a:lnTo>
                <a:lnTo>
                  <a:pt x="1342" y="224"/>
                </a:lnTo>
                <a:lnTo>
                  <a:pt x="1337" y="230"/>
                </a:lnTo>
                <a:lnTo>
                  <a:pt x="1325" y="230"/>
                </a:lnTo>
                <a:lnTo>
                  <a:pt x="1320" y="233"/>
                </a:lnTo>
                <a:lnTo>
                  <a:pt x="1308" y="236"/>
                </a:lnTo>
                <a:lnTo>
                  <a:pt x="1300" y="239"/>
                </a:lnTo>
                <a:lnTo>
                  <a:pt x="1291" y="241"/>
                </a:lnTo>
                <a:lnTo>
                  <a:pt x="1286" y="244"/>
                </a:lnTo>
                <a:lnTo>
                  <a:pt x="1277" y="244"/>
                </a:lnTo>
                <a:lnTo>
                  <a:pt x="1269" y="250"/>
                </a:lnTo>
                <a:lnTo>
                  <a:pt x="1263" y="250"/>
                </a:lnTo>
                <a:lnTo>
                  <a:pt x="1255" y="256"/>
                </a:lnTo>
                <a:lnTo>
                  <a:pt x="1249" y="256"/>
                </a:lnTo>
                <a:lnTo>
                  <a:pt x="1246" y="258"/>
                </a:lnTo>
                <a:lnTo>
                  <a:pt x="1235" y="264"/>
                </a:lnTo>
                <a:lnTo>
                  <a:pt x="1229" y="267"/>
                </a:lnTo>
                <a:lnTo>
                  <a:pt x="1224" y="273"/>
                </a:lnTo>
                <a:lnTo>
                  <a:pt x="1218" y="278"/>
                </a:lnTo>
                <a:lnTo>
                  <a:pt x="1215" y="284"/>
                </a:lnTo>
                <a:lnTo>
                  <a:pt x="1212" y="290"/>
                </a:lnTo>
                <a:lnTo>
                  <a:pt x="1209" y="298"/>
                </a:lnTo>
                <a:lnTo>
                  <a:pt x="1207" y="307"/>
                </a:lnTo>
                <a:lnTo>
                  <a:pt x="1207" y="315"/>
                </a:lnTo>
                <a:lnTo>
                  <a:pt x="1207" y="324"/>
                </a:lnTo>
                <a:lnTo>
                  <a:pt x="1204" y="332"/>
                </a:lnTo>
                <a:lnTo>
                  <a:pt x="1204" y="338"/>
                </a:lnTo>
                <a:lnTo>
                  <a:pt x="1204" y="344"/>
                </a:lnTo>
                <a:lnTo>
                  <a:pt x="1204" y="352"/>
                </a:lnTo>
                <a:lnTo>
                  <a:pt x="1204" y="363"/>
                </a:lnTo>
                <a:lnTo>
                  <a:pt x="1204" y="36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"/>
          <p:cNvSpPr/>
          <p:nvPr/>
        </p:nvSpPr>
        <p:spPr>
          <a:xfrm>
            <a:off x="7770960" y="4248000"/>
            <a:ext cx="1546200" cy="68760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1128" h="492">
                <a:moveTo>
                  <a:pt x="0" y="0"/>
                </a:moveTo>
                <a:lnTo>
                  <a:pt x="1128" y="86"/>
                </a:lnTo>
                <a:lnTo>
                  <a:pt x="15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2"/>
          <p:cNvSpPr/>
          <p:nvPr/>
        </p:nvSpPr>
        <p:spPr>
          <a:xfrm>
            <a:off x="5735520" y="4260960"/>
            <a:ext cx="1656000" cy="650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207" h="466">
                <a:moveTo>
                  <a:pt x="0" y="417"/>
                </a:moveTo>
                <a:lnTo>
                  <a:pt x="1071" y="0"/>
                </a:lnTo>
                <a:lnTo>
                  <a:pt x="1207" y="466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3"/>
          <p:cNvSpPr/>
          <p:nvPr/>
        </p:nvSpPr>
        <p:spPr>
          <a:xfrm>
            <a:off x="5091120" y="4348080"/>
            <a:ext cx="4805280" cy="1603440"/>
          </a:xfrm>
          <a:custGeom>
            <a:avLst/>
            <a:gdLst>
              <a:gd name="textAreaLeft" fmla="*/ 0 w 4805280"/>
              <a:gd name="textAreaRight" fmla="*/ 4805640 w 480528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3504" h="1148">
                <a:moveTo>
                  <a:pt x="0" y="722"/>
                </a:moveTo>
                <a:lnTo>
                  <a:pt x="456" y="370"/>
                </a:lnTo>
                <a:lnTo>
                  <a:pt x="1980" y="384"/>
                </a:lnTo>
                <a:lnTo>
                  <a:pt x="2121" y="418"/>
                </a:lnTo>
                <a:lnTo>
                  <a:pt x="3084" y="0"/>
                </a:lnTo>
                <a:lnTo>
                  <a:pt x="3150" y="3"/>
                </a:lnTo>
                <a:lnTo>
                  <a:pt x="3504" y="202"/>
                </a:lnTo>
                <a:lnTo>
                  <a:pt x="3421" y="250"/>
                </a:lnTo>
                <a:lnTo>
                  <a:pt x="1753" y="1148"/>
                </a:lnTo>
                <a:lnTo>
                  <a:pt x="405" y="722"/>
                </a:lnTo>
                <a:lnTo>
                  <a:pt x="0" y="722"/>
                </a:lnTo>
                <a:close/>
              </a:path>
            </a:pathLst>
          </a:custGeom>
          <a:solidFill>
            <a:srgbClr val="edb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4"/>
          <p:cNvSpPr/>
          <p:nvPr/>
        </p:nvSpPr>
        <p:spPr>
          <a:xfrm>
            <a:off x="7297560" y="4900680"/>
            <a:ext cx="2105280" cy="226512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1535" h="1622">
                <a:moveTo>
                  <a:pt x="493" y="26"/>
                </a:moveTo>
                <a:lnTo>
                  <a:pt x="779" y="100"/>
                </a:lnTo>
                <a:lnTo>
                  <a:pt x="1053" y="267"/>
                </a:lnTo>
                <a:lnTo>
                  <a:pt x="1447" y="26"/>
                </a:lnTo>
                <a:lnTo>
                  <a:pt x="1535" y="0"/>
                </a:lnTo>
                <a:lnTo>
                  <a:pt x="1461" y="764"/>
                </a:lnTo>
                <a:lnTo>
                  <a:pt x="1492" y="1150"/>
                </a:lnTo>
                <a:lnTo>
                  <a:pt x="456" y="1622"/>
                </a:lnTo>
                <a:lnTo>
                  <a:pt x="0" y="659"/>
                </a:lnTo>
                <a:lnTo>
                  <a:pt x="49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5"/>
          <p:cNvSpPr/>
          <p:nvPr/>
        </p:nvSpPr>
        <p:spPr>
          <a:xfrm>
            <a:off x="5654520" y="4916520"/>
            <a:ext cx="2303640" cy="226836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679" h="1624">
                <a:moveTo>
                  <a:pt x="0" y="315"/>
                </a:moveTo>
                <a:lnTo>
                  <a:pt x="1218" y="389"/>
                </a:lnTo>
                <a:lnTo>
                  <a:pt x="1648" y="0"/>
                </a:lnTo>
                <a:lnTo>
                  <a:pt x="1679" y="22"/>
                </a:lnTo>
                <a:lnTo>
                  <a:pt x="1620" y="1235"/>
                </a:lnTo>
                <a:lnTo>
                  <a:pt x="1662" y="1624"/>
                </a:lnTo>
                <a:lnTo>
                  <a:pt x="39" y="1533"/>
                </a:lnTo>
                <a:lnTo>
                  <a:pt x="82" y="1323"/>
                </a:lnTo>
                <a:lnTo>
                  <a:pt x="0" y="3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6"/>
          <p:cNvSpPr/>
          <p:nvPr/>
        </p:nvSpPr>
        <p:spPr>
          <a:xfrm>
            <a:off x="6757920" y="4016520"/>
            <a:ext cx="1227240" cy="61416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895" h="440">
                <a:moveTo>
                  <a:pt x="0" y="233"/>
                </a:moveTo>
                <a:lnTo>
                  <a:pt x="26" y="253"/>
                </a:lnTo>
                <a:lnTo>
                  <a:pt x="96" y="267"/>
                </a:lnTo>
                <a:lnTo>
                  <a:pt x="292" y="440"/>
                </a:lnTo>
                <a:lnTo>
                  <a:pt x="841" y="372"/>
                </a:lnTo>
                <a:lnTo>
                  <a:pt x="895" y="275"/>
                </a:lnTo>
                <a:lnTo>
                  <a:pt x="827" y="221"/>
                </a:lnTo>
                <a:lnTo>
                  <a:pt x="838" y="165"/>
                </a:lnTo>
                <a:lnTo>
                  <a:pt x="765" y="170"/>
                </a:lnTo>
                <a:lnTo>
                  <a:pt x="765" y="108"/>
                </a:lnTo>
                <a:lnTo>
                  <a:pt x="717" y="94"/>
                </a:lnTo>
                <a:lnTo>
                  <a:pt x="649" y="108"/>
                </a:lnTo>
                <a:lnTo>
                  <a:pt x="606" y="0"/>
                </a:lnTo>
                <a:lnTo>
                  <a:pt x="584" y="3"/>
                </a:lnTo>
                <a:lnTo>
                  <a:pt x="550" y="82"/>
                </a:lnTo>
                <a:lnTo>
                  <a:pt x="433" y="11"/>
                </a:lnTo>
                <a:lnTo>
                  <a:pt x="416" y="74"/>
                </a:lnTo>
                <a:lnTo>
                  <a:pt x="368" y="23"/>
                </a:lnTo>
                <a:lnTo>
                  <a:pt x="363" y="20"/>
                </a:lnTo>
                <a:lnTo>
                  <a:pt x="354" y="20"/>
                </a:lnTo>
                <a:lnTo>
                  <a:pt x="349" y="17"/>
                </a:lnTo>
                <a:lnTo>
                  <a:pt x="343" y="17"/>
                </a:lnTo>
                <a:lnTo>
                  <a:pt x="337" y="14"/>
                </a:lnTo>
                <a:lnTo>
                  <a:pt x="329" y="14"/>
                </a:lnTo>
                <a:lnTo>
                  <a:pt x="317" y="14"/>
                </a:lnTo>
                <a:lnTo>
                  <a:pt x="306" y="20"/>
                </a:lnTo>
                <a:lnTo>
                  <a:pt x="300" y="23"/>
                </a:lnTo>
                <a:lnTo>
                  <a:pt x="298" y="28"/>
                </a:lnTo>
                <a:lnTo>
                  <a:pt x="298" y="34"/>
                </a:lnTo>
                <a:lnTo>
                  <a:pt x="298" y="42"/>
                </a:lnTo>
                <a:lnTo>
                  <a:pt x="309" y="82"/>
                </a:lnTo>
                <a:lnTo>
                  <a:pt x="261" y="94"/>
                </a:lnTo>
                <a:lnTo>
                  <a:pt x="198" y="74"/>
                </a:lnTo>
                <a:lnTo>
                  <a:pt x="190" y="88"/>
                </a:lnTo>
                <a:lnTo>
                  <a:pt x="204" y="125"/>
                </a:lnTo>
                <a:lnTo>
                  <a:pt x="62" y="182"/>
                </a:lnTo>
                <a:lnTo>
                  <a:pt x="0" y="2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7"/>
          <p:cNvSpPr/>
          <p:nvPr/>
        </p:nvSpPr>
        <p:spPr>
          <a:xfrm>
            <a:off x="7631280" y="4324320"/>
            <a:ext cx="334800" cy="476280"/>
          </a:xfrm>
          <a:custGeom>
            <a:avLst/>
            <a:gdLst>
              <a:gd name="textAreaLeft" fmla="*/ 0 w 334800"/>
              <a:gd name="textAreaRight" fmla="*/ 335160 w 3348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44" h="341">
                <a:moveTo>
                  <a:pt x="0" y="57"/>
                </a:moveTo>
                <a:lnTo>
                  <a:pt x="0" y="57"/>
                </a:lnTo>
                <a:lnTo>
                  <a:pt x="6" y="57"/>
                </a:lnTo>
                <a:lnTo>
                  <a:pt x="15" y="57"/>
                </a:lnTo>
                <a:lnTo>
                  <a:pt x="26" y="57"/>
                </a:lnTo>
                <a:lnTo>
                  <a:pt x="34" y="57"/>
                </a:lnTo>
                <a:lnTo>
                  <a:pt x="43" y="54"/>
                </a:lnTo>
                <a:lnTo>
                  <a:pt x="51" y="52"/>
                </a:lnTo>
                <a:lnTo>
                  <a:pt x="54" y="46"/>
                </a:lnTo>
                <a:lnTo>
                  <a:pt x="54" y="37"/>
                </a:lnTo>
                <a:lnTo>
                  <a:pt x="54" y="32"/>
                </a:lnTo>
                <a:lnTo>
                  <a:pt x="54" y="23"/>
                </a:lnTo>
                <a:lnTo>
                  <a:pt x="54" y="15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3" y="15"/>
                </a:lnTo>
                <a:lnTo>
                  <a:pt x="66" y="20"/>
                </a:lnTo>
                <a:lnTo>
                  <a:pt x="68" y="26"/>
                </a:lnTo>
                <a:lnTo>
                  <a:pt x="74" y="37"/>
                </a:lnTo>
                <a:lnTo>
                  <a:pt x="80" y="46"/>
                </a:lnTo>
                <a:lnTo>
                  <a:pt x="85" y="52"/>
                </a:lnTo>
                <a:lnTo>
                  <a:pt x="91" y="60"/>
                </a:lnTo>
                <a:lnTo>
                  <a:pt x="97" y="66"/>
                </a:lnTo>
                <a:lnTo>
                  <a:pt x="105" y="74"/>
                </a:lnTo>
                <a:lnTo>
                  <a:pt x="117" y="83"/>
                </a:lnTo>
                <a:lnTo>
                  <a:pt x="128" y="86"/>
                </a:lnTo>
                <a:lnTo>
                  <a:pt x="136" y="83"/>
                </a:lnTo>
                <a:lnTo>
                  <a:pt x="145" y="80"/>
                </a:lnTo>
                <a:lnTo>
                  <a:pt x="148" y="77"/>
                </a:lnTo>
                <a:lnTo>
                  <a:pt x="153" y="74"/>
                </a:lnTo>
                <a:lnTo>
                  <a:pt x="159" y="71"/>
                </a:lnTo>
                <a:lnTo>
                  <a:pt x="162" y="69"/>
                </a:lnTo>
                <a:lnTo>
                  <a:pt x="159" y="71"/>
                </a:lnTo>
                <a:lnTo>
                  <a:pt x="159" y="77"/>
                </a:lnTo>
                <a:lnTo>
                  <a:pt x="159" y="83"/>
                </a:lnTo>
                <a:lnTo>
                  <a:pt x="159" y="94"/>
                </a:lnTo>
                <a:lnTo>
                  <a:pt x="159" y="103"/>
                </a:lnTo>
                <a:lnTo>
                  <a:pt x="162" y="111"/>
                </a:lnTo>
                <a:lnTo>
                  <a:pt x="165" y="120"/>
                </a:lnTo>
                <a:lnTo>
                  <a:pt x="167" y="128"/>
                </a:lnTo>
                <a:lnTo>
                  <a:pt x="170" y="131"/>
                </a:lnTo>
                <a:lnTo>
                  <a:pt x="179" y="131"/>
                </a:lnTo>
                <a:lnTo>
                  <a:pt x="187" y="128"/>
                </a:lnTo>
                <a:lnTo>
                  <a:pt x="196" y="125"/>
                </a:lnTo>
                <a:lnTo>
                  <a:pt x="204" y="120"/>
                </a:lnTo>
                <a:lnTo>
                  <a:pt x="213" y="117"/>
                </a:lnTo>
                <a:lnTo>
                  <a:pt x="221" y="111"/>
                </a:lnTo>
                <a:lnTo>
                  <a:pt x="221" y="134"/>
                </a:lnTo>
                <a:lnTo>
                  <a:pt x="224" y="134"/>
                </a:lnTo>
                <a:lnTo>
                  <a:pt x="235" y="142"/>
                </a:lnTo>
                <a:lnTo>
                  <a:pt x="238" y="148"/>
                </a:lnTo>
                <a:lnTo>
                  <a:pt x="244" y="157"/>
                </a:lnTo>
                <a:lnTo>
                  <a:pt x="244" y="162"/>
                </a:lnTo>
                <a:lnTo>
                  <a:pt x="244" y="168"/>
                </a:lnTo>
                <a:lnTo>
                  <a:pt x="244" y="174"/>
                </a:lnTo>
                <a:lnTo>
                  <a:pt x="244" y="185"/>
                </a:lnTo>
                <a:lnTo>
                  <a:pt x="241" y="185"/>
                </a:lnTo>
                <a:lnTo>
                  <a:pt x="238" y="194"/>
                </a:lnTo>
                <a:lnTo>
                  <a:pt x="233" y="199"/>
                </a:lnTo>
                <a:lnTo>
                  <a:pt x="230" y="211"/>
                </a:lnTo>
                <a:lnTo>
                  <a:pt x="224" y="222"/>
                </a:lnTo>
                <a:lnTo>
                  <a:pt x="218" y="236"/>
                </a:lnTo>
                <a:lnTo>
                  <a:pt x="216" y="242"/>
                </a:lnTo>
                <a:lnTo>
                  <a:pt x="213" y="250"/>
                </a:lnTo>
                <a:lnTo>
                  <a:pt x="210" y="259"/>
                </a:lnTo>
                <a:lnTo>
                  <a:pt x="207" y="265"/>
                </a:lnTo>
                <a:lnTo>
                  <a:pt x="201" y="273"/>
                </a:lnTo>
                <a:lnTo>
                  <a:pt x="199" y="279"/>
                </a:lnTo>
                <a:lnTo>
                  <a:pt x="196" y="284"/>
                </a:lnTo>
                <a:lnTo>
                  <a:pt x="193" y="293"/>
                </a:lnTo>
                <a:lnTo>
                  <a:pt x="187" y="304"/>
                </a:lnTo>
                <a:lnTo>
                  <a:pt x="182" y="316"/>
                </a:lnTo>
                <a:lnTo>
                  <a:pt x="176" y="327"/>
                </a:lnTo>
                <a:lnTo>
                  <a:pt x="173" y="333"/>
                </a:lnTo>
                <a:lnTo>
                  <a:pt x="170" y="338"/>
                </a:lnTo>
                <a:lnTo>
                  <a:pt x="170" y="341"/>
                </a:lnTo>
                <a:lnTo>
                  <a:pt x="37" y="256"/>
                </a:lnTo>
                <a:lnTo>
                  <a:pt x="0" y="5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8"/>
          <p:cNvSpPr/>
          <p:nvPr/>
        </p:nvSpPr>
        <p:spPr>
          <a:xfrm>
            <a:off x="5880240" y="4765680"/>
            <a:ext cx="722160" cy="344520"/>
          </a:xfrm>
          <a:custGeom>
            <a:avLst/>
            <a:gdLst>
              <a:gd name="textAreaLeft" fmla="*/ 0 w 722160"/>
              <a:gd name="textAreaRight" fmla="*/ 722160 w 722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527" h="247">
                <a:moveTo>
                  <a:pt x="0" y="196"/>
                </a:moveTo>
                <a:lnTo>
                  <a:pt x="6" y="164"/>
                </a:lnTo>
                <a:lnTo>
                  <a:pt x="125" y="37"/>
                </a:lnTo>
                <a:lnTo>
                  <a:pt x="227" y="0"/>
                </a:lnTo>
                <a:lnTo>
                  <a:pt x="343" y="0"/>
                </a:lnTo>
                <a:lnTo>
                  <a:pt x="470" y="42"/>
                </a:lnTo>
                <a:lnTo>
                  <a:pt x="527" y="79"/>
                </a:lnTo>
                <a:lnTo>
                  <a:pt x="487" y="96"/>
                </a:lnTo>
                <a:lnTo>
                  <a:pt x="408" y="173"/>
                </a:lnTo>
                <a:lnTo>
                  <a:pt x="343" y="224"/>
                </a:lnTo>
                <a:lnTo>
                  <a:pt x="331" y="210"/>
                </a:lnTo>
                <a:lnTo>
                  <a:pt x="323" y="170"/>
                </a:lnTo>
                <a:lnTo>
                  <a:pt x="255" y="232"/>
                </a:lnTo>
                <a:lnTo>
                  <a:pt x="207" y="238"/>
                </a:lnTo>
                <a:lnTo>
                  <a:pt x="195" y="193"/>
                </a:lnTo>
                <a:lnTo>
                  <a:pt x="113" y="247"/>
                </a:lnTo>
                <a:lnTo>
                  <a:pt x="77" y="232"/>
                </a:lnTo>
                <a:lnTo>
                  <a:pt x="79" y="184"/>
                </a:lnTo>
                <a:lnTo>
                  <a:pt x="26" y="207"/>
                </a:lnTo>
                <a:lnTo>
                  <a:pt x="0" y="19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9"/>
          <p:cNvSpPr/>
          <p:nvPr/>
        </p:nvSpPr>
        <p:spPr>
          <a:xfrm>
            <a:off x="6729480" y="4329000"/>
            <a:ext cx="1301760" cy="8017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949" h="574">
                <a:moveTo>
                  <a:pt x="153" y="0"/>
                </a:moveTo>
                <a:lnTo>
                  <a:pt x="159" y="6"/>
                </a:lnTo>
                <a:lnTo>
                  <a:pt x="170" y="14"/>
                </a:lnTo>
                <a:lnTo>
                  <a:pt x="176" y="17"/>
                </a:lnTo>
                <a:lnTo>
                  <a:pt x="182" y="23"/>
                </a:lnTo>
                <a:lnTo>
                  <a:pt x="190" y="23"/>
                </a:lnTo>
                <a:lnTo>
                  <a:pt x="199" y="23"/>
                </a:lnTo>
                <a:lnTo>
                  <a:pt x="374" y="239"/>
                </a:lnTo>
                <a:lnTo>
                  <a:pt x="686" y="83"/>
                </a:lnTo>
                <a:lnTo>
                  <a:pt x="689" y="85"/>
                </a:lnTo>
                <a:lnTo>
                  <a:pt x="700" y="97"/>
                </a:lnTo>
                <a:lnTo>
                  <a:pt x="708" y="100"/>
                </a:lnTo>
                <a:lnTo>
                  <a:pt x="714" y="105"/>
                </a:lnTo>
                <a:lnTo>
                  <a:pt x="723" y="105"/>
                </a:lnTo>
                <a:lnTo>
                  <a:pt x="728" y="102"/>
                </a:lnTo>
                <a:lnTo>
                  <a:pt x="731" y="97"/>
                </a:lnTo>
                <a:lnTo>
                  <a:pt x="731" y="88"/>
                </a:lnTo>
                <a:lnTo>
                  <a:pt x="731" y="77"/>
                </a:lnTo>
                <a:lnTo>
                  <a:pt x="731" y="68"/>
                </a:lnTo>
                <a:lnTo>
                  <a:pt x="731" y="60"/>
                </a:lnTo>
                <a:lnTo>
                  <a:pt x="731" y="54"/>
                </a:lnTo>
                <a:lnTo>
                  <a:pt x="731" y="49"/>
                </a:lnTo>
                <a:lnTo>
                  <a:pt x="731" y="46"/>
                </a:lnTo>
                <a:lnTo>
                  <a:pt x="765" y="139"/>
                </a:lnTo>
                <a:lnTo>
                  <a:pt x="796" y="137"/>
                </a:lnTo>
                <a:lnTo>
                  <a:pt x="793" y="139"/>
                </a:lnTo>
                <a:lnTo>
                  <a:pt x="790" y="148"/>
                </a:lnTo>
                <a:lnTo>
                  <a:pt x="785" y="154"/>
                </a:lnTo>
                <a:lnTo>
                  <a:pt x="785" y="159"/>
                </a:lnTo>
                <a:lnTo>
                  <a:pt x="782" y="171"/>
                </a:lnTo>
                <a:lnTo>
                  <a:pt x="779" y="179"/>
                </a:lnTo>
                <a:lnTo>
                  <a:pt x="774" y="185"/>
                </a:lnTo>
                <a:lnTo>
                  <a:pt x="774" y="193"/>
                </a:lnTo>
                <a:lnTo>
                  <a:pt x="771" y="202"/>
                </a:lnTo>
                <a:lnTo>
                  <a:pt x="768" y="210"/>
                </a:lnTo>
                <a:lnTo>
                  <a:pt x="768" y="216"/>
                </a:lnTo>
                <a:lnTo>
                  <a:pt x="768" y="222"/>
                </a:lnTo>
                <a:lnTo>
                  <a:pt x="768" y="225"/>
                </a:lnTo>
                <a:lnTo>
                  <a:pt x="771" y="230"/>
                </a:lnTo>
                <a:lnTo>
                  <a:pt x="779" y="236"/>
                </a:lnTo>
                <a:lnTo>
                  <a:pt x="790" y="233"/>
                </a:lnTo>
                <a:lnTo>
                  <a:pt x="796" y="230"/>
                </a:lnTo>
                <a:lnTo>
                  <a:pt x="799" y="230"/>
                </a:lnTo>
                <a:lnTo>
                  <a:pt x="796" y="236"/>
                </a:lnTo>
                <a:lnTo>
                  <a:pt x="793" y="242"/>
                </a:lnTo>
                <a:lnTo>
                  <a:pt x="790" y="250"/>
                </a:lnTo>
                <a:lnTo>
                  <a:pt x="785" y="259"/>
                </a:lnTo>
                <a:lnTo>
                  <a:pt x="782" y="270"/>
                </a:lnTo>
                <a:lnTo>
                  <a:pt x="779" y="276"/>
                </a:lnTo>
                <a:lnTo>
                  <a:pt x="782" y="284"/>
                </a:lnTo>
                <a:lnTo>
                  <a:pt x="790" y="293"/>
                </a:lnTo>
                <a:lnTo>
                  <a:pt x="802" y="298"/>
                </a:lnTo>
                <a:lnTo>
                  <a:pt x="813" y="301"/>
                </a:lnTo>
                <a:lnTo>
                  <a:pt x="819" y="304"/>
                </a:lnTo>
                <a:lnTo>
                  <a:pt x="884" y="242"/>
                </a:lnTo>
                <a:lnTo>
                  <a:pt x="949" y="296"/>
                </a:lnTo>
                <a:lnTo>
                  <a:pt x="949" y="372"/>
                </a:lnTo>
                <a:lnTo>
                  <a:pt x="909" y="421"/>
                </a:lnTo>
                <a:lnTo>
                  <a:pt x="731" y="398"/>
                </a:lnTo>
                <a:lnTo>
                  <a:pt x="663" y="443"/>
                </a:lnTo>
                <a:lnTo>
                  <a:pt x="623" y="520"/>
                </a:lnTo>
                <a:lnTo>
                  <a:pt x="555" y="557"/>
                </a:lnTo>
                <a:lnTo>
                  <a:pt x="536" y="545"/>
                </a:lnTo>
                <a:lnTo>
                  <a:pt x="530" y="477"/>
                </a:lnTo>
                <a:lnTo>
                  <a:pt x="462" y="563"/>
                </a:lnTo>
                <a:lnTo>
                  <a:pt x="411" y="574"/>
                </a:lnTo>
                <a:lnTo>
                  <a:pt x="400" y="551"/>
                </a:lnTo>
                <a:lnTo>
                  <a:pt x="422" y="477"/>
                </a:lnTo>
                <a:lnTo>
                  <a:pt x="340" y="537"/>
                </a:lnTo>
                <a:lnTo>
                  <a:pt x="289" y="557"/>
                </a:lnTo>
                <a:lnTo>
                  <a:pt x="275" y="531"/>
                </a:lnTo>
                <a:lnTo>
                  <a:pt x="298" y="457"/>
                </a:lnTo>
                <a:lnTo>
                  <a:pt x="204" y="528"/>
                </a:lnTo>
                <a:lnTo>
                  <a:pt x="176" y="526"/>
                </a:lnTo>
                <a:lnTo>
                  <a:pt x="153" y="500"/>
                </a:lnTo>
                <a:lnTo>
                  <a:pt x="170" y="452"/>
                </a:lnTo>
                <a:lnTo>
                  <a:pt x="218" y="403"/>
                </a:lnTo>
                <a:lnTo>
                  <a:pt x="14" y="398"/>
                </a:lnTo>
                <a:lnTo>
                  <a:pt x="0" y="270"/>
                </a:lnTo>
                <a:lnTo>
                  <a:pt x="31" y="145"/>
                </a:lnTo>
                <a:lnTo>
                  <a:pt x="153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20"/>
          <p:cNvSpPr/>
          <p:nvPr/>
        </p:nvSpPr>
        <p:spPr>
          <a:xfrm>
            <a:off x="6777000" y="4321080"/>
            <a:ext cx="963720" cy="569880"/>
          </a:xfrm>
          <a:custGeom>
            <a:avLst/>
            <a:gdLst>
              <a:gd name="textAreaLeft" fmla="*/ 0 w 963720"/>
              <a:gd name="textAreaRight" fmla="*/ 964080 w 9637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703" h="408">
                <a:moveTo>
                  <a:pt x="12" y="397"/>
                </a:moveTo>
                <a:lnTo>
                  <a:pt x="9" y="391"/>
                </a:lnTo>
                <a:lnTo>
                  <a:pt x="9" y="383"/>
                </a:lnTo>
                <a:lnTo>
                  <a:pt x="6" y="374"/>
                </a:lnTo>
                <a:lnTo>
                  <a:pt x="6" y="366"/>
                </a:lnTo>
                <a:lnTo>
                  <a:pt x="3" y="355"/>
                </a:lnTo>
                <a:lnTo>
                  <a:pt x="3" y="346"/>
                </a:lnTo>
                <a:lnTo>
                  <a:pt x="0" y="335"/>
                </a:lnTo>
                <a:lnTo>
                  <a:pt x="0" y="320"/>
                </a:lnTo>
                <a:lnTo>
                  <a:pt x="0" y="309"/>
                </a:lnTo>
                <a:lnTo>
                  <a:pt x="0" y="298"/>
                </a:lnTo>
                <a:lnTo>
                  <a:pt x="0" y="284"/>
                </a:lnTo>
                <a:lnTo>
                  <a:pt x="3" y="272"/>
                </a:lnTo>
                <a:lnTo>
                  <a:pt x="6" y="261"/>
                </a:lnTo>
                <a:lnTo>
                  <a:pt x="9" y="252"/>
                </a:lnTo>
                <a:lnTo>
                  <a:pt x="9" y="244"/>
                </a:lnTo>
                <a:lnTo>
                  <a:pt x="12" y="238"/>
                </a:lnTo>
                <a:lnTo>
                  <a:pt x="17" y="230"/>
                </a:lnTo>
                <a:lnTo>
                  <a:pt x="20" y="224"/>
                </a:lnTo>
                <a:lnTo>
                  <a:pt x="23" y="215"/>
                </a:lnTo>
                <a:lnTo>
                  <a:pt x="29" y="207"/>
                </a:lnTo>
                <a:lnTo>
                  <a:pt x="31" y="198"/>
                </a:lnTo>
                <a:lnTo>
                  <a:pt x="37" y="193"/>
                </a:lnTo>
                <a:lnTo>
                  <a:pt x="40" y="184"/>
                </a:lnTo>
                <a:lnTo>
                  <a:pt x="48" y="176"/>
                </a:lnTo>
                <a:lnTo>
                  <a:pt x="51" y="164"/>
                </a:lnTo>
                <a:lnTo>
                  <a:pt x="60" y="156"/>
                </a:lnTo>
                <a:lnTo>
                  <a:pt x="63" y="147"/>
                </a:lnTo>
                <a:lnTo>
                  <a:pt x="71" y="139"/>
                </a:lnTo>
                <a:lnTo>
                  <a:pt x="77" y="130"/>
                </a:lnTo>
                <a:lnTo>
                  <a:pt x="82" y="122"/>
                </a:lnTo>
                <a:lnTo>
                  <a:pt x="88" y="113"/>
                </a:lnTo>
                <a:lnTo>
                  <a:pt x="94" y="105"/>
                </a:lnTo>
                <a:lnTo>
                  <a:pt x="99" y="96"/>
                </a:lnTo>
                <a:lnTo>
                  <a:pt x="105" y="90"/>
                </a:lnTo>
                <a:lnTo>
                  <a:pt x="111" y="82"/>
                </a:lnTo>
                <a:lnTo>
                  <a:pt x="116" y="73"/>
                </a:lnTo>
                <a:lnTo>
                  <a:pt x="122" y="68"/>
                </a:lnTo>
                <a:lnTo>
                  <a:pt x="128" y="59"/>
                </a:lnTo>
                <a:lnTo>
                  <a:pt x="136" y="48"/>
                </a:lnTo>
                <a:lnTo>
                  <a:pt x="145" y="39"/>
                </a:lnTo>
                <a:lnTo>
                  <a:pt x="153" y="31"/>
                </a:lnTo>
                <a:lnTo>
                  <a:pt x="159" y="28"/>
                </a:lnTo>
                <a:lnTo>
                  <a:pt x="167" y="17"/>
                </a:lnTo>
                <a:lnTo>
                  <a:pt x="182" y="11"/>
                </a:lnTo>
                <a:lnTo>
                  <a:pt x="187" y="8"/>
                </a:lnTo>
                <a:lnTo>
                  <a:pt x="196" y="5"/>
                </a:lnTo>
                <a:lnTo>
                  <a:pt x="201" y="5"/>
                </a:lnTo>
                <a:lnTo>
                  <a:pt x="210" y="5"/>
                </a:lnTo>
                <a:lnTo>
                  <a:pt x="216" y="2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7" y="0"/>
                </a:lnTo>
                <a:lnTo>
                  <a:pt x="244" y="2"/>
                </a:lnTo>
                <a:lnTo>
                  <a:pt x="238" y="11"/>
                </a:lnTo>
                <a:lnTo>
                  <a:pt x="230" y="19"/>
                </a:lnTo>
                <a:lnTo>
                  <a:pt x="221" y="34"/>
                </a:lnTo>
                <a:lnTo>
                  <a:pt x="210" y="42"/>
                </a:lnTo>
                <a:lnTo>
                  <a:pt x="207" y="54"/>
                </a:lnTo>
                <a:lnTo>
                  <a:pt x="204" y="59"/>
                </a:lnTo>
                <a:lnTo>
                  <a:pt x="210" y="62"/>
                </a:lnTo>
                <a:lnTo>
                  <a:pt x="213" y="59"/>
                </a:lnTo>
                <a:lnTo>
                  <a:pt x="221" y="56"/>
                </a:lnTo>
                <a:lnTo>
                  <a:pt x="227" y="54"/>
                </a:lnTo>
                <a:lnTo>
                  <a:pt x="235" y="51"/>
                </a:lnTo>
                <a:lnTo>
                  <a:pt x="241" y="45"/>
                </a:lnTo>
                <a:lnTo>
                  <a:pt x="252" y="42"/>
                </a:lnTo>
                <a:lnTo>
                  <a:pt x="264" y="39"/>
                </a:lnTo>
                <a:lnTo>
                  <a:pt x="272" y="34"/>
                </a:lnTo>
                <a:lnTo>
                  <a:pt x="284" y="28"/>
                </a:lnTo>
                <a:lnTo>
                  <a:pt x="292" y="25"/>
                </a:lnTo>
                <a:lnTo>
                  <a:pt x="298" y="22"/>
                </a:lnTo>
                <a:lnTo>
                  <a:pt x="306" y="19"/>
                </a:lnTo>
                <a:lnTo>
                  <a:pt x="315" y="17"/>
                </a:lnTo>
                <a:lnTo>
                  <a:pt x="318" y="14"/>
                </a:lnTo>
                <a:lnTo>
                  <a:pt x="320" y="14"/>
                </a:lnTo>
                <a:lnTo>
                  <a:pt x="323" y="14"/>
                </a:lnTo>
                <a:lnTo>
                  <a:pt x="320" y="17"/>
                </a:lnTo>
                <a:lnTo>
                  <a:pt x="315" y="25"/>
                </a:lnTo>
                <a:lnTo>
                  <a:pt x="309" y="28"/>
                </a:lnTo>
                <a:lnTo>
                  <a:pt x="303" y="36"/>
                </a:lnTo>
                <a:lnTo>
                  <a:pt x="301" y="45"/>
                </a:lnTo>
                <a:lnTo>
                  <a:pt x="298" y="51"/>
                </a:lnTo>
                <a:lnTo>
                  <a:pt x="292" y="59"/>
                </a:lnTo>
                <a:lnTo>
                  <a:pt x="289" y="65"/>
                </a:lnTo>
                <a:lnTo>
                  <a:pt x="286" y="71"/>
                </a:lnTo>
                <a:lnTo>
                  <a:pt x="286" y="76"/>
                </a:lnTo>
                <a:lnTo>
                  <a:pt x="286" y="85"/>
                </a:lnTo>
                <a:lnTo>
                  <a:pt x="295" y="88"/>
                </a:lnTo>
                <a:lnTo>
                  <a:pt x="298" y="88"/>
                </a:lnTo>
                <a:lnTo>
                  <a:pt x="303" y="85"/>
                </a:lnTo>
                <a:lnTo>
                  <a:pt x="312" y="85"/>
                </a:lnTo>
                <a:lnTo>
                  <a:pt x="320" y="85"/>
                </a:lnTo>
                <a:lnTo>
                  <a:pt x="326" y="82"/>
                </a:lnTo>
                <a:lnTo>
                  <a:pt x="335" y="82"/>
                </a:lnTo>
                <a:lnTo>
                  <a:pt x="340" y="79"/>
                </a:lnTo>
                <a:lnTo>
                  <a:pt x="349" y="76"/>
                </a:lnTo>
                <a:lnTo>
                  <a:pt x="354" y="71"/>
                </a:lnTo>
                <a:lnTo>
                  <a:pt x="360" y="68"/>
                </a:lnTo>
                <a:lnTo>
                  <a:pt x="368" y="62"/>
                </a:lnTo>
                <a:lnTo>
                  <a:pt x="374" y="56"/>
                </a:lnTo>
                <a:lnTo>
                  <a:pt x="377" y="48"/>
                </a:lnTo>
                <a:lnTo>
                  <a:pt x="383" y="36"/>
                </a:lnTo>
                <a:lnTo>
                  <a:pt x="385" y="25"/>
                </a:lnTo>
                <a:lnTo>
                  <a:pt x="388" y="14"/>
                </a:lnTo>
                <a:lnTo>
                  <a:pt x="388" y="17"/>
                </a:lnTo>
                <a:lnTo>
                  <a:pt x="388" y="22"/>
                </a:lnTo>
                <a:lnTo>
                  <a:pt x="391" y="34"/>
                </a:lnTo>
                <a:lnTo>
                  <a:pt x="397" y="48"/>
                </a:lnTo>
                <a:lnTo>
                  <a:pt x="402" y="59"/>
                </a:lnTo>
                <a:lnTo>
                  <a:pt x="411" y="71"/>
                </a:lnTo>
                <a:lnTo>
                  <a:pt x="419" y="76"/>
                </a:lnTo>
                <a:lnTo>
                  <a:pt x="431" y="79"/>
                </a:lnTo>
                <a:lnTo>
                  <a:pt x="442" y="71"/>
                </a:lnTo>
                <a:lnTo>
                  <a:pt x="451" y="65"/>
                </a:lnTo>
                <a:lnTo>
                  <a:pt x="456" y="54"/>
                </a:lnTo>
                <a:lnTo>
                  <a:pt x="465" y="45"/>
                </a:lnTo>
                <a:lnTo>
                  <a:pt x="465" y="34"/>
                </a:lnTo>
                <a:lnTo>
                  <a:pt x="468" y="25"/>
                </a:lnTo>
                <a:lnTo>
                  <a:pt x="468" y="19"/>
                </a:lnTo>
                <a:lnTo>
                  <a:pt x="470" y="19"/>
                </a:lnTo>
                <a:lnTo>
                  <a:pt x="493" y="28"/>
                </a:lnTo>
                <a:lnTo>
                  <a:pt x="493" y="31"/>
                </a:lnTo>
                <a:lnTo>
                  <a:pt x="493" y="39"/>
                </a:lnTo>
                <a:lnTo>
                  <a:pt x="496" y="45"/>
                </a:lnTo>
                <a:lnTo>
                  <a:pt x="496" y="51"/>
                </a:lnTo>
                <a:lnTo>
                  <a:pt x="499" y="59"/>
                </a:lnTo>
                <a:lnTo>
                  <a:pt x="502" y="68"/>
                </a:lnTo>
                <a:lnTo>
                  <a:pt x="504" y="73"/>
                </a:lnTo>
                <a:lnTo>
                  <a:pt x="507" y="79"/>
                </a:lnTo>
                <a:lnTo>
                  <a:pt x="513" y="85"/>
                </a:lnTo>
                <a:lnTo>
                  <a:pt x="519" y="90"/>
                </a:lnTo>
                <a:lnTo>
                  <a:pt x="527" y="93"/>
                </a:lnTo>
                <a:lnTo>
                  <a:pt x="533" y="99"/>
                </a:lnTo>
                <a:lnTo>
                  <a:pt x="541" y="99"/>
                </a:lnTo>
                <a:lnTo>
                  <a:pt x="550" y="102"/>
                </a:lnTo>
                <a:lnTo>
                  <a:pt x="558" y="96"/>
                </a:lnTo>
                <a:lnTo>
                  <a:pt x="564" y="93"/>
                </a:lnTo>
                <a:lnTo>
                  <a:pt x="570" y="90"/>
                </a:lnTo>
                <a:lnTo>
                  <a:pt x="575" y="85"/>
                </a:lnTo>
                <a:lnTo>
                  <a:pt x="581" y="71"/>
                </a:lnTo>
                <a:lnTo>
                  <a:pt x="581" y="59"/>
                </a:lnTo>
                <a:lnTo>
                  <a:pt x="581" y="48"/>
                </a:lnTo>
                <a:lnTo>
                  <a:pt x="581" y="36"/>
                </a:lnTo>
                <a:lnTo>
                  <a:pt x="578" y="28"/>
                </a:lnTo>
                <a:lnTo>
                  <a:pt x="584" y="28"/>
                </a:lnTo>
                <a:lnTo>
                  <a:pt x="592" y="34"/>
                </a:lnTo>
                <a:lnTo>
                  <a:pt x="604" y="39"/>
                </a:lnTo>
                <a:lnTo>
                  <a:pt x="612" y="48"/>
                </a:lnTo>
                <a:lnTo>
                  <a:pt x="626" y="59"/>
                </a:lnTo>
                <a:lnTo>
                  <a:pt x="635" y="65"/>
                </a:lnTo>
                <a:lnTo>
                  <a:pt x="640" y="71"/>
                </a:lnTo>
                <a:lnTo>
                  <a:pt x="646" y="79"/>
                </a:lnTo>
                <a:lnTo>
                  <a:pt x="655" y="88"/>
                </a:lnTo>
                <a:lnTo>
                  <a:pt x="660" y="93"/>
                </a:lnTo>
                <a:lnTo>
                  <a:pt x="666" y="102"/>
                </a:lnTo>
                <a:lnTo>
                  <a:pt x="669" y="110"/>
                </a:lnTo>
                <a:lnTo>
                  <a:pt x="674" y="119"/>
                </a:lnTo>
                <a:lnTo>
                  <a:pt x="677" y="125"/>
                </a:lnTo>
                <a:lnTo>
                  <a:pt x="677" y="133"/>
                </a:lnTo>
                <a:lnTo>
                  <a:pt x="680" y="144"/>
                </a:lnTo>
                <a:lnTo>
                  <a:pt x="686" y="153"/>
                </a:lnTo>
                <a:lnTo>
                  <a:pt x="686" y="161"/>
                </a:lnTo>
                <a:lnTo>
                  <a:pt x="689" y="170"/>
                </a:lnTo>
                <a:lnTo>
                  <a:pt x="689" y="178"/>
                </a:lnTo>
                <a:lnTo>
                  <a:pt x="691" y="190"/>
                </a:lnTo>
                <a:lnTo>
                  <a:pt x="691" y="198"/>
                </a:lnTo>
                <a:lnTo>
                  <a:pt x="694" y="210"/>
                </a:lnTo>
                <a:lnTo>
                  <a:pt x="697" y="218"/>
                </a:lnTo>
                <a:lnTo>
                  <a:pt x="700" y="230"/>
                </a:lnTo>
                <a:lnTo>
                  <a:pt x="703" y="241"/>
                </a:lnTo>
                <a:lnTo>
                  <a:pt x="703" y="252"/>
                </a:lnTo>
                <a:lnTo>
                  <a:pt x="703" y="261"/>
                </a:lnTo>
                <a:lnTo>
                  <a:pt x="703" y="267"/>
                </a:lnTo>
                <a:lnTo>
                  <a:pt x="703" y="275"/>
                </a:lnTo>
                <a:lnTo>
                  <a:pt x="703" y="281"/>
                </a:lnTo>
                <a:lnTo>
                  <a:pt x="703" y="286"/>
                </a:lnTo>
                <a:lnTo>
                  <a:pt x="703" y="295"/>
                </a:lnTo>
                <a:lnTo>
                  <a:pt x="700" y="301"/>
                </a:lnTo>
                <a:lnTo>
                  <a:pt x="700" y="309"/>
                </a:lnTo>
                <a:lnTo>
                  <a:pt x="700" y="315"/>
                </a:lnTo>
                <a:lnTo>
                  <a:pt x="700" y="323"/>
                </a:lnTo>
                <a:lnTo>
                  <a:pt x="697" y="329"/>
                </a:lnTo>
                <a:lnTo>
                  <a:pt x="697" y="337"/>
                </a:lnTo>
                <a:lnTo>
                  <a:pt x="697" y="349"/>
                </a:lnTo>
                <a:lnTo>
                  <a:pt x="694" y="360"/>
                </a:lnTo>
                <a:lnTo>
                  <a:pt x="691" y="369"/>
                </a:lnTo>
                <a:lnTo>
                  <a:pt x="691" y="380"/>
                </a:lnTo>
                <a:lnTo>
                  <a:pt x="689" y="386"/>
                </a:lnTo>
                <a:lnTo>
                  <a:pt x="689" y="391"/>
                </a:lnTo>
                <a:lnTo>
                  <a:pt x="689" y="394"/>
                </a:lnTo>
                <a:lnTo>
                  <a:pt x="689" y="397"/>
                </a:lnTo>
                <a:lnTo>
                  <a:pt x="646" y="374"/>
                </a:lnTo>
                <a:lnTo>
                  <a:pt x="524" y="352"/>
                </a:lnTo>
                <a:lnTo>
                  <a:pt x="377" y="335"/>
                </a:lnTo>
                <a:lnTo>
                  <a:pt x="289" y="360"/>
                </a:lnTo>
                <a:lnTo>
                  <a:pt x="182" y="408"/>
                </a:lnTo>
                <a:lnTo>
                  <a:pt x="12" y="397"/>
                </a:lnTo>
                <a:close/>
              </a:path>
            </a:pathLst>
          </a:custGeom>
          <a:solidFill>
            <a:srgbClr val="ffd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21"/>
          <p:cNvSpPr/>
          <p:nvPr/>
        </p:nvSpPr>
        <p:spPr>
          <a:xfrm>
            <a:off x="5869080" y="4749840"/>
            <a:ext cx="771480" cy="371520"/>
          </a:xfrm>
          <a:custGeom>
            <a:avLst/>
            <a:gdLst>
              <a:gd name="textAreaLeft" fmla="*/ 0 w 771480"/>
              <a:gd name="textAreaRight" fmla="*/ 771840 w 7714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67">
                <a:moveTo>
                  <a:pt x="484" y="97"/>
                </a:moveTo>
                <a:lnTo>
                  <a:pt x="481" y="97"/>
                </a:lnTo>
                <a:lnTo>
                  <a:pt x="478" y="102"/>
                </a:lnTo>
                <a:lnTo>
                  <a:pt x="470" y="108"/>
                </a:lnTo>
                <a:lnTo>
                  <a:pt x="464" y="120"/>
                </a:lnTo>
                <a:lnTo>
                  <a:pt x="453" y="128"/>
                </a:lnTo>
                <a:lnTo>
                  <a:pt x="444" y="142"/>
                </a:lnTo>
                <a:lnTo>
                  <a:pt x="433" y="154"/>
                </a:lnTo>
                <a:lnTo>
                  <a:pt x="422" y="168"/>
                </a:lnTo>
                <a:lnTo>
                  <a:pt x="407" y="179"/>
                </a:lnTo>
                <a:lnTo>
                  <a:pt x="396" y="191"/>
                </a:lnTo>
                <a:lnTo>
                  <a:pt x="385" y="199"/>
                </a:lnTo>
                <a:lnTo>
                  <a:pt x="373" y="208"/>
                </a:lnTo>
                <a:lnTo>
                  <a:pt x="365" y="213"/>
                </a:lnTo>
                <a:lnTo>
                  <a:pt x="359" y="216"/>
                </a:lnTo>
                <a:lnTo>
                  <a:pt x="354" y="216"/>
                </a:lnTo>
                <a:lnTo>
                  <a:pt x="351" y="213"/>
                </a:lnTo>
                <a:lnTo>
                  <a:pt x="345" y="199"/>
                </a:lnTo>
                <a:lnTo>
                  <a:pt x="342" y="185"/>
                </a:lnTo>
                <a:lnTo>
                  <a:pt x="342" y="171"/>
                </a:lnTo>
                <a:lnTo>
                  <a:pt x="345" y="159"/>
                </a:lnTo>
                <a:lnTo>
                  <a:pt x="348" y="148"/>
                </a:lnTo>
                <a:lnTo>
                  <a:pt x="351" y="142"/>
                </a:lnTo>
                <a:lnTo>
                  <a:pt x="354" y="137"/>
                </a:lnTo>
                <a:lnTo>
                  <a:pt x="354" y="134"/>
                </a:lnTo>
                <a:lnTo>
                  <a:pt x="351" y="134"/>
                </a:lnTo>
                <a:lnTo>
                  <a:pt x="348" y="139"/>
                </a:lnTo>
                <a:lnTo>
                  <a:pt x="342" y="145"/>
                </a:lnTo>
                <a:lnTo>
                  <a:pt x="339" y="151"/>
                </a:lnTo>
                <a:lnTo>
                  <a:pt x="331" y="159"/>
                </a:lnTo>
                <a:lnTo>
                  <a:pt x="322" y="171"/>
                </a:lnTo>
                <a:lnTo>
                  <a:pt x="314" y="182"/>
                </a:lnTo>
                <a:lnTo>
                  <a:pt x="305" y="193"/>
                </a:lnTo>
                <a:lnTo>
                  <a:pt x="294" y="202"/>
                </a:lnTo>
                <a:lnTo>
                  <a:pt x="283" y="213"/>
                </a:lnTo>
                <a:lnTo>
                  <a:pt x="274" y="219"/>
                </a:lnTo>
                <a:lnTo>
                  <a:pt x="266" y="227"/>
                </a:lnTo>
                <a:lnTo>
                  <a:pt x="254" y="233"/>
                </a:lnTo>
                <a:lnTo>
                  <a:pt x="246" y="239"/>
                </a:lnTo>
                <a:lnTo>
                  <a:pt x="237" y="239"/>
                </a:lnTo>
                <a:lnTo>
                  <a:pt x="235" y="239"/>
                </a:lnTo>
                <a:lnTo>
                  <a:pt x="226" y="233"/>
                </a:lnTo>
                <a:lnTo>
                  <a:pt x="223" y="227"/>
                </a:lnTo>
                <a:lnTo>
                  <a:pt x="220" y="219"/>
                </a:lnTo>
                <a:lnTo>
                  <a:pt x="220" y="213"/>
                </a:lnTo>
                <a:lnTo>
                  <a:pt x="220" y="205"/>
                </a:lnTo>
                <a:lnTo>
                  <a:pt x="223" y="196"/>
                </a:lnTo>
                <a:lnTo>
                  <a:pt x="223" y="185"/>
                </a:lnTo>
                <a:lnTo>
                  <a:pt x="226" y="179"/>
                </a:lnTo>
                <a:lnTo>
                  <a:pt x="229" y="168"/>
                </a:lnTo>
                <a:lnTo>
                  <a:pt x="232" y="159"/>
                </a:lnTo>
                <a:lnTo>
                  <a:pt x="235" y="151"/>
                </a:lnTo>
                <a:lnTo>
                  <a:pt x="237" y="148"/>
                </a:lnTo>
                <a:lnTo>
                  <a:pt x="243" y="137"/>
                </a:lnTo>
                <a:lnTo>
                  <a:pt x="246" y="134"/>
                </a:lnTo>
                <a:lnTo>
                  <a:pt x="243" y="134"/>
                </a:lnTo>
                <a:lnTo>
                  <a:pt x="240" y="139"/>
                </a:lnTo>
                <a:lnTo>
                  <a:pt x="235" y="145"/>
                </a:lnTo>
                <a:lnTo>
                  <a:pt x="226" y="154"/>
                </a:lnTo>
                <a:lnTo>
                  <a:pt x="218" y="162"/>
                </a:lnTo>
                <a:lnTo>
                  <a:pt x="209" y="173"/>
                </a:lnTo>
                <a:lnTo>
                  <a:pt x="198" y="185"/>
                </a:lnTo>
                <a:lnTo>
                  <a:pt x="186" y="196"/>
                </a:lnTo>
                <a:lnTo>
                  <a:pt x="175" y="208"/>
                </a:lnTo>
                <a:lnTo>
                  <a:pt x="164" y="216"/>
                </a:lnTo>
                <a:lnTo>
                  <a:pt x="153" y="225"/>
                </a:lnTo>
                <a:lnTo>
                  <a:pt x="141" y="236"/>
                </a:lnTo>
                <a:lnTo>
                  <a:pt x="130" y="239"/>
                </a:lnTo>
                <a:lnTo>
                  <a:pt x="119" y="244"/>
                </a:lnTo>
                <a:lnTo>
                  <a:pt x="113" y="244"/>
                </a:lnTo>
                <a:lnTo>
                  <a:pt x="107" y="242"/>
                </a:lnTo>
                <a:lnTo>
                  <a:pt x="99" y="233"/>
                </a:lnTo>
                <a:lnTo>
                  <a:pt x="96" y="227"/>
                </a:lnTo>
                <a:lnTo>
                  <a:pt x="96" y="219"/>
                </a:lnTo>
                <a:lnTo>
                  <a:pt x="96" y="210"/>
                </a:lnTo>
                <a:lnTo>
                  <a:pt x="96" y="202"/>
                </a:lnTo>
                <a:lnTo>
                  <a:pt x="99" y="193"/>
                </a:lnTo>
                <a:lnTo>
                  <a:pt x="102" y="185"/>
                </a:lnTo>
                <a:lnTo>
                  <a:pt x="107" y="176"/>
                </a:lnTo>
                <a:lnTo>
                  <a:pt x="110" y="168"/>
                </a:lnTo>
                <a:lnTo>
                  <a:pt x="116" y="159"/>
                </a:lnTo>
                <a:lnTo>
                  <a:pt x="121" y="154"/>
                </a:lnTo>
                <a:lnTo>
                  <a:pt x="127" y="148"/>
                </a:lnTo>
                <a:lnTo>
                  <a:pt x="133" y="139"/>
                </a:lnTo>
                <a:lnTo>
                  <a:pt x="136" y="137"/>
                </a:lnTo>
                <a:lnTo>
                  <a:pt x="127" y="137"/>
                </a:lnTo>
                <a:lnTo>
                  <a:pt x="121" y="139"/>
                </a:lnTo>
                <a:lnTo>
                  <a:pt x="113" y="151"/>
                </a:lnTo>
                <a:lnTo>
                  <a:pt x="104" y="156"/>
                </a:lnTo>
                <a:lnTo>
                  <a:pt x="99" y="162"/>
                </a:lnTo>
                <a:lnTo>
                  <a:pt x="87" y="171"/>
                </a:lnTo>
                <a:lnTo>
                  <a:pt x="82" y="182"/>
                </a:lnTo>
                <a:lnTo>
                  <a:pt x="70" y="188"/>
                </a:lnTo>
                <a:lnTo>
                  <a:pt x="65" y="193"/>
                </a:lnTo>
                <a:lnTo>
                  <a:pt x="56" y="199"/>
                </a:lnTo>
                <a:lnTo>
                  <a:pt x="48" y="205"/>
                </a:lnTo>
                <a:lnTo>
                  <a:pt x="42" y="208"/>
                </a:lnTo>
                <a:lnTo>
                  <a:pt x="34" y="210"/>
                </a:lnTo>
                <a:lnTo>
                  <a:pt x="31" y="208"/>
                </a:lnTo>
                <a:lnTo>
                  <a:pt x="28" y="205"/>
                </a:lnTo>
                <a:lnTo>
                  <a:pt x="25" y="199"/>
                </a:lnTo>
                <a:lnTo>
                  <a:pt x="25" y="193"/>
                </a:lnTo>
                <a:lnTo>
                  <a:pt x="25" y="185"/>
                </a:lnTo>
                <a:lnTo>
                  <a:pt x="31" y="179"/>
                </a:lnTo>
                <a:lnTo>
                  <a:pt x="34" y="171"/>
                </a:lnTo>
                <a:lnTo>
                  <a:pt x="39" y="162"/>
                </a:lnTo>
                <a:lnTo>
                  <a:pt x="45" y="154"/>
                </a:lnTo>
                <a:lnTo>
                  <a:pt x="53" y="145"/>
                </a:lnTo>
                <a:lnTo>
                  <a:pt x="59" y="137"/>
                </a:lnTo>
                <a:lnTo>
                  <a:pt x="65" y="128"/>
                </a:lnTo>
                <a:lnTo>
                  <a:pt x="76" y="120"/>
                </a:lnTo>
                <a:lnTo>
                  <a:pt x="85" y="111"/>
                </a:lnTo>
                <a:lnTo>
                  <a:pt x="90" y="105"/>
                </a:lnTo>
                <a:lnTo>
                  <a:pt x="99" y="97"/>
                </a:lnTo>
                <a:lnTo>
                  <a:pt x="107" y="88"/>
                </a:lnTo>
                <a:lnTo>
                  <a:pt x="116" y="85"/>
                </a:lnTo>
                <a:lnTo>
                  <a:pt x="121" y="80"/>
                </a:lnTo>
                <a:lnTo>
                  <a:pt x="130" y="74"/>
                </a:lnTo>
                <a:lnTo>
                  <a:pt x="136" y="66"/>
                </a:lnTo>
                <a:lnTo>
                  <a:pt x="144" y="60"/>
                </a:lnTo>
                <a:lnTo>
                  <a:pt x="153" y="54"/>
                </a:lnTo>
                <a:lnTo>
                  <a:pt x="161" y="49"/>
                </a:lnTo>
                <a:lnTo>
                  <a:pt x="172" y="43"/>
                </a:lnTo>
                <a:lnTo>
                  <a:pt x="184" y="37"/>
                </a:lnTo>
                <a:lnTo>
                  <a:pt x="186" y="34"/>
                </a:lnTo>
                <a:lnTo>
                  <a:pt x="192" y="31"/>
                </a:lnTo>
                <a:lnTo>
                  <a:pt x="198" y="29"/>
                </a:lnTo>
                <a:lnTo>
                  <a:pt x="206" y="29"/>
                </a:lnTo>
                <a:lnTo>
                  <a:pt x="212" y="26"/>
                </a:lnTo>
                <a:lnTo>
                  <a:pt x="220" y="23"/>
                </a:lnTo>
                <a:lnTo>
                  <a:pt x="226" y="23"/>
                </a:lnTo>
                <a:lnTo>
                  <a:pt x="237" y="23"/>
                </a:lnTo>
                <a:lnTo>
                  <a:pt x="246" y="20"/>
                </a:lnTo>
                <a:lnTo>
                  <a:pt x="254" y="20"/>
                </a:lnTo>
                <a:lnTo>
                  <a:pt x="263" y="20"/>
                </a:lnTo>
                <a:lnTo>
                  <a:pt x="274" y="20"/>
                </a:lnTo>
                <a:lnTo>
                  <a:pt x="286" y="20"/>
                </a:lnTo>
                <a:lnTo>
                  <a:pt x="297" y="20"/>
                </a:lnTo>
                <a:lnTo>
                  <a:pt x="311" y="20"/>
                </a:lnTo>
                <a:lnTo>
                  <a:pt x="322" y="23"/>
                </a:lnTo>
                <a:lnTo>
                  <a:pt x="334" y="23"/>
                </a:lnTo>
                <a:lnTo>
                  <a:pt x="348" y="23"/>
                </a:lnTo>
                <a:lnTo>
                  <a:pt x="359" y="26"/>
                </a:lnTo>
                <a:lnTo>
                  <a:pt x="371" y="29"/>
                </a:lnTo>
                <a:lnTo>
                  <a:pt x="379" y="29"/>
                </a:lnTo>
                <a:lnTo>
                  <a:pt x="390" y="31"/>
                </a:lnTo>
                <a:lnTo>
                  <a:pt x="399" y="34"/>
                </a:lnTo>
                <a:lnTo>
                  <a:pt x="410" y="37"/>
                </a:lnTo>
                <a:lnTo>
                  <a:pt x="419" y="40"/>
                </a:lnTo>
                <a:lnTo>
                  <a:pt x="427" y="43"/>
                </a:lnTo>
                <a:lnTo>
                  <a:pt x="436" y="43"/>
                </a:lnTo>
                <a:lnTo>
                  <a:pt x="444" y="49"/>
                </a:lnTo>
                <a:lnTo>
                  <a:pt x="450" y="51"/>
                </a:lnTo>
                <a:lnTo>
                  <a:pt x="458" y="54"/>
                </a:lnTo>
                <a:lnTo>
                  <a:pt x="464" y="57"/>
                </a:lnTo>
                <a:lnTo>
                  <a:pt x="470" y="63"/>
                </a:lnTo>
                <a:lnTo>
                  <a:pt x="478" y="66"/>
                </a:lnTo>
                <a:lnTo>
                  <a:pt x="490" y="74"/>
                </a:lnTo>
                <a:lnTo>
                  <a:pt x="495" y="77"/>
                </a:lnTo>
                <a:lnTo>
                  <a:pt x="504" y="83"/>
                </a:lnTo>
                <a:lnTo>
                  <a:pt x="512" y="91"/>
                </a:lnTo>
                <a:lnTo>
                  <a:pt x="515" y="94"/>
                </a:lnTo>
                <a:lnTo>
                  <a:pt x="563" y="94"/>
                </a:lnTo>
                <a:lnTo>
                  <a:pt x="560" y="91"/>
                </a:lnTo>
                <a:lnTo>
                  <a:pt x="549" y="83"/>
                </a:lnTo>
                <a:lnTo>
                  <a:pt x="541" y="77"/>
                </a:lnTo>
                <a:lnTo>
                  <a:pt x="532" y="71"/>
                </a:lnTo>
                <a:lnTo>
                  <a:pt x="521" y="66"/>
                </a:lnTo>
                <a:lnTo>
                  <a:pt x="509" y="57"/>
                </a:lnTo>
                <a:lnTo>
                  <a:pt x="501" y="54"/>
                </a:lnTo>
                <a:lnTo>
                  <a:pt x="492" y="51"/>
                </a:lnTo>
                <a:lnTo>
                  <a:pt x="487" y="46"/>
                </a:lnTo>
                <a:lnTo>
                  <a:pt x="478" y="43"/>
                </a:lnTo>
                <a:lnTo>
                  <a:pt x="470" y="40"/>
                </a:lnTo>
                <a:lnTo>
                  <a:pt x="458" y="34"/>
                </a:lnTo>
                <a:lnTo>
                  <a:pt x="447" y="31"/>
                </a:lnTo>
                <a:lnTo>
                  <a:pt x="439" y="29"/>
                </a:lnTo>
                <a:lnTo>
                  <a:pt x="427" y="26"/>
                </a:lnTo>
                <a:lnTo>
                  <a:pt x="416" y="23"/>
                </a:lnTo>
                <a:lnTo>
                  <a:pt x="405" y="17"/>
                </a:lnTo>
                <a:lnTo>
                  <a:pt x="393" y="14"/>
                </a:lnTo>
                <a:lnTo>
                  <a:pt x="385" y="12"/>
                </a:lnTo>
                <a:lnTo>
                  <a:pt x="379" y="12"/>
                </a:lnTo>
                <a:lnTo>
                  <a:pt x="373" y="12"/>
                </a:lnTo>
                <a:lnTo>
                  <a:pt x="365" y="12"/>
                </a:lnTo>
                <a:lnTo>
                  <a:pt x="354" y="9"/>
                </a:lnTo>
                <a:lnTo>
                  <a:pt x="339" y="6"/>
                </a:lnTo>
                <a:lnTo>
                  <a:pt x="334" y="3"/>
                </a:lnTo>
                <a:lnTo>
                  <a:pt x="325" y="3"/>
                </a:lnTo>
                <a:lnTo>
                  <a:pt x="317" y="0"/>
                </a:lnTo>
                <a:lnTo>
                  <a:pt x="311" y="0"/>
                </a:lnTo>
                <a:lnTo>
                  <a:pt x="297" y="0"/>
                </a:lnTo>
                <a:lnTo>
                  <a:pt x="286" y="0"/>
                </a:lnTo>
                <a:lnTo>
                  <a:pt x="271" y="0"/>
                </a:lnTo>
                <a:lnTo>
                  <a:pt x="260" y="0"/>
                </a:lnTo>
                <a:lnTo>
                  <a:pt x="249" y="0"/>
                </a:lnTo>
                <a:lnTo>
                  <a:pt x="240" y="3"/>
                </a:lnTo>
                <a:lnTo>
                  <a:pt x="229" y="3"/>
                </a:lnTo>
                <a:lnTo>
                  <a:pt x="220" y="3"/>
                </a:lnTo>
                <a:lnTo>
                  <a:pt x="209" y="6"/>
                </a:lnTo>
                <a:lnTo>
                  <a:pt x="201" y="9"/>
                </a:lnTo>
                <a:lnTo>
                  <a:pt x="192" y="12"/>
                </a:lnTo>
                <a:lnTo>
                  <a:pt x="184" y="12"/>
                </a:lnTo>
                <a:lnTo>
                  <a:pt x="178" y="17"/>
                </a:lnTo>
                <a:lnTo>
                  <a:pt x="172" y="20"/>
                </a:lnTo>
                <a:lnTo>
                  <a:pt x="164" y="23"/>
                </a:lnTo>
                <a:lnTo>
                  <a:pt x="155" y="26"/>
                </a:lnTo>
                <a:lnTo>
                  <a:pt x="150" y="29"/>
                </a:lnTo>
                <a:lnTo>
                  <a:pt x="144" y="31"/>
                </a:lnTo>
                <a:lnTo>
                  <a:pt x="133" y="40"/>
                </a:lnTo>
                <a:lnTo>
                  <a:pt x="124" y="49"/>
                </a:lnTo>
                <a:lnTo>
                  <a:pt x="116" y="54"/>
                </a:lnTo>
                <a:lnTo>
                  <a:pt x="110" y="63"/>
                </a:lnTo>
                <a:lnTo>
                  <a:pt x="102" y="68"/>
                </a:lnTo>
                <a:lnTo>
                  <a:pt x="96" y="74"/>
                </a:lnTo>
                <a:lnTo>
                  <a:pt x="87" y="80"/>
                </a:lnTo>
                <a:lnTo>
                  <a:pt x="82" y="85"/>
                </a:lnTo>
                <a:lnTo>
                  <a:pt x="76" y="94"/>
                </a:lnTo>
                <a:lnTo>
                  <a:pt x="70" y="100"/>
                </a:lnTo>
                <a:lnTo>
                  <a:pt x="62" y="108"/>
                </a:lnTo>
                <a:lnTo>
                  <a:pt x="56" y="117"/>
                </a:lnTo>
                <a:lnTo>
                  <a:pt x="48" y="125"/>
                </a:lnTo>
                <a:lnTo>
                  <a:pt x="39" y="134"/>
                </a:lnTo>
                <a:lnTo>
                  <a:pt x="34" y="139"/>
                </a:lnTo>
                <a:lnTo>
                  <a:pt x="25" y="148"/>
                </a:lnTo>
                <a:lnTo>
                  <a:pt x="19" y="156"/>
                </a:lnTo>
                <a:lnTo>
                  <a:pt x="14" y="165"/>
                </a:lnTo>
                <a:lnTo>
                  <a:pt x="8" y="173"/>
                </a:lnTo>
                <a:lnTo>
                  <a:pt x="5" y="182"/>
                </a:lnTo>
                <a:lnTo>
                  <a:pt x="2" y="188"/>
                </a:lnTo>
                <a:lnTo>
                  <a:pt x="2" y="196"/>
                </a:lnTo>
                <a:lnTo>
                  <a:pt x="0" y="205"/>
                </a:lnTo>
                <a:lnTo>
                  <a:pt x="0" y="213"/>
                </a:lnTo>
                <a:lnTo>
                  <a:pt x="0" y="219"/>
                </a:lnTo>
                <a:lnTo>
                  <a:pt x="2" y="225"/>
                </a:lnTo>
                <a:lnTo>
                  <a:pt x="8" y="225"/>
                </a:lnTo>
                <a:lnTo>
                  <a:pt x="14" y="227"/>
                </a:lnTo>
                <a:lnTo>
                  <a:pt x="22" y="227"/>
                </a:lnTo>
                <a:lnTo>
                  <a:pt x="28" y="227"/>
                </a:lnTo>
                <a:lnTo>
                  <a:pt x="34" y="225"/>
                </a:lnTo>
                <a:lnTo>
                  <a:pt x="42" y="225"/>
                </a:lnTo>
                <a:lnTo>
                  <a:pt x="51" y="222"/>
                </a:lnTo>
                <a:lnTo>
                  <a:pt x="59" y="216"/>
                </a:lnTo>
                <a:lnTo>
                  <a:pt x="65" y="213"/>
                </a:lnTo>
                <a:lnTo>
                  <a:pt x="70" y="208"/>
                </a:lnTo>
                <a:lnTo>
                  <a:pt x="76" y="205"/>
                </a:lnTo>
                <a:lnTo>
                  <a:pt x="76" y="208"/>
                </a:lnTo>
                <a:lnTo>
                  <a:pt x="76" y="213"/>
                </a:lnTo>
                <a:lnTo>
                  <a:pt x="73" y="219"/>
                </a:lnTo>
                <a:lnTo>
                  <a:pt x="73" y="230"/>
                </a:lnTo>
                <a:lnTo>
                  <a:pt x="73" y="239"/>
                </a:lnTo>
                <a:lnTo>
                  <a:pt x="76" y="250"/>
                </a:lnTo>
                <a:lnTo>
                  <a:pt x="85" y="259"/>
                </a:lnTo>
                <a:lnTo>
                  <a:pt x="96" y="267"/>
                </a:lnTo>
                <a:lnTo>
                  <a:pt x="102" y="267"/>
                </a:lnTo>
                <a:lnTo>
                  <a:pt x="110" y="267"/>
                </a:lnTo>
                <a:lnTo>
                  <a:pt x="119" y="267"/>
                </a:lnTo>
                <a:lnTo>
                  <a:pt x="127" y="264"/>
                </a:lnTo>
                <a:lnTo>
                  <a:pt x="133" y="259"/>
                </a:lnTo>
                <a:lnTo>
                  <a:pt x="141" y="256"/>
                </a:lnTo>
                <a:lnTo>
                  <a:pt x="153" y="250"/>
                </a:lnTo>
                <a:lnTo>
                  <a:pt x="161" y="244"/>
                </a:lnTo>
                <a:lnTo>
                  <a:pt x="167" y="239"/>
                </a:lnTo>
                <a:lnTo>
                  <a:pt x="175" y="233"/>
                </a:lnTo>
                <a:lnTo>
                  <a:pt x="181" y="227"/>
                </a:lnTo>
                <a:lnTo>
                  <a:pt x="189" y="225"/>
                </a:lnTo>
                <a:lnTo>
                  <a:pt x="198" y="216"/>
                </a:lnTo>
                <a:lnTo>
                  <a:pt x="201" y="213"/>
                </a:lnTo>
                <a:lnTo>
                  <a:pt x="201" y="216"/>
                </a:lnTo>
                <a:lnTo>
                  <a:pt x="201" y="222"/>
                </a:lnTo>
                <a:lnTo>
                  <a:pt x="201" y="227"/>
                </a:lnTo>
                <a:lnTo>
                  <a:pt x="203" y="236"/>
                </a:lnTo>
                <a:lnTo>
                  <a:pt x="203" y="244"/>
                </a:lnTo>
                <a:lnTo>
                  <a:pt x="209" y="253"/>
                </a:lnTo>
                <a:lnTo>
                  <a:pt x="215" y="259"/>
                </a:lnTo>
                <a:lnTo>
                  <a:pt x="226" y="264"/>
                </a:lnTo>
                <a:lnTo>
                  <a:pt x="232" y="262"/>
                </a:lnTo>
                <a:lnTo>
                  <a:pt x="237" y="262"/>
                </a:lnTo>
                <a:lnTo>
                  <a:pt x="246" y="259"/>
                </a:lnTo>
                <a:lnTo>
                  <a:pt x="254" y="256"/>
                </a:lnTo>
                <a:lnTo>
                  <a:pt x="260" y="250"/>
                </a:lnTo>
                <a:lnTo>
                  <a:pt x="269" y="247"/>
                </a:lnTo>
                <a:lnTo>
                  <a:pt x="277" y="239"/>
                </a:lnTo>
                <a:lnTo>
                  <a:pt x="286" y="236"/>
                </a:lnTo>
                <a:lnTo>
                  <a:pt x="291" y="227"/>
                </a:lnTo>
                <a:lnTo>
                  <a:pt x="300" y="222"/>
                </a:lnTo>
                <a:lnTo>
                  <a:pt x="305" y="216"/>
                </a:lnTo>
                <a:lnTo>
                  <a:pt x="311" y="213"/>
                </a:lnTo>
                <a:lnTo>
                  <a:pt x="320" y="205"/>
                </a:lnTo>
                <a:lnTo>
                  <a:pt x="322" y="202"/>
                </a:lnTo>
                <a:lnTo>
                  <a:pt x="322" y="208"/>
                </a:lnTo>
                <a:lnTo>
                  <a:pt x="322" y="213"/>
                </a:lnTo>
                <a:lnTo>
                  <a:pt x="322" y="222"/>
                </a:lnTo>
                <a:lnTo>
                  <a:pt x="325" y="227"/>
                </a:lnTo>
                <a:lnTo>
                  <a:pt x="331" y="236"/>
                </a:lnTo>
                <a:lnTo>
                  <a:pt x="337" y="239"/>
                </a:lnTo>
                <a:lnTo>
                  <a:pt x="345" y="242"/>
                </a:lnTo>
                <a:lnTo>
                  <a:pt x="354" y="239"/>
                </a:lnTo>
                <a:lnTo>
                  <a:pt x="362" y="236"/>
                </a:lnTo>
                <a:lnTo>
                  <a:pt x="371" y="227"/>
                </a:lnTo>
                <a:lnTo>
                  <a:pt x="385" y="219"/>
                </a:lnTo>
                <a:lnTo>
                  <a:pt x="388" y="213"/>
                </a:lnTo>
                <a:lnTo>
                  <a:pt x="396" y="210"/>
                </a:lnTo>
                <a:lnTo>
                  <a:pt x="402" y="205"/>
                </a:lnTo>
                <a:lnTo>
                  <a:pt x="410" y="199"/>
                </a:lnTo>
                <a:lnTo>
                  <a:pt x="416" y="193"/>
                </a:lnTo>
                <a:lnTo>
                  <a:pt x="424" y="188"/>
                </a:lnTo>
                <a:lnTo>
                  <a:pt x="430" y="182"/>
                </a:lnTo>
                <a:lnTo>
                  <a:pt x="439" y="176"/>
                </a:lnTo>
                <a:lnTo>
                  <a:pt x="450" y="165"/>
                </a:lnTo>
                <a:lnTo>
                  <a:pt x="464" y="154"/>
                </a:lnTo>
                <a:lnTo>
                  <a:pt x="475" y="142"/>
                </a:lnTo>
                <a:lnTo>
                  <a:pt x="487" y="134"/>
                </a:lnTo>
                <a:lnTo>
                  <a:pt x="495" y="125"/>
                </a:lnTo>
                <a:lnTo>
                  <a:pt x="501" y="120"/>
                </a:lnTo>
                <a:lnTo>
                  <a:pt x="507" y="114"/>
                </a:lnTo>
                <a:lnTo>
                  <a:pt x="509" y="114"/>
                </a:lnTo>
                <a:lnTo>
                  <a:pt x="484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22"/>
          <p:cNvSpPr/>
          <p:nvPr/>
        </p:nvSpPr>
        <p:spPr>
          <a:xfrm>
            <a:off x="6935760" y="4668840"/>
            <a:ext cx="824040" cy="493560"/>
          </a:xfrm>
          <a:custGeom>
            <a:avLst/>
            <a:gdLst>
              <a:gd name="textAreaLeft" fmla="*/ 0 w 824040"/>
              <a:gd name="textAreaRight" fmla="*/ 824400 w 8240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01" h="353">
                <a:moveTo>
                  <a:pt x="357" y="111"/>
                </a:moveTo>
                <a:lnTo>
                  <a:pt x="354" y="108"/>
                </a:lnTo>
                <a:lnTo>
                  <a:pt x="352" y="108"/>
                </a:lnTo>
                <a:lnTo>
                  <a:pt x="346" y="108"/>
                </a:lnTo>
                <a:lnTo>
                  <a:pt x="337" y="108"/>
                </a:lnTo>
                <a:lnTo>
                  <a:pt x="329" y="106"/>
                </a:lnTo>
                <a:lnTo>
                  <a:pt x="318" y="106"/>
                </a:lnTo>
                <a:lnTo>
                  <a:pt x="306" y="106"/>
                </a:lnTo>
                <a:lnTo>
                  <a:pt x="295" y="106"/>
                </a:lnTo>
                <a:lnTo>
                  <a:pt x="281" y="106"/>
                </a:lnTo>
                <a:lnTo>
                  <a:pt x="269" y="106"/>
                </a:lnTo>
                <a:lnTo>
                  <a:pt x="255" y="106"/>
                </a:lnTo>
                <a:lnTo>
                  <a:pt x="244" y="106"/>
                </a:lnTo>
                <a:lnTo>
                  <a:pt x="233" y="106"/>
                </a:lnTo>
                <a:lnTo>
                  <a:pt x="224" y="106"/>
                </a:lnTo>
                <a:lnTo>
                  <a:pt x="213" y="108"/>
                </a:lnTo>
                <a:lnTo>
                  <a:pt x="207" y="111"/>
                </a:lnTo>
                <a:lnTo>
                  <a:pt x="199" y="111"/>
                </a:lnTo>
                <a:lnTo>
                  <a:pt x="190" y="114"/>
                </a:lnTo>
                <a:lnTo>
                  <a:pt x="179" y="117"/>
                </a:lnTo>
                <a:lnTo>
                  <a:pt x="168" y="123"/>
                </a:lnTo>
                <a:lnTo>
                  <a:pt x="156" y="128"/>
                </a:lnTo>
                <a:lnTo>
                  <a:pt x="142" y="134"/>
                </a:lnTo>
                <a:lnTo>
                  <a:pt x="128" y="142"/>
                </a:lnTo>
                <a:lnTo>
                  <a:pt x="117" y="151"/>
                </a:lnTo>
                <a:lnTo>
                  <a:pt x="108" y="154"/>
                </a:lnTo>
                <a:lnTo>
                  <a:pt x="102" y="159"/>
                </a:lnTo>
                <a:lnTo>
                  <a:pt x="94" y="162"/>
                </a:lnTo>
                <a:lnTo>
                  <a:pt x="88" y="168"/>
                </a:lnTo>
                <a:lnTo>
                  <a:pt x="77" y="174"/>
                </a:lnTo>
                <a:lnTo>
                  <a:pt x="66" y="185"/>
                </a:lnTo>
                <a:lnTo>
                  <a:pt x="54" y="194"/>
                </a:lnTo>
                <a:lnTo>
                  <a:pt x="46" y="202"/>
                </a:lnTo>
                <a:lnTo>
                  <a:pt x="37" y="211"/>
                </a:lnTo>
                <a:lnTo>
                  <a:pt x="32" y="219"/>
                </a:lnTo>
                <a:lnTo>
                  <a:pt x="23" y="233"/>
                </a:lnTo>
                <a:lnTo>
                  <a:pt x="20" y="245"/>
                </a:lnTo>
                <a:lnTo>
                  <a:pt x="20" y="253"/>
                </a:lnTo>
                <a:lnTo>
                  <a:pt x="23" y="262"/>
                </a:lnTo>
                <a:lnTo>
                  <a:pt x="29" y="265"/>
                </a:lnTo>
                <a:lnTo>
                  <a:pt x="34" y="267"/>
                </a:lnTo>
                <a:lnTo>
                  <a:pt x="43" y="265"/>
                </a:lnTo>
                <a:lnTo>
                  <a:pt x="49" y="262"/>
                </a:lnTo>
                <a:lnTo>
                  <a:pt x="51" y="259"/>
                </a:lnTo>
                <a:lnTo>
                  <a:pt x="60" y="253"/>
                </a:lnTo>
                <a:lnTo>
                  <a:pt x="66" y="248"/>
                </a:lnTo>
                <a:lnTo>
                  <a:pt x="77" y="242"/>
                </a:lnTo>
                <a:lnTo>
                  <a:pt x="88" y="236"/>
                </a:lnTo>
                <a:lnTo>
                  <a:pt x="102" y="228"/>
                </a:lnTo>
                <a:lnTo>
                  <a:pt x="114" y="219"/>
                </a:lnTo>
                <a:lnTo>
                  <a:pt x="125" y="213"/>
                </a:lnTo>
                <a:lnTo>
                  <a:pt x="136" y="205"/>
                </a:lnTo>
                <a:lnTo>
                  <a:pt x="151" y="199"/>
                </a:lnTo>
                <a:lnTo>
                  <a:pt x="159" y="194"/>
                </a:lnTo>
                <a:lnTo>
                  <a:pt x="170" y="188"/>
                </a:lnTo>
                <a:lnTo>
                  <a:pt x="179" y="182"/>
                </a:lnTo>
                <a:lnTo>
                  <a:pt x="185" y="179"/>
                </a:lnTo>
                <a:lnTo>
                  <a:pt x="187" y="177"/>
                </a:lnTo>
                <a:lnTo>
                  <a:pt x="190" y="177"/>
                </a:lnTo>
                <a:lnTo>
                  <a:pt x="199" y="191"/>
                </a:lnTo>
                <a:lnTo>
                  <a:pt x="196" y="191"/>
                </a:lnTo>
                <a:lnTo>
                  <a:pt x="193" y="196"/>
                </a:lnTo>
                <a:lnTo>
                  <a:pt x="187" y="199"/>
                </a:lnTo>
                <a:lnTo>
                  <a:pt x="185" y="208"/>
                </a:lnTo>
                <a:lnTo>
                  <a:pt x="179" y="216"/>
                </a:lnTo>
                <a:lnTo>
                  <a:pt x="170" y="225"/>
                </a:lnTo>
                <a:lnTo>
                  <a:pt x="165" y="233"/>
                </a:lnTo>
                <a:lnTo>
                  <a:pt x="159" y="245"/>
                </a:lnTo>
                <a:lnTo>
                  <a:pt x="153" y="253"/>
                </a:lnTo>
                <a:lnTo>
                  <a:pt x="148" y="265"/>
                </a:lnTo>
                <a:lnTo>
                  <a:pt x="145" y="270"/>
                </a:lnTo>
                <a:lnTo>
                  <a:pt x="145" y="282"/>
                </a:lnTo>
                <a:lnTo>
                  <a:pt x="145" y="287"/>
                </a:lnTo>
                <a:lnTo>
                  <a:pt x="148" y="293"/>
                </a:lnTo>
                <a:lnTo>
                  <a:pt x="153" y="293"/>
                </a:lnTo>
                <a:lnTo>
                  <a:pt x="162" y="296"/>
                </a:lnTo>
                <a:lnTo>
                  <a:pt x="173" y="293"/>
                </a:lnTo>
                <a:lnTo>
                  <a:pt x="185" y="287"/>
                </a:lnTo>
                <a:lnTo>
                  <a:pt x="196" y="282"/>
                </a:lnTo>
                <a:lnTo>
                  <a:pt x="207" y="273"/>
                </a:lnTo>
                <a:lnTo>
                  <a:pt x="219" y="265"/>
                </a:lnTo>
                <a:lnTo>
                  <a:pt x="230" y="256"/>
                </a:lnTo>
                <a:lnTo>
                  <a:pt x="241" y="248"/>
                </a:lnTo>
                <a:lnTo>
                  <a:pt x="252" y="239"/>
                </a:lnTo>
                <a:lnTo>
                  <a:pt x="261" y="230"/>
                </a:lnTo>
                <a:lnTo>
                  <a:pt x="269" y="222"/>
                </a:lnTo>
                <a:lnTo>
                  <a:pt x="275" y="213"/>
                </a:lnTo>
                <a:lnTo>
                  <a:pt x="284" y="208"/>
                </a:lnTo>
                <a:lnTo>
                  <a:pt x="295" y="196"/>
                </a:lnTo>
                <a:lnTo>
                  <a:pt x="298" y="194"/>
                </a:lnTo>
                <a:lnTo>
                  <a:pt x="298" y="208"/>
                </a:lnTo>
                <a:lnTo>
                  <a:pt x="295" y="213"/>
                </a:lnTo>
                <a:lnTo>
                  <a:pt x="292" y="216"/>
                </a:lnTo>
                <a:lnTo>
                  <a:pt x="289" y="225"/>
                </a:lnTo>
                <a:lnTo>
                  <a:pt x="284" y="233"/>
                </a:lnTo>
                <a:lnTo>
                  <a:pt x="281" y="245"/>
                </a:lnTo>
                <a:lnTo>
                  <a:pt x="275" y="256"/>
                </a:lnTo>
                <a:lnTo>
                  <a:pt x="272" y="267"/>
                </a:lnTo>
                <a:lnTo>
                  <a:pt x="269" y="276"/>
                </a:lnTo>
                <a:lnTo>
                  <a:pt x="267" y="287"/>
                </a:lnTo>
                <a:lnTo>
                  <a:pt x="264" y="296"/>
                </a:lnTo>
                <a:lnTo>
                  <a:pt x="264" y="304"/>
                </a:lnTo>
                <a:lnTo>
                  <a:pt x="264" y="310"/>
                </a:lnTo>
                <a:lnTo>
                  <a:pt x="267" y="316"/>
                </a:lnTo>
                <a:lnTo>
                  <a:pt x="269" y="319"/>
                </a:lnTo>
                <a:lnTo>
                  <a:pt x="278" y="319"/>
                </a:lnTo>
                <a:lnTo>
                  <a:pt x="286" y="316"/>
                </a:lnTo>
                <a:lnTo>
                  <a:pt x="295" y="310"/>
                </a:lnTo>
                <a:lnTo>
                  <a:pt x="306" y="304"/>
                </a:lnTo>
                <a:lnTo>
                  <a:pt x="315" y="296"/>
                </a:lnTo>
                <a:lnTo>
                  <a:pt x="323" y="287"/>
                </a:lnTo>
                <a:lnTo>
                  <a:pt x="335" y="279"/>
                </a:lnTo>
                <a:lnTo>
                  <a:pt x="343" y="270"/>
                </a:lnTo>
                <a:lnTo>
                  <a:pt x="352" y="262"/>
                </a:lnTo>
                <a:lnTo>
                  <a:pt x="360" y="250"/>
                </a:lnTo>
                <a:lnTo>
                  <a:pt x="369" y="239"/>
                </a:lnTo>
                <a:lnTo>
                  <a:pt x="374" y="230"/>
                </a:lnTo>
                <a:lnTo>
                  <a:pt x="380" y="225"/>
                </a:lnTo>
                <a:lnTo>
                  <a:pt x="383" y="216"/>
                </a:lnTo>
                <a:lnTo>
                  <a:pt x="388" y="213"/>
                </a:lnTo>
                <a:lnTo>
                  <a:pt x="391" y="211"/>
                </a:lnTo>
                <a:lnTo>
                  <a:pt x="403" y="219"/>
                </a:lnTo>
                <a:lnTo>
                  <a:pt x="400" y="222"/>
                </a:lnTo>
                <a:lnTo>
                  <a:pt x="397" y="228"/>
                </a:lnTo>
                <a:lnTo>
                  <a:pt x="394" y="239"/>
                </a:lnTo>
                <a:lnTo>
                  <a:pt x="391" y="250"/>
                </a:lnTo>
                <a:lnTo>
                  <a:pt x="388" y="262"/>
                </a:lnTo>
                <a:lnTo>
                  <a:pt x="388" y="273"/>
                </a:lnTo>
                <a:lnTo>
                  <a:pt x="391" y="282"/>
                </a:lnTo>
                <a:lnTo>
                  <a:pt x="397" y="287"/>
                </a:lnTo>
                <a:lnTo>
                  <a:pt x="403" y="290"/>
                </a:lnTo>
                <a:lnTo>
                  <a:pt x="411" y="290"/>
                </a:lnTo>
                <a:lnTo>
                  <a:pt x="422" y="284"/>
                </a:lnTo>
                <a:lnTo>
                  <a:pt x="437" y="282"/>
                </a:lnTo>
                <a:lnTo>
                  <a:pt x="448" y="270"/>
                </a:lnTo>
                <a:lnTo>
                  <a:pt x="459" y="262"/>
                </a:lnTo>
                <a:lnTo>
                  <a:pt x="468" y="250"/>
                </a:lnTo>
                <a:lnTo>
                  <a:pt x="476" y="239"/>
                </a:lnTo>
                <a:lnTo>
                  <a:pt x="479" y="233"/>
                </a:lnTo>
                <a:lnTo>
                  <a:pt x="482" y="225"/>
                </a:lnTo>
                <a:lnTo>
                  <a:pt x="488" y="216"/>
                </a:lnTo>
                <a:lnTo>
                  <a:pt x="490" y="211"/>
                </a:lnTo>
                <a:lnTo>
                  <a:pt x="496" y="205"/>
                </a:lnTo>
                <a:lnTo>
                  <a:pt x="502" y="196"/>
                </a:lnTo>
                <a:lnTo>
                  <a:pt x="507" y="191"/>
                </a:lnTo>
                <a:lnTo>
                  <a:pt x="513" y="185"/>
                </a:lnTo>
                <a:lnTo>
                  <a:pt x="524" y="174"/>
                </a:lnTo>
                <a:lnTo>
                  <a:pt x="536" y="168"/>
                </a:lnTo>
                <a:lnTo>
                  <a:pt x="547" y="162"/>
                </a:lnTo>
                <a:lnTo>
                  <a:pt x="556" y="162"/>
                </a:lnTo>
                <a:lnTo>
                  <a:pt x="561" y="157"/>
                </a:lnTo>
                <a:lnTo>
                  <a:pt x="567" y="157"/>
                </a:lnTo>
                <a:lnTo>
                  <a:pt x="573" y="157"/>
                </a:lnTo>
                <a:lnTo>
                  <a:pt x="581" y="159"/>
                </a:lnTo>
                <a:lnTo>
                  <a:pt x="592" y="159"/>
                </a:lnTo>
                <a:lnTo>
                  <a:pt x="601" y="162"/>
                </a:lnTo>
                <a:lnTo>
                  <a:pt x="595" y="162"/>
                </a:lnTo>
                <a:lnTo>
                  <a:pt x="590" y="165"/>
                </a:lnTo>
                <a:lnTo>
                  <a:pt x="578" y="168"/>
                </a:lnTo>
                <a:lnTo>
                  <a:pt x="567" y="177"/>
                </a:lnTo>
                <a:lnTo>
                  <a:pt x="553" y="182"/>
                </a:lnTo>
                <a:lnTo>
                  <a:pt x="541" y="191"/>
                </a:lnTo>
                <a:lnTo>
                  <a:pt x="533" y="196"/>
                </a:lnTo>
                <a:lnTo>
                  <a:pt x="527" y="205"/>
                </a:lnTo>
                <a:lnTo>
                  <a:pt x="519" y="211"/>
                </a:lnTo>
                <a:lnTo>
                  <a:pt x="513" y="225"/>
                </a:lnTo>
                <a:lnTo>
                  <a:pt x="507" y="228"/>
                </a:lnTo>
                <a:lnTo>
                  <a:pt x="505" y="236"/>
                </a:lnTo>
                <a:lnTo>
                  <a:pt x="502" y="242"/>
                </a:lnTo>
                <a:lnTo>
                  <a:pt x="496" y="250"/>
                </a:lnTo>
                <a:lnTo>
                  <a:pt x="488" y="262"/>
                </a:lnTo>
                <a:lnTo>
                  <a:pt x="479" y="276"/>
                </a:lnTo>
                <a:lnTo>
                  <a:pt x="471" y="287"/>
                </a:lnTo>
                <a:lnTo>
                  <a:pt x="462" y="296"/>
                </a:lnTo>
                <a:lnTo>
                  <a:pt x="448" y="301"/>
                </a:lnTo>
                <a:lnTo>
                  <a:pt x="437" y="307"/>
                </a:lnTo>
                <a:lnTo>
                  <a:pt x="425" y="313"/>
                </a:lnTo>
                <a:lnTo>
                  <a:pt x="414" y="319"/>
                </a:lnTo>
                <a:lnTo>
                  <a:pt x="403" y="321"/>
                </a:lnTo>
                <a:lnTo>
                  <a:pt x="394" y="321"/>
                </a:lnTo>
                <a:lnTo>
                  <a:pt x="388" y="319"/>
                </a:lnTo>
                <a:lnTo>
                  <a:pt x="383" y="316"/>
                </a:lnTo>
                <a:lnTo>
                  <a:pt x="377" y="304"/>
                </a:lnTo>
                <a:lnTo>
                  <a:pt x="377" y="296"/>
                </a:lnTo>
                <a:lnTo>
                  <a:pt x="374" y="284"/>
                </a:lnTo>
                <a:lnTo>
                  <a:pt x="377" y="273"/>
                </a:lnTo>
                <a:lnTo>
                  <a:pt x="377" y="262"/>
                </a:lnTo>
                <a:lnTo>
                  <a:pt x="377" y="253"/>
                </a:lnTo>
                <a:lnTo>
                  <a:pt x="380" y="248"/>
                </a:lnTo>
                <a:lnTo>
                  <a:pt x="377" y="248"/>
                </a:lnTo>
                <a:lnTo>
                  <a:pt x="374" y="250"/>
                </a:lnTo>
                <a:lnTo>
                  <a:pt x="369" y="256"/>
                </a:lnTo>
                <a:lnTo>
                  <a:pt x="366" y="265"/>
                </a:lnTo>
                <a:lnTo>
                  <a:pt x="357" y="270"/>
                </a:lnTo>
                <a:lnTo>
                  <a:pt x="349" y="282"/>
                </a:lnTo>
                <a:lnTo>
                  <a:pt x="340" y="293"/>
                </a:lnTo>
                <a:lnTo>
                  <a:pt x="332" y="304"/>
                </a:lnTo>
                <a:lnTo>
                  <a:pt x="323" y="316"/>
                </a:lnTo>
                <a:lnTo>
                  <a:pt x="312" y="327"/>
                </a:lnTo>
                <a:lnTo>
                  <a:pt x="303" y="333"/>
                </a:lnTo>
                <a:lnTo>
                  <a:pt x="292" y="341"/>
                </a:lnTo>
                <a:lnTo>
                  <a:pt x="284" y="347"/>
                </a:lnTo>
                <a:lnTo>
                  <a:pt x="272" y="353"/>
                </a:lnTo>
                <a:lnTo>
                  <a:pt x="267" y="353"/>
                </a:lnTo>
                <a:lnTo>
                  <a:pt x="261" y="353"/>
                </a:lnTo>
                <a:lnTo>
                  <a:pt x="252" y="347"/>
                </a:lnTo>
                <a:lnTo>
                  <a:pt x="247" y="341"/>
                </a:lnTo>
                <a:lnTo>
                  <a:pt x="244" y="336"/>
                </a:lnTo>
                <a:lnTo>
                  <a:pt x="241" y="327"/>
                </a:lnTo>
                <a:lnTo>
                  <a:pt x="241" y="319"/>
                </a:lnTo>
                <a:lnTo>
                  <a:pt x="241" y="310"/>
                </a:lnTo>
                <a:lnTo>
                  <a:pt x="241" y="301"/>
                </a:lnTo>
                <a:lnTo>
                  <a:pt x="244" y="293"/>
                </a:lnTo>
                <a:lnTo>
                  <a:pt x="247" y="282"/>
                </a:lnTo>
                <a:lnTo>
                  <a:pt x="250" y="273"/>
                </a:lnTo>
                <a:lnTo>
                  <a:pt x="252" y="267"/>
                </a:lnTo>
                <a:lnTo>
                  <a:pt x="252" y="262"/>
                </a:lnTo>
                <a:lnTo>
                  <a:pt x="258" y="250"/>
                </a:lnTo>
                <a:lnTo>
                  <a:pt x="261" y="248"/>
                </a:lnTo>
                <a:lnTo>
                  <a:pt x="258" y="248"/>
                </a:lnTo>
                <a:lnTo>
                  <a:pt x="255" y="250"/>
                </a:lnTo>
                <a:lnTo>
                  <a:pt x="250" y="253"/>
                </a:lnTo>
                <a:lnTo>
                  <a:pt x="241" y="262"/>
                </a:lnTo>
                <a:lnTo>
                  <a:pt x="233" y="267"/>
                </a:lnTo>
                <a:lnTo>
                  <a:pt x="224" y="276"/>
                </a:lnTo>
                <a:lnTo>
                  <a:pt x="216" y="282"/>
                </a:lnTo>
                <a:lnTo>
                  <a:pt x="204" y="293"/>
                </a:lnTo>
                <a:lnTo>
                  <a:pt x="193" y="301"/>
                </a:lnTo>
                <a:lnTo>
                  <a:pt x="182" y="307"/>
                </a:lnTo>
                <a:lnTo>
                  <a:pt x="170" y="316"/>
                </a:lnTo>
                <a:lnTo>
                  <a:pt x="159" y="321"/>
                </a:lnTo>
                <a:lnTo>
                  <a:pt x="148" y="324"/>
                </a:lnTo>
                <a:lnTo>
                  <a:pt x="139" y="327"/>
                </a:lnTo>
                <a:lnTo>
                  <a:pt x="134" y="327"/>
                </a:lnTo>
                <a:lnTo>
                  <a:pt x="125" y="327"/>
                </a:lnTo>
                <a:lnTo>
                  <a:pt x="119" y="324"/>
                </a:lnTo>
                <a:lnTo>
                  <a:pt x="117" y="319"/>
                </a:lnTo>
                <a:lnTo>
                  <a:pt x="117" y="313"/>
                </a:lnTo>
                <a:lnTo>
                  <a:pt x="117" y="304"/>
                </a:lnTo>
                <a:lnTo>
                  <a:pt x="117" y="296"/>
                </a:lnTo>
                <a:lnTo>
                  <a:pt x="117" y="290"/>
                </a:lnTo>
                <a:lnTo>
                  <a:pt x="117" y="282"/>
                </a:lnTo>
                <a:lnTo>
                  <a:pt x="122" y="273"/>
                </a:lnTo>
                <a:lnTo>
                  <a:pt x="125" y="265"/>
                </a:lnTo>
                <a:lnTo>
                  <a:pt x="125" y="256"/>
                </a:lnTo>
                <a:lnTo>
                  <a:pt x="128" y="248"/>
                </a:lnTo>
                <a:lnTo>
                  <a:pt x="134" y="242"/>
                </a:lnTo>
                <a:lnTo>
                  <a:pt x="136" y="233"/>
                </a:lnTo>
                <a:lnTo>
                  <a:pt x="139" y="230"/>
                </a:lnTo>
                <a:lnTo>
                  <a:pt x="136" y="233"/>
                </a:lnTo>
                <a:lnTo>
                  <a:pt x="128" y="239"/>
                </a:lnTo>
                <a:lnTo>
                  <a:pt x="122" y="245"/>
                </a:lnTo>
                <a:lnTo>
                  <a:pt x="117" y="250"/>
                </a:lnTo>
                <a:lnTo>
                  <a:pt x="108" y="256"/>
                </a:lnTo>
                <a:lnTo>
                  <a:pt x="102" y="265"/>
                </a:lnTo>
                <a:lnTo>
                  <a:pt x="94" y="270"/>
                </a:lnTo>
                <a:lnTo>
                  <a:pt x="85" y="276"/>
                </a:lnTo>
                <a:lnTo>
                  <a:pt x="80" y="282"/>
                </a:lnTo>
                <a:lnTo>
                  <a:pt x="74" y="287"/>
                </a:lnTo>
                <a:lnTo>
                  <a:pt x="60" y="293"/>
                </a:lnTo>
                <a:lnTo>
                  <a:pt x="51" y="299"/>
                </a:lnTo>
                <a:lnTo>
                  <a:pt x="43" y="296"/>
                </a:lnTo>
                <a:lnTo>
                  <a:pt x="37" y="296"/>
                </a:lnTo>
                <a:lnTo>
                  <a:pt x="29" y="293"/>
                </a:lnTo>
                <a:lnTo>
                  <a:pt x="20" y="287"/>
                </a:lnTo>
                <a:lnTo>
                  <a:pt x="12" y="282"/>
                </a:lnTo>
                <a:lnTo>
                  <a:pt x="6" y="273"/>
                </a:lnTo>
                <a:lnTo>
                  <a:pt x="0" y="262"/>
                </a:lnTo>
                <a:lnTo>
                  <a:pt x="0" y="253"/>
                </a:lnTo>
                <a:lnTo>
                  <a:pt x="0" y="245"/>
                </a:lnTo>
                <a:lnTo>
                  <a:pt x="0" y="239"/>
                </a:lnTo>
                <a:lnTo>
                  <a:pt x="3" y="228"/>
                </a:lnTo>
                <a:lnTo>
                  <a:pt x="9" y="219"/>
                </a:lnTo>
                <a:lnTo>
                  <a:pt x="12" y="208"/>
                </a:lnTo>
                <a:lnTo>
                  <a:pt x="20" y="199"/>
                </a:lnTo>
                <a:lnTo>
                  <a:pt x="29" y="188"/>
                </a:lnTo>
                <a:lnTo>
                  <a:pt x="40" y="177"/>
                </a:lnTo>
                <a:lnTo>
                  <a:pt x="49" y="165"/>
                </a:lnTo>
                <a:lnTo>
                  <a:pt x="63" y="154"/>
                </a:lnTo>
                <a:lnTo>
                  <a:pt x="68" y="148"/>
                </a:lnTo>
                <a:lnTo>
                  <a:pt x="74" y="142"/>
                </a:lnTo>
                <a:lnTo>
                  <a:pt x="83" y="137"/>
                </a:lnTo>
                <a:lnTo>
                  <a:pt x="91" y="134"/>
                </a:lnTo>
                <a:lnTo>
                  <a:pt x="100" y="128"/>
                </a:lnTo>
                <a:lnTo>
                  <a:pt x="108" y="123"/>
                </a:lnTo>
                <a:lnTo>
                  <a:pt x="117" y="120"/>
                </a:lnTo>
                <a:lnTo>
                  <a:pt x="125" y="114"/>
                </a:lnTo>
                <a:lnTo>
                  <a:pt x="136" y="111"/>
                </a:lnTo>
                <a:lnTo>
                  <a:pt x="148" y="106"/>
                </a:lnTo>
                <a:lnTo>
                  <a:pt x="156" y="103"/>
                </a:lnTo>
                <a:lnTo>
                  <a:pt x="168" y="100"/>
                </a:lnTo>
                <a:lnTo>
                  <a:pt x="165" y="100"/>
                </a:lnTo>
                <a:lnTo>
                  <a:pt x="159" y="97"/>
                </a:lnTo>
                <a:lnTo>
                  <a:pt x="148" y="91"/>
                </a:lnTo>
                <a:lnTo>
                  <a:pt x="136" y="88"/>
                </a:lnTo>
                <a:lnTo>
                  <a:pt x="125" y="80"/>
                </a:lnTo>
                <a:lnTo>
                  <a:pt x="117" y="74"/>
                </a:lnTo>
                <a:lnTo>
                  <a:pt x="111" y="66"/>
                </a:lnTo>
                <a:lnTo>
                  <a:pt x="111" y="57"/>
                </a:lnTo>
                <a:lnTo>
                  <a:pt x="114" y="46"/>
                </a:lnTo>
                <a:lnTo>
                  <a:pt x="119" y="35"/>
                </a:lnTo>
                <a:lnTo>
                  <a:pt x="128" y="26"/>
                </a:lnTo>
                <a:lnTo>
                  <a:pt x="136" y="15"/>
                </a:lnTo>
                <a:lnTo>
                  <a:pt x="145" y="6"/>
                </a:lnTo>
                <a:lnTo>
                  <a:pt x="153" y="3"/>
                </a:lnTo>
                <a:lnTo>
                  <a:pt x="159" y="0"/>
                </a:lnTo>
                <a:lnTo>
                  <a:pt x="165" y="3"/>
                </a:lnTo>
                <a:lnTo>
                  <a:pt x="168" y="6"/>
                </a:lnTo>
                <a:lnTo>
                  <a:pt x="168" y="15"/>
                </a:lnTo>
                <a:lnTo>
                  <a:pt x="165" y="20"/>
                </a:lnTo>
                <a:lnTo>
                  <a:pt x="165" y="26"/>
                </a:lnTo>
                <a:lnTo>
                  <a:pt x="162" y="26"/>
                </a:lnTo>
                <a:lnTo>
                  <a:pt x="156" y="35"/>
                </a:lnTo>
                <a:lnTo>
                  <a:pt x="151" y="43"/>
                </a:lnTo>
                <a:lnTo>
                  <a:pt x="153" y="54"/>
                </a:lnTo>
                <a:lnTo>
                  <a:pt x="156" y="57"/>
                </a:lnTo>
                <a:lnTo>
                  <a:pt x="162" y="63"/>
                </a:lnTo>
                <a:lnTo>
                  <a:pt x="170" y="69"/>
                </a:lnTo>
                <a:lnTo>
                  <a:pt x="182" y="74"/>
                </a:lnTo>
                <a:lnTo>
                  <a:pt x="190" y="80"/>
                </a:lnTo>
                <a:lnTo>
                  <a:pt x="199" y="83"/>
                </a:lnTo>
                <a:lnTo>
                  <a:pt x="204" y="86"/>
                </a:lnTo>
                <a:lnTo>
                  <a:pt x="207" y="86"/>
                </a:lnTo>
                <a:lnTo>
                  <a:pt x="210" y="86"/>
                </a:lnTo>
                <a:lnTo>
                  <a:pt x="219" y="83"/>
                </a:lnTo>
                <a:lnTo>
                  <a:pt x="224" y="80"/>
                </a:lnTo>
                <a:lnTo>
                  <a:pt x="230" y="80"/>
                </a:lnTo>
                <a:lnTo>
                  <a:pt x="238" y="80"/>
                </a:lnTo>
                <a:lnTo>
                  <a:pt x="250" y="80"/>
                </a:lnTo>
                <a:lnTo>
                  <a:pt x="258" y="77"/>
                </a:lnTo>
                <a:lnTo>
                  <a:pt x="269" y="77"/>
                </a:lnTo>
                <a:lnTo>
                  <a:pt x="281" y="77"/>
                </a:lnTo>
                <a:lnTo>
                  <a:pt x="292" y="77"/>
                </a:lnTo>
                <a:lnTo>
                  <a:pt x="303" y="77"/>
                </a:lnTo>
                <a:lnTo>
                  <a:pt x="318" y="80"/>
                </a:lnTo>
                <a:lnTo>
                  <a:pt x="329" y="80"/>
                </a:lnTo>
                <a:lnTo>
                  <a:pt x="343" y="83"/>
                </a:lnTo>
                <a:lnTo>
                  <a:pt x="354" y="86"/>
                </a:lnTo>
                <a:lnTo>
                  <a:pt x="366" y="88"/>
                </a:lnTo>
                <a:lnTo>
                  <a:pt x="377" y="88"/>
                </a:lnTo>
                <a:lnTo>
                  <a:pt x="388" y="91"/>
                </a:lnTo>
                <a:lnTo>
                  <a:pt x="397" y="94"/>
                </a:lnTo>
                <a:lnTo>
                  <a:pt x="408" y="97"/>
                </a:lnTo>
                <a:lnTo>
                  <a:pt x="414" y="100"/>
                </a:lnTo>
                <a:lnTo>
                  <a:pt x="422" y="100"/>
                </a:lnTo>
                <a:lnTo>
                  <a:pt x="431" y="103"/>
                </a:lnTo>
                <a:lnTo>
                  <a:pt x="434" y="106"/>
                </a:lnTo>
                <a:lnTo>
                  <a:pt x="439" y="106"/>
                </a:lnTo>
                <a:lnTo>
                  <a:pt x="445" y="108"/>
                </a:lnTo>
                <a:lnTo>
                  <a:pt x="445" y="111"/>
                </a:lnTo>
                <a:lnTo>
                  <a:pt x="445" y="117"/>
                </a:lnTo>
                <a:lnTo>
                  <a:pt x="437" y="117"/>
                </a:lnTo>
                <a:lnTo>
                  <a:pt x="425" y="117"/>
                </a:lnTo>
                <a:lnTo>
                  <a:pt x="417" y="117"/>
                </a:lnTo>
                <a:lnTo>
                  <a:pt x="411" y="117"/>
                </a:lnTo>
                <a:lnTo>
                  <a:pt x="403" y="114"/>
                </a:lnTo>
                <a:lnTo>
                  <a:pt x="394" y="114"/>
                </a:lnTo>
                <a:lnTo>
                  <a:pt x="388" y="114"/>
                </a:lnTo>
                <a:lnTo>
                  <a:pt x="380" y="111"/>
                </a:lnTo>
                <a:lnTo>
                  <a:pt x="371" y="111"/>
                </a:lnTo>
                <a:lnTo>
                  <a:pt x="369" y="111"/>
                </a:lnTo>
                <a:lnTo>
                  <a:pt x="360" y="111"/>
                </a:lnTo>
                <a:lnTo>
                  <a:pt x="357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23"/>
          <p:cNvSpPr/>
          <p:nvPr/>
        </p:nvSpPr>
        <p:spPr>
          <a:xfrm>
            <a:off x="5064120" y="4237200"/>
            <a:ext cx="4867200" cy="2971800"/>
          </a:xfrm>
          <a:custGeom>
            <a:avLst/>
            <a:gdLst>
              <a:gd name="textAreaLeft" fmla="*/ 0 w 4867200"/>
              <a:gd name="textAreaRight" fmla="*/ 4867560 w 48672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3549" h="2127">
                <a:moveTo>
                  <a:pt x="1790" y="420"/>
                </a:moveTo>
                <a:lnTo>
                  <a:pt x="1793" y="420"/>
                </a:lnTo>
                <a:lnTo>
                  <a:pt x="1799" y="420"/>
                </a:lnTo>
                <a:lnTo>
                  <a:pt x="1807" y="423"/>
                </a:lnTo>
                <a:lnTo>
                  <a:pt x="1816" y="423"/>
                </a:lnTo>
                <a:lnTo>
                  <a:pt x="1824" y="426"/>
                </a:lnTo>
                <a:lnTo>
                  <a:pt x="1836" y="429"/>
                </a:lnTo>
                <a:lnTo>
                  <a:pt x="1850" y="432"/>
                </a:lnTo>
                <a:lnTo>
                  <a:pt x="1858" y="434"/>
                </a:lnTo>
                <a:lnTo>
                  <a:pt x="1870" y="440"/>
                </a:lnTo>
                <a:lnTo>
                  <a:pt x="1881" y="443"/>
                </a:lnTo>
                <a:lnTo>
                  <a:pt x="1892" y="446"/>
                </a:lnTo>
                <a:lnTo>
                  <a:pt x="1901" y="451"/>
                </a:lnTo>
                <a:lnTo>
                  <a:pt x="1909" y="457"/>
                </a:lnTo>
                <a:lnTo>
                  <a:pt x="1915" y="463"/>
                </a:lnTo>
                <a:lnTo>
                  <a:pt x="1921" y="468"/>
                </a:lnTo>
                <a:lnTo>
                  <a:pt x="2062" y="486"/>
                </a:lnTo>
                <a:lnTo>
                  <a:pt x="2059" y="486"/>
                </a:lnTo>
                <a:lnTo>
                  <a:pt x="2056" y="488"/>
                </a:lnTo>
                <a:lnTo>
                  <a:pt x="2051" y="494"/>
                </a:lnTo>
                <a:lnTo>
                  <a:pt x="2045" y="500"/>
                </a:lnTo>
                <a:lnTo>
                  <a:pt x="2034" y="505"/>
                </a:lnTo>
                <a:lnTo>
                  <a:pt x="2025" y="514"/>
                </a:lnTo>
                <a:lnTo>
                  <a:pt x="2011" y="525"/>
                </a:lnTo>
                <a:lnTo>
                  <a:pt x="2000" y="537"/>
                </a:lnTo>
                <a:lnTo>
                  <a:pt x="1991" y="539"/>
                </a:lnTo>
                <a:lnTo>
                  <a:pt x="1983" y="548"/>
                </a:lnTo>
                <a:lnTo>
                  <a:pt x="1977" y="551"/>
                </a:lnTo>
                <a:lnTo>
                  <a:pt x="1969" y="559"/>
                </a:lnTo>
                <a:lnTo>
                  <a:pt x="1960" y="565"/>
                </a:lnTo>
                <a:lnTo>
                  <a:pt x="1952" y="571"/>
                </a:lnTo>
                <a:lnTo>
                  <a:pt x="1943" y="579"/>
                </a:lnTo>
                <a:lnTo>
                  <a:pt x="1935" y="588"/>
                </a:lnTo>
                <a:lnTo>
                  <a:pt x="1926" y="593"/>
                </a:lnTo>
                <a:lnTo>
                  <a:pt x="1915" y="602"/>
                </a:lnTo>
                <a:lnTo>
                  <a:pt x="1906" y="608"/>
                </a:lnTo>
                <a:lnTo>
                  <a:pt x="1898" y="616"/>
                </a:lnTo>
                <a:lnTo>
                  <a:pt x="1887" y="625"/>
                </a:lnTo>
                <a:lnTo>
                  <a:pt x="1878" y="633"/>
                </a:lnTo>
                <a:lnTo>
                  <a:pt x="1870" y="642"/>
                </a:lnTo>
                <a:lnTo>
                  <a:pt x="1861" y="650"/>
                </a:lnTo>
                <a:lnTo>
                  <a:pt x="1850" y="656"/>
                </a:lnTo>
                <a:lnTo>
                  <a:pt x="1841" y="664"/>
                </a:lnTo>
                <a:lnTo>
                  <a:pt x="1830" y="673"/>
                </a:lnTo>
                <a:lnTo>
                  <a:pt x="1819" y="681"/>
                </a:lnTo>
                <a:lnTo>
                  <a:pt x="1810" y="687"/>
                </a:lnTo>
                <a:lnTo>
                  <a:pt x="1802" y="699"/>
                </a:lnTo>
                <a:lnTo>
                  <a:pt x="1790" y="704"/>
                </a:lnTo>
                <a:lnTo>
                  <a:pt x="1785" y="713"/>
                </a:lnTo>
                <a:lnTo>
                  <a:pt x="1773" y="721"/>
                </a:lnTo>
                <a:lnTo>
                  <a:pt x="1765" y="730"/>
                </a:lnTo>
                <a:lnTo>
                  <a:pt x="1756" y="738"/>
                </a:lnTo>
                <a:lnTo>
                  <a:pt x="1748" y="747"/>
                </a:lnTo>
                <a:lnTo>
                  <a:pt x="1736" y="752"/>
                </a:lnTo>
                <a:lnTo>
                  <a:pt x="1731" y="761"/>
                </a:lnTo>
                <a:lnTo>
                  <a:pt x="1722" y="770"/>
                </a:lnTo>
                <a:lnTo>
                  <a:pt x="1714" y="778"/>
                </a:lnTo>
                <a:lnTo>
                  <a:pt x="1705" y="784"/>
                </a:lnTo>
                <a:lnTo>
                  <a:pt x="1700" y="789"/>
                </a:lnTo>
                <a:lnTo>
                  <a:pt x="1691" y="795"/>
                </a:lnTo>
                <a:lnTo>
                  <a:pt x="1685" y="804"/>
                </a:lnTo>
                <a:lnTo>
                  <a:pt x="1671" y="815"/>
                </a:lnTo>
                <a:lnTo>
                  <a:pt x="1660" y="829"/>
                </a:lnTo>
                <a:lnTo>
                  <a:pt x="1651" y="841"/>
                </a:lnTo>
                <a:lnTo>
                  <a:pt x="1643" y="849"/>
                </a:lnTo>
                <a:lnTo>
                  <a:pt x="1637" y="860"/>
                </a:lnTo>
                <a:lnTo>
                  <a:pt x="1634" y="869"/>
                </a:lnTo>
                <a:lnTo>
                  <a:pt x="1634" y="866"/>
                </a:lnTo>
                <a:lnTo>
                  <a:pt x="1632" y="866"/>
                </a:lnTo>
                <a:lnTo>
                  <a:pt x="1626" y="866"/>
                </a:lnTo>
                <a:lnTo>
                  <a:pt x="1620" y="866"/>
                </a:lnTo>
                <a:lnTo>
                  <a:pt x="1612" y="863"/>
                </a:lnTo>
                <a:lnTo>
                  <a:pt x="1603" y="863"/>
                </a:lnTo>
                <a:lnTo>
                  <a:pt x="1592" y="860"/>
                </a:lnTo>
                <a:lnTo>
                  <a:pt x="1581" y="860"/>
                </a:lnTo>
                <a:lnTo>
                  <a:pt x="1564" y="860"/>
                </a:lnTo>
                <a:lnTo>
                  <a:pt x="1550" y="858"/>
                </a:lnTo>
                <a:lnTo>
                  <a:pt x="1533" y="858"/>
                </a:lnTo>
                <a:lnTo>
                  <a:pt x="1516" y="855"/>
                </a:lnTo>
                <a:lnTo>
                  <a:pt x="1496" y="852"/>
                </a:lnTo>
                <a:lnTo>
                  <a:pt x="1479" y="852"/>
                </a:lnTo>
                <a:lnTo>
                  <a:pt x="1456" y="849"/>
                </a:lnTo>
                <a:lnTo>
                  <a:pt x="1436" y="849"/>
                </a:lnTo>
                <a:lnTo>
                  <a:pt x="1411" y="846"/>
                </a:lnTo>
                <a:lnTo>
                  <a:pt x="1385" y="843"/>
                </a:lnTo>
                <a:lnTo>
                  <a:pt x="1360" y="841"/>
                </a:lnTo>
                <a:lnTo>
                  <a:pt x="1334" y="838"/>
                </a:lnTo>
                <a:lnTo>
                  <a:pt x="1306" y="838"/>
                </a:lnTo>
                <a:lnTo>
                  <a:pt x="1278" y="835"/>
                </a:lnTo>
                <a:lnTo>
                  <a:pt x="1249" y="832"/>
                </a:lnTo>
                <a:lnTo>
                  <a:pt x="1224" y="829"/>
                </a:lnTo>
                <a:lnTo>
                  <a:pt x="1193" y="826"/>
                </a:lnTo>
                <a:lnTo>
                  <a:pt x="1162" y="826"/>
                </a:lnTo>
                <a:lnTo>
                  <a:pt x="1130" y="821"/>
                </a:lnTo>
                <a:lnTo>
                  <a:pt x="1099" y="821"/>
                </a:lnTo>
                <a:lnTo>
                  <a:pt x="1068" y="818"/>
                </a:lnTo>
                <a:lnTo>
                  <a:pt x="1034" y="815"/>
                </a:lnTo>
                <a:lnTo>
                  <a:pt x="1003" y="812"/>
                </a:lnTo>
                <a:lnTo>
                  <a:pt x="972" y="812"/>
                </a:lnTo>
                <a:lnTo>
                  <a:pt x="938" y="806"/>
                </a:lnTo>
                <a:lnTo>
                  <a:pt x="904" y="806"/>
                </a:lnTo>
                <a:lnTo>
                  <a:pt x="870" y="804"/>
                </a:lnTo>
                <a:lnTo>
                  <a:pt x="836" y="801"/>
                </a:lnTo>
                <a:lnTo>
                  <a:pt x="802" y="798"/>
                </a:lnTo>
                <a:lnTo>
                  <a:pt x="771" y="798"/>
                </a:lnTo>
                <a:lnTo>
                  <a:pt x="737" y="795"/>
                </a:lnTo>
                <a:lnTo>
                  <a:pt x="703" y="795"/>
                </a:lnTo>
                <a:lnTo>
                  <a:pt x="669" y="792"/>
                </a:lnTo>
                <a:lnTo>
                  <a:pt x="635" y="789"/>
                </a:lnTo>
                <a:lnTo>
                  <a:pt x="601" y="787"/>
                </a:lnTo>
                <a:lnTo>
                  <a:pt x="567" y="787"/>
                </a:lnTo>
                <a:lnTo>
                  <a:pt x="536" y="784"/>
                </a:lnTo>
                <a:lnTo>
                  <a:pt x="504" y="784"/>
                </a:lnTo>
                <a:lnTo>
                  <a:pt x="473" y="781"/>
                </a:lnTo>
                <a:lnTo>
                  <a:pt x="442" y="781"/>
                </a:lnTo>
                <a:lnTo>
                  <a:pt x="411" y="781"/>
                </a:lnTo>
                <a:lnTo>
                  <a:pt x="380" y="778"/>
                </a:lnTo>
                <a:lnTo>
                  <a:pt x="351" y="778"/>
                </a:lnTo>
                <a:lnTo>
                  <a:pt x="323" y="778"/>
                </a:lnTo>
                <a:lnTo>
                  <a:pt x="295" y="778"/>
                </a:lnTo>
                <a:lnTo>
                  <a:pt x="267" y="778"/>
                </a:lnTo>
                <a:lnTo>
                  <a:pt x="241" y="778"/>
                </a:lnTo>
                <a:lnTo>
                  <a:pt x="216" y="778"/>
                </a:lnTo>
                <a:lnTo>
                  <a:pt x="190" y="778"/>
                </a:lnTo>
                <a:lnTo>
                  <a:pt x="167" y="778"/>
                </a:lnTo>
                <a:lnTo>
                  <a:pt x="145" y="778"/>
                </a:lnTo>
                <a:lnTo>
                  <a:pt x="122" y="781"/>
                </a:lnTo>
                <a:lnTo>
                  <a:pt x="102" y="781"/>
                </a:lnTo>
                <a:lnTo>
                  <a:pt x="85" y="784"/>
                </a:lnTo>
                <a:lnTo>
                  <a:pt x="65" y="784"/>
                </a:lnTo>
                <a:lnTo>
                  <a:pt x="51" y="787"/>
                </a:lnTo>
                <a:lnTo>
                  <a:pt x="485" y="457"/>
                </a:lnTo>
                <a:lnTo>
                  <a:pt x="677" y="460"/>
                </a:lnTo>
                <a:lnTo>
                  <a:pt x="700" y="437"/>
                </a:lnTo>
                <a:lnTo>
                  <a:pt x="530" y="437"/>
                </a:lnTo>
                <a:lnTo>
                  <a:pt x="1283" y="139"/>
                </a:lnTo>
                <a:lnTo>
                  <a:pt x="1300" y="102"/>
                </a:lnTo>
                <a:lnTo>
                  <a:pt x="470" y="420"/>
                </a:lnTo>
                <a:lnTo>
                  <a:pt x="459" y="451"/>
                </a:lnTo>
                <a:lnTo>
                  <a:pt x="456" y="451"/>
                </a:lnTo>
                <a:lnTo>
                  <a:pt x="453" y="454"/>
                </a:lnTo>
                <a:lnTo>
                  <a:pt x="445" y="457"/>
                </a:lnTo>
                <a:lnTo>
                  <a:pt x="439" y="466"/>
                </a:lnTo>
                <a:lnTo>
                  <a:pt x="428" y="471"/>
                </a:lnTo>
                <a:lnTo>
                  <a:pt x="417" y="480"/>
                </a:lnTo>
                <a:lnTo>
                  <a:pt x="408" y="483"/>
                </a:lnTo>
                <a:lnTo>
                  <a:pt x="400" y="491"/>
                </a:lnTo>
                <a:lnTo>
                  <a:pt x="394" y="494"/>
                </a:lnTo>
                <a:lnTo>
                  <a:pt x="388" y="503"/>
                </a:lnTo>
                <a:lnTo>
                  <a:pt x="377" y="505"/>
                </a:lnTo>
                <a:lnTo>
                  <a:pt x="368" y="514"/>
                </a:lnTo>
                <a:lnTo>
                  <a:pt x="360" y="517"/>
                </a:lnTo>
                <a:lnTo>
                  <a:pt x="351" y="525"/>
                </a:lnTo>
                <a:lnTo>
                  <a:pt x="340" y="531"/>
                </a:lnTo>
                <a:lnTo>
                  <a:pt x="332" y="537"/>
                </a:lnTo>
                <a:lnTo>
                  <a:pt x="320" y="545"/>
                </a:lnTo>
                <a:lnTo>
                  <a:pt x="312" y="554"/>
                </a:lnTo>
                <a:lnTo>
                  <a:pt x="301" y="559"/>
                </a:lnTo>
                <a:lnTo>
                  <a:pt x="292" y="568"/>
                </a:lnTo>
                <a:lnTo>
                  <a:pt x="281" y="576"/>
                </a:lnTo>
                <a:lnTo>
                  <a:pt x="272" y="582"/>
                </a:lnTo>
                <a:lnTo>
                  <a:pt x="261" y="591"/>
                </a:lnTo>
                <a:lnTo>
                  <a:pt x="250" y="599"/>
                </a:lnTo>
                <a:lnTo>
                  <a:pt x="238" y="605"/>
                </a:lnTo>
                <a:lnTo>
                  <a:pt x="230" y="613"/>
                </a:lnTo>
                <a:lnTo>
                  <a:pt x="218" y="622"/>
                </a:lnTo>
                <a:lnTo>
                  <a:pt x="207" y="630"/>
                </a:lnTo>
                <a:lnTo>
                  <a:pt x="196" y="636"/>
                </a:lnTo>
                <a:lnTo>
                  <a:pt x="184" y="645"/>
                </a:lnTo>
                <a:lnTo>
                  <a:pt x="173" y="653"/>
                </a:lnTo>
                <a:lnTo>
                  <a:pt x="165" y="659"/>
                </a:lnTo>
                <a:lnTo>
                  <a:pt x="153" y="667"/>
                </a:lnTo>
                <a:lnTo>
                  <a:pt x="145" y="676"/>
                </a:lnTo>
                <a:lnTo>
                  <a:pt x="133" y="681"/>
                </a:lnTo>
                <a:lnTo>
                  <a:pt x="122" y="690"/>
                </a:lnTo>
                <a:lnTo>
                  <a:pt x="114" y="696"/>
                </a:lnTo>
                <a:lnTo>
                  <a:pt x="105" y="704"/>
                </a:lnTo>
                <a:lnTo>
                  <a:pt x="94" y="710"/>
                </a:lnTo>
                <a:lnTo>
                  <a:pt x="85" y="716"/>
                </a:lnTo>
                <a:lnTo>
                  <a:pt x="80" y="721"/>
                </a:lnTo>
                <a:lnTo>
                  <a:pt x="71" y="730"/>
                </a:lnTo>
                <a:lnTo>
                  <a:pt x="63" y="735"/>
                </a:lnTo>
                <a:lnTo>
                  <a:pt x="54" y="741"/>
                </a:lnTo>
                <a:lnTo>
                  <a:pt x="48" y="744"/>
                </a:lnTo>
                <a:lnTo>
                  <a:pt x="40" y="752"/>
                </a:lnTo>
                <a:lnTo>
                  <a:pt x="29" y="761"/>
                </a:lnTo>
                <a:lnTo>
                  <a:pt x="20" y="770"/>
                </a:lnTo>
                <a:lnTo>
                  <a:pt x="12" y="775"/>
                </a:lnTo>
                <a:lnTo>
                  <a:pt x="6" y="784"/>
                </a:lnTo>
                <a:lnTo>
                  <a:pt x="0" y="787"/>
                </a:lnTo>
                <a:lnTo>
                  <a:pt x="3" y="789"/>
                </a:lnTo>
                <a:lnTo>
                  <a:pt x="3" y="795"/>
                </a:lnTo>
                <a:lnTo>
                  <a:pt x="6" y="804"/>
                </a:lnTo>
                <a:lnTo>
                  <a:pt x="6" y="812"/>
                </a:lnTo>
                <a:lnTo>
                  <a:pt x="12" y="818"/>
                </a:lnTo>
                <a:lnTo>
                  <a:pt x="14" y="823"/>
                </a:lnTo>
                <a:lnTo>
                  <a:pt x="17" y="829"/>
                </a:lnTo>
                <a:lnTo>
                  <a:pt x="23" y="829"/>
                </a:lnTo>
                <a:lnTo>
                  <a:pt x="31" y="829"/>
                </a:lnTo>
                <a:lnTo>
                  <a:pt x="34" y="826"/>
                </a:lnTo>
                <a:lnTo>
                  <a:pt x="40" y="826"/>
                </a:lnTo>
                <a:lnTo>
                  <a:pt x="48" y="826"/>
                </a:lnTo>
                <a:lnTo>
                  <a:pt x="60" y="826"/>
                </a:lnTo>
                <a:lnTo>
                  <a:pt x="63" y="823"/>
                </a:lnTo>
                <a:lnTo>
                  <a:pt x="71" y="823"/>
                </a:lnTo>
                <a:lnTo>
                  <a:pt x="80" y="823"/>
                </a:lnTo>
                <a:lnTo>
                  <a:pt x="88" y="823"/>
                </a:lnTo>
                <a:lnTo>
                  <a:pt x="94" y="823"/>
                </a:lnTo>
                <a:lnTo>
                  <a:pt x="105" y="823"/>
                </a:lnTo>
                <a:lnTo>
                  <a:pt x="114" y="823"/>
                </a:lnTo>
                <a:lnTo>
                  <a:pt x="125" y="823"/>
                </a:lnTo>
                <a:lnTo>
                  <a:pt x="133" y="821"/>
                </a:lnTo>
                <a:lnTo>
                  <a:pt x="145" y="821"/>
                </a:lnTo>
                <a:lnTo>
                  <a:pt x="156" y="821"/>
                </a:lnTo>
                <a:lnTo>
                  <a:pt x="167" y="821"/>
                </a:lnTo>
                <a:lnTo>
                  <a:pt x="179" y="818"/>
                </a:lnTo>
                <a:lnTo>
                  <a:pt x="190" y="818"/>
                </a:lnTo>
                <a:lnTo>
                  <a:pt x="201" y="818"/>
                </a:lnTo>
                <a:lnTo>
                  <a:pt x="216" y="818"/>
                </a:lnTo>
                <a:lnTo>
                  <a:pt x="227" y="818"/>
                </a:lnTo>
                <a:lnTo>
                  <a:pt x="241" y="818"/>
                </a:lnTo>
                <a:lnTo>
                  <a:pt x="252" y="818"/>
                </a:lnTo>
                <a:lnTo>
                  <a:pt x="269" y="818"/>
                </a:lnTo>
                <a:lnTo>
                  <a:pt x="284" y="818"/>
                </a:lnTo>
                <a:lnTo>
                  <a:pt x="295" y="818"/>
                </a:lnTo>
                <a:lnTo>
                  <a:pt x="309" y="818"/>
                </a:lnTo>
                <a:lnTo>
                  <a:pt x="326" y="818"/>
                </a:lnTo>
                <a:lnTo>
                  <a:pt x="337" y="815"/>
                </a:lnTo>
                <a:lnTo>
                  <a:pt x="351" y="815"/>
                </a:lnTo>
                <a:lnTo>
                  <a:pt x="366" y="815"/>
                </a:lnTo>
                <a:lnTo>
                  <a:pt x="380" y="815"/>
                </a:lnTo>
                <a:lnTo>
                  <a:pt x="394" y="815"/>
                </a:lnTo>
                <a:lnTo>
                  <a:pt x="408" y="815"/>
                </a:lnTo>
                <a:lnTo>
                  <a:pt x="422" y="815"/>
                </a:lnTo>
                <a:lnTo>
                  <a:pt x="436" y="815"/>
                </a:lnTo>
                <a:lnTo>
                  <a:pt x="451" y="815"/>
                </a:lnTo>
                <a:lnTo>
                  <a:pt x="465" y="815"/>
                </a:lnTo>
                <a:lnTo>
                  <a:pt x="479" y="815"/>
                </a:lnTo>
                <a:lnTo>
                  <a:pt x="493" y="815"/>
                </a:lnTo>
                <a:lnTo>
                  <a:pt x="504" y="815"/>
                </a:lnTo>
                <a:lnTo>
                  <a:pt x="519" y="815"/>
                </a:lnTo>
                <a:lnTo>
                  <a:pt x="533" y="815"/>
                </a:lnTo>
                <a:lnTo>
                  <a:pt x="547" y="815"/>
                </a:lnTo>
                <a:lnTo>
                  <a:pt x="558" y="815"/>
                </a:lnTo>
                <a:lnTo>
                  <a:pt x="570" y="815"/>
                </a:lnTo>
                <a:lnTo>
                  <a:pt x="584" y="815"/>
                </a:lnTo>
                <a:lnTo>
                  <a:pt x="595" y="815"/>
                </a:lnTo>
                <a:lnTo>
                  <a:pt x="606" y="815"/>
                </a:lnTo>
                <a:lnTo>
                  <a:pt x="618" y="815"/>
                </a:lnTo>
                <a:lnTo>
                  <a:pt x="629" y="815"/>
                </a:lnTo>
                <a:lnTo>
                  <a:pt x="640" y="815"/>
                </a:lnTo>
                <a:lnTo>
                  <a:pt x="652" y="815"/>
                </a:lnTo>
                <a:lnTo>
                  <a:pt x="660" y="815"/>
                </a:lnTo>
                <a:lnTo>
                  <a:pt x="672" y="815"/>
                </a:lnTo>
                <a:lnTo>
                  <a:pt x="680" y="815"/>
                </a:lnTo>
                <a:lnTo>
                  <a:pt x="689" y="815"/>
                </a:lnTo>
                <a:lnTo>
                  <a:pt x="697" y="818"/>
                </a:lnTo>
                <a:lnTo>
                  <a:pt x="706" y="818"/>
                </a:lnTo>
                <a:lnTo>
                  <a:pt x="714" y="818"/>
                </a:lnTo>
                <a:lnTo>
                  <a:pt x="720" y="818"/>
                </a:lnTo>
                <a:lnTo>
                  <a:pt x="728" y="818"/>
                </a:lnTo>
                <a:lnTo>
                  <a:pt x="734" y="818"/>
                </a:lnTo>
                <a:lnTo>
                  <a:pt x="745" y="818"/>
                </a:lnTo>
                <a:lnTo>
                  <a:pt x="754" y="818"/>
                </a:lnTo>
                <a:lnTo>
                  <a:pt x="765" y="821"/>
                </a:lnTo>
                <a:lnTo>
                  <a:pt x="776" y="821"/>
                </a:lnTo>
                <a:lnTo>
                  <a:pt x="790" y="823"/>
                </a:lnTo>
                <a:lnTo>
                  <a:pt x="802" y="823"/>
                </a:lnTo>
                <a:lnTo>
                  <a:pt x="813" y="823"/>
                </a:lnTo>
                <a:lnTo>
                  <a:pt x="830" y="823"/>
                </a:lnTo>
                <a:lnTo>
                  <a:pt x="844" y="826"/>
                </a:lnTo>
                <a:lnTo>
                  <a:pt x="858" y="826"/>
                </a:lnTo>
                <a:lnTo>
                  <a:pt x="873" y="826"/>
                </a:lnTo>
                <a:lnTo>
                  <a:pt x="890" y="826"/>
                </a:lnTo>
                <a:lnTo>
                  <a:pt x="907" y="829"/>
                </a:lnTo>
                <a:lnTo>
                  <a:pt x="921" y="829"/>
                </a:lnTo>
                <a:lnTo>
                  <a:pt x="941" y="832"/>
                </a:lnTo>
                <a:lnTo>
                  <a:pt x="955" y="832"/>
                </a:lnTo>
                <a:lnTo>
                  <a:pt x="975" y="835"/>
                </a:lnTo>
                <a:lnTo>
                  <a:pt x="992" y="835"/>
                </a:lnTo>
                <a:lnTo>
                  <a:pt x="1011" y="835"/>
                </a:lnTo>
                <a:lnTo>
                  <a:pt x="1028" y="838"/>
                </a:lnTo>
                <a:lnTo>
                  <a:pt x="1048" y="838"/>
                </a:lnTo>
                <a:lnTo>
                  <a:pt x="1065" y="841"/>
                </a:lnTo>
                <a:lnTo>
                  <a:pt x="1085" y="841"/>
                </a:lnTo>
                <a:lnTo>
                  <a:pt x="1105" y="843"/>
                </a:lnTo>
                <a:lnTo>
                  <a:pt x="1125" y="846"/>
                </a:lnTo>
                <a:lnTo>
                  <a:pt x="1142" y="846"/>
                </a:lnTo>
                <a:lnTo>
                  <a:pt x="1162" y="849"/>
                </a:lnTo>
                <a:lnTo>
                  <a:pt x="1181" y="849"/>
                </a:lnTo>
                <a:lnTo>
                  <a:pt x="1201" y="852"/>
                </a:lnTo>
                <a:lnTo>
                  <a:pt x="1221" y="852"/>
                </a:lnTo>
                <a:lnTo>
                  <a:pt x="1238" y="855"/>
                </a:lnTo>
                <a:lnTo>
                  <a:pt x="1258" y="858"/>
                </a:lnTo>
                <a:lnTo>
                  <a:pt x="1278" y="860"/>
                </a:lnTo>
                <a:lnTo>
                  <a:pt x="1295" y="860"/>
                </a:lnTo>
                <a:lnTo>
                  <a:pt x="1312" y="860"/>
                </a:lnTo>
                <a:lnTo>
                  <a:pt x="1331" y="863"/>
                </a:lnTo>
                <a:lnTo>
                  <a:pt x="1351" y="866"/>
                </a:lnTo>
                <a:lnTo>
                  <a:pt x="1365" y="866"/>
                </a:lnTo>
                <a:lnTo>
                  <a:pt x="1385" y="869"/>
                </a:lnTo>
                <a:lnTo>
                  <a:pt x="1402" y="872"/>
                </a:lnTo>
                <a:lnTo>
                  <a:pt x="1419" y="872"/>
                </a:lnTo>
                <a:lnTo>
                  <a:pt x="1436" y="875"/>
                </a:lnTo>
                <a:lnTo>
                  <a:pt x="1450" y="877"/>
                </a:lnTo>
                <a:lnTo>
                  <a:pt x="1467" y="877"/>
                </a:lnTo>
                <a:lnTo>
                  <a:pt x="1482" y="880"/>
                </a:lnTo>
                <a:lnTo>
                  <a:pt x="1496" y="880"/>
                </a:lnTo>
                <a:lnTo>
                  <a:pt x="1510" y="883"/>
                </a:lnTo>
                <a:lnTo>
                  <a:pt x="1521" y="886"/>
                </a:lnTo>
                <a:lnTo>
                  <a:pt x="1535" y="889"/>
                </a:lnTo>
                <a:lnTo>
                  <a:pt x="1547" y="889"/>
                </a:lnTo>
                <a:lnTo>
                  <a:pt x="1561" y="892"/>
                </a:lnTo>
                <a:lnTo>
                  <a:pt x="1572" y="892"/>
                </a:lnTo>
                <a:lnTo>
                  <a:pt x="1584" y="894"/>
                </a:lnTo>
                <a:lnTo>
                  <a:pt x="1592" y="897"/>
                </a:lnTo>
                <a:lnTo>
                  <a:pt x="1600" y="900"/>
                </a:lnTo>
                <a:lnTo>
                  <a:pt x="1606" y="900"/>
                </a:lnTo>
                <a:lnTo>
                  <a:pt x="1615" y="903"/>
                </a:lnTo>
                <a:lnTo>
                  <a:pt x="1620" y="903"/>
                </a:lnTo>
                <a:lnTo>
                  <a:pt x="1629" y="906"/>
                </a:lnTo>
                <a:lnTo>
                  <a:pt x="1632" y="909"/>
                </a:lnTo>
                <a:lnTo>
                  <a:pt x="1637" y="912"/>
                </a:lnTo>
                <a:lnTo>
                  <a:pt x="1637" y="909"/>
                </a:lnTo>
                <a:lnTo>
                  <a:pt x="1643" y="903"/>
                </a:lnTo>
                <a:lnTo>
                  <a:pt x="1649" y="897"/>
                </a:lnTo>
                <a:lnTo>
                  <a:pt x="1660" y="892"/>
                </a:lnTo>
                <a:lnTo>
                  <a:pt x="1666" y="883"/>
                </a:lnTo>
                <a:lnTo>
                  <a:pt x="1671" y="877"/>
                </a:lnTo>
                <a:lnTo>
                  <a:pt x="1680" y="872"/>
                </a:lnTo>
                <a:lnTo>
                  <a:pt x="1685" y="863"/>
                </a:lnTo>
                <a:lnTo>
                  <a:pt x="1694" y="855"/>
                </a:lnTo>
                <a:lnTo>
                  <a:pt x="1702" y="849"/>
                </a:lnTo>
                <a:lnTo>
                  <a:pt x="1711" y="838"/>
                </a:lnTo>
                <a:lnTo>
                  <a:pt x="1722" y="829"/>
                </a:lnTo>
                <a:lnTo>
                  <a:pt x="1725" y="821"/>
                </a:lnTo>
                <a:lnTo>
                  <a:pt x="1734" y="815"/>
                </a:lnTo>
                <a:lnTo>
                  <a:pt x="1739" y="806"/>
                </a:lnTo>
                <a:lnTo>
                  <a:pt x="1751" y="798"/>
                </a:lnTo>
                <a:lnTo>
                  <a:pt x="1762" y="787"/>
                </a:lnTo>
                <a:lnTo>
                  <a:pt x="1773" y="778"/>
                </a:lnTo>
                <a:lnTo>
                  <a:pt x="1779" y="772"/>
                </a:lnTo>
                <a:lnTo>
                  <a:pt x="1785" y="767"/>
                </a:lnTo>
                <a:lnTo>
                  <a:pt x="1793" y="761"/>
                </a:lnTo>
                <a:lnTo>
                  <a:pt x="1799" y="755"/>
                </a:lnTo>
                <a:lnTo>
                  <a:pt x="1807" y="747"/>
                </a:lnTo>
                <a:lnTo>
                  <a:pt x="1813" y="741"/>
                </a:lnTo>
                <a:lnTo>
                  <a:pt x="1819" y="735"/>
                </a:lnTo>
                <a:lnTo>
                  <a:pt x="1827" y="730"/>
                </a:lnTo>
                <a:lnTo>
                  <a:pt x="1836" y="721"/>
                </a:lnTo>
                <a:lnTo>
                  <a:pt x="1841" y="716"/>
                </a:lnTo>
                <a:lnTo>
                  <a:pt x="1850" y="710"/>
                </a:lnTo>
                <a:lnTo>
                  <a:pt x="1858" y="701"/>
                </a:lnTo>
                <a:lnTo>
                  <a:pt x="1867" y="696"/>
                </a:lnTo>
                <a:lnTo>
                  <a:pt x="1872" y="687"/>
                </a:lnTo>
                <a:lnTo>
                  <a:pt x="1884" y="679"/>
                </a:lnTo>
                <a:lnTo>
                  <a:pt x="1892" y="673"/>
                </a:lnTo>
                <a:lnTo>
                  <a:pt x="1898" y="667"/>
                </a:lnTo>
                <a:lnTo>
                  <a:pt x="1906" y="659"/>
                </a:lnTo>
                <a:lnTo>
                  <a:pt x="1915" y="653"/>
                </a:lnTo>
                <a:lnTo>
                  <a:pt x="1926" y="645"/>
                </a:lnTo>
                <a:lnTo>
                  <a:pt x="1932" y="639"/>
                </a:lnTo>
                <a:lnTo>
                  <a:pt x="1940" y="630"/>
                </a:lnTo>
                <a:lnTo>
                  <a:pt x="1946" y="625"/>
                </a:lnTo>
                <a:lnTo>
                  <a:pt x="1957" y="616"/>
                </a:lnTo>
                <a:lnTo>
                  <a:pt x="1963" y="610"/>
                </a:lnTo>
                <a:lnTo>
                  <a:pt x="1972" y="602"/>
                </a:lnTo>
                <a:lnTo>
                  <a:pt x="1977" y="596"/>
                </a:lnTo>
                <a:lnTo>
                  <a:pt x="1986" y="591"/>
                </a:lnTo>
                <a:lnTo>
                  <a:pt x="1991" y="582"/>
                </a:lnTo>
                <a:lnTo>
                  <a:pt x="2000" y="579"/>
                </a:lnTo>
                <a:lnTo>
                  <a:pt x="2008" y="571"/>
                </a:lnTo>
                <a:lnTo>
                  <a:pt x="2014" y="565"/>
                </a:lnTo>
                <a:lnTo>
                  <a:pt x="2028" y="554"/>
                </a:lnTo>
                <a:lnTo>
                  <a:pt x="2039" y="545"/>
                </a:lnTo>
                <a:lnTo>
                  <a:pt x="2051" y="534"/>
                </a:lnTo>
                <a:lnTo>
                  <a:pt x="2059" y="525"/>
                </a:lnTo>
                <a:lnTo>
                  <a:pt x="2068" y="520"/>
                </a:lnTo>
                <a:lnTo>
                  <a:pt x="2076" y="514"/>
                </a:lnTo>
                <a:lnTo>
                  <a:pt x="2088" y="505"/>
                </a:lnTo>
                <a:lnTo>
                  <a:pt x="2093" y="503"/>
                </a:lnTo>
                <a:lnTo>
                  <a:pt x="2090" y="505"/>
                </a:lnTo>
                <a:lnTo>
                  <a:pt x="2090" y="514"/>
                </a:lnTo>
                <a:lnTo>
                  <a:pt x="2090" y="520"/>
                </a:lnTo>
                <a:lnTo>
                  <a:pt x="2090" y="528"/>
                </a:lnTo>
                <a:lnTo>
                  <a:pt x="2088" y="537"/>
                </a:lnTo>
                <a:lnTo>
                  <a:pt x="2088" y="548"/>
                </a:lnTo>
                <a:lnTo>
                  <a:pt x="2088" y="559"/>
                </a:lnTo>
                <a:lnTo>
                  <a:pt x="2085" y="571"/>
                </a:lnTo>
                <a:lnTo>
                  <a:pt x="2085" y="585"/>
                </a:lnTo>
                <a:lnTo>
                  <a:pt x="2082" y="602"/>
                </a:lnTo>
                <a:lnTo>
                  <a:pt x="2082" y="616"/>
                </a:lnTo>
                <a:lnTo>
                  <a:pt x="2082" y="636"/>
                </a:lnTo>
                <a:lnTo>
                  <a:pt x="2079" y="653"/>
                </a:lnTo>
                <a:lnTo>
                  <a:pt x="2079" y="673"/>
                </a:lnTo>
                <a:lnTo>
                  <a:pt x="2076" y="690"/>
                </a:lnTo>
                <a:lnTo>
                  <a:pt x="2076" y="713"/>
                </a:lnTo>
                <a:lnTo>
                  <a:pt x="2073" y="733"/>
                </a:lnTo>
                <a:lnTo>
                  <a:pt x="2073" y="755"/>
                </a:lnTo>
                <a:lnTo>
                  <a:pt x="2071" y="778"/>
                </a:lnTo>
                <a:lnTo>
                  <a:pt x="2071" y="804"/>
                </a:lnTo>
                <a:lnTo>
                  <a:pt x="2068" y="826"/>
                </a:lnTo>
                <a:lnTo>
                  <a:pt x="2068" y="852"/>
                </a:lnTo>
                <a:lnTo>
                  <a:pt x="2065" y="877"/>
                </a:lnTo>
                <a:lnTo>
                  <a:pt x="2065" y="903"/>
                </a:lnTo>
                <a:lnTo>
                  <a:pt x="2062" y="929"/>
                </a:lnTo>
                <a:lnTo>
                  <a:pt x="2062" y="957"/>
                </a:lnTo>
                <a:lnTo>
                  <a:pt x="2059" y="983"/>
                </a:lnTo>
                <a:lnTo>
                  <a:pt x="2059" y="1011"/>
                </a:lnTo>
                <a:lnTo>
                  <a:pt x="2056" y="1039"/>
                </a:lnTo>
                <a:lnTo>
                  <a:pt x="2056" y="1068"/>
                </a:lnTo>
                <a:lnTo>
                  <a:pt x="2054" y="1096"/>
                </a:lnTo>
                <a:lnTo>
                  <a:pt x="2054" y="1125"/>
                </a:lnTo>
                <a:lnTo>
                  <a:pt x="2051" y="1150"/>
                </a:lnTo>
                <a:lnTo>
                  <a:pt x="2051" y="1181"/>
                </a:lnTo>
                <a:lnTo>
                  <a:pt x="2048" y="1207"/>
                </a:lnTo>
                <a:lnTo>
                  <a:pt x="2048" y="1235"/>
                </a:lnTo>
                <a:lnTo>
                  <a:pt x="2045" y="1267"/>
                </a:lnTo>
                <a:lnTo>
                  <a:pt x="2045" y="1295"/>
                </a:lnTo>
                <a:lnTo>
                  <a:pt x="2042" y="1320"/>
                </a:lnTo>
                <a:lnTo>
                  <a:pt x="2042" y="1349"/>
                </a:lnTo>
                <a:lnTo>
                  <a:pt x="2042" y="1377"/>
                </a:lnTo>
                <a:lnTo>
                  <a:pt x="2042" y="1406"/>
                </a:lnTo>
                <a:lnTo>
                  <a:pt x="2039" y="1431"/>
                </a:lnTo>
                <a:lnTo>
                  <a:pt x="2039" y="1460"/>
                </a:lnTo>
                <a:lnTo>
                  <a:pt x="2039" y="1485"/>
                </a:lnTo>
                <a:lnTo>
                  <a:pt x="2039" y="1514"/>
                </a:lnTo>
                <a:lnTo>
                  <a:pt x="2037" y="1536"/>
                </a:lnTo>
                <a:lnTo>
                  <a:pt x="2037" y="1562"/>
                </a:lnTo>
                <a:lnTo>
                  <a:pt x="2037" y="1587"/>
                </a:lnTo>
                <a:lnTo>
                  <a:pt x="2037" y="1610"/>
                </a:lnTo>
                <a:lnTo>
                  <a:pt x="2037" y="1633"/>
                </a:lnTo>
                <a:lnTo>
                  <a:pt x="2037" y="1656"/>
                </a:lnTo>
                <a:lnTo>
                  <a:pt x="2037" y="1678"/>
                </a:lnTo>
                <a:lnTo>
                  <a:pt x="2037" y="1701"/>
                </a:lnTo>
                <a:lnTo>
                  <a:pt x="2037" y="1718"/>
                </a:lnTo>
                <a:lnTo>
                  <a:pt x="2037" y="1741"/>
                </a:lnTo>
                <a:lnTo>
                  <a:pt x="2037" y="1758"/>
                </a:lnTo>
                <a:lnTo>
                  <a:pt x="2039" y="1775"/>
                </a:lnTo>
                <a:lnTo>
                  <a:pt x="2039" y="1792"/>
                </a:lnTo>
                <a:lnTo>
                  <a:pt x="2039" y="1806"/>
                </a:lnTo>
                <a:lnTo>
                  <a:pt x="2042" y="1820"/>
                </a:lnTo>
                <a:lnTo>
                  <a:pt x="2042" y="1834"/>
                </a:lnTo>
                <a:lnTo>
                  <a:pt x="2042" y="1846"/>
                </a:lnTo>
                <a:lnTo>
                  <a:pt x="2045" y="1857"/>
                </a:lnTo>
                <a:lnTo>
                  <a:pt x="2045" y="1869"/>
                </a:lnTo>
                <a:lnTo>
                  <a:pt x="2045" y="1880"/>
                </a:lnTo>
                <a:lnTo>
                  <a:pt x="2045" y="1891"/>
                </a:lnTo>
                <a:lnTo>
                  <a:pt x="2048" y="1903"/>
                </a:lnTo>
                <a:lnTo>
                  <a:pt x="2048" y="1911"/>
                </a:lnTo>
                <a:lnTo>
                  <a:pt x="2051" y="1923"/>
                </a:lnTo>
                <a:lnTo>
                  <a:pt x="2051" y="1934"/>
                </a:lnTo>
                <a:lnTo>
                  <a:pt x="2051" y="1942"/>
                </a:lnTo>
                <a:lnTo>
                  <a:pt x="2051" y="1951"/>
                </a:lnTo>
                <a:lnTo>
                  <a:pt x="2051" y="1959"/>
                </a:lnTo>
                <a:lnTo>
                  <a:pt x="2051" y="1965"/>
                </a:lnTo>
                <a:lnTo>
                  <a:pt x="2051" y="1976"/>
                </a:lnTo>
                <a:lnTo>
                  <a:pt x="2051" y="1982"/>
                </a:lnTo>
                <a:lnTo>
                  <a:pt x="2054" y="1991"/>
                </a:lnTo>
                <a:lnTo>
                  <a:pt x="2054" y="1999"/>
                </a:lnTo>
                <a:lnTo>
                  <a:pt x="2054" y="2005"/>
                </a:lnTo>
                <a:lnTo>
                  <a:pt x="2054" y="2011"/>
                </a:lnTo>
                <a:lnTo>
                  <a:pt x="2054" y="2019"/>
                </a:lnTo>
                <a:lnTo>
                  <a:pt x="2054" y="2030"/>
                </a:lnTo>
                <a:lnTo>
                  <a:pt x="2054" y="2042"/>
                </a:lnTo>
                <a:lnTo>
                  <a:pt x="2054" y="2050"/>
                </a:lnTo>
                <a:lnTo>
                  <a:pt x="2054" y="2062"/>
                </a:lnTo>
                <a:lnTo>
                  <a:pt x="2054" y="2067"/>
                </a:lnTo>
                <a:lnTo>
                  <a:pt x="2056" y="2076"/>
                </a:lnTo>
                <a:lnTo>
                  <a:pt x="2054" y="2087"/>
                </a:lnTo>
                <a:lnTo>
                  <a:pt x="2054" y="2099"/>
                </a:lnTo>
                <a:lnTo>
                  <a:pt x="2054" y="2104"/>
                </a:lnTo>
                <a:lnTo>
                  <a:pt x="2054" y="2113"/>
                </a:lnTo>
                <a:lnTo>
                  <a:pt x="2054" y="2116"/>
                </a:lnTo>
                <a:lnTo>
                  <a:pt x="2054" y="2118"/>
                </a:lnTo>
                <a:lnTo>
                  <a:pt x="2056" y="2118"/>
                </a:lnTo>
                <a:lnTo>
                  <a:pt x="2062" y="2121"/>
                </a:lnTo>
                <a:lnTo>
                  <a:pt x="2073" y="2124"/>
                </a:lnTo>
                <a:lnTo>
                  <a:pt x="2085" y="2127"/>
                </a:lnTo>
                <a:lnTo>
                  <a:pt x="2093" y="2127"/>
                </a:lnTo>
                <a:lnTo>
                  <a:pt x="2105" y="2127"/>
                </a:lnTo>
                <a:lnTo>
                  <a:pt x="2107" y="2124"/>
                </a:lnTo>
                <a:lnTo>
                  <a:pt x="2107" y="2118"/>
                </a:lnTo>
                <a:lnTo>
                  <a:pt x="2105" y="2113"/>
                </a:lnTo>
                <a:lnTo>
                  <a:pt x="2105" y="2104"/>
                </a:lnTo>
                <a:lnTo>
                  <a:pt x="2105" y="2093"/>
                </a:lnTo>
                <a:lnTo>
                  <a:pt x="2105" y="2087"/>
                </a:lnTo>
                <a:lnTo>
                  <a:pt x="2102" y="2076"/>
                </a:lnTo>
                <a:lnTo>
                  <a:pt x="2102" y="2067"/>
                </a:lnTo>
                <a:lnTo>
                  <a:pt x="2099" y="2053"/>
                </a:lnTo>
                <a:lnTo>
                  <a:pt x="2099" y="2042"/>
                </a:lnTo>
                <a:lnTo>
                  <a:pt x="2096" y="2025"/>
                </a:lnTo>
                <a:lnTo>
                  <a:pt x="2096" y="2011"/>
                </a:lnTo>
                <a:lnTo>
                  <a:pt x="2096" y="1996"/>
                </a:lnTo>
                <a:lnTo>
                  <a:pt x="2093" y="1976"/>
                </a:lnTo>
                <a:lnTo>
                  <a:pt x="2093" y="1959"/>
                </a:lnTo>
                <a:lnTo>
                  <a:pt x="2093" y="1942"/>
                </a:lnTo>
                <a:lnTo>
                  <a:pt x="2090" y="1920"/>
                </a:lnTo>
                <a:lnTo>
                  <a:pt x="2090" y="1900"/>
                </a:lnTo>
                <a:lnTo>
                  <a:pt x="2088" y="1877"/>
                </a:lnTo>
                <a:lnTo>
                  <a:pt x="2088" y="1854"/>
                </a:lnTo>
                <a:lnTo>
                  <a:pt x="2088" y="1832"/>
                </a:lnTo>
                <a:lnTo>
                  <a:pt x="2085" y="1806"/>
                </a:lnTo>
                <a:lnTo>
                  <a:pt x="2085" y="1783"/>
                </a:lnTo>
                <a:lnTo>
                  <a:pt x="2085" y="1758"/>
                </a:lnTo>
                <a:lnTo>
                  <a:pt x="2082" y="1729"/>
                </a:lnTo>
                <a:lnTo>
                  <a:pt x="2082" y="1704"/>
                </a:lnTo>
                <a:lnTo>
                  <a:pt x="2082" y="1675"/>
                </a:lnTo>
                <a:lnTo>
                  <a:pt x="2082" y="1647"/>
                </a:lnTo>
                <a:lnTo>
                  <a:pt x="2079" y="1619"/>
                </a:lnTo>
                <a:lnTo>
                  <a:pt x="2079" y="1590"/>
                </a:lnTo>
                <a:lnTo>
                  <a:pt x="2079" y="1562"/>
                </a:lnTo>
                <a:lnTo>
                  <a:pt x="2079" y="1533"/>
                </a:lnTo>
                <a:lnTo>
                  <a:pt x="2079" y="1502"/>
                </a:lnTo>
                <a:lnTo>
                  <a:pt x="2079" y="1471"/>
                </a:lnTo>
                <a:lnTo>
                  <a:pt x="2076" y="1440"/>
                </a:lnTo>
                <a:lnTo>
                  <a:pt x="2076" y="1409"/>
                </a:lnTo>
                <a:lnTo>
                  <a:pt x="2076" y="1374"/>
                </a:lnTo>
                <a:lnTo>
                  <a:pt x="2076" y="1343"/>
                </a:lnTo>
                <a:lnTo>
                  <a:pt x="2076" y="1312"/>
                </a:lnTo>
                <a:lnTo>
                  <a:pt x="2079" y="1281"/>
                </a:lnTo>
                <a:lnTo>
                  <a:pt x="2079" y="1247"/>
                </a:lnTo>
                <a:lnTo>
                  <a:pt x="2079" y="1215"/>
                </a:lnTo>
                <a:lnTo>
                  <a:pt x="2079" y="1181"/>
                </a:lnTo>
                <a:lnTo>
                  <a:pt x="2082" y="1150"/>
                </a:lnTo>
                <a:lnTo>
                  <a:pt x="2082" y="1116"/>
                </a:lnTo>
                <a:lnTo>
                  <a:pt x="2082" y="1085"/>
                </a:lnTo>
                <a:lnTo>
                  <a:pt x="2085" y="1051"/>
                </a:lnTo>
                <a:lnTo>
                  <a:pt x="2088" y="1019"/>
                </a:lnTo>
                <a:lnTo>
                  <a:pt x="2088" y="985"/>
                </a:lnTo>
                <a:lnTo>
                  <a:pt x="2090" y="954"/>
                </a:lnTo>
                <a:lnTo>
                  <a:pt x="2090" y="920"/>
                </a:lnTo>
                <a:lnTo>
                  <a:pt x="2093" y="889"/>
                </a:lnTo>
                <a:lnTo>
                  <a:pt x="2096" y="858"/>
                </a:lnTo>
                <a:lnTo>
                  <a:pt x="2099" y="826"/>
                </a:lnTo>
                <a:lnTo>
                  <a:pt x="2102" y="795"/>
                </a:lnTo>
                <a:lnTo>
                  <a:pt x="2105" y="764"/>
                </a:lnTo>
                <a:lnTo>
                  <a:pt x="2107" y="733"/>
                </a:lnTo>
                <a:lnTo>
                  <a:pt x="2113" y="701"/>
                </a:lnTo>
                <a:lnTo>
                  <a:pt x="2116" y="673"/>
                </a:lnTo>
                <a:lnTo>
                  <a:pt x="2122" y="645"/>
                </a:lnTo>
                <a:lnTo>
                  <a:pt x="2124" y="613"/>
                </a:lnTo>
                <a:lnTo>
                  <a:pt x="2130" y="588"/>
                </a:lnTo>
                <a:lnTo>
                  <a:pt x="2136" y="559"/>
                </a:lnTo>
                <a:lnTo>
                  <a:pt x="2141" y="534"/>
                </a:lnTo>
                <a:lnTo>
                  <a:pt x="2150" y="534"/>
                </a:lnTo>
                <a:lnTo>
                  <a:pt x="2153" y="534"/>
                </a:lnTo>
                <a:lnTo>
                  <a:pt x="2161" y="537"/>
                </a:lnTo>
                <a:lnTo>
                  <a:pt x="2167" y="537"/>
                </a:lnTo>
                <a:lnTo>
                  <a:pt x="2178" y="539"/>
                </a:lnTo>
                <a:lnTo>
                  <a:pt x="2184" y="539"/>
                </a:lnTo>
                <a:lnTo>
                  <a:pt x="2192" y="542"/>
                </a:lnTo>
                <a:lnTo>
                  <a:pt x="2204" y="545"/>
                </a:lnTo>
                <a:lnTo>
                  <a:pt x="2215" y="548"/>
                </a:lnTo>
                <a:lnTo>
                  <a:pt x="2226" y="551"/>
                </a:lnTo>
                <a:lnTo>
                  <a:pt x="2238" y="554"/>
                </a:lnTo>
                <a:lnTo>
                  <a:pt x="2249" y="557"/>
                </a:lnTo>
                <a:lnTo>
                  <a:pt x="2263" y="559"/>
                </a:lnTo>
                <a:lnTo>
                  <a:pt x="2275" y="562"/>
                </a:lnTo>
                <a:lnTo>
                  <a:pt x="2286" y="565"/>
                </a:lnTo>
                <a:lnTo>
                  <a:pt x="2297" y="568"/>
                </a:lnTo>
                <a:lnTo>
                  <a:pt x="2311" y="571"/>
                </a:lnTo>
                <a:lnTo>
                  <a:pt x="2323" y="574"/>
                </a:lnTo>
                <a:lnTo>
                  <a:pt x="2334" y="576"/>
                </a:lnTo>
                <a:lnTo>
                  <a:pt x="2348" y="579"/>
                </a:lnTo>
                <a:lnTo>
                  <a:pt x="2360" y="585"/>
                </a:lnTo>
                <a:lnTo>
                  <a:pt x="2371" y="588"/>
                </a:lnTo>
                <a:lnTo>
                  <a:pt x="2382" y="591"/>
                </a:lnTo>
                <a:lnTo>
                  <a:pt x="2391" y="593"/>
                </a:lnTo>
                <a:lnTo>
                  <a:pt x="2402" y="596"/>
                </a:lnTo>
                <a:lnTo>
                  <a:pt x="2411" y="599"/>
                </a:lnTo>
                <a:lnTo>
                  <a:pt x="2419" y="602"/>
                </a:lnTo>
                <a:lnTo>
                  <a:pt x="2425" y="608"/>
                </a:lnTo>
                <a:lnTo>
                  <a:pt x="2433" y="610"/>
                </a:lnTo>
                <a:lnTo>
                  <a:pt x="2439" y="613"/>
                </a:lnTo>
                <a:lnTo>
                  <a:pt x="2444" y="616"/>
                </a:lnTo>
                <a:lnTo>
                  <a:pt x="2453" y="622"/>
                </a:lnTo>
                <a:lnTo>
                  <a:pt x="2461" y="625"/>
                </a:lnTo>
                <a:lnTo>
                  <a:pt x="2467" y="630"/>
                </a:lnTo>
                <a:lnTo>
                  <a:pt x="2476" y="636"/>
                </a:lnTo>
                <a:lnTo>
                  <a:pt x="2487" y="642"/>
                </a:lnTo>
                <a:lnTo>
                  <a:pt x="2495" y="647"/>
                </a:lnTo>
                <a:lnTo>
                  <a:pt x="2504" y="653"/>
                </a:lnTo>
                <a:lnTo>
                  <a:pt x="2515" y="659"/>
                </a:lnTo>
                <a:lnTo>
                  <a:pt x="2524" y="667"/>
                </a:lnTo>
                <a:lnTo>
                  <a:pt x="2532" y="673"/>
                </a:lnTo>
                <a:lnTo>
                  <a:pt x="2541" y="679"/>
                </a:lnTo>
                <a:lnTo>
                  <a:pt x="2552" y="687"/>
                </a:lnTo>
                <a:lnTo>
                  <a:pt x="2561" y="693"/>
                </a:lnTo>
                <a:lnTo>
                  <a:pt x="2572" y="701"/>
                </a:lnTo>
                <a:lnTo>
                  <a:pt x="2580" y="707"/>
                </a:lnTo>
                <a:lnTo>
                  <a:pt x="2589" y="713"/>
                </a:lnTo>
                <a:lnTo>
                  <a:pt x="2597" y="718"/>
                </a:lnTo>
                <a:lnTo>
                  <a:pt x="2609" y="724"/>
                </a:lnTo>
                <a:lnTo>
                  <a:pt x="2617" y="730"/>
                </a:lnTo>
                <a:lnTo>
                  <a:pt x="2626" y="735"/>
                </a:lnTo>
                <a:lnTo>
                  <a:pt x="2634" y="741"/>
                </a:lnTo>
                <a:lnTo>
                  <a:pt x="2643" y="744"/>
                </a:lnTo>
                <a:lnTo>
                  <a:pt x="2648" y="747"/>
                </a:lnTo>
                <a:lnTo>
                  <a:pt x="2654" y="752"/>
                </a:lnTo>
                <a:lnTo>
                  <a:pt x="2663" y="752"/>
                </a:lnTo>
                <a:lnTo>
                  <a:pt x="2668" y="758"/>
                </a:lnTo>
                <a:lnTo>
                  <a:pt x="2680" y="761"/>
                </a:lnTo>
                <a:lnTo>
                  <a:pt x="2688" y="761"/>
                </a:lnTo>
                <a:lnTo>
                  <a:pt x="2691" y="758"/>
                </a:lnTo>
                <a:lnTo>
                  <a:pt x="2697" y="755"/>
                </a:lnTo>
                <a:lnTo>
                  <a:pt x="2702" y="750"/>
                </a:lnTo>
                <a:lnTo>
                  <a:pt x="2711" y="747"/>
                </a:lnTo>
                <a:lnTo>
                  <a:pt x="2719" y="741"/>
                </a:lnTo>
                <a:lnTo>
                  <a:pt x="2731" y="735"/>
                </a:lnTo>
                <a:lnTo>
                  <a:pt x="2739" y="727"/>
                </a:lnTo>
                <a:lnTo>
                  <a:pt x="2750" y="721"/>
                </a:lnTo>
                <a:lnTo>
                  <a:pt x="2762" y="713"/>
                </a:lnTo>
                <a:lnTo>
                  <a:pt x="2776" y="704"/>
                </a:lnTo>
                <a:lnTo>
                  <a:pt x="2784" y="699"/>
                </a:lnTo>
                <a:lnTo>
                  <a:pt x="2790" y="696"/>
                </a:lnTo>
                <a:lnTo>
                  <a:pt x="2799" y="690"/>
                </a:lnTo>
                <a:lnTo>
                  <a:pt x="2804" y="687"/>
                </a:lnTo>
                <a:lnTo>
                  <a:pt x="2813" y="681"/>
                </a:lnTo>
                <a:lnTo>
                  <a:pt x="2818" y="676"/>
                </a:lnTo>
                <a:lnTo>
                  <a:pt x="2827" y="670"/>
                </a:lnTo>
                <a:lnTo>
                  <a:pt x="2835" y="667"/>
                </a:lnTo>
                <a:lnTo>
                  <a:pt x="2841" y="662"/>
                </a:lnTo>
                <a:lnTo>
                  <a:pt x="2849" y="656"/>
                </a:lnTo>
                <a:lnTo>
                  <a:pt x="2858" y="653"/>
                </a:lnTo>
                <a:lnTo>
                  <a:pt x="2866" y="647"/>
                </a:lnTo>
                <a:lnTo>
                  <a:pt x="2875" y="642"/>
                </a:lnTo>
                <a:lnTo>
                  <a:pt x="2881" y="636"/>
                </a:lnTo>
                <a:lnTo>
                  <a:pt x="2889" y="633"/>
                </a:lnTo>
                <a:lnTo>
                  <a:pt x="2898" y="628"/>
                </a:lnTo>
                <a:lnTo>
                  <a:pt x="2903" y="622"/>
                </a:lnTo>
                <a:lnTo>
                  <a:pt x="2912" y="616"/>
                </a:lnTo>
                <a:lnTo>
                  <a:pt x="2920" y="610"/>
                </a:lnTo>
                <a:lnTo>
                  <a:pt x="2929" y="608"/>
                </a:lnTo>
                <a:lnTo>
                  <a:pt x="2937" y="602"/>
                </a:lnTo>
                <a:lnTo>
                  <a:pt x="2943" y="596"/>
                </a:lnTo>
                <a:lnTo>
                  <a:pt x="2951" y="591"/>
                </a:lnTo>
                <a:lnTo>
                  <a:pt x="2960" y="588"/>
                </a:lnTo>
                <a:lnTo>
                  <a:pt x="2966" y="582"/>
                </a:lnTo>
                <a:lnTo>
                  <a:pt x="2974" y="579"/>
                </a:lnTo>
                <a:lnTo>
                  <a:pt x="2983" y="574"/>
                </a:lnTo>
                <a:lnTo>
                  <a:pt x="2988" y="571"/>
                </a:lnTo>
                <a:lnTo>
                  <a:pt x="3002" y="562"/>
                </a:lnTo>
                <a:lnTo>
                  <a:pt x="3017" y="554"/>
                </a:lnTo>
                <a:lnTo>
                  <a:pt x="3028" y="548"/>
                </a:lnTo>
                <a:lnTo>
                  <a:pt x="3042" y="539"/>
                </a:lnTo>
                <a:lnTo>
                  <a:pt x="3051" y="534"/>
                </a:lnTo>
                <a:lnTo>
                  <a:pt x="3062" y="528"/>
                </a:lnTo>
                <a:lnTo>
                  <a:pt x="3070" y="525"/>
                </a:lnTo>
                <a:lnTo>
                  <a:pt x="3082" y="522"/>
                </a:lnTo>
                <a:lnTo>
                  <a:pt x="3090" y="520"/>
                </a:lnTo>
                <a:lnTo>
                  <a:pt x="3099" y="514"/>
                </a:lnTo>
                <a:lnTo>
                  <a:pt x="3110" y="508"/>
                </a:lnTo>
                <a:lnTo>
                  <a:pt x="3124" y="505"/>
                </a:lnTo>
                <a:lnTo>
                  <a:pt x="3130" y="500"/>
                </a:lnTo>
                <a:lnTo>
                  <a:pt x="3136" y="497"/>
                </a:lnTo>
                <a:lnTo>
                  <a:pt x="3144" y="494"/>
                </a:lnTo>
                <a:lnTo>
                  <a:pt x="3153" y="491"/>
                </a:lnTo>
                <a:lnTo>
                  <a:pt x="3161" y="486"/>
                </a:lnTo>
                <a:lnTo>
                  <a:pt x="3167" y="483"/>
                </a:lnTo>
                <a:lnTo>
                  <a:pt x="3175" y="480"/>
                </a:lnTo>
                <a:lnTo>
                  <a:pt x="3187" y="474"/>
                </a:lnTo>
                <a:lnTo>
                  <a:pt x="3192" y="471"/>
                </a:lnTo>
                <a:lnTo>
                  <a:pt x="3201" y="466"/>
                </a:lnTo>
                <a:lnTo>
                  <a:pt x="3209" y="463"/>
                </a:lnTo>
                <a:lnTo>
                  <a:pt x="3218" y="457"/>
                </a:lnTo>
                <a:lnTo>
                  <a:pt x="3229" y="451"/>
                </a:lnTo>
                <a:lnTo>
                  <a:pt x="3238" y="449"/>
                </a:lnTo>
                <a:lnTo>
                  <a:pt x="3246" y="443"/>
                </a:lnTo>
                <a:lnTo>
                  <a:pt x="3257" y="440"/>
                </a:lnTo>
                <a:lnTo>
                  <a:pt x="3266" y="434"/>
                </a:lnTo>
                <a:lnTo>
                  <a:pt x="3274" y="432"/>
                </a:lnTo>
                <a:lnTo>
                  <a:pt x="3283" y="426"/>
                </a:lnTo>
                <a:lnTo>
                  <a:pt x="3294" y="420"/>
                </a:lnTo>
                <a:lnTo>
                  <a:pt x="3303" y="417"/>
                </a:lnTo>
                <a:lnTo>
                  <a:pt x="3314" y="412"/>
                </a:lnTo>
                <a:lnTo>
                  <a:pt x="3322" y="406"/>
                </a:lnTo>
                <a:lnTo>
                  <a:pt x="3334" y="403"/>
                </a:lnTo>
                <a:lnTo>
                  <a:pt x="3342" y="397"/>
                </a:lnTo>
                <a:lnTo>
                  <a:pt x="3351" y="392"/>
                </a:lnTo>
                <a:lnTo>
                  <a:pt x="3359" y="389"/>
                </a:lnTo>
                <a:lnTo>
                  <a:pt x="3368" y="383"/>
                </a:lnTo>
                <a:lnTo>
                  <a:pt x="3376" y="378"/>
                </a:lnTo>
                <a:lnTo>
                  <a:pt x="3388" y="375"/>
                </a:lnTo>
                <a:lnTo>
                  <a:pt x="3393" y="369"/>
                </a:lnTo>
                <a:lnTo>
                  <a:pt x="3405" y="366"/>
                </a:lnTo>
                <a:lnTo>
                  <a:pt x="3410" y="361"/>
                </a:lnTo>
                <a:lnTo>
                  <a:pt x="3419" y="355"/>
                </a:lnTo>
                <a:lnTo>
                  <a:pt x="3427" y="352"/>
                </a:lnTo>
                <a:lnTo>
                  <a:pt x="3436" y="346"/>
                </a:lnTo>
                <a:lnTo>
                  <a:pt x="3444" y="344"/>
                </a:lnTo>
                <a:lnTo>
                  <a:pt x="3453" y="341"/>
                </a:lnTo>
                <a:lnTo>
                  <a:pt x="3458" y="335"/>
                </a:lnTo>
                <a:lnTo>
                  <a:pt x="3467" y="332"/>
                </a:lnTo>
                <a:lnTo>
                  <a:pt x="3478" y="324"/>
                </a:lnTo>
                <a:lnTo>
                  <a:pt x="3490" y="318"/>
                </a:lnTo>
                <a:lnTo>
                  <a:pt x="3501" y="312"/>
                </a:lnTo>
                <a:lnTo>
                  <a:pt x="3509" y="307"/>
                </a:lnTo>
                <a:lnTo>
                  <a:pt x="3518" y="301"/>
                </a:lnTo>
                <a:lnTo>
                  <a:pt x="3524" y="298"/>
                </a:lnTo>
                <a:lnTo>
                  <a:pt x="3529" y="295"/>
                </a:lnTo>
                <a:lnTo>
                  <a:pt x="3532" y="295"/>
                </a:lnTo>
                <a:lnTo>
                  <a:pt x="3535" y="287"/>
                </a:lnTo>
                <a:lnTo>
                  <a:pt x="3541" y="281"/>
                </a:lnTo>
                <a:lnTo>
                  <a:pt x="3543" y="273"/>
                </a:lnTo>
                <a:lnTo>
                  <a:pt x="3546" y="264"/>
                </a:lnTo>
                <a:lnTo>
                  <a:pt x="3546" y="258"/>
                </a:lnTo>
                <a:lnTo>
                  <a:pt x="3546" y="250"/>
                </a:lnTo>
                <a:lnTo>
                  <a:pt x="3546" y="247"/>
                </a:lnTo>
                <a:lnTo>
                  <a:pt x="3549" y="247"/>
                </a:lnTo>
                <a:lnTo>
                  <a:pt x="3546" y="247"/>
                </a:lnTo>
                <a:lnTo>
                  <a:pt x="3543" y="250"/>
                </a:lnTo>
                <a:lnTo>
                  <a:pt x="3535" y="256"/>
                </a:lnTo>
                <a:lnTo>
                  <a:pt x="3526" y="261"/>
                </a:lnTo>
                <a:lnTo>
                  <a:pt x="3521" y="267"/>
                </a:lnTo>
                <a:lnTo>
                  <a:pt x="3515" y="270"/>
                </a:lnTo>
                <a:lnTo>
                  <a:pt x="3507" y="275"/>
                </a:lnTo>
                <a:lnTo>
                  <a:pt x="3501" y="281"/>
                </a:lnTo>
                <a:lnTo>
                  <a:pt x="3492" y="287"/>
                </a:lnTo>
                <a:lnTo>
                  <a:pt x="3484" y="292"/>
                </a:lnTo>
                <a:lnTo>
                  <a:pt x="3475" y="298"/>
                </a:lnTo>
                <a:lnTo>
                  <a:pt x="3467" y="304"/>
                </a:lnTo>
                <a:lnTo>
                  <a:pt x="3461" y="307"/>
                </a:lnTo>
                <a:lnTo>
                  <a:pt x="3453" y="312"/>
                </a:lnTo>
                <a:lnTo>
                  <a:pt x="3444" y="315"/>
                </a:lnTo>
                <a:lnTo>
                  <a:pt x="3436" y="321"/>
                </a:lnTo>
                <a:lnTo>
                  <a:pt x="3422" y="324"/>
                </a:lnTo>
                <a:lnTo>
                  <a:pt x="3410" y="332"/>
                </a:lnTo>
                <a:lnTo>
                  <a:pt x="3399" y="338"/>
                </a:lnTo>
                <a:lnTo>
                  <a:pt x="3385" y="344"/>
                </a:lnTo>
                <a:lnTo>
                  <a:pt x="3376" y="346"/>
                </a:lnTo>
                <a:lnTo>
                  <a:pt x="3371" y="352"/>
                </a:lnTo>
                <a:lnTo>
                  <a:pt x="3362" y="355"/>
                </a:lnTo>
                <a:lnTo>
                  <a:pt x="3356" y="358"/>
                </a:lnTo>
                <a:lnTo>
                  <a:pt x="3345" y="361"/>
                </a:lnTo>
                <a:lnTo>
                  <a:pt x="3339" y="366"/>
                </a:lnTo>
                <a:lnTo>
                  <a:pt x="3331" y="369"/>
                </a:lnTo>
                <a:lnTo>
                  <a:pt x="3322" y="372"/>
                </a:lnTo>
                <a:lnTo>
                  <a:pt x="3314" y="378"/>
                </a:lnTo>
                <a:lnTo>
                  <a:pt x="3305" y="380"/>
                </a:lnTo>
                <a:lnTo>
                  <a:pt x="3297" y="383"/>
                </a:lnTo>
                <a:lnTo>
                  <a:pt x="3288" y="389"/>
                </a:lnTo>
                <a:lnTo>
                  <a:pt x="3280" y="392"/>
                </a:lnTo>
                <a:lnTo>
                  <a:pt x="3271" y="397"/>
                </a:lnTo>
                <a:lnTo>
                  <a:pt x="3263" y="400"/>
                </a:lnTo>
                <a:lnTo>
                  <a:pt x="3255" y="406"/>
                </a:lnTo>
                <a:lnTo>
                  <a:pt x="3246" y="409"/>
                </a:lnTo>
                <a:lnTo>
                  <a:pt x="3238" y="412"/>
                </a:lnTo>
                <a:lnTo>
                  <a:pt x="3229" y="417"/>
                </a:lnTo>
                <a:lnTo>
                  <a:pt x="3221" y="420"/>
                </a:lnTo>
                <a:lnTo>
                  <a:pt x="3212" y="423"/>
                </a:lnTo>
                <a:lnTo>
                  <a:pt x="3204" y="429"/>
                </a:lnTo>
                <a:lnTo>
                  <a:pt x="3195" y="432"/>
                </a:lnTo>
                <a:lnTo>
                  <a:pt x="3187" y="434"/>
                </a:lnTo>
                <a:lnTo>
                  <a:pt x="3178" y="437"/>
                </a:lnTo>
                <a:lnTo>
                  <a:pt x="3170" y="440"/>
                </a:lnTo>
                <a:lnTo>
                  <a:pt x="3161" y="446"/>
                </a:lnTo>
                <a:lnTo>
                  <a:pt x="3153" y="449"/>
                </a:lnTo>
                <a:lnTo>
                  <a:pt x="3147" y="451"/>
                </a:lnTo>
                <a:lnTo>
                  <a:pt x="3138" y="457"/>
                </a:lnTo>
                <a:lnTo>
                  <a:pt x="3133" y="460"/>
                </a:lnTo>
                <a:lnTo>
                  <a:pt x="3124" y="463"/>
                </a:lnTo>
                <a:lnTo>
                  <a:pt x="3119" y="466"/>
                </a:lnTo>
                <a:lnTo>
                  <a:pt x="3110" y="468"/>
                </a:lnTo>
                <a:lnTo>
                  <a:pt x="3104" y="471"/>
                </a:lnTo>
                <a:lnTo>
                  <a:pt x="3099" y="474"/>
                </a:lnTo>
                <a:lnTo>
                  <a:pt x="3087" y="480"/>
                </a:lnTo>
                <a:lnTo>
                  <a:pt x="3076" y="486"/>
                </a:lnTo>
                <a:lnTo>
                  <a:pt x="3068" y="488"/>
                </a:lnTo>
                <a:lnTo>
                  <a:pt x="3059" y="494"/>
                </a:lnTo>
                <a:lnTo>
                  <a:pt x="3053" y="497"/>
                </a:lnTo>
                <a:lnTo>
                  <a:pt x="3048" y="500"/>
                </a:lnTo>
                <a:lnTo>
                  <a:pt x="3042" y="503"/>
                </a:lnTo>
                <a:lnTo>
                  <a:pt x="3036" y="505"/>
                </a:lnTo>
                <a:lnTo>
                  <a:pt x="3028" y="508"/>
                </a:lnTo>
                <a:lnTo>
                  <a:pt x="3019" y="514"/>
                </a:lnTo>
                <a:lnTo>
                  <a:pt x="3008" y="520"/>
                </a:lnTo>
                <a:lnTo>
                  <a:pt x="2997" y="525"/>
                </a:lnTo>
                <a:lnTo>
                  <a:pt x="2985" y="534"/>
                </a:lnTo>
                <a:lnTo>
                  <a:pt x="2971" y="542"/>
                </a:lnTo>
                <a:lnTo>
                  <a:pt x="2963" y="548"/>
                </a:lnTo>
                <a:lnTo>
                  <a:pt x="2957" y="551"/>
                </a:lnTo>
                <a:lnTo>
                  <a:pt x="2949" y="554"/>
                </a:lnTo>
                <a:lnTo>
                  <a:pt x="2943" y="559"/>
                </a:lnTo>
                <a:lnTo>
                  <a:pt x="2934" y="562"/>
                </a:lnTo>
                <a:lnTo>
                  <a:pt x="2926" y="568"/>
                </a:lnTo>
                <a:lnTo>
                  <a:pt x="2920" y="574"/>
                </a:lnTo>
                <a:lnTo>
                  <a:pt x="2912" y="579"/>
                </a:lnTo>
                <a:lnTo>
                  <a:pt x="2903" y="582"/>
                </a:lnTo>
                <a:lnTo>
                  <a:pt x="2898" y="588"/>
                </a:lnTo>
                <a:lnTo>
                  <a:pt x="2889" y="591"/>
                </a:lnTo>
                <a:lnTo>
                  <a:pt x="2881" y="596"/>
                </a:lnTo>
                <a:lnTo>
                  <a:pt x="2872" y="602"/>
                </a:lnTo>
                <a:lnTo>
                  <a:pt x="2866" y="605"/>
                </a:lnTo>
                <a:lnTo>
                  <a:pt x="2858" y="610"/>
                </a:lnTo>
                <a:lnTo>
                  <a:pt x="2849" y="616"/>
                </a:lnTo>
                <a:lnTo>
                  <a:pt x="2841" y="622"/>
                </a:lnTo>
                <a:lnTo>
                  <a:pt x="2835" y="625"/>
                </a:lnTo>
                <a:lnTo>
                  <a:pt x="2827" y="630"/>
                </a:lnTo>
                <a:lnTo>
                  <a:pt x="2818" y="636"/>
                </a:lnTo>
                <a:lnTo>
                  <a:pt x="2810" y="639"/>
                </a:lnTo>
                <a:lnTo>
                  <a:pt x="2804" y="645"/>
                </a:lnTo>
                <a:lnTo>
                  <a:pt x="2796" y="650"/>
                </a:lnTo>
                <a:lnTo>
                  <a:pt x="2790" y="656"/>
                </a:lnTo>
                <a:lnTo>
                  <a:pt x="2782" y="659"/>
                </a:lnTo>
                <a:lnTo>
                  <a:pt x="2773" y="662"/>
                </a:lnTo>
                <a:lnTo>
                  <a:pt x="2767" y="667"/>
                </a:lnTo>
                <a:lnTo>
                  <a:pt x="2762" y="670"/>
                </a:lnTo>
                <a:lnTo>
                  <a:pt x="2750" y="679"/>
                </a:lnTo>
                <a:lnTo>
                  <a:pt x="2739" y="687"/>
                </a:lnTo>
                <a:lnTo>
                  <a:pt x="2728" y="693"/>
                </a:lnTo>
                <a:lnTo>
                  <a:pt x="2716" y="699"/>
                </a:lnTo>
                <a:lnTo>
                  <a:pt x="2708" y="704"/>
                </a:lnTo>
                <a:lnTo>
                  <a:pt x="2702" y="710"/>
                </a:lnTo>
                <a:lnTo>
                  <a:pt x="2691" y="716"/>
                </a:lnTo>
                <a:lnTo>
                  <a:pt x="2688" y="718"/>
                </a:lnTo>
                <a:lnTo>
                  <a:pt x="2685" y="716"/>
                </a:lnTo>
                <a:lnTo>
                  <a:pt x="2680" y="713"/>
                </a:lnTo>
                <a:lnTo>
                  <a:pt x="2668" y="707"/>
                </a:lnTo>
                <a:lnTo>
                  <a:pt x="2657" y="699"/>
                </a:lnTo>
                <a:lnTo>
                  <a:pt x="2648" y="696"/>
                </a:lnTo>
                <a:lnTo>
                  <a:pt x="2640" y="690"/>
                </a:lnTo>
                <a:lnTo>
                  <a:pt x="2631" y="684"/>
                </a:lnTo>
                <a:lnTo>
                  <a:pt x="2623" y="679"/>
                </a:lnTo>
                <a:lnTo>
                  <a:pt x="2612" y="673"/>
                </a:lnTo>
                <a:lnTo>
                  <a:pt x="2603" y="667"/>
                </a:lnTo>
                <a:lnTo>
                  <a:pt x="2592" y="662"/>
                </a:lnTo>
                <a:lnTo>
                  <a:pt x="2583" y="656"/>
                </a:lnTo>
                <a:lnTo>
                  <a:pt x="2572" y="650"/>
                </a:lnTo>
                <a:lnTo>
                  <a:pt x="2561" y="645"/>
                </a:lnTo>
                <a:lnTo>
                  <a:pt x="2549" y="636"/>
                </a:lnTo>
                <a:lnTo>
                  <a:pt x="2541" y="633"/>
                </a:lnTo>
                <a:lnTo>
                  <a:pt x="2529" y="625"/>
                </a:lnTo>
                <a:lnTo>
                  <a:pt x="2521" y="622"/>
                </a:lnTo>
                <a:lnTo>
                  <a:pt x="2510" y="613"/>
                </a:lnTo>
                <a:lnTo>
                  <a:pt x="2501" y="610"/>
                </a:lnTo>
                <a:lnTo>
                  <a:pt x="2493" y="602"/>
                </a:lnTo>
                <a:lnTo>
                  <a:pt x="2484" y="599"/>
                </a:lnTo>
                <a:lnTo>
                  <a:pt x="2476" y="593"/>
                </a:lnTo>
                <a:lnTo>
                  <a:pt x="2470" y="591"/>
                </a:lnTo>
                <a:lnTo>
                  <a:pt x="2456" y="582"/>
                </a:lnTo>
                <a:lnTo>
                  <a:pt x="2450" y="579"/>
                </a:lnTo>
                <a:lnTo>
                  <a:pt x="2444" y="574"/>
                </a:lnTo>
                <a:lnTo>
                  <a:pt x="2439" y="571"/>
                </a:lnTo>
                <a:lnTo>
                  <a:pt x="2433" y="571"/>
                </a:lnTo>
                <a:lnTo>
                  <a:pt x="2425" y="568"/>
                </a:lnTo>
                <a:lnTo>
                  <a:pt x="2416" y="562"/>
                </a:lnTo>
                <a:lnTo>
                  <a:pt x="2408" y="559"/>
                </a:lnTo>
                <a:lnTo>
                  <a:pt x="2399" y="557"/>
                </a:lnTo>
                <a:lnTo>
                  <a:pt x="2391" y="554"/>
                </a:lnTo>
                <a:lnTo>
                  <a:pt x="2379" y="551"/>
                </a:lnTo>
                <a:lnTo>
                  <a:pt x="2368" y="548"/>
                </a:lnTo>
                <a:lnTo>
                  <a:pt x="2357" y="542"/>
                </a:lnTo>
                <a:lnTo>
                  <a:pt x="2345" y="539"/>
                </a:lnTo>
                <a:lnTo>
                  <a:pt x="2334" y="537"/>
                </a:lnTo>
                <a:lnTo>
                  <a:pt x="2323" y="534"/>
                </a:lnTo>
                <a:lnTo>
                  <a:pt x="2311" y="528"/>
                </a:lnTo>
                <a:lnTo>
                  <a:pt x="2300" y="525"/>
                </a:lnTo>
                <a:lnTo>
                  <a:pt x="2289" y="522"/>
                </a:lnTo>
                <a:lnTo>
                  <a:pt x="2277" y="520"/>
                </a:lnTo>
                <a:lnTo>
                  <a:pt x="2266" y="514"/>
                </a:lnTo>
                <a:lnTo>
                  <a:pt x="2255" y="511"/>
                </a:lnTo>
                <a:lnTo>
                  <a:pt x="2243" y="508"/>
                </a:lnTo>
                <a:lnTo>
                  <a:pt x="2235" y="505"/>
                </a:lnTo>
                <a:lnTo>
                  <a:pt x="2226" y="503"/>
                </a:lnTo>
                <a:lnTo>
                  <a:pt x="2218" y="503"/>
                </a:lnTo>
                <a:lnTo>
                  <a:pt x="2209" y="500"/>
                </a:lnTo>
                <a:lnTo>
                  <a:pt x="2204" y="497"/>
                </a:lnTo>
                <a:lnTo>
                  <a:pt x="2195" y="494"/>
                </a:lnTo>
                <a:lnTo>
                  <a:pt x="2192" y="494"/>
                </a:lnTo>
                <a:lnTo>
                  <a:pt x="2184" y="494"/>
                </a:lnTo>
                <a:lnTo>
                  <a:pt x="2187" y="491"/>
                </a:lnTo>
                <a:lnTo>
                  <a:pt x="2192" y="486"/>
                </a:lnTo>
                <a:lnTo>
                  <a:pt x="2198" y="483"/>
                </a:lnTo>
                <a:lnTo>
                  <a:pt x="2207" y="480"/>
                </a:lnTo>
                <a:lnTo>
                  <a:pt x="2212" y="477"/>
                </a:lnTo>
                <a:lnTo>
                  <a:pt x="2224" y="474"/>
                </a:lnTo>
                <a:lnTo>
                  <a:pt x="2235" y="468"/>
                </a:lnTo>
                <a:lnTo>
                  <a:pt x="2246" y="463"/>
                </a:lnTo>
                <a:lnTo>
                  <a:pt x="2258" y="457"/>
                </a:lnTo>
                <a:lnTo>
                  <a:pt x="2275" y="451"/>
                </a:lnTo>
                <a:lnTo>
                  <a:pt x="2286" y="446"/>
                </a:lnTo>
                <a:lnTo>
                  <a:pt x="2303" y="440"/>
                </a:lnTo>
                <a:lnTo>
                  <a:pt x="2317" y="434"/>
                </a:lnTo>
                <a:lnTo>
                  <a:pt x="2337" y="429"/>
                </a:lnTo>
                <a:lnTo>
                  <a:pt x="2354" y="420"/>
                </a:lnTo>
                <a:lnTo>
                  <a:pt x="2371" y="412"/>
                </a:lnTo>
                <a:lnTo>
                  <a:pt x="2391" y="403"/>
                </a:lnTo>
                <a:lnTo>
                  <a:pt x="2411" y="395"/>
                </a:lnTo>
                <a:lnTo>
                  <a:pt x="2430" y="386"/>
                </a:lnTo>
                <a:lnTo>
                  <a:pt x="2450" y="378"/>
                </a:lnTo>
                <a:lnTo>
                  <a:pt x="2473" y="369"/>
                </a:lnTo>
                <a:lnTo>
                  <a:pt x="2495" y="361"/>
                </a:lnTo>
                <a:lnTo>
                  <a:pt x="2515" y="349"/>
                </a:lnTo>
                <a:lnTo>
                  <a:pt x="2538" y="341"/>
                </a:lnTo>
                <a:lnTo>
                  <a:pt x="2561" y="332"/>
                </a:lnTo>
                <a:lnTo>
                  <a:pt x="2583" y="324"/>
                </a:lnTo>
                <a:lnTo>
                  <a:pt x="2606" y="312"/>
                </a:lnTo>
                <a:lnTo>
                  <a:pt x="2629" y="304"/>
                </a:lnTo>
                <a:lnTo>
                  <a:pt x="2651" y="292"/>
                </a:lnTo>
                <a:lnTo>
                  <a:pt x="2677" y="284"/>
                </a:lnTo>
                <a:lnTo>
                  <a:pt x="2697" y="273"/>
                </a:lnTo>
                <a:lnTo>
                  <a:pt x="2719" y="264"/>
                </a:lnTo>
                <a:lnTo>
                  <a:pt x="2742" y="253"/>
                </a:lnTo>
                <a:lnTo>
                  <a:pt x="2767" y="244"/>
                </a:lnTo>
                <a:lnTo>
                  <a:pt x="2787" y="236"/>
                </a:lnTo>
                <a:lnTo>
                  <a:pt x="2810" y="224"/>
                </a:lnTo>
                <a:lnTo>
                  <a:pt x="2833" y="216"/>
                </a:lnTo>
                <a:lnTo>
                  <a:pt x="2855" y="207"/>
                </a:lnTo>
                <a:lnTo>
                  <a:pt x="2875" y="196"/>
                </a:lnTo>
                <a:lnTo>
                  <a:pt x="2895" y="187"/>
                </a:lnTo>
                <a:lnTo>
                  <a:pt x="2915" y="179"/>
                </a:lnTo>
                <a:lnTo>
                  <a:pt x="2937" y="170"/>
                </a:lnTo>
                <a:lnTo>
                  <a:pt x="2954" y="162"/>
                </a:lnTo>
                <a:lnTo>
                  <a:pt x="2974" y="153"/>
                </a:lnTo>
                <a:lnTo>
                  <a:pt x="2991" y="148"/>
                </a:lnTo>
                <a:lnTo>
                  <a:pt x="3011" y="142"/>
                </a:lnTo>
                <a:lnTo>
                  <a:pt x="3025" y="133"/>
                </a:lnTo>
                <a:lnTo>
                  <a:pt x="3042" y="125"/>
                </a:lnTo>
                <a:lnTo>
                  <a:pt x="3056" y="119"/>
                </a:lnTo>
                <a:lnTo>
                  <a:pt x="3070" y="111"/>
                </a:lnTo>
                <a:lnTo>
                  <a:pt x="3082" y="105"/>
                </a:lnTo>
                <a:lnTo>
                  <a:pt x="3096" y="99"/>
                </a:lnTo>
                <a:lnTo>
                  <a:pt x="3104" y="96"/>
                </a:lnTo>
                <a:lnTo>
                  <a:pt x="3116" y="91"/>
                </a:lnTo>
                <a:lnTo>
                  <a:pt x="3124" y="88"/>
                </a:lnTo>
                <a:lnTo>
                  <a:pt x="3133" y="82"/>
                </a:lnTo>
                <a:lnTo>
                  <a:pt x="3138" y="79"/>
                </a:lnTo>
                <a:lnTo>
                  <a:pt x="3144" y="77"/>
                </a:lnTo>
                <a:lnTo>
                  <a:pt x="3150" y="74"/>
                </a:lnTo>
                <a:lnTo>
                  <a:pt x="3153" y="74"/>
                </a:lnTo>
                <a:lnTo>
                  <a:pt x="3150" y="71"/>
                </a:lnTo>
                <a:lnTo>
                  <a:pt x="3147" y="71"/>
                </a:lnTo>
                <a:lnTo>
                  <a:pt x="3141" y="68"/>
                </a:lnTo>
                <a:lnTo>
                  <a:pt x="3136" y="68"/>
                </a:lnTo>
                <a:lnTo>
                  <a:pt x="3127" y="68"/>
                </a:lnTo>
                <a:lnTo>
                  <a:pt x="3119" y="68"/>
                </a:lnTo>
                <a:lnTo>
                  <a:pt x="3110" y="65"/>
                </a:lnTo>
                <a:lnTo>
                  <a:pt x="3099" y="65"/>
                </a:lnTo>
                <a:lnTo>
                  <a:pt x="3085" y="65"/>
                </a:lnTo>
                <a:lnTo>
                  <a:pt x="3073" y="62"/>
                </a:lnTo>
                <a:lnTo>
                  <a:pt x="3059" y="62"/>
                </a:lnTo>
                <a:lnTo>
                  <a:pt x="3042" y="62"/>
                </a:lnTo>
                <a:lnTo>
                  <a:pt x="3025" y="60"/>
                </a:lnTo>
                <a:lnTo>
                  <a:pt x="3008" y="57"/>
                </a:lnTo>
                <a:lnTo>
                  <a:pt x="2991" y="57"/>
                </a:lnTo>
                <a:lnTo>
                  <a:pt x="2974" y="57"/>
                </a:lnTo>
                <a:lnTo>
                  <a:pt x="2951" y="54"/>
                </a:lnTo>
                <a:lnTo>
                  <a:pt x="2932" y="54"/>
                </a:lnTo>
                <a:lnTo>
                  <a:pt x="2912" y="51"/>
                </a:lnTo>
                <a:lnTo>
                  <a:pt x="2889" y="51"/>
                </a:lnTo>
                <a:lnTo>
                  <a:pt x="2866" y="48"/>
                </a:lnTo>
                <a:lnTo>
                  <a:pt x="2844" y="45"/>
                </a:lnTo>
                <a:lnTo>
                  <a:pt x="2821" y="43"/>
                </a:lnTo>
                <a:lnTo>
                  <a:pt x="2799" y="43"/>
                </a:lnTo>
                <a:lnTo>
                  <a:pt x="2773" y="43"/>
                </a:lnTo>
                <a:lnTo>
                  <a:pt x="2750" y="40"/>
                </a:lnTo>
                <a:lnTo>
                  <a:pt x="2725" y="40"/>
                </a:lnTo>
                <a:lnTo>
                  <a:pt x="2699" y="37"/>
                </a:lnTo>
                <a:lnTo>
                  <a:pt x="2677" y="34"/>
                </a:lnTo>
                <a:lnTo>
                  <a:pt x="2651" y="34"/>
                </a:lnTo>
                <a:lnTo>
                  <a:pt x="2626" y="34"/>
                </a:lnTo>
                <a:lnTo>
                  <a:pt x="2603" y="34"/>
                </a:lnTo>
                <a:lnTo>
                  <a:pt x="2575" y="31"/>
                </a:lnTo>
                <a:lnTo>
                  <a:pt x="2549" y="28"/>
                </a:lnTo>
                <a:lnTo>
                  <a:pt x="2527" y="25"/>
                </a:lnTo>
                <a:lnTo>
                  <a:pt x="2501" y="25"/>
                </a:lnTo>
                <a:lnTo>
                  <a:pt x="2476" y="23"/>
                </a:lnTo>
                <a:lnTo>
                  <a:pt x="2453" y="23"/>
                </a:lnTo>
                <a:lnTo>
                  <a:pt x="2427" y="20"/>
                </a:lnTo>
                <a:lnTo>
                  <a:pt x="2405" y="20"/>
                </a:lnTo>
                <a:lnTo>
                  <a:pt x="2382" y="17"/>
                </a:lnTo>
                <a:lnTo>
                  <a:pt x="2360" y="17"/>
                </a:lnTo>
                <a:lnTo>
                  <a:pt x="2337" y="14"/>
                </a:lnTo>
                <a:lnTo>
                  <a:pt x="2314" y="14"/>
                </a:lnTo>
                <a:lnTo>
                  <a:pt x="2292" y="11"/>
                </a:lnTo>
                <a:lnTo>
                  <a:pt x="2272" y="11"/>
                </a:lnTo>
                <a:lnTo>
                  <a:pt x="2255" y="11"/>
                </a:lnTo>
                <a:lnTo>
                  <a:pt x="2235" y="11"/>
                </a:lnTo>
                <a:lnTo>
                  <a:pt x="2215" y="8"/>
                </a:lnTo>
                <a:lnTo>
                  <a:pt x="2198" y="8"/>
                </a:lnTo>
                <a:lnTo>
                  <a:pt x="2181" y="6"/>
                </a:lnTo>
                <a:lnTo>
                  <a:pt x="2167" y="6"/>
                </a:lnTo>
                <a:lnTo>
                  <a:pt x="2150" y="6"/>
                </a:lnTo>
                <a:lnTo>
                  <a:pt x="2136" y="3"/>
                </a:lnTo>
                <a:lnTo>
                  <a:pt x="2124" y="3"/>
                </a:lnTo>
                <a:lnTo>
                  <a:pt x="2116" y="3"/>
                </a:lnTo>
                <a:lnTo>
                  <a:pt x="2105" y="3"/>
                </a:lnTo>
                <a:lnTo>
                  <a:pt x="2093" y="0"/>
                </a:lnTo>
                <a:lnTo>
                  <a:pt x="2085" y="0"/>
                </a:lnTo>
                <a:lnTo>
                  <a:pt x="2082" y="0"/>
                </a:lnTo>
                <a:lnTo>
                  <a:pt x="2073" y="0"/>
                </a:lnTo>
                <a:lnTo>
                  <a:pt x="2071" y="0"/>
                </a:lnTo>
                <a:lnTo>
                  <a:pt x="2071" y="34"/>
                </a:lnTo>
                <a:lnTo>
                  <a:pt x="3034" y="99"/>
                </a:lnTo>
                <a:lnTo>
                  <a:pt x="2141" y="477"/>
                </a:lnTo>
                <a:lnTo>
                  <a:pt x="1943" y="454"/>
                </a:lnTo>
                <a:lnTo>
                  <a:pt x="1940" y="451"/>
                </a:lnTo>
                <a:lnTo>
                  <a:pt x="1938" y="451"/>
                </a:lnTo>
                <a:lnTo>
                  <a:pt x="1932" y="449"/>
                </a:lnTo>
                <a:lnTo>
                  <a:pt x="1926" y="446"/>
                </a:lnTo>
                <a:lnTo>
                  <a:pt x="1915" y="440"/>
                </a:lnTo>
                <a:lnTo>
                  <a:pt x="1904" y="434"/>
                </a:lnTo>
                <a:lnTo>
                  <a:pt x="1892" y="432"/>
                </a:lnTo>
                <a:lnTo>
                  <a:pt x="1881" y="426"/>
                </a:lnTo>
                <a:lnTo>
                  <a:pt x="1872" y="420"/>
                </a:lnTo>
                <a:lnTo>
                  <a:pt x="1864" y="420"/>
                </a:lnTo>
                <a:lnTo>
                  <a:pt x="1858" y="417"/>
                </a:lnTo>
                <a:lnTo>
                  <a:pt x="1850" y="415"/>
                </a:lnTo>
                <a:lnTo>
                  <a:pt x="1841" y="409"/>
                </a:lnTo>
                <a:lnTo>
                  <a:pt x="1833" y="409"/>
                </a:lnTo>
                <a:lnTo>
                  <a:pt x="1824" y="406"/>
                </a:lnTo>
                <a:lnTo>
                  <a:pt x="1819" y="406"/>
                </a:lnTo>
                <a:lnTo>
                  <a:pt x="1807" y="400"/>
                </a:lnTo>
                <a:lnTo>
                  <a:pt x="1799" y="400"/>
                </a:lnTo>
                <a:lnTo>
                  <a:pt x="1790" y="397"/>
                </a:lnTo>
                <a:lnTo>
                  <a:pt x="1782" y="397"/>
                </a:lnTo>
                <a:lnTo>
                  <a:pt x="1773" y="395"/>
                </a:lnTo>
                <a:lnTo>
                  <a:pt x="1765" y="395"/>
                </a:lnTo>
                <a:lnTo>
                  <a:pt x="1756" y="395"/>
                </a:lnTo>
                <a:lnTo>
                  <a:pt x="1748" y="395"/>
                </a:lnTo>
                <a:lnTo>
                  <a:pt x="1790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4"/>
          <p:cNvSpPr/>
          <p:nvPr/>
        </p:nvSpPr>
        <p:spPr>
          <a:xfrm>
            <a:off x="6527880" y="4867200"/>
            <a:ext cx="533160" cy="41400"/>
          </a:xfrm>
          <a:custGeom>
            <a:avLst/>
            <a:gdLst>
              <a:gd name="textAreaLeft" fmla="*/ 0 w 533160"/>
              <a:gd name="textAreaRight" fmla="*/ 533520 w 533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8" h="29">
                <a:moveTo>
                  <a:pt x="34" y="0"/>
                </a:moveTo>
                <a:lnTo>
                  <a:pt x="28" y="0"/>
                </a:lnTo>
                <a:lnTo>
                  <a:pt x="20" y="0"/>
                </a:lnTo>
                <a:lnTo>
                  <a:pt x="9" y="0"/>
                </a:lnTo>
                <a:lnTo>
                  <a:pt x="3" y="9"/>
                </a:lnTo>
                <a:lnTo>
                  <a:pt x="0" y="17"/>
                </a:lnTo>
                <a:lnTo>
                  <a:pt x="6" y="23"/>
                </a:lnTo>
                <a:lnTo>
                  <a:pt x="11" y="26"/>
                </a:lnTo>
                <a:lnTo>
                  <a:pt x="14" y="29"/>
                </a:lnTo>
                <a:lnTo>
                  <a:pt x="346" y="29"/>
                </a:lnTo>
                <a:lnTo>
                  <a:pt x="388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25"/>
          <p:cNvSpPr/>
          <p:nvPr/>
        </p:nvSpPr>
        <p:spPr>
          <a:xfrm>
            <a:off x="7927920" y="4879800"/>
            <a:ext cx="1506600" cy="2329200"/>
          </a:xfrm>
          <a:custGeom>
            <a:avLst/>
            <a:gdLst>
              <a:gd name="textAreaLeft" fmla="*/ 0 w 1506600"/>
              <a:gd name="textAreaRight" fmla="*/ 1506960 w 1506600"/>
              <a:gd name="textAreaTop" fmla="*/ 0 h 2329200"/>
              <a:gd name="textAreaBottom" fmla="*/ 2329560 h 2329200"/>
            </a:gdLst>
            <a:ahLst/>
            <a:rect l="textAreaLeft" t="textAreaTop" r="textAreaRight" b="textAreaBottom"/>
            <a:pathLst>
              <a:path w="1099" h="1667">
                <a:moveTo>
                  <a:pt x="1059" y="11"/>
                </a:moveTo>
                <a:lnTo>
                  <a:pt x="1056" y="11"/>
                </a:lnTo>
                <a:lnTo>
                  <a:pt x="1056" y="17"/>
                </a:lnTo>
                <a:lnTo>
                  <a:pt x="1056" y="20"/>
                </a:lnTo>
                <a:lnTo>
                  <a:pt x="1056" y="26"/>
                </a:lnTo>
                <a:lnTo>
                  <a:pt x="1053" y="31"/>
                </a:lnTo>
                <a:lnTo>
                  <a:pt x="1053" y="40"/>
                </a:lnTo>
                <a:lnTo>
                  <a:pt x="1053" y="45"/>
                </a:lnTo>
                <a:lnTo>
                  <a:pt x="1053" y="54"/>
                </a:lnTo>
                <a:lnTo>
                  <a:pt x="1050" y="62"/>
                </a:lnTo>
                <a:lnTo>
                  <a:pt x="1050" y="71"/>
                </a:lnTo>
                <a:lnTo>
                  <a:pt x="1050" y="82"/>
                </a:lnTo>
                <a:lnTo>
                  <a:pt x="1050" y="94"/>
                </a:lnTo>
                <a:lnTo>
                  <a:pt x="1048" y="105"/>
                </a:lnTo>
                <a:lnTo>
                  <a:pt x="1048" y="116"/>
                </a:lnTo>
                <a:lnTo>
                  <a:pt x="1045" y="128"/>
                </a:lnTo>
                <a:lnTo>
                  <a:pt x="1045" y="142"/>
                </a:lnTo>
                <a:lnTo>
                  <a:pt x="1045" y="153"/>
                </a:lnTo>
                <a:lnTo>
                  <a:pt x="1042" y="168"/>
                </a:lnTo>
                <a:lnTo>
                  <a:pt x="1039" y="182"/>
                </a:lnTo>
                <a:lnTo>
                  <a:pt x="1039" y="196"/>
                </a:lnTo>
                <a:lnTo>
                  <a:pt x="1036" y="213"/>
                </a:lnTo>
                <a:lnTo>
                  <a:pt x="1036" y="227"/>
                </a:lnTo>
                <a:lnTo>
                  <a:pt x="1033" y="244"/>
                </a:lnTo>
                <a:lnTo>
                  <a:pt x="1033" y="258"/>
                </a:lnTo>
                <a:lnTo>
                  <a:pt x="1033" y="275"/>
                </a:lnTo>
                <a:lnTo>
                  <a:pt x="1033" y="292"/>
                </a:lnTo>
                <a:lnTo>
                  <a:pt x="1031" y="310"/>
                </a:lnTo>
                <a:lnTo>
                  <a:pt x="1031" y="327"/>
                </a:lnTo>
                <a:lnTo>
                  <a:pt x="1028" y="344"/>
                </a:lnTo>
                <a:lnTo>
                  <a:pt x="1028" y="361"/>
                </a:lnTo>
                <a:lnTo>
                  <a:pt x="1025" y="378"/>
                </a:lnTo>
                <a:lnTo>
                  <a:pt x="1022" y="392"/>
                </a:lnTo>
                <a:lnTo>
                  <a:pt x="1022" y="409"/>
                </a:lnTo>
                <a:lnTo>
                  <a:pt x="1022" y="426"/>
                </a:lnTo>
                <a:lnTo>
                  <a:pt x="1019" y="443"/>
                </a:lnTo>
                <a:lnTo>
                  <a:pt x="1016" y="460"/>
                </a:lnTo>
                <a:lnTo>
                  <a:pt x="1014" y="477"/>
                </a:lnTo>
                <a:lnTo>
                  <a:pt x="1014" y="494"/>
                </a:lnTo>
                <a:lnTo>
                  <a:pt x="1014" y="508"/>
                </a:lnTo>
                <a:lnTo>
                  <a:pt x="1011" y="525"/>
                </a:lnTo>
                <a:lnTo>
                  <a:pt x="1011" y="542"/>
                </a:lnTo>
                <a:lnTo>
                  <a:pt x="1008" y="559"/>
                </a:lnTo>
                <a:lnTo>
                  <a:pt x="1008" y="574"/>
                </a:lnTo>
                <a:lnTo>
                  <a:pt x="1005" y="588"/>
                </a:lnTo>
                <a:lnTo>
                  <a:pt x="1005" y="602"/>
                </a:lnTo>
                <a:lnTo>
                  <a:pt x="1005" y="619"/>
                </a:lnTo>
                <a:lnTo>
                  <a:pt x="1002" y="630"/>
                </a:lnTo>
                <a:lnTo>
                  <a:pt x="1002" y="645"/>
                </a:lnTo>
                <a:lnTo>
                  <a:pt x="999" y="656"/>
                </a:lnTo>
                <a:lnTo>
                  <a:pt x="999" y="670"/>
                </a:lnTo>
                <a:lnTo>
                  <a:pt x="999" y="682"/>
                </a:lnTo>
                <a:lnTo>
                  <a:pt x="997" y="693"/>
                </a:lnTo>
                <a:lnTo>
                  <a:pt x="997" y="704"/>
                </a:lnTo>
                <a:lnTo>
                  <a:pt x="997" y="716"/>
                </a:lnTo>
                <a:lnTo>
                  <a:pt x="997" y="724"/>
                </a:lnTo>
                <a:lnTo>
                  <a:pt x="994" y="733"/>
                </a:lnTo>
                <a:lnTo>
                  <a:pt x="994" y="741"/>
                </a:lnTo>
                <a:lnTo>
                  <a:pt x="994" y="750"/>
                </a:lnTo>
                <a:lnTo>
                  <a:pt x="994" y="755"/>
                </a:lnTo>
                <a:lnTo>
                  <a:pt x="994" y="761"/>
                </a:lnTo>
                <a:lnTo>
                  <a:pt x="994" y="767"/>
                </a:lnTo>
                <a:lnTo>
                  <a:pt x="994" y="772"/>
                </a:lnTo>
                <a:lnTo>
                  <a:pt x="991" y="781"/>
                </a:lnTo>
                <a:lnTo>
                  <a:pt x="991" y="789"/>
                </a:lnTo>
                <a:lnTo>
                  <a:pt x="991" y="798"/>
                </a:lnTo>
                <a:lnTo>
                  <a:pt x="994" y="809"/>
                </a:lnTo>
                <a:lnTo>
                  <a:pt x="994" y="821"/>
                </a:lnTo>
                <a:lnTo>
                  <a:pt x="994" y="832"/>
                </a:lnTo>
                <a:lnTo>
                  <a:pt x="994" y="838"/>
                </a:lnTo>
                <a:lnTo>
                  <a:pt x="994" y="843"/>
                </a:lnTo>
                <a:lnTo>
                  <a:pt x="997" y="852"/>
                </a:lnTo>
                <a:lnTo>
                  <a:pt x="997" y="860"/>
                </a:lnTo>
                <a:lnTo>
                  <a:pt x="997" y="872"/>
                </a:lnTo>
                <a:lnTo>
                  <a:pt x="999" y="886"/>
                </a:lnTo>
                <a:lnTo>
                  <a:pt x="999" y="892"/>
                </a:lnTo>
                <a:lnTo>
                  <a:pt x="1002" y="900"/>
                </a:lnTo>
                <a:lnTo>
                  <a:pt x="1002" y="909"/>
                </a:lnTo>
                <a:lnTo>
                  <a:pt x="1002" y="914"/>
                </a:lnTo>
                <a:lnTo>
                  <a:pt x="1002" y="923"/>
                </a:lnTo>
                <a:lnTo>
                  <a:pt x="1005" y="931"/>
                </a:lnTo>
                <a:lnTo>
                  <a:pt x="1005" y="937"/>
                </a:lnTo>
                <a:lnTo>
                  <a:pt x="1008" y="946"/>
                </a:lnTo>
                <a:lnTo>
                  <a:pt x="1008" y="954"/>
                </a:lnTo>
                <a:lnTo>
                  <a:pt x="1008" y="960"/>
                </a:lnTo>
                <a:lnTo>
                  <a:pt x="1011" y="968"/>
                </a:lnTo>
                <a:lnTo>
                  <a:pt x="1011" y="977"/>
                </a:lnTo>
                <a:lnTo>
                  <a:pt x="1011" y="983"/>
                </a:lnTo>
                <a:lnTo>
                  <a:pt x="1011" y="991"/>
                </a:lnTo>
                <a:lnTo>
                  <a:pt x="1011" y="997"/>
                </a:lnTo>
                <a:lnTo>
                  <a:pt x="1014" y="1002"/>
                </a:lnTo>
                <a:lnTo>
                  <a:pt x="1014" y="1011"/>
                </a:lnTo>
                <a:lnTo>
                  <a:pt x="1014" y="1017"/>
                </a:lnTo>
                <a:lnTo>
                  <a:pt x="1014" y="1025"/>
                </a:lnTo>
                <a:lnTo>
                  <a:pt x="1014" y="1034"/>
                </a:lnTo>
                <a:lnTo>
                  <a:pt x="1014" y="1045"/>
                </a:lnTo>
                <a:lnTo>
                  <a:pt x="1016" y="1059"/>
                </a:lnTo>
                <a:lnTo>
                  <a:pt x="1016" y="1071"/>
                </a:lnTo>
                <a:lnTo>
                  <a:pt x="1016" y="1085"/>
                </a:lnTo>
                <a:lnTo>
                  <a:pt x="1016" y="1093"/>
                </a:lnTo>
                <a:lnTo>
                  <a:pt x="1016" y="1105"/>
                </a:lnTo>
                <a:lnTo>
                  <a:pt x="1016" y="1113"/>
                </a:lnTo>
                <a:lnTo>
                  <a:pt x="1016" y="1125"/>
                </a:lnTo>
                <a:lnTo>
                  <a:pt x="1014" y="1130"/>
                </a:lnTo>
                <a:lnTo>
                  <a:pt x="1014" y="1139"/>
                </a:lnTo>
                <a:lnTo>
                  <a:pt x="1011" y="1144"/>
                </a:lnTo>
                <a:lnTo>
                  <a:pt x="1011" y="1150"/>
                </a:lnTo>
                <a:lnTo>
                  <a:pt x="1005" y="1150"/>
                </a:lnTo>
                <a:lnTo>
                  <a:pt x="1002" y="1153"/>
                </a:lnTo>
                <a:lnTo>
                  <a:pt x="999" y="1159"/>
                </a:lnTo>
                <a:lnTo>
                  <a:pt x="991" y="1162"/>
                </a:lnTo>
                <a:lnTo>
                  <a:pt x="982" y="1164"/>
                </a:lnTo>
                <a:lnTo>
                  <a:pt x="977" y="1170"/>
                </a:lnTo>
                <a:lnTo>
                  <a:pt x="968" y="1176"/>
                </a:lnTo>
                <a:lnTo>
                  <a:pt x="957" y="1181"/>
                </a:lnTo>
                <a:lnTo>
                  <a:pt x="946" y="1187"/>
                </a:lnTo>
                <a:lnTo>
                  <a:pt x="931" y="1193"/>
                </a:lnTo>
                <a:lnTo>
                  <a:pt x="917" y="1201"/>
                </a:lnTo>
                <a:lnTo>
                  <a:pt x="906" y="1207"/>
                </a:lnTo>
                <a:lnTo>
                  <a:pt x="889" y="1215"/>
                </a:lnTo>
                <a:lnTo>
                  <a:pt x="875" y="1224"/>
                </a:lnTo>
                <a:lnTo>
                  <a:pt x="855" y="1232"/>
                </a:lnTo>
                <a:lnTo>
                  <a:pt x="841" y="1241"/>
                </a:lnTo>
                <a:lnTo>
                  <a:pt x="821" y="1250"/>
                </a:lnTo>
                <a:lnTo>
                  <a:pt x="801" y="1258"/>
                </a:lnTo>
                <a:lnTo>
                  <a:pt x="781" y="1269"/>
                </a:lnTo>
                <a:lnTo>
                  <a:pt x="761" y="1278"/>
                </a:lnTo>
                <a:lnTo>
                  <a:pt x="742" y="1289"/>
                </a:lnTo>
                <a:lnTo>
                  <a:pt x="719" y="1298"/>
                </a:lnTo>
                <a:lnTo>
                  <a:pt x="699" y="1309"/>
                </a:lnTo>
                <a:lnTo>
                  <a:pt x="677" y="1321"/>
                </a:lnTo>
                <a:lnTo>
                  <a:pt x="654" y="1329"/>
                </a:lnTo>
                <a:lnTo>
                  <a:pt x="631" y="1340"/>
                </a:lnTo>
                <a:lnTo>
                  <a:pt x="609" y="1349"/>
                </a:lnTo>
                <a:lnTo>
                  <a:pt x="586" y="1360"/>
                </a:lnTo>
                <a:lnTo>
                  <a:pt x="563" y="1372"/>
                </a:lnTo>
                <a:lnTo>
                  <a:pt x="541" y="1383"/>
                </a:lnTo>
                <a:lnTo>
                  <a:pt x="518" y="1394"/>
                </a:lnTo>
                <a:lnTo>
                  <a:pt x="495" y="1406"/>
                </a:lnTo>
                <a:lnTo>
                  <a:pt x="473" y="1414"/>
                </a:lnTo>
                <a:lnTo>
                  <a:pt x="447" y="1426"/>
                </a:lnTo>
                <a:lnTo>
                  <a:pt x="424" y="1434"/>
                </a:lnTo>
                <a:lnTo>
                  <a:pt x="402" y="1445"/>
                </a:lnTo>
                <a:lnTo>
                  <a:pt x="379" y="1457"/>
                </a:lnTo>
                <a:lnTo>
                  <a:pt x="356" y="1465"/>
                </a:lnTo>
                <a:lnTo>
                  <a:pt x="334" y="1477"/>
                </a:lnTo>
                <a:lnTo>
                  <a:pt x="311" y="1488"/>
                </a:lnTo>
                <a:lnTo>
                  <a:pt x="289" y="1497"/>
                </a:lnTo>
                <a:lnTo>
                  <a:pt x="269" y="1505"/>
                </a:lnTo>
                <a:lnTo>
                  <a:pt x="246" y="1516"/>
                </a:lnTo>
                <a:lnTo>
                  <a:pt x="229" y="1525"/>
                </a:lnTo>
                <a:lnTo>
                  <a:pt x="209" y="1534"/>
                </a:lnTo>
                <a:lnTo>
                  <a:pt x="189" y="1542"/>
                </a:lnTo>
                <a:lnTo>
                  <a:pt x="170" y="1551"/>
                </a:lnTo>
                <a:lnTo>
                  <a:pt x="155" y="1559"/>
                </a:lnTo>
                <a:lnTo>
                  <a:pt x="136" y="1568"/>
                </a:lnTo>
                <a:lnTo>
                  <a:pt x="121" y="1573"/>
                </a:lnTo>
                <a:lnTo>
                  <a:pt x="104" y="1582"/>
                </a:lnTo>
                <a:lnTo>
                  <a:pt x="90" y="1587"/>
                </a:lnTo>
                <a:lnTo>
                  <a:pt x="76" y="1593"/>
                </a:lnTo>
                <a:lnTo>
                  <a:pt x="65" y="1599"/>
                </a:lnTo>
                <a:lnTo>
                  <a:pt x="51" y="1602"/>
                </a:lnTo>
                <a:lnTo>
                  <a:pt x="42" y="1610"/>
                </a:lnTo>
                <a:lnTo>
                  <a:pt x="31" y="1613"/>
                </a:lnTo>
                <a:lnTo>
                  <a:pt x="22" y="1616"/>
                </a:lnTo>
                <a:lnTo>
                  <a:pt x="17" y="1619"/>
                </a:lnTo>
                <a:lnTo>
                  <a:pt x="11" y="1622"/>
                </a:lnTo>
                <a:lnTo>
                  <a:pt x="2" y="1627"/>
                </a:lnTo>
                <a:lnTo>
                  <a:pt x="0" y="1630"/>
                </a:lnTo>
                <a:lnTo>
                  <a:pt x="5" y="1667"/>
                </a:lnTo>
                <a:lnTo>
                  <a:pt x="5" y="1664"/>
                </a:lnTo>
                <a:lnTo>
                  <a:pt x="14" y="1661"/>
                </a:lnTo>
                <a:lnTo>
                  <a:pt x="19" y="1658"/>
                </a:lnTo>
                <a:lnTo>
                  <a:pt x="28" y="1656"/>
                </a:lnTo>
                <a:lnTo>
                  <a:pt x="36" y="1650"/>
                </a:lnTo>
                <a:lnTo>
                  <a:pt x="48" y="1647"/>
                </a:lnTo>
                <a:lnTo>
                  <a:pt x="59" y="1641"/>
                </a:lnTo>
                <a:lnTo>
                  <a:pt x="70" y="1636"/>
                </a:lnTo>
                <a:lnTo>
                  <a:pt x="82" y="1630"/>
                </a:lnTo>
                <a:lnTo>
                  <a:pt x="99" y="1622"/>
                </a:lnTo>
                <a:lnTo>
                  <a:pt x="113" y="1616"/>
                </a:lnTo>
                <a:lnTo>
                  <a:pt x="130" y="1607"/>
                </a:lnTo>
                <a:lnTo>
                  <a:pt x="147" y="1602"/>
                </a:lnTo>
                <a:lnTo>
                  <a:pt x="167" y="1593"/>
                </a:lnTo>
                <a:lnTo>
                  <a:pt x="184" y="1582"/>
                </a:lnTo>
                <a:lnTo>
                  <a:pt x="201" y="1573"/>
                </a:lnTo>
                <a:lnTo>
                  <a:pt x="221" y="1565"/>
                </a:lnTo>
                <a:lnTo>
                  <a:pt x="243" y="1556"/>
                </a:lnTo>
                <a:lnTo>
                  <a:pt x="263" y="1545"/>
                </a:lnTo>
                <a:lnTo>
                  <a:pt x="286" y="1536"/>
                </a:lnTo>
                <a:lnTo>
                  <a:pt x="308" y="1525"/>
                </a:lnTo>
                <a:lnTo>
                  <a:pt x="331" y="1516"/>
                </a:lnTo>
                <a:lnTo>
                  <a:pt x="354" y="1505"/>
                </a:lnTo>
                <a:lnTo>
                  <a:pt x="376" y="1494"/>
                </a:lnTo>
                <a:lnTo>
                  <a:pt x="399" y="1482"/>
                </a:lnTo>
                <a:lnTo>
                  <a:pt x="424" y="1474"/>
                </a:lnTo>
                <a:lnTo>
                  <a:pt x="450" y="1463"/>
                </a:lnTo>
                <a:lnTo>
                  <a:pt x="473" y="1451"/>
                </a:lnTo>
                <a:lnTo>
                  <a:pt x="498" y="1440"/>
                </a:lnTo>
                <a:lnTo>
                  <a:pt x="524" y="1428"/>
                </a:lnTo>
                <a:lnTo>
                  <a:pt x="546" y="1417"/>
                </a:lnTo>
                <a:lnTo>
                  <a:pt x="569" y="1406"/>
                </a:lnTo>
                <a:lnTo>
                  <a:pt x="594" y="1394"/>
                </a:lnTo>
                <a:lnTo>
                  <a:pt x="620" y="1383"/>
                </a:lnTo>
                <a:lnTo>
                  <a:pt x="643" y="1372"/>
                </a:lnTo>
                <a:lnTo>
                  <a:pt x="665" y="1360"/>
                </a:lnTo>
                <a:lnTo>
                  <a:pt x="688" y="1349"/>
                </a:lnTo>
                <a:lnTo>
                  <a:pt x="713" y="1338"/>
                </a:lnTo>
                <a:lnTo>
                  <a:pt x="733" y="1326"/>
                </a:lnTo>
                <a:lnTo>
                  <a:pt x="756" y="1315"/>
                </a:lnTo>
                <a:lnTo>
                  <a:pt x="778" y="1303"/>
                </a:lnTo>
                <a:lnTo>
                  <a:pt x="801" y="1295"/>
                </a:lnTo>
                <a:lnTo>
                  <a:pt x="821" y="1284"/>
                </a:lnTo>
                <a:lnTo>
                  <a:pt x="841" y="1275"/>
                </a:lnTo>
                <a:lnTo>
                  <a:pt x="861" y="1267"/>
                </a:lnTo>
                <a:lnTo>
                  <a:pt x="880" y="1258"/>
                </a:lnTo>
                <a:lnTo>
                  <a:pt x="897" y="1247"/>
                </a:lnTo>
                <a:lnTo>
                  <a:pt x="914" y="1238"/>
                </a:lnTo>
                <a:lnTo>
                  <a:pt x="931" y="1232"/>
                </a:lnTo>
                <a:lnTo>
                  <a:pt x="948" y="1224"/>
                </a:lnTo>
                <a:lnTo>
                  <a:pt x="960" y="1215"/>
                </a:lnTo>
                <a:lnTo>
                  <a:pt x="974" y="1210"/>
                </a:lnTo>
                <a:lnTo>
                  <a:pt x="985" y="1204"/>
                </a:lnTo>
                <a:lnTo>
                  <a:pt x="999" y="1198"/>
                </a:lnTo>
                <a:lnTo>
                  <a:pt x="1008" y="1193"/>
                </a:lnTo>
                <a:lnTo>
                  <a:pt x="1016" y="1187"/>
                </a:lnTo>
                <a:lnTo>
                  <a:pt x="1025" y="1181"/>
                </a:lnTo>
                <a:lnTo>
                  <a:pt x="1033" y="1179"/>
                </a:lnTo>
                <a:lnTo>
                  <a:pt x="1042" y="1173"/>
                </a:lnTo>
                <a:lnTo>
                  <a:pt x="1045" y="1170"/>
                </a:lnTo>
                <a:lnTo>
                  <a:pt x="1045" y="1164"/>
                </a:lnTo>
                <a:lnTo>
                  <a:pt x="1045" y="1162"/>
                </a:lnTo>
                <a:lnTo>
                  <a:pt x="1045" y="1150"/>
                </a:lnTo>
                <a:lnTo>
                  <a:pt x="1045" y="1144"/>
                </a:lnTo>
                <a:lnTo>
                  <a:pt x="1045" y="1133"/>
                </a:lnTo>
                <a:lnTo>
                  <a:pt x="1045" y="1122"/>
                </a:lnTo>
                <a:lnTo>
                  <a:pt x="1045" y="1108"/>
                </a:lnTo>
                <a:lnTo>
                  <a:pt x="1045" y="1096"/>
                </a:lnTo>
                <a:lnTo>
                  <a:pt x="1042" y="1088"/>
                </a:lnTo>
                <a:lnTo>
                  <a:pt x="1042" y="1082"/>
                </a:lnTo>
                <a:lnTo>
                  <a:pt x="1042" y="1073"/>
                </a:lnTo>
                <a:lnTo>
                  <a:pt x="1042" y="1065"/>
                </a:lnTo>
                <a:lnTo>
                  <a:pt x="1042" y="1056"/>
                </a:lnTo>
                <a:lnTo>
                  <a:pt x="1042" y="1051"/>
                </a:lnTo>
                <a:lnTo>
                  <a:pt x="1042" y="1042"/>
                </a:lnTo>
                <a:lnTo>
                  <a:pt x="1042" y="1034"/>
                </a:lnTo>
                <a:lnTo>
                  <a:pt x="1039" y="1022"/>
                </a:lnTo>
                <a:lnTo>
                  <a:pt x="1039" y="1017"/>
                </a:lnTo>
                <a:lnTo>
                  <a:pt x="1039" y="1005"/>
                </a:lnTo>
                <a:lnTo>
                  <a:pt x="1039" y="1000"/>
                </a:lnTo>
                <a:lnTo>
                  <a:pt x="1039" y="991"/>
                </a:lnTo>
                <a:lnTo>
                  <a:pt x="1039" y="980"/>
                </a:lnTo>
                <a:lnTo>
                  <a:pt x="1039" y="971"/>
                </a:lnTo>
                <a:lnTo>
                  <a:pt x="1039" y="966"/>
                </a:lnTo>
                <a:lnTo>
                  <a:pt x="1036" y="954"/>
                </a:lnTo>
                <a:lnTo>
                  <a:pt x="1036" y="946"/>
                </a:lnTo>
                <a:lnTo>
                  <a:pt x="1036" y="937"/>
                </a:lnTo>
                <a:lnTo>
                  <a:pt x="1036" y="929"/>
                </a:lnTo>
                <a:lnTo>
                  <a:pt x="1033" y="920"/>
                </a:lnTo>
                <a:lnTo>
                  <a:pt x="1033" y="912"/>
                </a:lnTo>
                <a:lnTo>
                  <a:pt x="1033" y="903"/>
                </a:lnTo>
                <a:lnTo>
                  <a:pt x="1033" y="895"/>
                </a:lnTo>
                <a:lnTo>
                  <a:pt x="1033" y="886"/>
                </a:lnTo>
                <a:lnTo>
                  <a:pt x="1033" y="880"/>
                </a:lnTo>
                <a:lnTo>
                  <a:pt x="1033" y="872"/>
                </a:lnTo>
                <a:lnTo>
                  <a:pt x="1033" y="863"/>
                </a:lnTo>
                <a:lnTo>
                  <a:pt x="1033" y="858"/>
                </a:lnTo>
                <a:lnTo>
                  <a:pt x="1033" y="849"/>
                </a:lnTo>
                <a:lnTo>
                  <a:pt x="1033" y="843"/>
                </a:lnTo>
                <a:lnTo>
                  <a:pt x="1033" y="838"/>
                </a:lnTo>
                <a:lnTo>
                  <a:pt x="1031" y="824"/>
                </a:lnTo>
                <a:lnTo>
                  <a:pt x="1031" y="815"/>
                </a:lnTo>
                <a:lnTo>
                  <a:pt x="1031" y="804"/>
                </a:lnTo>
                <a:lnTo>
                  <a:pt x="1031" y="798"/>
                </a:lnTo>
                <a:lnTo>
                  <a:pt x="1031" y="787"/>
                </a:lnTo>
                <a:lnTo>
                  <a:pt x="1031" y="784"/>
                </a:lnTo>
                <a:lnTo>
                  <a:pt x="1099" y="0"/>
                </a:lnTo>
                <a:lnTo>
                  <a:pt x="105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6"/>
          <p:cNvSpPr/>
          <p:nvPr/>
        </p:nvSpPr>
        <p:spPr>
          <a:xfrm>
            <a:off x="5641920" y="5364000"/>
            <a:ext cx="2286000" cy="1837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837080"/>
              <a:gd name="textAreaBottom" fmla="*/ 1837440 h 1837080"/>
            </a:gdLst>
            <a:ahLst/>
            <a:rect l="textAreaLeft" t="textAreaTop" r="textAreaRight" b="textAreaBottom"/>
            <a:pathLst>
              <a:path w="1666" h="1315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5"/>
                </a:lnTo>
                <a:lnTo>
                  <a:pt x="0" y="23"/>
                </a:lnTo>
                <a:lnTo>
                  <a:pt x="0" y="32"/>
                </a:lnTo>
                <a:lnTo>
                  <a:pt x="0" y="43"/>
                </a:lnTo>
                <a:lnTo>
                  <a:pt x="0" y="52"/>
                </a:lnTo>
                <a:lnTo>
                  <a:pt x="3" y="66"/>
                </a:lnTo>
                <a:lnTo>
                  <a:pt x="3" y="74"/>
                </a:lnTo>
                <a:lnTo>
                  <a:pt x="6" y="91"/>
                </a:lnTo>
                <a:lnTo>
                  <a:pt x="6" y="106"/>
                </a:lnTo>
                <a:lnTo>
                  <a:pt x="6" y="120"/>
                </a:lnTo>
                <a:lnTo>
                  <a:pt x="9" y="137"/>
                </a:lnTo>
                <a:lnTo>
                  <a:pt x="9" y="154"/>
                </a:lnTo>
                <a:lnTo>
                  <a:pt x="9" y="171"/>
                </a:lnTo>
                <a:lnTo>
                  <a:pt x="12" y="191"/>
                </a:lnTo>
                <a:lnTo>
                  <a:pt x="12" y="208"/>
                </a:lnTo>
                <a:lnTo>
                  <a:pt x="14" y="228"/>
                </a:lnTo>
                <a:lnTo>
                  <a:pt x="17" y="248"/>
                </a:lnTo>
                <a:lnTo>
                  <a:pt x="20" y="270"/>
                </a:lnTo>
                <a:lnTo>
                  <a:pt x="20" y="290"/>
                </a:lnTo>
                <a:lnTo>
                  <a:pt x="23" y="313"/>
                </a:lnTo>
                <a:lnTo>
                  <a:pt x="23" y="336"/>
                </a:lnTo>
                <a:lnTo>
                  <a:pt x="26" y="358"/>
                </a:lnTo>
                <a:lnTo>
                  <a:pt x="29" y="381"/>
                </a:lnTo>
                <a:lnTo>
                  <a:pt x="31" y="404"/>
                </a:lnTo>
                <a:lnTo>
                  <a:pt x="31" y="426"/>
                </a:lnTo>
                <a:lnTo>
                  <a:pt x="34" y="452"/>
                </a:lnTo>
                <a:lnTo>
                  <a:pt x="34" y="475"/>
                </a:lnTo>
                <a:lnTo>
                  <a:pt x="37" y="497"/>
                </a:lnTo>
                <a:lnTo>
                  <a:pt x="37" y="520"/>
                </a:lnTo>
                <a:lnTo>
                  <a:pt x="40" y="546"/>
                </a:lnTo>
                <a:lnTo>
                  <a:pt x="43" y="568"/>
                </a:lnTo>
                <a:lnTo>
                  <a:pt x="43" y="591"/>
                </a:lnTo>
                <a:lnTo>
                  <a:pt x="43" y="614"/>
                </a:lnTo>
                <a:lnTo>
                  <a:pt x="46" y="637"/>
                </a:lnTo>
                <a:lnTo>
                  <a:pt x="48" y="659"/>
                </a:lnTo>
                <a:lnTo>
                  <a:pt x="51" y="682"/>
                </a:lnTo>
                <a:lnTo>
                  <a:pt x="51" y="705"/>
                </a:lnTo>
                <a:lnTo>
                  <a:pt x="51" y="725"/>
                </a:lnTo>
                <a:lnTo>
                  <a:pt x="54" y="747"/>
                </a:lnTo>
                <a:lnTo>
                  <a:pt x="57" y="767"/>
                </a:lnTo>
                <a:lnTo>
                  <a:pt x="57" y="787"/>
                </a:lnTo>
                <a:lnTo>
                  <a:pt x="60" y="807"/>
                </a:lnTo>
                <a:lnTo>
                  <a:pt x="60" y="827"/>
                </a:lnTo>
                <a:lnTo>
                  <a:pt x="63" y="847"/>
                </a:lnTo>
                <a:lnTo>
                  <a:pt x="63" y="861"/>
                </a:lnTo>
                <a:lnTo>
                  <a:pt x="63" y="881"/>
                </a:lnTo>
                <a:lnTo>
                  <a:pt x="63" y="895"/>
                </a:lnTo>
                <a:lnTo>
                  <a:pt x="65" y="912"/>
                </a:lnTo>
                <a:lnTo>
                  <a:pt x="65" y="923"/>
                </a:lnTo>
                <a:lnTo>
                  <a:pt x="65" y="938"/>
                </a:lnTo>
                <a:lnTo>
                  <a:pt x="68" y="952"/>
                </a:lnTo>
                <a:lnTo>
                  <a:pt x="68" y="963"/>
                </a:lnTo>
                <a:lnTo>
                  <a:pt x="68" y="975"/>
                </a:lnTo>
                <a:lnTo>
                  <a:pt x="68" y="983"/>
                </a:lnTo>
                <a:lnTo>
                  <a:pt x="68" y="989"/>
                </a:lnTo>
                <a:lnTo>
                  <a:pt x="71" y="997"/>
                </a:lnTo>
                <a:lnTo>
                  <a:pt x="71" y="1006"/>
                </a:lnTo>
                <a:lnTo>
                  <a:pt x="71" y="1009"/>
                </a:lnTo>
                <a:lnTo>
                  <a:pt x="71" y="1011"/>
                </a:lnTo>
                <a:lnTo>
                  <a:pt x="71" y="1017"/>
                </a:lnTo>
                <a:lnTo>
                  <a:pt x="68" y="1020"/>
                </a:lnTo>
                <a:lnTo>
                  <a:pt x="65" y="1031"/>
                </a:lnTo>
                <a:lnTo>
                  <a:pt x="63" y="1034"/>
                </a:lnTo>
                <a:lnTo>
                  <a:pt x="63" y="1040"/>
                </a:lnTo>
                <a:lnTo>
                  <a:pt x="60" y="1048"/>
                </a:lnTo>
                <a:lnTo>
                  <a:pt x="60" y="1057"/>
                </a:lnTo>
                <a:lnTo>
                  <a:pt x="57" y="1063"/>
                </a:lnTo>
                <a:lnTo>
                  <a:pt x="57" y="1071"/>
                </a:lnTo>
                <a:lnTo>
                  <a:pt x="54" y="1080"/>
                </a:lnTo>
                <a:lnTo>
                  <a:pt x="54" y="1088"/>
                </a:lnTo>
                <a:lnTo>
                  <a:pt x="51" y="1097"/>
                </a:lnTo>
                <a:lnTo>
                  <a:pt x="51" y="1105"/>
                </a:lnTo>
                <a:lnTo>
                  <a:pt x="51" y="1114"/>
                </a:lnTo>
                <a:lnTo>
                  <a:pt x="51" y="1125"/>
                </a:lnTo>
                <a:lnTo>
                  <a:pt x="48" y="1131"/>
                </a:lnTo>
                <a:lnTo>
                  <a:pt x="46" y="1139"/>
                </a:lnTo>
                <a:lnTo>
                  <a:pt x="46" y="1148"/>
                </a:lnTo>
                <a:lnTo>
                  <a:pt x="43" y="1156"/>
                </a:lnTo>
                <a:lnTo>
                  <a:pt x="43" y="1165"/>
                </a:lnTo>
                <a:lnTo>
                  <a:pt x="43" y="1170"/>
                </a:lnTo>
                <a:lnTo>
                  <a:pt x="43" y="1179"/>
                </a:lnTo>
                <a:lnTo>
                  <a:pt x="43" y="1188"/>
                </a:lnTo>
                <a:lnTo>
                  <a:pt x="43" y="1199"/>
                </a:lnTo>
                <a:lnTo>
                  <a:pt x="43" y="1210"/>
                </a:lnTo>
                <a:lnTo>
                  <a:pt x="43" y="1219"/>
                </a:lnTo>
                <a:lnTo>
                  <a:pt x="48" y="1224"/>
                </a:lnTo>
                <a:lnTo>
                  <a:pt x="51" y="1224"/>
                </a:lnTo>
                <a:lnTo>
                  <a:pt x="57" y="1224"/>
                </a:lnTo>
                <a:lnTo>
                  <a:pt x="65" y="1227"/>
                </a:lnTo>
                <a:lnTo>
                  <a:pt x="77" y="1227"/>
                </a:lnTo>
                <a:lnTo>
                  <a:pt x="88" y="1227"/>
                </a:lnTo>
                <a:lnTo>
                  <a:pt x="102" y="1230"/>
                </a:lnTo>
                <a:lnTo>
                  <a:pt x="119" y="1233"/>
                </a:lnTo>
                <a:lnTo>
                  <a:pt x="136" y="1233"/>
                </a:lnTo>
                <a:lnTo>
                  <a:pt x="156" y="1236"/>
                </a:lnTo>
                <a:lnTo>
                  <a:pt x="176" y="1236"/>
                </a:lnTo>
                <a:lnTo>
                  <a:pt x="199" y="1236"/>
                </a:lnTo>
                <a:lnTo>
                  <a:pt x="221" y="1239"/>
                </a:lnTo>
                <a:lnTo>
                  <a:pt x="247" y="1241"/>
                </a:lnTo>
                <a:lnTo>
                  <a:pt x="275" y="1241"/>
                </a:lnTo>
                <a:lnTo>
                  <a:pt x="303" y="1244"/>
                </a:lnTo>
                <a:lnTo>
                  <a:pt x="332" y="1244"/>
                </a:lnTo>
                <a:lnTo>
                  <a:pt x="360" y="1247"/>
                </a:lnTo>
                <a:lnTo>
                  <a:pt x="391" y="1247"/>
                </a:lnTo>
                <a:lnTo>
                  <a:pt x="422" y="1250"/>
                </a:lnTo>
                <a:lnTo>
                  <a:pt x="456" y="1253"/>
                </a:lnTo>
                <a:lnTo>
                  <a:pt x="490" y="1256"/>
                </a:lnTo>
                <a:lnTo>
                  <a:pt x="524" y="1256"/>
                </a:lnTo>
                <a:lnTo>
                  <a:pt x="561" y="1259"/>
                </a:lnTo>
                <a:lnTo>
                  <a:pt x="595" y="1259"/>
                </a:lnTo>
                <a:lnTo>
                  <a:pt x="632" y="1261"/>
                </a:lnTo>
                <a:lnTo>
                  <a:pt x="666" y="1264"/>
                </a:lnTo>
                <a:lnTo>
                  <a:pt x="706" y="1267"/>
                </a:lnTo>
                <a:lnTo>
                  <a:pt x="742" y="1267"/>
                </a:lnTo>
                <a:lnTo>
                  <a:pt x="779" y="1270"/>
                </a:lnTo>
                <a:lnTo>
                  <a:pt x="816" y="1273"/>
                </a:lnTo>
                <a:lnTo>
                  <a:pt x="856" y="1276"/>
                </a:lnTo>
                <a:lnTo>
                  <a:pt x="890" y="1276"/>
                </a:lnTo>
                <a:lnTo>
                  <a:pt x="929" y="1278"/>
                </a:lnTo>
                <a:lnTo>
                  <a:pt x="963" y="1278"/>
                </a:lnTo>
                <a:lnTo>
                  <a:pt x="1003" y="1281"/>
                </a:lnTo>
                <a:lnTo>
                  <a:pt x="1037" y="1284"/>
                </a:lnTo>
                <a:lnTo>
                  <a:pt x="1074" y="1287"/>
                </a:lnTo>
                <a:lnTo>
                  <a:pt x="1111" y="1287"/>
                </a:lnTo>
                <a:lnTo>
                  <a:pt x="1145" y="1290"/>
                </a:lnTo>
                <a:lnTo>
                  <a:pt x="1178" y="1290"/>
                </a:lnTo>
                <a:lnTo>
                  <a:pt x="1212" y="1293"/>
                </a:lnTo>
                <a:lnTo>
                  <a:pt x="1246" y="1293"/>
                </a:lnTo>
                <a:lnTo>
                  <a:pt x="1280" y="1295"/>
                </a:lnTo>
                <a:lnTo>
                  <a:pt x="1312" y="1298"/>
                </a:lnTo>
                <a:lnTo>
                  <a:pt x="1343" y="1298"/>
                </a:lnTo>
                <a:lnTo>
                  <a:pt x="1371" y="1301"/>
                </a:lnTo>
                <a:lnTo>
                  <a:pt x="1402" y="1304"/>
                </a:lnTo>
                <a:lnTo>
                  <a:pt x="1428" y="1304"/>
                </a:lnTo>
                <a:lnTo>
                  <a:pt x="1453" y="1304"/>
                </a:lnTo>
                <a:lnTo>
                  <a:pt x="1479" y="1307"/>
                </a:lnTo>
                <a:lnTo>
                  <a:pt x="1504" y="1307"/>
                </a:lnTo>
                <a:lnTo>
                  <a:pt x="1524" y="1310"/>
                </a:lnTo>
                <a:lnTo>
                  <a:pt x="1544" y="1310"/>
                </a:lnTo>
                <a:lnTo>
                  <a:pt x="1564" y="1310"/>
                </a:lnTo>
                <a:lnTo>
                  <a:pt x="1581" y="1312"/>
                </a:lnTo>
                <a:lnTo>
                  <a:pt x="1595" y="1312"/>
                </a:lnTo>
                <a:lnTo>
                  <a:pt x="1609" y="1312"/>
                </a:lnTo>
                <a:lnTo>
                  <a:pt x="1620" y="1312"/>
                </a:lnTo>
                <a:lnTo>
                  <a:pt x="1632" y="1315"/>
                </a:lnTo>
                <a:lnTo>
                  <a:pt x="1640" y="1315"/>
                </a:lnTo>
                <a:lnTo>
                  <a:pt x="1646" y="1315"/>
                </a:lnTo>
                <a:lnTo>
                  <a:pt x="1649" y="1315"/>
                </a:lnTo>
                <a:lnTo>
                  <a:pt x="1651" y="1315"/>
                </a:lnTo>
                <a:lnTo>
                  <a:pt x="1666" y="1281"/>
                </a:lnTo>
                <a:lnTo>
                  <a:pt x="1663" y="1278"/>
                </a:lnTo>
                <a:lnTo>
                  <a:pt x="1660" y="1278"/>
                </a:lnTo>
                <a:lnTo>
                  <a:pt x="1654" y="1278"/>
                </a:lnTo>
                <a:lnTo>
                  <a:pt x="1649" y="1278"/>
                </a:lnTo>
                <a:lnTo>
                  <a:pt x="1637" y="1278"/>
                </a:lnTo>
                <a:lnTo>
                  <a:pt x="1626" y="1278"/>
                </a:lnTo>
                <a:lnTo>
                  <a:pt x="1612" y="1276"/>
                </a:lnTo>
                <a:lnTo>
                  <a:pt x="1598" y="1276"/>
                </a:lnTo>
                <a:lnTo>
                  <a:pt x="1578" y="1276"/>
                </a:lnTo>
                <a:lnTo>
                  <a:pt x="1561" y="1276"/>
                </a:lnTo>
                <a:lnTo>
                  <a:pt x="1541" y="1273"/>
                </a:lnTo>
                <a:lnTo>
                  <a:pt x="1518" y="1273"/>
                </a:lnTo>
                <a:lnTo>
                  <a:pt x="1493" y="1270"/>
                </a:lnTo>
                <a:lnTo>
                  <a:pt x="1470" y="1270"/>
                </a:lnTo>
                <a:lnTo>
                  <a:pt x="1445" y="1267"/>
                </a:lnTo>
                <a:lnTo>
                  <a:pt x="1419" y="1267"/>
                </a:lnTo>
                <a:lnTo>
                  <a:pt x="1388" y="1267"/>
                </a:lnTo>
                <a:lnTo>
                  <a:pt x="1360" y="1264"/>
                </a:lnTo>
                <a:lnTo>
                  <a:pt x="1329" y="1264"/>
                </a:lnTo>
                <a:lnTo>
                  <a:pt x="1297" y="1261"/>
                </a:lnTo>
                <a:lnTo>
                  <a:pt x="1263" y="1259"/>
                </a:lnTo>
                <a:lnTo>
                  <a:pt x="1229" y="1259"/>
                </a:lnTo>
                <a:lnTo>
                  <a:pt x="1195" y="1256"/>
                </a:lnTo>
                <a:lnTo>
                  <a:pt x="1164" y="1256"/>
                </a:lnTo>
                <a:lnTo>
                  <a:pt x="1128" y="1253"/>
                </a:lnTo>
                <a:lnTo>
                  <a:pt x="1091" y="1253"/>
                </a:lnTo>
                <a:lnTo>
                  <a:pt x="1057" y="1250"/>
                </a:lnTo>
                <a:lnTo>
                  <a:pt x="1020" y="1247"/>
                </a:lnTo>
                <a:lnTo>
                  <a:pt x="983" y="1244"/>
                </a:lnTo>
                <a:lnTo>
                  <a:pt x="946" y="1244"/>
                </a:lnTo>
                <a:lnTo>
                  <a:pt x="909" y="1244"/>
                </a:lnTo>
                <a:lnTo>
                  <a:pt x="873" y="1241"/>
                </a:lnTo>
                <a:lnTo>
                  <a:pt x="836" y="1239"/>
                </a:lnTo>
                <a:lnTo>
                  <a:pt x="796" y="1236"/>
                </a:lnTo>
                <a:lnTo>
                  <a:pt x="759" y="1236"/>
                </a:lnTo>
                <a:lnTo>
                  <a:pt x="723" y="1233"/>
                </a:lnTo>
                <a:lnTo>
                  <a:pt x="686" y="1230"/>
                </a:lnTo>
                <a:lnTo>
                  <a:pt x="649" y="1230"/>
                </a:lnTo>
                <a:lnTo>
                  <a:pt x="612" y="1227"/>
                </a:lnTo>
                <a:lnTo>
                  <a:pt x="581" y="1224"/>
                </a:lnTo>
                <a:lnTo>
                  <a:pt x="544" y="1224"/>
                </a:lnTo>
                <a:lnTo>
                  <a:pt x="510" y="1222"/>
                </a:lnTo>
                <a:lnTo>
                  <a:pt x="476" y="1219"/>
                </a:lnTo>
                <a:lnTo>
                  <a:pt x="445" y="1219"/>
                </a:lnTo>
                <a:lnTo>
                  <a:pt x="411" y="1216"/>
                </a:lnTo>
                <a:lnTo>
                  <a:pt x="380" y="1213"/>
                </a:lnTo>
                <a:lnTo>
                  <a:pt x="351" y="1213"/>
                </a:lnTo>
                <a:lnTo>
                  <a:pt x="326" y="1210"/>
                </a:lnTo>
                <a:lnTo>
                  <a:pt x="295" y="1207"/>
                </a:lnTo>
                <a:lnTo>
                  <a:pt x="269" y="1207"/>
                </a:lnTo>
                <a:lnTo>
                  <a:pt x="244" y="1205"/>
                </a:lnTo>
                <a:lnTo>
                  <a:pt x="221" y="1202"/>
                </a:lnTo>
                <a:lnTo>
                  <a:pt x="199" y="1202"/>
                </a:lnTo>
                <a:lnTo>
                  <a:pt x="179" y="1199"/>
                </a:lnTo>
                <a:lnTo>
                  <a:pt x="159" y="1196"/>
                </a:lnTo>
                <a:lnTo>
                  <a:pt x="142" y="1196"/>
                </a:lnTo>
                <a:lnTo>
                  <a:pt x="125" y="1193"/>
                </a:lnTo>
                <a:lnTo>
                  <a:pt x="114" y="1193"/>
                </a:lnTo>
                <a:lnTo>
                  <a:pt x="99" y="1190"/>
                </a:lnTo>
                <a:lnTo>
                  <a:pt x="91" y="1190"/>
                </a:lnTo>
                <a:lnTo>
                  <a:pt x="82" y="1188"/>
                </a:lnTo>
                <a:lnTo>
                  <a:pt x="77" y="1188"/>
                </a:lnTo>
                <a:lnTo>
                  <a:pt x="74" y="1185"/>
                </a:lnTo>
                <a:lnTo>
                  <a:pt x="74" y="1179"/>
                </a:lnTo>
                <a:lnTo>
                  <a:pt x="74" y="1170"/>
                </a:lnTo>
                <a:lnTo>
                  <a:pt x="74" y="1159"/>
                </a:lnTo>
                <a:lnTo>
                  <a:pt x="74" y="1148"/>
                </a:lnTo>
                <a:lnTo>
                  <a:pt x="74" y="1136"/>
                </a:lnTo>
                <a:lnTo>
                  <a:pt x="77" y="1125"/>
                </a:lnTo>
                <a:lnTo>
                  <a:pt x="80" y="1111"/>
                </a:lnTo>
                <a:lnTo>
                  <a:pt x="82" y="1099"/>
                </a:lnTo>
                <a:lnTo>
                  <a:pt x="82" y="1088"/>
                </a:lnTo>
                <a:lnTo>
                  <a:pt x="85" y="1077"/>
                </a:lnTo>
                <a:lnTo>
                  <a:pt x="85" y="1065"/>
                </a:lnTo>
                <a:lnTo>
                  <a:pt x="88" y="1057"/>
                </a:lnTo>
                <a:lnTo>
                  <a:pt x="88" y="1048"/>
                </a:lnTo>
                <a:lnTo>
                  <a:pt x="91" y="1043"/>
                </a:lnTo>
                <a:lnTo>
                  <a:pt x="91" y="1040"/>
                </a:lnTo>
                <a:lnTo>
                  <a:pt x="94" y="1040"/>
                </a:lnTo>
                <a:lnTo>
                  <a:pt x="99" y="1040"/>
                </a:lnTo>
                <a:lnTo>
                  <a:pt x="105" y="1040"/>
                </a:lnTo>
                <a:lnTo>
                  <a:pt x="114" y="1040"/>
                </a:lnTo>
                <a:lnTo>
                  <a:pt x="122" y="1037"/>
                </a:lnTo>
                <a:lnTo>
                  <a:pt x="128" y="1037"/>
                </a:lnTo>
                <a:lnTo>
                  <a:pt x="131" y="1031"/>
                </a:lnTo>
                <a:lnTo>
                  <a:pt x="128" y="1028"/>
                </a:lnTo>
                <a:lnTo>
                  <a:pt x="125" y="1020"/>
                </a:lnTo>
                <a:lnTo>
                  <a:pt x="116" y="1009"/>
                </a:lnTo>
                <a:lnTo>
                  <a:pt x="111" y="997"/>
                </a:lnTo>
                <a:lnTo>
                  <a:pt x="105" y="986"/>
                </a:lnTo>
                <a:lnTo>
                  <a:pt x="99" y="972"/>
                </a:lnTo>
                <a:lnTo>
                  <a:pt x="97" y="963"/>
                </a:lnTo>
                <a:lnTo>
                  <a:pt x="94" y="955"/>
                </a:lnTo>
                <a:lnTo>
                  <a:pt x="3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27"/>
          <p:cNvSpPr/>
          <p:nvPr/>
        </p:nvSpPr>
        <p:spPr>
          <a:xfrm>
            <a:off x="5824440" y="681192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71">
                <a:moveTo>
                  <a:pt x="9" y="0"/>
                </a:moveTo>
                <a:lnTo>
                  <a:pt x="0" y="26"/>
                </a:lnTo>
                <a:lnTo>
                  <a:pt x="0" y="28"/>
                </a:lnTo>
                <a:lnTo>
                  <a:pt x="3" y="34"/>
                </a:lnTo>
                <a:lnTo>
                  <a:pt x="12" y="45"/>
                </a:lnTo>
                <a:lnTo>
                  <a:pt x="17" y="57"/>
                </a:lnTo>
                <a:lnTo>
                  <a:pt x="23" y="65"/>
                </a:lnTo>
                <a:lnTo>
                  <a:pt x="29" y="71"/>
                </a:lnTo>
                <a:lnTo>
                  <a:pt x="34" y="71"/>
                </a:lnTo>
                <a:lnTo>
                  <a:pt x="34" y="68"/>
                </a:lnTo>
                <a:lnTo>
                  <a:pt x="32" y="54"/>
                </a:lnTo>
                <a:lnTo>
                  <a:pt x="29" y="43"/>
                </a:lnTo>
                <a:lnTo>
                  <a:pt x="23" y="31"/>
                </a:lnTo>
                <a:lnTo>
                  <a:pt x="20" y="23"/>
                </a:lnTo>
                <a:lnTo>
                  <a:pt x="15" y="11"/>
                </a:lnTo>
                <a:lnTo>
                  <a:pt x="12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8"/>
          <p:cNvSpPr/>
          <p:nvPr/>
        </p:nvSpPr>
        <p:spPr>
          <a:xfrm>
            <a:off x="9328320" y="4329000"/>
            <a:ext cx="603000" cy="314280"/>
          </a:xfrm>
          <a:custGeom>
            <a:avLst/>
            <a:gdLst>
              <a:gd name="textAreaLeft" fmla="*/ 0 w 603000"/>
              <a:gd name="textAreaRight" fmla="*/ 603360 w 603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39" h="225">
                <a:moveTo>
                  <a:pt x="0" y="14"/>
                </a:moveTo>
                <a:lnTo>
                  <a:pt x="405" y="225"/>
                </a:lnTo>
                <a:lnTo>
                  <a:pt x="411" y="222"/>
                </a:lnTo>
                <a:lnTo>
                  <a:pt x="419" y="219"/>
                </a:lnTo>
                <a:lnTo>
                  <a:pt x="428" y="213"/>
                </a:lnTo>
                <a:lnTo>
                  <a:pt x="433" y="210"/>
                </a:lnTo>
                <a:lnTo>
                  <a:pt x="439" y="205"/>
                </a:lnTo>
                <a:lnTo>
                  <a:pt x="439" y="199"/>
                </a:lnTo>
                <a:lnTo>
                  <a:pt x="436" y="193"/>
                </a:lnTo>
                <a:lnTo>
                  <a:pt x="431" y="191"/>
                </a:lnTo>
                <a:lnTo>
                  <a:pt x="425" y="188"/>
                </a:lnTo>
                <a:lnTo>
                  <a:pt x="419" y="182"/>
                </a:lnTo>
                <a:lnTo>
                  <a:pt x="411" y="179"/>
                </a:lnTo>
                <a:lnTo>
                  <a:pt x="399" y="173"/>
                </a:lnTo>
                <a:lnTo>
                  <a:pt x="388" y="168"/>
                </a:lnTo>
                <a:lnTo>
                  <a:pt x="377" y="162"/>
                </a:lnTo>
                <a:lnTo>
                  <a:pt x="363" y="156"/>
                </a:lnTo>
                <a:lnTo>
                  <a:pt x="354" y="151"/>
                </a:lnTo>
                <a:lnTo>
                  <a:pt x="348" y="148"/>
                </a:lnTo>
                <a:lnTo>
                  <a:pt x="340" y="142"/>
                </a:lnTo>
                <a:lnTo>
                  <a:pt x="331" y="139"/>
                </a:lnTo>
                <a:lnTo>
                  <a:pt x="323" y="137"/>
                </a:lnTo>
                <a:lnTo>
                  <a:pt x="317" y="131"/>
                </a:lnTo>
                <a:lnTo>
                  <a:pt x="309" y="128"/>
                </a:lnTo>
                <a:lnTo>
                  <a:pt x="300" y="125"/>
                </a:lnTo>
                <a:lnTo>
                  <a:pt x="289" y="120"/>
                </a:lnTo>
                <a:lnTo>
                  <a:pt x="283" y="117"/>
                </a:lnTo>
                <a:lnTo>
                  <a:pt x="272" y="111"/>
                </a:lnTo>
                <a:lnTo>
                  <a:pt x="266" y="108"/>
                </a:lnTo>
                <a:lnTo>
                  <a:pt x="258" y="102"/>
                </a:lnTo>
                <a:lnTo>
                  <a:pt x="246" y="97"/>
                </a:lnTo>
                <a:lnTo>
                  <a:pt x="238" y="94"/>
                </a:lnTo>
                <a:lnTo>
                  <a:pt x="232" y="91"/>
                </a:lnTo>
                <a:lnTo>
                  <a:pt x="221" y="85"/>
                </a:lnTo>
                <a:lnTo>
                  <a:pt x="212" y="83"/>
                </a:lnTo>
                <a:lnTo>
                  <a:pt x="204" y="77"/>
                </a:lnTo>
                <a:lnTo>
                  <a:pt x="195" y="74"/>
                </a:lnTo>
                <a:lnTo>
                  <a:pt x="187" y="68"/>
                </a:lnTo>
                <a:lnTo>
                  <a:pt x="178" y="66"/>
                </a:lnTo>
                <a:lnTo>
                  <a:pt x="170" y="60"/>
                </a:lnTo>
                <a:lnTo>
                  <a:pt x="161" y="57"/>
                </a:lnTo>
                <a:lnTo>
                  <a:pt x="153" y="54"/>
                </a:lnTo>
                <a:lnTo>
                  <a:pt x="145" y="49"/>
                </a:lnTo>
                <a:lnTo>
                  <a:pt x="139" y="46"/>
                </a:lnTo>
                <a:lnTo>
                  <a:pt x="130" y="43"/>
                </a:lnTo>
                <a:lnTo>
                  <a:pt x="122" y="37"/>
                </a:lnTo>
                <a:lnTo>
                  <a:pt x="116" y="34"/>
                </a:lnTo>
                <a:lnTo>
                  <a:pt x="108" y="31"/>
                </a:lnTo>
                <a:lnTo>
                  <a:pt x="102" y="29"/>
                </a:lnTo>
                <a:lnTo>
                  <a:pt x="88" y="23"/>
                </a:lnTo>
                <a:lnTo>
                  <a:pt x="79" y="17"/>
                </a:lnTo>
                <a:lnTo>
                  <a:pt x="68" y="12"/>
                </a:lnTo>
                <a:lnTo>
                  <a:pt x="62" y="9"/>
                </a:lnTo>
                <a:lnTo>
                  <a:pt x="54" y="3"/>
                </a:lnTo>
                <a:lnTo>
                  <a:pt x="51" y="3"/>
                </a:ln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9"/>
          <p:cNvSpPr/>
          <p:nvPr/>
        </p:nvSpPr>
        <p:spPr>
          <a:xfrm>
            <a:off x="6935760" y="4570560"/>
            <a:ext cx="63360" cy="147600"/>
          </a:xfrm>
          <a:custGeom>
            <a:avLst/>
            <a:gdLst>
              <a:gd name="textAreaLeft" fmla="*/ 0 w 63360"/>
              <a:gd name="textAreaRight" fmla="*/ 63720 w 63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6" h="106">
                <a:moveTo>
                  <a:pt x="34" y="9"/>
                </a:moveTo>
                <a:lnTo>
                  <a:pt x="29" y="3"/>
                </a:lnTo>
                <a:lnTo>
                  <a:pt x="20" y="0"/>
                </a:lnTo>
                <a:lnTo>
                  <a:pt x="15" y="3"/>
                </a:lnTo>
                <a:lnTo>
                  <a:pt x="9" y="15"/>
                </a:lnTo>
                <a:lnTo>
                  <a:pt x="6" y="23"/>
                </a:lnTo>
                <a:lnTo>
                  <a:pt x="3" y="35"/>
                </a:lnTo>
                <a:lnTo>
                  <a:pt x="3" y="40"/>
                </a:lnTo>
                <a:lnTo>
                  <a:pt x="3" y="49"/>
                </a:lnTo>
                <a:lnTo>
                  <a:pt x="3" y="57"/>
                </a:lnTo>
                <a:lnTo>
                  <a:pt x="3" y="63"/>
                </a:lnTo>
                <a:lnTo>
                  <a:pt x="0" y="77"/>
                </a:lnTo>
                <a:lnTo>
                  <a:pt x="3" y="89"/>
                </a:lnTo>
                <a:lnTo>
                  <a:pt x="6" y="97"/>
                </a:lnTo>
                <a:lnTo>
                  <a:pt x="12" y="103"/>
                </a:lnTo>
                <a:lnTo>
                  <a:pt x="23" y="106"/>
                </a:lnTo>
                <a:lnTo>
                  <a:pt x="32" y="106"/>
                </a:lnTo>
                <a:lnTo>
                  <a:pt x="40" y="103"/>
                </a:lnTo>
                <a:lnTo>
                  <a:pt x="46" y="100"/>
                </a:lnTo>
                <a:lnTo>
                  <a:pt x="46" y="91"/>
                </a:lnTo>
                <a:lnTo>
                  <a:pt x="46" y="80"/>
                </a:lnTo>
                <a:lnTo>
                  <a:pt x="43" y="71"/>
                </a:lnTo>
                <a:lnTo>
                  <a:pt x="43" y="63"/>
                </a:lnTo>
                <a:lnTo>
                  <a:pt x="43" y="57"/>
                </a:lnTo>
                <a:lnTo>
                  <a:pt x="43" y="49"/>
                </a:lnTo>
                <a:lnTo>
                  <a:pt x="43" y="40"/>
                </a:lnTo>
                <a:lnTo>
                  <a:pt x="43" y="35"/>
                </a:lnTo>
                <a:lnTo>
                  <a:pt x="40" y="26"/>
                </a:lnTo>
                <a:lnTo>
                  <a:pt x="40" y="20"/>
                </a:lnTo>
                <a:lnTo>
                  <a:pt x="37" y="9"/>
                </a:lnTo>
                <a:lnTo>
                  <a:pt x="3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30"/>
          <p:cNvSpPr/>
          <p:nvPr/>
        </p:nvSpPr>
        <p:spPr>
          <a:xfrm>
            <a:off x="6808680" y="4765680"/>
            <a:ext cx="81000" cy="114120"/>
          </a:xfrm>
          <a:custGeom>
            <a:avLst/>
            <a:gdLst>
              <a:gd name="textAreaLeft" fmla="*/ 0 w 81000"/>
              <a:gd name="textAreaRight" fmla="*/ 81360 w 81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9" h="82">
                <a:moveTo>
                  <a:pt x="0" y="19"/>
                </a:moveTo>
                <a:lnTo>
                  <a:pt x="3" y="31"/>
                </a:lnTo>
                <a:lnTo>
                  <a:pt x="8" y="37"/>
                </a:lnTo>
                <a:lnTo>
                  <a:pt x="14" y="39"/>
                </a:lnTo>
                <a:lnTo>
                  <a:pt x="17" y="42"/>
                </a:lnTo>
                <a:lnTo>
                  <a:pt x="23" y="82"/>
                </a:lnTo>
                <a:lnTo>
                  <a:pt x="54" y="82"/>
                </a:lnTo>
                <a:lnTo>
                  <a:pt x="40" y="37"/>
                </a:lnTo>
                <a:lnTo>
                  <a:pt x="45" y="34"/>
                </a:lnTo>
                <a:lnTo>
                  <a:pt x="51" y="31"/>
                </a:lnTo>
                <a:lnTo>
                  <a:pt x="59" y="25"/>
                </a:lnTo>
                <a:lnTo>
                  <a:pt x="59" y="17"/>
                </a:lnTo>
                <a:lnTo>
                  <a:pt x="59" y="8"/>
                </a:lnTo>
                <a:lnTo>
                  <a:pt x="57" y="2"/>
                </a:lnTo>
                <a:lnTo>
                  <a:pt x="54" y="0"/>
                </a:lnTo>
                <a:lnTo>
                  <a:pt x="51" y="0"/>
                </a:lnTo>
                <a:lnTo>
                  <a:pt x="45" y="0"/>
                </a:lnTo>
                <a:lnTo>
                  <a:pt x="40" y="0"/>
                </a:lnTo>
                <a:lnTo>
                  <a:pt x="34" y="0"/>
                </a:lnTo>
                <a:lnTo>
                  <a:pt x="28" y="5"/>
                </a:lnTo>
                <a:lnTo>
                  <a:pt x="20" y="8"/>
                </a:lnTo>
                <a:lnTo>
                  <a:pt x="14" y="11"/>
                </a:lnTo>
                <a:lnTo>
                  <a:pt x="3" y="1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31"/>
          <p:cNvSpPr/>
          <p:nvPr/>
        </p:nvSpPr>
        <p:spPr>
          <a:xfrm>
            <a:off x="6699240" y="4098960"/>
            <a:ext cx="504720" cy="797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368" h="570">
                <a:moveTo>
                  <a:pt x="53" y="562"/>
                </a:moveTo>
                <a:lnTo>
                  <a:pt x="53" y="562"/>
                </a:lnTo>
                <a:lnTo>
                  <a:pt x="53" y="556"/>
                </a:lnTo>
                <a:lnTo>
                  <a:pt x="51" y="548"/>
                </a:lnTo>
                <a:lnTo>
                  <a:pt x="48" y="536"/>
                </a:lnTo>
                <a:lnTo>
                  <a:pt x="45" y="528"/>
                </a:lnTo>
                <a:lnTo>
                  <a:pt x="42" y="519"/>
                </a:lnTo>
                <a:lnTo>
                  <a:pt x="42" y="514"/>
                </a:lnTo>
                <a:lnTo>
                  <a:pt x="42" y="505"/>
                </a:lnTo>
                <a:lnTo>
                  <a:pt x="39" y="496"/>
                </a:lnTo>
                <a:lnTo>
                  <a:pt x="39" y="488"/>
                </a:lnTo>
                <a:lnTo>
                  <a:pt x="39" y="477"/>
                </a:lnTo>
                <a:lnTo>
                  <a:pt x="39" y="468"/>
                </a:lnTo>
                <a:lnTo>
                  <a:pt x="39" y="457"/>
                </a:lnTo>
                <a:lnTo>
                  <a:pt x="39" y="445"/>
                </a:lnTo>
                <a:lnTo>
                  <a:pt x="39" y="434"/>
                </a:lnTo>
                <a:lnTo>
                  <a:pt x="42" y="426"/>
                </a:lnTo>
                <a:lnTo>
                  <a:pt x="42" y="414"/>
                </a:lnTo>
                <a:lnTo>
                  <a:pt x="45" y="403"/>
                </a:lnTo>
                <a:lnTo>
                  <a:pt x="45" y="391"/>
                </a:lnTo>
                <a:lnTo>
                  <a:pt x="51" y="380"/>
                </a:lnTo>
                <a:lnTo>
                  <a:pt x="53" y="369"/>
                </a:lnTo>
                <a:lnTo>
                  <a:pt x="56" y="357"/>
                </a:lnTo>
                <a:lnTo>
                  <a:pt x="62" y="343"/>
                </a:lnTo>
                <a:lnTo>
                  <a:pt x="68" y="332"/>
                </a:lnTo>
                <a:lnTo>
                  <a:pt x="73" y="320"/>
                </a:lnTo>
                <a:lnTo>
                  <a:pt x="79" y="309"/>
                </a:lnTo>
                <a:lnTo>
                  <a:pt x="87" y="301"/>
                </a:lnTo>
                <a:lnTo>
                  <a:pt x="96" y="289"/>
                </a:lnTo>
                <a:lnTo>
                  <a:pt x="104" y="278"/>
                </a:lnTo>
                <a:lnTo>
                  <a:pt x="113" y="269"/>
                </a:lnTo>
                <a:lnTo>
                  <a:pt x="119" y="258"/>
                </a:lnTo>
                <a:lnTo>
                  <a:pt x="127" y="249"/>
                </a:lnTo>
                <a:lnTo>
                  <a:pt x="133" y="241"/>
                </a:lnTo>
                <a:lnTo>
                  <a:pt x="138" y="235"/>
                </a:lnTo>
                <a:lnTo>
                  <a:pt x="144" y="227"/>
                </a:lnTo>
                <a:lnTo>
                  <a:pt x="150" y="221"/>
                </a:lnTo>
                <a:lnTo>
                  <a:pt x="158" y="207"/>
                </a:lnTo>
                <a:lnTo>
                  <a:pt x="167" y="198"/>
                </a:lnTo>
                <a:lnTo>
                  <a:pt x="172" y="187"/>
                </a:lnTo>
                <a:lnTo>
                  <a:pt x="178" y="181"/>
                </a:lnTo>
                <a:lnTo>
                  <a:pt x="184" y="170"/>
                </a:lnTo>
                <a:lnTo>
                  <a:pt x="187" y="164"/>
                </a:lnTo>
                <a:lnTo>
                  <a:pt x="184" y="161"/>
                </a:lnTo>
                <a:lnTo>
                  <a:pt x="178" y="161"/>
                </a:lnTo>
                <a:lnTo>
                  <a:pt x="170" y="161"/>
                </a:lnTo>
                <a:lnTo>
                  <a:pt x="161" y="164"/>
                </a:lnTo>
                <a:lnTo>
                  <a:pt x="150" y="170"/>
                </a:lnTo>
                <a:lnTo>
                  <a:pt x="138" y="176"/>
                </a:lnTo>
                <a:lnTo>
                  <a:pt x="127" y="178"/>
                </a:lnTo>
                <a:lnTo>
                  <a:pt x="116" y="184"/>
                </a:lnTo>
                <a:lnTo>
                  <a:pt x="107" y="187"/>
                </a:lnTo>
                <a:lnTo>
                  <a:pt x="102" y="187"/>
                </a:lnTo>
                <a:lnTo>
                  <a:pt x="93" y="184"/>
                </a:lnTo>
                <a:lnTo>
                  <a:pt x="87" y="184"/>
                </a:lnTo>
                <a:lnTo>
                  <a:pt x="79" y="184"/>
                </a:lnTo>
                <a:lnTo>
                  <a:pt x="76" y="181"/>
                </a:lnTo>
                <a:lnTo>
                  <a:pt x="68" y="178"/>
                </a:lnTo>
                <a:lnTo>
                  <a:pt x="65" y="176"/>
                </a:lnTo>
                <a:lnTo>
                  <a:pt x="65" y="173"/>
                </a:lnTo>
                <a:lnTo>
                  <a:pt x="70" y="164"/>
                </a:lnTo>
                <a:lnTo>
                  <a:pt x="76" y="161"/>
                </a:lnTo>
                <a:lnTo>
                  <a:pt x="82" y="156"/>
                </a:lnTo>
                <a:lnTo>
                  <a:pt x="87" y="150"/>
                </a:lnTo>
                <a:lnTo>
                  <a:pt x="96" y="144"/>
                </a:lnTo>
                <a:lnTo>
                  <a:pt x="104" y="139"/>
                </a:lnTo>
                <a:lnTo>
                  <a:pt x="113" y="133"/>
                </a:lnTo>
                <a:lnTo>
                  <a:pt x="124" y="127"/>
                </a:lnTo>
                <a:lnTo>
                  <a:pt x="136" y="124"/>
                </a:lnTo>
                <a:lnTo>
                  <a:pt x="147" y="119"/>
                </a:lnTo>
                <a:lnTo>
                  <a:pt x="158" y="113"/>
                </a:lnTo>
                <a:lnTo>
                  <a:pt x="170" y="110"/>
                </a:lnTo>
                <a:lnTo>
                  <a:pt x="181" y="105"/>
                </a:lnTo>
                <a:lnTo>
                  <a:pt x="192" y="102"/>
                </a:lnTo>
                <a:lnTo>
                  <a:pt x="204" y="99"/>
                </a:lnTo>
                <a:lnTo>
                  <a:pt x="212" y="96"/>
                </a:lnTo>
                <a:lnTo>
                  <a:pt x="221" y="93"/>
                </a:lnTo>
                <a:lnTo>
                  <a:pt x="229" y="90"/>
                </a:lnTo>
                <a:lnTo>
                  <a:pt x="235" y="90"/>
                </a:lnTo>
                <a:lnTo>
                  <a:pt x="243" y="90"/>
                </a:lnTo>
                <a:lnTo>
                  <a:pt x="252" y="90"/>
                </a:lnTo>
                <a:lnTo>
                  <a:pt x="257" y="90"/>
                </a:lnTo>
                <a:lnTo>
                  <a:pt x="266" y="93"/>
                </a:lnTo>
                <a:lnTo>
                  <a:pt x="274" y="96"/>
                </a:lnTo>
                <a:lnTo>
                  <a:pt x="280" y="99"/>
                </a:lnTo>
                <a:lnTo>
                  <a:pt x="291" y="99"/>
                </a:lnTo>
                <a:lnTo>
                  <a:pt x="297" y="102"/>
                </a:lnTo>
                <a:lnTo>
                  <a:pt x="303" y="99"/>
                </a:lnTo>
                <a:lnTo>
                  <a:pt x="297" y="90"/>
                </a:lnTo>
                <a:lnTo>
                  <a:pt x="289" y="85"/>
                </a:lnTo>
                <a:lnTo>
                  <a:pt x="277" y="76"/>
                </a:lnTo>
                <a:lnTo>
                  <a:pt x="266" y="68"/>
                </a:lnTo>
                <a:lnTo>
                  <a:pt x="255" y="59"/>
                </a:lnTo>
                <a:lnTo>
                  <a:pt x="246" y="51"/>
                </a:lnTo>
                <a:lnTo>
                  <a:pt x="240" y="42"/>
                </a:lnTo>
                <a:lnTo>
                  <a:pt x="240" y="34"/>
                </a:lnTo>
                <a:lnTo>
                  <a:pt x="240" y="31"/>
                </a:lnTo>
                <a:lnTo>
                  <a:pt x="246" y="28"/>
                </a:lnTo>
                <a:lnTo>
                  <a:pt x="249" y="28"/>
                </a:lnTo>
                <a:lnTo>
                  <a:pt x="257" y="31"/>
                </a:lnTo>
                <a:lnTo>
                  <a:pt x="266" y="34"/>
                </a:lnTo>
                <a:lnTo>
                  <a:pt x="274" y="39"/>
                </a:lnTo>
                <a:lnTo>
                  <a:pt x="283" y="45"/>
                </a:lnTo>
                <a:lnTo>
                  <a:pt x="294" y="53"/>
                </a:lnTo>
                <a:lnTo>
                  <a:pt x="303" y="56"/>
                </a:lnTo>
                <a:lnTo>
                  <a:pt x="311" y="65"/>
                </a:lnTo>
                <a:lnTo>
                  <a:pt x="320" y="71"/>
                </a:lnTo>
                <a:lnTo>
                  <a:pt x="328" y="76"/>
                </a:lnTo>
                <a:lnTo>
                  <a:pt x="340" y="85"/>
                </a:lnTo>
                <a:lnTo>
                  <a:pt x="345" y="90"/>
                </a:lnTo>
                <a:lnTo>
                  <a:pt x="368" y="88"/>
                </a:lnTo>
                <a:lnTo>
                  <a:pt x="362" y="82"/>
                </a:lnTo>
                <a:lnTo>
                  <a:pt x="351" y="73"/>
                </a:lnTo>
                <a:lnTo>
                  <a:pt x="342" y="65"/>
                </a:lnTo>
                <a:lnTo>
                  <a:pt x="337" y="59"/>
                </a:lnTo>
                <a:lnTo>
                  <a:pt x="328" y="51"/>
                </a:lnTo>
                <a:lnTo>
                  <a:pt x="320" y="45"/>
                </a:lnTo>
                <a:lnTo>
                  <a:pt x="308" y="34"/>
                </a:lnTo>
                <a:lnTo>
                  <a:pt x="297" y="25"/>
                </a:lnTo>
                <a:lnTo>
                  <a:pt x="286" y="19"/>
                </a:lnTo>
                <a:lnTo>
                  <a:pt x="277" y="14"/>
                </a:lnTo>
                <a:lnTo>
                  <a:pt x="266" y="5"/>
                </a:lnTo>
                <a:lnTo>
                  <a:pt x="257" y="2"/>
                </a:lnTo>
                <a:lnTo>
                  <a:pt x="246" y="0"/>
                </a:lnTo>
                <a:lnTo>
                  <a:pt x="240" y="0"/>
                </a:lnTo>
                <a:lnTo>
                  <a:pt x="226" y="0"/>
                </a:lnTo>
                <a:lnTo>
                  <a:pt x="218" y="5"/>
                </a:lnTo>
                <a:lnTo>
                  <a:pt x="212" y="11"/>
                </a:lnTo>
                <a:lnTo>
                  <a:pt x="209" y="22"/>
                </a:lnTo>
                <a:lnTo>
                  <a:pt x="206" y="31"/>
                </a:lnTo>
                <a:lnTo>
                  <a:pt x="212" y="39"/>
                </a:lnTo>
                <a:lnTo>
                  <a:pt x="215" y="45"/>
                </a:lnTo>
                <a:lnTo>
                  <a:pt x="218" y="48"/>
                </a:lnTo>
                <a:lnTo>
                  <a:pt x="223" y="53"/>
                </a:lnTo>
                <a:lnTo>
                  <a:pt x="232" y="56"/>
                </a:lnTo>
                <a:lnTo>
                  <a:pt x="229" y="56"/>
                </a:lnTo>
                <a:lnTo>
                  <a:pt x="223" y="59"/>
                </a:lnTo>
                <a:lnTo>
                  <a:pt x="212" y="62"/>
                </a:lnTo>
                <a:lnTo>
                  <a:pt x="201" y="68"/>
                </a:lnTo>
                <a:lnTo>
                  <a:pt x="192" y="71"/>
                </a:lnTo>
                <a:lnTo>
                  <a:pt x="184" y="73"/>
                </a:lnTo>
                <a:lnTo>
                  <a:pt x="175" y="76"/>
                </a:lnTo>
                <a:lnTo>
                  <a:pt x="167" y="82"/>
                </a:lnTo>
                <a:lnTo>
                  <a:pt x="158" y="85"/>
                </a:lnTo>
                <a:lnTo>
                  <a:pt x="150" y="88"/>
                </a:lnTo>
                <a:lnTo>
                  <a:pt x="141" y="93"/>
                </a:lnTo>
                <a:lnTo>
                  <a:pt x="133" y="99"/>
                </a:lnTo>
                <a:lnTo>
                  <a:pt x="121" y="102"/>
                </a:lnTo>
                <a:lnTo>
                  <a:pt x="113" y="105"/>
                </a:lnTo>
                <a:lnTo>
                  <a:pt x="102" y="110"/>
                </a:lnTo>
                <a:lnTo>
                  <a:pt x="96" y="113"/>
                </a:lnTo>
                <a:lnTo>
                  <a:pt x="85" y="116"/>
                </a:lnTo>
                <a:lnTo>
                  <a:pt x="76" y="122"/>
                </a:lnTo>
                <a:lnTo>
                  <a:pt x="68" y="124"/>
                </a:lnTo>
                <a:lnTo>
                  <a:pt x="62" y="130"/>
                </a:lnTo>
                <a:lnTo>
                  <a:pt x="53" y="133"/>
                </a:lnTo>
                <a:lnTo>
                  <a:pt x="45" y="136"/>
                </a:lnTo>
                <a:lnTo>
                  <a:pt x="39" y="142"/>
                </a:lnTo>
                <a:lnTo>
                  <a:pt x="34" y="144"/>
                </a:lnTo>
                <a:lnTo>
                  <a:pt x="25" y="150"/>
                </a:lnTo>
                <a:lnTo>
                  <a:pt x="22" y="156"/>
                </a:lnTo>
                <a:lnTo>
                  <a:pt x="17" y="161"/>
                </a:lnTo>
                <a:lnTo>
                  <a:pt x="17" y="167"/>
                </a:lnTo>
                <a:lnTo>
                  <a:pt x="17" y="173"/>
                </a:lnTo>
                <a:lnTo>
                  <a:pt x="22" y="178"/>
                </a:lnTo>
                <a:lnTo>
                  <a:pt x="25" y="181"/>
                </a:lnTo>
                <a:lnTo>
                  <a:pt x="34" y="187"/>
                </a:lnTo>
                <a:lnTo>
                  <a:pt x="39" y="190"/>
                </a:lnTo>
                <a:lnTo>
                  <a:pt x="45" y="195"/>
                </a:lnTo>
                <a:lnTo>
                  <a:pt x="51" y="198"/>
                </a:lnTo>
                <a:lnTo>
                  <a:pt x="59" y="201"/>
                </a:lnTo>
                <a:lnTo>
                  <a:pt x="68" y="201"/>
                </a:lnTo>
                <a:lnTo>
                  <a:pt x="79" y="204"/>
                </a:lnTo>
                <a:lnTo>
                  <a:pt x="87" y="204"/>
                </a:lnTo>
                <a:lnTo>
                  <a:pt x="99" y="204"/>
                </a:lnTo>
                <a:lnTo>
                  <a:pt x="104" y="204"/>
                </a:lnTo>
                <a:lnTo>
                  <a:pt x="107" y="204"/>
                </a:lnTo>
                <a:lnTo>
                  <a:pt x="104" y="207"/>
                </a:lnTo>
                <a:lnTo>
                  <a:pt x="99" y="213"/>
                </a:lnTo>
                <a:lnTo>
                  <a:pt x="96" y="215"/>
                </a:lnTo>
                <a:lnTo>
                  <a:pt x="93" y="221"/>
                </a:lnTo>
                <a:lnTo>
                  <a:pt x="87" y="227"/>
                </a:lnTo>
                <a:lnTo>
                  <a:pt x="85" y="235"/>
                </a:lnTo>
                <a:lnTo>
                  <a:pt x="76" y="241"/>
                </a:lnTo>
                <a:lnTo>
                  <a:pt x="73" y="249"/>
                </a:lnTo>
                <a:lnTo>
                  <a:pt x="65" y="258"/>
                </a:lnTo>
                <a:lnTo>
                  <a:pt x="62" y="269"/>
                </a:lnTo>
                <a:lnTo>
                  <a:pt x="53" y="281"/>
                </a:lnTo>
                <a:lnTo>
                  <a:pt x="51" y="292"/>
                </a:lnTo>
                <a:lnTo>
                  <a:pt x="42" y="303"/>
                </a:lnTo>
                <a:lnTo>
                  <a:pt x="39" y="315"/>
                </a:lnTo>
                <a:lnTo>
                  <a:pt x="34" y="326"/>
                </a:lnTo>
                <a:lnTo>
                  <a:pt x="28" y="340"/>
                </a:lnTo>
                <a:lnTo>
                  <a:pt x="22" y="346"/>
                </a:lnTo>
                <a:lnTo>
                  <a:pt x="22" y="355"/>
                </a:lnTo>
                <a:lnTo>
                  <a:pt x="19" y="363"/>
                </a:lnTo>
                <a:lnTo>
                  <a:pt x="17" y="369"/>
                </a:lnTo>
                <a:lnTo>
                  <a:pt x="14" y="377"/>
                </a:lnTo>
                <a:lnTo>
                  <a:pt x="11" y="386"/>
                </a:lnTo>
                <a:lnTo>
                  <a:pt x="11" y="391"/>
                </a:lnTo>
                <a:lnTo>
                  <a:pt x="8" y="400"/>
                </a:lnTo>
                <a:lnTo>
                  <a:pt x="8" y="408"/>
                </a:lnTo>
                <a:lnTo>
                  <a:pt x="5" y="414"/>
                </a:lnTo>
                <a:lnTo>
                  <a:pt x="5" y="423"/>
                </a:lnTo>
                <a:lnTo>
                  <a:pt x="5" y="434"/>
                </a:lnTo>
                <a:lnTo>
                  <a:pt x="2" y="440"/>
                </a:lnTo>
                <a:lnTo>
                  <a:pt x="0" y="448"/>
                </a:lnTo>
                <a:lnTo>
                  <a:pt x="0" y="454"/>
                </a:lnTo>
                <a:lnTo>
                  <a:pt x="0" y="465"/>
                </a:lnTo>
                <a:lnTo>
                  <a:pt x="0" y="471"/>
                </a:lnTo>
                <a:lnTo>
                  <a:pt x="0" y="479"/>
                </a:lnTo>
                <a:lnTo>
                  <a:pt x="0" y="488"/>
                </a:lnTo>
                <a:lnTo>
                  <a:pt x="2" y="499"/>
                </a:lnTo>
                <a:lnTo>
                  <a:pt x="2" y="508"/>
                </a:lnTo>
                <a:lnTo>
                  <a:pt x="2" y="516"/>
                </a:lnTo>
                <a:lnTo>
                  <a:pt x="2" y="525"/>
                </a:lnTo>
                <a:lnTo>
                  <a:pt x="5" y="533"/>
                </a:lnTo>
                <a:lnTo>
                  <a:pt x="8" y="542"/>
                </a:lnTo>
                <a:lnTo>
                  <a:pt x="11" y="550"/>
                </a:lnTo>
                <a:lnTo>
                  <a:pt x="11" y="559"/>
                </a:lnTo>
                <a:lnTo>
                  <a:pt x="17" y="570"/>
                </a:lnTo>
                <a:lnTo>
                  <a:pt x="53" y="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32"/>
          <p:cNvSpPr/>
          <p:nvPr/>
        </p:nvSpPr>
        <p:spPr>
          <a:xfrm>
            <a:off x="7149960" y="4075200"/>
            <a:ext cx="128880" cy="135000"/>
          </a:xfrm>
          <a:custGeom>
            <a:avLst/>
            <a:gdLst>
              <a:gd name="textAreaLeft" fmla="*/ 0 w 128880"/>
              <a:gd name="textAreaRight" fmla="*/ 129240 w 128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4" h="97">
                <a:moveTo>
                  <a:pt x="17" y="0"/>
                </a:moveTo>
                <a:lnTo>
                  <a:pt x="6" y="3"/>
                </a:lnTo>
                <a:lnTo>
                  <a:pt x="0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3" y="35"/>
                </a:lnTo>
                <a:lnTo>
                  <a:pt x="6" y="40"/>
                </a:lnTo>
                <a:lnTo>
                  <a:pt x="14" y="52"/>
                </a:lnTo>
                <a:lnTo>
                  <a:pt x="26" y="60"/>
                </a:lnTo>
                <a:lnTo>
                  <a:pt x="37" y="71"/>
                </a:lnTo>
                <a:lnTo>
                  <a:pt x="48" y="77"/>
                </a:lnTo>
                <a:lnTo>
                  <a:pt x="60" y="86"/>
                </a:lnTo>
                <a:lnTo>
                  <a:pt x="68" y="91"/>
                </a:lnTo>
                <a:lnTo>
                  <a:pt x="74" y="94"/>
                </a:lnTo>
                <a:lnTo>
                  <a:pt x="82" y="97"/>
                </a:lnTo>
                <a:lnTo>
                  <a:pt x="91" y="97"/>
                </a:lnTo>
                <a:lnTo>
                  <a:pt x="94" y="94"/>
                </a:lnTo>
                <a:lnTo>
                  <a:pt x="91" y="86"/>
                </a:lnTo>
                <a:lnTo>
                  <a:pt x="82" y="77"/>
                </a:lnTo>
                <a:lnTo>
                  <a:pt x="74" y="66"/>
                </a:lnTo>
                <a:lnTo>
                  <a:pt x="65" y="60"/>
                </a:lnTo>
                <a:lnTo>
                  <a:pt x="60" y="52"/>
                </a:lnTo>
                <a:lnTo>
                  <a:pt x="54" y="43"/>
                </a:lnTo>
                <a:lnTo>
                  <a:pt x="48" y="37"/>
                </a:lnTo>
                <a:lnTo>
                  <a:pt x="40" y="32"/>
                </a:lnTo>
                <a:lnTo>
                  <a:pt x="34" y="23"/>
                </a:lnTo>
                <a:lnTo>
                  <a:pt x="29" y="18"/>
                </a:lnTo>
                <a:lnTo>
                  <a:pt x="26" y="12"/>
                </a:lnTo>
                <a:lnTo>
                  <a:pt x="20" y="3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33"/>
          <p:cNvSpPr/>
          <p:nvPr/>
        </p:nvSpPr>
        <p:spPr>
          <a:xfrm>
            <a:off x="7257960" y="3992400"/>
            <a:ext cx="405000" cy="284400"/>
          </a:xfrm>
          <a:custGeom>
            <a:avLst/>
            <a:gdLst>
              <a:gd name="textAreaLeft" fmla="*/ 0 w 405000"/>
              <a:gd name="textAreaRight" fmla="*/ 405360 w 4050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95" h="204">
                <a:moveTo>
                  <a:pt x="9" y="37"/>
                </a:moveTo>
                <a:lnTo>
                  <a:pt x="3" y="37"/>
                </a:lnTo>
                <a:lnTo>
                  <a:pt x="0" y="45"/>
                </a:lnTo>
                <a:lnTo>
                  <a:pt x="0" y="48"/>
                </a:lnTo>
                <a:lnTo>
                  <a:pt x="6" y="57"/>
                </a:lnTo>
                <a:lnTo>
                  <a:pt x="9" y="65"/>
                </a:lnTo>
                <a:lnTo>
                  <a:pt x="15" y="77"/>
                </a:lnTo>
                <a:lnTo>
                  <a:pt x="17" y="79"/>
                </a:lnTo>
                <a:lnTo>
                  <a:pt x="23" y="88"/>
                </a:lnTo>
                <a:lnTo>
                  <a:pt x="29" y="94"/>
                </a:lnTo>
                <a:lnTo>
                  <a:pt x="34" y="102"/>
                </a:lnTo>
                <a:lnTo>
                  <a:pt x="40" y="111"/>
                </a:lnTo>
                <a:lnTo>
                  <a:pt x="46" y="116"/>
                </a:lnTo>
                <a:lnTo>
                  <a:pt x="51" y="125"/>
                </a:lnTo>
                <a:lnTo>
                  <a:pt x="60" y="133"/>
                </a:lnTo>
                <a:lnTo>
                  <a:pt x="71" y="145"/>
                </a:lnTo>
                <a:lnTo>
                  <a:pt x="83" y="150"/>
                </a:lnTo>
                <a:lnTo>
                  <a:pt x="91" y="153"/>
                </a:lnTo>
                <a:lnTo>
                  <a:pt x="97" y="150"/>
                </a:lnTo>
                <a:lnTo>
                  <a:pt x="97" y="145"/>
                </a:lnTo>
                <a:lnTo>
                  <a:pt x="97" y="142"/>
                </a:lnTo>
                <a:lnTo>
                  <a:pt x="97" y="133"/>
                </a:lnTo>
                <a:lnTo>
                  <a:pt x="97" y="128"/>
                </a:lnTo>
                <a:lnTo>
                  <a:pt x="97" y="119"/>
                </a:lnTo>
                <a:lnTo>
                  <a:pt x="97" y="111"/>
                </a:lnTo>
                <a:lnTo>
                  <a:pt x="94" y="102"/>
                </a:lnTo>
                <a:lnTo>
                  <a:pt x="94" y="96"/>
                </a:lnTo>
                <a:lnTo>
                  <a:pt x="94" y="88"/>
                </a:lnTo>
                <a:lnTo>
                  <a:pt x="91" y="79"/>
                </a:lnTo>
                <a:lnTo>
                  <a:pt x="91" y="74"/>
                </a:lnTo>
                <a:lnTo>
                  <a:pt x="91" y="68"/>
                </a:lnTo>
                <a:lnTo>
                  <a:pt x="91" y="59"/>
                </a:lnTo>
                <a:lnTo>
                  <a:pt x="91" y="57"/>
                </a:lnTo>
                <a:lnTo>
                  <a:pt x="91" y="59"/>
                </a:lnTo>
                <a:lnTo>
                  <a:pt x="102" y="71"/>
                </a:lnTo>
                <a:lnTo>
                  <a:pt x="111" y="79"/>
                </a:lnTo>
                <a:lnTo>
                  <a:pt x="117" y="88"/>
                </a:lnTo>
                <a:lnTo>
                  <a:pt x="125" y="96"/>
                </a:lnTo>
                <a:lnTo>
                  <a:pt x="136" y="105"/>
                </a:lnTo>
                <a:lnTo>
                  <a:pt x="145" y="113"/>
                </a:lnTo>
                <a:lnTo>
                  <a:pt x="153" y="122"/>
                </a:lnTo>
                <a:lnTo>
                  <a:pt x="162" y="128"/>
                </a:lnTo>
                <a:lnTo>
                  <a:pt x="170" y="133"/>
                </a:lnTo>
                <a:lnTo>
                  <a:pt x="176" y="136"/>
                </a:lnTo>
                <a:lnTo>
                  <a:pt x="185" y="139"/>
                </a:lnTo>
                <a:lnTo>
                  <a:pt x="187" y="139"/>
                </a:lnTo>
                <a:lnTo>
                  <a:pt x="193" y="139"/>
                </a:lnTo>
                <a:lnTo>
                  <a:pt x="196" y="133"/>
                </a:lnTo>
                <a:lnTo>
                  <a:pt x="199" y="128"/>
                </a:lnTo>
                <a:lnTo>
                  <a:pt x="199" y="119"/>
                </a:lnTo>
                <a:lnTo>
                  <a:pt x="202" y="113"/>
                </a:lnTo>
                <a:lnTo>
                  <a:pt x="204" y="105"/>
                </a:lnTo>
                <a:lnTo>
                  <a:pt x="207" y="96"/>
                </a:lnTo>
                <a:lnTo>
                  <a:pt x="210" y="88"/>
                </a:lnTo>
                <a:lnTo>
                  <a:pt x="213" y="79"/>
                </a:lnTo>
                <a:lnTo>
                  <a:pt x="213" y="71"/>
                </a:lnTo>
                <a:lnTo>
                  <a:pt x="216" y="65"/>
                </a:lnTo>
                <a:lnTo>
                  <a:pt x="219" y="57"/>
                </a:lnTo>
                <a:lnTo>
                  <a:pt x="221" y="54"/>
                </a:lnTo>
                <a:lnTo>
                  <a:pt x="224" y="45"/>
                </a:lnTo>
                <a:lnTo>
                  <a:pt x="230" y="45"/>
                </a:lnTo>
                <a:lnTo>
                  <a:pt x="236" y="48"/>
                </a:lnTo>
                <a:lnTo>
                  <a:pt x="241" y="54"/>
                </a:lnTo>
                <a:lnTo>
                  <a:pt x="247" y="62"/>
                </a:lnTo>
                <a:lnTo>
                  <a:pt x="253" y="71"/>
                </a:lnTo>
                <a:lnTo>
                  <a:pt x="258" y="79"/>
                </a:lnTo>
                <a:lnTo>
                  <a:pt x="261" y="91"/>
                </a:lnTo>
                <a:lnTo>
                  <a:pt x="264" y="102"/>
                </a:lnTo>
                <a:lnTo>
                  <a:pt x="264" y="113"/>
                </a:lnTo>
                <a:lnTo>
                  <a:pt x="264" y="128"/>
                </a:lnTo>
                <a:lnTo>
                  <a:pt x="264" y="133"/>
                </a:lnTo>
                <a:lnTo>
                  <a:pt x="264" y="142"/>
                </a:lnTo>
                <a:lnTo>
                  <a:pt x="264" y="148"/>
                </a:lnTo>
                <a:lnTo>
                  <a:pt x="264" y="153"/>
                </a:lnTo>
                <a:lnTo>
                  <a:pt x="264" y="165"/>
                </a:lnTo>
                <a:lnTo>
                  <a:pt x="264" y="179"/>
                </a:lnTo>
                <a:lnTo>
                  <a:pt x="267" y="187"/>
                </a:lnTo>
                <a:lnTo>
                  <a:pt x="272" y="193"/>
                </a:lnTo>
                <a:lnTo>
                  <a:pt x="278" y="199"/>
                </a:lnTo>
                <a:lnTo>
                  <a:pt x="287" y="204"/>
                </a:lnTo>
                <a:lnTo>
                  <a:pt x="289" y="201"/>
                </a:lnTo>
                <a:lnTo>
                  <a:pt x="292" y="199"/>
                </a:lnTo>
                <a:lnTo>
                  <a:pt x="292" y="193"/>
                </a:lnTo>
                <a:lnTo>
                  <a:pt x="295" y="182"/>
                </a:lnTo>
                <a:lnTo>
                  <a:pt x="295" y="173"/>
                </a:lnTo>
                <a:lnTo>
                  <a:pt x="295" y="165"/>
                </a:lnTo>
                <a:lnTo>
                  <a:pt x="295" y="153"/>
                </a:lnTo>
                <a:lnTo>
                  <a:pt x="295" y="148"/>
                </a:lnTo>
                <a:lnTo>
                  <a:pt x="295" y="136"/>
                </a:lnTo>
                <a:lnTo>
                  <a:pt x="295" y="128"/>
                </a:lnTo>
                <a:lnTo>
                  <a:pt x="295" y="119"/>
                </a:lnTo>
                <a:lnTo>
                  <a:pt x="295" y="111"/>
                </a:lnTo>
                <a:lnTo>
                  <a:pt x="295" y="99"/>
                </a:lnTo>
                <a:lnTo>
                  <a:pt x="292" y="91"/>
                </a:lnTo>
                <a:lnTo>
                  <a:pt x="289" y="79"/>
                </a:lnTo>
                <a:lnTo>
                  <a:pt x="289" y="71"/>
                </a:lnTo>
                <a:lnTo>
                  <a:pt x="284" y="62"/>
                </a:lnTo>
                <a:lnTo>
                  <a:pt x="284" y="54"/>
                </a:lnTo>
                <a:lnTo>
                  <a:pt x="278" y="48"/>
                </a:lnTo>
                <a:lnTo>
                  <a:pt x="275" y="40"/>
                </a:lnTo>
                <a:lnTo>
                  <a:pt x="264" y="28"/>
                </a:lnTo>
                <a:lnTo>
                  <a:pt x="253" y="20"/>
                </a:lnTo>
                <a:lnTo>
                  <a:pt x="244" y="11"/>
                </a:lnTo>
                <a:lnTo>
                  <a:pt x="236" y="6"/>
                </a:lnTo>
                <a:lnTo>
                  <a:pt x="227" y="3"/>
                </a:lnTo>
                <a:lnTo>
                  <a:pt x="219" y="0"/>
                </a:lnTo>
                <a:lnTo>
                  <a:pt x="213" y="0"/>
                </a:lnTo>
                <a:lnTo>
                  <a:pt x="210" y="3"/>
                </a:lnTo>
                <a:lnTo>
                  <a:pt x="204" y="6"/>
                </a:lnTo>
                <a:lnTo>
                  <a:pt x="199" y="17"/>
                </a:lnTo>
                <a:lnTo>
                  <a:pt x="196" y="23"/>
                </a:lnTo>
                <a:lnTo>
                  <a:pt x="193" y="28"/>
                </a:lnTo>
                <a:lnTo>
                  <a:pt x="190" y="37"/>
                </a:lnTo>
                <a:lnTo>
                  <a:pt x="190" y="45"/>
                </a:lnTo>
                <a:lnTo>
                  <a:pt x="187" y="51"/>
                </a:lnTo>
                <a:lnTo>
                  <a:pt x="185" y="59"/>
                </a:lnTo>
                <a:lnTo>
                  <a:pt x="182" y="65"/>
                </a:lnTo>
                <a:lnTo>
                  <a:pt x="179" y="71"/>
                </a:lnTo>
                <a:lnTo>
                  <a:pt x="176" y="79"/>
                </a:lnTo>
                <a:lnTo>
                  <a:pt x="176" y="82"/>
                </a:lnTo>
                <a:lnTo>
                  <a:pt x="173" y="79"/>
                </a:lnTo>
                <a:lnTo>
                  <a:pt x="162" y="71"/>
                </a:lnTo>
                <a:lnTo>
                  <a:pt x="156" y="65"/>
                </a:lnTo>
                <a:lnTo>
                  <a:pt x="148" y="59"/>
                </a:lnTo>
                <a:lnTo>
                  <a:pt x="139" y="54"/>
                </a:lnTo>
                <a:lnTo>
                  <a:pt x="131" y="48"/>
                </a:lnTo>
                <a:lnTo>
                  <a:pt x="119" y="40"/>
                </a:lnTo>
                <a:lnTo>
                  <a:pt x="111" y="31"/>
                </a:lnTo>
                <a:lnTo>
                  <a:pt x="102" y="25"/>
                </a:lnTo>
                <a:lnTo>
                  <a:pt x="94" y="20"/>
                </a:lnTo>
                <a:lnTo>
                  <a:pt x="85" y="11"/>
                </a:lnTo>
                <a:lnTo>
                  <a:pt x="77" y="8"/>
                </a:lnTo>
                <a:lnTo>
                  <a:pt x="71" y="3"/>
                </a:lnTo>
                <a:lnTo>
                  <a:pt x="68" y="3"/>
                </a:lnTo>
                <a:lnTo>
                  <a:pt x="60" y="0"/>
                </a:lnTo>
                <a:lnTo>
                  <a:pt x="51" y="6"/>
                </a:lnTo>
                <a:lnTo>
                  <a:pt x="49" y="17"/>
                </a:lnTo>
                <a:lnTo>
                  <a:pt x="46" y="31"/>
                </a:lnTo>
                <a:lnTo>
                  <a:pt x="43" y="42"/>
                </a:lnTo>
                <a:lnTo>
                  <a:pt x="43" y="54"/>
                </a:lnTo>
                <a:lnTo>
                  <a:pt x="43" y="62"/>
                </a:lnTo>
                <a:lnTo>
                  <a:pt x="43" y="68"/>
                </a:lnTo>
                <a:lnTo>
                  <a:pt x="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34"/>
          <p:cNvSpPr/>
          <p:nvPr/>
        </p:nvSpPr>
        <p:spPr>
          <a:xfrm>
            <a:off x="7694640" y="4122720"/>
            <a:ext cx="312840" cy="463680"/>
          </a:xfrm>
          <a:custGeom>
            <a:avLst/>
            <a:gdLst>
              <a:gd name="textAreaLeft" fmla="*/ 0 w 312840"/>
              <a:gd name="textAreaRight" fmla="*/ 313200 w 312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29" h="332">
                <a:moveTo>
                  <a:pt x="39" y="2"/>
                </a:moveTo>
                <a:lnTo>
                  <a:pt x="34" y="5"/>
                </a:lnTo>
                <a:lnTo>
                  <a:pt x="28" y="14"/>
                </a:lnTo>
                <a:lnTo>
                  <a:pt x="20" y="22"/>
                </a:lnTo>
                <a:lnTo>
                  <a:pt x="11" y="34"/>
                </a:lnTo>
                <a:lnTo>
                  <a:pt x="5" y="45"/>
                </a:lnTo>
                <a:lnTo>
                  <a:pt x="3" y="54"/>
                </a:lnTo>
                <a:lnTo>
                  <a:pt x="0" y="59"/>
                </a:lnTo>
                <a:lnTo>
                  <a:pt x="5" y="68"/>
                </a:lnTo>
                <a:lnTo>
                  <a:pt x="11" y="65"/>
                </a:lnTo>
                <a:lnTo>
                  <a:pt x="20" y="65"/>
                </a:lnTo>
                <a:lnTo>
                  <a:pt x="28" y="62"/>
                </a:lnTo>
                <a:lnTo>
                  <a:pt x="39" y="59"/>
                </a:lnTo>
                <a:lnTo>
                  <a:pt x="48" y="59"/>
                </a:lnTo>
                <a:lnTo>
                  <a:pt x="54" y="56"/>
                </a:lnTo>
                <a:lnTo>
                  <a:pt x="59" y="56"/>
                </a:lnTo>
                <a:lnTo>
                  <a:pt x="59" y="59"/>
                </a:lnTo>
                <a:lnTo>
                  <a:pt x="56" y="68"/>
                </a:lnTo>
                <a:lnTo>
                  <a:pt x="54" y="76"/>
                </a:lnTo>
                <a:lnTo>
                  <a:pt x="48" y="88"/>
                </a:lnTo>
                <a:lnTo>
                  <a:pt x="45" y="102"/>
                </a:lnTo>
                <a:lnTo>
                  <a:pt x="39" y="113"/>
                </a:lnTo>
                <a:lnTo>
                  <a:pt x="39" y="125"/>
                </a:lnTo>
                <a:lnTo>
                  <a:pt x="39" y="133"/>
                </a:lnTo>
                <a:lnTo>
                  <a:pt x="48" y="136"/>
                </a:lnTo>
                <a:lnTo>
                  <a:pt x="56" y="133"/>
                </a:lnTo>
                <a:lnTo>
                  <a:pt x="65" y="130"/>
                </a:lnTo>
                <a:lnTo>
                  <a:pt x="76" y="125"/>
                </a:lnTo>
                <a:lnTo>
                  <a:pt x="87" y="116"/>
                </a:lnTo>
                <a:lnTo>
                  <a:pt x="96" y="110"/>
                </a:lnTo>
                <a:lnTo>
                  <a:pt x="107" y="105"/>
                </a:lnTo>
                <a:lnTo>
                  <a:pt x="113" y="99"/>
                </a:lnTo>
                <a:lnTo>
                  <a:pt x="121" y="99"/>
                </a:lnTo>
                <a:lnTo>
                  <a:pt x="130" y="107"/>
                </a:lnTo>
                <a:lnTo>
                  <a:pt x="133" y="119"/>
                </a:lnTo>
                <a:lnTo>
                  <a:pt x="133" y="127"/>
                </a:lnTo>
                <a:lnTo>
                  <a:pt x="133" y="136"/>
                </a:lnTo>
                <a:lnTo>
                  <a:pt x="127" y="139"/>
                </a:lnTo>
                <a:lnTo>
                  <a:pt x="119" y="147"/>
                </a:lnTo>
                <a:lnTo>
                  <a:pt x="113" y="156"/>
                </a:lnTo>
                <a:lnTo>
                  <a:pt x="104" y="167"/>
                </a:lnTo>
                <a:lnTo>
                  <a:pt x="96" y="176"/>
                </a:lnTo>
                <a:lnTo>
                  <a:pt x="93" y="184"/>
                </a:lnTo>
                <a:lnTo>
                  <a:pt x="93" y="190"/>
                </a:lnTo>
                <a:lnTo>
                  <a:pt x="99" y="193"/>
                </a:lnTo>
                <a:lnTo>
                  <a:pt x="110" y="190"/>
                </a:lnTo>
                <a:lnTo>
                  <a:pt x="121" y="190"/>
                </a:lnTo>
                <a:lnTo>
                  <a:pt x="133" y="184"/>
                </a:lnTo>
                <a:lnTo>
                  <a:pt x="147" y="181"/>
                </a:lnTo>
                <a:lnTo>
                  <a:pt x="155" y="178"/>
                </a:lnTo>
                <a:lnTo>
                  <a:pt x="167" y="178"/>
                </a:lnTo>
                <a:lnTo>
                  <a:pt x="172" y="178"/>
                </a:lnTo>
                <a:lnTo>
                  <a:pt x="175" y="184"/>
                </a:lnTo>
                <a:lnTo>
                  <a:pt x="178" y="196"/>
                </a:lnTo>
                <a:lnTo>
                  <a:pt x="178" y="210"/>
                </a:lnTo>
                <a:lnTo>
                  <a:pt x="175" y="224"/>
                </a:lnTo>
                <a:lnTo>
                  <a:pt x="175" y="235"/>
                </a:lnTo>
                <a:lnTo>
                  <a:pt x="172" y="241"/>
                </a:lnTo>
                <a:lnTo>
                  <a:pt x="170" y="244"/>
                </a:lnTo>
                <a:lnTo>
                  <a:pt x="164" y="252"/>
                </a:lnTo>
                <a:lnTo>
                  <a:pt x="164" y="258"/>
                </a:lnTo>
                <a:lnTo>
                  <a:pt x="158" y="267"/>
                </a:lnTo>
                <a:lnTo>
                  <a:pt x="155" y="275"/>
                </a:lnTo>
                <a:lnTo>
                  <a:pt x="150" y="284"/>
                </a:lnTo>
                <a:lnTo>
                  <a:pt x="144" y="292"/>
                </a:lnTo>
                <a:lnTo>
                  <a:pt x="141" y="298"/>
                </a:lnTo>
                <a:lnTo>
                  <a:pt x="136" y="306"/>
                </a:lnTo>
                <a:lnTo>
                  <a:pt x="133" y="312"/>
                </a:lnTo>
                <a:lnTo>
                  <a:pt x="130" y="318"/>
                </a:lnTo>
                <a:lnTo>
                  <a:pt x="127" y="329"/>
                </a:lnTo>
                <a:lnTo>
                  <a:pt x="127" y="332"/>
                </a:lnTo>
                <a:lnTo>
                  <a:pt x="130" y="329"/>
                </a:lnTo>
                <a:lnTo>
                  <a:pt x="133" y="326"/>
                </a:lnTo>
                <a:lnTo>
                  <a:pt x="141" y="320"/>
                </a:lnTo>
                <a:lnTo>
                  <a:pt x="147" y="315"/>
                </a:lnTo>
                <a:lnTo>
                  <a:pt x="155" y="306"/>
                </a:lnTo>
                <a:lnTo>
                  <a:pt x="164" y="298"/>
                </a:lnTo>
                <a:lnTo>
                  <a:pt x="175" y="286"/>
                </a:lnTo>
                <a:lnTo>
                  <a:pt x="187" y="275"/>
                </a:lnTo>
                <a:lnTo>
                  <a:pt x="195" y="264"/>
                </a:lnTo>
                <a:lnTo>
                  <a:pt x="204" y="252"/>
                </a:lnTo>
                <a:lnTo>
                  <a:pt x="212" y="241"/>
                </a:lnTo>
                <a:lnTo>
                  <a:pt x="221" y="230"/>
                </a:lnTo>
                <a:lnTo>
                  <a:pt x="223" y="218"/>
                </a:lnTo>
                <a:lnTo>
                  <a:pt x="229" y="210"/>
                </a:lnTo>
                <a:lnTo>
                  <a:pt x="229" y="201"/>
                </a:lnTo>
                <a:lnTo>
                  <a:pt x="229" y="193"/>
                </a:lnTo>
                <a:lnTo>
                  <a:pt x="221" y="181"/>
                </a:lnTo>
                <a:lnTo>
                  <a:pt x="209" y="170"/>
                </a:lnTo>
                <a:lnTo>
                  <a:pt x="198" y="164"/>
                </a:lnTo>
                <a:lnTo>
                  <a:pt x="187" y="159"/>
                </a:lnTo>
                <a:lnTo>
                  <a:pt x="175" y="156"/>
                </a:lnTo>
                <a:lnTo>
                  <a:pt x="167" y="153"/>
                </a:lnTo>
                <a:lnTo>
                  <a:pt x="161" y="153"/>
                </a:lnTo>
                <a:lnTo>
                  <a:pt x="161" y="150"/>
                </a:lnTo>
                <a:lnTo>
                  <a:pt x="164" y="147"/>
                </a:lnTo>
                <a:lnTo>
                  <a:pt x="170" y="139"/>
                </a:lnTo>
                <a:lnTo>
                  <a:pt x="175" y="133"/>
                </a:lnTo>
                <a:lnTo>
                  <a:pt x="178" y="125"/>
                </a:lnTo>
                <a:lnTo>
                  <a:pt x="184" y="116"/>
                </a:lnTo>
                <a:lnTo>
                  <a:pt x="184" y="107"/>
                </a:lnTo>
                <a:lnTo>
                  <a:pt x="184" y="105"/>
                </a:lnTo>
                <a:lnTo>
                  <a:pt x="175" y="90"/>
                </a:lnTo>
                <a:lnTo>
                  <a:pt x="167" y="79"/>
                </a:lnTo>
                <a:lnTo>
                  <a:pt x="158" y="71"/>
                </a:lnTo>
                <a:lnTo>
                  <a:pt x="153" y="68"/>
                </a:lnTo>
                <a:lnTo>
                  <a:pt x="144" y="62"/>
                </a:lnTo>
                <a:lnTo>
                  <a:pt x="138" y="59"/>
                </a:lnTo>
                <a:lnTo>
                  <a:pt x="127" y="59"/>
                </a:lnTo>
                <a:lnTo>
                  <a:pt x="121" y="59"/>
                </a:lnTo>
                <a:lnTo>
                  <a:pt x="113" y="65"/>
                </a:lnTo>
                <a:lnTo>
                  <a:pt x="104" y="68"/>
                </a:lnTo>
                <a:lnTo>
                  <a:pt x="93" y="76"/>
                </a:lnTo>
                <a:lnTo>
                  <a:pt x="90" y="82"/>
                </a:lnTo>
                <a:lnTo>
                  <a:pt x="90" y="79"/>
                </a:lnTo>
                <a:lnTo>
                  <a:pt x="90" y="71"/>
                </a:lnTo>
                <a:lnTo>
                  <a:pt x="93" y="62"/>
                </a:lnTo>
                <a:lnTo>
                  <a:pt x="96" y="51"/>
                </a:lnTo>
                <a:lnTo>
                  <a:pt x="96" y="39"/>
                </a:lnTo>
                <a:lnTo>
                  <a:pt x="99" y="28"/>
                </a:lnTo>
                <a:lnTo>
                  <a:pt x="96" y="17"/>
                </a:lnTo>
                <a:lnTo>
                  <a:pt x="96" y="11"/>
                </a:lnTo>
                <a:lnTo>
                  <a:pt x="90" y="8"/>
                </a:lnTo>
                <a:lnTo>
                  <a:pt x="82" y="5"/>
                </a:lnTo>
                <a:lnTo>
                  <a:pt x="73" y="2"/>
                </a:lnTo>
                <a:lnTo>
                  <a:pt x="65" y="2"/>
                </a:lnTo>
                <a:lnTo>
                  <a:pt x="54" y="0"/>
                </a:lnTo>
                <a:lnTo>
                  <a:pt x="48" y="0"/>
                </a:lnTo>
                <a:lnTo>
                  <a:pt x="42" y="0"/>
                </a:lnTo>
                <a:lnTo>
                  <a:pt x="3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35"/>
          <p:cNvSpPr/>
          <p:nvPr/>
        </p:nvSpPr>
        <p:spPr>
          <a:xfrm>
            <a:off x="7837560" y="4575240"/>
            <a:ext cx="231840" cy="360360"/>
          </a:xfrm>
          <a:custGeom>
            <a:avLst/>
            <a:gdLst>
              <a:gd name="textAreaLeft" fmla="*/ 0 w 231840"/>
              <a:gd name="textAreaRight" fmla="*/ 232200 w 231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70" h="259">
                <a:moveTo>
                  <a:pt x="77" y="12"/>
                </a:moveTo>
                <a:lnTo>
                  <a:pt x="71" y="15"/>
                </a:lnTo>
                <a:lnTo>
                  <a:pt x="60" y="26"/>
                </a:lnTo>
                <a:lnTo>
                  <a:pt x="51" y="29"/>
                </a:lnTo>
                <a:lnTo>
                  <a:pt x="46" y="37"/>
                </a:lnTo>
                <a:lnTo>
                  <a:pt x="40" y="46"/>
                </a:lnTo>
                <a:lnTo>
                  <a:pt x="34" y="54"/>
                </a:lnTo>
                <a:lnTo>
                  <a:pt x="26" y="60"/>
                </a:lnTo>
                <a:lnTo>
                  <a:pt x="20" y="68"/>
                </a:lnTo>
                <a:lnTo>
                  <a:pt x="12" y="77"/>
                </a:lnTo>
                <a:lnTo>
                  <a:pt x="9" y="86"/>
                </a:lnTo>
                <a:lnTo>
                  <a:pt x="3" y="91"/>
                </a:lnTo>
                <a:lnTo>
                  <a:pt x="0" y="100"/>
                </a:lnTo>
                <a:lnTo>
                  <a:pt x="0" y="103"/>
                </a:lnTo>
                <a:lnTo>
                  <a:pt x="0" y="108"/>
                </a:lnTo>
                <a:lnTo>
                  <a:pt x="3" y="120"/>
                </a:lnTo>
                <a:lnTo>
                  <a:pt x="6" y="128"/>
                </a:lnTo>
                <a:lnTo>
                  <a:pt x="12" y="131"/>
                </a:lnTo>
                <a:lnTo>
                  <a:pt x="20" y="128"/>
                </a:lnTo>
                <a:lnTo>
                  <a:pt x="29" y="122"/>
                </a:lnTo>
                <a:lnTo>
                  <a:pt x="34" y="114"/>
                </a:lnTo>
                <a:lnTo>
                  <a:pt x="46" y="108"/>
                </a:lnTo>
                <a:lnTo>
                  <a:pt x="57" y="103"/>
                </a:lnTo>
                <a:lnTo>
                  <a:pt x="68" y="97"/>
                </a:lnTo>
                <a:lnTo>
                  <a:pt x="80" y="94"/>
                </a:lnTo>
                <a:lnTo>
                  <a:pt x="91" y="97"/>
                </a:lnTo>
                <a:lnTo>
                  <a:pt x="105" y="103"/>
                </a:lnTo>
                <a:lnTo>
                  <a:pt x="114" y="108"/>
                </a:lnTo>
                <a:lnTo>
                  <a:pt x="122" y="117"/>
                </a:lnTo>
                <a:lnTo>
                  <a:pt x="128" y="125"/>
                </a:lnTo>
                <a:lnTo>
                  <a:pt x="131" y="137"/>
                </a:lnTo>
                <a:lnTo>
                  <a:pt x="131" y="145"/>
                </a:lnTo>
                <a:lnTo>
                  <a:pt x="131" y="156"/>
                </a:lnTo>
                <a:lnTo>
                  <a:pt x="128" y="162"/>
                </a:lnTo>
                <a:lnTo>
                  <a:pt x="128" y="168"/>
                </a:lnTo>
                <a:lnTo>
                  <a:pt x="125" y="176"/>
                </a:lnTo>
                <a:lnTo>
                  <a:pt x="125" y="185"/>
                </a:lnTo>
                <a:lnTo>
                  <a:pt x="119" y="196"/>
                </a:lnTo>
                <a:lnTo>
                  <a:pt x="114" y="208"/>
                </a:lnTo>
                <a:lnTo>
                  <a:pt x="105" y="216"/>
                </a:lnTo>
                <a:lnTo>
                  <a:pt x="100" y="225"/>
                </a:lnTo>
                <a:lnTo>
                  <a:pt x="94" y="230"/>
                </a:lnTo>
                <a:lnTo>
                  <a:pt x="91" y="236"/>
                </a:lnTo>
                <a:lnTo>
                  <a:pt x="85" y="239"/>
                </a:lnTo>
                <a:lnTo>
                  <a:pt x="119" y="259"/>
                </a:lnTo>
                <a:lnTo>
                  <a:pt x="119" y="256"/>
                </a:lnTo>
                <a:lnTo>
                  <a:pt x="125" y="250"/>
                </a:lnTo>
                <a:lnTo>
                  <a:pt x="134" y="242"/>
                </a:lnTo>
                <a:lnTo>
                  <a:pt x="142" y="230"/>
                </a:lnTo>
                <a:lnTo>
                  <a:pt x="145" y="222"/>
                </a:lnTo>
                <a:lnTo>
                  <a:pt x="151" y="213"/>
                </a:lnTo>
                <a:lnTo>
                  <a:pt x="156" y="205"/>
                </a:lnTo>
                <a:lnTo>
                  <a:pt x="159" y="196"/>
                </a:lnTo>
                <a:lnTo>
                  <a:pt x="162" y="188"/>
                </a:lnTo>
                <a:lnTo>
                  <a:pt x="168" y="176"/>
                </a:lnTo>
                <a:lnTo>
                  <a:pt x="168" y="168"/>
                </a:lnTo>
                <a:lnTo>
                  <a:pt x="170" y="156"/>
                </a:lnTo>
                <a:lnTo>
                  <a:pt x="168" y="148"/>
                </a:lnTo>
                <a:lnTo>
                  <a:pt x="168" y="137"/>
                </a:lnTo>
                <a:lnTo>
                  <a:pt x="165" y="125"/>
                </a:lnTo>
                <a:lnTo>
                  <a:pt x="162" y="114"/>
                </a:lnTo>
                <a:lnTo>
                  <a:pt x="156" y="105"/>
                </a:lnTo>
                <a:lnTo>
                  <a:pt x="151" y="97"/>
                </a:lnTo>
                <a:lnTo>
                  <a:pt x="145" y="91"/>
                </a:lnTo>
                <a:lnTo>
                  <a:pt x="139" y="83"/>
                </a:lnTo>
                <a:lnTo>
                  <a:pt x="134" y="77"/>
                </a:lnTo>
                <a:lnTo>
                  <a:pt x="125" y="71"/>
                </a:lnTo>
                <a:lnTo>
                  <a:pt x="119" y="66"/>
                </a:lnTo>
                <a:lnTo>
                  <a:pt x="114" y="63"/>
                </a:lnTo>
                <a:lnTo>
                  <a:pt x="105" y="60"/>
                </a:lnTo>
                <a:lnTo>
                  <a:pt x="100" y="60"/>
                </a:lnTo>
                <a:lnTo>
                  <a:pt x="94" y="57"/>
                </a:lnTo>
                <a:lnTo>
                  <a:pt x="88" y="60"/>
                </a:lnTo>
                <a:lnTo>
                  <a:pt x="88" y="57"/>
                </a:lnTo>
                <a:lnTo>
                  <a:pt x="91" y="54"/>
                </a:lnTo>
                <a:lnTo>
                  <a:pt x="94" y="49"/>
                </a:lnTo>
                <a:lnTo>
                  <a:pt x="100" y="43"/>
                </a:lnTo>
                <a:lnTo>
                  <a:pt x="102" y="34"/>
                </a:lnTo>
                <a:lnTo>
                  <a:pt x="105" y="26"/>
                </a:lnTo>
                <a:lnTo>
                  <a:pt x="105" y="17"/>
                </a:lnTo>
                <a:lnTo>
                  <a:pt x="105" y="12"/>
                </a:lnTo>
                <a:lnTo>
                  <a:pt x="100" y="6"/>
                </a:lnTo>
                <a:lnTo>
                  <a:pt x="94" y="3"/>
                </a:lnTo>
                <a:lnTo>
                  <a:pt x="91" y="0"/>
                </a:lnTo>
                <a:lnTo>
                  <a:pt x="85" y="3"/>
                </a:lnTo>
                <a:lnTo>
                  <a:pt x="80" y="6"/>
                </a:lnTo>
                <a:lnTo>
                  <a:pt x="7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36"/>
          <p:cNvSpPr/>
          <p:nvPr/>
        </p:nvSpPr>
        <p:spPr>
          <a:xfrm>
            <a:off x="7467480" y="4567320"/>
            <a:ext cx="58680" cy="150840"/>
          </a:xfrm>
          <a:custGeom>
            <a:avLst/>
            <a:gdLst>
              <a:gd name="textAreaLeft" fmla="*/ 0 w 58680"/>
              <a:gd name="textAreaRight" fmla="*/ 59040 w 58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3" h="108">
                <a:moveTo>
                  <a:pt x="34" y="5"/>
                </a:moveTo>
                <a:lnTo>
                  <a:pt x="26" y="0"/>
                </a:lnTo>
                <a:lnTo>
                  <a:pt x="20" y="0"/>
                </a:lnTo>
                <a:lnTo>
                  <a:pt x="15" y="0"/>
                </a:lnTo>
                <a:lnTo>
                  <a:pt x="12" y="5"/>
                </a:lnTo>
                <a:lnTo>
                  <a:pt x="9" y="8"/>
                </a:lnTo>
                <a:lnTo>
                  <a:pt x="9" y="17"/>
                </a:lnTo>
                <a:lnTo>
                  <a:pt x="3" y="22"/>
                </a:lnTo>
                <a:lnTo>
                  <a:pt x="3" y="34"/>
                </a:lnTo>
                <a:lnTo>
                  <a:pt x="0" y="42"/>
                </a:lnTo>
                <a:lnTo>
                  <a:pt x="0" y="48"/>
                </a:lnTo>
                <a:lnTo>
                  <a:pt x="0" y="56"/>
                </a:lnTo>
                <a:lnTo>
                  <a:pt x="0" y="65"/>
                </a:lnTo>
                <a:lnTo>
                  <a:pt x="0" y="76"/>
                </a:lnTo>
                <a:lnTo>
                  <a:pt x="0" y="88"/>
                </a:lnTo>
                <a:lnTo>
                  <a:pt x="3" y="99"/>
                </a:lnTo>
                <a:lnTo>
                  <a:pt x="9" y="105"/>
                </a:lnTo>
                <a:lnTo>
                  <a:pt x="20" y="108"/>
                </a:lnTo>
                <a:lnTo>
                  <a:pt x="32" y="108"/>
                </a:lnTo>
                <a:lnTo>
                  <a:pt x="37" y="105"/>
                </a:lnTo>
                <a:lnTo>
                  <a:pt x="43" y="99"/>
                </a:lnTo>
                <a:lnTo>
                  <a:pt x="43" y="88"/>
                </a:lnTo>
                <a:lnTo>
                  <a:pt x="40" y="76"/>
                </a:lnTo>
                <a:lnTo>
                  <a:pt x="40" y="71"/>
                </a:lnTo>
                <a:lnTo>
                  <a:pt x="40" y="62"/>
                </a:lnTo>
                <a:lnTo>
                  <a:pt x="40" y="54"/>
                </a:lnTo>
                <a:lnTo>
                  <a:pt x="40" y="48"/>
                </a:lnTo>
                <a:lnTo>
                  <a:pt x="37" y="39"/>
                </a:lnTo>
                <a:lnTo>
                  <a:pt x="37" y="34"/>
                </a:lnTo>
                <a:lnTo>
                  <a:pt x="34" y="25"/>
                </a:lnTo>
                <a:lnTo>
                  <a:pt x="34" y="20"/>
                </a:lnTo>
                <a:lnTo>
                  <a:pt x="34" y="8"/>
                </a:lnTo>
                <a:lnTo>
                  <a:pt x="3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37"/>
          <p:cNvSpPr/>
          <p:nvPr/>
        </p:nvSpPr>
        <p:spPr>
          <a:xfrm>
            <a:off x="6234120" y="5562720"/>
            <a:ext cx="733320" cy="976320"/>
          </a:xfrm>
          <a:custGeom>
            <a:avLst/>
            <a:gdLst>
              <a:gd name="textAreaLeft" fmla="*/ 0 w 733320"/>
              <a:gd name="textAreaRight" fmla="*/ 733680 w 733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535" h="699">
                <a:moveTo>
                  <a:pt x="243" y="0"/>
                </a:moveTo>
                <a:lnTo>
                  <a:pt x="0" y="327"/>
                </a:lnTo>
                <a:lnTo>
                  <a:pt x="170" y="330"/>
                </a:lnTo>
                <a:lnTo>
                  <a:pt x="173" y="693"/>
                </a:lnTo>
                <a:lnTo>
                  <a:pt x="379" y="699"/>
                </a:lnTo>
                <a:lnTo>
                  <a:pt x="359" y="333"/>
                </a:lnTo>
                <a:lnTo>
                  <a:pt x="535" y="333"/>
                </a:lnTo>
                <a:lnTo>
                  <a:pt x="2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38"/>
          <p:cNvSpPr/>
          <p:nvPr/>
        </p:nvSpPr>
        <p:spPr>
          <a:xfrm>
            <a:off x="6467400" y="6589800"/>
            <a:ext cx="290520" cy="83880"/>
          </a:xfrm>
          <a:custGeom>
            <a:avLst/>
            <a:gdLst>
              <a:gd name="textAreaLeft" fmla="*/ 0 w 290520"/>
              <a:gd name="textAreaRight" fmla="*/ 290880 w 290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2" h="60">
                <a:moveTo>
                  <a:pt x="5" y="0"/>
                </a:moveTo>
                <a:lnTo>
                  <a:pt x="0" y="60"/>
                </a:lnTo>
                <a:lnTo>
                  <a:pt x="206" y="54"/>
                </a:lnTo>
                <a:lnTo>
                  <a:pt x="212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1"/>
          <p:cNvSpPr/>
          <p:nvPr/>
        </p:nvSpPr>
        <p:spPr>
          <a:xfrm>
            <a:off x="3924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43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44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45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6"/>
          <p:cNvSpPr/>
          <p:nvPr/>
        </p:nvSpPr>
        <p:spPr>
          <a:xfrm>
            <a:off x="471240" y="1557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7"/>
          <p:cNvSpPr/>
          <p:nvPr/>
        </p:nvSpPr>
        <p:spPr>
          <a:xfrm>
            <a:off x="324000" y="198900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улек неве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Целой сотне вел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о сядь да уч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о встань, разойди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1"/>
          <p:cNvSpPr/>
          <p:nvPr/>
        </p:nvSpPr>
        <p:spPr>
          <a:xfrm>
            <a:off x="746748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WordArt 61"/>
          <p:cNvSpPr txBox="1"/>
          <p:nvPr/>
        </p:nvSpPr>
        <p:spPr>
          <a:xfrm>
            <a:off x="7772400" y="457200"/>
            <a:ext cx="762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84" name="AutoShape 49">
            <a:hlinkClick r:id="rId8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6" name="WordArt 5"/>
          <p:cNvSpPr txBox="1"/>
          <p:nvPr/>
        </p:nvSpPr>
        <p:spPr>
          <a:xfrm>
            <a:off x="395280" y="62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7" name="WordArt 6"/>
          <p:cNvSpPr txBox="1"/>
          <p:nvPr/>
        </p:nvSpPr>
        <p:spPr>
          <a:xfrm>
            <a:off x="2556000" y="836640"/>
            <a:ext cx="46288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ЧЕРНЫЙ ЯЩИК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4932360" y="3789360"/>
            <a:ext cx="51847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0"/>
          <p:cNvSpPr/>
          <p:nvPr/>
        </p:nvSpPr>
        <p:spPr>
          <a:xfrm>
            <a:off x="4932360" y="3865680"/>
            <a:ext cx="5106960" cy="346212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462120"/>
              <a:gd name="textAreaBottom" fmla="*/ 3462480 h 3462120"/>
            </a:gdLst>
            <a:ahLst/>
            <a:rect l="textAreaLeft" t="textAreaTop" r="textAreaRight" b="textAreaBottom"/>
            <a:pathLst>
              <a:path w="3724" h="2479">
                <a:moveTo>
                  <a:pt x="1204" y="366"/>
                </a:moveTo>
                <a:lnTo>
                  <a:pt x="1204" y="366"/>
                </a:lnTo>
                <a:lnTo>
                  <a:pt x="1198" y="366"/>
                </a:lnTo>
                <a:lnTo>
                  <a:pt x="1190" y="369"/>
                </a:lnTo>
                <a:lnTo>
                  <a:pt x="1178" y="375"/>
                </a:lnTo>
                <a:lnTo>
                  <a:pt x="1170" y="375"/>
                </a:lnTo>
                <a:lnTo>
                  <a:pt x="1161" y="378"/>
                </a:lnTo>
                <a:lnTo>
                  <a:pt x="1153" y="381"/>
                </a:lnTo>
                <a:lnTo>
                  <a:pt x="1144" y="386"/>
                </a:lnTo>
                <a:lnTo>
                  <a:pt x="1136" y="386"/>
                </a:lnTo>
                <a:lnTo>
                  <a:pt x="1127" y="392"/>
                </a:lnTo>
                <a:lnTo>
                  <a:pt x="1116" y="395"/>
                </a:lnTo>
                <a:lnTo>
                  <a:pt x="1107" y="398"/>
                </a:lnTo>
                <a:lnTo>
                  <a:pt x="1093" y="403"/>
                </a:lnTo>
                <a:lnTo>
                  <a:pt x="1082" y="406"/>
                </a:lnTo>
                <a:lnTo>
                  <a:pt x="1071" y="409"/>
                </a:lnTo>
                <a:lnTo>
                  <a:pt x="1056" y="415"/>
                </a:lnTo>
                <a:lnTo>
                  <a:pt x="1045" y="417"/>
                </a:lnTo>
                <a:lnTo>
                  <a:pt x="1031" y="423"/>
                </a:lnTo>
                <a:lnTo>
                  <a:pt x="1017" y="429"/>
                </a:lnTo>
                <a:lnTo>
                  <a:pt x="1005" y="434"/>
                </a:lnTo>
                <a:lnTo>
                  <a:pt x="988" y="437"/>
                </a:lnTo>
                <a:lnTo>
                  <a:pt x="974" y="443"/>
                </a:lnTo>
                <a:lnTo>
                  <a:pt x="960" y="449"/>
                </a:lnTo>
                <a:lnTo>
                  <a:pt x="946" y="454"/>
                </a:lnTo>
                <a:lnTo>
                  <a:pt x="932" y="460"/>
                </a:lnTo>
                <a:lnTo>
                  <a:pt x="918" y="466"/>
                </a:lnTo>
                <a:lnTo>
                  <a:pt x="901" y="471"/>
                </a:lnTo>
                <a:lnTo>
                  <a:pt x="886" y="477"/>
                </a:lnTo>
                <a:lnTo>
                  <a:pt x="872" y="480"/>
                </a:lnTo>
                <a:lnTo>
                  <a:pt x="855" y="486"/>
                </a:lnTo>
                <a:lnTo>
                  <a:pt x="841" y="491"/>
                </a:lnTo>
                <a:lnTo>
                  <a:pt x="827" y="497"/>
                </a:lnTo>
                <a:lnTo>
                  <a:pt x="813" y="503"/>
                </a:lnTo>
                <a:lnTo>
                  <a:pt x="796" y="505"/>
                </a:lnTo>
                <a:lnTo>
                  <a:pt x="782" y="511"/>
                </a:lnTo>
                <a:lnTo>
                  <a:pt x="768" y="517"/>
                </a:lnTo>
                <a:lnTo>
                  <a:pt x="753" y="523"/>
                </a:lnTo>
                <a:lnTo>
                  <a:pt x="739" y="525"/>
                </a:lnTo>
                <a:lnTo>
                  <a:pt x="725" y="531"/>
                </a:lnTo>
                <a:lnTo>
                  <a:pt x="711" y="537"/>
                </a:lnTo>
                <a:lnTo>
                  <a:pt x="697" y="542"/>
                </a:lnTo>
                <a:lnTo>
                  <a:pt x="685" y="545"/>
                </a:lnTo>
                <a:lnTo>
                  <a:pt x="674" y="551"/>
                </a:lnTo>
                <a:lnTo>
                  <a:pt x="663" y="557"/>
                </a:lnTo>
                <a:lnTo>
                  <a:pt x="651" y="559"/>
                </a:lnTo>
                <a:lnTo>
                  <a:pt x="640" y="565"/>
                </a:lnTo>
                <a:lnTo>
                  <a:pt x="629" y="568"/>
                </a:lnTo>
                <a:lnTo>
                  <a:pt x="620" y="574"/>
                </a:lnTo>
                <a:lnTo>
                  <a:pt x="609" y="576"/>
                </a:lnTo>
                <a:lnTo>
                  <a:pt x="600" y="579"/>
                </a:lnTo>
                <a:lnTo>
                  <a:pt x="592" y="582"/>
                </a:lnTo>
                <a:lnTo>
                  <a:pt x="583" y="588"/>
                </a:lnTo>
                <a:lnTo>
                  <a:pt x="578" y="591"/>
                </a:lnTo>
                <a:lnTo>
                  <a:pt x="569" y="591"/>
                </a:lnTo>
                <a:lnTo>
                  <a:pt x="564" y="594"/>
                </a:lnTo>
                <a:lnTo>
                  <a:pt x="561" y="599"/>
                </a:lnTo>
                <a:lnTo>
                  <a:pt x="552" y="602"/>
                </a:lnTo>
                <a:lnTo>
                  <a:pt x="549" y="608"/>
                </a:lnTo>
                <a:lnTo>
                  <a:pt x="544" y="611"/>
                </a:lnTo>
                <a:lnTo>
                  <a:pt x="538" y="613"/>
                </a:lnTo>
                <a:lnTo>
                  <a:pt x="527" y="619"/>
                </a:lnTo>
                <a:lnTo>
                  <a:pt x="518" y="628"/>
                </a:lnTo>
                <a:lnTo>
                  <a:pt x="510" y="633"/>
                </a:lnTo>
                <a:lnTo>
                  <a:pt x="504" y="636"/>
                </a:lnTo>
                <a:lnTo>
                  <a:pt x="496" y="642"/>
                </a:lnTo>
                <a:lnTo>
                  <a:pt x="487" y="650"/>
                </a:lnTo>
                <a:lnTo>
                  <a:pt x="479" y="656"/>
                </a:lnTo>
                <a:lnTo>
                  <a:pt x="473" y="662"/>
                </a:lnTo>
                <a:lnTo>
                  <a:pt x="464" y="667"/>
                </a:lnTo>
                <a:lnTo>
                  <a:pt x="453" y="676"/>
                </a:lnTo>
                <a:lnTo>
                  <a:pt x="445" y="682"/>
                </a:lnTo>
                <a:lnTo>
                  <a:pt x="433" y="690"/>
                </a:lnTo>
                <a:lnTo>
                  <a:pt x="425" y="699"/>
                </a:lnTo>
                <a:lnTo>
                  <a:pt x="414" y="707"/>
                </a:lnTo>
                <a:lnTo>
                  <a:pt x="402" y="713"/>
                </a:lnTo>
                <a:lnTo>
                  <a:pt x="391" y="721"/>
                </a:lnTo>
                <a:lnTo>
                  <a:pt x="380" y="730"/>
                </a:lnTo>
                <a:lnTo>
                  <a:pt x="371" y="738"/>
                </a:lnTo>
                <a:lnTo>
                  <a:pt x="357" y="747"/>
                </a:lnTo>
                <a:lnTo>
                  <a:pt x="348" y="758"/>
                </a:lnTo>
                <a:lnTo>
                  <a:pt x="334" y="767"/>
                </a:lnTo>
                <a:lnTo>
                  <a:pt x="323" y="775"/>
                </a:lnTo>
                <a:lnTo>
                  <a:pt x="312" y="784"/>
                </a:lnTo>
                <a:lnTo>
                  <a:pt x="300" y="795"/>
                </a:lnTo>
                <a:lnTo>
                  <a:pt x="289" y="804"/>
                </a:lnTo>
                <a:lnTo>
                  <a:pt x="278" y="815"/>
                </a:lnTo>
                <a:lnTo>
                  <a:pt x="263" y="824"/>
                </a:lnTo>
                <a:lnTo>
                  <a:pt x="252" y="832"/>
                </a:lnTo>
                <a:lnTo>
                  <a:pt x="241" y="841"/>
                </a:lnTo>
                <a:lnTo>
                  <a:pt x="229" y="849"/>
                </a:lnTo>
                <a:lnTo>
                  <a:pt x="218" y="858"/>
                </a:lnTo>
                <a:lnTo>
                  <a:pt x="207" y="869"/>
                </a:lnTo>
                <a:lnTo>
                  <a:pt x="195" y="877"/>
                </a:lnTo>
                <a:lnTo>
                  <a:pt x="184" y="889"/>
                </a:lnTo>
                <a:lnTo>
                  <a:pt x="173" y="897"/>
                </a:lnTo>
                <a:lnTo>
                  <a:pt x="161" y="906"/>
                </a:lnTo>
                <a:lnTo>
                  <a:pt x="150" y="914"/>
                </a:lnTo>
                <a:lnTo>
                  <a:pt x="139" y="923"/>
                </a:lnTo>
                <a:lnTo>
                  <a:pt x="127" y="931"/>
                </a:lnTo>
                <a:lnTo>
                  <a:pt x="119" y="940"/>
                </a:lnTo>
                <a:lnTo>
                  <a:pt x="110" y="948"/>
                </a:lnTo>
                <a:lnTo>
                  <a:pt x="102" y="957"/>
                </a:lnTo>
                <a:lnTo>
                  <a:pt x="93" y="963"/>
                </a:lnTo>
                <a:lnTo>
                  <a:pt x="82" y="971"/>
                </a:lnTo>
                <a:lnTo>
                  <a:pt x="74" y="977"/>
                </a:lnTo>
                <a:lnTo>
                  <a:pt x="68" y="985"/>
                </a:lnTo>
                <a:lnTo>
                  <a:pt x="59" y="991"/>
                </a:lnTo>
                <a:lnTo>
                  <a:pt x="51" y="1000"/>
                </a:lnTo>
                <a:lnTo>
                  <a:pt x="45" y="1005"/>
                </a:lnTo>
                <a:lnTo>
                  <a:pt x="40" y="1011"/>
                </a:lnTo>
                <a:lnTo>
                  <a:pt x="31" y="1022"/>
                </a:lnTo>
                <a:lnTo>
                  <a:pt x="23" y="1031"/>
                </a:lnTo>
                <a:lnTo>
                  <a:pt x="17" y="1039"/>
                </a:lnTo>
                <a:lnTo>
                  <a:pt x="14" y="1048"/>
                </a:lnTo>
                <a:lnTo>
                  <a:pt x="8" y="1056"/>
                </a:lnTo>
                <a:lnTo>
                  <a:pt x="6" y="1068"/>
                </a:lnTo>
                <a:lnTo>
                  <a:pt x="3" y="1076"/>
                </a:lnTo>
                <a:lnTo>
                  <a:pt x="0" y="1088"/>
                </a:lnTo>
                <a:lnTo>
                  <a:pt x="0" y="1096"/>
                </a:lnTo>
                <a:lnTo>
                  <a:pt x="0" y="1105"/>
                </a:lnTo>
                <a:lnTo>
                  <a:pt x="0" y="1116"/>
                </a:lnTo>
                <a:lnTo>
                  <a:pt x="3" y="1127"/>
                </a:lnTo>
                <a:lnTo>
                  <a:pt x="6" y="1133"/>
                </a:lnTo>
                <a:lnTo>
                  <a:pt x="8" y="1142"/>
                </a:lnTo>
                <a:lnTo>
                  <a:pt x="11" y="1150"/>
                </a:lnTo>
                <a:lnTo>
                  <a:pt x="17" y="1159"/>
                </a:lnTo>
                <a:lnTo>
                  <a:pt x="25" y="1170"/>
                </a:lnTo>
                <a:lnTo>
                  <a:pt x="40" y="1179"/>
                </a:lnTo>
                <a:lnTo>
                  <a:pt x="42" y="1179"/>
                </a:lnTo>
                <a:lnTo>
                  <a:pt x="48" y="1179"/>
                </a:lnTo>
                <a:lnTo>
                  <a:pt x="57" y="1179"/>
                </a:lnTo>
                <a:lnTo>
                  <a:pt x="65" y="1181"/>
                </a:lnTo>
                <a:lnTo>
                  <a:pt x="76" y="1181"/>
                </a:lnTo>
                <a:lnTo>
                  <a:pt x="88" y="1181"/>
                </a:lnTo>
                <a:lnTo>
                  <a:pt x="93" y="1181"/>
                </a:lnTo>
                <a:lnTo>
                  <a:pt x="102" y="1181"/>
                </a:lnTo>
                <a:lnTo>
                  <a:pt x="108" y="1181"/>
                </a:lnTo>
                <a:lnTo>
                  <a:pt x="116" y="1181"/>
                </a:lnTo>
                <a:lnTo>
                  <a:pt x="122" y="1181"/>
                </a:lnTo>
                <a:lnTo>
                  <a:pt x="130" y="1181"/>
                </a:lnTo>
                <a:lnTo>
                  <a:pt x="136" y="1181"/>
                </a:lnTo>
                <a:lnTo>
                  <a:pt x="144" y="1181"/>
                </a:lnTo>
                <a:lnTo>
                  <a:pt x="153" y="1181"/>
                </a:lnTo>
                <a:lnTo>
                  <a:pt x="161" y="1181"/>
                </a:lnTo>
                <a:lnTo>
                  <a:pt x="170" y="1181"/>
                </a:lnTo>
                <a:lnTo>
                  <a:pt x="178" y="1181"/>
                </a:lnTo>
                <a:lnTo>
                  <a:pt x="187" y="1181"/>
                </a:lnTo>
                <a:lnTo>
                  <a:pt x="195" y="1181"/>
                </a:lnTo>
                <a:lnTo>
                  <a:pt x="204" y="1181"/>
                </a:lnTo>
                <a:lnTo>
                  <a:pt x="215" y="1181"/>
                </a:lnTo>
                <a:lnTo>
                  <a:pt x="221" y="1181"/>
                </a:lnTo>
                <a:lnTo>
                  <a:pt x="232" y="1181"/>
                </a:lnTo>
                <a:lnTo>
                  <a:pt x="241" y="1181"/>
                </a:lnTo>
                <a:lnTo>
                  <a:pt x="252" y="1181"/>
                </a:lnTo>
                <a:lnTo>
                  <a:pt x="258" y="1181"/>
                </a:lnTo>
                <a:lnTo>
                  <a:pt x="266" y="1181"/>
                </a:lnTo>
                <a:lnTo>
                  <a:pt x="275" y="1181"/>
                </a:lnTo>
                <a:lnTo>
                  <a:pt x="283" y="1181"/>
                </a:lnTo>
                <a:lnTo>
                  <a:pt x="295" y="1179"/>
                </a:lnTo>
                <a:lnTo>
                  <a:pt x="303" y="1179"/>
                </a:lnTo>
                <a:lnTo>
                  <a:pt x="312" y="1179"/>
                </a:lnTo>
                <a:lnTo>
                  <a:pt x="320" y="1179"/>
                </a:lnTo>
                <a:lnTo>
                  <a:pt x="326" y="1179"/>
                </a:lnTo>
                <a:lnTo>
                  <a:pt x="334" y="1179"/>
                </a:lnTo>
                <a:lnTo>
                  <a:pt x="343" y="1179"/>
                </a:lnTo>
                <a:lnTo>
                  <a:pt x="348" y="1179"/>
                </a:lnTo>
                <a:lnTo>
                  <a:pt x="357" y="1179"/>
                </a:lnTo>
                <a:lnTo>
                  <a:pt x="363" y="1179"/>
                </a:lnTo>
                <a:lnTo>
                  <a:pt x="371" y="1179"/>
                </a:lnTo>
                <a:lnTo>
                  <a:pt x="380" y="1179"/>
                </a:lnTo>
                <a:lnTo>
                  <a:pt x="391" y="1179"/>
                </a:lnTo>
                <a:lnTo>
                  <a:pt x="399" y="1179"/>
                </a:lnTo>
                <a:lnTo>
                  <a:pt x="411" y="1179"/>
                </a:lnTo>
                <a:lnTo>
                  <a:pt x="419" y="1179"/>
                </a:lnTo>
                <a:lnTo>
                  <a:pt x="425" y="1179"/>
                </a:lnTo>
                <a:lnTo>
                  <a:pt x="430" y="1179"/>
                </a:lnTo>
                <a:lnTo>
                  <a:pt x="433" y="1179"/>
                </a:lnTo>
                <a:lnTo>
                  <a:pt x="436" y="1179"/>
                </a:lnTo>
                <a:lnTo>
                  <a:pt x="436" y="1187"/>
                </a:lnTo>
                <a:lnTo>
                  <a:pt x="436" y="1190"/>
                </a:lnTo>
                <a:lnTo>
                  <a:pt x="436" y="1198"/>
                </a:lnTo>
                <a:lnTo>
                  <a:pt x="436" y="1204"/>
                </a:lnTo>
                <a:lnTo>
                  <a:pt x="439" y="1213"/>
                </a:lnTo>
                <a:lnTo>
                  <a:pt x="439" y="1221"/>
                </a:lnTo>
                <a:lnTo>
                  <a:pt x="439" y="1230"/>
                </a:lnTo>
                <a:lnTo>
                  <a:pt x="439" y="1241"/>
                </a:lnTo>
                <a:lnTo>
                  <a:pt x="442" y="1252"/>
                </a:lnTo>
                <a:lnTo>
                  <a:pt x="442" y="1264"/>
                </a:lnTo>
                <a:lnTo>
                  <a:pt x="442" y="1278"/>
                </a:lnTo>
                <a:lnTo>
                  <a:pt x="442" y="1292"/>
                </a:lnTo>
                <a:lnTo>
                  <a:pt x="445" y="1306"/>
                </a:lnTo>
                <a:lnTo>
                  <a:pt x="445" y="1321"/>
                </a:lnTo>
                <a:lnTo>
                  <a:pt x="447" y="1335"/>
                </a:lnTo>
                <a:lnTo>
                  <a:pt x="447" y="1352"/>
                </a:lnTo>
                <a:lnTo>
                  <a:pt x="450" y="1369"/>
                </a:lnTo>
                <a:lnTo>
                  <a:pt x="450" y="1386"/>
                </a:lnTo>
                <a:lnTo>
                  <a:pt x="450" y="1403"/>
                </a:lnTo>
                <a:lnTo>
                  <a:pt x="453" y="1423"/>
                </a:lnTo>
                <a:lnTo>
                  <a:pt x="453" y="1440"/>
                </a:lnTo>
                <a:lnTo>
                  <a:pt x="453" y="1460"/>
                </a:lnTo>
                <a:lnTo>
                  <a:pt x="456" y="1480"/>
                </a:lnTo>
                <a:lnTo>
                  <a:pt x="459" y="1497"/>
                </a:lnTo>
                <a:lnTo>
                  <a:pt x="462" y="1516"/>
                </a:lnTo>
                <a:lnTo>
                  <a:pt x="462" y="1536"/>
                </a:lnTo>
                <a:lnTo>
                  <a:pt x="464" y="1556"/>
                </a:lnTo>
                <a:lnTo>
                  <a:pt x="464" y="1576"/>
                </a:lnTo>
                <a:lnTo>
                  <a:pt x="467" y="1599"/>
                </a:lnTo>
                <a:lnTo>
                  <a:pt x="467" y="1616"/>
                </a:lnTo>
                <a:lnTo>
                  <a:pt x="467" y="1636"/>
                </a:lnTo>
                <a:lnTo>
                  <a:pt x="470" y="1656"/>
                </a:lnTo>
                <a:lnTo>
                  <a:pt x="473" y="1676"/>
                </a:lnTo>
                <a:lnTo>
                  <a:pt x="473" y="1695"/>
                </a:lnTo>
                <a:lnTo>
                  <a:pt x="473" y="1715"/>
                </a:lnTo>
                <a:lnTo>
                  <a:pt x="476" y="1735"/>
                </a:lnTo>
                <a:lnTo>
                  <a:pt x="476" y="1755"/>
                </a:lnTo>
                <a:lnTo>
                  <a:pt x="476" y="1772"/>
                </a:lnTo>
                <a:lnTo>
                  <a:pt x="479" y="1792"/>
                </a:lnTo>
                <a:lnTo>
                  <a:pt x="479" y="1812"/>
                </a:lnTo>
                <a:lnTo>
                  <a:pt x="481" y="1829"/>
                </a:lnTo>
                <a:lnTo>
                  <a:pt x="481" y="1846"/>
                </a:lnTo>
                <a:lnTo>
                  <a:pt x="484" y="1863"/>
                </a:lnTo>
                <a:lnTo>
                  <a:pt x="484" y="1880"/>
                </a:lnTo>
                <a:lnTo>
                  <a:pt x="487" y="1897"/>
                </a:lnTo>
                <a:lnTo>
                  <a:pt x="487" y="1911"/>
                </a:lnTo>
                <a:lnTo>
                  <a:pt x="487" y="1928"/>
                </a:lnTo>
                <a:lnTo>
                  <a:pt x="487" y="1942"/>
                </a:lnTo>
                <a:lnTo>
                  <a:pt x="487" y="1957"/>
                </a:lnTo>
                <a:lnTo>
                  <a:pt x="487" y="1968"/>
                </a:lnTo>
                <a:lnTo>
                  <a:pt x="490" y="1982"/>
                </a:lnTo>
                <a:lnTo>
                  <a:pt x="490" y="1994"/>
                </a:lnTo>
                <a:lnTo>
                  <a:pt x="490" y="2005"/>
                </a:lnTo>
                <a:lnTo>
                  <a:pt x="490" y="2013"/>
                </a:lnTo>
                <a:lnTo>
                  <a:pt x="490" y="2022"/>
                </a:lnTo>
                <a:lnTo>
                  <a:pt x="490" y="2030"/>
                </a:lnTo>
                <a:lnTo>
                  <a:pt x="490" y="2039"/>
                </a:lnTo>
                <a:lnTo>
                  <a:pt x="490" y="2050"/>
                </a:lnTo>
                <a:lnTo>
                  <a:pt x="490" y="2056"/>
                </a:lnTo>
                <a:lnTo>
                  <a:pt x="487" y="2062"/>
                </a:lnTo>
                <a:lnTo>
                  <a:pt x="487" y="2067"/>
                </a:lnTo>
                <a:lnTo>
                  <a:pt x="484" y="2073"/>
                </a:lnTo>
                <a:lnTo>
                  <a:pt x="484" y="2082"/>
                </a:lnTo>
                <a:lnTo>
                  <a:pt x="479" y="2087"/>
                </a:lnTo>
                <a:lnTo>
                  <a:pt x="476" y="2096"/>
                </a:lnTo>
                <a:lnTo>
                  <a:pt x="476" y="2104"/>
                </a:lnTo>
                <a:lnTo>
                  <a:pt x="473" y="2116"/>
                </a:lnTo>
                <a:lnTo>
                  <a:pt x="467" y="2124"/>
                </a:lnTo>
                <a:lnTo>
                  <a:pt x="464" y="2136"/>
                </a:lnTo>
                <a:lnTo>
                  <a:pt x="464" y="2147"/>
                </a:lnTo>
                <a:lnTo>
                  <a:pt x="462" y="2158"/>
                </a:lnTo>
                <a:lnTo>
                  <a:pt x="456" y="2170"/>
                </a:lnTo>
                <a:lnTo>
                  <a:pt x="453" y="2181"/>
                </a:lnTo>
                <a:lnTo>
                  <a:pt x="453" y="2192"/>
                </a:lnTo>
                <a:lnTo>
                  <a:pt x="450" y="2207"/>
                </a:lnTo>
                <a:lnTo>
                  <a:pt x="447" y="2218"/>
                </a:lnTo>
                <a:lnTo>
                  <a:pt x="445" y="2229"/>
                </a:lnTo>
                <a:lnTo>
                  <a:pt x="442" y="2241"/>
                </a:lnTo>
                <a:lnTo>
                  <a:pt x="442" y="2252"/>
                </a:lnTo>
                <a:lnTo>
                  <a:pt x="442" y="2263"/>
                </a:lnTo>
                <a:lnTo>
                  <a:pt x="439" y="2275"/>
                </a:lnTo>
                <a:lnTo>
                  <a:pt x="439" y="2286"/>
                </a:lnTo>
                <a:lnTo>
                  <a:pt x="442" y="2297"/>
                </a:lnTo>
                <a:lnTo>
                  <a:pt x="442" y="2309"/>
                </a:lnTo>
                <a:lnTo>
                  <a:pt x="442" y="2317"/>
                </a:lnTo>
                <a:lnTo>
                  <a:pt x="442" y="2326"/>
                </a:lnTo>
                <a:lnTo>
                  <a:pt x="445" y="2337"/>
                </a:lnTo>
                <a:lnTo>
                  <a:pt x="447" y="2343"/>
                </a:lnTo>
                <a:lnTo>
                  <a:pt x="453" y="2351"/>
                </a:lnTo>
                <a:lnTo>
                  <a:pt x="456" y="2360"/>
                </a:lnTo>
                <a:lnTo>
                  <a:pt x="462" y="2366"/>
                </a:lnTo>
                <a:lnTo>
                  <a:pt x="464" y="2368"/>
                </a:lnTo>
                <a:lnTo>
                  <a:pt x="470" y="2371"/>
                </a:lnTo>
                <a:lnTo>
                  <a:pt x="479" y="2374"/>
                </a:lnTo>
                <a:lnTo>
                  <a:pt x="490" y="2377"/>
                </a:lnTo>
                <a:lnTo>
                  <a:pt x="501" y="2380"/>
                </a:lnTo>
                <a:lnTo>
                  <a:pt x="515" y="2383"/>
                </a:lnTo>
                <a:lnTo>
                  <a:pt x="530" y="2383"/>
                </a:lnTo>
                <a:lnTo>
                  <a:pt x="549" y="2388"/>
                </a:lnTo>
                <a:lnTo>
                  <a:pt x="569" y="2391"/>
                </a:lnTo>
                <a:lnTo>
                  <a:pt x="592" y="2391"/>
                </a:lnTo>
                <a:lnTo>
                  <a:pt x="612" y="2394"/>
                </a:lnTo>
                <a:lnTo>
                  <a:pt x="637" y="2400"/>
                </a:lnTo>
                <a:lnTo>
                  <a:pt x="663" y="2403"/>
                </a:lnTo>
                <a:lnTo>
                  <a:pt x="691" y="2403"/>
                </a:lnTo>
                <a:lnTo>
                  <a:pt x="719" y="2405"/>
                </a:lnTo>
                <a:lnTo>
                  <a:pt x="751" y="2411"/>
                </a:lnTo>
                <a:lnTo>
                  <a:pt x="782" y="2411"/>
                </a:lnTo>
                <a:lnTo>
                  <a:pt x="813" y="2414"/>
                </a:lnTo>
                <a:lnTo>
                  <a:pt x="847" y="2417"/>
                </a:lnTo>
                <a:lnTo>
                  <a:pt x="881" y="2420"/>
                </a:lnTo>
                <a:lnTo>
                  <a:pt x="918" y="2420"/>
                </a:lnTo>
                <a:lnTo>
                  <a:pt x="952" y="2425"/>
                </a:lnTo>
                <a:lnTo>
                  <a:pt x="991" y="2425"/>
                </a:lnTo>
                <a:lnTo>
                  <a:pt x="1028" y="2428"/>
                </a:lnTo>
                <a:lnTo>
                  <a:pt x="1065" y="2431"/>
                </a:lnTo>
                <a:lnTo>
                  <a:pt x="1105" y="2434"/>
                </a:lnTo>
                <a:lnTo>
                  <a:pt x="1141" y="2437"/>
                </a:lnTo>
                <a:lnTo>
                  <a:pt x="1184" y="2437"/>
                </a:lnTo>
                <a:lnTo>
                  <a:pt x="1221" y="2439"/>
                </a:lnTo>
                <a:lnTo>
                  <a:pt x="1260" y="2442"/>
                </a:lnTo>
                <a:lnTo>
                  <a:pt x="1300" y="2445"/>
                </a:lnTo>
                <a:lnTo>
                  <a:pt x="1342" y="2448"/>
                </a:lnTo>
                <a:lnTo>
                  <a:pt x="1382" y="2448"/>
                </a:lnTo>
                <a:lnTo>
                  <a:pt x="1422" y="2451"/>
                </a:lnTo>
                <a:lnTo>
                  <a:pt x="1461" y="2451"/>
                </a:lnTo>
                <a:lnTo>
                  <a:pt x="1501" y="2454"/>
                </a:lnTo>
                <a:lnTo>
                  <a:pt x="1541" y="2456"/>
                </a:lnTo>
                <a:lnTo>
                  <a:pt x="1578" y="2456"/>
                </a:lnTo>
                <a:lnTo>
                  <a:pt x="1617" y="2459"/>
                </a:lnTo>
                <a:lnTo>
                  <a:pt x="1657" y="2462"/>
                </a:lnTo>
                <a:lnTo>
                  <a:pt x="1694" y="2462"/>
                </a:lnTo>
                <a:lnTo>
                  <a:pt x="1730" y="2465"/>
                </a:lnTo>
                <a:lnTo>
                  <a:pt x="1767" y="2465"/>
                </a:lnTo>
                <a:lnTo>
                  <a:pt x="1804" y="2468"/>
                </a:lnTo>
                <a:lnTo>
                  <a:pt x="1838" y="2468"/>
                </a:lnTo>
                <a:lnTo>
                  <a:pt x="1872" y="2471"/>
                </a:lnTo>
                <a:lnTo>
                  <a:pt x="1903" y="2471"/>
                </a:lnTo>
                <a:lnTo>
                  <a:pt x="1937" y="2474"/>
                </a:lnTo>
                <a:lnTo>
                  <a:pt x="1966" y="2474"/>
                </a:lnTo>
                <a:lnTo>
                  <a:pt x="1994" y="2474"/>
                </a:lnTo>
                <a:lnTo>
                  <a:pt x="2022" y="2474"/>
                </a:lnTo>
                <a:lnTo>
                  <a:pt x="2051" y="2476"/>
                </a:lnTo>
                <a:lnTo>
                  <a:pt x="2073" y="2476"/>
                </a:lnTo>
                <a:lnTo>
                  <a:pt x="2099" y="2476"/>
                </a:lnTo>
                <a:lnTo>
                  <a:pt x="2118" y="2479"/>
                </a:lnTo>
                <a:lnTo>
                  <a:pt x="2141" y="2479"/>
                </a:lnTo>
                <a:lnTo>
                  <a:pt x="2158" y="2479"/>
                </a:lnTo>
                <a:lnTo>
                  <a:pt x="2175" y="2479"/>
                </a:lnTo>
                <a:lnTo>
                  <a:pt x="2189" y="2479"/>
                </a:lnTo>
                <a:lnTo>
                  <a:pt x="2203" y="2479"/>
                </a:lnTo>
                <a:lnTo>
                  <a:pt x="2215" y="2479"/>
                </a:lnTo>
                <a:lnTo>
                  <a:pt x="2223" y="2479"/>
                </a:lnTo>
                <a:lnTo>
                  <a:pt x="2232" y="2479"/>
                </a:lnTo>
                <a:lnTo>
                  <a:pt x="2237" y="2479"/>
                </a:lnTo>
                <a:lnTo>
                  <a:pt x="2240" y="2479"/>
                </a:lnTo>
                <a:lnTo>
                  <a:pt x="2243" y="2476"/>
                </a:lnTo>
                <a:lnTo>
                  <a:pt x="2252" y="2474"/>
                </a:lnTo>
                <a:lnTo>
                  <a:pt x="2257" y="2474"/>
                </a:lnTo>
                <a:lnTo>
                  <a:pt x="2266" y="2468"/>
                </a:lnTo>
                <a:lnTo>
                  <a:pt x="2277" y="2465"/>
                </a:lnTo>
                <a:lnTo>
                  <a:pt x="2286" y="2459"/>
                </a:lnTo>
                <a:lnTo>
                  <a:pt x="2300" y="2456"/>
                </a:lnTo>
                <a:lnTo>
                  <a:pt x="2311" y="2451"/>
                </a:lnTo>
                <a:lnTo>
                  <a:pt x="2328" y="2445"/>
                </a:lnTo>
                <a:lnTo>
                  <a:pt x="2339" y="2437"/>
                </a:lnTo>
                <a:lnTo>
                  <a:pt x="2356" y="2431"/>
                </a:lnTo>
                <a:lnTo>
                  <a:pt x="2371" y="2425"/>
                </a:lnTo>
                <a:lnTo>
                  <a:pt x="2390" y="2417"/>
                </a:lnTo>
                <a:lnTo>
                  <a:pt x="2407" y="2408"/>
                </a:lnTo>
                <a:lnTo>
                  <a:pt x="2427" y="2403"/>
                </a:lnTo>
                <a:lnTo>
                  <a:pt x="2447" y="2391"/>
                </a:lnTo>
                <a:lnTo>
                  <a:pt x="2467" y="2383"/>
                </a:lnTo>
                <a:lnTo>
                  <a:pt x="2487" y="2371"/>
                </a:lnTo>
                <a:lnTo>
                  <a:pt x="2509" y="2363"/>
                </a:lnTo>
                <a:lnTo>
                  <a:pt x="2529" y="2354"/>
                </a:lnTo>
                <a:lnTo>
                  <a:pt x="2552" y="2343"/>
                </a:lnTo>
                <a:lnTo>
                  <a:pt x="2572" y="2334"/>
                </a:lnTo>
                <a:lnTo>
                  <a:pt x="2597" y="2323"/>
                </a:lnTo>
                <a:lnTo>
                  <a:pt x="2620" y="2312"/>
                </a:lnTo>
                <a:lnTo>
                  <a:pt x="2642" y="2300"/>
                </a:lnTo>
                <a:lnTo>
                  <a:pt x="2665" y="2289"/>
                </a:lnTo>
                <a:lnTo>
                  <a:pt x="2691" y="2280"/>
                </a:lnTo>
                <a:lnTo>
                  <a:pt x="2713" y="2269"/>
                </a:lnTo>
                <a:lnTo>
                  <a:pt x="2739" y="2258"/>
                </a:lnTo>
                <a:lnTo>
                  <a:pt x="2761" y="2246"/>
                </a:lnTo>
                <a:lnTo>
                  <a:pt x="2787" y="2235"/>
                </a:lnTo>
                <a:lnTo>
                  <a:pt x="2810" y="2224"/>
                </a:lnTo>
                <a:lnTo>
                  <a:pt x="2832" y="2212"/>
                </a:lnTo>
                <a:lnTo>
                  <a:pt x="2858" y="2201"/>
                </a:lnTo>
                <a:lnTo>
                  <a:pt x="2880" y="2190"/>
                </a:lnTo>
                <a:lnTo>
                  <a:pt x="2903" y="2178"/>
                </a:lnTo>
                <a:lnTo>
                  <a:pt x="2926" y="2167"/>
                </a:lnTo>
                <a:lnTo>
                  <a:pt x="2948" y="2155"/>
                </a:lnTo>
                <a:lnTo>
                  <a:pt x="2974" y="2144"/>
                </a:lnTo>
                <a:lnTo>
                  <a:pt x="2994" y="2133"/>
                </a:lnTo>
                <a:lnTo>
                  <a:pt x="3016" y="2121"/>
                </a:lnTo>
                <a:lnTo>
                  <a:pt x="3036" y="2113"/>
                </a:lnTo>
                <a:lnTo>
                  <a:pt x="3059" y="2101"/>
                </a:lnTo>
                <a:lnTo>
                  <a:pt x="3079" y="2090"/>
                </a:lnTo>
                <a:lnTo>
                  <a:pt x="3098" y="2082"/>
                </a:lnTo>
                <a:lnTo>
                  <a:pt x="3115" y="2070"/>
                </a:lnTo>
                <a:lnTo>
                  <a:pt x="3135" y="2062"/>
                </a:lnTo>
                <a:lnTo>
                  <a:pt x="3152" y="2053"/>
                </a:lnTo>
                <a:lnTo>
                  <a:pt x="3169" y="2045"/>
                </a:lnTo>
                <a:lnTo>
                  <a:pt x="3183" y="2033"/>
                </a:lnTo>
                <a:lnTo>
                  <a:pt x="3200" y="2028"/>
                </a:lnTo>
                <a:lnTo>
                  <a:pt x="3212" y="2019"/>
                </a:lnTo>
                <a:lnTo>
                  <a:pt x="3226" y="2011"/>
                </a:lnTo>
                <a:lnTo>
                  <a:pt x="3237" y="2005"/>
                </a:lnTo>
                <a:lnTo>
                  <a:pt x="3251" y="1999"/>
                </a:lnTo>
                <a:lnTo>
                  <a:pt x="3260" y="1991"/>
                </a:lnTo>
                <a:lnTo>
                  <a:pt x="3271" y="1985"/>
                </a:lnTo>
                <a:lnTo>
                  <a:pt x="3277" y="1982"/>
                </a:lnTo>
                <a:lnTo>
                  <a:pt x="3285" y="1977"/>
                </a:lnTo>
                <a:lnTo>
                  <a:pt x="3297" y="1968"/>
                </a:lnTo>
                <a:lnTo>
                  <a:pt x="3302" y="1965"/>
                </a:lnTo>
                <a:lnTo>
                  <a:pt x="3302" y="1959"/>
                </a:lnTo>
                <a:lnTo>
                  <a:pt x="3302" y="1951"/>
                </a:lnTo>
                <a:lnTo>
                  <a:pt x="3302" y="1942"/>
                </a:lnTo>
                <a:lnTo>
                  <a:pt x="3302" y="1931"/>
                </a:lnTo>
                <a:lnTo>
                  <a:pt x="3302" y="1925"/>
                </a:lnTo>
                <a:lnTo>
                  <a:pt x="3302" y="1920"/>
                </a:lnTo>
                <a:lnTo>
                  <a:pt x="3302" y="1914"/>
                </a:lnTo>
                <a:lnTo>
                  <a:pt x="3302" y="1908"/>
                </a:lnTo>
                <a:lnTo>
                  <a:pt x="3302" y="1900"/>
                </a:lnTo>
                <a:lnTo>
                  <a:pt x="3302" y="1894"/>
                </a:lnTo>
                <a:lnTo>
                  <a:pt x="3302" y="1886"/>
                </a:lnTo>
                <a:lnTo>
                  <a:pt x="3302" y="1880"/>
                </a:lnTo>
                <a:lnTo>
                  <a:pt x="3302" y="1871"/>
                </a:lnTo>
                <a:lnTo>
                  <a:pt x="3302" y="1863"/>
                </a:lnTo>
                <a:lnTo>
                  <a:pt x="3302" y="1854"/>
                </a:lnTo>
                <a:lnTo>
                  <a:pt x="3302" y="1846"/>
                </a:lnTo>
                <a:lnTo>
                  <a:pt x="3300" y="1837"/>
                </a:lnTo>
                <a:lnTo>
                  <a:pt x="3300" y="1829"/>
                </a:lnTo>
                <a:lnTo>
                  <a:pt x="3300" y="1820"/>
                </a:lnTo>
                <a:lnTo>
                  <a:pt x="3300" y="1812"/>
                </a:lnTo>
                <a:lnTo>
                  <a:pt x="3297" y="1803"/>
                </a:lnTo>
                <a:lnTo>
                  <a:pt x="3297" y="1795"/>
                </a:lnTo>
                <a:lnTo>
                  <a:pt x="3294" y="1786"/>
                </a:lnTo>
                <a:lnTo>
                  <a:pt x="3294" y="1778"/>
                </a:lnTo>
                <a:lnTo>
                  <a:pt x="3294" y="1766"/>
                </a:lnTo>
                <a:lnTo>
                  <a:pt x="3294" y="1761"/>
                </a:lnTo>
                <a:lnTo>
                  <a:pt x="3291" y="1749"/>
                </a:lnTo>
                <a:lnTo>
                  <a:pt x="3291" y="1741"/>
                </a:lnTo>
                <a:lnTo>
                  <a:pt x="3291" y="1732"/>
                </a:lnTo>
                <a:lnTo>
                  <a:pt x="3291" y="1724"/>
                </a:lnTo>
                <a:lnTo>
                  <a:pt x="3288" y="1712"/>
                </a:lnTo>
                <a:lnTo>
                  <a:pt x="3288" y="1704"/>
                </a:lnTo>
                <a:lnTo>
                  <a:pt x="3285" y="1695"/>
                </a:lnTo>
                <a:lnTo>
                  <a:pt x="3285" y="1687"/>
                </a:lnTo>
                <a:lnTo>
                  <a:pt x="3283" y="1678"/>
                </a:lnTo>
                <a:lnTo>
                  <a:pt x="3283" y="1670"/>
                </a:lnTo>
                <a:lnTo>
                  <a:pt x="3283" y="1661"/>
                </a:lnTo>
                <a:lnTo>
                  <a:pt x="3283" y="1653"/>
                </a:lnTo>
                <a:lnTo>
                  <a:pt x="3280" y="1647"/>
                </a:lnTo>
                <a:lnTo>
                  <a:pt x="3280" y="1639"/>
                </a:lnTo>
                <a:lnTo>
                  <a:pt x="3280" y="1630"/>
                </a:lnTo>
                <a:lnTo>
                  <a:pt x="3277" y="1624"/>
                </a:lnTo>
                <a:lnTo>
                  <a:pt x="3277" y="1619"/>
                </a:lnTo>
                <a:lnTo>
                  <a:pt x="3277" y="1610"/>
                </a:lnTo>
                <a:lnTo>
                  <a:pt x="3274" y="1599"/>
                </a:lnTo>
                <a:lnTo>
                  <a:pt x="3274" y="1587"/>
                </a:lnTo>
                <a:lnTo>
                  <a:pt x="3271" y="1576"/>
                </a:lnTo>
                <a:lnTo>
                  <a:pt x="3271" y="1570"/>
                </a:lnTo>
                <a:lnTo>
                  <a:pt x="3271" y="1562"/>
                </a:lnTo>
                <a:lnTo>
                  <a:pt x="3271" y="1559"/>
                </a:lnTo>
                <a:lnTo>
                  <a:pt x="3271" y="1556"/>
                </a:lnTo>
                <a:lnTo>
                  <a:pt x="3339" y="804"/>
                </a:lnTo>
                <a:lnTo>
                  <a:pt x="3339" y="801"/>
                </a:lnTo>
                <a:lnTo>
                  <a:pt x="3345" y="801"/>
                </a:lnTo>
                <a:lnTo>
                  <a:pt x="3348" y="795"/>
                </a:lnTo>
                <a:lnTo>
                  <a:pt x="3356" y="792"/>
                </a:lnTo>
                <a:lnTo>
                  <a:pt x="3365" y="789"/>
                </a:lnTo>
                <a:lnTo>
                  <a:pt x="3376" y="784"/>
                </a:lnTo>
                <a:lnTo>
                  <a:pt x="3379" y="781"/>
                </a:lnTo>
                <a:lnTo>
                  <a:pt x="3387" y="778"/>
                </a:lnTo>
                <a:lnTo>
                  <a:pt x="3393" y="775"/>
                </a:lnTo>
                <a:lnTo>
                  <a:pt x="3401" y="772"/>
                </a:lnTo>
                <a:lnTo>
                  <a:pt x="3407" y="770"/>
                </a:lnTo>
                <a:lnTo>
                  <a:pt x="3416" y="767"/>
                </a:lnTo>
                <a:lnTo>
                  <a:pt x="3421" y="761"/>
                </a:lnTo>
                <a:lnTo>
                  <a:pt x="3430" y="758"/>
                </a:lnTo>
                <a:lnTo>
                  <a:pt x="3438" y="753"/>
                </a:lnTo>
                <a:lnTo>
                  <a:pt x="3447" y="750"/>
                </a:lnTo>
                <a:lnTo>
                  <a:pt x="3455" y="747"/>
                </a:lnTo>
                <a:lnTo>
                  <a:pt x="3464" y="741"/>
                </a:lnTo>
                <a:lnTo>
                  <a:pt x="3472" y="738"/>
                </a:lnTo>
                <a:lnTo>
                  <a:pt x="3481" y="733"/>
                </a:lnTo>
                <a:lnTo>
                  <a:pt x="3489" y="727"/>
                </a:lnTo>
                <a:lnTo>
                  <a:pt x="3501" y="724"/>
                </a:lnTo>
                <a:lnTo>
                  <a:pt x="3509" y="718"/>
                </a:lnTo>
                <a:lnTo>
                  <a:pt x="3518" y="716"/>
                </a:lnTo>
                <a:lnTo>
                  <a:pt x="3526" y="710"/>
                </a:lnTo>
                <a:lnTo>
                  <a:pt x="3537" y="707"/>
                </a:lnTo>
                <a:lnTo>
                  <a:pt x="3546" y="699"/>
                </a:lnTo>
                <a:lnTo>
                  <a:pt x="3554" y="696"/>
                </a:lnTo>
                <a:lnTo>
                  <a:pt x="3563" y="690"/>
                </a:lnTo>
                <a:lnTo>
                  <a:pt x="3571" y="684"/>
                </a:lnTo>
                <a:lnTo>
                  <a:pt x="3580" y="679"/>
                </a:lnTo>
                <a:lnTo>
                  <a:pt x="3588" y="676"/>
                </a:lnTo>
                <a:lnTo>
                  <a:pt x="3600" y="667"/>
                </a:lnTo>
                <a:lnTo>
                  <a:pt x="3608" y="664"/>
                </a:lnTo>
                <a:lnTo>
                  <a:pt x="3617" y="659"/>
                </a:lnTo>
                <a:lnTo>
                  <a:pt x="3625" y="653"/>
                </a:lnTo>
                <a:lnTo>
                  <a:pt x="3631" y="647"/>
                </a:lnTo>
                <a:lnTo>
                  <a:pt x="3642" y="645"/>
                </a:lnTo>
                <a:lnTo>
                  <a:pt x="3648" y="639"/>
                </a:lnTo>
                <a:lnTo>
                  <a:pt x="3654" y="633"/>
                </a:lnTo>
                <a:lnTo>
                  <a:pt x="3662" y="628"/>
                </a:lnTo>
                <a:lnTo>
                  <a:pt x="3671" y="625"/>
                </a:lnTo>
                <a:lnTo>
                  <a:pt x="3682" y="613"/>
                </a:lnTo>
                <a:lnTo>
                  <a:pt x="3693" y="605"/>
                </a:lnTo>
                <a:lnTo>
                  <a:pt x="3705" y="594"/>
                </a:lnTo>
                <a:lnTo>
                  <a:pt x="3713" y="588"/>
                </a:lnTo>
                <a:lnTo>
                  <a:pt x="3719" y="579"/>
                </a:lnTo>
                <a:lnTo>
                  <a:pt x="3722" y="571"/>
                </a:lnTo>
                <a:lnTo>
                  <a:pt x="3724" y="562"/>
                </a:lnTo>
                <a:lnTo>
                  <a:pt x="3724" y="557"/>
                </a:lnTo>
                <a:lnTo>
                  <a:pt x="3722" y="551"/>
                </a:lnTo>
                <a:lnTo>
                  <a:pt x="3719" y="542"/>
                </a:lnTo>
                <a:lnTo>
                  <a:pt x="3710" y="534"/>
                </a:lnTo>
                <a:lnTo>
                  <a:pt x="3705" y="525"/>
                </a:lnTo>
                <a:lnTo>
                  <a:pt x="3693" y="517"/>
                </a:lnTo>
                <a:lnTo>
                  <a:pt x="3685" y="505"/>
                </a:lnTo>
                <a:lnTo>
                  <a:pt x="3673" y="494"/>
                </a:lnTo>
                <a:lnTo>
                  <a:pt x="3659" y="486"/>
                </a:lnTo>
                <a:lnTo>
                  <a:pt x="3654" y="480"/>
                </a:lnTo>
                <a:lnTo>
                  <a:pt x="3645" y="471"/>
                </a:lnTo>
                <a:lnTo>
                  <a:pt x="3637" y="466"/>
                </a:lnTo>
                <a:lnTo>
                  <a:pt x="3631" y="460"/>
                </a:lnTo>
                <a:lnTo>
                  <a:pt x="3620" y="454"/>
                </a:lnTo>
                <a:lnTo>
                  <a:pt x="3614" y="449"/>
                </a:lnTo>
                <a:lnTo>
                  <a:pt x="3605" y="443"/>
                </a:lnTo>
                <a:lnTo>
                  <a:pt x="3597" y="437"/>
                </a:lnTo>
                <a:lnTo>
                  <a:pt x="3588" y="429"/>
                </a:lnTo>
                <a:lnTo>
                  <a:pt x="3580" y="426"/>
                </a:lnTo>
                <a:lnTo>
                  <a:pt x="3569" y="417"/>
                </a:lnTo>
                <a:lnTo>
                  <a:pt x="3563" y="412"/>
                </a:lnTo>
                <a:lnTo>
                  <a:pt x="3552" y="406"/>
                </a:lnTo>
                <a:lnTo>
                  <a:pt x="3546" y="400"/>
                </a:lnTo>
                <a:lnTo>
                  <a:pt x="3535" y="395"/>
                </a:lnTo>
                <a:lnTo>
                  <a:pt x="3526" y="389"/>
                </a:lnTo>
                <a:lnTo>
                  <a:pt x="3518" y="381"/>
                </a:lnTo>
                <a:lnTo>
                  <a:pt x="3509" y="375"/>
                </a:lnTo>
                <a:lnTo>
                  <a:pt x="3498" y="369"/>
                </a:lnTo>
                <a:lnTo>
                  <a:pt x="3489" y="363"/>
                </a:lnTo>
                <a:lnTo>
                  <a:pt x="3481" y="358"/>
                </a:lnTo>
                <a:lnTo>
                  <a:pt x="3472" y="352"/>
                </a:lnTo>
                <a:lnTo>
                  <a:pt x="3461" y="346"/>
                </a:lnTo>
                <a:lnTo>
                  <a:pt x="3452" y="344"/>
                </a:lnTo>
                <a:lnTo>
                  <a:pt x="3441" y="335"/>
                </a:lnTo>
                <a:lnTo>
                  <a:pt x="3433" y="332"/>
                </a:lnTo>
                <a:lnTo>
                  <a:pt x="3424" y="324"/>
                </a:lnTo>
                <a:lnTo>
                  <a:pt x="3418" y="321"/>
                </a:lnTo>
                <a:lnTo>
                  <a:pt x="3410" y="315"/>
                </a:lnTo>
                <a:lnTo>
                  <a:pt x="3401" y="310"/>
                </a:lnTo>
                <a:lnTo>
                  <a:pt x="3393" y="307"/>
                </a:lnTo>
                <a:lnTo>
                  <a:pt x="3387" y="304"/>
                </a:lnTo>
                <a:lnTo>
                  <a:pt x="3379" y="298"/>
                </a:lnTo>
                <a:lnTo>
                  <a:pt x="3370" y="295"/>
                </a:lnTo>
                <a:lnTo>
                  <a:pt x="3365" y="290"/>
                </a:lnTo>
                <a:lnTo>
                  <a:pt x="3356" y="287"/>
                </a:lnTo>
                <a:lnTo>
                  <a:pt x="3345" y="278"/>
                </a:lnTo>
                <a:lnTo>
                  <a:pt x="3334" y="275"/>
                </a:lnTo>
                <a:lnTo>
                  <a:pt x="3322" y="270"/>
                </a:lnTo>
                <a:lnTo>
                  <a:pt x="3314" y="267"/>
                </a:lnTo>
                <a:lnTo>
                  <a:pt x="3308" y="267"/>
                </a:lnTo>
                <a:lnTo>
                  <a:pt x="3302" y="267"/>
                </a:lnTo>
                <a:lnTo>
                  <a:pt x="3300" y="264"/>
                </a:lnTo>
                <a:lnTo>
                  <a:pt x="3294" y="264"/>
                </a:lnTo>
                <a:lnTo>
                  <a:pt x="3288" y="261"/>
                </a:lnTo>
                <a:lnTo>
                  <a:pt x="3283" y="261"/>
                </a:lnTo>
                <a:lnTo>
                  <a:pt x="3271" y="261"/>
                </a:lnTo>
                <a:lnTo>
                  <a:pt x="3263" y="261"/>
                </a:lnTo>
                <a:lnTo>
                  <a:pt x="3251" y="258"/>
                </a:lnTo>
                <a:lnTo>
                  <a:pt x="3240" y="258"/>
                </a:lnTo>
                <a:lnTo>
                  <a:pt x="3226" y="256"/>
                </a:lnTo>
                <a:lnTo>
                  <a:pt x="3212" y="256"/>
                </a:lnTo>
                <a:lnTo>
                  <a:pt x="3198" y="256"/>
                </a:lnTo>
                <a:lnTo>
                  <a:pt x="3181" y="256"/>
                </a:lnTo>
                <a:lnTo>
                  <a:pt x="3164" y="253"/>
                </a:lnTo>
                <a:lnTo>
                  <a:pt x="3147" y="250"/>
                </a:lnTo>
                <a:lnTo>
                  <a:pt x="3127" y="250"/>
                </a:lnTo>
                <a:lnTo>
                  <a:pt x="3110" y="250"/>
                </a:lnTo>
                <a:lnTo>
                  <a:pt x="3087" y="247"/>
                </a:lnTo>
                <a:lnTo>
                  <a:pt x="3067" y="244"/>
                </a:lnTo>
                <a:lnTo>
                  <a:pt x="3045" y="244"/>
                </a:lnTo>
                <a:lnTo>
                  <a:pt x="3022" y="244"/>
                </a:lnTo>
                <a:lnTo>
                  <a:pt x="2999" y="241"/>
                </a:lnTo>
                <a:lnTo>
                  <a:pt x="2977" y="239"/>
                </a:lnTo>
                <a:lnTo>
                  <a:pt x="2954" y="236"/>
                </a:lnTo>
                <a:lnTo>
                  <a:pt x="2931" y="236"/>
                </a:lnTo>
                <a:lnTo>
                  <a:pt x="2906" y="236"/>
                </a:lnTo>
                <a:lnTo>
                  <a:pt x="2880" y="233"/>
                </a:lnTo>
                <a:lnTo>
                  <a:pt x="2855" y="233"/>
                </a:lnTo>
                <a:lnTo>
                  <a:pt x="2829" y="230"/>
                </a:lnTo>
                <a:lnTo>
                  <a:pt x="2804" y="227"/>
                </a:lnTo>
                <a:lnTo>
                  <a:pt x="2781" y="227"/>
                </a:lnTo>
                <a:lnTo>
                  <a:pt x="2756" y="224"/>
                </a:lnTo>
                <a:lnTo>
                  <a:pt x="2730" y="224"/>
                </a:lnTo>
                <a:lnTo>
                  <a:pt x="2705" y="224"/>
                </a:lnTo>
                <a:lnTo>
                  <a:pt x="2676" y="221"/>
                </a:lnTo>
                <a:lnTo>
                  <a:pt x="2654" y="219"/>
                </a:lnTo>
                <a:lnTo>
                  <a:pt x="2628" y="219"/>
                </a:lnTo>
                <a:lnTo>
                  <a:pt x="2603" y="216"/>
                </a:lnTo>
                <a:lnTo>
                  <a:pt x="2580" y="213"/>
                </a:lnTo>
                <a:lnTo>
                  <a:pt x="2555" y="213"/>
                </a:lnTo>
                <a:lnTo>
                  <a:pt x="2532" y="213"/>
                </a:lnTo>
                <a:lnTo>
                  <a:pt x="2507" y="210"/>
                </a:lnTo>
                <a:lnTo>
                  <a:pt x="2484" y="207"/>
                </a:lnTo>
                <a:lnTo>
                  <a:pt x="2461" y="207"/>
                </a:lnTo>
                <a:lnTo>
                  <a:pt x="2441" y="204"/>
                </a:lnTo>
                <a:lnTo>
                  <a:pt x="2419" y="204"/>
                </a:lnTo>
                <a:lnTo>
                  <a:pt x="2399" y="202"/>
                </a:lnTo>
                <a:lnTo>
                  <a:pt x="2379" y="202"/>
                </a:lnTo>
                <a:lnTo>
                  <a:pt x="2359" y="202"/>
                </a:lnTo>
                <a:lnTo>
                  <a:pt x="2342" y="202"/>
                </a:lnTo>
                <a:lnTo>
                  <a:pt x="2325" y="199"/>
                </a:lnTo>
                <a:lnTo>
                  <a:pt x="2305" y="199"/>
                </a:lnTo>
                <a:lnTo>
                  <a:pt x="2291" y="199"/>
                </a:lnTo>
                <a:lnTo>
                  <a:pt x="2274" y="196"/>
                </a:lnTo>
                <a:lnTo>
                  <a:pt x="2263" y="196"/>
                </a:lnTo>
                <a:lnTo>
                  <a:pt x="2249" y="196"/>
                </a:lnTo>
                <a:lnTo>
                  <a:pt x="2240" y="196"/>
                </a:lnTo>
                <a:lnTo>
                  <a:pt x="2229" y="193"/>
                </a:lnTo>
                <a:lnTo>
                  <a:pt x="2220" y="193"/>
                </a:lnTo>
                <a:lnTo>
                  <a:pt x="2212" y="193"/>
                </a:lnTo>
                <a:lnTo>
                  <a:pt x="2206" y="193"/>
                </a:lnTo>
                <a:lnTo>
                  <a:pt x="2198" y="193"/>
                </a:lnTo>
                <a:lnTo>
                  <a:pt x="2195" y="193"/>
                </a:lnTo>
                <a:lnTo>
                  <a:pt x="2192" y="190"/>
                </a:lnTo>
                <a:lnTo>
                  <a:pt x="2186" y="182"/>
                </a:lnTo>
                <a:lnTo>
                  <a:pt x="2175" y="173"/>
                </a:lnTo>
                <a:lnTo>
                  <a:pt x="2167" y="162"/>
                </a:lnTo>
                <a:lnTo>
                  <a:pt x="2152" y="150"/>
                </a:lnTo>
                <a:lnTo>
                  <a:pt x="2138" y="142"/>
                </a:lnTo>
                <a:lnTo>
                  <a:pt x="2133" y="136"/>
                </a:lnTo>
                <a:lnTo>
                  <a:pt x="2124" y="133"/>
                </a:lnTo>
                <a:lnTo>
                  <a:pt x="2118" y="131"/>
                </a:lnTo>
                <a:lnTo>
                  <a:pt x="2113" y="131"/>
                </a:lnTo>
                <a:lnTo>
                  <a:pt x="2107" y="131"/>
                </a:lnTo>
                <a:lnTo>
                  <a:pt x="2101" y="131"/>
                </a:lnTo>
                <a:lnTo>
                  <a:pt x="2093" y="131"/>
                </a:lnTo>
                <a:lnTo>
                  <a:pt x="2087" y="131"/>
                </a:lnTo>
                <a:lnTo>
                  <a:pt x="2073" y="131"/>
                </a:lnTo>
                <a:lnTo>
                  <a:pt x="2062" y="133"/>
                </a:lnTo>
                <a:lnTo>
                  <a:pt x="2048" y="136"/>
                </a:lnTo>
                <a:lnTo>
                  <a:pt x="2039" y="139"/>
                </a:lnTo>
                <a:lnTo>
                  <a:pt x="2034" y="139"/>
                </a:lnTo>
                <a:lnTo>
                  <a:pt x="2034" y="142"/>
                </a:lnTo>
                <a:lnTo>
                  <a:pt x="2031" y="139"/>
                </a:lnTo>
                <a:lnTo>
                  <a:pt x="2028" y="136"/>
                </a:lnTo>
                <a:lnTo>
                  <a:pt x="2022" y="128"/>
                </a:lnTo>
                <a:lnTo>
                  <a:pt x="2017" y="122"/>
                </a:lnTo>
                <a:lnTo>
                  <a:pt x="2008" y="111"/>
                </a:lnTo>
                <a:lnTo>
                  <a:pt x="2000" y="102"/>
                </a:lnTo>
                <a:lnTo>
                  <a:pt x="1991" y="91"/>
                </a:lnTo>
                <a:lnTo>
                  <a:pt x="1980" y="79"/>
                </a:lnTo>
                <a:lnTo>
                  <a:pt x="1968" y="68"/>
                </a:lnTo>
                <a:lnTo>
                  <a:pt x="1957" y="57"/>
                </a:lnTo>
                <a:lnTo>
                  <a:pt x="1949" y="45"/>
                </a:lnTo>
                <a:lnTo>
                  <a:pt x="1937" y="37"/>
                </a:lnTo>
                <a:lnTo>
                  <a:pt x="1926" y="28"/>
                </a:lnTo>
                <a:lnTo>
                  <a:pt x="1915" y="23"/>
                </a:lnTo>
                <a:lnTo>
                  <a:pt x="1906" y="17"/>
                </a:lnTo>
                <a:lnTo>
                  <a:pt x="1900" y="17"/>
                </a:lnTo>
                <a:lnTo>
                  <a:pt x="1892" y="17"/>
                </a:lnTo>
                <a:lnTo>
                  <a:pt x="1883" y="17"/>
                </a:lnTo>
                <a:lnTo>
                  <a:pt x="1878" y="20"/>
                </a:lnTo>
                <a:lnTo>
                  <a:pt x="1872" y="23"/>
                </a:lnTo>
                <a:lnTo>
                  <a:pt x="1861" y="34"/>
                </a:lnTo>
                <a:lnTo>
                  <a:pt x="1852" y="45"/>
                </a:lnTo>
                <a:lnTo>
                  <a:pt x="1847" y="57"/>
                </a:lnTo>
                <a:lnTo>
                  <a:pt x="1844" y="68"/>
                </a:lnTo>
                <a:lnTo>
                  <a:pt x="1841" y="74"/>
                </a:lnTo>
                <a:lnTo>
                  <a:pt x="1841" y="79"/>
                </a:lnTo>
                <a:lnTo>
                  <a:pt x="1838" y="74"/>
                </a:lnTo>
                <a:lnTo>
                  <a:pt x="1832" y="65"/>
                </a:lnTo>
                <a:lnTo>
                  <a:pt x="1827" y="60"/>
                </a:lnTo>
                <a:lnTo>
                  <a:pt x="1824" y="54"/>
                </a:lnTo>
                <a:lnTo>
                  <a:pt x="1818" y="45"/>
                </a:lnTo>
                <a:lnTo>
                  <a:pt x="1813" y="40"/>
                </a:lnTo>
                <a:lnTo>
                  <a:pt x="1807" y="31"/>
                </a:lnTo>
                <a:lnTo>
                  <a:pt x="1798" y="23"/>
                </a:lnTo>
                <a:lnTo>
                  <a:pt x="1793" y="17"/>
                </a:lnTo>
                <a:lnTo>
                  <a:pt x="1784" y="11"/>
                </a:lnTo>
                <a:lnTo>
                  <a:pt x="1776" y="6"/>
                </a:lnTo>
                <a:lnTo>
                  <a:pt x="1767" y="3"/>
                </a:lnTo>
                <a:lnTo>
                  <a:pt x="1762" y="0"/>
                </a:lnTo>
                <a:lnTo>
                  <a:pt x="1753" y="0"/>
                </a:lnTo>
                <a:lnTo>
                  <a:pt x="1745" y="0"/>
                </a:lnTo>
                <a:lnTo>
                  <a:pt x="1736" y="3"/>
                </a:lnTo>
                <a:lnTo>
                  <a:pt x="1730" y="6"/>
                </a:lnTo>
                <a:lnTo>
                  <a:pt x="1725" y="11"/>
                </a:lnTo>
                <a:lnTo>
                  <a:pt x="1713" y="20"/>
                </a:lnTo>
                <a:lnTo>
                  <a:pt x="1708" y="31"/>
                </a:lnTo>
                <a:lnTo>
                  <a:pt x="1702" y="43"/>
                </a:lnTo>
                <a:lnTo>
                  <a:pt x="1696" y="54"/>
                </a:lnTo>
                <a:lnTo>
                  <a:pt x="1694" y="60"/>
                </a:lnTo>
                <a:lnTo>
                  <a:pt x="1694" y="62"/>
                </a:lnTo>
                <a:lnTo>
                  <a:pt x="1691" y="60"/>
                </a:lnTo>
                <a:lnTo>
                  <a:pt x="1688" y="57"/>
                </a:lnTo>
                <a:lnTo>
                  <a:pt x="1682" y="54"/>
                </a:lnTo>
                <a:lnTo>
                  <a:pt x="1677" y="48"/>
                </a:lnTo>
                <a:lnTo>
                  <a:pt x="1665" y="45"/>
                </a:lnTo>
                <a:lnTo>
                  <a:pt x="1654" y="43"/>
                </a:lnTo>
                <a:lnTo>
                  <a:pt x="1643" y="43"/>
                </a:lnTo>
                <a:lnTo>
                  <a:pt x="1629" y="45"/>
                </a:lnTo>
                <a:lnTo>
                  <a:pt x="1623" y="48"/>
                </a:lnTo>
                <a:lnTo>
                  <a:pt x="1614" y="54"/>
                </a:lnTo>
                <a:lnTo>
                  <a:pt x="1609" y="57"/>
                </a:lnTo>
                <a:lnTo>
                  <a:pt x="1603" y="65"/>
                </a:lnTo>
                <a:lnTo>
                  <a:pt x="1592" y="74"/>
                </a:lnTo>
                <a:lnTo>
                  <a:pt x="1583" y="88"/>
                </a:lnTo>
                <a:lnTo>
                  <a:pt x="1575" y="97"/>
                </a:lnTo>
                <a:lnTo>
                  <a:pt x="1569" y="108"/>
                </a:lnTo>
                <a:lnTo>
                  <a:pt x="1566" y="116"/>
                </a:lnTo>
                <a:lnTo>
                  <a:pt x="1566" y="119"/>
                </a:lnTo>
                <a:lnTo>
                  <a:pt x="1561" y="116"/>
                </a:lnTo>
                <a:lnTo>
                  <a:pt x="1555" y="114"/>
                </a:lnTo>
                <a:lnTo>
                  <a:pt x="1546" y="108"/>
                </a:lnTo>
                <a:lnTo>
                  <a:pt x="1544" y="108"/>
                </a:lnTo>
                <a:lnTo>
                  <a:pt x="1535" y="105"/>
                </a:lnTo>
                <a:lnTo>
                  <a:pt x="1529" y="102"/>
                </a:lnTo>
                <a:lnTo>
                  <a:pt x="1521" y="99"/>
                </a:lnTo>
                <a:lnTo>
                  <a:pt x="1512" y="97"/>
                </a:lnTo>
                <a:lnTo>
                  <a:pt x="1504" y="94"/>
                </a:lnTo>
                <a:lnTo>
                  <a:pt x="1495" y="94"/>
                </a:lnTo>
                <a:lnTo>
                  <a:pt x="1487" y="94"/>
                </a:lnTo>
                <a:lnTo>
                  <a:pt x="1478" y="94"/>
                </a:lnTo>
                <a:lnTo>
                  <a:pt x="1470" y="97"/>
                </a:lnTo>
                <a:lnTo>
                  <a:pt x="1464" y="99"/>
                </a:lnTo>
                <a:lnTo>
                  <a:pt x="1459" y="102"/>
                </a:lnTo>
                <a:lnTo>
                  <a:pt x="1450" y="108"/>
                </a:lnTo>
                <a:lnTo>
                  <a:pt x="1444" y="114"/>
                </a:lnTo>
                <a:lnTo>
                  <a:pt x="1442" y="122"/>
                </a:lnTo>
                <a:lnTo>
                  <a:pt x="1439" y="128"/>
                </a:lnTo>
                <a:lnTo>
                  <a:pt x="1433" y="139"/>
                </a:lnTo>
                <a:lnTo>
                  <a:pt x="1430" y="148"/>
                </a:lnTo>
                <a:lnTo>
                  <a:pt x="1430" y="159"/>
                </a:lnTo>
                <a:lnTo>
                  <a:pt x="1427" y="168"/>
                </a:lnTo>
                <a:lnTo>
                  <a:pt x="1427" y="176"/>
                </a:lnTo>
                <a:lnTo>
                  <a:pt x="1425" y="182"/>
                </a:lnTo>
                <a:lnTo>
                  <a:pt x="1425" y="193"/>
                </a:lnTo>
                <a:lnTo>
                  <a:pt x="1425" y="202"/>
                </a:lnTo>
                <a:lnTo>
                  <a:pt x="1425" y="207"/>
                </a:lnTo>
                <a:lnTo>
                  <a:pt x="1422" y="207"/>
                </a:lnTo>
                <a:lnTo>
                  <a:pt x="1416" y="207"/>
                </a:lnTo>
                <a:lnTo>
                  <a:pt x="1408" y="210"/>
                </a:lnTo>
                <a:lnTo>
                  <a:pt x="1396" y="213"/>
                </a:lnTo>
                <a:lnTo>
                  <a:pt x="1391" y="213"/>
                </a:lnTo>
                <a:lnTo>
                  <a:pt x="1382" y="216"/>
                </a:lnTo>
                <a:lnTo>
                  <a:pt x="1374" y="216"/>
                </a:lnTo>
                <a:lnTo>
                  <a:pt x="1368" y="219"/>
                </a:lnTo>
                <a:lnTo>
                  <a:pt x="1359" y="221"/>
                </a:lnTo>
                <a:lnTo>
                  <a:pt x="1354" y="224"/>
                </a:lnTo>
                <a:lnTo>
                  <a:pt x="1342" y="224"/>
                </a:lnTo>
                <a:lnTo>
                  <a:pt x="1337" y="230"/>
                </a:lnTo>
                <a:lnTo>
                  <a:pt x="1325" y="230"/>
                </a:lnTo>
                <a:lnTo>
                  <a:pt x="1320" y="233"/>
                </a:lnTo>
                <a:lnTo>
                  <a:pt x="1308" y="236"/>
                </a:lnTo>
                <a:lnTo>
                  <a:pt x="1300" y="239"/>
                </a:lnTo>
                <a:lnTo>
                  <a:pt x="1291" y="241"/>
                </a:lnTo>
                <a:lnTo>
                  <a:pt x="1286" y="244"/>
                </a:lnTo>
                <a:lnTo>
                  <a:pt x="1277" y="244"/>
                </a:lnTo>
                <a:lnTo>
                  <a:pt x="1269" y="250"/>
                </a:lnTo>
                <a:lnTo>
                  <a:pt x="1263" y="250"/>
                </a:lnTo>
                <a:lnTo>
                  <a:pt x="1255" y="256"/>
                </a:lnTo>
                <a:lnTo>
                  <a:pt x="1249" y="256"/>
                </a:lnTo>
                <a:lnTo>
                  <a:pt x="1246" y="258"/>
                </a:lnTo>
                <a:lnTo>
                  <a:pt x="1235" y="264"/>
                </a:lnTo>
                <a:lnTo>
                  <a:pt x="1229" y="267"/>
                </a:lnTo>
                <a:lnTo>
                  <a:pt x="1224" y="273"/>
                </a:lnTo>
                <a:lnTo>
                  <a:pt x="1218" y="278"/>
                </a:lnTo>
                <a:lnTo>
                  <a:pt x="1215" y="284"/>
                </a:lnTo>
                <a:lnTo>
                  <a:pt x="1212" y="290"/>
                </a:lnTo>
                <a:lnTo>
                  <a:pt x="1209" y="298"/>
                </a:lnTo>
                <a:lnTo>
                  <a:pt x="1207" y="307"/>
                </a:lnTo>
                <a:lnTo>
                  <a:pt x="1207" y="315"/>
                </a:lnTo>
                <a:lnTo>
                  <a:pt x="1207" y="324"/>
                </a:lnTo>
                <a:lnTo>
                  <a:pt x="1204" y="332"/>
                </a:lnTo>
                <a:lnTo>
                  <a:pt x="1204" y="338"/>
                </a:lnTo>
                <a:lnTo>
                  <a:pt x="1204" y="344"/>
                </a:lnTo>
                <a:lnTo>
                  <a:pt x="1204" y="352"/>
                </a:lnTo>
                <a:lnTo>
                  <a:pt x="1204" y="363"/>
                </a:lnTo>
                <a:lnTo>
                  <a:pt x="1204" y="36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1"/>
          <p:cNvSpPr/>
          <p:nvPr/>
        </p:nvSpPr>
        <p:spPr>
          <a:xfrm>
            <a:off x="7770960" y="4248000"/>
            <a:ext cx="1546200" cy="68760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1128" h="492">
                <a:moveTo>
                  <a:pt x="0" y="0"/>
                </a:moveTo>
                <a:lnTo>
                  <a:pt x="1128" y="86"/>
                </a:lnTo>
                <a:lnTo>
                  <a:pt x="15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2"/>
          <p:cNvSpPr/>
          <p:nvPr/>
        </p:nvSpPr>
        <p:spPr>
          <a:xfrm>
            <a:off x="5735520" y="4260960"/>
            <a:ext cx="1656000" cy="650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207" h="466">
                <a:moveTo>
                  <a:pt x="0" y="417"/>
                </a:moveTo>
                <a:lnTo>
                  <a:pt x="1071" y="0"/>
                </a:lnTo>
                <a:lnTo>
                  <a:pt x="1207" y="466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3"/>
          <p:cNvSpPr/>
          <p:nvPr/>
        </p:nvSpPr>
        <p:spPr>
          <a:xfrm>
            <a:off x="5091120" y="4348080"/>
            <a:ext cx="4805280" cy="1603440"/>
          </a:xfrm>
          <a:custGeom>
            <a:avLst/>
            <a:gdLst>
              <a:gd name="textAreaLeft" fmla="*/ 0 w 4805280"/>
              <a:gd name="textAreaRight" fmla="*/ 4805640 w 480528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3504" h="1148">
                <a:moveTo>
                  <a:pt x="0" y="722"/>
                </a:moveTo>
                <a:lnTo>
                  <a:pt x="456" y="370"/>
                </a:lnTo>
                <a:lnTo>
                  <a:pt x="1980" y="384"/>
                </a:lnTo>
                <a:lnTo>
                  <a:pt x="2121" y="418"/>
                </a:lnTo>
                <a:lnTo>
                  <a:pt x="3084" y="0"/>
                </a:lnTo>
                <a:lnTo>
                  <a:pt x="3150" y="3"/>
                </a:lnTo>
                <a:lnTo>
                  <a:pt x="3504" y="202"/>
                </a:lnTo>
                <a:lnTo>
                  <a:pt x="3421" y="250"/>
                </a:lnTo>
                <a:lnTo>
                  <a:pt x="1753" y="1148"/>
                </a:lnTo>
                <a:lnTo>
                  <a:pt x="405" y="722"/>
                </a:lnTo>
                <a:lnTo>
                  <a:pt x="0" y="722"/>
                </a:lnTo>
                <a:close/>
              </a:path>
            </a:pathLst>
          </a:custGeom>
          <a:solidFill>
            <a:srgbClr val="edb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4"/>
          <p:cNvSpPr/>
          <p:nvPr/>
        </p:nvSpPr>
        <p:spPr>
          <a:xfrm>
            <a:off x="7297560" y="4900680"/>
            <a:ext cx="2105280" cy="226512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1535" h="1622">
                <a:moveTo>
                  <a:pt x="493" y="26"/>
                </a:moveTo>
                <a:lnTo>
                  <a:pt x="779" y="100"/>
                </a:lnTo>
                <a:lnTo>
                  <a:pt x="1053" y="267"/>
                </a:lnTo>
                <a:lnTo>
                  <a:pt x="1447" y="26"/>
                </a:lnTo>
                <a:lnTo>
                  <a:pt x="1535" y="0"/>
                </a:lnTo>
                <a:lnTo>
                  <a:pt x="1461" y="764"/>
                </a:lnTo>
                <a:lnTo>
                  <a:pt x="1492" y="1150"/>
                </a:lnTo>
                <a:lnTo>
                  <a:pt x="456" y="1622"/>
                </a:lnTo>
                <a:lnTo>
                  <a:pt x="0" y="659"/>
                </a:lnTo>
                <a:lnTo>
                  <a:pt x="49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5"/>
          <p:cNvSpPr/>
          <p:nvPr/>
        </p:nvSpPr>
        <p:spPr>
          <a:xfrm>
            <a:off x="5654520" y="4916520"/>
            <a:ext cx="2303640" cy="226836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679" h="1624">
                <a:moveTo>
                  <a:pt x="0" y="315"/>
                </a:moveTo>
                <a:lnTo>
                  <a:pt x="1218" y="389"/>
                </a:lnTo>
                <a:lnTo>
                  <a:pt x="1648" y="0"/>
                </a:lnTo>
                <a:lnTo>
                  <a:pt x="1679" y="22"/>
                </a:lnTo>
                <a:lnTo>
                  <a:pt x="1620" y="1235"/>
                </a:lnTo>
                <a:lnTo>
                  <a:pt x="1662" y="1624"/>
                </a:lnTo>
                <a:lnTo>
                  <a:pt x="39" y="1533"/>
                </a:lnTo>
                <a:lnTo>
                  <a:pt x="82" y="1323"/>
                </a:lnTo>
                <a:lnTo>
                  <a:pt x="0" y="3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6"/>
          <p:cNvSpPr/>
          <p:nvPr/>
        </p:nvSpPr>
        <p:spPr>
          <a:xfrm>
            <a:off x="6757920" y="4016520"/>
            <a:ext cx="1227240" cy="61416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895" h="440">
                <a:moveTo>
                  <a:pt x="0" y="233"/>
                </a:moveTo>
                <a:lnTo>
                  <a:pt x="26" y="253"/>
                </a:lnTo>
                <a:lnTo>
                  <a:pt x="96" y="267"/>
                </a:lnTo>
                <a:lnTo>
                  <a:pt x="292" y="440"/>
                </a:lnTo>
                <a:lnTo>
                  <a:pt x="841" y="372"/>
                </a:lnTo>
                <a:lnTo>
                  <a:pt x="895" y="275"/>
                </a:lnTo>
                <a:lnTo>
                  <a:pt x="827" y="221"/>
                </a:lnTo>
                <a:lnTo>
                  <a:pt x="838" y="165"/>
                </a:lnTo>
                <a:lnTo>
                  <a:pt x="765" y="170"/>
                </a:lnTo>
                <a:lnTo>
                  <a:pt x="765" y="108"/>
                </a:lnTo>
                <a:lnTo>
                  <a:pt x="717" y="94"/>
                </a:lnTo>
                <a:lnTo>
                  <a:pt x="649" y="108"/>
                </a:lnTo>
                <a:lnTo>
                  <a:pt x="606" y="0"/>
                </a:lnTo>
                <a:lnTo>
                  <a:pt x="584" y="3"/>
                </a:lnTo>
                <a:lnTo>
                  <a:pt x="550" y="82"/>
                </a:lnTo>
                <a:lnTo>
                  <a:pt x="433" y="11"/>
                </a:lnTo>
                <a:lnTo>
                  <a:pt x="416" y="74"/>
                </a:lnTo>
                <a:lnTo>
                  <a:pt x="368" y="23"/>
                </a:lnTo>
                <a:lnTo>
                  <a:pt x="363" y="20"/>
                </a:lnTo>
                <a:lnTo>
                  <a:pt x="354" y="20"/>
                </a:lnTo>
                <a:lnTo>
                  <a:pt x="349" y="17"/>
                </a:lnTo>
                <a:lnTo>
                  <a:pt x="343" y="17"/>
                </a:lnTo>
                <a:lnTo>
                  <a:pt x="337" y="14"/>
                </a:lnTo>
                <a:lnTo>
                  <a:pt x="329" y="14"/>
                </a:lnTo>
                <a:lnTo>
                  <a:pt x="317" y="14"/>
                </a:lnTo>
                <a:lnTo>
                  <a:pt x="306" y="20"/>
                </a:lnTo>
                <a:lnTo>
                  <a:pt x="300" y="23"/>
                </a:lnTo>
                <a:lnTo>
                  <a:pt x="298" y="28"/>
                </a:lnTo>
                <a:lnTo>
                  <a:pt x="298" y="34"/>
                </a:lnTo>
                <a:lnTo>
                  <a:pt x="298" y="42"/>
                </a:lnTo>
                <a:lnTo>
                  <a:pt x="309" y="82"/>
                </a:lnTo>
                <a:lnTo>
                  <a:pt x="261" y="94"/>
                </a:lnTo>
                <a:lnTo>
                  <a:pt x="198" y="74"/>
                </a:lnTo>
                <a:lnTo>
                  <a:pt x="190" y="88"/>
                </a:lnTo>
                <a:lnTo>
                  <a:pt x="204" y="125"/>
                </a:lnTo>
                <a:lnTo>
                  <a:pt x="62" y="182"/>
                </a:lnTo>
                <a:lnTo>
                  <a:pt x="0" y="2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17"/>
          <p:cNvSpPr/>
          <p:nvPr/>
        </p:nvSpPr>
        <p:spPr>
          <a:xfrm>
            <a:off x="7631280" y="4324320"/>
            <a:ext cx="334800" cy="476280"/>
          </a:xfrm>
          <a:custGeom>
            <a:avLst/>
            <a:gdLst>
              <a:gd name="textAreaLeft" fmla="*/ 0 w 334800"/>
              <a:gd name="textAreaRight" fmla="*/ 335160 w 3348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44" h="341">
                <a:moveTo>
                  <a:pt x="0" y="57"/>
                </a:moveTo>
                <a:lnTo>
                  <a:pt x="0" y="57"/>
                </a:lnTo>
                <a:lnTo>
                  <a:pt x="6" y="57"/>
                </a:lnTo>
                <a:lnTo>
                  <a:pt x="15" y="57"/>
                </a:lnTo>
                <a:lnTo>
                  <a:pt x="26" y="57"/>
                </a:lnTo>
                <a:lnTo>
                  <a:pt x="34" y="57"/>
                </a:lnTo>
                <a:lnTo>
                  <a:pt x="43" y="54"/>
                </a:lnTo>
                <a:lnTo>
                  <a:pt x="51" y="52"/>
                </a:lnTo>
                <a:lnTo>
                  <a:pt x="54" y="46"/>
                </a:lnTo>
                <a:lnTo>
                  <a:pt x="54" y="37"/>
                </a:lnTo>
                <a:lnTo>
                  <a:pt x="54" y="32"/>
                </a:lnTo>
                <a:lnTo>
                  <a:pt x="54" y="23"/>
                </a:lnTo>
                <a:lnTo>
                  <a:pt x="54" y="15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3" y="15"/>
                </a:lnTo>
                <a:lnTo>
                  <a:pt x="66" y="20"/>
                </a:lnTo>
                <a:lnTo>
                  <a:pt x="68" y="26"/>
                </a:lnTo>
                <a:lnTo>
                  <a:pt x="74" y="37"/>
                </a:lnTo>
                <a:lnTo>
                  <a:pt x="80" y="46"/>
                </a:lnTo>
                <a:lnTo>
                  <a:pt x="85" y="52"/>
                </a:lnTo>
                <a:lnTo>
                  <a:pt x="91" y="60"/>
                </a:lnTo>
                <a:lnTo>
                  <a:pt x="97" y="66"/>
                </a:lnTo>
                <a:lnTo>
                  <a:pt x="105" y="74"/>
                </a:lnTo>
                <a:lnTo>
                  <a:pt x="117" y="83"/>
                </a:lnTo>
                <a:lnTo>
                  <a:pt x="128" y="86"/>
                </a:lnTo>
                <a:lnTo>
                  <a:pt x="136" y="83"/>
                </a:lnTo>
                <a:lnTo>
                  <a:pt x="145" y="80"/>
                </a:lnTo>
                <a:lnTo>
                  <a:pt x="148" y="77"/>
                </a:lnTo>
                <a:lnTo>
                  <a:pt x="153" y="74"/>
                </a:lnTo>
                <a:lnTo>
                  <a:pt x="159" y="71"/>
                </a:lnTo>
                <a:lnTo>
                  <a:pt x="162" y="69"/>
                </a:lnTo>
                <a:lnTo>
                  <a:pt x="159" y="71"/>
                </a:lnTo>
                <a:lnTo>
                  <a:pt x="159" y="77"/>
                </a:lnTo>
                <a:lnTo>
                  <a:pt x="159" y="83"/>
                </a:lnTo>
                <a:lnTo>
                  <a:pt x="159" y="94"/>
                </a:lnTo>
                <a:lnTo>
                  <a:pt x="159" y="103"/>
                </a:lnTo>
                <a:lnTo>
                  <a:pt x="162" y="111"/>
                </a:lnTo>
                <a:lnTo>
                  <a:pt x="165" y="120"/>
                </a:lnTo>
                <a:lnTo>
                  <a:pt x="167" y="128"/>
                </a:lnTo>
                <a:lnTo>
                  <a:pt x="170" y="131"/>
                </a:lnTo>
                <a:lnTo>
                  <a:pt x="179" y="131"/>
                </a:lnTo>
                <a:lnTo>
                  <a:pt x="187" y="128"/>
                </a:lnTo>
                <a:lnTo>
                  <a:pt x="196" y="125"/>
                </a:lnTo>
                <a:lnTo>
                  <a:pt x="204" y="120"/>
                </a:lnTo>
                <a:lnTo>
                  <a:pt x="213" y="117"/>
                </a:lnTo>
                <a:lnTo>
                  <a:pt x="221" y="111"/>
                </a:lnTo>
                <a:lnTo>
                  <a:pt x="221" y="134"/>
                </a:lnTo>
                <a:lnTo>
                  <a:pt x="224" y="134"/>
                </a:lnTo>
                <a:lnTo>
                  <a:pt x="235" y="142"/>
                </a:lnTo>
                <a:lnTo>
                  <a:pt x="238" y="148"/>
                </a:lnTo>
                <a:lnTo>
                  <a:pt x="244" y="157"/>
                </a:lnTo>
                <a:lnTo>
                  <a:pt x="244" y="162"/>
                </a:lnTo>
                <a:lnTo>
                  <a:pt x="244" y="168"/>
                </a:lnTo>
                <a:lnTo>
                  <a:pt x="244" y="174"/>
                </a:lnTo>
                <a:lnTo>
                  <a:pt x="244" y="185"/>
                </a:lnTo>
                <a:lnTo>
                  <a:pt x="241" y="185"/>
                </a:lnTo>
                <a:lnTo>
                  <a:pt x="238" y="194"/>
                </a:lnTo>
                <a:lnTo>
                  <a:pt x="233" y="199"/>
                </a:lnTo>
                <a:lnTo>
                  <a:pt x="230" y="211"/>
                </a:lnTo>
                <a:lnTo>
                  <a:pt x="224" y="222"/>
                </a:lnTo>
                <a:lnTo>
                  <a:pt x="218" y="236"/>
                </a:lnTo>
                <a:lnTo>
                  <a:pt x="216" y="242"/>
                </a:lnTo>
                <a:lnTo>
                  <a:pt x="213" y="250"/>
                </a:lnTo>
                <a:lnTo>
                  <a:pt x="210" y="259"/>
                </a:lnTo>
                <a:lnTo>
                  <a:pt x="207" y="265"/>
                </a:lnTo>
                <a:lnTo>
                  <a:pt x="201" y="273"/>
                </a:lnTo>
                <a:lnTo>
                  <a:pt x="199" y="279"/>
                </a:lnTo>
                <a:lnTo>
                  <a:pt x="196" y="284"/>
                </a:lnTo>
                <a:lnTo>
                  <a:pt x="193" y="293"/>
                </a:lnTo>
                <a:lnTo>
                  <a:pt x="187" y="304"/>
                </a:lnTo>
                <a:lnTo>
                  <a:pt x="182" y="316"/>
                </a:lnTo>
                <a:lnTo>
                  <a:pt x="176" y="327"/>
                </a:lnTo>
                <a:lnTo>
                  <a:pt x="173" y="333"/>
                </a:lnTo>
                <a:lnTo>
                  <a:pt x="170" y="338"/>
                </a:lnTo>
                <a:lnTo>
                  <a:pt x="170" y="341"/>
                </a:lnTo>
                <a:lnTo>
                  <a:pt x="37" y="256"/>
                </a:lnTo>
                <a:lnTo>
                  <a:pt x="0" y="5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8"/>
          <p:cNvSpPr/>
          <p:nvPr/>
        </p:nvSpPr>
        <p:spPr>
          <a:xfrm>
            <a:off x="5880240" y="4765680"/>
            <a:ext cx="722160" cy="344520"/>
          </a:xfrm>
          <a:custGeom>
            <a:avLst/>
            <a:gdLst>
              <a:gd name="textAreaLeft" fmla="*/ 0 w 722160"/>
              <a:gd name="textAreaRight" fmla="*/ 722160 w 722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527" h="247">
                <a:moveTo>
                  <a:pt x="0" y="196"/>
                </a:moveTo>
                <a:lnTo>
                  <a:pt x="6" y="164"/>
                </a:lnTo>
                <a:lnTo>
                  <a:pt x="125" y="37"/>
                </a:lnTo>
                <a:lnTo>
                  <a:pt x="227" y="0"/>
                </a:lnTo>
                <a:lnTo>
                  <a:pt x="343" y="0"/>
                </a:lnTo>
                <a:lnTo>
                  <a:pt x="470" y="42"/>
                </a:lnTo>
                <a:lnTo>
                  <a:pt x="527" y="79"/>
                </a:lnTo>
                <a:lnTo>
                  <a:pt x="487" y="96"/>
                </a:lnTo>
                <a:lnTo>
                  <a:pt x="408" y="173"/>
                </a:lnTo>
                <a:lnTo>
                  <a:pt x="343" y="224"/>
                </a:lnTo>
                <a:lnTo>
                  <a:pt x="331" y="210"/>
                </a:lnTo>
                <a:lnTo>
                  <a:pt x="323" y="170"/>
                </a:lnTo>
                <a:lnTo>
                  <a:pt x="255" y="232"/>
                </a:lnTo>
                <a:lnTo>
                  <a:pt x="207" y="238"/>
                </a:lnTo>
                <a:lnTo>
                  <a:pt x="195" y="193"/>
                </a:lnTo>
                <a:lnTo>
                  <a:pt x="113" y="247"/>
                </a:lnTo>
                <a:lnTo>
                  <a:pt x="77" y="232"/>
                </a:lnTo>
                <a:lnTo>
                  <a:pt x="79" y="184"/>
                </a:lnTo>
                <a:lnTo>
                  <a:pt x="26" y="207"/>
                </a:lnTo>
                <a:lnTo>
                  <a:pt x="0" y="19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19"/>
          <p:cNvSpPr/>
          <p:nvPr/>
        </p:nvSpPr>
        <p:spPr>
          <a:xfrm>
            <a:off x="6729480" y="4329000"/>
            <a:ext cx="1301760" cy="8017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949" h="574">
                <a:moveTo>
                  <a:pt x="153" y="0"/>
                </a:moveTo>
                <a:lnTo>
                  <a:pt x="159" y="6"/>
                </a:lnTo>
                <a:lnTo>
                  <a:pt x="170" y="14"/>
                </a:lnTo>
                <a:lnTo>
                  <a:pt x="176" y="17"/>
                </a:lnTo>
                <a:lnTo>
                  <a:pt x="182" y="23"/>
                </a:lnTo>
                <a:lnTo>
                  <a:pt x="190" y="23"/>
                </a:lnTo>
                <a:lnTo>
                  <a:pt x="199" y="23"/>
                </a:lnTo>
                <a:lnTo>
                  <a:pt x="374" y="239"/>
                </a:lnTo>
                <a:lnTo>
                  <a:pt x="686" y="83"/>
                </a:lnTo>
                <a:lnTo>
                  <a:pt x="689" y="85"/>
                </a:lnTo>
                <a:lnTo>
                  <a:pt x="700" y="97"/>
                </a:lnTo>
                <a:lnTo>
                  <a:pt x="708" y="100"/>
                </a:lnTo>
                <a:lnTo>
                  <a:pt x="714" y="105"/>
                </a:lnTo>
                <a:lnTo>
                  <a:pt x="723" y="105"/>
                </a:lnTo>
                <a:lnTo>
                  <a:pt x="728" y="102"/>
                </a:lnTo>
                <a:lnTo>
                  <a:pt x="731" y="97"/>
                </a:lnTo>
                <a:lnTo>
                  <a:pt x="731" y="88"/>
                </a:lnTo>
                <a:lnTo>
                  <a:pt x="731" y="77"/>
                </a:lnTo>
                <a:lnTo>
                  <a:pt x="731" y="68"/>
                </a:lnTo>
                <a:lnTo>
                  <a:pt x="731" y="60"/>
                </a:lnTo>
                <a:lnTo>
                  <a:pt x="731" y="54"/>
                </a:lnTo>
                <a:lnTo>
                  <a:pt x="731" y="49"/>
                </a:lnTo>
                <a:lnTo>
                  <a:pt x="731" y="46"/>
                </a:lnTo>
                <a:lnTo>
                  <a:pt x="765" y="139"/>
                </a:lnTo>
                <a:lnTo>
                  <a:pt x="796" y="137"/>
                </a:lnTo>
                <a:lnTo>
                  <a:pt x="793" y="139"/>
                </a:lnTo>
                <a:lnTo>
                  <a:pt x="790" y="148"/>
                </a:lnTo>
                <a:lnTo>
                  <a:pt x="785" y="154"/>
                </a:lnTo>
                <a:lnTo>
                  <a:pt x="785" y="159"/>
                </a:lnTo>
                <a:lnTo>
                  <a:pt x="782" y="171"/>
                </a:lnTo>
                <a:lnTo>
                  <a:pt x="779" y="179"/>
                </a:lnTo>
                <a:lnTo>
                  <a:pt x="774" y="185"/>
                </a:lnTo>
                <a:lnTo>
                  <a:pt x="774" y="193"/>
                </a:lnTo>
                <a:lnTo>
                  <a:pt x="771" y="202"/>
                </a:lnTo>
                <a:lnTo>
                  <a:pt x="768" y="210"/>
                </a:lnTo>
                <a:lnTo>
                  <a:pt x="768" y="216"/>
                </a:lnTo>
                <a:lnTo>
                  <a:pt x="768" y="222"/>
                </a:lnTo>
                <a:lnTo>
                  <a:pt x="768" y="225"/>
                </a:lnTo>
                <a:lnTo>
                  <a:pt x="771" y="230"/>
                </a:lnTo>
                <a:lnTo>
                  <a:pt x="779" y="236"/>
                </a:lnTo>
                <a:lnTo>
                  <a:pt x="790" y="233"/>
                </a:lnTo>
                <a:lnTo>
                  <a:pt x="796" y="230"/>
                </a:lnTo>
                <a:lnTo>
                  <a:pt x="799" y="230"/>
                </a:lnTo>
                <a:lnTo>
                  <a:pt x="796" y="236"/>
                </a:lnTo>
                <a:lnTo>
                  <a:pt x="793" y="242"/>
                </a:lnTo>
                <a:lnTo>
                  <a:pt x="790" y="250"/>
                </a:lnTo>
                <a:lnTo>
                  <a:pt x="785" y="259"/>
                </a:lnTo>
                <a:lnTo>
                  <a:pt x="782" y="270"/>
                </a:lnTo>
                <a:lnTo>
                  <a:pt x="779" y="276"/>
                </a:lnTo>
                <a:lnTo>
                  <a:pt x="782" y="284"/>
                </a:lnTo>
                <a:lnTo>
                  <a:pt x="790" y="293"/>
                </a:lnTo>
                <a:lnTo>
                  <a:pt x="802" y="298"/>
                </a:lnTo>
                <a:lnTo>
                  <a:pt x="813" y="301"/>
                </a:lnTo>
                <a:lnTo>
                  <a:pt x="819" y="304"/>
                </a:lnTo>
                <a:lnTo>
                  <a:pt x="884" y="242"/>
                </a:lnTo>
                <a:lnTo>
                  <a:pt x="949" y="296"/>
                </a:lnTo>
                <a:lnTo>
                  <a:pt x="949" y="372"/>
                </a:lnTo>
                <a:lnTo>
                  <a:pt x="909" y="421"/>
                </a:lnTo>
                <a:lnTo>
                  <a:pt x="731" y="398"/>
                </a:lnTo>
                <a:lnTo>
                  <a:pt x="663" y="443"/>
                </a:lnTo>
                <a:lnTo>
                  <a:pt x="623" y="520"/>
                </a:lnTo>
                <a:lnTo>
                  <a:pt x="555" y="557"/>
                </a:lnTo>
                <a:lnTo>
                  <a:pt x="536" y="545"/>
                </a:lnTo>
                <a:lnTo>
                  <a:pt x="530" y="477"/>
                </a:lnTo>
                <a:lnTo>
                  <a:pt x="462" y="563"/>
                </a:lnTo>
                <a:lnTo>
                  <a:pt x="411" y="574"/>
                </a:lnTo>
                <a:lnTo>
                  <a:pt x="400" y="551"/>
                </a:lnTo>
                <a:lnTo>
                  <a:pt x="422" y="477"/>
                </a:lnTo>
                <a:lnTo>
                  <a:pt x="340" y="537"/>
                </a:lnTo>
                <a:lnTo>
                  <a:pt x="289" y="557"/>
                </a:lnTo>
                <a:lnTo>
                  <a:pt x="275" y="531"/>
                </a:lnTo>
                <a:lnTo>
                  <a:pt x="298" y="457"/>
                </a:lnTo>
                <a:lnTo>
                  <a:pt x="204" y="528"/>
                </a:lnTo>
                <a:lnTo>
                  <a:pt x="176" y="526"/>
                </a:lnTo>
                <a:lnTo>
                  <a:pt x="153" y="500"/>
                </a:lnTo>
                <a:lnTo>
                  <a:pt x="170" y="452"/>
                </a:lnTo>
                <a:lnTo>
                  <a:pt x="218" y="403"/>
                </a:lnTo>
                <a:lnTo>
                  <a:pt x="14" y="398"/>
                </a:lnTo>
                <a:lnTo>
                  <a:pt x="0" y="270"/>
                </a:lnTo>
                <a:lnTo>
                  <a:pt x="31" y="145"/>
                </a:lnTo>
                <a:lnTo>
                  <a:pt x="153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0"/>
          <p:cNvSpPr/>
          <p:nvPr/>
        </p:nvSpPr>
        <p:spPr>
          <a:xfrm>
            <a:off x="6777000" y="4321080"/>
            <a:ext cx="963720" cy="569880"/>
          </a:xfrm>
          <a:custGeom>
            <a:avLst/>
            <a:gdLst>
              <a:gd name="textAreaLeft" fmla="*/ 0 w 963720"/>
              <a:gd name="textAreaRight" fmla="*/ 964080 w 9637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703" h="408">
                <a:moveTo>
                  <a:pt x="12" y="397"/>
                </a:moveTo>
                <a:lnTo>
                  <a:pt x="9" y="391"/>
                </a:lnTo>
                <a:lnTo>
                  <a:pt x="9" y="383"/>
                </a:lnTo>
                <a:lnTo>
                  <a:pt x="6" y="374"/>
                </a:lnTo>
                <a:lnTo>
                  <a:pt x="6" y="366"/>
                </a:lnTo>
                <a:lnTo>
                  <a:pt x="3" y="355"/>
                </a:lnTo>
                <a:lnTo>
                  <a:pt x="3" y="346"/>
                </a:lnTo>
                <a:lnTo>
                  <a:pt x="0" y="335"/>
                </a:lnTo>
                <a:lnTo>
                  <a:pt x="0" y="320"/>
                </a:lnTo>
                <a:lnTo>
                  <a:pt x="0" y="309"/>
                </a:lnTo>
                <a:lnTo>
                  <a:pt x="0" y="298"/>
                </a:lnTo>
                <a:lnTo>
                  <a:pt x="0" y="284"/>
                </a:lnTo>
                <a:lnTo>
                  <a:pt x="3" y="272"/>
                </a:lnTo>
                <a:lnTo>
                  <a:pt x="6" y="261"/>
                </a:lnTo>
                <a:lnTo>
                  <a:pt x="9" y="252"/>
                </a:lnTo>
                <a:lnTo>
                  <a:pt x="9" y="244"/>
                </a:lnTo>
                <a:lnTo>
                  <a:pt x="12" y="238"/>
                </a:lnTo>
                <a:lnTo>
                  <a:pt x="17" y="230"/>
                </a:lnTo>
                <a:lnTo>
                  <a:pt x="20" y="224"/>
                </a:lnTo>
                <a:lnTo>
                  <a:pt x="23" y="215"/>
                </a:lnTo>
                <a:lnTo>
                  <a:pt x="29" y="207"/>
                </a:lnTo>
                <a:lnTo>
                  <a:pt x="31" y="198"/>
                </a:lnTo>
                <a:lnTo>
                  <a:pt x="37" y="193"/>
                </a:lnTo>
                <a:lnTo>
                  <a:pt x="40" y="184"/>
                </a:lnTo>
                <a:lnTo>
                  <a:pt x="48" y="176"/>
                </a:lnTo>
                <a:lnTo>
                  <a:pt x="51" y="164"/>
                </a:lnTo>
                <a:lnTo>
                  <a:pt x="60" y="156"/>
                </a:lnTo>
                <a:lnTo>
                  <a:pt x="63" y="147"/>
                </a:lnTo>
                <a:lnTo>
                  <a:pt x="71" y="139"/>
                </a:lnTo>
                <a:lnTo>
                  <a:pt x="77" y="130"/>
                </a:lnTo>
                <a:lnTo>
                  <a:pt x="82" y="122"/>
                </a:lnTo>
                <a:lnTo>
                  <a:pt x="88" y="113"/>
                </a:lnTo>
                <a:lnTo>
                  <a:pt x="94" y="105"/>
                </a:lnTo>
                <a:lnTo>
                  <a:pt x="99" y="96"/>
                </a:lnTo>
                <a:lnTo>
                  <a:pt x="105" y="90"/>
                </a:lnTo>
                <a:lnTo>
                  <a:pt x="111" y="82"/>
                </a:lnTo>
                <a:lnTo>
                  <a:pt x="116" y="73"/>
                </a:lnTo>
                <a:lnTo>
                  <a:pt x="122" y="68"/>
                </a:lnTo>
                <a:lnTo>
                  <a:pt x="128" y="59"/>
                </a:lnTo>
                <a:lnTo>
                  <a:pt x="136" y="48"/>
                </a:lnTo>
                <a:lnTo>
                  <a:pt x="145" y="39"/>
                </a:lnTo>
                <a:lnTo>
                  <a:pt x="153" y="31"/>
                </a:lnTo>
                <a:lnTo>
                  <a:pt x="159" y="28"/>
                </a:lnTo>
                <a:lnTo>
                  <a:pt x="167" y="17"/>
                </a:lnTo>
                <a:lnTo>
                  <a:pt x="182" y="11"/>
                </a:lnTo>
                <a:lnTo>
                  <a:pt x="187" y="8"/>
                </a:lnTo>
                <a:lnTo>
                  <a:pt x="196" y="5"/>
                </a:lnTo>
                <a:lnTo>
                  <a:pt x="201" y="5"/>
                </a:lnTo>
                <a:lnTo>
                  <a:pt x="210" y="5"/>
                </a:lnTo>
                <a:lnTo>
                  <a:pt x="216" y="2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7" y="0"/>
                </a:lnTo>
                <a:lnTo>
                  <a:pt x="244" y="2"/>
                </a:lnTo>
                <a:lnTo>
                  <a:pt x="238" y="11"/>
                </a:lnTo>
                <a:lnTo>
                  <a:pt x="230" y="19"/>
                </a:lnTo>
                <a:lnTo>
                  <a:pt x="221" y="34"/>
                </a:lnTo>
                <a:lnTo>
                  <a:pt x="210" y="42"/>
                </a:lnTo>
                <a:lnTo>
                  <a:pt x="207" y="54"/>
                </a:lnTo>
                <a:lnTo>
                  <a:pt x="204" y="59"/>
                </a:lnTo>
                <a:lnTo>
                  <a:pt x="210" y="62"/>
                </a:lnTo>
                <a:lnTo>
                  <a:pt x="213" y="59"/>
                </a:lnTo>
                <a:lnTo>
                  <a:pt x="221" y="56"/>
                </a:lnTo>
                <a:lnTo>
                  <a:pt x="227" y="54"/>
                </a:lnTo>
                <a:lnTo>
                  <a:pt x="235" y="51"/>
                </a:lnTo>
                <a:lnTo>
                  <a:pt x="241" y="45"/>
                </a:lnTo>
                <a:lnTo>
                  <a:pt x="252" y="42"/>
                </a:lnTo>
                <a:lnTo>
                  <a:pt x="264" y="39"/>
                </a:lnTo>
                <a:lnTo>
                  <a:pt x="272" y="34"/>
                </a:lnTo>
                <a:lnTo>
                  <a:pt x="284" y="28"/>
                </a:lnTo>
                <a:lnTo>
                  <a:pt x="292" y="25"/>
                </a:lnTo>
                <a:lnTo>
                  <a:pt x="298" y="22"/>
                </a:lnTo>
                <a:lnTo>
                  <a:pt x="306" y="19"/>
                </a:lnTo>
                <a:lnTo>
                  <a:pt x="315" y="17"/>
                </a:lnTo>
                <a:lnTo>
                  <a:pt x="318" y="14"/>
                </a:lnTo>
                <a:lnTo>
                  <a:pt x="320" y="14"/>
                </a:lnTo>
                <a:lnTo>
                  <a:pt x="323" y="14"/>
                </a:lnTo>
                <a:lnTo>
                  <a:pt x="320" y="17"/>
                </a:lnTo>
                <a:lnTo>
                  <a:pt x="315" y="25"/>
                </a:lnTo>
                <a:lnTo>
                  <a:pt x="309" y="28"/>
                </a:lnTo>
                <a:lnTo>
                  <a:pt x="303" y="36"/>
                </a:lnTo>
                <a:lnTo>
                  <a:pt x="301" y="45"/>
                </a:lnTo>
                <a:lnTo>
                  <a:pt x="298" y="51"/>
                </a:lnTo>
                <a:lnTo>
                  <a:pt x="292" y="59"/>
                </a:lnTo>
                <a:lnTo>
                  <a:pt x="289" y="65"/>
                </a:lnTo>
                <a:lnTo>
                  <a:pt x="286" y="71"/>
                </a:lnTo>
                <a:lnTo>
                  <a:pt x="286" y="76"/>
                </a:lnTo>
                <a:lnTo>
                  <a:pt x="286" y="85"/>
                </a:lnTo>
                <a:lnTo>
                  <a:pt x="295" y="88"/>
                </a:lnTo>
                <a:lnTo>
                  <a:pt x="298" y="88"/>
                </a:lnTo>
                <a:lnTo>
                  <a:pt x="303" y="85"/>
                </a:lnTo>
                <a:lnTo>
                  <a:pt x="312" y="85"/>
                </a:lnTo>
                <a:lnTo>
                  <a:pt x="320" y="85"/>
                </a:lnTo>
                <a:lnTo>
                  <a:pt x="326" y="82"/>
                </a:lnTo>
                <a:lnTo>
                  <a:pt x="335" y="82"/>
                </a:lnTo>
                <a:lnTo>
                  <a:pt x="340" y="79"/>
                </a:lnTo>
                <a:lnTo>
                  <a:pt x="349" y="76"/>
                </a:lnTo>
                <a:lnTo>
                  <a:pt x="354" y="71"/>
                </a:lnTo>
                <a:lnTo>
                  <a:pt x="360" y="68"/>
                </a:lnTo>
                <a:lnTo>
                  <a:pt x="368" y="62"/>
                </a:lnTo>
                <a:lnTo>
                  <a:pt x="374" y="56"/>
                </a:lnTo>
                <a:lnTo>
                  <a:pt x="377" y="48"/>
                </a:lnTo>
                <a:lnTo>
                  <a:pt x="383" y="36"/>
                </a:lnTo>
                <a:lnTo>
                  <a:pt x="385" y="25"/>
                </a:lnTo>
                <a:lnTo>
                  <a:pt x="388" y="14"/>
                </a:lnTo>
                <a:lnTo>
                  <a:pt x="388" y="17"/>
                </a:lnTo>
                <a:lnTo>
                  <a:pt x="388" y="22"/>
                </a:lnTo>
                <a:lnTo>
                  <a:pt x="391" y="34"/>
                </a:lnTo>
                <a:lnTo>
                  <a:pt x="397" y="48"/>
                </a:lnTo>
                <a:lnTo>
                  <a:pt x="402" y="59"/>
                </a:lnTo>
                <a:lnTo>
                  <a:pt x="411" y="71"/>
                </a:lnTo>
                <a:lnTo>
                  <a:pt x="419" y="76"/>
                </a:lnTo>
                <a:lnTo>
                  <a:pt x="431" y="79"/>
                </a:lnTo>
                <a:lnTo>
                  <a:pt x="442" y="71"/>
                </a:lnTo>
                <a:lnTo>
                  <a:pt x="451" y="65"/>
                </a:lnTo>
                <a:lnTo>
                  <a:pt x="456" y="54"/>
                </a:lnTo>
                <a:lnTo>
                  <a:pt x="465" y="45"/>
                </a:lnTo>
                <a:lnTo>
                  <a:pt x="465" y="34"/>
                </a:lnTo>
                <a:lnTo>
                  <a:pt x="468" y="25"/>
                </a:lnTo>
                <a:lnTo>
                  <a:pt x="468" y="19"/>
                </a:lnTo>
                <a:lnTo>
                  <a:pt x="470" y="19"/>
                </a:lnTo>
                <a:lnTo>
                  <a:pt x="493" y="28"/>
                </a:lnTo>
                <a:lnTo>
                  <a:pt x="493" y="31"/>
                </a:lnTo>
                <a:lnTo>
                  <a:pt x="493" y="39"/>
                </a:lnTo>
                <a:lnTo>
                  <a:pt x="496" y="45"/>
                </a:lnTo>
                <a:lnTo>
                  <a:pt x="496" y="51"/>
                </a:lnTo>
                <a:lnTo>
                  <a:pt x="499" y="59"/>
                </a:lnTo>
                <a:lnTo>
                  <a:pt x="502" y="68"/>
                </a:lnTo>
                <a:lnTo>
                  <a:pt x="504" y="73"/>
                </a:lnTo>
                <a:lnTo>
                  <a:pt x="507" y="79"/>
                </a:lnTo>
                <a:lnTo>
                  <a:pt x="513" y="85"/>
                </a:lnTo>
                <a:lnTo>
                  <a:pt x="519" y="90"/>
                </a:lnTo>
                <a:lnTo>
                  <a:pt x="527" y="93"/>
                </a:lnTo>
                <a:lnTo>
                  <a:pt x="533" y="99"/>
                </a:lnTo>
                <a:lnTo>
                  <a:pt x="541" y="99"/>
                </a:lnTo>
                <a:lnTo>
                  <a:pt x="550" y="102"/>
                </a:lnTo>
                <a:lnTo>
                  <a:pt x="558" y="96"/>
                </a:lnTo>
                <a:lnTo>
                  <a:pt x="564" y="93"/>
                </a:lnTo>
                <a:lnTo>
                  <a:pt x="570" y="90"/>
                </a:lnTo>
                <a:lnTo>
                  <a:pt x="575" y="85"/>
                </a:lnTo>
                <a:lnTo>
                  <a:pt x="581" y="71"/>
                </a:lnTo>
                <a:lnTo>
                  <a:pt x="581" y="59"/>
                </a:lnTo>
                <a:lnTo>
                  <a:pt x="581" y="48"/>
                </a:lnTo>
                <a:lnTo>
                  <a:pt x="581" y="36"/>
                </a:lnTo>
                <a:lnTo>
                  <a:pt x="578" y="28"/>
                </a:lnTo>
                <a:lnTo>
                  <a:pt x="584" y="28"/>
                </a:lnTo>
                <a:lnTo>
                  <a:pt x="592" y="34"/>
                </a:lnTo>
                <a:lnTo>
                  <a:pt x="604" y="39"/>
                </a:lnTo>
                <a:lnTo>
                  <a:pt x="612" y="48"/>
                </a:lnTo>
                <a:lnTo>
                  <a:pt x="626" y="59"/>
                </a:lnTo>
                <a:lnTo>
                  <a:pt x="635" y="65"/>
                </a:lnTo>
                <a:lnTo>
                  <a:pt x="640" y="71"/>
                </a:lnTo>
                <a:lnTo>
                  <a:pt x="646" y="79"/>
                </a:lnTo>
                <a:lnTo>
                  <a:pt x="655" y="88"/>
                </a:lnTo>
                <a:lnTo>
                  <a:pt x="660" y="93"/>
                </a:lnTo>
                <a:lnTo>
                  <a:pt x="666" y="102"/>
                </a:lnTo>
                <a:lnTo>
                  <a:pt x="669" y="110"/>
                </a:lnTo>
                <a:lnTo>
                  <a:pt x="674" y="119"/>
                </a:lnTo>
                <a:lnTo>
                  <a:pt x="677" y="125"/>
                </a:lnTo>
                <a:lnTo>
                  <a:pt x="677" y="133"/>
                </a:lnTo>
                <a:lnTo>
                  <a:pt x="680" y="144"/>
                </a:lnTo>
                <a:lnTo>
                  <a:pt x="686" y="153"/>
                </a:lnTo>
                <a:lnTo>
                  <a:pt x="686" y="161"/>
                </a:lnTo>
                <a:lnTo>
                  <a:pt x="689" y="170"/>
                </a:lnTo>
                <a:lnTo>
                  <a:pt x="689" y="178"/>
                </a:lnTo>
                <a:lnTo>
                  <a:pt x="691" y="190"/>
                </a:lnTo>
                <a:lnTo>
                  <a:pt x="691" y="198"/>
                </a:lnTo>
                <a:lnTo>
                  <a:pt x="694" y="210"/>
                </a:lnTo>
                <a:lnTo>
                  <a:pt x="697" y="218"/>
                </a:lnTo>
                <a:lnTo>
                  <a:pt x="700" y="230"/>
                </a:lnTo>
                <a:lnTo>
                  <a:pt x="703" y="241"/>
                </a:lnTo>
                <a:lnTo>
                  <a:pt x="703" y="252"/>
                </a:lnTo>
                <a:lnTo>
                  <a:pt x="703" y="261"/>
                </a:lnTo>
                <a:lnTo>
                  <a:pt x="703" y="267"/>
                </a:lnTo>
                <a:lnTo>
                  <a:pt x="703" y="275"/>
                </a:lnTo>
                <a:lnTo>
                  <a:pt x="703" y="281"/>
                </a:lnTo>
                <a:lnTo>
                  <a:pt x="703" y="286"/>
                </a:lnTo>
                <a:lnTo>
                  <a:pt x="703" y="295"/>
                </a:lnTo>
                <a:lnTo>
                  <a:pt x="700" y="301"/>
                </a:lnTo>
                <a:lnTo>
                  <a:pt x="700" y="309"/>
                </a:lnTo>
                <a:lnTo>
                  <a:pt x="700" y="315"/>
                </a:lnTo>
                <a:lnTo>
                  <a:pt x="700" y="323"/>
                </a:lnTo>
                <a:lnTo>
                  <a:pt x="697" y="329"/>
                </a:lnTo>
                <a:lnTo>
                  <a:pt x="697" y="337"/>
                </a:lnTo>
                <a:lnTo>
                  <a:pt x="697" y="349"/>
                </a:lnTo>
                <a:lnTo>
                  <a:pt x="694" y="360"/>
                </a:lnTo>
                <a:lnTo>
                  <a:pt x="691" y="369"/>
                </a:lnTo>
                <a:lnTo>
                  <a:pt x="691" y="380"/>
                </a:lnTo>
                <a:lnTo>
                  <a:pt x="689" y="386"/>
                </a:lnTo>
                <a:lnTo>
                  <a:pt x="689" y="391"/>
                </a:lnTo>
                <a:lnTo>
                  <a:pt x="689" y="394"/>
                </a:lnTo>
                <a:lnTo>
                  <a:pt x="689" y="397"/>
                </a:lnTo>
                <a:lnTo>
                  <a:pt x="646" y="374"/>
                </a:lnTo>
                <a:lnTo>
                  <a:pt x="524" y="352"/>
                </a:lnTo>
                <a:lnTo>
                  <a:pt x="377" y="335"/>
                </a:lnTo>
                <a:lnTo>
                  <a:pt x="289" y="360"/>
                </a:lnTo>
                <a:lnTo>
                  <a:pt x="182" y="408"/>
                </a:lnTo>
                <a:lnTo>
                  <a:pt x="12" y="397"/>
                </a:lnTo>
                <a:close/>
              </a:path>
            </a:pathLst>
          </a:custGeom>
          <a:solidFill>
            <a:srgbClr val="ffd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1"/>
          <p:cNvSpPr/>
          <p:nvPr/>
        </p:nvSpPr>
        <p:spPr>
          <a:xfrm>
            <a:off x="5869080" y="4749840"/>
            <a:ext cx="771480" cy="371520"/>
          </a:xfrm>
          <a:custGeom>
            <a:avLst/>
            <a:gdLst>
              <a:gd name="textAreaLeft" fmla="*/ 0 w 771480"/>
              <a:gd name="textAreaRight" fmla="*/ 771840 w 7714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67">
                <a:moveTo>
                  <a:pt x="484" y="97"/>
                </a:moveTo>
                <a:lnTo>
                  <a:pt x="481" y="97"/>
                </a:lnTo>
                <a:lnTo>
                  <a:pt x="478" y="102"/>
                </a:lnTo>
                <a:lnTo>
                  <a:pt x="470" y="108"/>
                </a:lnTo>
                <a:lnTo>
                  <a:pt x="464" y="120"/>
                </a:lnTo>
                <a:lnTo>
                  <a:pt x="453" y="128"/>
                </a:lnTo>
                <a:lnTo>
                  <a:pt x="444" y="142"/>
                </a:lnTo>
                <a:lnTo>
                  <a:pt x="433" y="154"/>
                </a:lnTo>
                <a:lnTo>
                  <a:pt x="422" y="168"/>
                </a:lnTo>
                <a:lnTo>
                  <a:pt x="407" y="179"/>
                </a:lnTo>
                <a:lnTo>
                  <a:pt x="396" y="191"/>
                </a:lnTo>
                <a:lnTo>
                  <a:pt x="385" y="199"/>
                </a:lnTo>
                <a:lnTo>
                  <a:pt x="373" y="208"/>
                </a:lnTo>
                <a:lnTo>
                  <a:pt x="365" y="213"/>
                </a:lnTo>
                <a:lnTo>
                  <a:pt x="359" y="216"/>
                </a:lnTo>
                <a:lnTo>
                  <a:pt x="354" y="216"/>
                </a:lnTo>
                <a:lnTo>
                  <a:pt x="351" y="213"/>
                </a:lnTo>
                <a:lnTo>
                  <a:pt x="345" y="199"/>
                </a:lnTo>
                <a:lnTo>
                  <a:pt x="342" y="185"/>
                </a:lnTo>
                <a:lnTo>
                  <a:pt x="342" y="171"/>
                </a:lnTo>
                <a:lnTo>
                  <a:pt x="345" y="159"/>
                </a:lnTo>
                <a:lnTo>
                  <a:pt x="348" y="148"/>
                </a:lnTo>
                <a:lnTo>
                  <a:pt x="351" y="142"/>
                </a:lnTo>
                <a:lnTo>
                  <a:pt x="354" y="137"/>
                </a:lnTo>
                <a:lnTo>
                  <a:pt x="354" y="134"/>
                </a:lnTo>
                <a:lnTo>
                  <a:pt x="351" y="134"/>
                </a:lnTo>
                <a:lnTo>
                  <a:pt x="348" y="139"/>
                </a:lnTo>
                <a:lnTo>
                  <a:pt x="342" y="145"/>
                </a:lnTo>
                <a:lnTo>
                  <a:pt x="339" y="151"/>
                </a:lnTo>
                <a:lnTo>
                  <a:pt x="331" y="159"/>
                </a:lnTo>
                <a:lnTo>
                  <a:pt x="322" y="171"/>
                </a:lnTo>
                <a:lnTo>
                  <a:pt x="314" y="182"/>
                </a:lnTo>
                <a:lnTo>
                  <a:pt x="305" y="193"/>
                </a:lnTo>
                <a:lnTo>
                  <a:pt x="294" y="202"/>
                </a:lnTo>
                <a:lnTo>
                  <a:pt x="283" y="213"/>
                </a:lnTo>
                <a:lnTo>
                  <a:pt x="274" y="219"/>
                </a:lnTo>
                <a:lnTo>
                  <a:pt x="266" y="227"/>
                </a:lnTo>
                <a:lnTo>
                  <a:pt x="254" y="233"/>
                </a:lnTo>
                <a:lnTo>
                  <a:pt x="246" y="239"/>
                </a:lnTo>
                <a:lnTo>
                  <a:pt x="237" y="239"/>
                </a:lnTo>
                <a:lnTo>
                  <a:pt x="235" y="239"/>
                </a:lnTo>
                <a:lnTo>
                  <a:pt x="226" y="233"/>
                </a:lnTo>
                <a:lnTo>
                  <a:pt x="223" y="227"/>
                </a:lnTo>
                <a:lnTo>
                  <a:pt x="220" y="219"/>
                </a:lnTo>
                <a:lnTo>
                  <a:pt x="220" y="213"/>
                </a:lnTo>
                <a:lnTo>
                  <a:pt x="220" y="205"/>
                </a:lnTo>
                <a:lnTo>
                  <a:pt x="223" y="196"/>
                </a:lnTo>
                <a:lnTo>
                  <a:pt x="223" y="185"/>
                </a:lnTo>
                <a:lnTo>
                  <a:pt x="226" y="179"/>
                </a:lnTo>
                <a:lnTo>
                  <a:pt x="229" y="168"/>
                </a:lnTo>
                <a:lnTo>
                  <a:pt x="232" y="159"/>
                </a:lnTo>
                <a:lnTo>
                  <a:pt x="235" y="151"/>
                </a:lnTo>
                <a:lnTo>
                  <a:pt x="237" y="148"/>
                </a:lnTo>
                <a:lnTo>
                  <a:pt x="243" y="137"/>
                </a:lnTo>
                <a:lnTo>
                  <a:pt x="246" y="134"/>
                </a:lnTo>
                <a:lnTo>
                  <a:pt x="243" y="134"/>
                </a:lnTo>
                <a:lnTo>
                  <a:pt x="240" y="139"/>
                </a:lnTo>
                <a:lnTo>
                  <a:pt x="235" y="145"/>
                </a:lnTo>
                <a:lnTo>
                  <a:pt x="226" y="154"/>
                </a:lnTo>
                <a:lnTo>
                  <a:pt x="218" y="162"/>
                </a:lnTo>
                <a:lnTo>
                  <a:pt x="209" y="173"/>
                </a:lnTo>
                <a:lnTo>
                  <a:pt x="198" y="185"/>
                </a:lnTo>
                <a:lnTo>
                  <a:pt x="186" y="196"/>
                </a:lnTo>
                <a:lnTo>
                  <a:pt x="175" y="208"/>
                </a:lnTo>
                <a:lnTo>
                  <a:pt x="164" y="216"/>
                </a:lnTo>
                <a:lnTo>
                  <a:pt x="153" y="225"/>
                </a:lnTo>
                <a:lnTo>
                  <a:pt x="141" y="236"/>
                </a:lnTo>
                <a:lnTo>
                  <a:pt x="130" y="239"/>
                </a:lnTo>
                <a:lnTo>
                  <a:pt x="119" y="244"/>
                </a:lnTo>
                <a:lnTo>
                  <a:pt x="113" y="244"/>
                </a:lnTo>
                <a:lnTo>
                  <a:pt x="107" y="242"/>
                </a:lnTo>
                <a:lnTo>
                  <a:pt x="99" y="233"/>
                </a:lnTo>
                <a:lnTo>
                  <a:pt x="96" y="227"/>
                </a:lnTo>
                <a:lnTo>
                  <a:pt x="96" y="219"/>
                </a:lnTo>
                <a:lnTo>
                  <a:pt x="96" y="210"/>
                </a:lnTo>
                <a:lnTo>
                  <a:pt x="96" y="202"/>
                </a:lnTo>
                <a:lnTo>
                  <a:pt x="99" y="193"/>
                </a:lnTo>
                <a:lnTo>
                  <a:pt x="102" y="185"/>
                </a:lnTo>
                <a:lnTo>
                  <a:pt x="107" y="176"/>
                </a:lnTo>
                <a:lnTo>
                  <a:pt x="110" y="168"/>
                </a:lnTo>
                <a:lnTo>
                  <a:pt x="116" y="159"/>
                </a:lnTo>
                <a:lnTo>
                  <a:pt x="121" y="154"/>
                </a:lnTo>
                <a:lnTo>
                  <a:pt x="127" y="148"/>
                </a:lnTo>
                <a:lnTo>
                  <a:pt x="133" y="139"/>
                </a:lnTo>
                <a:lnTo>
                  <a:pt x="136" y="137"/>
                </a:lnTo>
                <a:lnTo>
                  <a:pt x="127" y="137"/>
                </a:lnTo>
                <a:lnTo>
                  <a:pt x="121" y="139"/>
                </a:lnTo>
                <a:lnTo>
                  <a:pt x="113" y="151"/>
                </a:lnTo>
                <a:lnTo>
                  <a:pt x="104" y="156"/>
                </a:lnTo>
                <a:lnTo>
                  <a:pt x="99" y="162"/>
                </a:lnTo>
                <a:lnTo>
                  <a:pt x="87" y="171"/>
                </a:lnTo>
                <a:lnTo>
                  <a:pt x="82" y="182"/>
                </a:lnTo>
                <a:lnTo>
                  <a:pt x="70" y="188"/>
                </a:lnTo>
                <a:lnTo>
                  <a:pt x="65" y="193"/>
                </a:lnTo>
                <a:lnTo>
                  <a:pt x="56" y="199"/>
                </a:lnTo>
                <a:lnTo>
                  <a:pt x="48" y="205"/>
                </a:lnTo>
                <a:lnTo>
                  <a:pt x="42" y="208"/>
                </a:lnTo>
                <a:lnTo>
                  <a:pt x="34" y="210"/>
                </a:lnTo>
                <a:lnTo>
                  <a:pt x="31" y="208"/>
                </a:lnTo>
                <a:lnTo>
                  <a:pt x="28" y="205"/>
                </a:lnTo>
                <a:lnTo>
                  <a:pt x="25" y="199"/>
                </a:lnTo>
                <a:lnTo>
                  <a:pt x="25" y="193"/>
                </a:lnTo>
                <a:lnTo>
                  <a:pt x="25" y="185"/>
                </a:lnTo>
                <a:lnTo>
                  <a:pt x="31" y="179"/>
                </a:lnTo>
                <a:lnTo>
                  <a:pt x="34" y="171"/>
                </a:lnTo>
                <a:lnTo>
                  <a:pt x="39" y="162"/>
                </a:lnTo>
                <a:lnTo>
                  <a:pt x="45" y="154"/>
                </a:lnTo>
                <a:lnTo>
                  <a:pt x="53" y="145"/>
                </a:lnTo>
                <a:lnTo>
                  <a:pt x="59" y="137"/>
                </a:lnTo>
                <a:lnTo>
                  <a:pt x="65" y="128"/>
                </a:lnTo>
                <a:lnTo>
                  <a:pt x="76" y="120"/>
                </a:lnTo>
                <a:lnTo>
                  <a:pt x="85" y="111"/>
                </a:lnTo>
                <a:lnTo>
                  <a:pt x="90" y="105"/>
                </a:lnTo>
                <a:lnTo>
                  <a:pt x="99" y="97"/>
                </a:lnTo>
                <a:lnTo>
                  <a:pt x="107" y="88"/>
                </a:lnTo>
                <a:lnTo>
                  <a:pt x="116" y="85"/>
                </a:lnTo>
                <a:lnTo>
                  <a:pt x="121" y="80"/>
                </a:lnTo>
                <a:lnTo>
                  <a:pt x="130" y="74"/>
                </a:lnTo>
                <a:lnTo>
                  <a:pt x="136" y="66"/>
                </a:lnTo>
                <a:lnTo>
                  <a:pt x="144" y="60"/>
                </a:lnTo>
                <a:lnTo>
                  <a:pt x="153" y="54"/>
                </a:lnTo>
                <a:lnTo>
                  <a:pt x="161" y="49"/>
                </a:lnTo>
                <a:lnTo>
                  <a:pt x="172" y="43"/>
                </a:lnTo>
                <a:lnTo>
                  <a:pt x="184" y="37"/>
                </a:lnTo>
                <a:lnTo>
                  <a:pt x="186" y="34"/>
                </a:lnTo>
                <a:lnTo>
                  <a:pt x="192" y="31"/>
                </a:lnTo>
                <a:lnTo>
                  <a:pt x="198" y="29"/>
                </a:lnTo>
                <a:lnTo>
                  <a:pt x="206" y="29"/>
                </a:lnTo>
                <a:lnTo>
                  <a:pt x="212" y="26"/>
                </a:lnTo>
                <a:lnTo>
                  <a:pt x="220" y="23"/>
                </a:lnTo>
                <a:lnTo>
                  <a:pt x="226" y="23"/>
                </a:lnTo>
                <a:lnTo>
                  <a:pt x="237" y="23"/>
                </a:lnTo>
                <a:lnTo>
                  <a:pt x="246" y="20"/>
                </a:lnTo>
                <a:lnTo>
                  <a:pt x="254" y="20"/>
                </a:lnTo>
                <a:lnTo>
                  <a:pt x="263" y="20"/>
                </a:lnTo>
                <a:lnTo>
                  <a:pt x="274" y="20"/>
                </a:lnTo>
                <a:lnTo>
                  <a:pt x="286" y="20"/>
                </a:lnTo>
                <a:lnTo>
                  <a:pt x="297" y="20"/>
                </a:lnTo>
                <a:lnTo>
                  <a:pt x="311" y="20"/>
                </a:lnTo>
                <a:lnTo>
                  <a:pt x="322" y="23"/>
                </a:lnTo>
                <a:lnTo>
                  <a:pt x="334" y="23"/>
                </a:lnTo>
                <a:lnTo>
                  <a:pt x="348" y="23"/>
                </a:lnTo>
                <a:lnTo>
                  <a:pt x="359" y="26"/>
                </a:lnTo>
                <a:lnTo>
                  <a:pt x="371" y="29"/>
                </a:lnTo>
                <a:lnTo>
                  <a:pt x="379" y="29"/>
                </a:lnTo>
                <a:lnTo>
                  <a:pt x="390" y="31"/>
                </a:lnTo>
                <a:lnTo>
                  <a:pt x="399" y="34"/>
                </a:lnTo>
                <a:lnTo>
                  <a:pt x="410" y="37"/>
                </a:lnTo>
                <a:lnTo>
                  <a:pt x="419" y="40"/>
                </a:lnTo>
                <a:lnTo>
                  <a:pt x="427" y="43"/>
                </a:lnTo>
                <a:lnTo>
                  <a:pt x="436" y="43"/>
                </a:lnTo>
                <a:lnTo>
                  <a:pt x="444" y="49"/>
                </a:lnTo>
                <a:lnTo>
                  <a:pt x="450" y="51"/>
                </a:lnTo>
                <a:lnTo>
                  <a:pt x="458" y="54"/>
                </a:lnTo>
                <a:lnTo>
                  <a:pt x="464" y="57"/>
                </a:lnTo>
                <a:lnTo>
                  <a:pt x="470" y="63"/>
                </a:lnTo>
                <a:lnTo>
                  <a:pt x="478" y="66"/>
                </a:lnTo>
                <a:lnTo>
                  <a:pt x="490" y="74"/>
                </a:lnTo>
                <a:lnTo>
                  <a:pt x="495" y="77"/>
                </a:lnTo>
                <a:lnTo>
                  <a:pt x="504" y="83"/>
                </a:lnTo>
                <a:lnTo>
                  <a:pt x="512" y="91"/>
                </a:lnTo>
                <a:lnTo>
                  <a:pt x="515" y="94"/>
                </a:lnTo>
                <a:lnTo>
                  <a:pt x="563" y="94"/>
                </a:lnTo>
                <a:lnTo>
                  <a:pt x="560" y="91"/>
                </a:lnTo>
                <a:lnTo>
                  <a:pt x="549" y="83"/>
                </a:lnTo>
                <a:lnTo>
                  <a:pt x="541" y="77"/>
                </a:lnTo>
                <a:lnTo>
                  <a:pt x="532" y="71"/>
                </a:lnTo>
                <a:lnTo>
                  <a:pt x="521" y="66"/>
                </a:lnTo>
                <a:lnTo>
                  <a:pt x="509" y="57"/>
                </a:lnTo>
                <a:lnTo>
                  <a:pt x="501" y="54"/>
                </a:lnTo>
                <a:lnTo>
                  <a:pt x="492" y="51"/>
                </a:lnTo>
                <a:lnTo>
                  <a:pt x="487" y="46"/>
                </a:lnTo>
                <a:lnTo>
                  <a:pt x="478" y="43"/>
                </a:lnTo>
                <a:lnTo>
                  <a:pt x="470" y="40"/>
                </a:lnTo>
                <a:lnTo>
                  <a:pt x="458" y="34"/>
                </a:lnTo>
                <a:lnTo>
                  <a:pt x="447" y="31"/>
                </a:lnTo>
                <a:lnTo>
                  <a:pt x="439" y="29"/>
                </a:lnTo>
                <a:lnTo>
                  <a:pt x="427" y="26"/>
                </a:lnTo>
                <a:lnTo>
                  <a:pt x="416" y="23"/>
                </a:lnTo>
                <a:lnTo>
                  <a:pt x="405" y="17"/>
                </a:lnTo>
                <a:lnTo>
                  <a:pt x="393" y="14"/>
                </a:lnTo>
                <a:lnTo>
                  <a:pt x="385" y="12"/>
                </a:lnTo>
                <a:lnTo>
                  <a:pt x="379" y="12"/>
                </a:lnTo>
                <a:lnTo>
                  <a:pt x="373" y="12"/>
                </a:lnTo>
                <a:lnTo>
                  <a:pt x="365" y="12"/>
                </a:lnTo>
                <a:lnTo>
                  <a:pt x="354" y="9"/>
                </a:lnTo>
                <a:lnTo>
                  <a:pt x="339" y="6"/>
                </a:lnTo>
                <a:lnTo>
                  <a:pt x="334" y="3"/>
                </a:lnTo>
                <a:lnTo>
                  <a:pt x="325" y="3"/>
                </a:lnTo>
                <a:lnTo>
                  <a:pt x="317" y="0"/>
                </a:lnTo>
                <a:lnTo>
                  <a:pt x="311" y="0"/>
                </a:lnTo>
                <a:lnTo>
                  <a:pt x="297" y="0"/>
                </a:lnTo>
                <a:lnTo>
                  <a:pt x="286" y="0"/>
                </a:lnTo>
                <a:lnTo>
                  <a:pt x="271" y="0"/>
                </a:lnTo>
                <a:lnTo>
                  <a:pt x="260" y="0"/>
                </a:lnTo>
                <a:lnTo>
                  <a:pt x="249" y="0"/>
                </a:lnTo>
                <a:lnTo>
                  <a:pt x="240" y="3"/>
                </a:lnTo>
                <a:lnTo>
                  <a:pt x="229" y="3"/>
                </a:lnTo>
                <a:lnTo>
                  <a:pt x="220" y="3"/>
                </a:lnTo>
                <a:lnTo>
                  <a:pt x="209" y="6"/>
                </a:lnTo>
                <a:lnTo>
                  <a:pt x="201" y="9"/>
                </a:lnTo>
                <a:lnTo>
                  <a:pt x="192" y="12"/>
                </a:lnTo>
                <a:lnTo>
                  <a:pt x="184" y="12"/>
                </a:lnTo>
                <a:lnTo>
                  <a:pt x="178" y="17"/>
                </a:lnTo>
                <a:lnTo>
                  <a:pt x="172" y="20"/>
                </a:lnTo>
                <a:lnTo>
                  <a:pt x="164" y="23"/>
                </a:lnTo>
                <a:lnTo>
                  <a:pt x="155" y="26"/>
                </a:lnTo>
                <a:lnTo>
                  <a:pt x="150" y="29"/>
                </a:lnTo>
                <a:lnTo>
                  <a:pt x="144" y="31"/>
                </a:lnTo>
                <a:lnTo>
                  <a:pt x="133" y="40"/>
                </a:lnTo>
                <a:lnTo>
                  <a:pt x="124" y="49"/>
                </a:lnTo>
                <a:lnTo>
                  <a:pt x="116" y="54"/>
                </a:lnTo>
                <a:lnTo>
                  <a:pt x="110" y="63"/>
                </a:lnTo>
                <a:lnTo>
                  <a:pt x="102" y="68"/>
                </a:lnTo>
                <a:lnTo>
                  <a:pt x="96" y="74"/>
                </a:lnTo>
                <a:lnTo>
                  <a:pt x="87" y="80"/>
                </a:lnTo>
                <a:lnTo>
                  <a:pt x="82" y="85"/>
                </a:lnTo>
                <a:lnTo>
                  <a:pt x="76" y="94"/>
                </a:lnTo>
                <a:lnTo>
                  <a:pt x="70" y="100"/>
                </a:lnTo>
                <a:lnTo>
                  <a:pt x="62" y="108"/>
                </a:lnTo>
                <a:lnTo>
                  <a:pt x="56" y="117"/>
                </a:lnTo>
                <a:lnTo>
                  <a:pt x="48" y="125"/>
                </a:lnTo>
                <a:lnTo>
                  <a:pt x="39" y="134"/>
                </a:lnTo>
                <a:lnTo>
                  <a:pt x="34" y="139"/>
                </a:lnTo>
                <a:lnTo>
                  <a:pt x="25" y="148"/>
                </a:lnTo>
                <a:lnTo>
                  <a:pt x="19" y="156"/>
                </a:lnTo>
                <a:lnTo>
                  <a:pt x="14" y="165"/>
                </a:lnTo>
                <a:lnTo>
                  <a:pt x="8" y="173"/>
                </a:lnTo>
                <a:lnTo>
                  <a:pt x="5" y="182"/>
                </a:lnTo>
                <a:lnTo>
                  <a:pt x="2" y="188"/>
                </a:lnTo>
                <a:lnTo>
                  <a:pt x="2" y="196"/>
                </a:lnTo>
                <a:lnTo>
                  <a:pt x="0" y="205"/>
                </a:lnTo>
                <a:lnTo>
                  <a:pt x="0" y="213"/>
                </a:lnTo>
                <a:lnTo>
                  <a:pt x="0" y="219"/>
                </a:lnTo>
                <a:lnTo>
                  <a:pt x="2" y="225"/>
                </a:lnTo>
                <a:lnTo>
                  <a:pt x="8" y="225"/>
                </a:lnTo>
                <a:lnTo>
                  <a:pt x="14" y="227"/>
                </a:lnTo>
                <a:lnTo>
                  <a:pt x="22" y="227"/>
                </a:lnTo>
                <a:lnTo>
                  <a:pt x="28" y="227"/>
                </a:lnTo>
                <a:lnTo>
                  <a:pt x="34" y="225"/>
                </a:lnTo>
                <a:lnTo>
                  <a:pt x="42" y="225"/>
                </a:lnTo>
                <a:lnTo>
                  <a:pt x="51" y="222"/>
                </a:lnTo>
                <a:lnTo>
                  <a:pt x="59" y="216"/>
                </a:lnTo>
                <a:lnTo>
                  <a:pt x="65" y="213"/>
                </a:lnTo>
                <a:lnTo>
                  <a:pt x="70" y="208"/>
                </a:lnTo>
                <a:lnTo>
                  <a:pt x="76" y="205"/>
                </a:lnTo>
                <a:lnTo>
                  <a:pt x="76" y="208"/>
                </a:lnTo>
                <a:lnTo>
                  <a:pt x="76" y="213"/>
                </a:lnTo>
                <a:lnTo>
                  <a:pt x="73" y="219"/>
                </a:lnTo>
                <a:lnTo>
                  <a:pt x="73" y="230"/>
                </a:lnTo>
                <a:lnTo>
                  <a:pt x="73" y="239"/>
                </a:lnTo>
                <a:lnTo>
                  <a:pt x="76" y="250"/>
                </a:lnTo>
                <a:lnTo>
                  <a:pt x="85" y="259"/>
                </a:lnTo>
                <a:lnTo>
                  <a:pt x="96" y="267"/>
                </a:lnTo>
                <a:lnTo>
                  <a:pt x="102" y="267"/>
                </a:lnTo>
                <a:lnTo>
                  <a:pt x="110" y="267"/>
                </a:lnTo>
                <a:lnTo>
                  <a:pt x="119" y="267"/>
                </a:lnTo>
                <a:lnTo>
                  <a:pt x="127" y="264"/>
                </a:lnTo>
                <a:lnTo>
                  <a:pt x="133" y="259"/>
                </a:lnTo>
                <a:lnTo>
                  <a:pt x="141" y="256"/>
                </a:lnTo>
                <a:lnTo>
                  <a:pt x="153" y="250"/>
                </a:lnTo>
                <a:lnTo>
                  <a:pt x="161" y="244"/>
                </a:lnTo>
                <a:lnTo>
                  <a:pt x="167" y="239"/>
                </a:lnTo>
                <a:lnTo>
                  <a:pt x="175" y="233"/>
                </a:lnTo>
                <a:lnTo>
                  <a:pt x="181" y="227"/>
                </a:lnTo>
                <a:lnTo>
                  <a:pt x="189" y="225"/>
                </a:lnTo>
                <a:lnTo>
                  <a:pt x="198" y="216"/>
                </a:lnTo>
                <a:lnTo>
                  <a:pt x="201" y="213"/>
                </a:lnTo>
                <a:lnTo>
                  <a:pt x="201" y="216"/>
                </a:lnTo>
                <a:lnTo>
                  <a:pt x="201" y="222"/>
                </a:lnTo>
                <a:lnTo>
                  <a:pt x="201" y="227"/>
                </a:lnTo>
                <a:lnTo>
                  <a:pt x="203" y="236"/>
                </a:lnTo>
                <a:lnTo>
                  <a:pt x="203" y="244"/>
                </a:lnTo>
                <a:lnTo>
                  <a:pt x="209" y="253"/>
                </a:lnTo>
                <a:lnTo>
                  <a:pt x="215" y="259"/>
                </a:lnTo>
                <a:lnTo>
                  <a:pt x="226" y="264"/>
                </a:lnTo>
                <a:lnTo>
                  <a:pt x="232" y="262"/>
                </a:lnTo>
                <a:lnTo>
                  <a:pt x="237" y="262"/>
                </a:lnTo>
                <a:lnTo>
                  <a:pt x="246" y="259"/>
                </a:lnTo>
                <a:lnTo>
                  <a:pt x="254" y="256"/>
                </a:lnTo>
                <a:lnTo>
                  <a:pt x="260" y="250"/>
                </a:lnTo>
                <a:lnTo>
                  <a:pt x="269" y="247"/>
                </a:lnTo>
                <a:lnTo>
                  <a:pt x="277" y="239"/>
                </a:lnTo>
                <a:lnTo>
                  <a:pt x="286" y="236"/>
                </a:lnTo>
                <a:lnTo>
                  <a:pt x="291" y="227"/>
                </a:lnTo>
                <a:lnTo>
                  <a:pt x="300" y="222"/>
                </a:lnTo>
                <a:lnTo>
                  <a:pt x="305" y="216"/>
                </a:lnTo>
                <a:lnTo>
                  <a:pt x="311" y="213"/>
                </a:lnTo>
                <a:lnTo>
                  <a:pt x="320" y="205"/>
                </a:lnTo>
                <a:lnTo>
                  <a:pt x="322" y="202"/>
                </a:lnTo>
                <a:lnTo>
                  <a:pt x="322" y="208"/>
                </a:lnTo>
                <a:lnTo>
                  <a:pt x="322" y="213"/>
                </a:lnTo>
                <a:lnTo>
                  <a:pt x="322" y="222"/>
                </a:lnTo>
                <a:lnTo>
                  <a:pt x="325" y="227"/>
                </a:lnTo>
                <a:lnTo>
                  <a:pt x="331" y="236"/>
                </a:lnTo>
                <a:lnTo>
                  <a:pt x="337" y="239"/>
                </a:lnTo>
                <a:lnTo>
                  <a:pt x="345" y="242"/>
                </a:lnTo>
                <a:lnTo>
                  <a:pt x="354" y="239"/>
                </a:lnTo>
                <a:lnTo>
                  <a:pt x="362" y="236"/>
                </a:lnTo>
                <a:lnTo>
                  <a:pt x="371" y="227"/>
                </a:lnTo>
                <a:lnTo>
                  <a:pt x="385" y="219"/>
                </a:lnTo>
                <a:lnTo>
                  <a:pt x="388" y="213"/>
                </a:lnTo>
                <a:lnTo>
                  <a:pt x="396" y="210"/>
                </a:lnTo>
                <a:lnTo>
                  <a:pt x="402" y="205"/>
                </a:lnTo>
                <a:lnTo>
                  <a:pt x="410" y="199"/>
                </a:lnTo>
                <a:lnTo>
                  <a:pt x="416" y="193"/>
                </a:lnTo>
                <a:lnTo>
                  <a:pt x="424" y="188"/>
                </a:lnTo>
                <a:lnTo>
                  <a:pt x="430" y="182"/>
                </a:lnTo>
                <a:lnTo>
                  <a:pt x="439" y="176"/>
                </a:lnTo>
                <a:lnTo>
                  <a:pt x="450" y="165"/>
                </a:lnTo>
                <a:lnTo>
                  <a:pt x="464" y="154"/>
                </a:lnTo>
                <a:lnTo>
                  <a:pt x="475" y="142"/>
                </a:lnTo>
                <a:lnTo>
                  <a:pt x="487" y="134"/>
                </a:lnTo>
                <a:lnTo>
                  <a:pt x="495" y="125"/>
                </a:lnTo>
                <a:lnTo>
                  <a:pt x="501" y="120"/>
                </a:lnTo>
                <a:lnTo>
                  <a:pt x="507" y="114"/>
                </a:lnTo>
                <a:lnTo>
                  <a:pt x="509" y="114"/>
                </a:lnTo>
                <a:lnTo>
                  <a:pt x="484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22"/>
          <p:cNvSpPr/>
          <p:nvPr/>
        </p:nvSpPr>
        <p:spPr>
          <a:xfrm>
            <a:off x="6935760" y="4668840"/>
            <a:ext cx="824040" cy="493560"/>
          </a:xfrm>
          <a:custGeom>
            <a:avLst/>
            <a:gdLst>
              <a:gd name="textAreaLeft" fmla="*/ 0 w 824040"/>
              <a:gd name="textAreaRight" fmla="*/ 824400 w 8240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01" h="353">
                <a:moveTo>
                  <a:pt x="357" y="111"/>
                </a:moveTo>
                <a:lnTo>
                  <a:pt x="354" y="108"/>
                </a:lnTo>
                <a:lnTo>
                  <a:pt x="352" y="108"/>
                </a:lnTo>
                <a:lnTo>
                  <a:pt x="346" y="108"/>
                </a:lnTo>
                <a:lnTo>
                  <a:pt x="337" y="108"/>
                </a:lnTo>
                <a:lnTo>
                  <a:pt x="329" y="106"/>
                </a:lnTo>
                <a:lnTo>
                  <a:pt x="318" y="106"/>
                </a:lnTo>
                <a:lnTo>
                  <a:pt x="306" y="106"/>
                </a:lnTo>
                <a:lnTo>
                  <a:pt x="295" y="106"/>
                </a:lnTo>
                <a:lnTo>
                  <a:pt x="281" y="106"/>
                </a:lnTo>
                <a:lnTo>
                  <a:pt x="269" y="106"/>
                </a:lnTo>
                <a:lnTo>
                  <a:pt x="255" y="106"/>
                </a:lnTo>
                <a:lnTo>
                  <a:pt x="244" y="106"/>
                </a:lnTo>
                <a:lnTo>
                  <a:pt x="233" y="106"/>
                </a:lnTo>
                <a:lnTo>
                  <a:pt x="224" y="106"/>
                </a:lnTo>
                <a:lnTo>
                  <a:pt x="213" y="108"/>
                </a:lnTo>
                <a:lnTo>
                  <a:pt x="207" y="111"/>
                </a:lnTo>
                <a:lnTo>
                  <a:pt x="199" y="111"/>
                </a:lnTo>
                <a:lnTo>
                  <a:pt x="190" y="114"/>
                </a:lnTo>
                <a:lnTo>
                  <a:pt x="179" y="117"/>
                </a:lnTo>
                <a:lnTo>
                  <a:pt x="168" y="123"/>
                </a:lnTo>
                <a:lnTo>
                  <a:pt x="156" y="128"/>
                </a:lnTo>
                <a:lnTo>
                  <a:pt x="142" y="134"/>
                </a:lnTo>
                <a:lnTo>
                  <a:pt x="128" y="142"/>
                </a:lnTo>
                <a:lnTo>
                  <a:pt x="117" y="151"/>
                </a:lnTo>
                <a:lnTo>
                  <a:pt x="108" y="154"/>
                </a:lnTo>
                <a:lnTo>
                  <a:pt x="102" y="159"/>
                </a:lnTo>
                <a:lnTo>
                  <a:pt x="94" y="162"/>
                </a:lnTo>
                <a:lnTo>
                  <a:pt x="88" y="168"/>
                </a:lnTo>
                <a:lnTo>
                  <a:pt x="77" y="174"/>
                </a:lnTo>
                <a:lnTo>
                  <a:pt x="66" y="185"/>
                </a:lnTo>
                <a:lnTo>
                  <a:pt x="54" y="194"/>
                </a:lnTo>
                <a:lnTo>
                  <a:pt x="46" y="202"/>
                </a:lnTo>
                <a:lnTo>
                  <a:pt x="37" y="211"/>
                </a:lnTo>
                <a:lnTo>
                  <a:pt x="32" y="219"/>
                </a:lnTo>
                <a:lnTo>
                  <a:pt x="23" y="233"/>
                </a:lnTo>
                <a:lnTo>
                  <a:pt x="20" y="245"/>
                </a:lnTo>
                <a:lnTo>
                  <a:pt x="20" y="253"/>
                </a:lnTo>
                <a:lnTo>
                  <a:pt x="23" y="262"/>
                </a:lnTo>
                <a:lnTo>
                  <a:pt x="29" y="265"/>
                </a:lnTo>
                <a:lnTo>
                  <a:pt x="34" y="267"/>
                </a:lnTo>
                <a:lnTo>
                  <a:pt x="43" y="265"/>
                </a:lnTo>
                <a:lnTo>
                  <a:pt x="49" y="262"/>
                </a:lnTo>
                <a:lnTo>
                  <a:pt x="51" y="259"/>
                </a:lnTo>
                <a:lnTo>
                  <a:pt x="60" y="253"/>
                </a:lnTo>
                <a:lnTo>
                  <a:pt x="66" y="248"/>
                </a:lnTo>
                <a:lnTo>
                  <a:pt x="77" y="242"/>
                </a:lnTo>
                <a:lnTo>
                  <a:pt x="88" y="236"/>
                </a:lnTo>
                <a:lnTo>
                  <a:pt x="102" y="228"/>
                </a:lnTo>
                <a:lnTo>
                  <a:pt x="114" y="219"/>
                </a:lnTo>
                <a:lnTo>
                  <a:pt x="125" y="213"/>
                </a:lnTo>
                <a:lnTo>
                  <a:pt x="136" y="205"/>
                </a:lnTo>
                <a:lnTo>
                  <a:pt x="151" y="199"/>
                </a:lnTo>
                <a:lnTo>
                  <a:pt x="159" y="194"/>
                </a:lnTo>
                <a:lnTo>
                  <a:pt x="170" y="188"/>
                </a:lnTo>
                <a:lnTo>
                  <a:pt x="179" y="182"/>
                </a:lnTo>
                <a:lnTo>
                  <a:pt x="185" y="179"/>
                </a:lnTo>
                <a:lnTo>
                  <a:pt x="187" y="177"/>
                </a:lnTo>
                <a:lnTo>
                  <a:pt x="190" y="177"/>
                </a:lnTo>
                <a:lnTo>
                  <a:pt x="199" y="191"/>
                </a:lnTo>
                <a:lnTo>
                  <a:pt x="196" y="191"/>
                </a:lnTo>
                <a:lnTo>
                  <a:pt x="193" y="196"/>
                </a:lnTo>
                <a:lnTo>
                  <a:pt x="187" y="199"/>
                </a:lnTo>
                <a:lnTo>
                  <a:pt x="185" y="208"/>
                </a:lnTo>
                <a:lnTo>
                  <a:pt x="179" y="216"/>
                </a:lnTo>
                <a:lnTo>
                  <a:pt x="170" y="225"/>
                </a:lnTo>
                <a:lnTo>
                  <a:pt x="165" y="233"/>
                </a:lnTo>
                <a:lnTo>
                  <a:pt x="159" y="245"/>
                </a:lnTo>
                <a:lnTo>
                  <a:pt x="153" y="253"/>
                </a:lnTo>
                <a:lnTo>
                  <a:pt x="148" y="265"/>
                </a:lnTo>
                <a:lnTo>
                  <a:pt x="145" y="270"/>
                </a:lnTo>
                <a:lnTo>
                  <a:pt x="145" y="282"/>
                </a:lnTo>
                <a:lnTo>
                  <a:pt x="145" y="287"/>
                </a:lnTo>
                <a:lnTo>
                  <a:pt x="148" y="293"/>
                </a:lnTo>
                <a:lnTo>
                  <a:pt x="153" y="293"/>
                </a:lnTo>
                <a:lnTo>
                  <a:pt x="162" y="296"/>
                </a:lnTo>
                <a:lnTo>
                  <a:pt x="173" y="293"/>
                </a:lnTo>
                <a:lnTo>
                  <a:pt x="185" y="287"/>
                </a:lnTo>
                <a:lnTo>
                  <a:pt x="196" y="282"/>
                </a:lnTo>
                <a:lnTo>
                  <a:pt x="207" y="273"/>
                </a:lnTo>
                <a:lnTo>
                  <a:pt x="219" y="265"/>
                </a:lnTo>
                <a:lnTo>
                  <a:pt x="230" y="256"/>
                </a:lnTo>
                <a:lnTo>
                  <a:pt x="241" y="248"/>
                </a:lnTo>
                <a:lnTo>
                  <a:pt x="252" y="239"/>
                </a:lnTo>
                <a:lnTo>
                  <a:pt x="261" y="230"/>
                </a:lnTo>
                <a:lnTo>
                  <a:pt x="269" y="222"/>
                </a:lnTo>
                <a:lnTo>
                  <a:pt x="275" y="213"/>
                </a:lnTo>
                <a:lnTo>
                  <a:pt x="284" y="208"/>
                </a:lnTo>
                <a:lnTo>
                  <a:pt x="295" y="196"/>
                </a:lnTo>
                <a:lnTo>
                  <a:pt x="298" y="194"/>
                </a:lnTo>
                <a:lnTo>
                  <a:pt x="298" y="208"/>
                </a:lnTo>
                <a:lnTo>
                  <a:pt x="295" y="213"/>
                </a:lnTo>
                <a:lnTo>
                  <a:pt x="292" y="216"/>
                </a:lnTo>
                <a:lnTo>
                  <a:pt x="289" y="225"/>
                </a:lnTo>
                <a:lnTo>
                  <a:pt x="284" y="233"/>
                </a:lnTo>
                <a:lnTo>
                  <a:pt x="281" y="245"/>
                </a:lnTo>
                <a:lnTo>
                  <a:pt x="275" y="256"/>
                </a:lnTo>
                <a:lnTo>
                  <a:pt x="272" y="267"/>
                </a:lnTo>
                <a:lnTo>
                  <a:pt x="269" y="276"/>
                </a:lnTo>
                <a:lnTo>
                  <a:pt x="267" y="287"/>
                </a:lnTo>
                <a:lnTo>
                  <a:pt x="264" y="296"/>
                </a:lnTo>
                <a:lnTo>
                  <a:pt x="264" y="304"/>
                </a:lnTo>
                <a:lnTo>
                  <a:pt x="264" y="310"/>
                </a:lnTo>
                <a:lnTo>
                  <a:pt x="267" y="316"/>
                </a:lnTo>
                <a:lnTo>
                  <a:pt x="269" y="319"/>
                </a:lnTo>
                <a:lnTo>
                  <a:pt x="278" y="319"/>
                </a:lnTo>
                <a:lnTo>
                  <a:pt x="286" y="316"/>
                </a:lnTo>
                <a:lnTo>
                  <a:pt x="295" y="310"/>
                </a:lnTo>
                <a:lnTo>
                  <a:pt x="306" y="304"/>
                </a:lnTo>
                <a:lnTo>
                  <a:pt x="315" y="296"/>
                </a:lnTo>
                <a:lnTo>
                  <a:pt x="323" y="287"/>
                </a:lnTo>
                <a:lnTo>
                  <a:pt x="335" y="279"/>
                </a:lnTo>
                <a:lnTo>
                  <a:pt x="343" y="270"/>
                </a:lnTo>
                <a:lnTo>
                  <a:pt x="352" y="262"/>
                </a:lnTo>
                <a:lnTo>
                  <a:pt x="360" y="250"/>
                </a:lnTo>
                <a:lnTo>
                  <a:pt x="369" y="239"/>
                </a:lnTo>
                <a:lnTo>
                  <a:pt x="374" y="230"/>
                </a:lnTo>
                <a:lnTo>
                  <a:pt x="380" y="225"/>
                </a:lnTo>
                <a:lnTo>
                  <a:pt x="383" y="216"/>
                </a:lnTo>
                <a:lnTo>
                  <a:pt x="388" y="213"/>
                </a:lnTo>
                <a:lnTo>
                  <a:pt x="391" y="211"/>
                </a:lnTo>
                <a:lnTo>
                  <a:pt x="403" y="219"/>
                </a:lnTo>
                <a:lnTo>
                  <a:pt x="400" y="222"/>
                </a:lnTo>
                <a:lnTo>
                  <a:pt x="397" y="228"/>
                </a:lnTo>
                <a:lnTo>
                  <a:pt x="394" y="239"/>
                </a:lnTo>
                <a:lnTo>
                  <a:pt x="391" y="250"/>
                </a:lnTo>
                <a:lnTo>
                  <a:pt x="388" y="262"/>
                </a:lnTo>
                <a:lnTo>
                  <a:pt x="388" y="273"/>
                </a:lnTo>
                <a:lnTo>
                  <a:pt x="391" y="282"/>
                </a:lnTo>
                <a:lnTo>
                  <a:pt x="397" y="287"/>
                </a:lnTo>
                <a:lnTo>
                  <a:pt x="403" y="290"/>
                </a:lnTo>
                <a:lnTo>
                  <a:pt x="411" y="290"/>
                </a:lnTo>
                <a:lnTo>
                  <a:pt x="422" y="284"/>
                </a:lnTo>
                <a:lnTo>
                  <a:pt x="437" y="282"/>
                </a:lnTo>
                <a:lnTo>
                  <a:pt x="448" y="270"/>
                </a:lnTo>
                <a:lnTo>
                  <a:pt x="459" y="262"/>
                </a:lnTo>
                <a:lnTo>
                  <a:pt x="468" y="250"/>
                </a:lnTo>
                <a:lnTo>
                  <a:pt x="476" y="239"/>
                </a:lnTo>
                <a:lnTo>
                  <a:pt x="479" y="233"/>
                </a:lnTo>
                <a:lnTo>
                  <a:pt x="482" y="225"/>
                </a:lnTo>
                <a:lnTo>
                  <a:pt x="488" y="216"/>
                </a:lnTo>
                <a:lnTo>
                  <a:pt x="490" y="211"/>
                </a:lnTo>
                <a:lnTo>
                  <a:pt x="496" y="205"/>
                </a:lnTo>
                <a:lnTo>
                  <a:pt x="502" y="196"/>
                </a:lnTo>
                <a:lnTo>
                  <a:pt x="507" y="191"/>
                </a:lnTo>
                <a:lnTo>
                  <a:pt x="513" y="185"/>
                </a:lnTo>
                <a:lnTo>
                  <a:pt x="524" y="174"/>
                </a:lnTo>
                <a:lnTo>
                  <a:pt x="536" y="168"/>
                </a:lnTo>
                <a:lnTo>
                  <a:pt x="547" y="162"/>
                </a:lnTo>
                <a:lnTo>
                  <a:pt x="556" y="162"/>
                </a:lnTo>
                <a:lnTo>
                  <a:pt x="561" y="157"/>
                </a:lnTo>
                <a:lnTo>
                  <a:pt x="567" y="157"/>
                </a:lnTo>
                <a:lnTo>
                  <a:pt x="573" y="157"/>
                </a:lnTo>
                <a:lnTo>
                  <a:pt x="581" y="159"/>
                </a:lnTo>
                <a:lnTo>
                  <a:pt x="592" y="159"/>
                </a:lnTo>
                <a:lnTo>
                  <a:pt x="601" y="162"/>
                </a:lnTo>
                <a:lnTo>
                  <a:pt x="595" y="162"/>
                </a:lnTo>
                <a:lnTo>
                  <a:pt x="590" y="165"/>
                </a:lnTo>
                <a:lnTo>
                  <a:pt x="578" y="168"/>
                </a:lnTo>
                <a:lnTo>
                  <a:pt x="567" y="177"/>
                </a:lnTo>
                <a:lnTo>
                  <a:pt x="553" y="182"/>
                </a:lnTo>
                <a:lnTo>
                  <a:pt x="541" y="191"/>
                </a:lnTo>
                <a:lnTo>
                  <a:pt x="533" y="196"/>
                </a:lnTo>
                <a:lnTo>
                  <a:pt x="527" y="205"/>
                </a:lnTo>
                <a:lnTo>
                  <a:pt x="519" y="211"/>
                </a:lnTo>
                <a:lnTo>
                  <a:pt x="513" y="225"/>
                </a:lnTo>
                <a:lnTo>
                  <a:pt x="507" y="228"/>
                </a:lnTo>
                <a:lnTo>
                  <a:pt x="505" y="236"/>
                </a:lnTo>
                <a:lnTo>
                  <a:pt x="502" y="242"/>
                </a:lnTo>
                <a:lnTo>
                  <a:pt x="496" y="250"/>
                </a:lnTo>
                <a:lnTo>
                  <a:pt x="488" y="262"/>
                </a:lnTo>
                <a:lnTo>
                  <a:pt x="479" y="276"/>
                </a:lnTo>
                <a:lnTo>
                  <a:pt x="471" y="287"/>
                </a:lnTo>
                <a:lnTo>
                  <a:pt x="462" y="296"/>
                </a:lnTo>
                <a:lnTo>
                  <a:pt x="448" y="301"/>
                </a:lnTo>
                <a:lnTo>
                  <a:pt x="437" y="307"/>
                </a:lnTo>
                <a:lnTo>
                  <a:pt x="425" y="313"/>
                </a:lnTo>
                <a:lnTo>
                  <a:pt x="414" y="319"/>
                </a:lnTo>
                <a:lnTo>
                  <a:pt x="403" y="321"/>
                </a:lnTo>
                <a:lnTo>
                  <a:pt x="394" y="321"/>
                </a:lnTo>
                <a:lnTo>
                  <a:pt x="388" y="319"/>
                </a:lnTo>
                <a:lnTo>
                  <a:pt x="383" y="316"/>
                </a:lnTo>
                <a:lnTo>
                  <a:pt x="377" y="304"/>
                </a:lnTo>
                <a:lnTo>
                  <a:pt x="377" y="296"/>
                </a:lnTo>
                <a:lnTo>
                  <a:pt x="374" y="284"/>
                </a:lnTo>
                <a:lnTo>
                  <a:pt x="377" y="273"/>
                </a:lnTo>
                <a:lnTo>
                  <a:pt x="377" y="262"/>
                </a:lnTo>
                <a:lnTo>
                  <a:pt x="377" y="253"/>
                </a:lnTo>
                <a:lnTo>
                  <a:pt x="380" y="248"/>
                </a:lnTo>
                <a:lnTo>
                  <a:pt x="377" y="248"/>
                </a:lnTo>
                <a:lnTo>
                  <a:pt x="374" y="250"/>
                </a:lnTo>
                <a:lnTo>
                  <a:pt x="369" y="256"/>
                </a:lnTo>
                <a:lnTo>
                  <a:pt x="366" y="265"/>
                </a:lnTo>
                <a:lnTo>
                  <a:pt x="357" y="270"/>
                </a:lnTo>
                <a:lnTo>
                  <a:pt x="349" y="282"/>
                </a:lnTo>
                <a:lnTo>
                  <a:pt x="340" y="293"/>
                </a:lnTo>
                <a:lnTo>
                  <a:pt x="332" y="304"/>
                </a:lnTo>
                <a:lnTo>
                  <a:pt x="323" y="316"/>
                </a:lnTo>
                <a:lnTo>
                  <a:pt x="312" y="327"/>
                </a:lnTo>
                <a:lnTo>
                  <a:pt x="303" y="333"/>
                </a:lnTo>
                <a:lnTo>
                  <a:pt x="292" y="341"/>
                </a:lnTo>
                <a:lnTo>
                  <a:pt x="284" y="347"/>
                </a:lnTo>
                <a:lnTo>
                  <a:pt x="272" y="353"/>
                </a:lnTo>
                <a:lnTo>
                  <a:pt x="267" y="353"/>
                </a:lnTo>
                <a:lnTo>
                  <a:pt x="261" y="353"/>
                </a:lnTo>
                <a:lnTo>
                  <a:pt x="252" y="347"/>
                </a:lnTo>
                <a:lnTo>
                  <a:pt x="247" y="341"/>
                </a:lnTo>
                <a:lnTo>
                  <a:pt x="244" y="336"/>
                </a:lnTo>
                <a:lnTo>
                  <a:pt x="241" y="327"/>
                </a:lnTo>
                <a:lnTo>
                  <a:pt x="241" y="319"/>
                </a:lnTo>
                <a:lnTo>
                  <a:pt x="241" y="310"/>
                </a:lnTo>
                <a:lnTo>
                  <a:pt x="241" y="301"/>
                </a:lnTo>
                <a:lnTo>
                  <a:pt x="244" y="293"/>
                </a:lnTo>
                <a:lnTo>
                  <a:pt x="247" y="282"/>
                </a:lnTo>
                <a:lnTo>
                  <a:pt x="250" y="273"/>
                </a:lnTo>
                <a:lnTo>
                  <a:pt x="252" y="267"/>
                </a:lnTo>
                <a:lnTo>
                  <a:pt x="252" y="262"/>
                </a:lnTo>
                <a:lnTo>
                  <a:pt x="258" y="250"/>
                </a:lnTo>
                <a:lnTo>
                  <a:pt x="261" y="248"/>
                </a:lnTo>
                <a:lnTo>
                  <a:pt x="258" y="248"/>
                </a:lnTo>
                <a:lnTo>
                  <a:pt x="255" y="250"/>
                </a:lnTo>
                <a:lnTo>
                  <a:pt x="250" y="253"/>
                </a:lnTo>
                <a:lnTo>
                  <a:pt x="241" y="262"/>
                </a:lnTo>
                <a:lnTo>
                  <a:pt x="233" y="267"/>
                </a:lnTo>
                <a:lnTo>
                  <a:pt x="224" y="276"/>
                </a:lnTo>
                <a:lnTo>
                  <a:pt x="216" y="282"/>
                </a:lnTo>
                <a:lnTo>
                  <a:pt x="204" y="293"/>
                </a:lnTo>
                <a:lnTo>
                  <a:pt x="193" y="301"/>
                </a:lnTo>
                <a:lnTo>
                  <a:pt x="182" y="307"/>
                </a:lnTo>
                <a:lnTo>
                  <a:pt x="170" y="316"/>
                </a:lnTo>
                <a:lnTo>
                  <a:pt x="159" y="321"/>
                </a:lnTo>
                <a:lnTo>
                  <a:pt x="148" y="324"/>
                </a:lnTo>
                <a:lnTo>
                  <a:pt x="139" y="327"/>
                </a:lnTo>
                <a:lnTo>
                  <a:pt x="134" y="327"/>
                </a:lnTo>
                <a:lnTo>
                  <a:pt x="125" y="327"/>
                </a:lnTo>
                <a:lnTo>
                  <a:pt x="119" y="324"/>
                </a:lnTo>
                <a:lnTo>
                  <a:pt x="117" y="319"/>
                </a:lnTo>
                <a:lnTo>
                  <a:pt x="117" y="313"/>
                </a:lnTo>
                <a:lnTo>
                  <a:pt x="117" y="304"/>
                </a:lnTo>
                <a:lnTo>
                  <a:pt x="117" y="296"/>
                </a:lnTo>
                <a:lnTo>
                  <a:pt x="117" y="290"/>
                </a:lnTo>
                <a:lnTo>
                  <a:pt x="117" y="282"/>
                </a:lnTo>
                <a:lnTo>
                  <a:pt x="122" y="273"/>
                </a:lnTo>
                <a:lnTo>
                  <a:pt x="125" y="265"/>
                </a:lnTo>
                <a:lnTo>
                  <a:pt x="125" y="256"/>
                </a:lnTo>
                <a:lnTo>
                  <a:pt x="128" y="248"/>
                </a:lnTo>
                <a:lnTo>
                  <a:pt x="134" y="242"/>
                </a:lnTo>
                <a:lnTo>
                  <a:pt x="136" y="233"/>
                </a:lnTo>
                <a:lnTo>
                  <a:pt x="139" y="230"/>
                </a:lnTo>
                <a:lnTo>
                  <a:pt x="136" y="233"/>
                </a:lnTo>
                <a:lnTo>
                  <a:pt x="128" y="239"/>
                </a:lnTo>
                <a:lnTo>
                  <a:pt x="122" y="245"/>
                </a:lnTo>
                <a:lnTo>
                  <a:pt x="117" y="250"/>
                </a:lnTo>
                <a:lnTo>
                  <a:pt x="108" y="256"/>
                </a:lnTo>
                <a:lnTo>
                  <a:pt x="102" y="265"/>
                </a:lnTo>
                <a:lnTo>
                  <a:pt x="94" y="270"/>
                </a:lnTo>
                <a:lnTo>
                  <a:pt x="85" y="276"/>
                </a:lnTo>
                <a:lnTo>
                  <a:pt x="80" y="282"/>
                </a:lnTo>
                <a:lnTo>
                  <a:pt x="74" y="287"/>
                </a:lnTo>
                <a:lnTo>
                  <a:pt x="60" y="293"/>
                </a:lnTo>
                <a:lnTo>
                  <a:pt x="51" y="299"/>
                </a:lnTo>
                <a:lnTo>
                  <a:pt x="43" y="296"/>
                </a:lnTo>
                <a:lnTo>
                  <a:pt x="37" y="296"/>
                </a:lnTo>
                <a:lnTo>
                  <a:pt x="29" y="293"/>
                </a:lnTo>
                <a:lnTo>
                  <a:pt x="20" y="287"/>
                </a:lnTo>
                <a:lnTo>
                  <a:pt x="12" y="282"/>
                </a:lnTo>
                <a:lnTo>
                  <a:pt x="6" y="273"/>
                </a:lnTo>
                <a:lnTo>
                  <a:pt x="0" y="262"/>
                </a:lnTo>
                <a:lnTo>
                  <a:pt x="0" y="253"/>
                </a:lnTo>
                <a:lnTo>
                  <a:pt x="0" y="245"/>
                </a:lnTo>
                <a:lnTo>
                  <a:pt x="0" y="239"/>
                </a:lnTo>
                <a:lnTo>
                  <a:pt x="3" y="228"/>
                </a:lnTo>
                <a:lnTo>
                  <a:pt x="9" y="219"/>
                </a:lnTo>
                <a:lnTo>
                  <a:pt x="12" y="208"/>
                </a:lnTo>
                <a:lnTo>
                  <a:pt x="20" y="199"/>
                </a:lnTo>
                <a:lnTo>
                  <a:pt x="29" y="188"/>
                </a:lnTo>
                <a:lnTo>
                  <a:pt x="40" y="177"/>
                </a:lnTo>
                <a:lnTo>
                  <a:pt x="49" y="165"/>
                </a:lnTo>
                <a:lnTo>
                  <a:pt x="63" y="154"/>
                </a:lnTo>
                <a:lnTo>
                  <a:pt x="68" y="148"/>
                </a:lnTo>
                <a:lnTo>
                  <a:pt x="74" y="142"/>
                </a:lnTo>
                <a:lnTo>
                  <a:pt x="83" y="137"/>
                </a:lnTo>
                <a:lnTo>
                  <a:pt x="91" y="134"/>
                </a:lnTo>
                <a:lnTo>
                  <a:pt x="100" y="128"/>
                </a:lnTo>
                <a:lnTo>
                  <a:pt x="108" y="123"/>
                </a:lnTo>
                <a:lnTo>
                  <a:pt x="117" y="120"/>
                </a:lnTo>
                <a:lnTo>
                  <a:pt x="125" y="114"/>
                </a:lnTo>
                <a:lnTo>
                  <a:pt x="136" y="111"/>
                </a:lnTo>
                <a:lnTo>
                  <a:pt x="148" y="106"/>
                </a:lnTo>
                <a:lnTo>
                  <a:pt x="156" y="103"/>
                </a:lnTo>
                <a:lnTo>
                  <a:pt x="168" y="100"/>
                </a:lnTo>
                <a:lnTo>
                  <a:pt x="165" y="100"/>
                </a:lnTo>
                <a:lnTo>
                  <a:pt x="159" y="97"/>
                </a:lnTo>
                <a:lnTo>
                  <a:pt x="148" y="91"/>
                </a:lnTo>
                <a:lnTo>
                  <a:pt x="136" y="88"/>
                </a:lnTo>
                <a:lnTo>
                  <a:pt x="125" y="80"/>
                </a:lnTo>
                <a:lnTo>
                  <a:pt x="117" y="74"/>
                </a:lnTo>
                <a:lnTo>
                  <a:pt x="111" y="66"/>
                </a:lnTo>
                <a:lnTo>
                  <a:pt x="111" y="57"/>
                </a:lnTo>
                <a:lnTo>
                  <a:pt x="114" y="46"/>
                </a:lnTo>
                <a:lnTo>
                  <a:pt x="119" y="35"/>
                </a:lnTo>
                <a:lnTo>
                  <a:pt x="128" y="26"/>
                </a:lnTo>
                <a:lnTo>
                  <a:pt x="136" y="15"/>
                </a:lnTo>
                <a:lnTo>
                  <a:pt x="145" y="6"/>
                </a:lnTo>
                <a:lnTo>
                  <a:pt x="153" y="3"/>
                </a:lnTo>
                <a:lnTo>
                  <a:pt x="159" y="0"/>
                </a:lnTo>
                <a:lnTo>
                  <a:pt x="165" y="3"/>
                </a:lnTo>
                <a:lnTo>
                  <a:pt x="168" y="6"/>
                </a:lnTo>
                <a:lnTo>
                  <a:pt x="168" y="15"/>
                </a:lnTo>
                <a:lnTo>
                  <a:pt x="165" y="20"/>
                </a:lnTo>
                <a:lnTo>
                  <a:pt x="165" y="26"/>
                </a:lnTo>
                <a:lnTo>
                  <a:pt x="162" y="26"/>
                </a:lnTo>
                <a:lnTo>
                  <a:pt x="156" y="35"/>
                </a:lnTo>
                <a:lnTo>
                  <a:pt x="151" y="43"/>
                </a:lnTo>
                <a:lnTo>
                  <a:pt x="153" y="54"/>
                </a:lnTo>
                <a:lnTo>
                  <a:pt x="156" y="57"/>
                </a:lnTo>
                <a:lnTo>
                  <a:pt x="162" y="63"/>
                </a:lnTo>
                <a:lnTo>
                  <a:pt x="170" y="69"/>
                </a:lnTo>
                <a:lnTo>
                  <a:pt x="182" y="74"/>
                </a:lnTo>
                <a:lnTo>
                  <a:pt x="190" y="80"/>
                </a:lnTo>
                <a:lnTo>
                  <a:pt x="199" y="83"/>
                </a:lnTo>
                <a:lnTo>
                  <a:pt x="204" y="86"/>
                </a:lnTo>
                <a:lnTo>
                  <a:pt x="207" y="86"/>
                </a:lnTo>
                <a:lnTo>
                  <a:pt x="210" y="86"/>
                </a:lnTo>
                <a:lnTo>
                  <a:pt x="219" y="83"/>
                </a:lnTo>
                <a:lnTo>
                  <a:pt x="224" y="80"/>
                </a:lnTo>
                <a:lnTo>
                  <a:pt x="230" y="80"/>
                </a:lnTo>
                <a:lnTo>
                  <a:pt x="238" y="80"/>
                </a:lnTo>
                <a:lnTo>
                  <a:pt x="250" y="80"/>
                </a:lnTo>
                <a:lnTo>
                  <a:pt x="258" y="77"/>
                </a:lnTo>
                <a:lnTo>
                  <a:pt x="269" y="77"/>
                </a:lnTo>
                <a:lnTo>
                  <a:pt x="281" y="77"/>
                </a:lnTo>
                <a:lnTo>
                  <a:pt x="292" y="77"/>
                </a:lnTo>
                <a:lnTo>
                  <a:pt x="303" y="77"/>
                </a:lnTo>
                <a:lnTo>
                  <a:pt x="318" y="80"/>
                </a:lnTo>
                <a:lnTo>
                  <a:pt x="329" y="80"/>
                </a:lnTo>
                <a:lnTo>
                  <a:pt x="343" y="83"/>
                </a:lnTo>
                <a:lnTo>
                  <a:pt x="354" y="86"/>
                </a:lnTo>
                <a:lnTo>
                  <a:pt x="366" y="88"/>
                </a:lnTo>
                <a:lnTo>
                  <a:pt x="377" y="88"/>
                </a:lnTo>
                <a:lnTo>
                  <a:pt x="388" y="91"/>
                </a:lnTo>
                <a:lnTo>
                  <a:pt x="397" y="94"/>
                </a:lnTo>
                <a:lnTo>
                  <a:pt x="408" y="97"/>
                </a:lnTo>
                <a:lnTo>
                  <a:pt x="414" y="100"/>
                </a:lnTo>
                <a:lnTo>
                  <a:pt x="422" y="100"/>
                </a:lnTo>
                <a:lnTo>
                  <a:pt x="431" y="103"/>
                </a:lnTo>
                <a:lnTo>
                  <a:pt x="434" y="106"/>
                </a:lnTo>
                <a:lnTo>
                  <a:pt x="439" y="106"/>
                </a:lnTo>
                <a:lnTo>
                  <a:pt x="445" y="108"/>
                </a:lnTo>
                <a:lnTo>
                  <a:pt x="445" y="111"/>
                </a:lnTo>
                <a:lnTo>
                  <a:pt x="445" y="117"/>
                </a:lnTo>
                <a:lnTo>
                  <a:pt x="437" y="117"/>
                </a:lnTo>
                <a:lnTo>
                  <a:pt x="425" y="117"/>
                </a:lnTo>
                <a:lnTo>
                  <a:pt x="417" y="117"/>
                </a:lnTo>
                <a:lnTo>
                  <a:pt x="411" y="117"/>
                </a:lnTo>
                <a:lnTo>
                  <a:pt x="403" y="114"/>
                </a:lnTo>
                <a:lnTo>
                  <a:pt x="394" y="114"/>
                </a:lnTo>
                <a:lnTo>
                  <a:pt x="388" y="114"/>
                </a:lnTo>
                <a:lnTo>
                  <a:pt x="380" y="111"/>
                </a:lnTo>
                <a:lnTo>
                  <a:pt x="371" y="111"/>
                </a:lnTo>
                <a:lnTo>
                  <a:pt x="369" y="111"/>
                </a:lnTo>
                <a:lnTo>
                  <a:pt x="360" y="111"/>
                </a:lnTo>
                <a:lnTo>
                  <a:pt x="357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3"/>
          <p:cNvSpPr/>
          <p:nvPr/>
        </p:nvSpPr>
        <p:spPr>
          <a:xfrm>
            <a:off x="5064120" y="4237200"/>
            <a:ext cx="4867200" cy="2971800"/>
          </a:xfrm>
          <a:custGeom>
            <a:avLst/>
            <a:gdLst>
              <a:gd name="textAreaLeft" fmla="*/ 0 w 4867200"/>
              <a:gd name="textAreaRight" fmla="*/ 4867560 w 48672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3549" h="2127">
                <a:moveTo>
                  <a:pt x="1790" y="420"/>
                </a:moveTo>
                <a:lnTo>
                  <a:pt x="1793" y="420"/>
                </a:lnTo>
                <a:lnTo>
                  <a:pt x="1799" y="420"/>
                </a:lnTo>
                <a:lnTo>
                  <a:pt x="1807" y="423"/>
                </a:lnTo>
                <a:lnTo>
                  <a:pt x="1816" y="423"/>
                </a:lnTo>
                <a:lnTo>
                  <a:pt x="1824" y="426"/>
                </a:lnTo>
                <a:lnTo>
                  <a:pt x="1836" y="429"/>
                </a:lnTo>
                <a:lnTo>
                  <a:pt x="1850" y="432"/>
                </a:lnTo>
                <a:lnTo>
                  <a:pt x="1858" y="434"/>
                </a:lnTo>
                <a:lnTo>
                  <a:pt x="1870" y="440"/>
                </a:lnTo>
                <a:lnTo>
                  <a:pt x="1881" y="443"/>
                </a:lnTo>
                <a:lnTo>
                  <a:pt x="1892" y="446"/>
                </a:lnTo>
                <a:lnTo>
                  <a:pt x="1901" y="451"/>
                </a:lnTo>
                <a:lnTo>
                  <a:pt x="1909" y="457"/>
                </a:lnTo>
                <a:lnTo>
                  <a:pt x="1915" y="463"/>
                </a:lnTo>
                <a:lnTo>
                  <a:pt x="1921" y="468"/>
                </a:lnTo>
                <a:lnTo>
                  <a:pt x="2062" y="486"/>
                </a:lnTo>
                <a:lnTo>
                  <a:pt x="2059" y="486"/>
                </a:lnTo>
                <a:lnTo>
                  <a:pt x="2056" y="488"/>
                </a:lnTo>
                <a:lnTo>
                  <a:pt x="2051" y="494"/>
                </a:lnTo>
                <a:lnTo>
                  <a:pt x="2045" y="500"/>
                </a:lnTo>
                <a:lnTo>
                  <a:pt x="2034" y="505"/>
                </a:lnTo>
                <a:lnTo>
                  <a:pt x="2025" y="514"/>
                </a:lnTo>
                <a:lnTo>
                  <a:pt x="2011" y="525"/>
                </a:lnTo>
                <a:lnTo>
                  <a:pt x="2000" y="537"/>
                </a:lnTo>
                <a:lnTo>
                  <a:pt x="1991" y="539"/>
                </a:lnTo>
                <a:lnTo>
                  <a:pt x="1983" y="548"/>
                </a:lnTo>
                <a:lnTo>
                  <a:pt x="1977" y="551"/>
                </a:lnTo>
                <a:lnTo>
                  <a:pt x="1969" y="559"/>
                </a:lnTo>
                <a:lnTo>
                  <a:pt x="1960" y="565"/>
                </a:lnTo>
                <a:lnTo>
                  <a:pt x="1952" y="571"/>
                </a:lnTo>
                <a:lnTo>
                  <a:pt x="1943" y="579"/>
                </a:lnTo>
                <a:lnTo>
                  <a:pt x="1935" y="588"/>
                </a:lnTo>
                <a:lnTo>
                  <a:pt x="1926" y="593"/>
                </a:lnTo>
                <a:lnTo>
                  <a:pt x="1915" y="602"/>
                </a:lnTo>
                <a:lnTo>
                  <a:pt x="1906" y="608"/>
                </a:lnTo>
                <a:lnTo>
                  <a:pt x="1898" y="616"/>
                </a:lnTo>
                <a:lnTo>
                  <a:pt x="1887" y="625"/>
                </a:lnTo>
                <a:lnTo>
                  <a:pt x="1878" y="633"/>
                </a:lnTo>
                <a:lnTo>
                  <a:pt x="1870" y="642"/>
                </a:lnTo>
                <a:lnTo>
                  <a:pt x="1861" y="650"/>
                </a:lnTo>
                <a:lnTo>
                  <a:pt x="1850" y="656"/>
                </a:lnTo>
                <a:lnTo>
                  <a:pt x="1841" y="664"/>
                </a:lnTo>
                <a:lnTo>
                  <a:pt x="1830" y="673"/>
                </a:lnTo>
                <a:lnTo>
                  <a:pt x="1819" y="681"/>
                </a:lnTo>
                <a:lnTo>
                  <a:pt x="1810" y="687"/>
                </a:lnTo>
                <a:lnTo>
                  <a:pt x="1802" y="699"/>
                </a:lnTo>
                <a:lnTo>
                  <a:pt x="1790" y="704"/>
                </a:lnTo>
                <a:lnTo>
                  <a:pt x="1785" y="713"/>
                </a:lnTo>
                <a:lnTo>
                  <a:pt x="1773" y="721"/>
                </a:lnTo>
                <a:lnTo>
                  <a:pt x="1765" y="730"/>
                </a:lnTo>
                <a:lnTo>
                  <a:pt x="1756" y="738"/>
                </a:lnTo>
                <a:lnTo>
                  <a:pt x="1748" y="747"/>
                </a:lnTo>
                <a:lnTo>
                  <a:pt x="1736" y="752"/>
                </a:lnTo>
                <a:lnTo>
                  <a:pt x="1731" y="761"/>
                </a:lnTo>
                <a:lnTo>
                  <a:pt x="1722" y="770"/>
                </a:lnTo>
                <a:lnTo>
                  <a:pt x="1714" y="778"/>
                </a:lnTo>
                <a:lnTo>
                  <a:pt x="1705" y="784"/>
                </a:lnTo>
                <a:lnTo>
                  <a:pt x="1700" y="789"/>
                </a:lnTo>
                <a:lnTo>
                  <a:pt x="1691" y="795"/>
                </a:lnTo>
                <a:lnTo>
                  <a:pt x="1685" y="804"/>
                </a:lnTo>
                <a:lnTo>
                  <a:pt x="1671" y="815"/>
                </a:lnTo>
                <a:lnTo>
                  <a:pt x="1660" y="829"/>
                </a:lnTo>
                <a:lnTo>
                  <a:pt x="1651" y="841"/>
                </a:lnTo>
                <a:lnTo>
                  <a:pt x="1643" y="849"/>
                </a:lnTo>
                <a:lnTo>
                  <a:pt x="1637" y="860"/>
                </a:lnTo>
                <a:lnTo>
                  <a:pt x="1634" y="869"/>
                </a:lnTo>
                <a:lnTo>
                  <a:pt x="1634" y="866"/>
                </a:lnTo>
                <a:lnTo>
                  <a:pt x="1632" y="866"/>
                </a:lnTo>
                <a:lnTo>
                  <a:pt x="1626" y="866"/>
                </a:lnTo>
                <a:lnTo>
                  <a:pt x="1620" y="866"/>
                </a:lnTo>
                <a:lnTo>
                  <a:pt x="1612" y="863"/>
                </a:lnTo>
                <a:lnTo>
                  <a:pt x="1603" y="863"/>
                </a:lnTo>
                <a:lnTo>
                  <a:pt x="1592" y="860"/>
                </a:lnTo>
                <a:lnTo>
                  <a:pt x="1581" y="860"/>
                </a:lnTo>
                <a:lnTo>
                  <a:pt x="1564" y="860"/>
                </a:lnTo>
                <a:lnTo>
                  <a:pt x="1550" y="858"/>
                </a:lnTo>
                <a:lnTo>
                  <a:pt x="1533" y="858"/>
                </a:lnTo>
                <a:lnTo>
                  <a:pt x="1516" y="855"/>
                </a:lnTo>
                <a:lnTo>
                  <a:pt x="1496" y="852"/>
                </a:lnTo>
                <a:lnTo>
                  <a:pt x="1479" y="852"/>
                </a:lnTo>
                <a:lnTo>
                  <a:pt x="1456" y="849"/>
                </a:lnTo>
                <a:lnTo>
                  <a:pt x="1436" y="849"/>
                </a:lnTo>
                <a:lnTo>
                  <a:pt x="1411" y="846"/>
                </a:lnTo>
                <a:lnTo>
                  <a:pt x="1385" y="843"/>
                </a:lnTo>
                <a:lnTo>
                  <a:pt x="1360" y="841"/>
                </a:lnTo>
                <a:lnTo>
                  <a:pt x="1334" y="838"/>
                </a:lnTo>
                <a:lnTo>
                  <a:pt x="1306" y="838"/>
                </a:lnTo>
                <a:lnTo>
                  <a:pt x="1278" y="835"/>
                </a:lnTo>
                <a:lnTo>
                  <a:pt x="1249" y="832"/>
                </a:lnTo>
                <a:lnTo>
                  <a:pt x="1224" y="829"/>
                </a:lnTo>
                <a:lnTo>
                  <a:pt x="1193" y="826"/>
                </a:lnTo>
                <a:lnTo>
                  <a:pt x="1162" y="826"/>
                </a:lnTo>
                <a:lnTo>
                  <a:pt x="1130" y="821"/>
                </a:lnTo>
                <a:lnTo>
                  <a:pt x="1099" y="821"/>
                </a:lnTo>
                <a:lnTo>
                  <a:pt x="1068" y="818"/>
                </a:lnTo>
                <a:lnTo>
                  <a:pt x="1034" y="815"/>
                </a:lnTo>
                <a:lnTo>
                  <a:pt x="1003" y="812"/>
                </a:lnTo>
                <a:lnTo>
                  <a:pt x="972" y="812"/>
                </a:lnTo>
                <a:lnTo>
                  <a:pt x="938" y="806"/>
                </a:lnTo>
                <a:lnTo>
                  <a:pt x="904" y="806"/>
                </a:lnTo>
                <a:lnTo>
                  <a:pt x="870" y="804"/>
                </a:lnTo>
                <a:lnTo>
                  <a:pt x="836" y="801"/>
                </a:lnTo>
                <a:lnTo>
                  <a:pt x="802" y="798"/>
                </a:lnTo>
                <a:lnTo>
                  <a:pt x="771" y="798"/>
                </a:lnTo>
                <a:lnTo>
                  <a:pt x="737" y="795"/>
                </a:lnTo>
                <a:lnTo>
                  <a:pt x="703" y="795"/>
                </a:lnTo>
                <a:lnTo>
                  <a:pt x="669" y="792"/>
                </a:lnTo>
                <a:lnTo>
                  <a:pt x="635" y="789"/>
                </a:lnTo>
                <a:lnTo>
                  <a:pt x="601" y="787"/>
                </a:lnTo>
                <a:lnTo>
                  <a:pt x="567" y="787"/>
                </a:lnTo>
                <a:lnTo>
                  <a:pt x="536" y="784"/>
                </a:lnTo>
                <a:lnTo>
                  <a:pt x="504" y="784"/>
                </a:lnTo>
                <a:lnTo>
                  <a:pt x="473" y="781"/>
                </a:lnTo>
                <a:lnTo>
                  <a:pt x="442" y="781"/>
                </a:lnTo>
                <a:lnTo>
                  <a:pt x="411" y="781"/>
                </a:lnTo>
                <a:lnTo>
                  <a:pt x="380" y="778"/>
                </a:lnTo>
                <a:lnTo>
                  <a:pt x="351" y="778"/>
                </a:lnTo>
                <a:lnTo>
                  <a:pt x="323" y="778"/>
                </a:lnTo>
                <a:lnTo>
                  <a:pt x="295" y="778"/>
                </a:lnTo>
                <a:lnTo>
                  <a:pt x="267" y="778"/>
                </a:lnTo>
                <a:lnTo>
                  <a:pt x="241" y="778"/>
                </a:lnTo>
                <a:lnTo>
                  <a:pt x="216" y="778"/>
                </a:lnTo>
                <a:lnTo>
                  <a:pt x="190" y="778"/>
                </a:lnTo>
                <a:lnTo>
                  <a:pt x="167" y="778"/>
                </a:lnTo>
                <a:lnTo>
                  <a:pt x="145" y="778"/>
                </a:lnTo>
                <a:lnTo>
                  <a:pt x="122" y="781"/>
                </a:lnTo>
                <a:lnTo>
                  <a:pt x="102" y="781"/>
                </a:lnTo>
                <a:lnTo>
                  <a:pt x="85" y="784"/>
                </a:lnTo>
                <a:lnTo>
                  <a:pt x="65" y="784"/>
                </a:lnTo>
                <a:lnTo>
                  <a:pt x="51" y="787"/>
                </a:lnTo>
                <a:lnTo>
                  <a:pt x="485" y="457"/>
                </a:lnTo>
                <a:lnTo>
                  <a:pt x="677" y="460"/>
                </a:lnTo>
                <a:lnTo>
                  <a:pt x="700" y="437"/>
                </a:lnTo>
                <a:lnTo>
                  <a:pt x="530" y="437"/>
                </a:lnTo>
                <a:lnTo>
                  <a:pt x="1283" y="139"/>
                </a:lnTo>
                <a:lnTo>
                  <a:pt x="1300" y="102"/>
                </a:lnTo>
                <a:lnTo>
                  <a:pt x="470" y="420"/>
                </a:lnTo>
                <a:lnTo>
                  <a:pt x="459" y="451"/>
                </a:lnTo>
                <a:lnTo>
                  <a:pt x="456" y="451"/>
                </a:lnTo>
                <a:lnTo>
                  <a:pt x="453" y="454"/>
                </a:lnTo>
                <a:lnTo>
                  <a:pt x="445" y="457"/>
                </a:lnTo>
                <a:lnTo>
                  <a:pt x="439" y="466"/>
                </a:lnTo>
                <a:lnTo>
                  <a:pt x="428" y="471"/>
                </a:lnTo>
                <a:lnTo>
                  <a:pt x="417" y="480"/>
                </a:lnTo>
                <a:lnTo>
                  <a:pt x="408" y="483"/>
                </a:lnTo>
                <a:lnTo>
                  <a:pt x="400" y="491"/>
                </a:lnTo>
                <a:lnTo>
                  <a:pt x="394" y="494"/>
                </a:lnTo>
                <a:lnTo>
                  <a:pt x="388" y="503"/>
                </a:lnTo>
                <a:lnTo>
                  <a:pt x="377" y="505"/>
                </a:lnTo>
                <a:lnTo>
                  <a:pt x="368" y="514"/>
                </a:lnTo>
                <a:lnTo>
                  <a:pt x="360" y="517"/>
                </a:lnTo>
                <a:lnTo>
                  <a:pt x="351" y="525"/>
                </a:lnTo>
                <a:lnTo>
                  <a:pt x="340" y="531"/>
                </a:lnTo>
                <a:lnTo>
                  <a:pt x="332" y="537"/>
                </a:lnTo>
                <a:lnTo>
                  <a:pt x="320" y="545"/>
                </a:lnTo>
                <a:lnTo>
                  <a:pt x="312" y="554"/>
                </a:lnTo>
                <a:lnTo>
                  <a:pt x="301" y="559"/>
                </a:lnTo>
                <a:lnTo>
                  <a:pt x="292" y="568"/>
                </a:lnTo>
                <a:lnTo>
                  <a:pt x="281" y="576"/>
                </a:lnTo>
                <a:lnTo>
                  <a:pt x="272" y="582"/>
                </a:lnTo>
                <a:lnTo>
                  <a:pt x="261" y="591"/>
                </a:lnTo>
                <a:lnTo>
                  <a:pt x="250" y="599"/>
                </a:lnTo>
                <a:lnTo>
                  <a:pt x="238" y="605"/>
                </a:lnTo>
                <a:lnTo>
                  <a:pt x="230" y="613"/>
                </a:lnTo>
                <a:lnTo>
                  <a:pt x="218" y="622"/>
                </a:lnTo>
                <a:lnTo>
                  <a:pt x="207" y="630"/>
                </a:lnTo>
                <a:lnTo>
                  <a:pt x="196" y="636"/>
                </a:lnTo>
                <a:lnTo>
                  <a:pt x="184" y="645"/>
                </a:lnTo>
                <a:lnTo>
                  <a:pt x="173" y="653"/>
                </a:lnTo>
                <a:lnTo>
                  <a:pt x="165" y="659"/>
                </a:lnTo>
                <a:lnTo>
                  <a:pt x="153" y="667"/>
                </a:lnTo>
                <a:lnTo>
                  <a:pt x="145" y="676"/>
                </a:lnTo>
                <a:lnTo>
                  <a:pt x="133" y="681"/>
                </a:lnTo>
                <a:lnTo>
                  <a:pt x="122" y="690"/>
                </a:lnTo>
                <a:lnTo>
                  <a:pt x="114" y="696"/>
                </a:lnTo>
                <a:lnTo>
                  <a:pt x="105" y="704"/>
                </a:lnTo>
                <a:lnTo>
                  <a:pt x="94" y="710"/>
                </a:lnTo>
                <a:lnTo>
                  <a:pt x="85" y="716"/>
                </a:lnTo>
                <a:lnTo>
                  <a:pt x="80" y="721"/>
                </a:lnTo>
                <a:lnTo>
                  <a:pt x="71" y="730"/>
                </a:lnTo>
                <a:lnTo>
                  <a:pt x="63" y="735"/>
                </a:lnTo>
                <a:lnTo>
                  <a:pt x="54" y="741"/>
                </a:lnTo>
                <a:lnTo>
                  <a:pt x="48" y="744"/>
                </a:lnTo>
                <a:lnTo>
                  <a:pt x="40" y="752"/>
                </a:lnTo>
                <a:lnTo>
                  <a:pt x="29" y="761"/>
                </a:lnTo>
                <a:lnTo>
                  <a:pt x="20" y="770"/>
                </a:lnTo>
                <a:lnTo>
                  <a:pt x="12" y="775"/>
                </a:lnTo>
                <a:lnTo>
                  <a:pt x="6" y="784"/>
                </a:lnTo>
                <a:lnTo>
                  <a:pt x="0" y="787"/>
                </a:lnTo>
                <a:lnTo>
                  <a:pt x="3" y="789"/>
                </a:lnTo>
                <a:lnTo>
                  <a:pt x="3" y="795"/>
                </a:lnTo>
                <a:lnTo>
                  <a:pt x="6" y="804"/>
                </a:lnTo>
                <a:lnTo>
                  <a:pt x="6" y="812"/>
                </a:lnTo>
                <a:lnTo>
                  <a:pt x="12" y="818"/>
                </a:lnTo>
                <a:lnTo>
                  <a:pt x="14" y="823"/>
                </a:lnTo>
                <a:lnTo>
                  <a:pt x="17" y="829"/>
                </a:lnTo>
                <a:lnTo>
                  <a:pt x="23" y="829"/>
                </a:lnTo>
                <a:lnTo>
                  <a:pt x="31" y="829"/>
                </a:lnTo>
                <a:lnTo>
                  <a:pt x="34" y="826"/>
                </a:lnTo>
                <a:lnTo>
                  <a:pt x="40" y="826"/>
                </a:lnTo>
                <a:lnTo>
                  <a:pt x="48" y="826"/>
                </a:lnTo>
                <a:lnTo>
                  <a:pt x="60" y="826"/>
                </a:lnTo>
                <a:lnTo>
                  <a:pt x="63" y="823"/>
                </a:lnTo>
                <a:lnTo>
                  <a:pt x="71" y="823"/>
                </a:lnTo>
                <a:lnTo>
                  <a:pt x="80" y="823"/>
                </a:lnTo>
                <a:lnTo>
                  <a:pt x="88" y="823"/>
                </a:lnTo>
                <a:lnTo>
                  <a:pt x="94" y="823"/>
                </a:lnTo>
                <a:lnTo>
                  <a:pt x="105" y="823"/>
                </a:lnTo>
                <a:lnTo>
                  <a:pt x="114" y="823"/>
                </a:lnTo>
                <a:lnTo>
                  <a:pt x="125" y="823"/>
                </a:lnTo>
                <a:lnTo>
                  <a:pt x="133" y="821"/>
                </a:lnTo>
                <a:lnTo>
                  <a:pt x="145" y="821"/>
                </a:lnTo>
                <a:lnTo>
                  <a:pt x="156" y="821"/>
                </a:lnTo>
                <a:lnTo>
                  <a:pt x="167" y="821"/>
                </a:lnTo>
                <a:lnTo>
                  <a:pt x="179" y="818"/>
                </a:lnTo>
                <a:lnTo>
                  <a:pt x="190" y="818"/>
                </a:lnTo>
                <a:lnTo>
                  <a:pt x="201" y="818"/>
                </a:lnTo>
                <a:lnTo>
                  <a:pt x="216" y="818"/>
                </a:lnTo>
                <a:lnTo>
                  <a:pt x="227" y="818"/>
                </a:lnTo>
                <a:lnTo>
                  <a:pt x="241" y="818"/>
                </a:lnTo>
                <a:lnTo>
                  <a:pt x="252" y="818"/>
                </a:lnTo>
                <a:lnTo>
                  <a:pt x="269" y="818"/>
                </a:lnTo>
                <a:lnTo>
                  <a:pt x="284" y="818"/>
                </a:lnTo>
                <a:lnTo>
                  <a:pt x="295" y="818"/>
                </a:lnTo>
                <a:lnTo>
                  <a:pt x="309" y="818"/>
                </a:lnTo>
                <a:lnTo>
                  <a:pt x="326" y="818"/>
                </a:lnTo>
                <a:lnTo>
                  <a:pt x="337" y="815"/>
                </a:lnTo>
                <a:lnTo>
                  <a:pt x="351" y="815"/>
                </a:lnTo>
                <a:lnTo>
                  <a:pt x="366" y="815"/>
                </a:lnTo>
                <a:lnTo>
                  <a:pt x="380" y="815"/>
                </a:lnTo>
                <a:lnTo>
                  <a:pt x="394" y="815"/>
                </a:lnTo>
                <a:lnTo>
                  <a:pt x="408" y="815"/>
                </a:lnTo>
                <a:lnTo>
                  <a:pt x="422" y="815"/>
                </a:lnTo>
                <a:lnTo>
                  <a:pt x="436" y="815"/>
                </a:lnTo>
                <a:lnTo>
                  <a:pt x="451" y="815"/>
                </a:lnTo>
                <a:lnTo>
                  <a:pt x="465" y="815"/>
                </a:lnTo>
                <a:lnTo>
                  <a:pt x="479" y="815"/>
                </a:lnTo>
                <a:lnTo>
                  <a:pt x="493" y="815"/>
                </a:lnTo>
                <a:lnTo>
                  <a:pt x="504" y="815"/>
                </a:lnTo>
                <a:lnTo>
                  <a:pt x="519" y="815"/>
                </a:lnTo>
                <a:lnTo>
                  <a:pt x="533" y="815"/>
                </a:lnTo>
                <a:lnTo>
                  <a:pt x="547" y="815"/>
                </a:lnTo>
                <a:lnTo>
                  <a:pt x="558" y="815"/>
                </a:lnTo>
                <a:lnTo>
                  <a:pt x="570" y="815"/>
                </a:lnTo>
                <a:lnTo>
                  <a:pt x="584" y="815"/>
                </a:lnTo>
                <a:lnTo>
                  <a:pt x="595" y="815"/>
                </a:lnTo>
                <a:lnTo>
                  <a:pt x="606" y="815"/>
                </a:lnTo>
                <a:lnTo>
                  <a:pt x="618" y="815"/>
                </a:lnTo>
                <a:lnTo>
                  <a:pt x="629" y="815"/>
                </a:lnTo>
                <a:lnTo>
                  <a:pt x="640" y="815"/>
                </a:lnTo>
                <a:lnTo>
                  <a:pt x="652" y="815"/>
                </a:lnTo>
                <a:lnTo>
                  <a:pt x="660" y="815"/>
                </a:lnTo>
                <a:lnTo>
                  <a:pt x="672" y="815"/>
                </a:lnTo>
                <a:lnTo>
                  <a:pt x="680" y="815"/>
                </a:lnTo>
                <a:lnTo>
                  <a:pt x="689" y="815"/>
                </a:lnTo>
                <a:lnTo>
                  <a:pt x="697" y="818"/>
                </a:lnTo>
                <a:lnTo>
                  <a:pt x="706" y="818"/>
                </a:lnTo>
                <a:lnTo>
                  <a:pt x="714" y="818"/>
                </a:lnTo>
                <a:lnTo>
                  <a:pt x="720" y="818"/>
                </a:lnTo>
                <a:lnTo>
                  <a:pt x="728" y="818"/>
                </a:lnTo>
                <a:lnTo>
                  <a:pt x="734" y="818"/>
                </a:lnTo>
                <a:lnTo>
                  <a:pt x="745" y="818"/>
                </a:lnTo>
                <a:lnTo>
                  <a:pt x="754" y="818"/>
                </a:lnTo>
                <a:lnTo>
                  <a:pt x="765" y="821"/>
                </a:lnTo>
                <a:lnTo>
                  <a:pt x="776" y="821"/>
                </a:lnTo>
                <a:lnTo>
                  <a:pt x="790" y="823"/>
                </a:lnTo>
                <a:lnTo>
                  <a:pt x="802" y="823"/>
                </a:lnTo>
                <a:lnTo>
                  <a:pt x="813" y="823"/>
                </a:lnTo>
                <a:lnTo>
                  <a:pt x="830" y="823"/>
                </a:lnTo>
                <a:lnTo>
                  <a:pt x="844" y="826"/>
                </a:lnTo>
                <a:lnTo>
                  <a:pt x="858" y="826"/>
                </a:lnTo>
                <a:lnTo>
                  <a:pt x="873" y="826"/>
                </a:lnTo>
                <a:lnTo>
                  <a:pt x="890" y="826"/>
                </a:lnTo>
                <a:lnTo>
                  <a:pt x="907" y="829"/>
                </a:lnTo>
                <a:lnTo>
                  <a:pt x="921" y="829"/>
                </a:lnTo>
                <a:lnTo>
                  <a:pt x="941" y="832"/>
                </a:lnTo>
                <a:lnTo>
                  <a:pt x="955" y="832"/>
                </a:lnTo>
                <a:lnTo>
                  <a:pt x="975" y="835"/>
                </a:lnTo>
                <a:lnTo>
                  <a:pt x="992" y="835"/>
                </a:lnTo>
                <a:lnTo>
                  <a:pt x="1011" y="835"/>
                </a:lnTo>
                <a:lnTo>
                  <a:pt x="1028" y="838"/>
                </a:lnTo>
                <a:lnTo>
                  <a:pt x="1048" y="838"/>
                </a:lnTo>
                <a:lnTo>
                  <a:pt x="1065" y="841"/>
                </a:lnTo>
                <a:lnTo>
                  <a:pt x="1085" y="841"/>
                </a:lnTo>
                <a:lnTo>
                  <a:pt x="1105" y="843"/>
                </a:lnTo>
                <a:lnTo>
                  <a:pt x="1125" y="846"/>
                </a:lnTo>
                <a:lnTo>
                  <a:pt x="1142" y="846"/>
                </a:lnTo>
                <a:lnTo>
                  <a:pt x="1162" y="849"/>
                </a:lnTo>
                <a:lnTo>
                  <a:pt x="1181" y="849"/>
                </a:lnTo>
                <a:lnTo>
                  <a:pt x="1201" y="852"/>
                </a:lnTo>
                <a:lnTo>
                  <a:pt x="1221" y="852"/>
                </a:lnTo>
                <a:lnTo>
                  <a:pt x="1238" y="855"/>
                </a:lnTo>
                <a:lnTo>
                  <a:pt x="1258" y="858"/>
                </a:lnTo>
                <a:lnTo>
                  <a:pt x="1278" y="860"/>
                </a:lnTo>
                <a:lnTo>
                  <a:pt x="1295" y="860"/>
                </a:lnTo>
                <a:lnTo>
                  <a:pt x="1312" y="860"/>
                </a:lnTo>
                <a:lnTo>
                  <a:pt x="1331" y="863"/>
                </a:lnTo>
                <a:lnTo>
                  <a:pt x="1351" y="866"/>
                </a:lnTo>
                <a:lnTo>
                  <a:pt x="1365" y="866"/>
                </a:lnTo>
                <a:lnTo>
                  <a:pt x="1385" y="869"/>
                </a:lnTo>
                <a:lnTo>
                  <a:pt x="1402" y="872"/>
                </a:lnTo>
                <a:lnTo>
                  <a:pt x="1419" y="872"/>
                </a:lnTo>
                <a:lnTo>
                  <a:pt x="1436" y="875"/>
                </a:lnTo>
                <a:lnTo>
                  <a:pt x="1450" y="877"/>
                </a:lnTo>
                <a:lnTo>
                  <a:pt x="1467" y="877"/>
                </a:lnTo>
                <a:lnTo>
                  <a:pt x="1482" y="880"/>
                </a:lnTo>
                <a:lnTo>
                  <a:pt x="1496" y="880"/>
                </a:lnTo>
                <a:lnTo>
                  <a:pt x="1510" y="883"/>
                </a:lnTo>
                <a:lnTo>
                  <a:pt x="1521" y="886"/>
                </a:lnTo>
                <a:lnTo>
                  <a:pt x="1535" y="889"/>
                </a:lnTo>
                <a:lnTo>
                  <a:pt x="1547" y="889"/>
                </a:lnTo>
                <a:lnTo>
                  <a:pt x="1561" y="892"/>
                </a:lnTo>
                <a:lnTo>
                  <a:pt x="1572" y="892"/>
                </a:lnTo>
                <a:lnTo>
                  <a:pt x="1584" y="894"/>
                </a:lnTo>
                <a:lnTo>
                  <a:pt x="1592" y="897"/>
                </a:lnTo>
                <a:lnTo>
                  <a:pt x="1600" y="900"/>
                </a:lnTo>
                <a:lnTo>
                  <a:pt x="1606" y="900"/>
                </a:lnTo>
                <a:lnTo>
                  <a:pt x="1615" y="903"/>
                </a:lnTo>
                <a:lnTo>
                  <a:pt x="1620" y="903"/>
                </a:lnTo>
                <a:lnTo>
                  <a:pt x="1629" y="906"/>
                </a:lnTo>
                <a:lnTo>
                  <a:pt x="1632" y="909"/>
                </a:lnTo>
                <a:lnTo>
                  <a:pt x="1637" y="912"/>
                </a:lnTo>
                <a:lnTo>
                  <a:pt x="1637" y="909"/>
                </a:lnTo>
                <a:lnTo>
                  <a:pt x="1643" y="903"/>
                </a:lnTo>
                <a:lnTo>
                  <a:pt x="1649" y="897"/>
                </a:lnTo>
                <a:lnTo>
                  <a:pt x="1660" y="892"/>
                </a:lnTo>
                <a:lnTo>
                  <a:pt x="1666" y="883"/>
                </a:lnTo>
                <a:lnTo>
                  <a:pt x="1671" y="877"/>
                </a:lnTo>
                <a:lnTo>
                  <a:pt x="1680" y="872"/>
                </a:lnTo>
                <a:lnTo>
                  <a:pt x="1685" y="863"/>
                </a:lnTo>
                <a:lnTo>
                  <a:pt x="1694" y="855"/>
                </a:lnTo>
                <a:lnTo>
                  <a:pt x="1702" y="849"/>
                </a:lnTo>
                <a:lnTo>
                  <a:pt x="1711" y="838"/>
                </a:lnTo>
                <a:lnTo>
                  <a:pt x="1722" y="829"/>
                </a:lnTo>
                <a:lnTo>
                  <a:pt x="1725" y="821"/>
                </a:lnTo>
                <a:lnTo>
                  <a:pt x="1734" y="815"/>
                </a:lnTo>
                <a:lnTo>
                  <a:pt x="1739" y="806"/>
                </a:lnTo>
                <a:lnTo>
                  <a:pt x="1751" y="798"/>
                </a:lnTo>
                <a:lnTo>
                  <a:pt x="1762" y="787"/>
                </a:lnTo>
                <a:lnTo>
                  <a:pt x="1773" y="778"/>
                </a:lnTo>
                <a:lnTo>
                  <a:pt x="1779" y="772"/>
                </a:lnTo>
                <a:lnTo>
                  <a:pt x="1785" y="767"/>
                </a:lnTo>
                <a:lnTo>
                  <a:pt x="1793" y="761"/>
                </a:lnTo>
                <a:lnTo>
                  <a:pt x="1799" y="755"/>
                </a:lnTo>
                <a:lnTo>
                  <a:pt x="1807" y="747"/>
                </a:lnTo>
                <a:lnTo>
                  <a:pt x="1813" y="741"/>
                </a:lnTo>
                <a:lnTo>
                  <a:pt x="1819" y="735"/>
                </a:lnTo>
                <a:lnTo>
                  <a:pt x="1827" y="730"/>
                </a:lnTo>
                <a:lnTo>
                  <a:pt x="1836" y="721"/>
                </a:lnTo>
                <a:lnTo>
                  <a:pt x="1841" y="716"/>
                </a:lnTo>
                <a:lnTo>
                  <a:pt x="1850" y="710"/>
                </a:lnTo>
                <a:lnTo>
                  <a:pt x="1858" y="701"/>
                </a:lnTo>
                <a:lnTo>
                  <a:pt x="1867" y="696"/>
                </a:lnTo>
                <a:lnTo>
                  <a:pt x="1872" y="687"/>
                </a:lnTo>
                <a:lnTo>
                  <a:pt x="1884" y="679"/>
                </a:lnTo>
                <a:lnTo>
                  <a:pt x="1892" y="673"/>
                </a:lnTo>
                <a:lnTo>
                  <a:pt x="1898" y="667"/>
                </a:lnTo>
                <a:lnTo>
                  <a:pt x="1906" y="659"/>
                </a:lnTo>
                <a:lnTo>
                  <a:pt x="1915" y="653"/>
                </a:lnTo>
                <a:lnTo>
                  <a:pt x="1926" y="645"/>
                </a:lnTo>
                <a:lnTo>
                  <a:pt x="1932" y="639"/>
                </a:lnTo>
                <a:lnTo>
                  <a:pt x="1940" y="630"/>
                </a:lnTo>
                <a:lnTo>
                  <a:pt x="1946" y="625"/>
                </a:lnTo>
                <a:lnTo>
                  <a:pt x="1957" y="616"/>
                </a:lnTo>
                <a:lnTo>
                  <a:pt x="1963" y="610"/>
                </a:lnTo>
                <a:lnTo>
                  <a:pt x="1972" y="602"/>
                </a:lnTo>
                <a:lnTo>
                  <a:pt x="1977" y="596"/>
                </a:lnTo>
                <a:lnTo>
                  <a:pt x="1986" y="591"/>
                </a:lnTo>
                <a:lnTo>
                  <a:pt x="1991" y="582"/>
                </a:lnTo>
                <a:lnTo>
                  <a:pt x="2000" y="579"/>
                </a:lnTo>
                <a:lnTo>
                  <a:pt x="2008" y="571"/>
                </a:lnTo>
                <a:lnTo>
                  <a:pt x="2014" y="565"/>
                </a:lnTo>
                <a:lnTo>
                  <a:pt x="2028" y="554"/>
                </a:lnTo>
                <a:lnTo>
                  <a:pt x="2039" y="545"/>
                </a:lnTo>
                <a:lnTo>
                  <a:pt x="2051" y="534"/>
                </a:lnTo>
                <a:lnTo>
                  <a:pt x="2059" y="525"/>
                </a:lnTo>
                <a:lnTo>
                  <a:pt x="2068" y="520"/>
                </a:lnTo>
                <a:lnTo>
                  <a:pt x="2076" y="514"/>
                </a:lnTo>
                <a:lnTo>
                  <a:pt x="2088" y="505"/>
                </a:lnTo>
                <a:lnTo>
                  <a:pt x="2093" y="503"/>
                </a:lnTo>
                <a:lnTo>
                  <a:pt x="2090" y="505"/>
                </a:lnTo>
                <a:lnTo>
                  <a:pt x="2090" y="514"/>
                </a:lnTo>
                <a:lnTo>
                  <a:pt x="2090" y="520"/>
                </a:lnTo>
                <a:lnTo>
                  <a:pt x="2090" y="528"/>
                </a:lnTo>
                <a:lnTo>
                  <a:pt x="2088" y="537"/>
                </a:lnTo>
                <a:lnTo>
                  <a:pt x="2088" y="548"/>
                </a:lnTo>
                <a:lnTo>
                  <a:pt x="2088" y="559"/>
                </a:lnTo>
                <a:lnTo>
                  <a:pt x="2085" y="571"/>
                </a:lnTo>
                <a:lnTo>
                  <a:pt x="2085" y="585"/>
                </a:lnTo>
                <a:lnTo>
                  <a:pt x="2082" y="602"/>
                </a:lnTo>
                <a:lnTo>
                  <a:pt x="2082" y="616"/>
                </a:lnTo>
                <a:lnTo>
                  <a:pt x="2082" y="636"/>
                </a:lnTo>
                <a:lnTo>
                  <a:pt x="2079" y="653"/>
                </a:lnTo>
                <a:lnTo>
                  <a:pt x="2079" y="673"/>
                </a:lnTo>
                <a:lnTo>
                  <a:pt x="2076" y="690"/>
                </a:lnTo>
                <a:lnTo>
                  <a:pt x="2076" y="713"/>
                </a:lnTo>
                <a:lnTo>
                  <a:pt x="2073" y="733"/>
                </a:lnTo>
                <a:lnTo>
                  <a:pt x="2073" y="755"/>
                </a:lnTo>
                <a:lnTo>
                  <a:pt x="2071" y="778"/>
                </a:lnTo>
                <a:lnTo>
                  <a:pt x="2071" y="804"/>
                </a:lnTo>
                <a:lnTo>
                  <a:pt x="2068" y="826"/>
                </a:lnTo>
                <a:lnTo>
                  <a:pt x="2068" y="852"/>
                </a:lnTo>
                <a:lnTo>
                  <a:pt x="2065" y="877"/>
                </a:lnTo>
                <a:lnTo>
                  <a:pt x="2065" y="903"/>
                </a:lnTo>
                <a:lnTo>
                  <a:pt x="2062" y="929"/>
                </a:lnTo>
                <a:lnTo>
                  <a:pt x="2062" y="957"/>
                </a:lnTo>
                <a:lnTo>
                  <a:pt x="2059" y="983"/>
                </a:lnTo>
                <a:lnTo>
                  <a:pt x="2059" y="1011"/>
                </a:lnTo>
                <a:lnTo>
                  <a:pt x="2056" y="1039"/>
                </a:lnTo>
                <a:lnTo>
                  <a:pt x="2056" y="1068"/>
                </a:lnTo>
                <a:lnTo>
                  <a:pt x="2054" y="1096"/>
                </a:lnTo>
                <a:lnTo>
                  <a:pt x="2054" y="1125"/>
                </a:lnTo>
                <a:lnTo>
                  <a:pt x="2051" y="1150"/>
                </a:lnTo>
                <a:lnTo>
                  <a:pt x="2051" y="1181"/>
                </a:lnTo>
                <a:lnTo>
                  <a:pt x="2048" y="1207"/>
                </a:lnTo>
                <a:lnTo>
                  <a:pt x="2048" y="1235"/>
                </a:lnTo>
                <a:lnTo>
                  <a:pt x="2045" y="1267"/>
                </a:lnTo>
                <a:lnTo>
                  <a:pt x="2045" y="1295"/>
                </a:lnTo>
                <a:lnTo>
                  <a:pt x="2042" y="1320"/>
                </a:lnTo>
                <a:lnTo>
                  <a:pt x="2042" y="1349"/>
                </a:lnTo>
                <a:lnTo>
                  <a:pt x="2042" y="1377"/>
                </a:lnTo>
                <a:lnTo>
                  <a:pt x="2042" y="1406"/>
                </a:lnTo>
                <a:lnTo>
                  <a:pt x="2039" y="1431"/>
                </a:lnTo>
                <a:lnTo>
                  <a:pt x="2039" y="1460"/>
                </a:lnTo>
                <a:lnTo>
                  <a:pt x="2039" y="1485"/>
                </a:lnTo>
                <a:lnTo>
                  <a:pt x="2039" y="1514"/>
                </a:lnTo>
                <a:lnTo>
                  <a:pt x="2037" y="1536"/>
                </a:lnTo>
                <a:lnTo>
                  <a:pt x="2037" y="1562"/>
                </a:lnTo>
                <a:lnTo>
                  <a:pt x="2037" y="1587"/>
                </a:lnTo>
                <a:lnTo>
                  <a:pt x="2037" y="1610"/>
                </a:lnTo>
                <a:lnTo>
                  <a:pt x="2037" y="1633"/>
                </a:lnTo>
                <a:lnTo>
                  <a:pt x="2037" y="1656"/>
                </a:lnTo>
                <a:lnTo>
                  <a:pt x="2037" y="1678"/>
                </a:lnTo>
                <a:lnTo>
                  <a:pt x="2037" y="1701"/>
                </a:lnTo>
                <a:lnTo>
                  <a:pt x="2037" y="1718"/>
                </a:lnTo>
                <a:lnTo>
                  <a:pt x="2037" y="1741"/>
                </a:lnTo>
                <a:lnTo>
                  <a:pt x="2037" y="1758"/>
                </a:lnTo>
                <a:lnTo>
                  <a:pt x="2039" y="1775"/>
                </a:lnTo>
                <a:lnTo>
                  <a:pt x="2039" y="1792"/>
                </a:lnTo>
                <a:lnTo>
                  <a:pt x="2039" y="1806"/>
                </a:lnTo>
                <a:lnTo>
                  <a:pt x="2042" y="1820"/>
                </a:lnTo>
                <a:lnTo>
                  <a:pt x="2042" y="1834"/>
                </a:lnTo>
                <a:lnTo>
                  <a:pt x="2042" y="1846"/>
                </a:lnTo>
                <a:lnTo>
                  <a:pt x="2045" y="1857"/>
                </a:lnTo>
                <a:lnTo>
                  <a:pt x="2045" y="1869"/>
                </a:lnTo>
                <a:lnTo>
                  <a:pt x="2045" y="1880"/>
                </a:lnTo>
                <a:lnTo>
                  <a:pt x="2045" y="1891"/>
                </a:lnTo>
                <a:lnTo>
                  <a:pt x="2048" y="1903"/>
                </a:lnTo>
                <a:lnTo>
                  <a:pt x="2048" y="1911"/>
                </a:lnTo>
                <a:lnTo>
                  <a:pt x="2051" y="1923"/>
                </a:lnTo>
                <a:lnTo>
                  <a:pt x="2051" y="1934"/>
                </a:lnTo>
                <a:lnTo>
                  <a:pt x="2051" y="1942"/>
                </a:lnTo>
                <a:lnTo>
                  <a:pt x="2051" y="1951"/>
                </a:lnTo>
                <a:lnTo>
                  <a:pt x="2051" y="1959"/>
                </a:lnTo>
                <a:lnTo>
                  <a:pt x="2051" y="1965"/>
                </a:lnTo>
                <a:lnTo>
                  <a:pt x="2051" y="1976"/>
                </a:lnTo>
                <a:lnTo>
                  <a:pt x="2051" y="1982"/>
                </a:lnTo>
                <a:lnTo>
                  <a:pt x="2054" y="1991"/>
                </a:lnTo>
                <a:lnTo>
                  <a:pt x="2054" y="1999"/>
                </a:lnTo>
                <a:lnTo>
                  <a:pt x="2054" y="2005"/>
                </a:lnTo>
                <a:lnTo>
                  <a:pt x="2054" y="2011"/>
                </a:lnTo>
                <a:lnTo>
                  <a:pt x="2054" y="2019"/>
                </a:lnTo>
                <a:lnTo>
                  <a:pt x="2054" y="2030"/>
                </a:lnTo>
                <a:lnTo>
                  <a:pt x="2054" y="2042"/>
                </a:lnTo>
                <a:lnTo>
                  <a:pt x="2054" y="2050"/>
                </a:lnTo>
                <a:lnTo>
                  <a:pt x="2054" y="2062"/>
                </a:lnTo>
                <a:lnTo>
                  <a:pt x="2054" y="2067"/>
                </a:lnTo>
                <a:lnTo>
                  <a:pt x="2056" y="2076"/>
                </a:lnTo>
                <a:lnTo>
                  <a:pt x="2054" y="2087"/>
                </a:lnTo>
                <a:lnTo>
                  <a:pt x="2054" y="2099"/>
                </a:lnTo>
                <a:lnTo>
                  <a:pt x="2054" y="2104"/>
                </a:lnTo>
                <a:lnTo>
                  <a:pt x="2054" y="2113"/>
                </a:lnTo>
                <a:lnTo>
                  <a:pt x="2054" y="2116"/>
                </a:lnTo>
                <a:lnTo>
                  <a:pt x="2054" y="2118"/>
                </a:lnTo>
                <a:lnTo>
                  <a:pt x="2056" y="2118"/>
                </a:lnTo>
                <a:lnTo>
                  <a:pt x="2062" y="2121"/>
                </a:lnTo>
                <a:lnTo>
                  <a:pt x="2073" y="2124"/>
                </a:lnTo>
                <a:lnTo>
                  <a:pt x="2085" y="2127"/>
                </a:lnTo>
                <a:lnTo>
                  <a:pt x="2093" y="2127"/>
                </a:lnTo>
                <a:lnTo>
                  <a:pt x="2105" y="2127"/>
                </a:lnTo>
                <a:lnTo>
                  <a:pt x="2107" y="2124"/>
                </a:lnTo>
                <a:lnTo>
                  <a:pt x="2107" y="2118"/>
                </a:lnTo>
                <a:lnTo>
                  <a:pt x="2105" y="2113"/>
                </a:lnTo>
                <a:lnTo>
                  <a:pt x="2105" y="2104"/>
                </a:lnTo>
                <a:lnTo>
                  <a:pt x="2105" y="2093"/>
                </a:lnTo>
                <a:lnTo>
                  <a:pt x="2105" y="2087"/>
                </a:lnTo>
                <a:lnTo>
                  <a:pt x="2102" y="2076"/>
                </a:lnTo>
                <a:lnTo>
                  <a:pt x="2102" y="2067"/>
                </a:lnTo>
                <a:lnTo>
                  <a:pt x="2099" y="2053"/>
                </a:lnTo>
                <a:lnTo>
                  <a:pt x="2099" y="2042"/>
                </a:lnTo>
                <a:lnTo>
                  <a:pt x="2096" y="2025"/>
                </a:lnTo>
                <a:lnTo>
                  <a:pt x="2096" y="2011"/>
                </a:lnTo>
                <a:lnTo>
                  <a:pt x="2096" y="1996"/>
                </a:lnTo>
                <a:lnTo>
                  <a:pt x="2093" y="1976"/>
                </a:lnTo>
                <a:lnTo>
                  <a:pt x="2093" y="1959"/>
                </a:lnTo>
                <a:lnTo>
                  <a:pt x="2093" y="1942"/>
                </a:lnTo>
                <a:lnTo>
                  <a:pt x="2090" y="1920"/>
                </a:lnTo>
                <a:lnTo>
                  <a:pt x="2090" y="1900"/>
                </a:lnTo>
                <a:lnTo>
                  <a:pt x="2088" y="1877"/>
                </a:lnTo>
                <a:lnTo>
                  <a:pt x="2088" y="1854"/>
                </a:lnTo>
                <a:lnTo>
                  <a:pt x="2088" y="1832"/>
                </a:lnTo>
                <a:lnTo>
                  <a:pt x="2085" y="1806"/>
                </a:lnTo>
                <a:lnTo>
                  <a:pt x="2085" y="1783"/>
                </a:lnTo>
                <a:lnTo>
                  <a:pt x="2085" y="1758"/>
                </a:lnTo>
                <a:lnTo>
                  <a:pt x="2082" y="1729"/>
                </a:lnTo>
                <a:lnTo>
                  <a:pt x="2082" y="1704"/>
                </a:lnTo>
                <a:lnTo>
                  <a:pt x="2082" y="1675"/>
                </a:lnTo>
                <a:lnTo>
                  <a:pt x="2082" y="1647"/>
                </a:lnTo>
                <a:lnTo>
                  <a:pt x="2079" y="1619"/>
                </a:lnTo>
                <a:lnTo>
                  <a:pt x="2079" y="1590"/>
                </a:lnTo>
                <a:lnTo>
                  <a:pt x="2079" y="1562"/>
                </a:lnTo>
                <a:lnTo>
                  <a:pt x="2079" y="1533"/>
                </a:lnTo>
                <a:lnTo>
                  <a:pt x="2079" y="1502"/>
                </a:lnTo>
                <a:lnTo>
                  <a:pt x="2079" y="1471"/>
                </a:lnTo>
                <a:lnTo>
                  <a:pt x="2076" y="1440"/>
                </a:lnTo>
                <a:lnTo>
                  <a:pt x="2076" y="1409"/>
                </a:lnTo>
                <a:lnTo>
                  <a:pt x="2076" y="1374"/>
                </a:lnTo>
                <a:lnTo>
                  <a:pt x="2076" y="1343"/>
                </a:lnTo>
                <a:lnTo>
                  <a:pt x="2076" y="1312"/>
                </a:lnTo>
                <a:lnTo>
                  <a:pt x="2079" y="1281"/>
                </a:lnTo>
                <a:lnTo>
                  <a:pt x="2079" y="1247"/>
                </a:lnTo>
                <a:lnTo>
                  <a:pt x="2079" y="1215"/>
                </a:lnTo>
                <a:lnTo>
                  <a:pt x="2079" y="1181"/>
                </a:lnTo>
                <a:lnTo>
                  <a:pt x="2082" y="1150"/>
                </a:lnTo>
                <a:lnTo>
                  <a:pt x="2082" y="1116"/>
                </a:lnTo>
                <a:lnTo>
                  <a:pt x="2082" y="1085"/>
                </a:lnTo>
                <a:lnTo>
                  <a:pt x="2085" y="1051"/>
                </a:lnTo>
                <a:lnTo>
                  <a:pt x="2088" y="1019"/>
                </a:lnTo>
                <a:lnTo>
                  <a:pt x="2088" y="985"/>
                </a:lnTo>
                <a:lnTo>
                  <a:pt x="2090" y="954"/>
                </a:lnTo>
                <a:lnTo>
                  <a:pt x="2090" y="920"/>
                </a:lnTo>
                <a:lnTo>
                  <a:pt x="2093" y="889"/>
                </a:lnTo>
                <a:lnTo>
                  <a:pt x="2096" y="858"/>
                </a:lnTo>
                <a:lnTo>
                  <a:pt x="2099" y="826"/>
                </a:lnTo>
                <a:lnTo>
                  <a:pt x="2102" y="795"/>
                </a:lnTo>
                <a:lnTo>
                  <a:pt x="2105" y="764"/>
                </a:lnTo>
                <a:lnTo>
                  <a:pt x="2107" y="733"/>
                </a:lnTo>
                <a:lnTo>
                  <a:pt x="2113" y="701"/>
                </a:lnTo>
                <a:lnTo>
                  <a:pt x="2116" y="673"/>
                </a:lnTo>
                <a:lnTo>
                  <a:pt x="2122" y="645"/>
                </a:lnTo>
                <a:lnTo>
                  <a:pt x="2124" y="613"/>
                </a:lnTo>
                <a:lnTo>
                  <a:pt x="2130" y="588"/>
                </a:lnTo>
                <a:lnTo>
                  <a:pt x="2136" y="559"/>
                </a:lnTo>
                <a:lnTo>
                  <a:pt x="2141" y="534"/>
                </a:lnTo>
                <a:lnTo>
                  <a:pt x="2150" y="534"/>
                </a:lnTo>
                <a:lnTo>
                  <a:pt x="2153" y="534"/>
                </a:lnTo>
                <a:lnTo>
                  <a:pt x="2161" y="537"/>
                </a:lnTo>
                <a:lnTo>
                  <a:pt x="2167" y="537"/>
                </a:lnTo>
                <a:lnTo>
                  <a:pt x="2178" y="539"/>
                </a:lnTo>
                <a:lnTo>
                  <a:pt x="2184" y="539"/>
                </a:lnTo>
                <a:lnTo>
                  <a:pt x="2192" y="542"/>
                </a:lnTo>
                <a:lnTo>
                  <a:pt x="2204" y="545"/>
                </a:lnTo>
                <a:lnTo>
                  <a:pt x="2215" y="548"/>
                </a:lnTo>
                <a:lnTo>
                  <a:pt x="2226" y="551"/>
                </a:lnTo>
                <a:lnTo>
                  <a:pt x="2238" y="554"/>
                </a:lnTo>
                <a:lnTo>
                  <a:pt x="2249" y="557"/>
                </a:lnTo>
                <a:lnTo>
                  <a:pt x="2263" y="559"/>
                </a:lnTo>
                <a:lnTo>
                  <a:pt x="2275" y="562"/>
                </a:lnTo>
                <a:lnTo>
                  <a:pt x="2286" y="565"/>
                </a:lnTo>
                <a:lnTo>
                  <a:pt x="2297" y="568"/>
                </a:lnTo>
                <a:lnTo>
                  <a:pt x="2311" y="571"/>
                </a:lnTo>
                <a:lnTo>
                  <a:pt x="2323" y="574"/>
                </a:lnTo>
                <a:lnTo>
                  <a:pt x="2334" y="576"/>
                </a:lnTo>
                <a:lnTo>
                  <a:pt x="2348" y="579"/>
                </a:lnTo>
                <a:lnTo>
                  <a:pt x="2360" y="585"/>
                </a:lnTo>
                <a:lnTo>
                  <a:pt x="2371" y="588"/>
                </a:lnTo>
                <a:lnTo>
                  <a:pt x="2382" y="591"/>
                </a:lnTo>
                <a:lnTo>
                  <a:pt x="2391" y="593"/>
                </a:lnTo>
                <a:lnTo>
                  <a:pt x="2402" y="596"/>
                </a:lnTo>
                <a:lnTo>
                  <a:pt x="2411" y="599"/>
                </a:lnTo>
                <a:lnTo>
                  <a:pt x="2419" y="602"/>
                </a:lnTo>
                <a:lnTo>
                  <a:pt x="2425" y="608"/>
                </a:lnTo>
                <a:lnTo>
                  <a:pt x="2433" y="610"/>
                </a:lnTo>
                <a:lnTo>
                  <a:pt x="2439" y="613"/>
                </a:lnTo>
                <a:lnTo>
                  <a:pt x="2444" y="616"/>
                </a:lnTo>
                <a:lnTo>
                  <a:pt x="2453" y="622"/>
                </a:lnTo>
                <a:lnTo>
                  <a:pt x="2461" y="625"/>
                </a:lnTo>
                <a:lnTo>
                  <a:pt x="2467" y="630"/>
                </a:lnTo>
                <a:lnTo>
                  <a:pt x="2476" y="636"/>
                </a:lnTo>
                <a:lnTo>
                  <a:pt x="2487" y="642"/>
                </a:lnTo>
                <a:lnTo>
                  <a:pt x="2495" y="647"/>
                </a:lnTo>
                <a:lnTo>
                  <a:pt x="2504" y="653"/>
                </a:lnTo>
                <a:lnTo>
                  <a:pt x="2515" y="659"/>
                </a:lnTo>
                <a:lnTo>
                  <a:pt x="2524" y="667"/>
                </a:lnTo>
                <a:lnTo>
                  <a:pt x="2532" y="673"/>
                </a:lnTo>
                <a:lnTo>
                  <a:pt x="2541" y="679"/>
                </a:lnTo>
                <a:lnTo>
                  <a:pt x="2552" y="687"/>
                </a:lnTo>
                <a:lnTo>
                  <a:pt x="2561" y="693"/>
                </a:lnTo>
                <a:lnTo>
                  <a:pt x="2572" y="701"/>
                </a:lnTo>
                <a:lnTo>
                  <a:pt x="2580" y="707"/>
                </a:lnTo>
                <a:lnTo>
                  <a:pt x="2589" y="713"/>
                </a:lnTo>
                <a:lnTo>
                  <a:pt x="2597" y="718"/>
                </a:lnTo>
                <a:lnTo>
                  <a:pt x="2609" y="724"/>
                </a:lnTo>
                <a:lnTo>
                  <a:pt x="2617" y="730"/>
                </a:lnTo>
                <a:lnTo>
                  <a:pt x="2626" y="735"/>
                </a:lnTo>
                <a:lnTo>
                  <a:pt x="2634" y="741"/>
                </a:lnTo>
                <a:lnTo>
                  <a:pt x="2643" y="744"/>
                </a:lnTo>
                <a:lnTo>
                  <a:pt x="2648" y="747"/>
                </a:lnTo>
                <a:lnTo>
                  <a:pt x="2654" y="752"/>
                </a:lnTo>
                <a:lnTo>
                  <a:pt x="2663" y="752"/>
                </a:lnTo>
                <a:lnTo>
                  <a:pt x="2668" y="758"/>
                </a:lnTo>
                <a:lnTo>
                  <a:pt x="2680" y="761"/>
                </a:lnTo>
                <a:lnTo>
                  <a:pt x="2688" y="761"/>
                </a:lnTo>
                <a:lnTo>
                  <a:pt x="2691" y="758"/>
                </a:lnTo>
                <a:lnTo>
                  <a:pt x="2697" y="755"/>
                </a:lnTo>
                <a:lnTo>
                  <a:pt x="2702" y="750"/>
                </a:lnTo>
                <a:lnTo>
                  <a:pt x="2711" y="747"/>
                </a:lnTo>
                <a:lnTo>
                  <a:pt x="2719" y="741"/>
                </a:lnTo>
                <a:lnTo>
                  <a:pt x="2731" y="735"/>
                </a:lnTo>
                <a:lnTo>
                  <a:pt x="2739" y="727"/>
                </a:lnTo>
                <a:lnTo>
                  <a:pt x="2750" y="721"/>
                </a:lnTo>
                <a:lnTo>
                  <a:pt x="2762" y="713"/>
                </a:lnTo>
                <a:lnTo>
                  <a:pt x="2776" y="704"/>
                </a:lnTo>
                <a:lnTo>
                  <a:pt x="2784" y="699"/>
                </a:lnTo>
                <a:lnTo>
                  <a:pt x="2790" y="696"/>
                </a:lnTo>
                <a:lnTo>
                  <a:pt x="2799" y="690"/>
                </a:lnTo>
                <a:lnTo>
                  <a:pt x="2804" y="687"/>
                </a:lnTo>
                <a:lnTo>
                  <a:pt x="2813" y="681"/>
                </a:lnTo>
                <a:lnTo>
                  <a:pt x="2818" y="676"/>
                </a:lnTo>
                <a:lnTo>
                  <a:pt x="2827" y="670"/>
                </a:lnTo>
                <a:lnTo>
                  <a:pt x="2835" y="667"/>
                </a:lnTo>
                <a:lnTo>
                  <a:pt x="2841" y="662"/>
                </a:lnTo>
                <a:lnTo>
                  <a:pt x="2849" y="656"/>
                </a:lnTo>
                <a:lnTo>
                  <a:pt x="2858" y="653"/>
                </a:lnTo>
                <a:lnTo>
                  <a:pt x="2866" y="647"/>
                </a:lnTo>
                <a:lnTo>
                  <a:pt x="2875" y="642"/>
                </a:lnTo>
                <a:lnTo>
                  <a:pt x="2881" y="636"/>
                </a:lnTo>
                <a:lnTo>
                  <a:pt x="2889" y="633"/>
                </a:lnTo>
                <a:lnTo>
                  <a:pt x="2898" y="628"/>
                </a:lnTo>
                <a:lnTo>
                  <a:pt x="2903" y="622"/>
                </a:lnTo>
                <a:lnTo>
                  <a:pt x="2912" y="616"/>
                </a:lnTo>
                <a:lnTo>
                  <a:pt x="2920" y="610"/>
                </a:lnTo>
                <a:lnTo>
                  <a:pt x="2929" y="608"/>
                </a:lnTo>
                <a:lnTo>
                  <a:pt x="2937" y="602"/>
                </a:lnTo>
                <a:lnTo>
                  <a:pt x="2943" y="596"/>
                </a:lnTo>
                <a:lnTo>
                  <a:pt x="2951" y="591"/>
                </a:lnTo>
                <a:lnTo>
                  <a:pt x="2960" y="588"/>
                </a:lnTo>
                <a:lnTo>
                  <a:pt x="2966" y="582"/>
                </a:lnTo>
                <a:lnTo>
                  <a:pt x="2974" y="579"/>
                </a:lnTo>
                <a:lnTo>
                  <a:pt x="2983" y="574"/>
                </a:lnTo>
                <a:lnTo>
                  <a:pt x="2988" y="571"/>
                </a:lnTo>
                <a:lnTo>
                  <a:pt x="3002" y="562"/>
                </a:lnTo>
                <a:lnTo>
                  <a:pt x="3017" y="554"/>
                </a:lnTo>
                <a:lnTo>
                  <a:pt x="3028" y="548"/>
                </a:lnTo>
                <a:lnTo>
                  <a:pt x="3042" y="539"/>
                </a:lnTo>
                <a:lnTo>
                  <a:pt x="3051" y="534"/>
                </a:lnTo>
                <a:lnTo>
                  <a:pt x="3062" y="528"/>
                </a:lnTo>
                <a:lnTo>
                  <a:pt x="3070" y="525"/>
                </a:lnTo>
                <a:lnTo>
                  <a:pt x="3082" y="522"/>
                </a:lnTo>
                <a:lnTo>
                  <a:pt x="3090" y="520"/>
                </a:lnTo>
                <a:lnTo>
                  <a:pt x="3099" y="514"/>
                </a:lnTo>
                <a:lnTo>
                  <a:pt x="3110" y="508"/>
                </a:lnTo>
                <a:lnTo>
                  <a:pt x="3124" y="505"/>
                </a:lnTo>
                <a:lnTo>
                  <a:pt x="3130" y="500"/>
                </a:lnTo>
                <a:lnTo>
                  <a:pt x="3136" y="497"/>
                </a:lnTo>
                <a:lnTo>
                  <a:pt x="3144" y="494"/>
                </a:lnTo>
                <a:lnTo>
                  <a:pt x="3153" y="491"/>
                </a:lnTo>
                <a:lnTo>
                  <a:pt x="3161" y="486"/>
                </a:lnTo>
                <a:lnTo>
                  <a:pt x="3167" y="483"/>
                </a:lnTo>
                <a:lnTo>
                  <a:pt x="3175" y="480"/>
                </a:lnTo>
                <a:lnTo>
                  <a:pt x="3187" y="474"/>
                </a:lnTo>
                <a:lnTo>
                  <a:pt x="3192" y="471"/>
                </a:lnTo>
                <a:lnTo>
                  <a:pt x="3201" y="466"/>
                </a:lnTo>
                <a:lnTo>
                  <a:pt x="3209" y="463"/>
                </a:lnTo>
                <a:lnTo>
                  <a:pt x="3218" y="457"/>
                </a:lnTo>
                <a:lnTo>
                  <a:pt x="3229" y="451"/>
                </a:lnTo>
                <a:lnTo>
                  <a:pt x="3238" y="449"/>
                </a:lnTo>
                <a:lnTo>
                  <a:pt x="3246" y="443"/>
                </a:lnTo>
                <a:lnTo>
                  <a:pt x="3257" y="440"/>
                </a:lnTo>
                <a:lnTo>
                  <a:pt x="3266" y="434"/>
                </a:lnTo>
                <a:lnTo>
                  <a:pt x="3274" y="432"/>
                </a:lnTo>
                <a:lnTo>
                  <a:pt x="3283" y="426"/>
                </a:lnTo>
                <a:lnTo>
                  <a:pt x="3294" y="420"/>
                </a:lnTo>
                <a:lnTo>
                  <a:pt x="3303" y="417"/>
                </a:lnTo>
                <a:lnTo>
                  <a:pt x="3314" y="412"/>
                </a:lnTo>
                <a:lnTo>
                  <a:pt x="3322" y="406"/>
                </a:lnTo>
                <a:lnTo>
                  <a:pt x="3334" y="403"/>
                </a:lnTo>
                <a:lnTo>
                  <a:pt x="3342" y="397"/>
                </a:lnTo>
                <a:lnTo>
                  <a:pt x="3351" y="392"/>
                </a:lnTo>
                <a:lnTo>
                  <a:pt x="3359" y="389"/>
                </a:lnTo>
                <a:lnTo>
                  <a:pt x="3368" y="383"/>
                </a:lnTo>
                <a:lnTo>
                  <a:pt x="3376" y="378"/>
                </a:lnTo>
                <a:lnTo>
                  <a:pt x="3388" y="375"/>
                </a:lnTo>
                <a:lnTo>
                  <a:pt x="3393" y="369"/>
                </a:lnTo>
                <a:lnTo>
                  <a:pt x="3405" y="366"/>
                </a:lnTo>
                <a:lnTo>
                  <a:pt x="3410" y="361"/>
                </a:lnTo>
                <a:lnTo>
                  <a:pt x="3419" y="355"/>
                </a:lnTo>
                <a:lnTo>
                  <a:pt x="3427" y="352"/>
                </a:lnTo>
                <a:lnTo>
                  <a:pt x="3436" y="346"/>
                </a:lnTo>
                <a:lnTo>
                  <a:pt x="3444" y="344"/>
                </a:lnTo>
                <a:lnTo>
                  <a:pt x="3453" y="341"/>
                </a:lnTo>
                <a:lnTo>
                  <a:pt x="3458" y="335"/>
                </a:lnTo>
                <a:lnTo>
                  <a:pt x="3467" y="332"/>
                </a:lnTo>
                <a:lnTo>
                  <a:pt x="3478" y="324"/>
                </a:lnTo>
                <a:lnTo>
                  <a:pt x="3490" y="318"/>
                </a:lnTo>
                <a:lnTo>
                  <a:pt x="3501" y="312"/>
                </a:lnTo>
                <a:lnTo>
                  <a:pt x="3509" y="307"/>
                </a:lnTo>
                <a:lnTo>
                  <a:pt x="3518" y="301"/>
                </a:lnTo>
                <a:lnTo>
                  <a:pt x="3524" y="298"/>
                </a:lnTo>
                <a:lnTo>
                  <a:pt x="3529" y="295"/>
                </a:lnTo>
                <a:lnTo>
                  <a:pt x="3532" y="295"/>
                </a:lnTo>
                <a:lnTo>
                  <a:pt x="3535" y="287"/>
                </a:lnTo>
                <a:lnTo>
                  <a:pt x="3541" y="281"/>
                </a:lnTo>
                <a:lnTo>
                  <a:pt x="3543" y="273"/>
                </a:lnTo>
                <a:lnTo>
                  <a:pt x="3546" y="264"/>
                </a:lnTo>
                <a:lnTo>
                  <a:pt x="3546" y="258"/>
                </a:lnTo>
                <a:lnTo>
                  <a:pt x="3546" y="250"/>
                </a:lnTo>
                <a:lnTo>
                  <a:pt x="3546" y="247"/>
                </a:lnTo>
                <a:lnTo>
                  <a:pt x="3549" y="247"/>
                </a:lnTo>
                <a:lnTo>
                  <a:pt x="3546" y="247"/>
                </a:lnTo>
                <a:lnTo>
                  <a:pt x="3543" y="250"/>
                </a:lnTo>
                <a:lnTo>
                  <a:pt x="3535" y="256"/>
                </a:lnTo>
                <a:lnTo>
                  <a:pt x="3526" y="261"/>
                </a:lnTo>
                <a:lnTo>
                  <a:pt x="3521" y="267"/>
                </a:lnTo>
                <a:lnTo>
                  <a:pt x="3515" y="270"/>
                </a:lnTo>
                <a:lnTo>
                  <a:pt x="3507" y="275"/>
                </a:lnTo>
                <a:lnTo>
                  <a:pt x="3501" y="281"/>
                </a:lnTo>
                <a:lnTo>
                  <a:pt x="3492" y="287"/>
                </a:lnTo>
                <a:lnTo>
                  <a:pt x="3484" y="292"/>
                </a:lnTo>
                <a:lnTo>
                  <a:pt x="3475" y="298"/>
                </a:lnTo>
                <a:lnTo>
                  <a:pt x="3467" y="304"/>
                </a:lnTo>
                <a:lnTo>
                  <a:pt x="3461" y="307"/>
                </a:lnTo>
                <a:lnTo>
                  <a:pt x="3453" y="312"/>
                </a:lnTo>
                <a:lnTo>
                  <a:pt x="3444" y="315"/>
                </a:lnTo>
                <a:lnTo>
                  <a:pt x="3436" y="321"/>
                </a:lnTo>
                <a:lnTo>
                  <a:pt x="3422" y="324"/>
                </a:lnTo>
                <a:lnTo>
                  <a:pt x="3410" y="332"/>
                </a:lnTo>
                <a:lnTo>
                  <a:pt x="3399" y="338"/>
                </a:lnTo>
                <a:lnTo>
                  <a:pt x="3385" y="344"/>
                </a:lnTo>
                <a:lnTo>
                  <a:pt x="3376" y="346"/>
                </a:lnTo>
                <a:lnTo>
                  <a:pt x="3371" y="352"/>
                </a:lnTo>
                <a:lnTo>
                  <a:pt x="3362" y="355"/>
                </a:lnTo>
                <a:lnTo>
                  <a:pt x="3356" y="358"/>
                </a:lnTo>
                <a:lnTo>
                  <a:pt x="3345" y="361"/>
                </a:lnTo>
                <a:lnTo>
                  <a:pt x="3339" y="366"/>
                </a:lnTo>
                <a:lnTo>
                  <a:pt x="3331" y="369"/>
                </a:lnTo>
                <a:lnTo>
                  <a:pt x="3322" y="372"/>
                </a:lnTo>
                <a:lnTo>
                  <a:pt x="3314" y="378"/>
                </a:lnTo>
                <a:lnTo>
                  <a:pt x="3305" y="380"/>
                </a:lnTo>
                <a:lnTo>
                  <a:pt x="3297" y="383"/>
                </a:lnTo>
                <a:lnTo>
                  <a:pt x="3288" y="389"/>
                </a:lnTo>
                <a:lnTo>
                  <a:pt x="3280" y="392"/>
                </a:lnTo>
                <a:lnTo>
                  <a:pt x="3271" y="397"/>
                </a:lnTo>
                <a:lnTo>
                  <a:pt x="3263" y="400"/>
                </a:lnTo>
                <a:lnTo>
                  <a:pt x="3255" y="406"/>
                </a:lnTo>
                <a:lnTo>
                  <a:pt x="3246" y="409"/>
                </a:lnTo>
                <a:lnTo>
                  <a:pt x="3238" y="412"/>
                </a:lnTo>
                <a:lnTo>
                  <a:pt x="3229" y="417"/>
                </a:lnTo>
                <a:lnTo>
                  <a:pt x="3221" y="420"/>
                </a:lnTo>
                <a:lnTo>
                  <a:pt x="3212" y="423"/>
                </a:lnTo>
                <a:lnTo>
                  <a:pt x="3204" y="429"/>
                </a:lnTo>
                <a:lnTo>
                  <a:pt x="3195" y="432"/>
                </a:lnTo>
                <a:lnTo>
                  <a:pt x="3187" y="434"/>
                </a:lnTo>
                <a:lnTo>
                  <a:pt x="3178" y="437"/>
                </a:lnTo>
                <a:lnTo>
                  <a:pt x="3170" y="440"/>
                </a:lnTo>
                <a:lnTo>
                  <a:pt x="3161" y="446"/>
                </a:lnTo>
                <a:lnTo>
                  <a:pt x="3153" y="449"/>
                </a:lnTo>
                <a:lnTo>
                  <a:pt x="3147" y="451"/>
                </a:lnTo>
                <a:lnTo>
                  <a:pt x="3138" y="457"/>
                </a:lnTo>
                <a:lnTo>
                  <a:pt x="3133" y="460"/>
                </a:lnTo>
                <a:lnTo>
                  <a:pt x="3124" y="463"/>
                </a:lnTo>
                <a:lnTo>
                  <a:pt x="3119" y="466"/>
                </a:lnTo>
                <a:lnTo>
                  <a:pt x="3110" y="468"/>
                </a:lnTo>
                <a:lnTo>
                  <a:pt x="3104" y="471"/>
                </a:lnTo>
                <a:lnTo>
                  <a:pt x="3099" y="474"/>
                </a:lnTo>
                <a:lnTo>
                  <a:pt x="3087" y="480"/>
                </a:lnTo>
                <a:lnTo>
                  <a:pt x="3076" y="486"/>
                </a:lnTo>
                <a:lnTo>
                  <a:pt x="3068" y="488"/>
                </a:lnTo>
                <a:lnTo>
                  <a:pt x="3059" y="494"/>
                </a:lnTo>
                <a:lnTo>
                  <a:pt x="3053" y="497"/>
                </a:lnTo>
                <a:lnTo>
                  <a:pt x="3048" y="500"/>
                </a:lnTo>
                <a:lnTo>
                  <a:pt x="3042" y="503"/>
                </a:lnTo>
                <a:lnTo>
                  <a:pt x="3036" y="505"/>
                </a:lnTo>
                <a:lnTo>
                  <a:pt x="3028" y="508"/>
                </a:lnTo>
                <a:lnTo>
                  <a:pt x="3019" y="514"/>
                </a:lnTo>
                <a:lnTo>
                  <a:pt x="3008" y="520"/>
                </a:lnTo>
                <a:lnTo>
                  <a:pt x="2997" y="525"/>
                </a:lnTo>
                <a:lnTo>
                  <a:pt x="2985" y="534"/>
                </a:lnTo>
                <a:lnTo>
                  <a:pt x="2971" y="542"/>
                </a:lnTo>
                <a:lnTo>
                  <a:pt x="2963" y="548"/>
                </a:lnTo>
                <a:lnTo>
                  <a:pt x="2957" y="551"/>
                </a:lnTo>
                <a:lnTo>
                  <a:pt x="2949" y="554"/>
                </a:lnTo>
                <a:lnTo>
                  <a:pt x="2943" y="559"/>
                </a:lnTo>
                <a:lnTo>
                  <a:pt x="2934" y="562"/>
                </a:lnTo>
                <a:lnTo>
                  <a:pt x="2926" y="568"/>
                </a:lnTo>
                <a:lnTo>
                  <a:pt x="2920" y="574"/>
                </a:lnTo>
                <a:lnTo>
                  <a:pt x="2912" y="579"/>
                </a:lnTo>
                <a:lnTo>
                  <a:pt x="2903" y="582"/>
                </a:lnTo>
                <a:lnTo>
                  <a:pt x="2898" y="588"/>
                </a:lnTo>
                <a:lnTo>
                  <a:pt x="2889" y="591"/>
                </a:lnTo>
                <a:lnTo>
                  <a:pt x="2881" y="596"/>
                </a:lnTo>
                <a:lnTo>
                  <a:pt x="2872" y="602"/>
                </a:lnTo>
                <a:lnTo>
                  <a:pt x="2866" y="605"/>
                </a:lnTo>
                <a:lnTo>
                  <a:pt x="2858" y="610"/>
                </a:lnTo>
                <a:lnTo>
                  <a:pt x="2849" y="616"/>
                </a:lnTo>
                <a:lnTo>
                  <a:pt x="2841" y="622"/>
                </a:lnTo>
                <a:lnTo>
                  <a:pt x="2835" y="625"/>
                </a:lnTo>
                <a:lnTo>
                  <a:pt x="2827" y="630"/>
                </a:lnTo>
                <a:lnTo>
                  <a:pt x="2818" y="636"/>
                </a:lnTo>
                <a:lnTo>
                  <a:pt x="2810" y="639"/>
                </a:lnTo>
                <a:lnTo>
                  <a:pt x="2804" y="645"/>
                </a:lnTo>
                <a:lnTo>
                  <a:pt x="2796" y="650"/>
                </a:lnTo>
                <a:lnTo>
                  <a:pt x="2790" y="656"/>
                </a:lnTo>
                <a:lnTo>
                  <a:pt x="2782" y="659"/>
                </a:lnTo>
                <a:lnTo>
                  <a:pt x="2773" y="662"/>
                </a:lnTo>
                <a:lnTo>
                  <a:pt x="2767" y="667"/>
                </a:lnTo>
                <a:lnTo>
                  <a:pt x="2762" y="670"/>
                </a:lnTo>
                <a:lnTo>
                  <a:pt x="2750" y="679"/>
                </a:lnTo>
                <a:lnTo>
                  <a:pt x="2739" y="687"/>
                </a:lnTo>
                <a:lnTo>
                  <a:pt x="2728" y="693"/>
                </a:lnTo>
                <a:lnTo>
                  <a:pt x="2716" y="699"/>
                </a:lnTo>
                <a:lnTo>
                  <a:pt x="2708" y="704"/>
                </a:lnTo>
                <a:lnTo>
                  <a:pt x="2702" y="710"/>
                </a:lnTo>
                <a:lnTo>
                  <a:pt x="2691" y="716"/>
                </a:lnTo>
                <a:lnTo>
                  <a:pt x="2688" y="718"/>
                </a:lnTo>
                <a:lnTo>
                  <a:pt x="2685" y="716"/>
                </a:lnTo>
                <a:lnTo>
                  <a:pt x="2680" y="713"/>
                </a:lnTo>
                <a:lnTo>
                  <a:pt x="2668" y="707"/>
                </a:lnTo>
                <a:lnTo>
                  <a:pt x="2657" y="699"/>
                </a:lnTo>
                <a:lnTo>
                  <a:pt x="2648" y="696"/>
                </a:lnTo>
                <a:lnTo>
                  <a:pt x="2640" y="690"/>
                </a:lnTo>
                <a:lnTo>
                  <a:pt x="2631" y="684"/>
                </a:lnTo>
                <a:lnTo>
                  <a:pt x="2623" y="679"/>
                </a:lnTo>
                <a:lnTo>
                  <a:pt x="2612" y="673"/>
                </a:lnTo>
                <a:lnTo>
                  <a:pt x="2603" y="667"/>
                </a:lnTo>
                <a:lnTo>
                  <a:pt x="2592" y="662"/>
                </a:lnTo>
                <a:lnTo>
                  <a:pt x="2583" y="656"/>
                </a:lnTo>
                <a:lnTo>
                  <a:pt x="2572" y="650"/>
                </a:lnTo>
                <a:lnTo>
                  <a:pt x="2561" y="645"/>
                </a:lnTo>
                <a:lnTo>
                  <a:pt x="2549" y="636"/>
                </a:lnTo>
                <a:lnTo>
                  <a:pt x="2541" y="633"/>
                </a:lnTo>
                <a:lnTo>
                  <a:pt x="2529" y="625"/>
                </a:lnTo>
                <a:lnTo>
                  <a:pt x="2521" y="622"/>
                </a:lnTo>
                <a:lnTo>
                  <a:pt x="2510" y="613"/>
                </a:lnTo>
                <a:lnTo>
                  <a:pt x="2501" y="610"/>
                </a:lnTo>
                <a:lnTo>
                  <a:pt x="2493" y="602"/>
                </a:lnTo>
                <a:lnTo>
                  <a:pt x="2484" y="599"/>
                </a:lnTo>
                <a:lnTo>
                  <a:pt x="2476" y="593"/>
                </a:lnTo>
                <a:lnTo>
                  <a:pt x="2470" y="591"/>
                </a:lnTo>
                <a:lnTo>
                  <a:pt x="2456" y="582"/>
                </a:lnTo>
                <a:lnTo>
                  <a:pt x="2450" y="579"/>
                </a:lnTo>
                <a:lnTo>
                  <a:pt x="2444" y="574"/>
                </a:lnTo>
                <a:lnTo>
                  <a:pt x="2439" y="571"/>
                </a:lnTo>
                <a:lnTo>
                  <a:pt x="2433" y="571"/>
                </a:lnTo>
                <a:lnTo>
                  <a:pt x="2425" y="568"/>
                </a:lnTo>
                <a:lnTo>
                  <a:pt x="2416" y="562"/>
                </a:lnTo>
                <a:lnTo>
                  <a:pt x="2408" y="559"/>
                </a:lnTo>
                <a:lnTo>
                  <a:pt x="2399" y="557"/>
                </a:lnTo>
                <a:lnTo>
                  <a:pt x="2391" y="554"/>
                </a:lnTo>
                <a:lnTo>
                  <a:pt x="2379" y="551"/>
                </a:lnTo>
                <a:lnTo>
                  <a:pt x="2368" y="548"/>
                </a:lnTo>
                <a:lnTo>
                  <a:pt x="2357" y="542"/>
                </a:lnTo>
                <a:lnTo>
                  <a:pt x="2345" y="539"/>
                </a:lnTo>
                <a:lnTo>
                  <a:pt x="2334" y="537"/>
                </a:lnTo>
                <a:lnTo>
                  <a:pt x="2323" y="534"/>
                </a:lnTo>
                <a:lnTo>
                  <a:pt x="2311" y="528"/>
                </a:lnTo>
                <a:lnTo>
                  <a:pt x="2300" y="525"/>
                </a:lnTo>
                <a:lnTo>
                  <a:pt x="2289" y="522"/>
                </a:lnTo>
                <a:lnTo>
                  <a:pt x="2277" y="520"/>
                </a:lnTo>
                <a:lnTo>
                  <a:pt x="2266" y="514"/>
                </a:lnTo>
                <a:lnTo>
                  <a:pt x="2255" y="511"/>
                </a:lnTo>
                <a:lnTo>
                  <a:pt x="2243" y="508"/>
                </a:lnTo>
                <a:lnTo>
                  <a:pt x="2235" y="505"/>
                </a:lnTo>
                <a:lnTo>
                  <a:pt x="2226" y="503"/>
                </a:lnTo>
                <a:lnTo>
                  <a:pt x="2218" y="503"/>
                </a:lnTo>
                <a:lnTo>
                  <a:pt x="2209" y="500"/>
                </a:lnTo>
                <a:lnTo>
                  <a:pt x="2204" y="497"/>
                </a:lnTo>
                <a:lnTo>
                  <a:pt x="2195" y="494"/>
                </a:lnTo>
                <a:lnTo>
                  <a:pt x="2192" y="494"/>
                </a:lnTo>
                <a:lnTo>
                  <a:pt x="2184" y="494"/>
                </a:lnTo>
                <a:lnTo>
                  <a:pt x="2187" y="491"/>
                </a:lnTo>
                <a:lnTo>
                  <a:pt x="2192" y="486"/>
                </a:lnTo>
                <a:lnTo>
                  <a:pt x="2198" y="483"/>
                </a:lnTo>
                <a:lnTo>
                  <a:pt x="2207" y="480"/>
                </a:lnTo>
                <a:lnTo>
                  <a:pt x="2212" y="477"/>
                </a:lnTo>
                <a:lnTo>
                  <a:pt x="2224" y="474"/>
                </a:lnTo>
                <a:lnTo>
                  <a:pt x="2235" y="468"/>
                </a:lnTo>
                <a:lnTo>
                  <a:pt x="2246" y="463"/>
                </a:lnTo>
                <a:lnTo>
                  <a:pt x="2258" y="457"/>
                </a:lnTo>
                <a:lnTo>
                  <a:pt x="2275" y="451"/>
                </a:lnTo>
                <a:lnTo>
                  <a:pt x="2286" y="446"/>
                </a:lnTo>
                <a:lnTo>
                  <a:pt x="2303" y="440"/>
                </a:lnTo>
                <a:lnTo>
                  <a:pt x="2317" y="434"/>
                </a:lnTo>
                <a:lnTo>
                  <a:pt x="2337" y="429"/>
                </a:lnTo>
                <a:lnTo>
                  <a:pt x="2354" y="420"/>
                </a:lnTo>
                <a:lnTo>
                  <a:pt x="2371" y="412"/>
                </a:lnTo>
                <a:lnTo>
                  <a:pt x="2391" y="403"/>
                </a:lnTo>
                <a:lnTo>
                  <a:pt x="2411" y="395"/>
                </a:lnTo>
                <a:lnTo>
                  <a:pt x="2430" y="386"/>
                </a:lnTo>
                <a:lnTo>
                  <a:pt x="2450" y="378"/>
                </a:lnTo>
                <a:lnTo>
                  <a:pt x="2473" y="369"/>
                </a:lnTo>
                <a:lnTo>
                  <a:pt x="2495" y="361"/>
                </a:lnTo>
                <a:lnTo>
                  <a:pt x="2515" y="349"/>
                </a:lnTo>
                <a:lnTo>
                  <a:pt x="2538" y="341"/>
                </a:lnTo>
                <a:lnTo>
                  <a:pt x="2561" y="332"/>
                </a:lnTo>
                <a:lnTo>
                  <a:pt x="2583" y="324"/>
                </a:lnTo>
                <a:lnTo>
                  <a:pt x="2606" y="312"/>
                </a:lnTo>
                <a:lnTo>
                  <a:pt x="2629" y="304"/>
                </a:lnTo>
                <a:lnTo>
                  <a:pt x="2651" y="292"/>
                </a:lnTo>
                <a:lnTo>
                  <a:pt x="2677" y="284"/>
                </a:lnTo>
                <a:lnTo>
                  <a:pt x="2697" y="273"/>
                </a:lnTo>
                <a:lnTo>
                  <a:pt x="2719" y="264"/>
                </a:lnTo>
                <a:lnTo>
                  <a:pt x="2742" y="253"/>
                </a:lnTo>
                <a:lnTo>
                  <a:pt x="2767" y="244"/>
                </a:lnTo>
                <a:lnTo>
                  <a:pt x="2787" y="236"/>
                </a:lnTo>
                <a:lnTo>
                  <a:pt x="2810" y="224"/>
                </a:lnTo>
                <a:lnTo>
                  <a:pt x="2833" y="216"/>
                </a:lnTo>
                <a:lnTo>
                  <a:pt x="2855" y="207"/>
                </a:lnTo>
                <a:lnTo>
                  <a:pt x="2875" y="196"/>
                </a:lnTo>
                <a:lnTo>
                  <a:pt x="2895" y="187"/>
                </a:lnTo>
                <a:lnTo>
                  <a:pt x="2915" y="179"/>
                </a:lnTo>
                <a:lnTo>
                  <a:pt x="2937" y="170"/>
                </a:lnTo>
                <a:lnTo>
                  <a:pt x="2954" y="162"/>
                </a:lnTo>
                <a:lnTo>
                  <a:pt x="2974" y="153"/>
                </a:lnTo>
                <a:lnTo>
                  <a:pt x="2991" y="148"/>
                </a:lnTo>
                <a:lnTo>
                  <a:pt x="3011" y="142"/>
                </a:lnTo>
                <a:lnTo>
                  <a:pt x="3025" y="133"/>
                </a:lnTo>
                <a:lnTo>
                  <a:pt x="3042" y="125"/>
                </a:lnTo>
                <a:lnTo>
                  <a:pt x="3056" y="119"/>
                </a:lnTo>
                <a:lnTo>
                  <a:pt x="3070" y="111"/>
                </a:lnTo>
                <a:lnTo>
                  <a:pt x="3082" y="105"/>
                </a:lnTo>
                <a:lnTo>
                  <a:pt x="3096" y="99"/>
                </a:lnTo>
                <a:lnTo>
                  <a:pt x="3104" y="96"/>
                </a:lnTo>
                <a:lnTo>
                  <a:pt x="3116" y="91"/>
                </a:lnTo>
                <a:lnTo>
                  <a:pt x="3124" y="88"/>
                </a:lnTo>
                <a:lnTo>
                  <a:pt x="3133" y="82"/>
                </a:lnTo>
                <a:lnTo>
                  <a:pt x="3138" y="79"/>
                </a:lnTo>
                <a:lnTo>
                  <a:pt x="3144" y="77"/>
                </a:lnTo>
                <a:lnTo>
                  <a:pt x="3150" y="74"/>
                </a:lnTo>
                <a:lnTo>
                  <a:pt x="3153" y="74"/>
                </a:lnTo>
                <a:lnTo>
                  <a:pt x="3150" y="71"/>
                </a:lnTo>
                <a:lnTo>
                  <a:pt x="3147" y="71"/>
                </a:lnTo>
                <a:lnTo>
                  <a:pt x="3141" y="68"/>
                </a:lnTo>
                <a:lnTo>
                  <a:pt x="3136" y="68"/>
                </a:lnTo>
                <a:lnTo>
                  <a:pt x="3127" y="68"/>
                </a:lnTo>
                <a:lnTo>
                  <a:pt x="3119" y="68"/>
                </a:lnTo>
                <a:lnTo>
                  <a:pt x="3110" y="65"/>
                </a:lnTo>
                <a:lnTo>
                  <a:pt x="3099" y="65"/>
                </a:lnTo>
                <a:lnTo>
                  <a:pt x="3085" y="65"/>
                </a:lnTo>
                <a:lnTo>
                  <a:pt x="3073" y="62"/>
                </a:lnTo>
                <a:lnTo>
                  <a:pt x="3059" y="62"/>
                </a:lnTo>
                <a:lnTo>
                  <a:pt x="3042" y="62"/>
                </a:lnTo>
                <a:lnTo>
                  <a:pt x="3025" y="60"/>
                </a:lnTo>
                <a:lnTo>
                  <a:pt x="3008" y="57"/>
                </a:lnTo>
                <a:lnTo>
                  <a:pt x="2991" y="57"/>
                </a:lnTo>
                <a:lnTo>
                  <a:pt x="2974" y="57"/>
                </a:lnTo>
                <a:lnTo>
                  <a:pt x="2951" y="54"/>
                </a:lnTo>
                <a:lnTo>
                  <a:pt x="2932" y="54"/>
                </a:lnTo>
                <a:lnTo>
                  <a:pt x="2912" y="51"/>
                </a:lnTo>
                <a:lnTo>
                  <a:pt x="2889" y="51"/>
                </a:lnTo>
                <a:lnTo>
                  <a:pt x="2866" y="48"/>
                </a:lnTo>
                <a:lnTo>
                  <a:pt x="2844" y="45"/>
                </a:lnTo>
                <a:lnTo>
                  <a:pt x="2821" y="43"/>
                </a:lnTo>
                <a:lnTo>
                  <a:pt x="2799" y="43"/>
                </a:lnTo>
                <a:lnTo>
                  <a:pt x="2773" y="43"/>
                </a:lnTo>
                <a:lnTo>
                  <a:pt x="2750" y="40"/>
                </a:lnTo>
                <a:lnTo>
                  <a:pt x="2725" y="40"/>
                </a:lnTo>
                <a:lnTo>
                  <a:pt x="2699" y="37"/>
                </a:lnTo>
                <a:lnTo>
                  <a:pt x="2677" y="34"/>
                </a:lnTo>
                <a:lnTo>
                  <a:pt x="2651" y="34"/>
                </a:lnTo>
                <a:lnTo>
                  <a:pt x="2626" y="34"/>
                </a:lnTo>
                <a:lnTo>
                  <a:pt x="2603" y="34"/>
                </a:lnTo>
                <a:lnTo>
                  <a:pt x="2575" y="31"/>
                </a:lnTo>
                <a:lnTo>
                  <a:pt x="2549" y="28"/>
                </a:lnTo>
                <a:lnTo>
                  <a:pt x="2527" y="25"/>
                </a:lnTo>
                <a:lnTo>
                  <a:pt x="2501" y="25"/>
                </a:lnTo>
                <a:lnTo>
                  <a:pt x="2476" y="23"/>
                </a:lnTo>
                <a:lnTo>
                  <a:pt x="2453" y="23"/>
                </a:lnTo>
                <a:lnTo>
                  <a:pt x="2427" y="20"/>
                </a:lnTo>
                <a:lnTo>
                  <a:pt x="2405" y="20"/>
                </a:lnTo>
                <a:lnTo>
                  <a:pt x="2382" y="17"/>
                </a:lnTo>
                <a:lnTo>
                  <a:pt x="2360" y="17"/>
                </a:lnTo>
                <a:lnTo>
                  <a:pt x="2337" y="14"/>
                </a:lnTo>
                <a:lnTo>
                  <a:pt x="2314" y="14"/>
                </a:lnTo>
                <a:lnTo>
                  <a:pt x="2292" y="11"/>
                </a:lnTo>
                <a:lnTo>
                  <a:pt x="2272" y="11"/>
                </a:lnTo>
                <a:lnTo>
                  <a:pt x="2255" y="11"/>
                </a:lnTo>
                <a:lnTo>
                  <a:pt x="2235" y="11"/>
                </a:lnTo>
                <a:lnTo>
                  <a:pt x="2215" y="8"/>
                </a:lnTo>
                <a:lnTo>
                  <a:pt x="2198" y="8"/>
                </a:lnTo>
                <a:lnTo>
                  <a:pt x="2181" y="6"/>
                </a:lnTo>
                <a:lnTo>
                  <a:pt x="2167" y="6"/>
                </a:lnTo>
                <a:lnTo>
                  <a:pt x="2150" y="6"/>
                </a:lnTo>
                <a:lnTo>
                  <a:pt x="2136" y="3"/>
                </a:lnTo>
                <a:lnTo>
                  <a:pt x="2124" y="3"/>
                </a:lnTo>
                <a:lnTo>
                  <a:pt x="2116" y="3"/>
                </a:lnTo>
                <a:lnTo>
                  <a:pt x="2105" y="3"/>
                </a:lnTo>
                <a:lnTo>
                  <a:pt x="2093" y="0"/>
                </a:lnTo>
                <a:lnTo>
                  <a:pt x="2085" y="0"/>
                </a:lnTo>
                <a:lnTo>
                  <a:pt x="2082" y="0"/>
                </a:lnTo>
                <a:lnTo>
                  <a:pt x="2073" y="0"/>
                </a:lnTo>
                <a:lnTo>
                  <a:pt x="2071" y="0"/>
                </a:lnTo>
                <a:lnTo>
                  <a:pt x="2071" y="34"/>
                </a:lnTo>
                <a:lnTo>
                  <a:pt x="3034" y="99"/>
                </a:lnTo>
                <a:lnTo>
                  <a:pt x="2141" y="477"/>
                </a:lnTo>
                <a:lnTo>
                  <a:pt x="1943" y="454"/>
                </a:lnTo>
                <a:lnTo>
                  <a:pt x="1940" y="451"/>
                </a:lnTo>
                <a:lnTo>
                  <a:pt x="1938" y="451"/>
                </a:lnTo>
                <a:lnTo>
                  <a:pt x="1932" y="449"/>
                </a:lnTo>
                <a:lnTo>
                  <a:pt x="1926" y="446"/>
                </a:lnTo>
                <a:lnTo>
                  <a:pt x="1915" y="440"/>
                </a:lnTo>
                <a:lnTo>
                  <a:pt x="1904" y="434"/>
                </a:lnTo>
                <a:lnTo>
                  <a:pt x="1892" y="432"/>
                </a:lnTo>
                <a:lnTo>
                  <a:pt x="1881" y="426"/>
                </a:lnTo>
                <a:lnTo>
                  <a:pt x="1872" y="420"/>
                </a:lnTo>
                <a:lnTo>
                  <a:pt x="1864" y="420"/>
                </a:lnTo>
                <a:lnTo>
                  <a:pt x="1858" y="417"/>
                </a:lnTo>
                <a:lnTo>
                  <a:pt x="1850" y="415"/>
                </a:lnTo>
                <a:lnTo>
                  <a:pt x="1841" y="409"/>
                </a:lnTo>
                <a:lnTo>
                  <a:pt x="1833" y="409"/>
                </a:lnTo>
                <a:lnTo>
                  <a:pt x="1824" y="406"/>
                </a:lnTo>
                <a:lnTo>
                  <a:pt x="1819" y="406"/>
                </a:lnTo>
                <a:lnTo>
                  <a:pt x="1807" y="400"/>
                </a:lnTo>
                <a:lnTo>
                  <a:pt x="1799" y="400"/>
                </a:lnTo>
                <a:lnTo>
                  <a:pt x="1790" y="397"/>
                </a:lnTo>
                <a:lnTo>
                  <a:pt x="1782" y="397"/>
                </a:lnTo>
                <a:lnTo>
                  <a:pt x="1773" y="395"/>
                </a:lnTo>
                <a:lnTo>
                  <a:pt x="1765" y="395"/>
                </a:lnTo>
                <a:lnTo>
                  <a:pt x="1756" y="395"/>
                </a:lnTo>
                <a:lnTo>
                  <a:pt x="1748" y="395"/>
                </a:lnTo>
                <a:lnTo>
                  <a:pt x="1790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4"/>
          <p:cNvSpPr/>
          <p:nvPr/>
        </p:nvSpPr>
        <p:spPr>
          <a:xfrm>
            <a:off x="6527880" y="4867200"/>
            <a:ext cx="533160" cy="41400"/>
          </a:xfrm>
          <a:custGeom>
            <a:avLst/>
            <a:gdLst>
              <a:gd name="textAreaLeft" fmla="*/ 0 w 533160"/>
              <a:gd name="textAreaRight" fmla="*/ 533520 w 533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8" h="29">
                <a:moveTo>
                  <a:pt x="34" y="0"/>
                </a:moveTo>
                <a:lnTo>
                  <a:pt x="28" y="0"/>
                </a:lnTo>
                <a:lnTo>
                  <a:pt x="20" y="0"/>
                </a:lnTo>
                <a:lnTo>
                  <a:pt x="9" y="0"/>
                </a:lnTo>
                <a:lnTo>
                  <a:pt x="3" y="9"/>
                </a:lnTo>
                <a:lnTo>
                  <a:pt x="0" y="17"/>
                </a:lnTo>
                <a:lnTo>
                  <a:pt x="6" y="23"/>
                </a:lnTo>
                <a:lnTo>
                  <a:pt x="11" y="26"/>
                </a:lnTo>
                <a:lnTo>
                  <a:pt x="14" y="29"/>
                </a:lnTo>
                <a:lnTo>
                  <a:pt x="346" y="29"/>
                </a:lnTo>
                <a:lnTo>
                  <a:pt x="388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25"/>
          <p:cNvSpPr/>
          <p:nvPr/>
        </p:nvSpPr>
        <p:spPr>
          <a:xfrm>
            <a:off x="7927920" y="4879800"/>
            <a:ext cx="1506600" cy="2329200"/>
          </a:xfrm>
          <a:custGeom>
            <a:avLst/>
            <a:gdLst>
              <a:gd name="textAreaLeft" fmla="*/ 0 w 1506600"/>
              <a:gd name="textAreaRight" fmla="*/ 1506960 w 1506600"/>
              <a:gd name="textAreaTop" fmla="*/ 0 h 2329200"/>
              <a:gd name="textAreaBottom" fmla="*/ 2329560 h 2329200"/>
            </a:gdLst>
            <a:ahLst/>
            <a:rect l="textAreaLeft" t="textAreaTop" r="textAreaRight" b="textAreaBottom"/>
            <a:pathLst>
              <a:path w="1099" h="1667">
                <a:moveTo>
                  <a:pt x="1059" y="11"/>
                </a:moveTo>
                <a:lnTo>
                  <a:pt x="1056" y="11"/>
                </a:lnTo>
                <a:lnTo>
                  <a:pt x="1056" y="17"/>
                </a:lnTo>
                <a:lnTo>
                  <a:pt x="1056" y="20"/>
                </a:lnTo>
                <a:lnTo>
                  <a:pt x="1056" y="26"/>
                </a:lnTo>
                <a:lnTo>
                  <a:pt x="1053" y="31"/>
                </a:lnTo>
                <a:lnTo>
                  <a:pt x="1053" y="40"/>
                </a:lnTo>
                <a:lnTo>
                  <a:pt x="1053" y="45"/>
                </a:lnTo>
                <a:lnTo>
                  <a:pt x="1053" y="54"/>
                </a:lnTo>
                <a:lnTo>
                  <a:pt x="1050" y="62"/>
                </a:lnTo>
                <a:lnTo>
                  <a:pt x="1050" y="71"/>
                </a:lnTo>
                <a:lnTo>
                  <a:pt x="1050" y="82"/>
                </a:lnTo>
                <a:lnTo>
                  <a:pt x="1050" y="94"/>
                </a:lnTo>
                <a:lnTo>
                  <a:pt x="1048" y="105"/>
                </a:lnTo>
                <a:lnTo>
                  <a:pt x="1048" y="116"/>
                </a:lnTo>
                <a:lnTo>
                  <a:pt x="1045" y="128"/>
                </a:lnTo>
                <a:lnTo>
                  <a:pt x="1045" y="142"/>
                </a:lnTo>
                <a:lnTo>
                  <a:pt x="1045" y="153"/>
                </a:lnTo>
                <a:lnTo>
                  <a:pt x="1042" y="168"/>
                </a:lnTo>
                <a:lnTo>
                  <a:pt x="1039" y="182"/>
                </a:lnTo>
                <a:lnTo>
                  <a:pt x="1039" y="196"/>
                </a:lnTo>
                <a:lnTo>
                  <a:pt x="1036" y="213"/>
                </a:lnTo>
                <a:lnTo>
                  <a:pt x="1036" y="227"/>
                </a:lnTo>
                <a:lnTo>
                  <a:pt x="1033" y="244"/>
                </a:lnTo>
                <a:lnTo>
                  <a:pt x="1033" y="258"/>
                </a:lnTo>
                <a:lnTo>
                  <a:pt x="1033" y="275"/>
                </a:lnTo>
                <a:lnTo>
                  <a:pt x="1033" y="292"/>
                </a:lnTo>
                <a:lnTo>
                  <a:pt x="1031" y="310"/>
                </a:lnTo>
                <a:lnTo>
                  <a:pt x="1031" y="327"/>
                </a:lnTo>
                <a:lnTo>
                  <a:pt x="1028" y="344"/>
                </a:lnTo>
                <a:lnTo>
                  <a:pt x="1028" y="361"/>
                </a:lnTo>
                <a:lnTo>
                  <a:pt x="1025" y="378"/>
                </a:lnTo>
                <a:lnTo>
                  <a:pt x="1022" y="392"/>
                </a:lnTo>
                <a:lnTo>
                  <a:pt x="1022" y="409"/>
                </a:lnTo>
                <a:lnTo>
                  <a:pt x="1022" y="426"/>
                </a:lnTo>
                <a:lnTo>
                  <a:pt x="1019" y="443"/>
                </a:lnTo>
                <a:lnTo>
                  <a:pt x="1016" y="460"/>
                </a:lnTo>
                <a:lnTo>
                  <a:pt x="1014" y="477"/>
                </a:lnTo>
                <a:lnTo>
                  <a:pt x="1014" y="494"/>
                </a:lnTo>
                <a:lnTo>
                  <a:pt x="1014" y="508"/>
                </a:lnTo>
                <a:lnTo>
                  <a:pt x="1011" y="525"/>
                </a:lnTo>
                <a:lnTo>
                  <a:pt x="1011" y="542"/>
                </a:lnTo>
                <a:lnTo>
                  <a:pt x="1008" y="559"/>
                </a:lnTo>
                <a:lnTo>
                  <a:pt x="1008" y="574"/>
                </a:lnTo>
                <a:lnTo>
                  <a:pt x="1005" y="588"/>
                </a:lnTo>
                <a:lnTo>
                  <a:pt x="1005" y="602"/>
                </a:lnTo>
                <a:lnTo>
                  <a:pt x="1005" y="619"/>
                </a:lnTo>
                <a:lnTo>
                  <a:pt x="1002" y="630"/>
                </a:lnTo>
                <a:lnTo>
                  <a:pt x="1002" y="645"/>
                </a:lnTo>
                <a:lnTo>
                  <a:pt x="999" y="656"/>
                </a:lnTo>
                <a:lnTo>
                  <a:pt x="999" y="670"/>
                </a:lnTo>
                <a:lnTo>
                  <a:pt x="999" y="682"/>
                </a:lnTo>
                <a:lnTo>
                  <a:pt x="997" y="693"/>
                </a:lnTo>
                <a:lnTo>
                  <a:pt x="997" y="704"/>
                </a:lnTo>
                <a:lnTo>
                  <a:pt x="997" y="716"/>
                </a:lnTo>
                <a:lnTo>
                  <a:pt x="997" y="724"/>
                </a:lnTo>
                <a:lnTo>
                  <a:pt x="994" y="733"/>
                </a:lnTo>
                <a:lnTo>
                  <a:pt x="994" y="741"/>
                </a:lnTo>
                <a:lnTo>
                  <a:pt x="994" y="750"/>
                </a:lnTo>
                <a:lnTo>
                  <a:pt x="994" y="755"/>
                </a:lnTo>
                <a:lnTo>
                  <a:pt x="994" y="761"/>
                </a:lnTo>
                <a:lnTo>
                  <a:pt x="994" y="767"/>
                </a:lnTo>
                <a:lnTo>
                  <a:pt x="994" y="772"/>
                </a:lnTo>
                <a:lnTo>
                  <a:pt x="991" y="781"/>
                </a:lnTo>
                <a:lnTo>
                  <a:pt x="991" y="789"/>
                </a:lnTo>
                <a:lnTo>
                  <a:pt x="991" y="798"/>
                </a:lnTo>
                <a:lnTo>
                  <a:pt x="994" y="809"/>
                </a:lnTo>
                <a:lnTo>
                  <a:pt x="994" y="821"/>
                </a:lnTo>
                <a:lnTo>
                  <a:pt x="994" y="832"/>
                </a:lnTo>
                <a:lnTo>
                  <a:pt x="994" y="838"/>
                </a:lnTo>
                <a:lnTo>
                  <a:pt x="994" y="843"/>
                </a:lnTo>
                <a:lnTo>
                  <a:pt x="997" y="852"/>
                </a:lnTo>
                <a:lnTo>
                  <a:pt x="997" y="860"/>
                </a:lnTo>
                <a:lnTo>
                  <a:pt x="997" y="872"/>
                </a:lnTo>
                <a:lnTo>
                  <a:pt x="999" y="886"/>
                </a:lnTo>
                <a:lnTo>
                  <a:pt x="999" y="892"/>
                </a:lnTo>
                <a:lnTo>
                  <a:pt x="1002" y="900"/>
                </a:lnTo>
                <a:lnTo>
                  <a:pt x="1002" y="909"/>
                </a:lnTo>
                <a:lnTo>
                  <a:pt x="1002" y="914"/>
                </a:lnTo>
                <a:lnTo>
                  <a:pt x="1002" y="923"/>
                </a:lnTo>
                <a:lnTo>
                  <a:pt x="1005" y="931"/>
                </a:lnTo>
                <a:lnTo>
                  <a:pt x="1005" y="937"/>
                </a:lnTo>
                <a:lnTo>
                  <a:pt x="1008" y="946"/>
                </a:lnTo>
                <a:lnTo>
                  <a:pt x="1008" y="954"/>
                </a:lnTo>
                <a:lnTo>
                  <a:pt x="1008" y="960"/>
                </a:lnTo>
                <a:lnTo>
                  <a:pt x="1011" y="968"/>
                </a:lnTo>
                <a:lnTo>
                  <a:pt x="1011" y="977"/>
                </a:lnTo>
                <a:lnTo>
                  <a:pt x="1011" y="983"/>
                </a:lnTo>
                <a:lnTo>
                  <a:pt x="1011" y="991"/>
                </a:lnTo>
                <a:lnTo>
                  <a:pt x="1011" y="997"/>
                </a:lnTo>
                <a:lnTo>
                  <a:pt x="1014" y="1002"/>
                </a:lnTo>
                <a:lnTo>
                  <a:pt x="1014" y="1011"/>
                </a:lnTo>
                <a:lnTo>
                  <a:pt x="1014" y="1017"/>
                </a:lnTo>
                <a:lnTo>
                  <a:pt x="1014" y="1025"/>
                </a:lnTo>
                <a:lnTo>
                  <a:pt x="1014" y="1034"/>
                </a:lnTo>
                <a:lnTo>
                  <a:pt x="1014" y="1045"/>
                </a:lnTo>
                <a:lnTo>
                  <a:pt x="1016" y="1059"/>
                </a:lnTo>
                <a:lnTo>
                  <a:pt x="1016" y="1071"/>
                </a:lnTo>
                <a:lnTo>
                  <a:pt x="1016" y="1085"/>
                </a:lnTo>
                <a:lnTo>
                  <a:pt x="1016" y="1093"/>
                </a:lnTo>
                <a:lnTo>
                  <a:pt x="1016" y="1105"/>
                </a:lnTo>
                <a:lnTo>
                  <a:pt x="1016" y="1113"/>
                </a:lnTo>
                <a:lnTo>
                  <a:pt x="1016" y="1125"/>
                </a:lnTo>
                <a:lnTo>
                  <a:pt x="1014" y="1130"/>
                </a:lnTo>
                <a:lnTo>
                  <a:pt x="1014" y="1139"/>
                </a:lnTo>
                <a:lnTo>
                  <a:pt x="1011" y="1144"/>
                </a:lnTo>
                <a:lnTo>
                  <a:pt x="1011" y="1150"/>
                </a:lnTo>
                <a:lnTo>
                  <a:pt x="1005" y="1150"/>
                </a:lnTo>
                <a:lnTo>
                  <a:pt x="1002" y="1153"/>
                </a:lnTo>
                <a:lnTo>
                  <a:pt x="999" y="1159"/>
                </a:lnTo>
                <a:lnTo>
                  <a:pt x="991" y="1162"/>
                </a:lnTo>
                <a:lnTo>
                  <a:pt x="982" y="1164"/>
                </a:lnTo>
                <a:lnTo>
                  <a:pt x="977" y="1170"/>
                </a:lnTo>
                <a:lnTo>
                  <a:pt x="968" y="1176"/>
                </a:lnTo>
                <a:lnTo>
                  <a:pt x="957" y="1181"/>
                </a:lnTo>
                <a:lnTo>
                  <a:pt x="946" y="1187"/>
                </a:lnTo>
                <a:lnTo>
                  <a:pt x="931" y="1193"/>
                </a:lnTo>
                <a:lnTo>
                  <a:pt x="917" y="1201"/>
                </a:lnTo>
                <a:lnTo>
                  <a:pt x="906" y="1207"/>
                </a:lnTo>
                <a:lnTo>
                  <a:pt x="889" y="1215"/>
                </a:lnTo>
                <a:lnTo>
                  <a:pt x="875" y="1224"/>
                </a:lnTo>
                <a:lnTo>
                  <a:pt x="855" y="1232"/>
                </a:lnTo>
                <a:lnTo>
                  <a:pt x="841" y="1241"/>
                </a:lnTo>
                <a:lnTo>
                  <a:pt x="821" y="1250"/>
                </a:lnTo>
                <a:lnTo>
                  <a:pt x="801" y="1258"/>
                </a:lnTo>
                <a:lnTo>
                  <a:pt x="781" y="1269"/>
                </a:lnTo>
                <a:lnTo>
                  <a:pt x="761" y="1278"/>
                </a:lnTo>
                <a:lnTo>
                  <a:pt x="742" y="1289"/>
                </a:lnTo>
                <a:lnTo>
                  <a:pt x="719" y="1298"/>
                </a:lnTo>
                <a:lnTo>
                  <a:pt x="699" y="1309"/>
                </a:lnTo>
                <a:lnTo>
                  <a:pt x="677" y="1321"/>
                </a:lnTo>
                <a:lnTo>
                  <a:pt x="654" y="1329"/>
                </a:lnTo>
                <a:lnTo>
                  <a:pt x="631" y="1340"/>
                </a:lnTo>
                <a:lnTo>
                  <a:pt x="609" y="1349"/>
                </a:lnTo>
                <a:lnTo>
                  <a:pt x="586" y="1360"/>
                </a:lnTo>
                <a:lnTo>
                  <a:pt x="563" y="1372"/>
                </a:lnTo>
                <a:lnTo>
                  <a:pt x="541" y="1383"/>
                </a:lnTo>
                <a:lnTo>
                  <a:pt x="518" y="1394"/>
                </a:lnTo>
                <a:lnTo>
                  <a:pt x="495" y="1406"/>
                </a:lnTo>
                <a:lnTo>
                  <a:pt x="473" y="1414"/>
                </a:lnTo>
                <a:lnTo>
                  <a:pt x="447" y="1426"/>
                </a:lnTo>
                <a:lnTo>
                  <a:pt x="424" y="1434"/>
                </a:lnTo>
                <a:lnTo>
                  <a:pt x="402" y="1445"/>
                </a:lnTo>
                <a:lnTo>
                  <a:pt x="379" y="1457"/>
                </a:lnTo>
                <a:lnTo>
                  <a:pt x="356" y="1465"/>
                </a:lnTo>
                <a:lnTo>
                  <a:pt x="334" y="1477"/>
                </a:lnTo>
                <a:lnTo>
                  <a:pt x="311" y="1488"/>
                </a:lnTo>
                <a:lnTo>
                  <a:pt x="289" y="1497"/>
                </a:lnTo>
                <a:lnTo>
                  <a:pt x="269" y="1505"/>
                </a:lnTo>
                <a:lnTo>
                  <a:pt x="246" y="1516"/>
                </a:lnTo>
                <a:lnTo>
                  <a:pt x="229" y="1525"/>
                </a:lnTo>
                <a:lnTo>
                  <a:pt x="209" y="1534"/>
                </a:lnTo>
                <a:lnTo>
                  <a:pt x="189" y="1542"/>
                </a:lnTo>
                <a:lnTo>
                  <a:pt x="170" y="1551"/>
                </a:lnTo>
                <a:lnTo>
                  <a:pt x="155" y="1559"/>
                </a:lnTo>
                <a:lnTo>
                  <a:pt x="136" y="1568"/>
                </a:lnTo>
                <a:lnTo>
                  <a:pt x="121" y="1573"/>
                </a:lnTo>
                <a:lnTo>
                  <a:pt x="104" y="1582"/>
                </a:lnTo>
                <a:lnTo>
                  <a:pt x="90" y="1587"/>
                </a:lnTo>
                <a:lnTo>
                  <a:pt x="76" y="1593"/>
                </a:lnTo>
                <a:lnTo>
                  <a:pt x="65" y="1599"/>
                </a:lnTo>
                <a:lnTo>
                  <a:pt x="51" y="1602"/>
                </a:lnTo>
                <a:lnTo>
                  <a:pt x="42" y="1610"/>
                </a:lnTo>
                <a:lnTo>
                  <a:pt x="31" y="1613"/>
                </a:lnTo>
                <a:lnTo>
                  <a:pt x="22" y="1616"/>
                </a:lnTo>
                <a:lnTo>
                  <a:pt x="17" y="1619"/>
                </a:lnTo>
                <a:lnTo>
                  <a:pt x="11" y="1622"/>
                </a:lnTo>
                <a:lnTo>
                  <a:pt x="2" y="1627"/>
                </a:lnTo>
                <a:lnTo>
                  <a:pt x="0" y="1630"/>
                </a:lnTo>
                <a:lnTo>
                  <a:pt x="5" y="1667"/>
                </a:lnTo>
                <a:lnTo>
                  <a:pt x="5" y="1664"/>
                </a:lnTo>
                <a:lnTo>
                  <a:pt x="14" y="1661"/>
                </a:lnTo>
                <a:lnTo>
                  <a:pt x="19" y="1658"/>
                </a:lnTo>
                <a:lnTo>
                  <a:pt x="28" y="1656"/>
                </a:lnTo>
                <a:lnTo>
                  <a:pt x="36" y="1650"/>
                </a:lnTo>
                <a:lnTo>
                  <a:pt x="48" y="1647"/>
                </a:lnTo>
                <a:lnTo>
                  <a:pt x="59" y="1641"/>
                </a:lnTo>
                <a:lnTo>
                  <a:pt x="70" y="1636"/>
                </a:lnTo>
                <a:lnTo>
                  <a:pt x="82" y="1630"/>
                </a:lnTo>
                <a:lnTo>
                  <a:pt x="99" y="1622"/>
                </a:lnTo>
                <a:lnTo>
                  <a:pt x="113" y="1616"/>
                </a:lnTo>
                <a:lnTo>
                  <a:pt x="130" y="1607"/>
                </a:lnTo>
                <a:lnTo>
                  <a:pt x="147" y="1602"/>
                </a:lnTo>
                <a:lnTo>
                  <a:pt x="167" y="1593"/>
                </a:lnTo>
                <a:lnTo>
                  <a:pt x="184" y="1582"/>
                </a:lnTo>
                <a:lnTo>
                  <a:pt x="201" y="1573"/>
                </a:lnTo>
                <a:lnTo>
                  <a:pt x="221" y="1565"/>
                </a:lnTo>
                <a:lnTo>
                  <a:pt x="243" y="1556"/>
                </a:lnTo>
                <a:lnTo>
                  <a:pt x="263" y="1545"/>
                </a:lnTo>
                <a:lnTo>
                  <a:pt x="286" y="1536"/>
                </a:lnTo>
                <a:lnTo>
                  <a:pt x="308" y="1525"/>
                </a:lnTo>
                <a:lnTo>
                  <a:pt x="331" y="1516"/>
                </a:lnTo>
                <a:lnTo>
                  <a:pt x="354" y="1505"/>
                </a:lnTo>
                <a:lnTo>
                  <a:pt x="376" y="1494"/>
                </a:lnTo>
                <a:lnTo>
                  <a:pt x="399" y="1482"/>
                </a:lnTo>
                <a:lnTo>
                  <a:pt x="424" y="1474"/>
                </a:lnTo>
                <a:lnTo>
                  <a:pt x="450" y="1463"/>
                </a:lnTo>
                <a:lnTo>
                  <a:pt x="473" y="1451"/>
                </a:lnTo>
                <a:lnTo>
                  <a:pt x="498" y="1440"/>
                </a:lnTo>
                <a:lnTo>
                  <a:pt x="524" y="1428"/>
                </a:lnTo>
                <a:lnTo>
                  <a:pt x="546" y="1417"/>
                </a:lnTo>
                <a:lnTo>
                  <a:pt x="569" y="1406"/>
                </a:lnTo>
                <a:lnTo>
                  <a:pt x="594" y="1394"/>
                </a:lnTo>
                <a:lnTo>
                  <a:pt x="620" y="1383"/>
                </a:lnTo>
                <a:lnTo>
                  <a:pt x="643" y="1372"/>
                </a:lnTo>
                <a:lnTo>
                  <a:pt x="665" y="1360"/>
                </a:lnTo>
                <a:lnTo>
                  <a:pt x="688" y="1349"/>
                </a:lnTo>
                <a:lnTo>
                  <a:pt x="713" y="1338"/>
                </a:lnTo>
                <a:lnTo>
                  <a:pt x="733" y="1326"/>
                </a:lnTo>
                <a:lnTo>
                  <a:pt x="756" y="1315"/>
                </a:lnTo>
                <a:lnTo>
                  <a:pt x="778" y="1303"/>
                </a:lnTo>
                <a:lnTo>
                  <a:pt x="801" y="1295"/>
                </a:lnTo>
                <a:lnTo>
                  <a:pt x="821" y="1284"/>
                </a:lnTo>
                <a:lnTo>
                  <a:pt x="841" y="1275"/>
                </a:lnTo>
                <a:lnTo>
                  <a:pt x="861" y="1267"/>
                </a:lnTo>
                <a:lnTo>
                  <a:pt x="880" y="1258"/>
                </a:lnTo>
                <a:lnTo>
                  <a:pt x="897" y="1247"/>
                </a:lnTo>
                <a:lnTo>
                  <a:pt x="914" y="1238"/>
                </a:lnTo>
                <a:lnTo>
                  <a:pt x="931" y="1232"/>
                </a:lnTo>
                <a:lnTo>
                  <a:pt x="948" y="1224"/>
                </a:lnTo>
                <a:lnTo>
                  <a:pt x="960" y="1215"/>
                </a:lnTo>
                <a:lnTo>
                  <a:pt x="974" y="1210"/>
                </a:lnTo>
                <a:lnTo>
                  <a:pt x="985" y="1204"/>
                </a:lnTo>
                <a:lnTo>
                  <a:pt x="999" y="1198"/>
                </a:lnTo>
                <a:lnTo>
                  <a:pt x="1008" y="1193"/>
                </a:lnTo>
                <a:lnTo>
                  <a:pt x="1016" y="1187"/>
                </a:lnTo>
                <a:lnTo>
                  <a:pt x="1025" y="1181"/>
                </a:lnTo>
                <a:lnTo>
                  <a:pt x="1033" y="1179"/>
                </a:lnTo>
                <a:lnTo>
                  <a:pt x="1042" y="1173"/>
                </a:lnTo>
                <a:lnTo>
                  <a:pt x="1045" y="1170"/>
                </a:lnTo>
                <a:lnTo>
                  <a:pt x="1045" y="1164"/>
                </a:lnTo>
                <a:lnTo>
                  <a:pt x="1045" y="1162"/>
                </a:lnTo>
                <a:lnTo>
                  <a:pt x="1045" y="1150"/>
                </a:lnTo>
                <a:lnTo>
                  <a:pt x="1045" y="1144"/>
                </a:lnTo>
                <a:lnTo>
                  <a:pt x="1045" y="1133"/>
                </a:lnTo>
                <a:lnTo>
                  <a:pt x="1045" y="1122"/>
                </a:lnTo>
                <a:lnTo>
                  <a:pt x="1045" y="1108"/>
                </a:lnTo>
                <a:lnTo>
                  <a:pt x="1045" y="1096"/>
                </a:lnTo>
                <a:lnTo>
                  <a:pt x="1042" y="1088"/>
                </a:lnTo>
                <a:lnTo>
                  <a:pt x="1042" y="1082"/>
                </a:lnTo>
                <a:lnTo>
                  <a:pt x="1042" y="1073"/>
                </a:lnTo>
                <a:lnTo>
                  <a:pt x="1042" y="1065"/>
                </a:lnTo>
                <a:lnTo>
                  <a:pt x="1042" y="1056"/>
                </a:lnTo>
                <a:lnTo>
                  <a:pt x="1042" y="1051"/>
                </a:lnTo>
                <a:lnTo>
                  <a:pt x="1042" y="1042"/>
                </a:lnTo>
                <a:lnTo>
                  <a:pt x="1042" y="1034"/>
                </a:lnTo>
                <a:lnTo>
                  <a:pt x="1039" y="1022"/>
                </a:lnTo>
                <a:lnTo>
                  <a:pt x="1039" y="1017"/>
                </a:lnTo>
                <a:lnTo>
                  <a:pt x="1039" y="1005"/>
                </a:lnTo>
                <a:lnTo>
                  <a:pt x="1039" y="1000"/>
                </a:lnTo>
                <a:lnTo>
                  <a:pt x="1039" y="991"/>
                </a:lnTo>
                <a:lnTo>
                  <a:pt x="1039" y="980"/>
                </a:lnTo>
                <a:lnTo>
                  <a:pt x="1039" y="971"/>
                </a:lnTo>
                <a:lnTo>
                  <a:pt x="1039" y="966"/>
                </a:lnTo>
                <a:lnTo>
                  <a:pt x="1036" y="954"/>
                </a:lnTo>
                <a:lnTo>
                  <a:pt x="1036" y="946"/>
                </a:lnTo>
                <a:lnTo>
                  <a:pt x="1036" y="937"/>
                </a:lnTo>
                <a:lnTo>
                  <a:pt x="1036" y="929"/>
                </a:lnTo>
                <a:lnTo>
                  <a:pt x="1033" y="920"/>
                </a:lnTo>
                <a:lnTo>
                  <a:pt x="1033" y="912"/>
                </a:lnTo>
                <a:lnTo>
                  <a:pt x="1033" y="903"/>
                </a:lnTo>
                <a:lnTo>
                  <a:pt x="1033" y="895"/>
                </a:lnTo>
                <a:lnTo>
                  <a:pt x="1033" y="886"/>
                </a:lnTo>
                <a:lnTo>
                  <a:pt x="1033" y="880"/>
                </a:lnTo>
                <a:lnTo>
                  <a:pt x="1033" y="872"/>
                </a:lnTo>
                <a:lnTo>
                  <a:pt x="1033" y="863"/>
                </a:lnTo>
                <a:lnTo>
                  <a:pt x="1033" y="858"/>
                </a:lnTo>
                <a:lnTo>
                  <a:pt x="1033" y="849"/>
                </a:lnTo>
                <a:lnTo>
                  <a:pt x="1033" y="843"/>
                </a:lnTo>
                <a:lnTo>
                  <a:pt x="1033" y="838"/>
                </a:lnTo>
                <a:lnTo>
                  <a:pt x="1031" y="824"/>
                </a:lnTo>
                <a:lnTo>
                  <a:pt x="1031" y="815"/>
                </a:lnTo>
                <a:lnTo>
                  <a:pt x="1031" y="804"/>
                </a:lnTo>
                <a:lnTo>
                  <a:pt x="1031" y="798"/>
                </a:lnTo>
                <a:lnTo>
                  <a:pt x="1031" y="787"/>
                </a:lnTo>
                <a:lnTo>
                  <a:pt x="1031" y="784"/>
                </a:lnTo>
                <a:lnTo>
                  <a:pt x="1099" y="0"/>
                </a:lnTo>
                <a:lnTo>
                  <a:pt x="105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26"/>
          <p:cNvSpPr/>
          <p:nvPr/>
        </p:nvSpPr>
        <p:spPr>
          <a:xfrm>
            <a:off x="5641920" y="5364000"/>
            <a:ext cx="2286000" cy="1837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837080"/>
              <a:gd name="textAreaBottom" fmla="*/ 1837440 h 1837080"/>
            </a:gdLst>
            <a:ahLst/>
            <a:rect l="textAreaLeft" t="textAreaTop" r="textAreaRight" b="textAreaBottom"/>
            <a:pathLst>
              <a:path w="1666" h="1315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5"/>
                </a:lnTo>
                <a:lnTo>
                  <a:pt x="0" y="23"/>
                </a:lnTo>
                <a:lnTo>
                  <a:pt x="0" y="32"/>
                </a:lnTo>
                <a:lnTo>
                  <a:pt x="0" y="43"/>
                </a:lnTo>
                <a:lnTo>
                  <a:pt x="0" y="52"/>
                </a:lnTo>
                <a:lnTo>
                  <a:pt x="3" y="66"/>
                </a:lnTo>
                <a:lnTo>
                  <a:pt x="3" y="74"/>
                </a:lnTo>
                <a:lnTo>
                  <a:pt x="6" y="91"/>
                </a:lnTo>
                <a:lnTo>
                  <a:pt x="6" y="106"/>
                </a:lnTo>
                <a:lnTo>
                  <a:pt x="6" y="120"/>
                </a:lnTo>
                <a:lnTo>
                  <a:pt x="9" y="137"/>
                </a:lnTo>
                <a:lnTo>
                  <a:pt x="9" y="154"/>
                </a:lnTo>
                <a:lnTo>
                  <a:pt x="9" y="171"/>
                </a:lnTo>
                <a:lnTo>
                  <a:pt x="12" y="191"/>
                </a:lnTo>
                <a:lnTo>
                  <a:pt x="12" y="208"/>
                </a:lnTo>
                <a:lnTo>
                  <a:pt x="14" y="228"/>
                </a:lnTo>
                <a:lnTo>
                  <a:pt x="17" y="248"/>
                </a:lnTo>
                <a:lnTo>
                  <a:pt x="20" y="270"/>
                </a:lnTo>
                <a:lnTo>
                  <a:pt x="20" y="290"/>
                </a:lnTo>
                <a:lnTo>
                  <a:pt x="23" y="313"/>
                </a:lnTo>
                <a:lnTo>
                  <a:pt x="23" y="336"/>
                </a:lnTo>
                <a:lnTo>
                  <a:pt x="26" y="358"/>
                </a:lnTo>
                <a:lnTo>
                  <a:pt x="29" y="381"/>
                </a:lnTo>
                <a:lnTo>
                  <a:pt x="31" y="404"/>
                </a:lnTo>
                <a:lnTo>
                  <a:pt x="31" y="426"/>
                </a:lnTo>
                <a:lnTo>
                  <a:pt x="34" y="452"/>
                </a:lnTo>
                <a:lnTo>
                  <a:pt x="34" y="475"/>
                </a:lnTo>
                <a:lnTo>
                  <a:pt x="37" y="497"/>
                </a:lnTo>
                <a:lnTo>
                  <a:pt x="37" y="520"/>
                </a:lnTo>
                <a:lnTo>
                  <a:pt x="40" y="546"/>
                </a:lnTo>
                <a:lnTo>
                  <a:pt x="43" y="568"/>
                </a:lnTo>
                <a:lnTo>
                  <a:pt x="43" y="591"/>
                </a:lnTo>
                <a:lnTo>
                  <a:pt x="43" y="614"/>
                </a:lnTo>
                <a:lnTo>
                  <a:pt x="46" y="637"/>
                </a:lnTo>
                <a:lnTo>
                  <a:pt x="48" y="659"/>
                </a:lnTo>
                <a:lnTo>
                  <a:pt x="51" y="682"/>
                </a:lnTo>
                <a:lnTo>
                  <a:pt x="51" y="705"/>
                </a:lnTo>
                <a:lnTo>
                  <a:pt x="51" y="725"/>
                </a:lnTo>
                <a:lnTo>
                  <a:pt x="54" y="747"/>
                </a:lnTo>
                <a:lnTo>
                  <a:pt x="57" y="767"/>
                </a:lnTo>
                <a:lnTo>
                  <a:pt x="57" y="787"/>
                </a:lnTo>
                <a:lnTo>
                  <a:pt x="60" y="807"/>
                </a:lnTo>
                <a:lnTo>
                  <a:pt x="60" y="827"/>
                </a:lnTo>
                <a:lnTo>
                  <a:pt x="63" y="847"/>
                </a:lnTo>
                <a:lnTo>
                  <a:pt x="63" y="861"/>
                </a:lnTo>
                <a:lnTo>
                  <a:pt x="63" y="881"/>
                </a:lnTo>
                <a:lnTo>
                  <a:pt x="63" y="895"/>
                </a:lnTo>
                <a:lnTo>
                  <a:pt x="65" y="912"/>
                </a:lnTo>
                <a:lnTo>
                  <a:pt x="65" y="923"/>
                </a:lnTo>
                <a:lnTo>
                  <a:pt x="65" y="938"/>
                </a:lnTo>
                <a:lnTo>
                  <a:pt x="68" y="952"/>
                </a:lnTo>
                <a:lnTo>
                  <a:pt x="68" y="963"/>
                </a:lnTo>
                <a:lnTo>
                  <a:pt x="68" y="975"/>
                </a:lnTo>
                <a:lnTo>
                  <a:pt x="68" y="983"/>
                </a:lnTo>
                <a:lnTo>
                  <a:pt x="68" y="989"/>
                </a:lnTo>
                <a:lnTo>
                  <a:pt x="71" y="997"/>
                </a:lnTo>
                <a:lnTo>
                  <a:pt x="71" y="1006"/>
                </a:lnTo>
                <a:lnTo>
                  <a:pt x="71" y="1009"/>
                </a:lnTo>
                <a:lnTo>
                  <a:pt x="71" y="1011"/>
                </a:lnTo>
                <a:lnTo>
                  <a:pt x="71" y="1017"/>
                </a:lnTo>
                <a:lnTo>
                  <a:pt x="68" y="1020"/>
                </a:lnTo>
                <a:lnTo>
                  <a:pt x="65" y="1031"/>
                </a:lnTo>
                <a:lnTo>
                  <a:pt x="63" y="1034"/>
                </a:lnTo>
                <a:lnTo>
                  <a:pt x="63" y="1040"/>
                </a:lnTo>
                <a:lnTo>
                  <a:pt x="60" y="1048"/>
                </a:lnTo>
                <a:lnTo>
                  <a:pt x="60" y="1057"/>
                </a:lnTo>
                <a:lnTo>
                  <a:pt x="57" y="1063"/>
                </a:lnTo>
                <a:lnTo>
                  <a:pt x="57" y="1071"/>
                </a:lnTo>
                <a:lnTo>
                  <a:pt x="54" y="1080"/>
                </a:lnTo>
                <a:lnTo>
                  <a:pt x="54" y="1088"/>
                </a:lnTo>
                <a:lnTo>
                  <a:pt x="51" y="1097"/>
                </a:lnTo>
                <a:lnTo>
                  <a:pt x="51" y="1105"/>
                </a:lnTo>
                <a:lnTo>
                  <a:pt x="51" y="1114"/>
                </a:lnTo>
                <a:lnTo>
                  <a:pt x="51" y="1125"/>
                </a:lnTo>
                <a:lnTo>
                  <a:pt x="48" y="1131"/>
                </a:lnTo>
                <a:lnTo>
                  <a:pt x="46" y="1139"/>
                </a:lnTo>
                <a:lnTo>
                  <a:pt x="46" y="1148"/>
                </a:lnTo>
                <a:lnTo>
                  <a:pt x="43" y="1156"/>
                </a:lnTo>
                <a:lnTo>
                  <a:pt x="43" y="1165"/>
                </a:lnTo>
                <a:lnTo>
                  <a:pt x="43" y="1170"/>
                </a:lnTo>
                <a:lnTo>
                  <a:pt x="43" y="1179"/>
                </a:lnTo>
                <a:lnTo>
                  <a:pt x="43" y="1188"/>
                </a:lnTo>
                <a:lnTo>
                  <a:pt x="43" y="1199"/>
                </a:lnTo>
                <a:lnTo>
                  <a:pt x="43" y="1210"/>
                </a:lnTo>
                <a:lnTo>
                  <a:pt x="43" y="1219"/>
                </a:lnTo>
                <a:lnTo>
                  <a:pt x="48" y="1224"/>
                </a:lnTo>
                <a:lnTo>
                  <a:pt x="51" y="1224"/>
                </a:lnTo>
                <a:lnTo>
                  <a:pt x="57" y="1224"/>
                </a:lnTo>
                <a:lnTo>
                  <a:pt x="65" y="1227"/>
                </a:lnTo>
                <a:lnTo>
                  <a:pt x="77" y="1227"/>
                </a:lnTo>
                <a:lnTo>
                  <a:pt x="88" y="1227"/>
                </a:lnTo>
                <a:lnTo>
                  <a:pt x="102" y="1230"/>
                </a:lnTo>
                <a:lnTo>
                  <a:pt x="119" y="1233"/>
                </a:lnTo>
                <a:lnTo>
                  <a:pt x="136" y="1233"/>
                </a:lnTo>
                <a:lnTo>
                  <a:pt x="156" y="1236"/>
                </a:lnTo>
                <a:lnTo>
                  <a:pt x="176" y="1236"/>
                </a:lnTo>
                <a:lnTo>
                  <a:pt x="199" y="1236"/>
                </a:lnTo>
                <a:lnTo>
                  <a:pt x="221" y="1239"/>
                </a:lnTo>
                <a:lnTo>
                  <a:pt x="247" y="1241"/>
                </a:lnTo>
                <a:lnTo>
                  <a:pt x="275" y="1241"/>
                </a:lnTo>
                <a:lnTo>
                  <a:pt x="303" y="1244"/>
                </a:lnTo>
                <a:lnTo>
                  <a:pt x="332" y="1244"/>
                </a:lnTo>
                <a:lnTo>
                  <a:pt x="360" y="1247"/>
                </a:lnTo>
                <a:lnTo>
                  <a:pt x="391" y="1247"/>
                </a:lnTo>
                <a:lnTo>
                  <a:pt x="422" y="1250"/>
                </a:lnTo>
                <a:lnTo>
                  <a:pt x="456" y="1253"/>
                </a:lnTo>
                <a:lnTo>
                  <a:pt x="490" y="1256"/>
                </a:lnTo>
                <a:lnTo>
                  <a:pt x="524" y="1256"/>
                </a:lnTo>
                <a:lnTo>
                  <a:pt x="561" y="1259"/>
                </a:lnTo>
                <a:lnTo>
                  <a:pt x="595" y="1259"/>
                </a:lnTo>
                <a:lnTo>
                  <a:pt x="632" y="1261"/>
                </a:lnTo>
                <a:lnTo>
                  <a:pt x="666" y="1264"/>
                </a:lnTo>
                <a:lnTo>
                  <a:pt x="706" y="1267"/>
                </a:lnTo>
                <a:lnTo>
                  <a:pt x="742" y="1267"/>
                </a:lnTo>
                <a:lnTo>
                  <a:pt x="779" y="1270"/>
                </a:lnTo>
                <a:lnTo>
                  <a:pt x="816" y="1273"/>
                </a:lnTo>
                <a:lnTo>
                  <a:pt x="856" y="1276"/>
                </a:lnTo>
                <a:lnTo>
                  <a:pt x="890" y="1276"/>
                </a:lnTo>
                <a:lnTo>
                  <a:pt x="929" y="1278"/>
                </a:lnTo>
                <a:lnTo>
                  <a:pt x="963" y="1278"/>
                </a:lnTo>
                <a:lnTo>
                  <a:pt x="1003" y="1281"/>
                </a:lnTo>
                <a:lnTo>
                  <a:pt x="1037" y="1284"/>
                </a:lnTo>
                <a:lnTo>
                  <a:pt x="1074" y="1287"/>
                </a:lnTo>
                <a:lnTo>
                  <a:pt x="1111" y="1287"/>
                </a:lnTo>
                <a:lnTo>
                  <a:pt x="1145" y="1290"/>
                </a:lnTo>
                <a:lnTo>
                  <a:pt x="1178" y="1290"/>
                </a:lnTo>
                <a:lnTo>
                  <a:pt x="1212" y="1293"/>
                </a:lnTo>
                <a:lnTo>
                  <a:pt x="1246" y="1293"/>
                </a:lnTo>
                <a:lnTo>
                  <a:pt x="1280" y="1295"/>
                </a:lnTo>
                <a:lnTo>
                  <a:pt x="1312" y="1298"/>
                </a:lnTo>
                <a:lnTo>
                  <a:pt x="1343" y="1298"/>
                </a:lnTo>
                <a:lnTo>
                  <a:pt x="1371" y="1301"/>
                </a:lnTo>
                <a:lnTo>
                  <a:pt x="1402" y="1304"/>
                </a:lnTo>
                <a:lnTo>
                  <a:pt x="1428" y="1304"/>
                </a:lnTo>
                <a:lnTo>
                  <a:pt x="1453" y="1304"/>
                </a:lnTo>
                <a:lnTo>
                  <a:pt x="1479" y="1307"/>
                </a:lnTo>
                <a:lnTo>
                  <a:pt x="1504" y="1307"/>
                </a:lnTo>
                <a:lnTo>
                  <a:pt x="1524" y="1310"/>
                </a:lnTo>
                <a:lnTo>
                  <a:pt x="1544" y="1310"/>
                </a:lnTo>
                <a:lnTo>
                  <a:pt x="1564" y="1310"/>
                </a:lnTo>
                <a:lnTo>
                  <a:pt x="1581" y="1312"/>
                </a:lnTo>
                <a:lnTo>
                  <a:pt x="1595" y="1312"/>
                </a:lnTo>
                <a:lnTo>
                  <a:pt x="1609" y="1312"/>
                </a:lnTo>
                <a:lnTo>
                  <a:pt x="1620" y="1312"/>
                </a:lnTo>
                <a:lnTo>
                  <a:pt x="1632" y="1315"/>
                </a:lnTo>
                <a:lnTo>
                  <a:pt x="1640" y="1315"/>
                </a:lnTo>
                <a:lnTo>
                  <a:pt x="1646" y="1315"/>
                </a:lnTo>
                <a:lnTo>
                  <a:pt x="1649" y="1315"/>
                </a:lnTo>
                <a:lnTo>
                  <a:pt x="1651" y="1315"/>
                </a:lnTo>
                <a:lnTo>
                  <a:pt x="1666" y="1281"/>
                </a:lnTo>
                <a:lnTo>
                  <a:pt x="1663" y="1278"/>
                </a:lnTo>
                <a:lnTo>
                  <a:pt x="1660" y="1278"/>
                </a:lnTo>
                <a:lnTo>
                  <a:pt x="1654" y="1278"/>
                </a:lnTo>
                <a:lnTo>
                  <a:pt x="1649" y="1278"/>
                </a:lnTo>
                <a:lnTo>
                  <a:pt x="1637" y="1278"/>
                </a:lnTo>
                <a:lnTo>
                  <a:pt x="1626" y="1278"/>
                </a:lnTo>
                <a:lnTo>
                  <a:pt x="1612" y="1276"/>
                </a:lnTo>
                <a:lnTo>
                  <a:pt x="1598" y="1276"/>
                </a:lnTo>
                <a:lnTo>
                  <a:pt x="1578" y="1276"/>
                </a:lnTo>
                <a:lnTo>
                  <a:pt x="1561" y="1276"/>
                </a:lnTo>
                <a:lnTo>
                  <a:pt x="1541" y="1273"/>
                </a:lnTo>
                <a:lnTo>
                  <a:pt x="1518" y="1273"/>
                </a:lnTo>
                <a:lnTo>
                  <a:pt x="1493" y="1270"/>
                </a:lnTo>
                <a:lnTo>
                  <a:pt x="1470" y="1270"/>
                </a:lnTo>
                <a:lnTo>
                  <a:pt x="1445" y="1267"/>
                </a:lnTo>
                <a:lnTo>
                  <a:pt x="1419" y="1267"/>
                </a:lnTo>
                <a:lnTo>
                  <a:pt x="1388" y="1267"/>
                </a:lnTo>
                <a:lnTo>
                  <a:pt x="1360" y="1264"/>
                </a:lnTo>
                <a:lnTo>
                  <a:pt x="1329" y="1264"/>
                </a:lnTo>
                <a:lnTo>
                  <a:pt x="1297" y="1261"/>
                </a:lnTo>
                <a:lnTo>
                  <a:pt x="1263" y="1259"/>
                </a:lnTo>
                <a:lnTo>
                  <a:pt x="1229" y="1259"/>
                </a:lnTo>
                <a:lnTo>
                  <a:pt x="1195" y="1256"/>
                </a:lnTo>
                <a:lnTo>
                  <a:pt x="1164" y="1256"/>
                </a:lnTo>
                <a:lnTo>
                  <a:pt x="1128" y="1253"/>
                </a:lnTo>
                <a:lnTo>
                  <a:pt x="1091" y="1253"/>
                </a:lnTo>
                <a:lnTo>
                  <a:pt x="1057" y="1250"/>
                </a:lnTo>
                <a:lnTo>
                  <a:pt x="1020" y="1247"/>
                </a:lnTo>
                <a:lnTo>
                  <a:pt x="983" y="1244"/>
                </a:lnTo>
                <a:lnTo>
                  <a:pt x="946" y="1244"/>
                </a:lnTo>
                <a:lnTo>
                  <a:pt x="909" y="1244"/>
                </a:lnTo>
                <a:lnTo>
                  <a:pt x="873" y="1241"/>
                </a:lnTo>
                <a:lnTo>
                  <a:pt x="836" y="1239"/>
                </a:lnTo>
                <a:lnTo>
                  <a:pt x="796" y="1236"/>
                </a:lnTo>
                <a:lnTo>
                  <a:pt x="759" y="1236"/>
                </a:lnTo>
                <a:lnTo>
                  <a:pt x="723" y="1233"/>
                </a:lnTo>
                <a:lnTo>
                  <a:pt x="686" y="1230"/>
                </a:lnTo>
                <a:lnTo>
                  <a:pt x="649" y="1230"/>
                </a:lnTo>
                <a:lnTo>
                  <a:pt x="612" y="1227"/>
                </a:lnTo>
                <a:lnTo>
                  <a:pt x="581" y="1224"/>
                </a:lnTo>
                <a:lnTo>
                  <a:pt x="544" y="1224"/>
                </a:lnTo>
                <a:lnTo>
                  <a:pt x="510" y="1222"/>
                </a:lnTo>
                <a:lnTo>
                  <a:pt x="476" y="1219"/>
                </a:lnTo>
                <a:lnTo>
                  <a:pt x="445" y="1219"/>
                </a:lnTo>
                <a:lnTo>
                  <a:pt x="411" y="1216"/>
                </a:lnTo>
                <a:lnTo>
                  <a:pt x="380" y="1213"/>
                </a:lnTo>
                <a:lnTo>
                  <a:pt x="351" y="1213"/>
                </a:lnTo>
                <a:lnTo>
                  <a:pt x="326" y="1210"/>
                </a:lnTo>
                <a:lnTo>
                  <a:pt x="295" y="1207"/>
                </a:lnTo>
                <a:lnTo>
                  <a:pt x="269" y="1207"/>
                </a:lnTo>
                <a:lnTo>
                  <a:pt x="244" y="1205"/>
                </a:lnTo>
                <a:lnTo>
                  <a:pt x="221" y="1202"/>
                </a:lnTo>
                <a:lnTo>
                  <a:pt x="199" y="1202"/>
                </a:lnTo>
                <a:lnTo>
                  <a:pt x="179" y="1199"/>
                </a:lnTo>
                <a:lnTo>
                  <a:pt x="159" y="1196"/>
                </a:lnTo>
                <a:lnTo>
                  <a:pt x="142" y="1196"/>
                </a:lnTo>
                <a:lnTo>
                  <a:pt x="125" y="1193"/>
                </a:lnTo>
                <a:lnTo>
                  <a:pt x="114" y="1193"/>
                </a:lnTo>
                <a:lnTo>
                  <a:pt x="99" y="1190"/>
                </a:lnTo>
                <a:lnTo>
                  <a:pt x="91" y="1190"/>
                </a:lnTo>
                <a:lnTo>
                  <a:pt x="82" y="1188"/>
                </a:lnTo>
                <a:lnTo>
                  <a:pt x="77" y="1188"/>
                </a:lnTo>
                <a:lnTo>
                  <a:pt x="74" y="1185"/>
                </a:lnTo>
                <a:lnTo>
                  <a:pt x="74" y="1179"/>
                </a:lnTo>
                <a:lnTo>
                  <a:pt x="74" y="1170"/>
                </a:lnTo>
                <a:lnTo>
                  <a:pt x="74" y="1159"/>
                </a:lnTo>
                <a:lnTo>
                  <a:pt x="74" y="1148"/>
                </a:lnTo>
                <a:lnTo>
                  <a:pt x="74" y="1136"/>
                </a:lnTo>
                <a:lnTo>
                  <a:pt x="77" y="1125"/>
                </a:lnTo>
                <a:lnTo>
                  <a:pt x="80" y="1111"/>
                </a:lnTo>
                <a:lnTo>
                  <a:pt x="82" y="1099"/>
                </a:lnTo>
                <a:lnTo>
                  <a:pt x="82" y="1088"/>
                </a:lnTo>
                <a:lnTo>
                  <a:pt x="85" y="1077"/>
                </a:lnTo>
                <a:lnTo>
                  <a:pt x="85" y="1065"/>
                </a:lnTo>
                <a:lnTo>
                  <a:pt x="88" y="1057"/>
                </a:lnTo>
                <a:lnTo>
                  <a:pt x="88" y="1048"/>
                </a:lnTo>
                <a:lnTo>
                  <a:pt x="91" y="1043"/>
                </a:lnTo>
                <a:lnTo>
                  <a:pt x="91" y="1040"/>
                </a:lnTo>
                <a:lnTo>
                  <a:pt x="94" y="1040"/>
                </a:lnTo>
                <a:lnTo>
                  <a:pt x="99" y="1040"/>
                </a:lnTo>
                <a:lnTo>
                  <a:pt x="105" y="1040"/>
                </a:lnTo>
                <a:lnTo>
                  <a:pt x="114" y="1040"/>
                </a:lnTo>
                <a:lnTo>
                  <a:pt x="122" y="1037"/>
                </a:lnTo>
                <a:lnTo>
                  <a:pt x="128" y="1037"/>
                </a:lnTo>
                <a:lnTo>
                  <a:pt x="131" y="1031"/>
                </a:lnTo>
                <a:lnTo>
                  <a:pt x="128" y="1028"/>
                </a:lnTo>
                <a:lnTo>
                  <a:pt x="125" y="1020"/>
                </a:lnTo>
                <a:lnTo>
                  <a:pt x="116" y="1009"/>
                </a:lnTo>
                <a:lnTo>
                  <a:pt x="111" y="997"/>
                </a:lnTo>
                <a:lnTo>
                  <a:pt x="105" y="986"/>
                </a:lnTo>
                <a:lnTo>
                  <a:pt x="99" y="972"/>
                </a:lnTo>
                <a:lnTo>
                  <a:pt x="97" y="963"/>
                </a:lnTo>
                <a:lnTo>
                  <a:pt x="94" y="955"/>
                </a:lnTo>
                <a:lnTo>
                  <a:pt x="3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27"/>
          <p:cNvSpPr/>
          <p:nvPr/>
        </p:nvSpPr>
        <p:spPr>
          <a:xfrm>
            <a:off x="5824440" y="681192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71">
                <a:moveTo>
                  <a:pt x="9" y="0"/>
                </a:moveTo>
                <a:lnTo>
                  <a:pt x="0" y="26"/>
                </a:lnTo>
                <a:lnTo>
                  <a:pt x="0" y="28"/>
                </a:lnTo>
                <a:lnTo>
                  <a:pt x="3" y="34"/>
                </a:lnTo>
                <a:lnTo>
                  <a:pt x="12" y="45"/>
                </a:lnTo>
                <a:lnTo>
                  <a:pt x="17" y="57"/>
                </a:lnTo>
                <a:lnTo>
                  <a:pt x="23" y="65"/>
                </a:lnTo>
                <a:lnTo>
                  <a:pt x="29" y="71"/>
                </a:lnTo>
                <a:lnTo>
                  <a:pt x="34" y="71"/>
                </a:lnTo>
                <a:lnTo>
                  <a:pt x="34" y="68"/>
                </a:lnTo>
                <a:lnTo>
                  <a:pt x="32" y="54"/>
                </a:lnTo>
                <a:lnTo>
                  <a:pt x="29" y="43"/>
                </a:lnTo>
                <a:lnTo>
                  <a:pt x="23" y="31"/>
                </a:lnTo>
                <a:lnTo>
                  <a:pt x="20" y="23"/>
                </a:lnTo>
                <a:lnTo>
                  <a:pt x="15" y="11"/>
                </a:lnTo>
                <a:lnTo>
                  <a:pt x="12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28"/>
          <p:cNvSpPr/>
          <p:nvPr/>
        </p:nvSpPr>
        <p:spPr>
          <a:xfrm>
            <a:off x="9328320" y="4329000"/>
            <a:ext cx="603000" cy="314280"/>
          </a:xfrm>
          <a:custGeom>
            <a:avLst/>
            <a:gdLst>
              <a:gd name="textAreaLeft" fmla="*/ 0 w 603000"/>
              <a:gd name="textAreaRight" fmla="*/ 603360 w 603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39" h="225">
                <a:moveTo>
                  <a:pt x="0" y="14"/>
                </a:moveTo>
                <a:lnTo>
                  <a:pt x="405" y="225"/>
                </a:lnTo>
                <a:lnTo>
                  <a:pt x="411" y="222"/>
                </a:lnTo>
                <a:lnTo>
                  <a:pt x="419" y="219"/>
                </a:lnTo>
                <a:lnTo>
                  <a:pt x="428" y="213"/>
                </a:lnTo>
                <a:lnTo>
                  <a:pt x="433" y="210"/>
                </a:lnTo>
                <a:lnTo>
                  <a:pt x="439" y="205"/>
                </a:lnTo>
                <a:lnTo>
                  <a:pt x="439" y="199"/>
                </a:lnTo>
                <a:lnTo>
                  <a:pt x="436" y="193"/>
                </a:lnTo>
                <a:lnTo>
                  <a:pt x="431" y="191"/>
                </a:lnTo>
                <a:lnTo>
                  <a:pt x="425" y="188"/>
                </a:lnTo>
                <a:lnTo>
                  <a:pt x="419" y="182"/>
                </a:lnTo>
                <a:lnTo>
                  <a:pt x="411" y="179"/>
                </a:lnTo>
                <a:lnTo>
                  <a:pt x="399" y="173"/>
                </a:lnTo>
                <a:lnTo>
                  <a:pt x="388" y="168"/>
                </a:lnTo>
                <a:lnTo>
                  <a:pt x="377" y="162"/>
                </a:lnTo>
                <a:lnTo>
                  <a:pt x="363" y="156"/>
                </a:lnTo>
                <a:lnTo>
                  <a:pt x="354" y="151"/>
                </a:lnTo>
                <a:lnTo>
                  <a:pt x="348" y="148"/>
                </a:lnTo>
                <a:lnTo>
                  <a:pt x="340" y="142"/>
                </a:lnTo>
                <a:lnTo>
                  <a:pt x="331" y="139"/>
                </a:lnTo>
                <a:lnTo>
                  <a:pt x="323" y="137"/>
                </a:lnTo>
                <a:lnTo>
                  <a:pt x="317" y="131"/>
                </a:lnTo>
                <a:lnTo>
                  <a:pt x="309" y="128"/>
                </a:lnTo>
                <a:lnTo>
                  <a:pt x="300" y="125"/>
                </a:lnTo>
                <a:lnTo>
                  <a:pt x="289" y="120"/>
                </a:lnTo>
                <a:lnTo>
                  <a:pt x="283" y="117"/>
                </a:lnTo>
                <a:lnTo>
                  <a:pt x="272" y="111"/>
                </a:lnTo>
                <a:lnTo>
                  <a:pt x="266" y="108"/>
                </a:lnTo>
                <a:lnTo>
                  <a:pt x="258" y="102"/>
                </a:lnTo>
                <a:lnTo>
                  <a:pt x="246" y="97"/>
                </a:lnTo>
                <a:lnTo>
                  <a:pt x="238" y="94"/>
                </a:lnTo>
                <a:lnTo>
                  <a:pt x="232" y="91"/>
                </a:lnTo>
                <a:lnTo>
                  <a:pt x="221" y="85"/>
                </a:lnTo>
                <a:lnTo>
                  <a:pt x="212" y="83"/>
                </a:lnTo>
                <a:lnTo>
                  <a:pt x="204" y="77"/>
                </a:lnTo>
                <a:lnTo>
                  <a:pt x="195" y="74"/>
                </a:lnTo>
                <a:lnTo>
                  <a:pt x="187" y="68"/>
                </a:lnTo>
                <a:lnTo>
                  <a:pt x="178" y="66"/>
                </a:lnTo>
                <a:lnTo>
                  <a:pt x="170" y="60"/>
                </a:lnTo>
                <a:lnTo>
                  <a:pt x="161" y="57"/>
                </a:lnTo>
                <a:lnTo>
                  <a:pt x="153" y="54"/>
                </a:lnTo>
                <a:lnTo>
                  <a:pt x="145" y="49"/>
                </a:lnTo>
                <a:lnTo>
                  <a:pt x="139" y="46"/>
                </a:lnTo>
                <a:lnTo>
                  <a:pt x="130" y="43"/>
                </a:lnTo>
                <a:lnTo>
                  <a:pt x="122" y="37"/>
                </a:lnTo>
                <a:lnTo>
                  <a:pt x="116" y="34"/>
                </a:lnTo>
                <a:lnTo>
                  <a:pt x="108" y="31"/>
                </a:lnTo>
                <a:lnTo>
                  <a:pt x="102" y="29"/>
                </a:lnTo>
                <a:lnTo>
                  <a:pt x="88" y="23"/>
                </a:lnTo>
                <a:lnTo>
                  <a:pt x="79" y="17"/>
                </a:lnTo>
                <a:lnTo>
                  <a:pt x="68" y="12"/>
                </a:lnTo>
                <a:lnTo>
                  <a:pt x="62" y="9"/>
                </a:lnTo>
                <a:lnTo>
                  <a:pt x="54" y="3"/>
                </a:lnTo>
                <a:lnTo>
                  <a:pt x="51" y="3"/>
                </a:ln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29"/>
          <p:cNvSpPr/>
          <p:nvPr/>
        </p:nvSpPr>
        <p:spPr>
          <a:xfrm>
            <a:off x="6935760" y="4570560"/>
            <a:ext cx="63360" cy="147600"/>
          </a:xfrm>
          <a:custGeom>
            <a:avLst/>
            <a:gdLst>
              <a:gd name="textAreaLeft" fmla="*/ 0 w 63360"/>
              <a:gd name="textAreaRight" fmla="*/ 63720 w 63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6" h="106">
                <a:moveTo>
                  <a:pt x="34" y="9"/>
                </a:moveTo>
                <a:lnTo>
                  <a:pt x="29" y="3"/>
                </a:lnTo>
                <a:lnTo>
                  <a:pt x="20" y="0"/>
                </a:lnTo>
                <a:lnTo>
                  <a:pt x="15" y="3"/>
                </a:lnTo>
                <a:lnTo>
                  <a:pt x="9" y="15"/>
                </a:lnTo>
                <a:lnTo>
                  <a:pt x="6" y="23"/>
                </a:lnTo>
                <a:lnTo>
                  <a:pt x="3" y="35"/>
                </a:lnTo>
                <a:lnTo>
                  <a:pt x="3" y="40"/>
                </a:lnTo>
                <a:lnTo>
                  <a:pt x="3" y="49"/>
                </a:lnTo>
                <a:lnTo>
                  <a:pt x="3" y="57"/>
                </a:lnTo>
                <a:lnTo>
                  <a:pt x="3" y="63"/>
                </a:lnTo>
                <a:lnTo>
                  <a:pt x="0" y="77"/>
                </a:lnTo>
                <a:lnTo>
                  <a:pt x="3" y="89"/>
                </a:lnTo>
                <a:lnTo>
                  <a:pt x="6" y="97"/>
                </a:lnTo>
                <a:lnTo>
                  <a:pt x="12" y="103"/>
                </a:lnTo>
                <a:lnTo>
                  <a:pt x="23" y="106"/>
                </a:lnTo>
                <a:lnTo>
                  <a:pt x="32" y="106"/>
                </a:lnTo>
                <a:lnTo>
                  <a:pt x="40" y="103"/>
                </a:lnTo>
                <a:lnTo>
                  <a:pt x="46" y="100"/>
                </a:lnTo>
                <a:lnTo>
                  <a:pt x="46" y="91"/>
                </a:lnTo>
                <a:lnTo>
                  <a:pt x="46" y="80"/>
                </a:lnTo>
                <a:lnTo>
                  <a:pt x="43" y="71"/>
                </a:lnTo>
                <a:lnTo>
                  <a:pt x="43" y="63"/>
                </a:lnTo>
                <a:lnTo>
                  <a:pt x="43" y="57"/>
                </a:lnTo>
                <a:lnTo>
                  <a:pt x="43" y="49"/>
                </a:lnTo>
                <a:lnTo>
                  <a:pt x="43" y="40"/>
                </a:lnTo>
                <a:lnTo>
                  <a:pt x="43" y="35"/>
                </a:lnTo>
                <a:lnTo>
                  <a:pt x="40" y="26"/>
                </a:lnTo>
                <a:lnTo>
                  <a:pt x="40" y="20"/>
                </a:lnTo>
                <a:lnTo>
                  <a:pt x="37" y="9"/>
                </a:lnTo>
                <a:lnTo>
                  <a:pt x="3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30"/>
          <p:cNvSpPr/>
          <p:nvPr/>
        </p:nvSpPr>
        <p:spPr>
          <a:xfrm>
            <a:off x="6808680" y="4765680"/>
            <a:ext cx="81000" cy="114120"/>
          </a:xfrm>
          <a:custGeom>
            <a:avLst/>
            <a:gdLst>
              <a:gd name="textAreaLeft" fmla="*/ 0 w 81000"/>
              <a:gd name="textAreaRight" fmla="*/ 81360 w 81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9" h="82">
                <a:moveTo>
                  <a:pt x="0" y="19"/>
                </a:moveTo>
                <a:lnTo>
                  <a:pt x="3" y="31"/>
                </a:lnTo>
                <a:lnTo>
                  <a:pt x="8" y="37"/>
                </a:lnTo>
                <a:lnTo>
                  <a:pt x="14" y="39"/>
                </a:lnTo>
                <a:lnTo>
                  <a:pt x="17" y="42"/>
                </a:lnTo>
                <a:lnTo>
                  <a:pt x="23" y="82"/>
                </a:lnTo>
                <a:lnTo>
                  <a:pt x="54" y="82"/>
                </a:lnTo>
                <a:lnTo>
                  <a:pt x="40" y="37"/>
                </a:lnTo>
                <a:lnTo>
                  <a:pt x="45" y="34"/>
                </a:lnTo>
                <a:lnTo>
                  <a:pt x="51" y="31"/>
                </a:lnTo>
                <a:lnTo>
                  <a:pt x="59" y="25"/>
                </a:lnTo>
                <a:lnTo>
                  <a:pt x="59" y="17"/>
                </a:lnTo>
                <a:lnTo>
                  <a:pt x="59" y="8"/>
                </a:lnTo>
                <a:lnTo>
                  <a:pt x="57" y="2"/>
                </a:lnTo>
                <a:lnTo>
                  <a:pt x="54" y="0"/>
                </a:lnTo>
                <a:lnTo>
                  <a:pt x="51" y="0"/>
                </a:lnTo>
                <a:lnTo>
                  <a:pt x="45" y="0"/>
                </a:lnTo>
                <a:lnTo>
                  <a:pt x="40" y="0"/>
                </a:lnTo>
                <a:lnTo>
                  <a:pt x="34" y="0"/>
                </a:lnTo>
                <a:lnTo>
                  <a:pt x="28" y="5"/>
                </a:lnTo>
                <a:lnTo>
                  <a:pt x="20" y="8"/>
                </a:lnTo>
                <a:lnTo>
                  <a:pt x="14" y="11"/>
                </a:lnTo>
                <a:lnTo>
                  <a:pt x="3" y="1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31"/>
          <p:cNvSpPr/>
          <p:nvPr/>
        </p:nvSpPr>
        <p:spPr>
          <a:xfrm>
            <a:off x="6699240" y="4098960"/>
            <a:ext cx="504720" cy="797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368" h="570">
                <a:moveTo>
                  <a:pt x="53" y="562"/>
                </a:moveTo>
                <a:lnTo>
                  <a:pt x="53" y="562"/>
                </a:lnTo>
                <a:lnTo>
                  <a:pt x="53" y="556"/>
                </a:lnTo>
                <a:lnTo>
                  <a:pt x="51" y="548"/>
                </a:lnTo>
                <a:lnTo>
                  <a:pt x="48" y="536"/>
                </a:lnTo>
                <a:lnTo>
                  <a:pt x="45" y="528"/>
                </a:lnTo>
                <a:lnTo>
                  <a:pt x="42" y="519"/>
                </a:lnTo>
                <a:lnTo>
                  <a:pt x="42" y="514"/>
                </a:lnTo>
                <a:lnTo>
                  <a:pt x="42" y="505"/>
                </a:lnTo>
                <a:lnTo>
                  <a:pt x="39" y="496"/>
                </a:lnTo>
                <a:lnTo>
                  <a:pt x="39" y="488"/>
                </a:lnTo>
                <a:lnTo>
                  <a:pt x="39" y="477"/>
                </a:lnTo>
                <a:lnTo>
                  <a:pt x="39" y="468"/>
                </a:lnTo>
                <a:lnTo>
                  <a:pt x="39" y="457"/>
                </a:lnTo>
                <a:lnTo>
                  <a:pt x="39" y="445"/>
                </a:lnTo>
                <a:lnTo>
                  <a:pt x="39" y="434"/>
                </a:lnTo>
                <a:lnTo>
                  <a:pt x="42" y="426"/>
                </a:lnTo>
                <a:lnTo>
                  <a:pt x="42" y="414"/>
                </a:lnTo>
                <a:lnTo>
                  <a:pt x="45" y="403"/>
                </a:lnTo>
                <a:lnTo>
                  <a:pt x="45" y="391"/>
                </a:lnTo>
                <a:lnTo>
                  <a:pt x="51" y="380"/>
                </a:lnTo>
                <a:lnTo>
                  <a:pt x="53" y="369"/>
                </a:lnTo>
                <a:lnTo>
                  <a:pt x="56" y="357"/>
                </a:lnTo>
                <a:lnTo>
                  <a:pt x="62" y="343"/>
                </a:lnTo>
                <a:lnTo>
                  <a:pt x="68" y="332"/>
                </a:lnTo>
                <a:lnTo>
                  <a:pt x="73" y="320"/>
                </a:lnTo>
                <a:lnTo>
                  <a:pt x="79" y="309"/>
                </a:lnTo>
                <a:lnTo>
                  <a:pt x="87" y="301"/>
                </a:lnTo>
                <a:lnTo>
                  <a:pt x="96" y="289"/>
                </a:lnTo>
                <a:lnTo>
                  <a:pt x="104" y="278"/>
                </a:lnTo>
                <a:lnTo>
                  <a:pt x="113" y="269"/>
                </a:lnTo>
                <a:lnTo>
                  <a:pt x="119" y="258"/>
                </a:lnTo>
                <a:lnTo>
                  <a:pt x="127" y="249"/>
                </a:lnTo>
                <a:lnTo>
                  <a:pt x="133" y="241"/>
                </a:lnTo>
                <a:lnTo>
                  <a:pt x="138" y="235"/>
                </a:lnTo>
                <a:lnTo>
                  <a:pt x="144" y="227"/>
                </a:lnTo>
                <a:lnTo>
                  <a:pt x="150" y="221"/>
                </a:lnTo>
                <a:lnTo>
                  <a:pt x="158" y="207"/>
                </a:lnTo>
                <a:lnTo>
                  <a:pt x="167" y="198"/>
                </a:lnTo>
                <a:lnTo>
                  <a:pt x="172" y="187"/>
                </a:lnTo>
                <a:lnTo>
                  <a:pt x="178" y="181"/>
                </a:lnTo>
                <a:lnTo>
                  <a:pt x="184" y="170"/>
                </a:lnTo>
                <a:lnTo>
                  <a:pt x="187" y="164"/>
                </a:lnTo>
                <a:lnTo>
                  <a:pt x="184" y="161"/>
                </a:lnTo>
                <a:lnTo>
                  <a:pt x="178" y="161"/>
                </a:lnTo>
                <a:lnTo>
                  <a:pt x="170" y="161"/>
                </a:lnTo>
                <a:lnTo>
                  <a:pt x="161" y="164"/>
                </a:lnTo>
                <a:lnTo>
                  <a:pt x="150" y="170"/>
                </a:lnTo>
                <a:lnTo>
                  <a:pt x="138" y="176"/>
                </a:lnTo>
                <a:lnTo>
                  <a:pt x="127" y="178"/>
                </a:lnTo>
                <a:lnTo>
                  <a:pt x="116" y="184"/>
                </a:lnTo>
                <a:lnTo>
                  <a:pt x="107" y="187"/>
                </a:lnTo>
                <a:lnTo>
                  <a:pt x="102" y="187"/>
                </a:lnTo>
                <a:lnTo>
                  <a:pt x="93" y="184"/>
                </a:lnTo>
                <a:lnTo>
                  <a:pt x="87" y="184"/>
                </a:lnTo>
                <a:lnTo>
                  <a:pt x="79" y="184"/>
                </a:lnTo>
                <a:lnTo>
                  <a:pt x="76" y="181"/>
                </a:lnTo>
                <a:lnTo>
                  <a:pt x="68" y="178"/>
                </a:lnTo>
                <a:lnTo>
                  <a:pt x="65" y="176"/>
                </a:lnTo>
                <a:lnTo>
                  <a:pt x="65" y="173"/>
                </a:lnTo>
                <a:lnTo>
                  <a:pt x="70" y="164"/>
                </a:lnTo>
                <a:lnTo>
                  <a:pt x="76" y="161"/>
                </a:lnTo>
                <a:lnTo>
                  <a:pt x="82" y="156"/>
                </a:lnTo>
                <a:lnTo>
                  <a:pt x="87" y="150"/>
                </a:lnTo>
                <a:lnTo>
                  <a:pt x="96" y="144"/>
                </a:lnTo>
                <a:lnTo>
                  <a:pt x="104" y="139"/>
                </a:lnTo>
                <a:lnTo>
                  <a:pt x="113" y="133"/>
                </a:lnTo>
                <a:lnTo>
                  <a:pt x="124" y="127"/>
                </a:lnTo>
                <a:lnTo>
                  <a:pt x="136" y="124"/>
                </a:lnTo>
                <a:lnTo>
                  <a:pt x="147" y="119"/>
                </a:lnTo>
                <a:lnTo>
                  <a:pt x="158" y="113"/>
                </a:lnTo>
                <a:lnTo>
                  <a:pt x="170" y="110"/>
                </a:lnTo>
                <a:lnTo>
                  <a:pt x="181" y="105"/>
                </a:lnTo>
                <a:lnTo>
                  <a:pt x="192" y="102"/>
                </a:lnTo>
                <a:lnTo>
                  <a:pt x="204" y="99"/>
                </a:lnTo>
                <a:lnTo>
                  <a:pt x="212" y="96"/>
                </a:lnTo>
                <a:lnTo>
                  <a:pt x="221" y="93"/>
                </a:lnTo>
                <a:lnTo>
                  <a:pt x="229" y="90"/>
                </a:lnTo>
                <a:lnTo>
                  <a:pt x="235" y="90"/>
                </a:lnTo>
                <a:lnTo>
                  <a:pt x="243" y="90"/>
                </a:lnTo>
                <a:lnTo>
                  <a:pt x="252" y="90"/>
                </a:lnTo>
                <a:lnTo>
                  <a:pt x="257" y="90"/>
                </a:lnTo>
                <a:lnTo>
                  <a:pt x="266" y="93"/>
                </a:lnTo>
                <a:lnTo>
                  <a:pt x="274" y="96"/>
                </a:lnTo>
                <a:lnTo>
                  <a:pt x="280" y="99"/>
                </a:lnTo>
                <a:lnTo>
                  <a:pt x="291" y="99"/>
                </a:lnTo>
                <a:lnTo>
                  <a:pt x="297" y="102"/>
                </a:lnTo>
                <a:lnTo>
                  <a:pt x="303" y="99"/>
                </a:lnTo>
                <a:lnTo>
                  <a:pt x="297" y="90"/>
                </a:lnTo>
                <a:lnTo>
                  <a:pt x="289" y="85"/>
                </a:lnTo>
                <a:lnTo>
                  <a:pt x="277" y="76"/>
                </a:lnTo>
                <a:lnTo>
                  <a:pt x="266" y="68"/>
                </a:lnTo>
                <a:lnTo>
                  <a:pt x="255" y="59"/>
                </a:lnTo>
                <a:lnTo>
                  <a:pt x="246" y="51"/>
                </a:lnTo>
                <a:lnTo>
                  <a:pt x="240" y="42"/>
                </a:lnTo>
                <a:lnTo>
                  <a:pt x="240" y="34"/>
                </a:lnTo>
                <a:lnTo>
                  <a:pt x="240" y="31"/>
                </a:lnTo>
                <a:lnTo>
                  <a:pt x="246" y="28"/>
                </a:lnTo>
                <a:lnTo>
                  <a:pt x="249" y="28"/>
                </a:lnTo>
                <a:lnTo>
                  <a:pt x="257" y="31"/>
                </a:lnTo>
                <a:lnTo>
                  <a:pt x="266" y="34"/>
                </a:lnTo>
                <a:lnTo>
                  <a:pt x="274" y="39"/>
                </a:lnTo>
                <a:lnTo>
                  <a:pt x="283" y="45"/>
                </a:lnTo>
                <a:lnTo>
                  <a:pt x="294" y="53"/>
                </a:lnTo>
                <a:lnTo>
                  <a:pt x="303" y="56"/>
                </a:lnTo>
                <a:lnTo>
                  <a:pt x="311" y="65"/>
                </a:lnTo>
                <a:lnTo>
                  <a:pt x="320" y="71"/>
                </a:lnTo>
                <a:lnTo>
                  <a:pt x="328" y="76"/>
                </a:lnTo>
                <a:lnTo>
                  <a:pt x="340" y="85"/>
                </a:lnTo>
                <a:lnTo>
                  <a:pt x="345" y="90"/>
                </a:lnTo>
                <a:lnTo>
                  <a:pt x="368" y="88"/>
                </a:lnTo>
                <a:lnTo>
                  <a:pt x="362" y="82"/>
                </a:lnTo>
                <a:lnTo>
                  <a:pt x="351" y="73"/>
                </a:lnTo>
                <a:lnTo>
                  <a:pt x="342" y="65"/>
                </a:lnTo>
                <a:lnTo>
                  <a:pt x="337" y="59"/>
                </a:lnTo>
                <a:lnTo>
                  <a:pt x="328" y="51"/>
                </a:lnTo>
                <a:lnTo>
                  <a:pt x="320" y="45"/>
                </a:lnTo>
                <a:lnTo>
                  <a:pt x="308" y="34"/>
                </a:lnTo>
                <a:lnTo>
                  <a:pt x="297" y="25"/>
                </a:lnTo>
                <a:lnTo>
                  <a:pt x="286" y="19"/>
                </a:lnTo>
                <a:lnTo>
                  <a:pt x="277" y="14"/>
                </a:lnTo>
                <a:lnTo>
                  <a:pt x="266" y="5"/>
                </a:lnTo>
                <a:lnTo>
                  <a:pt x="257" y="2"/>
                </a:lnTo>
                <a:lnTo>
                  <a:pt x="246" y="0"/>
                </a:lnTo>
                <a:lnTo>
                  <a:pt x="240" y="0"/>
                </a:lnTo>
                <a:lnTo>
                  <a:pt x="226" y="0"/>
                </a:lnTo>
                <a:lnTo>
                  <a:pt x="218" y="5"/>
                </a:lnTo>
                <a:lnTo>
                  <a:pt x="212" y="11"/>
                </a:lnTo>
                <a:lnTo>
                  <a:pt x="209" y="22"/>
                </a:lnTo>
                <a:lnTo>
                  <a:pt x="206" y="31"/>
                </a:lnTo>
                <a:lnTo>
                  <a:pt x="212" y="39"/>
                </a:lnTo>
                <a:lnTo>
                  <a:pt x="215" y="45"/>
                </a:lnTo>
                <a:lnTo>
                  <a:pt x="218" y="48"/>
                </a:lnTo>
                <a:lnTo>
                  <a:pt x="223" y="53"/>
                </a:lnTo>
                <a:lnTo>
                  <a:pt x="232" y="56"/>
                </a:lnTo>
                <a:lnTo>
                  <a:pt x="229" y="56"/>
                </a:lnTo>
                <a:lnTo>
                  <a:pt x="223" y="59"/>
                </a:lnTo>
                <a:lnTo>
                  <a:pt x="212" y="62"/>
                </a:lnTo>
                <a:lnTo>
                  <a:pt x="201" y="68"/>
                </a:lnTo>
                <a:lnTo>
                  <a:pt x="192" y="71"/>
                </a:lnTo>
                <a:lnTo>
                  <a:pt x="184" y="73"/>
                </a:lnTo>
                <a:lnTo>
                  <a:pt x="175" y="76"/>
                </a:lnTo>
                <a:lnTo>
                  <a:pt x="167" y="82"/>
                </a:lnTo>
                <a:lnTo>
                  <a:pt x="158" y="85"/>
                </a:lnTo>
                <a:lnTo>
                  <a:pt x="150" y="88"/>
                </a:lnTo>
                <a:lnTo>
                  <a:pt x="141" y="93"/>
                </a:lnTo>
                <a:lnTo>
                  <a:pt x="133" y="99"/>
                </a:lnTo>
                <a:lnTo>
                  <a:pt x="121" y="102"/>
                </a:lnTo>
                <a:lnTo>
                  <a:pt x="113" y="105"/>
                </a:lnTo>
                <a:lnTo>
                  <a:pt x="102" y="110"/>
                </a:lnTo>
                <a:lnTo>
                  <a:pt x="96" y="113"/>
                </a:lnTo>
                <a:lnTo>
                  <a:pt x="85" y="116"/>
                </a:lnTo>
                <a:lnTo>
                  <a:pt x="76" y="122"/>
                </a:lnTo>
                <a:lnTo>
                  <a:pt x="68" y="124"/>
                </a:lnTo>
                <a:lnTo>
                  <a:pt x="62" y="130"/>
                </a:lnTo>
                <a:lnTo>
                  <a:pt x="53" y="133"/>
                </a:lnTo>
                <a:lnTo>
                  <a:pt x="45" y="136"/>
                </a:lnTo>
                <a:lnTo>
                  <a:pt x="39" y="142"/>
                </a:lnTo>
                <a:lnTo>
                  <a:pt x="34" y="144"/>
                </a:lnTo>
                <a:lnTo>
                  <a:pt x="25" y="150"/>
                </a:lnTo>
                <a:lnTo>
                  <a:pt x="22" y="156"/>
                </a:lnTo>
                <a:lnTo>
                  <a:pt x="17" y="161"/>
                </a:lnTo>
                <a:lnTo>
                  <a:pt x="17" y="167"/>
                </a:lnTo>
                <a:lnTo>
                  <a:pt x="17" y="173"/>
                </a:lnTo>
                <a:lnTo>
                  <a:pt x="22" y="178"/>
                </a:lnTo>
                <a:lnTo>
                  <a:pt x="25" y="181"/>
                </a:lnTo>
                <a:lnTo>
                  <a:pt x="34" y="187"/>
                </a:lnTo>
                <a:lnTo>
                  <a:pt x="39" y="190"/>
                </a:lnTo>
                <a:lnTo>
                  <a:pt x="45" y="195"/>
                </a:lnTo>
                <a:lnTo>
                  <a:pt x="51" y="198"/>
                </a:lnTo>
                <a:lnTo>
                  <a:pt x="59" y="201"/>
                </a:lnTo>
                <a:lnTo>
                  <a:pt x="68" y="201"/>
                </a:lnTo>
                <a:lnTo>
                  <a:pt x="79" y="204"/>
                </a:lnTo>
                <a:lnTo>
                  <a:pt x="87" y="204"/>
                </a:lnTo>
                <a:lnTo>
                  <a:pt x="99" y="204"/>
                </a:lnTo>
                <a:lnTo>
                  <a:pt x="104" y="204"/>
                </a:lnTo>
                <a:lnTo>
                  <a:pt x="107" y="204"/>
                </a:lnTo>
                <a:lnTo>
                  <a:pt x="104" y="207"/>
                </a:lnTo>
                <a:lnTo>
                  <a:pt x="99" y="213"/>
                </a:lnTo>
                <a:lnTo>
                  <a:pt x="96" y="215"/>
                </a:lnTo>
                <a:lnTo>
                  <a:pt x="93" y="221"/>
                </a:lnTo>
                <a:lnTo>
                  <a:pt x="87" y="227"/>
                </a:lnTo>
                <a:lnTo>
                  <a:pt x="85" y="235"/>
                </a:lnTo>
                <a:lnTo>
                  <a:pt x="76" y="241"/>
                </a:lnTo>
                <a:lnTo>
                  <a:pt x="73" y="249"/>
                </a:lnTo>
                <a:lnTo>
                  <a:pt x="65" y="258"/>
                </a:lnTo>
                <a:lnTo>
                  <a:pt x="62" y="269"/>
                </a:lnTo>
                <a:lnTo>
                  <a:pt x="53" y="281"/>
                </a:lnTo>
                <a:lnTo>
                  <a:pt x="51" y="292"/>
                </a:lnTo>
                <a:lnTo>
                  <a:pt x="42" y="303"/>
                </a:lnTo>
                <a:lnTo>
                  <a:pt x="39" y="315"/>
                </a:lnTo>
                <a:lnTo>
                  <a:pt x="34" y="326"/>
                </a:lnTo>
                <a:lnTo>
                  <a:pt x="28" y="340"/>
                </a:lnTo>
                <a:lnTo>
                  <a:pt x="22" y="346"/>
                </a:lnTo>
                <a:lnTo>
                  <a:pt x="22" y="355"/>
                </a:lnTo>
                <a:lnTo>
                  <a:pt x="19" y="363"/>
                </a:lnTo>
                <a:lnTo>
                  <a:pt x="17" y="369"/>
                </a:lnTo>
                <a:lnTo>
                  <a:pt x="14" y="377"/>
                </a:lnTo>
                <a:lnTo>
                  <a:pt x="11" y="386"/>
                </a:lnTo>
                <a:lnTo>
                  <a:pt x="11" y="391"/>
                </a:lnTo>
                <a:lnTo>
                  <a:pt x="8" y="400"/>
                </a:lnTo>
                <a:lnTo>
                  <a:pt x="8" y="408"/>
                </a:lnTo>
                <a:lnTo>
                  <a:pt x="5" y="414"/>
                </a:lnTo>
                <a:lnTo>
                  <a:pt x="5" y="423"/>
                </a:lnTo>
                <a:lnTo>
                  <a:pt x="5" y="434"/>
                </a:lnTo>
                <a:lnTo>
                  <a:pt x="2" y="440"/>
                </a:lnTo>
                <a:lnTo>
                  <a:pt x="0" y="448"/>
                </a:lnTo>
                <a:lnTo>
                  <a:pt x="0" y="454"/>
                </a:lnTo>
                <a:lnTo>
                  <a:pt x="0" y="465"/>
                </a:lnTo>
                <a:lnTo>
                  <a:pt x="0" y="471"/>
                </a:lnTo>
                <a:lnTo>
                  <a:pt x="0" y="479"/>
                </a:lnTo>
                <a:lnTo>
                  <a:pt x="0" y="488"/>
                </a:lnTo>
                <a:lnTo>
                  <a:pt x="2" y="499"/>
                </a:lnTo>
                <a:lnTo>
                  <a:pt x="2" y="508"/>
                </a:lnTo>
                <a:lnTo>
                  <a:pt x="2" y="516"/>
                </a:lnTo>
                <a:lnTo>
                  <a:pt x="2" y="525"/>
                </a:lnTo>
                <a:lnTo>
                  <a:pt x="5" y="533"/>
                </a:lnTo>
                <a:lnTo>
                  <a:pt x="8" y="542"/>
                </a:lnTo>
                <a:lnTo>
                  <a:pt x="11" y="550"/>
                </a:lnTo>
                <a:lnTo>
                  <a:pt x="11" y="559"/>
                </a:lnTo>
                <a:lnTo>
                  <a:pt x="17" y="570"/>
                </a:lnTo>
                <a:lnTo>
                  <a:pt x="53" y="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32"/>
          <p:cNvSpPr/>
          <p:nvPr/>
        </p:nvSpPr>
        <p:spPr>
          <a:xfrm>
            <a:off x="7149960" y="4075200"/>
            <a:ext cx="128880" cy="135000"/>
          </a:xfrm>
          <a:custGeom>
            <a:avLst/>
            <a:gdLst>
              <a:gd name="textAreaLeft" fmla="*/ 0 w 128880"/>
              <a:gd name="textAreaRight" fmla="*/ 129240 w 128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4" h="97">
                <a:moveTo>
                  <a:pt x="17" y="0"/>
                </a:moveTo>
                <a:lnTo>
                  <a:pt x="6" y="3"/>
                </a:lnTo>
                <a:lnTo>
                  <a:pt x="0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3" y="35"/>
                </a:lnTo>
                <a:lnTo>
                  <a:pt x="6" y="40"/>
                </a:lnTo>
                <a:lnTo>
                  <a:pt x="14" y="52"/>
                </a:lnTo>
                <a:lnTo>
                  <a:pt x="26" y="60"/>
                </a:lnTo>
                <a:lnTo>
                  <a:pt x="37" y="71"/>
                </a:lnTo>
                <a:lnTo>
                  <a:pt x="48" y="77"/>
                </a:lnTo>
                <a:lnTo>
                  <a:pt x="60" y="86"/>
                </a:lnTo>
                <a:lnTo>
                  <a:pt x="68" y="91"/>
                </a:lnTo>
                <a:lnTo>
                  <a:pt x="74" y="94"/>
                </a:lnTo>
                <a:lnTo>
                  <a:pt x="82" y="97"/>
                </a:lnTo>
                <a:lnTo>
                  <a:pt x="91" y="97"/>
                </a:lnTo>
                <a:lnTo>
                  <a:pt x="94" y="94"/>
                </a:lnTo>
                <a:lnTo>
                  <a:pt x="91" y="86"/>
                </a:lnTo>
                <a:lnTo>
                  <a:pt x="82" y="77"/>
                </a:lnTo>
                <a:lnTo>
                  <a:pt x="74" y="66"/>
                </a:lnTo>
                <a:lnTo>
                  <a:pt x="65" y="60"/>
                </a:lnTo>
                <a:lnTo>
                  <a:pt x="60" y="52"/>
                </a:lnTo>
                <a:lnTo>
                  <a:pt x="54" y="43"/>
                </a:lnTo>
                <a:lnTo>
                  <a:pt x="48" y="37"/>
                </a:lnTo>
                <a:lnTo>
                  <a:pt x="40" y="32"/>
                </a:lnTo>
                <a:lnTo>
                  <a:pt x="34" y="23"/>
                </a:lnTo>
                <a:lnTo>
                  <a:pt x="29" y="18"/>
                </a:lnTo>
                <a:lnTo>
                  <a:pt x="26" y="12"/>
                </a:lnTo>
                <a:lnTo>
                  <a:pt x="20" y="3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33"/>
          <p:cNvSpPr/>
          <p:nvPr/>
        </p:nvSpPr>
        <p:spPr>
          <a:xfrm>
            <a:off x="7257960" y="3992400"/>
            <a:ext cx="405000" cy="284400"/>
          </a:xfrm>
          <a:custGeom>
            <a:avLst/>
            <a:gdLst>
              <a:gd name="textAreaLeft" fmla="*/ 0 w 405000"/>
              <a:gd name="textAreaRight" fmla="*/ 405360 w 4050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95" h="204">
                <a:moveTo>
                  <a:pt x="9" y="37"/>
                </a:moveTo>
                <a:lnTo>
                  <a:pt x="3" y="37"/>
                </a:lnTo>
                <a:lnTo>
                  <a:pt x="0" y="45"/>
                </a:lnTo>
                <a:lnTo>
                  <a:pt x="0" y="48"/>
                </a:lnTo>
                <a:lnTo>
                  <a:pt x="6" y="57"/>
                </a:lnTo>
                <a:lnTo>
                  <a:pt x="9" y="65"/>
                </a:lnTo>
                <a:lnTo>
                  <a:pt x="15" y="77"/>
                </a:lnTo>
                <a:lnTo>
                  <a:pt x="17" y="79"/>
                </a:lnTo>
                <a:lnTo>
                  <a:pt x="23" y="88"/>
                </a:lnTo>
                <a:lnTo>
                  <a:pt x="29" y="94"/>
                </a:lnTo>
                <a:lnTo>
                  <a:pt x="34" y="102"/>
                </a:lnTo>
                <a:lnTo>
                  <a:pt x="40" y="111"/>
                </a:lnTo>
                <a:lnTo>
                  <a:pt x="46" y="116"/>
                </a:lnTo>
                <a:lnTo>
                  <a:pt x="51" y="125"/>
                </a:lnTo>
                <a:lnTo>
                  <a:pt x="60" y="133"/>
                </a:lnTo>
                <a:lnTo>
                  <a:pt x="71" y="145"/>
                </a:lnTo>
                <a:lnTo>
                  <a:pt x="83" y="150"/>
                </a:lnTo>
                <a:lnTo>
                  <a:pt x="91" y="153"/>
                </a:lnTo>
                <a:lnTo>
                  <a:pt x="97" y="150"/>
                </a:lnTo>
                <a:lnTo>
                  <a:pt x="97" y="145"/>
                </a:lnTo>
                <a:lnTo>
                  <a:pt x="97" y="142"/>
                </a:lnTo>
                <a:lnTo>
                  <a:pt x="97" y="133"/>
                </a:lnTo>
                <a:lnTo>
                  <a:pt x="97" y="128"/>
                </a:lnTo>
                <a:lnTo>
                  <a:pt x="97" y="119"/>
                </a:lnTo>
                <a:lnTo>
                  <a:pt x="97" y="111"/>
                </a:lnTo>
                <a:lnTo>
                  <a:pt x="94" y="102"/>
                </a:lnTo>
                <a:lnTo>
                  <a:pt x="94" y="96"/>
                </a:lnTo>
                <a:lnTo>
                  <a:pt x="94" y="88"/>
                </a:lnTo>
                <a:lnTo>
                  <a:pt x="91" y="79"/>
                </a:lnTo>
                <a:lnTo>
                  <a:pt x="91" y="74"/>
                </a:lnTo>
                <a:lnTo>
                  <a:pt x="91" y="68"/>
                </a:lnTo>
                <a:lnTo>
                  <a:pt x="91" y="59"/>
                </a:lnTo>
                <a:lnTo>
                  <a:pt x="91" y="57"/>
                </a:lnTo>
                <a:lnTo>
                  <a:pt x="91" y="59"/>
                </a:lnTo>
                <a:lnTo>
                  <a:pt x="102" y="71"/>
                </a:lnTo>
                <a:lnTo>
                  <a:pt x="111" y="79"/>
                </a:lnTo>
                <a:lnTo>
                  <a:pt x="117" y="88"/>
                </a:lnTo>
                <a:lnTo>
                  <a:pt x="125" y="96"/>
                </a:lnTo>
                <a:lnTo>
                  <a:pt x="136" y="105"/>
                </a:lnTo>
                <a:lnTo>
                  <a:pt x="145" y="113"/>
                </a:lnTo>
                <a:lnTo>
                  <a:pt x="153" y="122"/>
                </a:lnTo>
                <a:lnTo>
                  <a:pt x="162" y="128"/>
                </a:lnTo>
                <a:lnTo>
                  <a:pt x="170" y="133"/>
                </a:lnTo>
                <a:lnTo>
                  <a:pt x="176" y="136"/>
                </a:lnTo>
                <a:lnTo>
                  <a:pt x="185" y="139"/>
                </a:lnTo>
                <a:lnTo>
                  <a:pt x="187" y="139"/>
                </a:lnTo>
                <a:lnTo>
                  <a:pt x="193" y="139"/>
                </a:lnTo>
                <a:lnTo>
                  <a:pt x="196" y="133"/>
                </a:lnTo>
                <a:lnTo>
                  <a:pt x="199" y="128"/>
                </a:lnTo>
                <a:lnTo>
                  <a:pt x="199" y="119"/>
                </a:lnTo>
                <a:lnTo>
                  <a:pt x="202" y="113"/>
                </a:lnTo>
                <a:lnTo>
                  <a:pt x="204" y="105"/>
                </a:lnTo>
                <a:lnTo>
                  <a:pt x="207" y="96"/>
                </a:lnTo>
                <a:lnTo>
                  <a:pt x="210" y="88"/>
                </a:lnTo>
                <a:lnTo>
                  <a:pt x="213" y="79"/>
                </a:lnTo>
                <a:lnTo>
                  <a:pt x="213" y="71"/>
                </a:lnTo>
                <a:lnTo>
                  <a:pt x="216" y="65"/>
                </a:lnTo>
                <a:lnTo>
                  <a:pt x="219" y="57"/>
                </a:lnTo>
                <a:lnTo>
                  <a:pt x="221" y="54"/>
                </a:lnTo>
                <a:lnTo>
                  <a:pt x="224" y="45"/>
                </a:lnTo>
                <a:lnTo>
                  <a:pt x="230" y="45"/>
                </a:lnTo>
                <a:lnTo>
                  <a:pt x="236" y="48"/>
                </a:lnTo>
                <a:lnTo>
                  <a:pt x="241" y="54"/>
                </a:lnTo>
                <a:lnTo>
                  <a:pt x="247" y="62"/>
                </a:lnTo>
                <a:lnTo>
                  <a:pt x="253" y="71"/>
                </a:lnTo>
                <a:lnTo>
                  <a:pt x="258" y="79"/>
                </a:lnTo>
                <a:lnTo>
                  <a:pt x="261" y="91"/>
                </a:lnTo>
                <a:lnTo>
                  <a:pt x="264" y="102"/>
                </a:lnTo>
                <a:lnTo>
                  <a:pt x="264" y="113"/>
                </a:lnTo>
                <a:lnTo>
                  <a:pt x="264" y="128"/>
                </a:lnTo>
                <a:lnTo>
                  <a:pt x="264" y="133"/>
                </a:lnTo>
                <a:lnTo>
                  <a:pt x="264" y="142"/>
                </a:lnTo>
                <a:lnTo>
                  <a:pt x="264" y="148"/>
                </a:lnTo>
                <a:lnTo>
                  <a:pt x="264" y="153"/>
                </a:lnTo>
                <a:lnTo>
                  <a:pt x="264" y="165"/>
                </a:lnTo>
                <a:lnTo>
                  <a:pt x="264" y="179"/>
                </a:lnTo>
                <a:lnTo>
                  <a:pt x="267" y="187"/>
                </a:lnTo>
                <a:lnTo>
                  <a:pt x="272" y="193"/>
                </a:lnTo>
                <a:lnTo>
                  <a:pt x="278" y="199"/>
                </a:lnTo>
                <a:lnTo>
                  <a:pt x="287" y="204"/>
                </a:lnTo>
                <a:lnTo>
                  <a:pt x="289" y="201"/>
                </a:lnTo>
                <a:lnTo>
                  <a:pt x="292" y="199"/>
                </a:lnTo>
                <a:lnTo>
                  <a:pt x="292" y="193"/>
                </a:lnTo>
                <a:lnTo>
                  <a:pt x="295" y="182"/>
                </a:lnTo>
                <a:lnTo>
                  <a:pt x="295" y="173"/>
                </a:lnTo>
                <a:lnTo>
                  <a:pt x="295" y="165"/>
                </a:lnTo>
                <a:lnTo>
                  <a:pt x="295" y="153"/>
                </a:lnTo>
                <a:lnTo>
                  <a:pt x="295" y="148"/>
                </a:lnTo>
                <a:lnTo>
                  <a:pt x="295" y="136"/>
                </a:lnTo>
                <a:lnTo>
                  <a:pt x="295" y="128"/>
                </a:lnTo>
                <a:lnTo>
                  <a:pt x="295" y="119"/>
                </a:lnTo>
                <a:lnTo>
                  <a:pt x="295" y="111"/>
                </a:lnTo>
                <a:lnTo>
                  <a:pt x="295" y="99"/>
                </a:lnTo>
                <a:lnTo>
                  <a:pt x="292" y="91"/>
                </a:lnTo>
                <a:lnTo>
                  <a:pt x="289" y="79"/>
                </a:lnTo>
                <a:lnTo>
                  <a:pt x="289" y="71"/>
                </a:lnTo>
                <a:lnTo>
                  <a:pt x="284" y="62"/>
                </a:lnTo>
                <a:lnTo>
                  <a:pt x="284" y="54"/>
                </a:lnTo>
                <a:lnTo>
                  <a:pt x="278" y="48"/>
                </a:lnTo>
                <a:lnTo>
                  <a:pt x="275" y="40"/>
                </a:lnTo>
                <a:lnTo>
                  <a:pt x="264" y="28"/>
                </a:lnTo>
                <a:lnTo>
                  <a:pt x="253" y="20"/>
                </a:lnTo>
                <a:lnTo>
                  <a:pt x="244" y="11"/>
                </a:lnTo>
                <a:lnTo>
                  <a:pt x="236" y="6"/>
                </a:lnTo>
                <a:lnTo>
                  <a:pt x="227" y="3"/>
                </a:lnTo>
                <a:lnTo>
                  <a:pt x="219" y="0"/>
                </a:lnTo>
                <a:lnTo>
                  <a:pt x="213" y="0"/>
                </a:lnTo>
                <a:lnTo>
                  <a:pt x="210" y="3"/>
                </a:lnTo>
                <a:lnTo>
                  <a:pt x="204" y="6"/>
                </a:lnTo>
                <a:lnTo>
                  <a:pt x="199" y="17"/>
                </a:lnTo>
                <a:lnTo>
                  <a:pt x="196" y="23"/>
                </a:lnTo>
                <a:lnTo>
                  <a:pt x="193" y="28"/>
                </a:lnTo>
                <a:lnTo>
                  <a:pt x="190" y="37"/>
                </a:lnTo>
                <a:lnTo>
                  <a:pt x="190" y="45"/>
                </a:lnTo>
                <a:lnTo>
                  <a:pt x="187" y="51"/>
                </a:lnTo>
                <a:lnTo>
                  <a:pt x="185" y="59"/>
                </a:lnTo>
                <a:lnTo>
                  <a:pt x="182" y="65"/>
                </a:lnTo>
                <a:lnTo>
                  <a:pt x="179" y="71"/>
                </a:lnTo>
                <a:lnTo>
                  <a:pt x="176" y="79"/>
                </a:lnTo>
                <a:lnTo>
                  <a:pt x="176" y="82"/>
                </a:lnTo>
                <a:lnTo>
                  <a:pt x="173" y="79"/>
                </a:lnTo>
                <a:lnTo>
                  <a:pt x="162" y="71"/>
                </a:lnTo>
                <a:lnTo>
                  <a:pt x="156" y="65"/>
                </a:lnTo>
                <a:lnTo>
                  <a:pt x="148" y="59"/>
                </a:lnTo>
                <a:lnTo>
                  <a:pt x="139" y="54"/>
                </a:lnTo>
                <a:lnTo>
                  <a:pt x="131" y="48"/>
                </a:lnTo>
                <a:lnTo>
                  <a:pt x="119" y="40"/>
                </a:lnTo>
                <a:lnTo>
                  <a:pt x="111" y="31"/>
                </a:lnTo>
                <a:lnTo>
                  <a:pt x="102" y="25"/>
                </a:lnTo>
                <a:lnTo>
                  <a:pt x="94" y="20"/>
                </a:lnTo>
                <a:lnTo>
                  <a:pt x="85" y="11"/>
                </a:lnTo>
                <a:lnTo>
                  <a:pt x="77" y="8"/>
                </a:lnTo>
                <a:lnTo>
                  <a:pt x="71" y="3"/>
                </a:lnTo>
                <a:lnTo>
                  <a:pt x="68" y="3"/>
                </a:lnTo>
                <a:lnTo>
                  <a:pt x="60" y="0"/>
                </a:lnTo>
                <a:lnTo>
                  <a:pt x="51" y="6"/>
                </a:lnTo>
                <a:lnTo>
                  <a:pt x="49" y="17"/>
                </a:lnTo>
                <a:lnTo>
                  <a:pt x="46" y="31"/>
                </a:lnTo>
                <a:lnTo>
                  <a:pt x="43" y="42"/>
                </a:lnTo>
                <a:lnTo>
                  <a:pt x="43" y="54"/>
                </a:lnTo>
                <a:lnTo>
                  <a:pt x="43" y="62"/>
                </a:lnTo>
                <a:lnTo>
                  <a:pt x="43" y="68"/>
                </a:lnTo>
                <a:lnTo>
                  <a:pt x="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7694640" y="4122720"/>
            <a:ext cx="312840" cy="463680"/>
          </a:xfrm>
          <a:custGeom>
            <a:avLst/>
            <a:gdLst>
              <a:gd name="textAreaLeft" fmla="*/ 0 w 312840"/>
              <a:gd name="textAreaRight" fmla="*/ 313200 w 312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29" h="332">
                <a:moveTo>
                  <a:pt x="39" y="2"/>
                </a:moveTo>
                <a:lnTo>
                  <a:pt x="34" y="5"/>
                </a:lnTo>
                <a:lnTo>
                  <a:pt x="28" y="14"/>
                </a:lnTo>
                <a:lnTo>
                  <a:pt x="20" y="22"/>
                </a:lnTo>
                <a:lnTo>
                  <a:pt x="11" y="34"/>
                </a:lnTo>
                <a:lnTo>
                  <a:pt x="5" y="45"/>
                </a:lnTo>
                <a:lnTo>
                  <a:pt x="3" y="54"/>
                </a:lnTo>
                <a:lnTo>
                  <a:pt x="0" y="59"/>
                </a:lnTo>
                <a:lnTo>
                  <a:pt x="5" y="68"/>
                </a:lnTo>
                <a:lnTo>
                  <a:pt x="11" y="65"/>
                </a:lnTo>
                <a:lnTo>
                  <a:pt x="20" y="65"/>
                </a:lnTo>
                <a:lnTo>
                  <a:pt x="28" y="62"/>
                </a:lnTo>
                <a:lnTo>
                  <a:pt x="39" y="59"/>
                </a:lnTo>
                <a:lnTo>
                  <a:pt x="48" y="59"/>
                </a:lnTo>
                <a:lnTo>
                  <a:pt x="54" y="56"/>
                </a:lnTo>
                <a:lnTo>
                  <a:pt x="59" y="56"/>
                </a:lnTo>
                <a:lnTo>
                  <a:pt x="59" y="59"/>
                </a:lnTo>
                <a:lnTo>
                  <a:pt x="56" y="68"/>
                </a:lnTo>
                <a:lnTo>
                  <a:pt x="54" y="76"/>
                </a:lnTo>
                <a:lnTo>
                  <a:pt x="48" y="88"/>
                </a:lnTo>
                <a:lnTo>
                  <a:pt x="45" y="102"/>
                </a:lnTo>
                <a:lnTo>
                  <a:pt x="39" y="113"/>
                </a:lnTo>
                <a:lnTo>
                  <a:pt x="39" y="125"/>
                </a:lnTo>
                <a:lnTo>
                  <a:pt x="39" y="133"/>
                </a:lnTo>
                <a:lnTo>
                  <a:pt x="48" y="136"/>
                </a:lnTo>
                <a:lnTo>
                  <a:pt x="56" y="133"/>
                </a:lnTo>
                <a:lnTo>
                  <a:pt x="65" y="130"/>
                </a:lnTo>
                <a:lnTo>
                  <a:pt x="76" y="125"/>
                </a:lnTo>
                <a:lnTo>
                  <a:pt x="87" y="116"/>
                </a:lnTo>
                <a:lnTo>
                  <a:pt x="96" y="110"/>
                </a:lnTo>
                <a:lnTo>
                  <a:pt x="107" y="105"/>
                </a:lnTo>
                <a:lnTo>
                  <a:pt x="113" y="99"/>
                </a:lnTo>
                <a:lnTo>
                  <a:pt x="121" y="99"/>
                </a:lnTo>
                <a:lnTo>
                  <a:pt x="130" y="107"/>
                </a:lnTo>
                <a:lnTo>
                  <a:pt x="133" y="119"/>
                </a:lnTo>
                <a:lnTo>
                  <a:pt x="133" y="127"/>
                </a:lnTo>
                <a:lnTo>
                  <a:pt x="133" y="136"/>
                </a:lnTo>
                <a:lnTo>
                  <a:pt x="127" y="139"/>
                </a:lnTo>
                <a:lnTo>
                  <a:pt x="119" y="147"/>
                </a:lnTo>
                <a:lnTo>
                  <a:pt x="113" y="156"/>
                </a:lnTo>
                <a:lnTo>
                  <a:pt x="104" y="167"/>
                </a:lnTo>
                <a:lnTo>
                  <a:pt x="96" y="176"/>
                </a:lnTo>
                <a:lnTo>
                  <a:pt x="93" y="184"/>
                </a:lnTo>
                <a:lnTo>
                  <a:pt x="93" y="190"/>
                </a:lnTo>
                <a:lnTo>
                  <a:pt x="99" y="193"/>
                </a:lnTo>
                <a:lnTo>
                  <a:pt x="110" y="190"/>
                </a:lnTo>
                <a:lnTo>
                  <a:pt x="121" y="190"/>
                </a:lnTo>
                <a:lnTo>
                  <a:pt x="133" y="184"/>
                </a:lnTo>
                <a:lnTo>
                  <a:pt x="147" y="181"/>
                </a:lnTo>
                <a:lnTo>
                  <a:pt x="155" y="178"/>
                </a:lnTo>
                <a:lnTo>
                  <a:pt x="167" y="178"/>
                </a:lnTo>
                <a:lnTo>
                  <a:pt x="172" y="178"/>
                </a:lnTo>
                <a:lnTo>
                  <a:pt x="175" y="184"/>
                </a:lnTo>
                <a:lnTo>
                  <a:pt x="178" y="196"/>
                </a:lnTo>
                <a:lnTo>
                  <a:pt x="178" y="210"/>
                </a:lnTo>
                <a:lnTo>
                  <a:pt x="175" y="224"/>
                </a:lnTo>
                <a:lnTo>
                  <a:pt x="175" y="235"/>
                </a:lnTo>
                <a:lnTo>
                  <a:pt x="172" y="241"/>
                </a:lnTo>
                <a:lnTo>
                  <a:pt x="170" y="244"/>
                </a:lnTo>
                <a:lnTo>
                  <a:pt x="164" y="252"/>
                </a:lnTo>
                <a:lnTo>
                  <a:pt x="164" y="258"/>
                </a:lnTo>
                <a:lnTo>
                  <a:pt x="158" y="267"/>
                </a:lnTo>
                <a:lnTo>
                  <a:pt x="155" y="275"/>
                </a:lnTo>
                <a:lnTo>
                  <a:pt x="150" y="284"/>
                </a:lnTo>
                <a:lnTo>
                  <a:pt x="144" y="292"/>
                </a:lnTo>
                <a:lnTo>
                  <a:pt x="141" y="298"/>
                </a:lnTo>
                <a:lnTo>
                  <a:pt x="136" y="306"/>
                </a:lnTo>
                <a:lnTo>
                  <a:pt x="133" y="312"/>
                </a:lnTo>
                <a:lnTo>
                  <a:pt x="130" y="318"/>
                </a:lnTo>
                <a:lnTo>
                  <a:pt x="127" y="329"/>
                </a:lnTo>
                <a:lnTo>
                  <a:pt x="127" y="332"/>
                </a:lnTo>
                <a:lnTo>
                  <a:pt x="130" y="329"/>
                </a:lnTo>
                <a:lnTo>
                  <a:pt x="133" y="326"/>
                </a:lnTo>
                <a:lnTo>
                  <a:pt x="141" y="320"/>
                </a:lnTo>
                <a:lnTo>
                  <a:pt x="147" y="315"/>
                </a:lnTo>
                <a:lnTo>
                  <a:pt x="155" y="306"/>
                </a:lnTo>
                <a:lnTo>
                  <a:pt x="164" y="298"/>
                </a:lnTo>
                <a:lnTo>
                  <a:pt x="175" y="286"/>
                </a:lnTo>
                <a:lnTo>
                  <a:pt x="187" y="275"/>
                </a:lnTo>
                <a:lnTo>
                  <a:pt x="195" y="264"/>
                </a:lnTo>
                <a:lnTo>
                  <a:pt x="204" y="252"/>
                </a:lnTo>
                <a:lnTo>
                  <a:pt x="212" y="241"/>
                </a:lnTo>
                <a:lnTo>
                  <a:pt x="221" y="230"/>
                </a:lnTo>
                <a:lnTo>
                  <a:pt x="223" y="218"/>
                </a:lnTo>
                <a:lnTo>
                  <a:pt x="229" y="210"/>
                </a:lnTo>
                <a:lnTo>
                  <a:pt x="229" y="201"/>
                </a:lnTo>
                <a:lnTo>
                  <a:pt x="229" y="193"/>
                </a:lnTo>
                <a:lnTo>
                  <a:pt x="221" y="181"/>
                </a:lnTo>
                <a:lnTo>
                  <a:pt x="209" y="170"/>
                </a:lnTo>
                <a:lnTo>
                  <a:pt x="198" y="164"/>
                </a:lnTo>
                <a:lnTo>
                  <a:pt x="187" y="159"/>
                </a:lnTo>
                <a:lnTo>
                  <a:pt x="175" y="156"/>
                </a:lnTo>
                <a:lnTo>
                  <a:pt x="167" y="153"/>
                </a:lnTo>
                <a:lnTo>
                  <a:pt x="161" y="153"/>
                </a:lnTo>
                <a:lnTo>
                  <a:pt x="161" y="150"/>
                </a:lnTo>
                <a:lnTo>
                  <a:pt x="164" y="147"/>
                </a:lnTo>
                <a:lnTo>
                  <a:pt x="170" y="139"/>
                </a:lnTo>
                <a:lnTo>
                  <a:pt x="175" y="133"/>
                </a:lnTo>
                <a:lnTo>
                  <a:pt x="178" y="125"/>
                </a:lnTo>
                <a:lnTo>
                  <a:pt x="184" y="116"/>
                </a:lnTo>
                <a:lnTo>
                  <a:pt x="184" y="107"/>
                </a:lnTo>
                <a:lnTo>
                  <a:pt x="184" y="105"/>
                </a:lnTo>
                <a:lnTo>
                  <a:pt x="175" y="90"/>
                </a:lnTo>
                <a:lnTo>
                  <a:pt x="167" y="79"/>
                </a:lnTo>
                <a:lnTo>
                  <a:pt x="158" y="71"/>
                </a:lnTo>
                <a:lnTo>
                  <a:pt x="153" y="68"/>
                </a:lnTo>
                <a:lnTo>
                  <a:pt x="144" y="62"/>
                </a:lnTo>
                <a:lnTo>
                  <a:pt x="138" y="59"/>
                </a:lnTo>
                <a:lnTo>
                  <a:pt x="127" y="59"/>
                </a:lnTo>
                <a:lnTo>
                  <a:pt x="121" y="59"/>
                </a:lnTo>
                <a:lnTo>
                  <a:pt x="113" y="65"/>
                </a:lnTo>
                <a:lnTo>
                  <a:pt x="104" y="68"/>
                </a:lnTo>
                <a:lnTo>
                  <a:pt x="93" y="76"/>
                </a:lnTo>
                <a:lnTo>
                  <a:pt x="90" y="82"/>
                </a:lnTo>
                <a:lnTo>
                  <a:pt x="90" y="79"/>
                </a:lnTo>
                <a:lnTo>
                  <a:pt x="90" y="71"/>
                </a:lnTo>
                <a:lnTo>
                  <a:pt x="93" y="62"/>
                </a:lnTo>
                <a:lnTo>
                  <a:pt x="96" y="51"/>
                </a:lnTo>
                <a:lnTo>
                  <a:pt x="96" y="39"/>
                </a:lnTo>
                <a:lnTo>
                  <a:pt x="99" y="28"/>
                </a:lnTo>
                <a:lnTo>
                  <a:pt x="96" y="17"/>
                </a:lnTo>
                <a:lnTo>
                  <a:pt x="96" y="11"/>
                </a:lnTo>
                <a:lnTo>
                  <a:pt x="90" y="8"/>
                </a:lnTo>
                <a:lnTo>
                  <a:pt x="82" y="5"/>
                </a:lnTo>
                <a:lnTo>
                  <a:pt x="73" y="2"/>
                </a:lnTo>
                <a:lnTo>
                  <a:pt x="65" y="2"/>
                </a:lnTo>
                <a:lnTo>
                  <a:pt x="54" y="0"/>
                </a:lnTo>
                <a:lnTo>
                  <a:pt x="48" y="0"/>
                </a:lnTo>
                <a:lnTo>
                  <a:pt x="42" y="0"/>
                </a:lnTo>
                <a:lnTo>
                  <a:pt x="3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35"/>
          <p:cNvSpPr/>
          <p:nvPr/>
        </p:nvSpPr>
        <p:spPr>
          <a:xfrm>
            <a:off x="7837560" y="4575240"/>
            <a:ext cx="231840" cy="360360"/>
          </a:xfrm>
          <a:custGeom>
            <a:avLst/>
            <a:gdLst>
              <a:gd name="textAreaLeft" fmla="*/ 0 w 231840"/>
              <a:gd name="textAreaRight" fmla="*/ 232200 w 231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70" h="259">
                <a:moveTo>
                  <a:pt x="77" y="12"/>
                </a:moveTo>
                <a:lnTo>
                  <a:pt x="71" y="15"/>
                </a:lnTo>
                <a:lnTo>
                  <a:pt x="60" y="26"/>
                </a:lnTo>
                <a:lnTo>
                  <a:pt x="51" y="29"/>
                </a:lnTo>
                <a:lnTo>
                  <a:pt x="46" y="37"/>
                </a:lnTo>
                <a:lnTo>
                  <a:pt x="40" y="46"/>
                </a:lnTo>
                <a:lnTo>
                  <a:pt x="34" y="54"/>
                </a:lnTo>
                <a:lnTo>
                  <a:pt x="26" y="60"/>
                </a:lnTo>
                <a:lnTo>
                  <a:pt x="20" y="68"/>
                </a:lnTo>
                <a:lnTo>
                  <a:pt x="12" y="77"/>
                </a:lnTo>
                <a:lnTo>
                  <a:pt x="9" y="86"/>
                </a:lnTo>
                <a:lnTo>
                  <a:pt x="3" y="91"/>
                </a:lnTo>
                <a:lnTo>
                  <a:pt x="0" y="100"/>
                </a:lnTo>
                <a:lnTo>
                  <a:pt x="0" y="103"/>
                </a:lnTo>
                <a:lnTo>
                  <a:pt x="0" y="108"/>
                </a:lnTo>
                <a:lnTo>
                  <a:pt x="3" y="120"/>
                </a:lnTo>
                <a:lnTo>
                  <a:pt x="6" y="128"/>
                </a:lnTo>
                <a:lnTo>
                  <a:pt x="12" y="131"/>
                </a:lnTo>
                <a:lnTo>
                  <a:pt x="20" y="128"/>
                </a:lnTo>
                <a:lnTo>
                  <a:pt x="29" y="122"/>
                </a:lnTo>
                <a:lnTo>
                  <a:pt x="34" y="114"/>
                </a:lnTo>
                <a:lnTo>
                  <a:pt x="46" y="108"/>
                </a:lnTo>
                <a:lnTo>
                  <a:pt x="57" y="103"/>
                </a:lnTo>
                <a:lnTo>
                  <a:pt x="68" y="97"/>
                </a:lnTo>
                <a:lnTo>
                  <a:pt x="80" y="94"/>
                </a:lnTo>
                <a:lnTo>
                  <a:pt x="91" y="97"/>
                </a:lnTo>
                <a:lnTo>
                  <a:pt x="105" y="103"/>
                </a:lnTo>
                <a:lnTo>
                  <a:pt x="114" y="108"/>
                </a:lnTo>
                <a:lnTo>
                  <a:pt x="122" y="117"/>
                </a:lnTo>
                <a:lnTo>
                  <a:pt x="128" y="125"/>
                </a:lnTo>
                <a:lnTo>
                  <a:pt x="131" y="137"/>
                </a:lnTo>
                <a:lnTo>
                  <a:pt x="131" y="145"/>
                </a:lnTo>
                <a:lnTo>
                  <a:pt x="131" y="156"/>
                </a:lnTo>
                <a:lnTo>
                  <a:pt x="128" y="162"/>
                </a:lnTo>
                <a:lnTo>
                  <a:pt x="128" y="168"/>
                </a:lnTo>
                <a:lnTo>
                  <a:pt x="125" y="176"/>
                </a:lnTo>
                <a:lnTo>
                  <a:pt x="125" y="185"/>
                </a:lnTo>
                <a:lnTo>
                  <a:pt x="119" y="196"/>
                </a:lnTo>
                <a:lnTo>
                  <a:pt x="114" y="208"/>
                </a:lnTo>
                <a:lnTo>
                  <a:pt x="105" y="216"/>
                </a:lnTo>
                <a:lnTo>
                  <a:pt x="100" y="225"/>
                </a:lnTo>
                <a:lnTo>
                  <a:pt x="94" y="230"/>
                </a:lnTo>
                <a:lnTo>
                  <a:pt x="91" y="236"/>
                </a:lnTo>
                <a:lnTo>
                  <a:pt x="85" y="239"/>
                </a:lnTo>
                <a:lnTo>
                  <a:pt x="119" y="259"/>
                </a:lnTo>
                <a:lnTo>
                  <a:pt x="119" y="256"/>
                </a:lnTo>
                <a:lnTo>
                  <a:pt x="125" y="250"/>
                </a:lnTo>
                <a:lnTo>
                  <a:pt x="134" y="242"/>
                </a:lnTo>
                <a:lnTo>
                  <a:pt x="142" y="230"/>
                </a:lnTo>
                <a:lnTo>
                  <a:pt x="145" y="222"/>
                </a:lnTo>
                <a:lnTo>
                  <a:pt x="151" y="213"/>
                </a:lnTo>
                <a:lnTo>
                  <a:pt x="156" y="205"/>
                </a:lnTo>
                <a:lnTo>
                  <a:pt x="159" y="196"/>
                </a:lnTo>
                <a:lnTo>
                  <a:pt x="162" y="188"/>
                </a:lnTo>
                <a:lnTo>
                  <a:pt x="168" y="176"/>
                </a:lnTo>
                <a:lnTo>
                  <a:pt x="168" y="168"/>
                </a:lnTo>
                <a:lnTo>
                  <a:pt x="170" y="156"/>
                </a:lnTo>
                <a:lnTo>
                  <a:pt x="168" y="148"/>
                </a:lnTo>
                <a:lnTo>
                  <a:pt x="168" y="137"/>
                </a:lnTo>
                <a:lnTo>
                  <a:pt x="165" y="125"/>
                </a:lnTo>
                <a:lnTo>
                  <a:pt x="162" y="114"/>
                </a:lnTo>
                <a:lnTo>
                  <a:pt x="156" y="105"/>
                </a:lnTo>
                <a:lnTo>
                  <a:pt x="151" y="97"/>
                </a:lnTo>
                <a:lnTo>
                  <a:pt x="145" y="91"/>
                </a:lnTo>
                <a:lnTo>
                  <a:pt x="139" y="83"/>
                </a:lnTo>
                <a:lnTo>
                  <a:pt x="134" y="77"/>
                </a:lnTo>
                <a:lnTo>
                  <a:pt x="125" y="71"/>
                </a:lnTo>
                <a:lnTo>
                  <a:pt x="119" y="66"/>
                </a:lnTo>
                <a:lnTo>
                  <a:pt x="114" y="63"/>
                </a:lnTo>
                <a:lnTo>
                  <a:pt x="105" y="60"/>
                </a:lnTo>
                <a:lnTo>
                  <a:pt x="100" y="60"/>
                </a:lnTo>
                <a:lnTo>
                  <a:pt x="94" y="57"/>
                </a:lnTo>
                <a:lnTo>
                  <a:pt x="88" y="60"/>
                </a:lnTo>
                <a:lnTo>
                  <a:pt x="88" y="57"/>
                </a:lnTo>
                <a:lnTo>
                  <a:pt x="91" y="54"/>
                </a:lnTo>
                <a:lnTo>
                  <a:pt x="94" y="49"/>
                </a:lnTo>
                <a:lnTo>
                  <a:pt x="100" y="43"/>
                </a:lnTo>
                <a:lnTo>
                  <a:pt x="102" y="34"/>
                </a:lnTo>
                <a:lnTo>
                  <a:pt x="105" y="26"/>
                </a:lnTo>
                <a:lnTo>
                  <a:pt x="105" y="17"/>
                </a:lnTo>
                <a:lnTo>
                  <a:pt x="105" y="12"/>
                </a:lnTo>
                <a:lnTo>
                  <a:pt x="100" y="6"/>
                </a:lnTo>
                <a:lnTo>
                  <a:pt x="94" y="3"/>
                </a:lnTo>
                <a:lnTo>
                  <a:pt x="91" y="0"/>
                </a:lnTo>
                <a:lnTo>
                  <a:pt x="85" y="3"/>
                </a:lnTo>
                <a:lnTo>
                  <a:pt x="80" y="6"/>
                </a:lnTo>
                <a:lnTo>
                  <a:pt x="7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36"/>
          <p:cNvSpPr/>
          <p:nvPr/>
        </p:nvSpPr>
        <p:spPr>
          <a:xfrm>
            <a:off x="7467480" y="4567320"/>
            <a:ext cx="58680" cy="150840"/>
          </a:xfrm>
          <a:custGeom>
            <a:avLst/>
            <a:gdLst>
              <a:gd name="textAreaLeft" fmla="*/ 0 w 58680"/>
              <a:gd name="textAreaRight" fmla="*/ 59040 w 58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3" h="108">
                <a:moveTo>
                  <a:pt x="34" y="5"/>
                </a:moveTo>
                <a:lnTo>
                  <a:pt x="26" y="0"/>
                </a:lnTo>
                <a:lnTo>
                  <a:pt x="20" y="0"/>
                </a:lnTo>
                <a:lnTo>
                  <a:pt x="15" y="0"/>
                </a:lnTo>
                <a:lnTo>
                  <a:pt x="12" y="5"/>
                </a:lnTo>
                <a:lnTo>
                  <a:pt x="9" y="8"/>
                </a:lnTo>
                <a:lnTo>
                  <a:pt x="9" y="17"/>
                </a:lnTo>
                <a:lnTo>
                  <a:pt x="3" y="22"/>
                </a:lnTo>
                <a:lnTo>
                  <a:pt x="3" y="34"/>
                </a:lnTo>
                <a:lnTo>
                  <a:pt x="0" y="42"/>
                </a:lnTo>
                <a:lnTo>
                  <a:pt x="0" y="48"/>
                </a:lnTo>
                <a:lnTo>
                  <a:pt x="0" y="56"/>
                </a:lnTo>
                <a:lnTo>
                  <a:pt x="0" y="65"/>
                </a:lnTo>
                <a:lnTo>
                  <a:pt x="0" y="76"/>
                </a:lnTo>
                <a:lnTo>
                  <a:pt x="0" y="88"/>
                </a:lnTo>
                <a:lnTo>
                  <a:pt x="3" y="99"/>
                </a:lnTo>
                <a:lnTo>
                  <a:pt x="9" y="105"/>
                </a:lnTo>
                <a:lnTo>
                  <a:pt x="20" y="108"/>
                </a:lnTo>
                <a:lnTo>
                  <a:pt x="32" y="108"/>
                </a:lnTo>
                <a:lnTo>
                  <a:pt x="37" y="105"/>
                </a:lnTo>
                <a:lnTo>
                  <a:pt x="43" y="99"/>
                </a:lnTo>
                <a:lnTo>
                  <a:pt x="43" y="88"/>
                </a:lnTo>
                <a:lnTo>
                  <a:pt x="40" y="76"/>
                </a:lnTo>
                <a:lnTo>
                  <a:pt x="40" y="71"/>
                </a:lnTo>
                <a:lnTo>
                  <a:pt x="40" y="62"/>
                </a:lnTo>
                <a:lnTo>
                  <a:pt x="40" y="54"/>
                </a:lnTo>
                <a:lnTo>
                  <a:pt x="40" y="48"/>
                </a:lnTo>
                <a:lnTo>
                  <a:pt x="37" y="39"/>
                </a:lnTo>
                <a:lnTo>
                  <a:pt x="37" y="34"/>
                </a:lnTo>
                <a:lnTo>
                  <a:pt x="34" y="25"/>
                </a:lnTo>
                <a:lnTo>
                  <a:pt x="34" y="20"/>
                </a:lnTo>
                <a:lnTo>
                  <a:pt x="34" y="8"/>
                </a:lnTo>
                <a:lnTo>
                  <a:pt x="3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37"/>
          <p:cNvSpPr/>
          <p:nvPr/>
        </p:nvSpPr>
        <p:spPr>
          <a:xfrm>
            <a:off x="6234120" y="5562720"/>
            <a:ext cx="733320" cy="976320"/>
          </a:xfrm>
          <a:custGeom>
            <a:avLst/>
            <a:gdLst>
              <a:gd name="textAreaLeft" fmla="*/ 0 w 733320"/>
              <a:gd name="textAreaRight" fmla="*/ 733680 w 733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535" h="699">
                <a:moveTo>
                  <a:pt x="243" y="0"/>
                </a:moveTo>
                <a:lnTo>
                  <a:pt x="0" y="327"/>
                </a:lnTo>
                <a:lnTo>
                  <a:pt x="170" y="330"/>
                </a:lnTo>
                <a:lnTo>
                  <a:pt x="173" y="693"/>
                </a:lnTo>
                <a:lnTo>
                  <a:pt x="379" y="699"/>
                </a:lnTo>
                <a:lnTo>
                  <a:pt x="359" y="333"/>
                </a:lnTo>
                <a:lnTo>
                  <a:pt x="535" y="333"/>
                </a:lnTo>
                <a:lnTo>
                  <a:pt x="2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38"/>
          <p:cNvSpPr/>
          <p:nvPr/>
        </p:nvSpPr>
        <p:spPr>
          <a:xfrm>
            <a:off x="6467400" y="6589800"/>
            <a:ext cx="290520" cy="83880"/>
          </a:xfrm>
          <a:custGeom>
            <a:avLst/>
            <a:gdLst>
              <a:gd name="textAreaLeft" fmla="*/ 0 w 290520"/>
              <a:gd name="textAreaRight" fmla="*/ 290880 w 290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2" h="60">
                <a:moveTo>
                  <a:pt x="5" y="0"/>
                </a:moveTo>
                <a:lnTo>
                  <a:pt x="0" y="60"/>
                </a:lnTo>
                <a:lnTo>
                  <a:pt x="206" y="54"/>
                </a:lnTo>
                <a:lnTo>
                  <a:pt x="212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0"/>
          <p:cNvSpPr/>
          <p:nvPr/>
        </p:nvSpPr>
        <p:spPr>
          <a:xfrm>
            <a:off x="44197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4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4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5"/>
          <p:cNvSpPr/>
          <p:nvPr/>
        </p:nvSpPr>
        <p:spPr>
          <a:xfrm>
            <a:off x="471240" y="1413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6"/>
          <p:cNvSpPr/>
          <p:nvPr/>
        </p:nvSpPr>
        <p:spPr>
          <a:xfrm>
            <a:off x="324000" y="1916280"/>
            <a:ext cx="60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Times New Roman"/>
              </a:rPr>
              <a:t>В черном ящике находится четырехугольник, у которого все стороны равны и все углы прямые. 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58" descr="j0115834"/>
          <p:cNvPicPr/>
          <p:nvPr/>
        </p:nvPicPr>
        <p:blipFill>
          <a:blip r:embed="rId4"/>
          <a:stretch/>
        </p:blipFill>
        <p:spPr>
          <a:xfrm>
            <a:off x="6477120" y="18288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40"/>
          <p:cNvSpPr/>
          <p:nvPr/>
        </p:nvSpPr>
        <p:spPr>
          <a:xfrm>
            <a:off x="74674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WordArt 62"/>
          <p:cNvSpPr txBox="1"/>
          <p:nvPr/>
        </p:nvSpPr>
        <p:spPr>
          <a:xfrm>
            <a:off x="7772400" y="45720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7" name="AutoShape 63">
            <a:hlinkClick r:id="rId8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00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395280" y="1700280"/>
          <a:ext cx="3600360" cy="43164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46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и с хитринк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мне верите иль не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AutoShape 22"/>
          <p:cNvSpPr/>
          <p:nvPr/>
        </p:nvSpPr>
        <p:spPr>
          <a:xfrm>
            <a:off x="4038480" y="1828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25"/>
          <p:cNvSpPr/>
          <p:nvPr/>
        </p:nvSpPr>
        <p:spPr>
          <a:xfrm>
            <a:off x="7543800" y="1828800"/>
            <a:ext cx="1382760" cy="1066680"/>
          </a:xfrm>
          <a:custGeom>
            <a:avLst/>
            <a:gdLst>
              <a:gd name="textAreaLeft" fmla="*/ 69120 w 1382760"/>
              <a:gd name="textAreaRight" fmla="*/ 1313640 w 13827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26"/>
          <p:cNvSpPr/>
          <p:nvPr/>
        </p:nvSpPr>
        <p:spPr>
          <a:xfrm>
            <a:off x="5715000" y="18288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WordArt 27"/>
          <p:cNvSpPr txBox="1"/>
          <p:nvPr/>
        </p:nvSpPr>
        <p:spPr>
          <a:xfrm>
            <a:off x="4267080" y="20574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5" name="WordArt 28"/>
          <p:cNvSpPr txBox="1"/>
          <p:nvPr/>
        </p:nvSpPr>
        <p:spPr>
          <a:xfrm>
            <a:off x="601992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6" name="WordArt 29"/>
          <p:cNvSpPr txBox="1"/>
          <p:nvPr/>
        </p:nvSpPr>
        <p:spPr>
          <a:xfrm>
            <a:off x="777240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7" name="AutoShape 32"/>
          <p:cNvSpPr/>
          <p:nvPr/>
        </p:nvSpPr>
        <p:spPr>
          <a:xfrm>
            <a:off x="403848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35"/>
          <p:cNvSpPr/>
          <p:nvPr/>
        </p:nvSpPr>
        <p:spPr>
          <a:xfrm>
            <a:off x="7543800" y="30481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6"/>
          <p:cNvSpPr/>
          <p:nvPr/>
        </p:nvSpPr>
        <p:spPr>
          <a:xfrm>
            <a:off x="571500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37"/>
          <p:cNvSpPr/>
          <p:nvPr/>
        </p:nvSpPr>
        <p:spPr>
          <a:xfrm>
            <a:off x="403848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40"/>
          <p:cNvSpPr/>
          <p:nvPr/>
        </p:nvSpPr>
        <p:spPr>
          <a:xfrm>
            <a:off x="754380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41"/>
          <p:cNvSpPr/>
          <p:nvPr/>
        </p:nvSpPr>
        <p:spPr>
          <a:xfrm>
            <a:off x="5715000" y="4343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ff99cc">
              <a:alpha val="31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WordArt 5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5" name="WordArt 5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6" name="WordArt 55"/>
          <p:cNvSpPr txBox="1"/>
          <p:nvPr/>
        </p:nvSpPr>
        <p:spPr>
          <a:xfrm>
            <a:off x="4267080" y="32004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7" name="WordArt 56"/>
          <p:cNvSpPr txBox="1"/>
          <p:nvPr/>
        </p:nvSpPr>
        <p:spPr>
          <a:xfrm>
            <a:off x="6019920" y="3200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8" name="WordArt 57"/>
          <p:cNvSpPr txBox="1"/>
          <p:nvPr/>
        </p:nvSpPr>
        <p:spPr>
          <a:xfrm>
            <a:off x="7772400" y="3200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9" name="WordArt 60"/>
          <p:cNvSpPr txBox="1"/>
          <p:nvPr/>
        </p:nvSpPr>
        <p:spPr>
          <a:xfrm>
            <a:off x="4267080" y="44956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0" name="WordArt 61"/>
          <p:cNvSpPr txBox="1"/>
          <p:nvPr/>
        </p:nvSpPr>
        <p:spPr>
          <a:xfrm>
            <a:off x="6095880" y="44956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1" name="WordArt 62"/>
          <p:cNvSpPr txBox="1"/>
          <p:nvPr/>
        </p:nvSpPr>
        <p:spPr>
          <a:xfrm>
            <a:off x="7848720" y="4495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2" name="AutoShape 35">
            <a:hlinkClick r:id="rId34" action="ppaction://hlinksldjump"/>
          </p:cNvPr>
          <p:cNvSpPr/>
          <p:nvPr/>
        </p:nvSpPr>
        <p:spPr>
          <a:xfrm>
            <a:off x="77724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851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851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4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5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Загадки с хитринкой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324000" y="220500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8"/>
          <p:cNvSpPr/>
          <p:nvPr/>
        </p:nvSpPr>
        <p:spPr>
          <a:xfrm>
            <a:off x="228600" y="2743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идет, не двигаясь с ме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3"/>
          <p:cNvSpPr/>
          <p:nvPr/>
        </p:nvSpPr>
        <p:spPr>
          <a:xfrm>
            <a:off x="1547640" y="5516640"/>
            <a:ext cx="7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4"/>
          <p:cNvSpPr/>
          <p:nvPr/>
        </p:nvSpPr>
        <p:spPr>
          <a:xfrm>
            <a:off x="539640" y="5516640"/>
            <a:ext cx="7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>
            <a:off x="468360" y="558972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8"/>
          <p:cNvSpPr/>
          <p:nvPr/>
        </p:nvSpPr>
        <p:spPr>
          <a:xfrm>
            <a:off x="154764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"/>
          <p:cNvSpPr/>
          <p:nvPr/>
        </p:nvSpPr>
        <p:spPr>
          <a:xfrm>
            <a:off x="179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0"/>
          <p:cNvSpPr/>
          <p:nvPr/>
        </p:nvSpPr>
        <p:spPr>
          <a:xfrm>
            <a:off x="1403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1"/>
          <p:cNvSpPr/>
          <p:nvPr/>
        </p:nvSpPr>
        <p:spPr>
          <a:xfrm>
            <a:off x="1619280" y="551664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5"/>
          <p:cNvSpPr/>
          <p:nvPr/>
        </p:nvSpPr>
        <p:spPr>
          <a:xfrm>
            <a:off x="579600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26"/>
          <p:cNvGrpSpPr/>
          <p:nvPr/>
        </p:nvGrpSpPr>
        <p:grpSpPr>
          <a:xfrm>
            <a:off x="4343400" y="4191120"/>
            <a:ext cx="3932280" cy="1980720"/>
            <a:chOff x="4343400" y="4191120"/>
            <a:chExt cx="3932280" cy="1980720"/>
          </a:xfrm>
        </p:grpSpPr>
        <p:sp>
          <p:nvSpPr>
            <p:cNvPr id="867" name="Freeform 27"/>
            <p:cNvSpPr/>
            <p:nvPr/>
          </p:nvSpPr>
          <p:spPr>
            <a:xfrm>
              <a:off x="4343400" y="4275360"/>
              <a:ext cx="3932280" cy="1896480"/>
            </a:xfrm>
            <a:custGeom>
              <a:avLst/>
              <a:gdLst>
                <a:gd name="textAreaLeft" fmla="*/ 0 w 3932280"/>
                <a:gd name="textAreaRight" fmla="*/ 3932640 w 393228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44c63a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28"/>
            <p:cNvGrpSpPr/>
            <p:nvPr/>
          </p:nvGrpSpPr>
          <p:grpSpPr>
            <a:xfrm>
              <a:off x="4885200" y="4191120"/>
              <a:ext cx="146160" cy="187920"/>
              <a:chOff x="4885200" y="4191120"/>
              <a:chExt cx="146160" cy="187920"/>
            </a:xfrm>
          </p:grpSpPr>
          <p:sp>
            <p:nvSpPr>
              <p:cNvPr id="869" name="Oval 29"/>
              <p:cNvSpPr/>
              <p:nvPr/>
            </p:nvSpPr>
            <p:spPr>
              <a:xfrm>
                <a:off x="494136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30"/>
              <p:cNvSpPr/>
              <p:nvPr/>
            </p:nvSpPr>
            <p:spPr>
              <a:xfrm>
                <a:off x="488520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Group 31"/>
            <p:cNvGrpSpPr/>
            <p:nvPr/>
          </p:nvGrpSpPr>
          <p:grpSpPr>
            <a:xfrm>
              <a:off x="5378040" y="4191480"/>
              <a:ext cx="147240" cy="187560"/>
              <a:chOff x="5378040" y="4191480"/>
              <a:chExt cx="147240" cy="187560"/>
            </a:xfrm>
          </p:grpSpPr>
          <p:sp>
            <p:nvSpPr>
              <p:cNvPr id="872" name="Oval 32"/>
              <p:cNvSpPr/>
              <p:nvPr/>
            </p:nvSpPr>
            <p:spPr>
              <a:xfrm>
                <a:off x="5433840" y="4332600"/>
                <a:ext cx="4356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3"/>
              <p:cNvSpPr/>
              <p:nvPr/>
            </p:nvSpPr>
            <p:spPr>
              <a:xfrm>
                <a:off x="5378040" y="4191480"/>
                <a:ext cx="147240" cy="1785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34"/>
            <p:cNvGrpSpPr/>
            <p:nvPr/>
          </p:nvGrpSpPr>
          <p:grpSpPr>
            <a:xfrm>
              <a:off x="5903640" y="4191480"/>
              <a:ext cx="146160" cy="187560"/>
              <a:chOff x="5903640" y="4191480"/>
              <a:chExt cx="146160" cy="187560"/>
            </a:xfrm>
          </p:grpSpPr>
          <p:sp>
            <p:nvSpPr>
              <p:cNvPr id="875" name="Oval 35"/>
              <p:cNvSpPr/>
              <p:nvPr/>
            </p:nvSpPr>
            <p:spPr>
              <a:xfrm>
                <a:off x="5958720" y="4332600"/>
                <a:ext cx="4320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6"/>
              <p:cNvSpPr/>
              <p:nvPr/>
            </p:nvSpPr>
            <p:spPr>
              <a:xfrm>
                <a:off x="590364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37"/>
            <p:cNvGrpSpPr/>
            <p:nvPr/>
          </p:nvGrpSpPr>
          <p:grpSpPr>
            <a:xfrm>
              <a:off x="6427800" y="4191480"/>
              <a:ext cx="146160" cy="187560"/>
              <a:chOff x="6427800" y="4191480"/>
              <a:chExt cx="146160" cy="187560"/>
            </a:xfrm>
          </p:grpSpPr>
          <p:sp>
            <p:nvSpPr>
              <p:cNvPr id="878" name="Oval 38"/>
              <p:cNvSpPr/>
              <p:nvPr/>
            </p:nvSpPr>
            <p:spPr>
              <a:xfrm>
                <a:off x="6483600" y="4332600"/>
                <a:ext cx="4392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9"/>
              <p:cNvSpPr/>
              <p:nvPr/>
            </p:nvSpPr>
            <p:spPr>
              <a:xfrm>
                <a:off x="642780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Group 40"/>
            <p:cNvGrpSpPr/>
            <p:nvPr/>
          </p:nvGrpSpPr>
          <p:grpSpPr>
            <a:xfrm>
              <a:off x="6893280" y="4191480"/>
              <a:ext cx="146160" cy="187560"/>
              <a:chOff x="6893280" y="4191480"/>
              <a:chExt cx="146160" cy="187560"/>
            </a:xfrm>
          </p:grpSpPr>
          <p:sp>
            <p:nvSpPr>
              <p:cNvPr id="881" name="Oval 41"/>
              <p:cNvSpPr/>
              <p:nvPr/>
            </p:nvSpPr>
            <p:spPr>
              <a:xfrm>
                <a:off x="69494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2"/>
              <p:cNvSpPr/>
              <p:nvPr/>
            </p:nvSpPr>
            <p:spPr>
              <a:xfrm>
                <a:off x="68932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43"/>
            <p:cNvGrpSpPr/>
            <p:nvPr/>
          </p:nvGrpSpPr>
          <p:grpSpPr>
            <a:xfrm>
              <a:off x="7418880" y="4191480"/>
              <a:ext cx="146160" cy="187560"/>
              <a:chOff x="7418880" y="4191480"/>
              <a:chExt cx="146160" cy="187560"/>
            </a:xfrm>
          </p:grpSpPr>
          <p:sp>
            <p:nvSpPr>
              <p:cNvPr id="884" name="Oval 44"/>
              <p:cNvSpPr/>
              <p:nvPr/>
            </p:nvSpPr>
            <p:spPr>
              <a:xfrm>
                <a:off x="74750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5"/>
              <p:cNvSpPr/>
              <p:nvPr/>
            </p:nvSpPr>
            <p:spPr>
              <a:xfrm>
                <a:off x="74188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Freeform 46"/>
            <p:cNvSpPr/>
            <p:nvPr/>
          </p:nvSpPr>
          <p:spPr>
            <a:xfrm>
              <a:off x="7252920" y="4858920"/>
              <a:ext cx="224640" cy="11606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7"/>
            <p:cNvSpPr/>
            <p:nvPr/>
          </p:nvSpPr>
          <p:spPr>
            <a:xfrm>
              <a:off x="6340680" y="5152320"/>
              <a:ext cx="349560" cy="91404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"/>
            <p:cNvSpPr/>
            <p:nvPr/>
          </p:nvSpPr>
          <p:spPr>
            <a:xfrm>
              <a:off x="5378040" y="5457240"/>
              <a:ext cx="350280" cy="6328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49"/>
            <p:cNvGrpSpPr/>
            <p:nvPr/>
          </p:nvGrpSpPr>
          <p:grpSpPr>
            <a:xfrm>
              <a:off x="7909560" y="4191120"/>
              <a:ext cx="146160" cy="187920"/>
              <a:chOff x="7909560" y="4191120"/>
              <a:chExt cx="146160" cy="187920"/>
            </a:xfrm>
          </p:grpSpPr>
          <p:sp>
            <p:nvSpPr>
              <p:cNvPr id="890" name="Oval 50"/>
              <p:cNvSpPr/>
              <p:nvPr/>
            </p:nvSpPr>
            <p:spPr>
              <a:xfrm>
                <a:off x="796644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51"/>
              <p:cNvSpPr/>
              <p:nvPr/>
            </p:nvSpPr>
            <p:spPr>
              <a:xfrm>
                <a:off x="790956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2" name="AutoShape 53"/>
          <p:cNvSpPr/>
          <p:nvPr/>
        </p:nvSpPr>
        <p:spPr>
          <a:xfrm>
            <a:off x="90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54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55"/>
          <p:cNvSpPr/>
          <p:nvPr/>
        </p:nvSpPr>
        <p:spPr>
          <a:xfrm>
            <a:off x="234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22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WordArt 27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7" name="AutoShape 56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938" dur="3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9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00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Загадки с хитринкой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8"/>
          <p:cNvSpPr/>
          <p:nvPr/>
        </p:nvSpPr>
        <p:spPr>
          <a:xfrm>
            <a:off x="17928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что похожа половинка ябл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7"/>
          <p:cNvSpPr/>
          <p:nvPr/>
        </p:nvSpPr>
        <p:spPr>
          <a:xfrm>
            <a:off x="6084720" y="5229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вою вторую полов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0"/>
          <p:cNvSpPr/>
          <p:nvPr/>
        </p:nvSpPr>
        <p:spPr>
          <a:xfrm>
            <a:off x="1116000" y="5950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91"/>
          <p:cNvSpPr/>
          <p:nvPr/>
        </p:nvSpPr>
        <p:spPr>
          <a:xfrm>
            <a:off x="1763640" y="5950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93"/>
          <p:cNvSpPr/>
          <p:nvPr/>
        </p:nvSpPr>
        <p:spPr>
          <a:xfrm>
            <a:off x="2411280" y="5950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26"/>
          <p:cNvSpPr/>
          <p:nvPr/>
        </p:nvSpPr>
        <p:spPr>
          <a:xfrm>
            <a:off x="7391520" y="228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WordArt 28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909" name="Group 26"/>
          <p:cNvGrpSpPr/>
          <p:nvPr/>
        </p:nvGrpSpPr>
        <p:grpSpPr>
          <a:xfrm>
            <a:off x="4343400" y="4191120"/>
            <a:ext cx="3932280" cy="1980720"/>
            <a:chOff x="4343400" y="4191120"/>
            <a:chExt cx="3932280" cy="1980720"/>
          </a:xfrm>
        </p:grpSpPr>
        <p:sp>
          <p:nvSpPr>
            <p:cNvPr id="910" name="Freeform 27"/>
            <p:cNvSpPr/>
            <p:nvPr/>
          </p:nvSpPr>
          <p:spPr>
            <a:xfrm>
              <a:off x="4343400" y="4275360"/>
              <a:ext cx="3932280" cy="1896480"/>
            </a:xfrm>
            <a:custGeom>
              <a:avLst/>
              <a:gdLst>
                <a:gd name="textAreaLeft" fmla="*/ 0 w 3932280"/>
                <a:gd name="textAreaRight" fmla="*/ 3932640 w 393228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44c63a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28"/>
            <p:cNvGrpSpPr/>
            <p:nvPr/>
          </p:nvGrpSpPr>
          <p:grpSpPr>
            <a:xfrm>
              <a:off x="4885200" y="4191120"/>
              <a:ext cx="146160" cy="187920"/>
              <a:chOff x="4885200" y="4191120"/>
              <a:chExt cx="146160" cy="187920"/>
            </a:xfrm>
          </p:grpSpPr>
          <p:sp>
            <p:nvSpPr>
              <p:cNvPr id="912" name="Oval 29"/>
              <p:cNvSpPr/>
              <p:nvPr/>
            </p:nvSpPr>
            <p:spPr>
              <a:xfrm>
                <a:off x="494136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0"/>
              <p:cNvSpPr/>
              <p:nvPr/>
            </p:nvSpPr>
            <p:spPr>
              <a:xfrm>
                <a:off x="488520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31"/>
            <p:cNvGrpSpPr/>
            <p:nvPr/>
          </p:nvGrpSpPr>
          <p:grpSpPr>
            <a:xfrm>
              <a:off x="5378040" y="4191480"/>
              <a:ext cx="147240" cy="187560"/>
              <a:chOff x="5378040" y="4191480"/>
              <a:chExt cx="147240" cy="187560"/>
            </a:xfrm>
          </p:grpSpPr>
          <p:sp>
            <p:nvSpPr>
              <p:cNvPr id="915" name="Oval 32"/>
              <p:cNvSpPr/>
              <p:nvPr/>
            </p:nvSpPr>
            <p:spPr>
              <a:xfrm>
                <a:off x="5433840" y="4332600"/>
                <a:ext cx="4356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3"/>
              <p:cNvSpPr/>
              <p:nvPr/>
            </p:nvSpPr>
            <p:spPr>
              <a:xfrm>
                <a:off x="5378040" y="4191480"/>
                <a:ext cx="147240" cy="1785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Group 34"/>
            <p:cNvGrpSpPr/>
            <p:nvPr/>
          </p:nvGrpSpPr>
          <p:grpSpPr>
            <a:xfrm>
              <a:off x="5903640" y="4191480"/>
              <a:ext cx="146160" cy="187560"/>
              <a:chOff x="5903640" y="4191480"/>
              <a:chExt cx="146160" cy="187560"/>
            </a:xfrm>
          </p:grpSpPr>
          <p:sp>
            <p:nvSpPr>
              <p:cNvPr id="918" name="Oval 35"/>
              <p:cNvSpPr/>
              <p:nvPr/>
            </p:nvSpPr>
            <p:spPr>
              <a:xfrm>
                <a:off x="5958720" y="4332600"/>
                <a:ext cx="4320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6"/>
              <p:cNvSpPr/>
              <p:nvPr/>
            </p:nvSpPr>
            <p:spPr>
              <a:xfrm>
                <a:off x="590364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Group 37"/>
            <p:cNvGrpSpPr/>
            <p:nvPr/>
          </p:nvGrpSpPr>
          <p:grpSpPr>
            <a:xfrm>
              <a:off x="6427800" y="4191480"/>
              <a:ext cx="146160" cy="187560"/>
              <a:chOff x="6427800" y="4191480"/>
              <a:chExt cx="146160" cy="187560"/>
            </a:xfrm>
          </p:grpSpPr>
          <p:sp>
            <p:nvSpPr>
              <p:cNvPr id="921" name="Oval 38"/>
              <p:cNvSpPr/>
              <p:nvPr/>
            </p:nvSpPr>
            <p:spPr>
              <a:xfrm>
                <a:off x="6483600" y="4332600"/>
                <a:ext cx="4392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9"/>
              <p:cNvSpPr/>
              <p:nvPr/>
            </p:nvSpPr>
            <p:spPr>
              <a:xfrm>
                <a:off x="642780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40"/>
            <p:cNvGrpSpPr/>
            <p:nvPr/>
          </p:nvGrpSpPr>
          <p:grpSpPr>
            <a:xfrm>
              <a:off x="6893280" y="4191480"/>
              <a:ext cx="146160" cy="187560"/>
              <a:chOff x="6893280" y="4191480"/>
              <a:chExt cx="146160" cy="187560"/>
            </a:xfrm>
          </p:grpSpPr>
          <p:sp>
            <p:nvSpPr>
              <p:cNvPr id="924" name="Oval 41"/>
              <p:cNvSpPr/>
              <p:nvPr/>
            </p:nvSpPr>
            <p:spPr>
              <a:xfrm>
                <a:off x="69494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2"/>
              <p:cNvSpPr/>
              <p:nvPr/>
            </p:nvSpPr>
            <p:spPr>
              <a:xfrm>
                <a:off x="68932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43"/>
            <p:cNvGrpSpPr/>
            <p:nvPr/>
          </p:nvGrpSpPr>
          <p:grpSpPr>
            <a:xfrm>
              <a:off x="7418880" y="4191480"/>
              <a:ext cx="146160" cy="187560"/>
              <a:chOff x="7418880" y="4191480"/>
              <a:chExt cx="146160" cy="187560"/>
            </a:xfrm>
          </p:grpSpPr>
          <p:sp>
            <p:nvSpPr>
              <p:cNvPr id="927" name="Oval 44"/>
              <p:cNvSpPr/>
              <p:nvPr/>
            </p:nvSpPr>
            <p:spPr>
              <a:xfrm>
                <a:off x="74750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5"/>
              <p:cNvSpPr/>
              <p:nvPr/>
            </p:nvSpPr>
            <p:spPr>
              <a:xfrm>
                <a:off x="74188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Freeform 46"/>
            <p:cNvSpPr/>
            <p:nvPr/>
          </p:nvSpPr>
          <p:spPr>
            <a:xfrm>
              <a:off x="7252920" y="4858920"/>
              <a:ext cx="224640" cy="11606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47"/>
            <p:cNvSpPr/>
            <p:nvPr/>
          </p:nvSpPr>
          <p:spPr>
            <a:xfrm>
              <a:off x="6340680" y="5152320"/>
              <a:ext cx="349560" cy="91404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48"/>
            <p:cNvSpPr/>
            <p:nvPr/>
          </p:nvSpPr>
          <p:spPr>
            <a:xfrm>
              <a:off x="5378040" y="5457240"/>
              <a:ext cx="350280" cy="6328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49"/>
            <p:cNvGrpSpPr/>
            <p:nvPr/>
          </p:nvGrpSpPr>
          <p:grpSpPr>
            <a:xfrm>
              <a:off x="7909560" y="4191120"/>
              <a:ext cx="146160" cy="187920"/>
              <a:chOff x="7909560" y="4191120"/>
              <a:chExt cx="146160" cy="187920"/>
            </a:xfrm>
          </p:grpSpPr>
          <p:sp>
            <p:nvSpPr>
              <p:cNvPr id="933" name="Oval 50"/>
              <p:cNvSpPr/>
              <p:nvPr/>
            </p:nvSpPr>
            <p:spPr>
              <a:xfrm>
                <a:off x="796644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1"/>
              <p:cNvSpPr/>
              <p:nvPr/>
            </p:nvSpPr>
            <p:spPr>
              <a:xfrm>
                <a:off x="790956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AutoShape 70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973" dur="3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7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8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Загадки с хитринкой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9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179280" y="2852640"/>
            <a:ext cx="91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рона летит, а собака на хвосте сидит. Может ли такое бы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7"/>
          <p:cNvSpPr/>
          <p:nvPr/>
        </p:nvSpPr>
        <p:spPr>
          <a:xfrm>
            <a:off x="6084720" y="5229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, т.к собака может сидеть на хво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26"/>
          <p:cNvSpPr/>
          <p:nvPr/>
        </p:nvSpPr>
        <p:spPr>
          <a:xfrm>
            <a:off x="7391520" y="228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WordArt 28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947" name="Group 26"/>
          <p:cNvGrpSpPr/>
          <p:nvPr/>
        </p:nvGrpSpPr>
        <p:grpSpPr>
          <a:xfrm>
            <a:off x="5029200" y="4419720"/>
            <a:ext cx="3932280" cy="1980720"/>
            <a:chOff x="5029200" y="4419720"/>
            <a:chExt cx="3932280" cy="1980720"/>
          </a:xfrm>
        </p:grpSpPr>
        <p:sp>
          <p:nvSpPr>
            <p:cNvPr id="948" name="Freeform 27"/>
            <p:cNvSpPr/>
            <p:nvPr/>
          </p:nvSpPr>
          <p:spPr>
            <a:xfrm>
              <a:off x="5029200" y="4503960"/>
              <a:ext cx="3932280" cy="1896480"/>
            </a:xfrm>
            <a:custGeom>
              <a:avLst/>
              <a:gdLst>
                <a:gd name="textAreaLeft" fmla="*/ 0 w 3932280"/>
                <a:gd name="textAreaRight" fmla="*/ 3932640 w 393228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44c63a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28"/>
            <p:cNvGrpSpPr/>
            <p:nvPr/>
          </p:nvGrpSpPr>
          <p:grpSpPr>
            <a:xfrm>
              <a:off x="5571000" y="4419720"/>
              <a:ext cx="146160" cy="187920"/>
              <a:chOff x="5571000" y="4419720"/>
              <a:chExt cx="146160" cy="187920"/>
            </a:xfrm>
          </p:grpSpPr>
          <p:sp>
            <p:nvSpPr>
              <p:cNvPr id="950" name="Oval 29"/>
              <p:cNvSpPr/>
              <p:nvPr/>
            </p:nvSpPr>
            <p:spPr>
              <a:xfrm>
                <a:off x="5627160" y="45608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0"/>
              <p:cNvSpPr/>
              <p:nvPr/>
            </p:nvSpPr>
            <p:spPr>
              <a:xfrm>
                <a:off x="5571000" y="44197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31"/>
            <p:cNvGrpSpPr/>
            <p:nvPr/>
          </p:nvGrpSpPr>
          <p:grpSpPr>
            <a:xfrm>
              <a:off x="6063840" y="4420080"/>
              <a:ext cx="147240" cy="187560"/>
              <a:chOff x="6063840" y="4420080"/>
              <a:chExt cx="147240" cy="187560"/>
            </a:xfrm>
          </p:grpSpPr>
          <p:sp>
            <p:nvSpPr>
              <p:cNvPr id="953" name="Oval 32"/>
              <p:cNvSpPr/>
              <p:nvPr/>
            </p:nvSpPr>
            <p:spPr>
              <a:xfrm>
                <a:off x="6119640" y="4561200"/>
                <a:ext cx="4356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3"/>
              <p:cNvSpPr/>
              <p:nvPr/>
            </p:nvSpPr>
            <p:spPr>
              <a:xfrm>
                <a:off x="6063840" y="4420080"/>
                <a:ext cx="147240" cy="1785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34"/>
            <p:cNvGrpSpPr/>
            <p:nvPr/>
          </p:nvGrpSpPr>
          <p:grpSpPr>
            <a:xfrm>
              <a:off x="6589440" y="4420080"/>
              <a:ext cx="146160" cy="187560"/>
              <a:chOff x="6589440" y="4420080"/>
              <a:chExt cx="146160" cy="187560"/>
            </a:xfrm>
          </p:grpSpPr>
          <p:sp>
            <p:nvSpPr>
              <p:cNvPr id="956" name="Oval 35"/>
              <p:cNvSpPr/>
              <p:nvPr/>
            </p:nvSpPr>
            <p:spPr>
              <a:xfrm>
                <a:off x="6644520" y="4561200"/>
                <a:ext cx="4320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6"/>
              <p:cNvSpPr/>
              <p:nvPr/>
            </p:nvSpPr>
            <p:spPr>
              <a:xfrm>
                <a:off x="658944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37"/>
            <p:cNvGrpSpPr/>
            <p:nvPr/>
          </p:nvGrpSpPr>
          <p:grpSpPr>
            <a:xfrm>
              <a:off x="7113600" y="4420080"/>
              <a:ext cx="146160" cy="187560"/>
              <a:chOff x="7113600" y="4420080"/>
              <a:chExt cx="146160" cy="187560"/>
            </a:xfrm>
          </p:grpSpPr>
          <p:sp>
            <p:nvSpPr>
              <p:cNvPr id="959" name="Oval 38"/>
              <p:cNvSpPr/>
              <p:nvPr/>
            </p:nvSpPr>
            <p:spPr>
              <a:xfrm>
                <a:off x="7169400" y="4561200"/>
                <a:ext cx="4392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9"/>
              <p:cNvSpPr/>
              <p:nvPr/>
            </p:nvSpPr>
            <p:spPr>
              <a:xfrm>
                <a:off x="711360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40"/>
            <p:cNvGrpSpPr/>
            <p:nvPr/>
          </p:nvGrpSpPr>
          <p:grpSpPr>
            <a:xfrm>
              <a:off x="7579080" y="4420080"/>
              <a:ext cx="146160" cy="187560"/>
              <a:chOff x="7579080" y="4420080"/>
              <a:chExt cx="146160" cy="187560"/>
            </a:xfrm>
          </p:grpSpPr>
          <p:sp>
            <p:nvSpPr>
              <p:cNvPr id="962" name="Oval 41"/>
              <p:cNvSpPr/>
              <p:nvPr/>
            </p:nvSpPr>
            <p:spPr>
              <a:xfrm>
                <a:off x="7635240" y="45612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42"/>
              <p:cNvSpPr/>
              <p:nvPr/>
            </p:nvSpPr>
            <p:spPr>
              <a:xfrm>
                <a:off x="757908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43"/>
            <p:cNvGrpSpPr/>
            <p:nvPr/>
          </p:nvGrpSpPr>
          <p:grpSpPr>
            <a:xfrm>
              <a:off x="8104680" y="4420080"/>
              <a:ext cx="146160" cy="187560"/>
              <a:chOff x="8104680" y="4420080"/>
              <a:chExt cx="146160" cy="187560"/>
            </a:xfrm>
          </p:grpSpPr>
          <p:sp>
            <p:nvSpPr>
              <p:cNvPr id="965" name="Oval 44"/>
              <p:cNvSpPr/>
              <p:nvPr/>
            </p:nvSpPr>
            <p:spPr>
              <a:xfrm>
                <a:off x="8160840" y="45612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45"/>
              <p:cNvSpPr/>
              <p:nvPr/>
            </p:nvSpPr>
            <p:spPr>
              <a:xfrm>
                <a:off x="810468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Freeform 46"/>
            <p:cNvSpPr/>
            <p:nvPr/>
          </p:nvSpPr>
          <p:spPr>
            <a:xfrm>
              <a:off x="7938720" y="5087520"/>
              <a:ext cx="224640" cy="11606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7"/>
            <p:cNvSpPr/>
            <p:nvPr/>
          </p:nvSpPr>
          <p:spPr>
            <a:xfrm>
              <a:off x="7026480" y="5380920"/>
              <a:ext cx="349560" cy="91404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8"/>
            <p:cNvSpPr/>
            <p:nvPr/>
          </p:nvSpPr>
          <p:spPr>
            <a:xfrm>
              <a:off x="6063840" y="5685840"/>
              <a:ext cx="350280" cy="6328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49"/>
            <p:cNvGrpSpPr/>
            <p:nvPr/>
          </p:nvGrpSpPr>
          <p:grpSpPr>
            <a:xfrm>
              <a:off x="8595360" y="4419720"/>
              <a:ext cx="146160" cy="187920"/>
              <a:chOff x="8595360" y="4419720"/>
              <a:chExt cx="146160" cy="187920"/>
            </a:xfrm>
          </p:grpSpPr>
          <p:sp>
            <p:nvSpPr>
              <p:cNvPr id="971" name="Oval 50"/>
              <p:cNvSpPr/>
              <p:nvPr/>
            </p:nvSpPr>
            <p:spPr>
              <a:xfrm>
                <a:off x="8652240" y="45608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1"/>
              <p:cNvSpPr/>
              <p:nvPr/>
            </p:nvSpPr>
            <p:spPr>
              <a:xfrm>
                <a:off x="8595360" y="44197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3" name="AutoShape 40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008" dur="30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5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6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Анаграмм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179280" y="2852640"/>
            <a:ext cx="911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0"/>
          <p:cNvSpPr/>
          <p:nvPr/>
        </p:nvSpPr>
        <p:spPr>
          <a:xfrm>
            <a:off x="3581280" y="286452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Arial"/>
              </a:rPr>
              <a:t>М У М С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986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987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989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992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995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998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1001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1004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9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1010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AutoShape 69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043" dur="3000" fill="hold"/>
                                        <p:tgtEl>
                                          <p:spTgt spid="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985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985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14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15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Анаграмм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16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8"/>
          <p:cNvSpPr/>
          <p:nvPr/>
        </p:nvSpPr>
        <p:spPr>
          <a:xfrm>
            <a:off x="179280" y="2852640"/>
            <a:ext cx="91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Arial"/>
              </a:rPr>
              <a:t>РИГУФА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1023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1025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1028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1031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1034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1037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1040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2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1046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AutoShape 36"/>
          <p:cNvSpPr/>
          <p:nvPr/>
        </p:nvSpPr>
        <p:spPr>
          <a:xfrm>
            <a:off x="723888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WordArt 56"/>
          <p:cNvSpPr txBox="1"/>
          <p:nvPr/>
        </p:nvSpPr>
        <p:spPr>
          <a:xfrm>
            <a:off x="7543800" y="3808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50" name="AutoShape 68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078" dur="3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2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3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Анаграмм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4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8"/>
          <p:cNvSpPr/>
          <p:nvPr/>
        </p:nvSpPr>
        <p:spPr>
          <a:xfrm>
            <a:off x="179280" y="2852640"/>
            <a:ext cx="91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Arial"/>
              </a:rPr>
              <a:t>МГАРМ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1061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1063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1066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1069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1072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1075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1078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1084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AutoShape 35"/>
          <p:cNvSpPr/>
          <p:nvPr/>
        </p:nvSpPr>
        <p:spPr>
          <a:xfrm>
            <a:off x="762012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WordArt 57"/>
          <p:cNvSpPr txBox="1"/>
          <p:nvPr/>
        </p:nvSpPr>
        <p:spPr>
          <a:xfrm>
            <a:off x="7848720" y="53352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8" name="AutoShape 68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113" dur="3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087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087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8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" name="AutoShape 42"/>
          <p:cNvSpPr/>
          <p:nvPr/>
        </p:nvSpPr>
        <p:spPr>
          <a:xfrm>
            <a:off x="4191120" y="22096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5"/>
          <p:cNvSpPr/>
          <p:nvPr/>
        </p:nvSpPr>
        <p:spPr>
          <a:xfrm>
            <a:off x="7620120" y="22096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6"/>
          <p:cNvSpPr/>
          <p:nvPr/>
        </p:nvSpPr>
        <p:spPr>
          <a:xfrm>
            <a:off x="5925960" y="22096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7"/>
          <p:cNvSpPr/>
          <p:nvPr/>
        </p:nvSpPr>
        <p:spPr>
          <a:xfrm>
            <a:off x="4191120" y="35053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7620120" y="35053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5943600" y="35053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2"/>
          <p:cNvSpPr txBox="1"/>
          <p:nvPr/>
        </p:nvSpPr>
        <p:spPr>
          <a:xfrm>
            <a:off x="4495680" y="243828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5" name="WordArt 53"/>
          <p:cNvSpPr txBox="1"/>
          <p:nvPr/>
        </p:nvSpPr>
        <p:spPr>
          <a:xfrm>
            <a:off x="6172200" y="243828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" name="WordArt 54"/>
          <p:cNvSpPr txBox="1"/>
          <p:nvPr/>
        </p:nvSpPr>
        <p:spPr>
          <a:xfrm>
            <a:off x="7924680" y="243828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7" name="WordArt 57"/>
          <p:cNvSpPr txBox="1"/>
          <p:nvPr/>
        </p:nvSpPr>
        <p:spPr>
          <a:xfrm>
            <a:off x="4419720" y="36576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8" name="WordArt 58"/>
          <p:cNvSpPr txBox="1"/>
          <p:nvPr/>
        </p:nvSpPr>
        <p:spPr>
          <a:xfrm>
            <a:off x="6172200" y="3657600"/>
            <a:ext cx="838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9" name="WordArt 59"/>
          <p:cNvSpPr txBox="1"/>
          <p:nvPr/>
        </p:nvSpPr>
        <p:spPr>
          <a:xfrm>
            <a:off x="7924680" y="365760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0" name="AutoShape 62"/>
          <p:cNvSpPr/>
          <p:nvPr/>
        </p:nvSpPr>
        <p:spPr>
          <a:xfrm>
            <a:off x="4191120" y="4876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5">
            <a:hlinkClick r:id="" action="ppaction://hlinkshowjump?jump=firstslide"/>
          </p:cNvPr>
          <p:cNvSpPr/>
          <p:nvPr/>
        </p:nvSpPr>
        <p:spPr>
          <a:xfrm>
            <a:off x="7620120" y="4876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6"/>
          <p:cNvSpPr/>
          <p:nvPr/>
        </p:nvSpPr>
        <p:spPr>
          <a:xfrm>
            <a:off x="5943600" y="4876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7"/>
          <p:cNvSpPr txBox="1"/>
          <p:nvPr/>
        </p:nvSpPr>
        <p:spPr>
          <a:xfrm>
            <a:off x="4419720" y="502920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" name="WordArt 68"/>
          <p:cNvSpPr txBox="1"/>
          <p:nvPr/>
        </p:nvSpPr>
        <p:spPr>
          <a:xfrm>
            <a:off x="6248520" y="510552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5" name="WordArt 69"/>
          <p:cNvSpPr txBox="1"/>
          <p:nvPr/>
        </p:nvSpPr>
        <p:spPr>
          <a:xfrm>
            <a:off x="7924680" y="510552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6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8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2286000"/>
          <a:ext cx="3600720" cy="37339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и лиш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гадай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уточные зада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94">
            <a:hlinkClick r:id="rId34" action="ppaction://hlinksldjump"/>
          </p:cNvPr>
          <p:cNvSpPr/>
          <p:nvPr/>
        </p:nvSpPr>
        <p:spPr>
          <a:xfrm>
            <a:off x="76960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90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91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Вы мне верите иль нет?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179280" y="2852640"/>
            <a:ext cx="91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дин килограмм железа тяжелее одного килограмма бума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37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WordArt 60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100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1101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1103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1106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1109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1112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1115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1118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1124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AutoShape 68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148" dur="3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3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28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29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Вы мне верите иль нет?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8"/>
          <p:cNvSpPr/>
          <p:nvPr/>
        </p:nvSpPr>
        <p:spPr>
          <a:xfrm>
            <a:off x="179280" y="2852640"/>
            <a:ext cx="91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Гусь весит на двух лапах 6кг. А на одной – 3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37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WordArt 60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138" name="Group 15"/>
          <p:cNvGrpSpPr/>
          <p:nvPr/>
        </p:nvGrpSpPr>
        <p:grpSpPr>
          <a:xfrm>
            <a:off x="4800600" y="3962520"/>
            <a:ext cx="4114800" cy="2133000"/>
            <a:chOff x="4800600" y="3962520"/>
            <a:chExt cx="4114800" cy="2133000"/>
          </a:xfrm>
        </p:grpSpPr>
        <p:sp>
          <p:nvSpPr>
            <p:cNvPr id="1139" name="Freeform 16"/>
            <p:cNvSpPr/>
            <p:nvPr/>
          </p:nvSpPr>
          <p:spPr>
            <a:xfrm>
              <a:off x="4800600" y="40532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Group 17"/>
            <p:cNvGrpSpPr/>
            <p:nvPr/>
          </p:nvGrpSpPr>
          <p:grpSpPr>
            <a:xfrm>
              <a:off x="5367600" y="3962520"/>
              <a:ext cx="153000" cy="202320"/>
              <a:chOff x="5367600" y="3962520"/>
              <a:chExt cx="153000" cy="202320"/>
            </a:xfrm>
          </p:grpSpPr>
          <p:sp>
            <p:nvSpPr>
              <p:cNvPr id="1141" name="Oval 18"/>
              <p:cNvSpPr/>
              <p:nvPr/>
            </p:nvSpPr>
            <p:spPr>
              <a:xfrm>
                <a:off x="5425560" y="41144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9"/>
              <p:cNvSpPr/>
              <p:nvPr/>
            </p:nvSpPr>
            <p:spPr>
              <a:xfrm>
                <a:off x="5367600" y="39625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20"/>
            <p:cNvGrpSpPr/>
            <p:nvPr/>
          </p:nvGrpSpPr>
          <p:grpSpPr>
            <a:xfrm>
              <a:off x="5883120" y="3962880"/>
              <a:ext cx="154080" cy="202320"/>
              <a:chOff x="5883120" y="3962880"/>
              <a:chExt cx="154080" cy="202320"/>
            </a:xfrm>
          </p:grpSpPr>
          <p:sp>
            <p:nvSpPr>
              <p:cNvPr id="1144" name="Oval 21"/>
              <p:cNvSpPr/>
              <p:nvPr/>
            </p:nvSpPr>
            <p:spPr>
              <a:xfrm>
                <a:off x="5941440" y="41148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22"/>
              <p:cNvSpPr/>
              <p:nvPr/>
            </p:nvSpPr>
            <p:spPr>
              <a:xfrm>
                <a:off x="5883120" y="39628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6" name="Group 23"/>
            <p:cNvGrpSpPr/>
            <p:nvPr/>
          </p:nvGrpSpPr>
          <p:grpSpPr>
            <a:xfrm>
              <a:off x="6433200" y="3962880"/>
              <a:ext cx="153000" cy="202320"/>
              <a:chOff x="6433200" y="3962880"/>
              <a:chExt cx="153000" cy="202320"/>
            </a:xfrm>
          </p:grpSpPr>
          <p:sp>
            <p:nvSpPr>
              <p:cNvPr id="1147" name="Oval 24"/>
              <p:cNvSpPr/>
              <p:nvPr/>
            </p:nvSpPr>
            <p:spPr>
              <a:xfrm>
                <a:off x="649116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25"/>
              <p:cNvSpPr/>
              <p:nvPr/>
            </p:nvSpPr>
            <p:spPr>
              <a:xfrm>
                <a:off x="643320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26"/>
            <p:cNvGrpSpPr/>
            <p:nvPr/>
          </p:nvGrpSpPr>
          <p:grpSpPr>
            <a:xfrm>
              <a:off x="6981840" y="3962880"/>
              <a:ext cx="153000" cy="202320"/>
              <a:chOff x="6981840" y="3962880"/>
              <a:chExt cx="153000" cy="202320"/>
            </a:xfrm>
          </p:grpSpPr>
          <p:sp>
            <p:nvSpPr>
              <p:cNvPr id="1150" name="Oval 27"/>
              <p:cNvSpPr/>
              <p:nvPr/>
            </p:nvSpPr>
            <p:spPr>
              <a:xfrm>
                <a:off x="703980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28"/>
              <p:cNvSpPr/>
              <p:nvPr/>
            </p:nvSpPr>
            <p:spPr>
              <a:xfrm>
                <a:off x="698184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" name="Group 29"/>
            <p:cNvGrpSpPr/>
            <p:nvPr/>
          </p:nvGrpSpPr>
          <p:grpSpPr>
            <a:xfrm>
              <a:off x="7468920" y="3962880"/>
              <a:ext cx="153000" cy="202320"/>
              <a:chOff x="7468920" y="3962880"/>
              <a:chExt cx="153000" cy="202320"/>
            </a:xfrm>
          </p:grpSpPr>
          <p:sp>
            <p:nvSpPr>
              <p:cNvPr id="1153" name="Oval 30"/>
              <p:cNvSpPr/>
              <p:nvPr/>
            </p:nvSpPr>
            <p:spPr>
              <a:xfrm>
                <a:off x="752688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31"/>
              <p:cNvSpPr/>
              <p:nvPr/>
            </p:nvSpPr>
            <p:spPr>
              <a:xfrm>
                <a:off x="746892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Group 32"/>
            <p:cNvGrpSpPr/>
            <p:nvPr/>
          </p:nvGrpSpPr>
          <p:grpSpPr>
            <a:xfrm>
              <a:off x="8019000" y="3962880"/>
              <a:ext cx="153000" cy="202320"/>
              <a:chOff x="8019000" y="3962880"/>
              <a:chExt cx="153000" cy="202320"/>
            </a:xfrm>
          </p:grpSpPr>
          <p:sp>
            <p:nvSpPr>
              <p:cNvPr id="1156" name="Oval 33"/>
              <p:cNvSpPr/>
              <p:nvPr/>
            </p:nvSpPr>
            <p:spPr>
              <a:xfrm>
                <a:off x="807696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34"/>
              <p:cNvSpPr/>
              <p:nvPr/>
            </p:nvSpPr>
            <p:spPr>
              <a:xfrm>
                <a:off x="801900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Freeform 35"/>
            <p:cNvSpPr/>
            <p:nvPr/>
          </p:nvSpPr>
          <p:spPr>
            <a:xfrm>
              <a:off x="7845120" y="46818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6"/>
            <p:cNvSpPr/>
            <p:nvPr/>
          </p:nvSpPr>
          <p:spPr>
            <a:xfrm>
              <a:off x="6890400" y="49978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7"/>
            <p:cNvSpPr/>
            <p:nvPr/>
          </p:nvSpPr>
          <p:spPr>
            <a:xfrm>
              <a:off x="5883120" y="53258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Group 38"/>
            <p:cNvGrpSpPr/>
            <p:nvPr/>
          </p:nvGrpSpPr>
          <p:grpSpPr>
            <a:xfrm>
              <a:off x="8532360" y="3962520"/>
              <a:ext cx="153000" cy="202320"/>
              <a:chOff x="8532360" y="3962520"/>
              <a:chExt cx="153000" cy="202320"/>
            </a:xfrm>
          </p:grpSpPr>
          <p:sp>
            <p:nvSpPr>
              <p:cNvPr id="1162" name="Oval 39"/>
              <p:cNvSpPr/>
              <p:nvPr/>
            </p:nvSpPr>
            <p:spPr>
              <a:xfrm>
                <a:off x="8590320" y="41144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0"/>
              <p:cNvSpPr/>
              <p:nvPr/>
            </p:nvSpPr>
            <p:spPr>
              <a:xfrm>
                <a:off x="8532360" y="39625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4" name="AutoShape 40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183" dur="3000" fill="hold"/>
                                        <p:tgtEl>
                                          <p:spTgt spid="1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66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67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Вы мне верите иль нет?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68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8"/>
          <p:cNvSpPr/>
          <p:nvPr/>
        </p:nvSpPr>
        <p:spPr>
          <a:xfrm>
            <a:off x="179280" y="2852640"/>
            <a:ext cx="91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6 умножить на 3 будет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37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WordArt 60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176" name="Group 15"/>
          <p:cNvGrpSpPr/>
          <p:nvPr/>
        </p:nvGrpSpPr>
        <p:grpSpPr>
          <a:xfrm>
            <a:off x="4724280" y="4191120"/>
            <a:ext cx="4114800" cy="2133000"/>
            <a:chOff x="4724280" y="4191120"/>
            <a:chExt cx="4114800" cy="2133000"/>
          </a:xfrm>
        </p:grpSpPr>
        <p:sp>
          <p:nvSpPr>
            <p:cNvPr id="1177" name="Freeform 16"/>
            <p:cNvSpPr/>
            <p:nvPr/>
          </p:nvSpPr>
          <p:spPr>
            <a:xfrm>
              <a:off x="4724280" y="42818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17"/>
            <p:cNvGrpSpPr/>
            <p:nvPr/>
          </p:nvGrpSpPr>
          <p:grpSpPr>
            <a:xfrm>
              <a:off x="5291280" y="4191120"/>
              <a:ext cx="153000" cy="202320"/>
              <a:chOff x="5291280" y="4191120"/>
              <a:chExt cx="153000" cy="202320"/>
            </a:xfrm>
          </p:grpSpPr>
          <p:sp>
            <p:nvSpPr>
              <p:cNvPr id="1179" name="Oval 18"/>
              <p:cNvSpPr/>
              <p:nvPr/>
            </p:nvSpPr>
            <p:spPr>
              <a:xfrm>
                <a:off x="5349240" y="43430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9"/>
              <p:cNvSpPr/>
              <p:nvPr/>
            </p:nvSpPr>
            <p:spPr>
              <a:xfrm>
                <a:off x="5291280" y="41911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20"/>
            <p:cNvGrpSpPr/>
            <p:nvPr/>
          </p:nvGrpSpPr>
          <p:grpSpPr>
            <a:xfrm>
              <a:off x="5806800" y="4191480"/>
              <a:ext cx="154080" cy="202320"/>
              <a:chOff x="5806800" y="4191480"/>
              <a:chExt cx="154080" cy="202320"/>
            </a:xfrm>
          </p:grpSpPr>
          <p:sp>
            <p:nvSpPr>
              <p:cNvPr id="1182" name="Oval 21"/>
              <p:cNvSpPr/>
              <p:nvPr/>
            </p:nvSpPr>
            <p:spPr>
              <a:xfrm>
                <a:off x="5865120" y="43434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2"/>
              <p:cNvSpPr/>
              <p:nvPr/>
            </p:nvSpPr>
            <p:spPr>
              <a:xfrm>
                <a:off x="5806800" y="41914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3"/>
            <p:cNvGrpSpPr/>
            <p:nvPr/>
          </p:nvGrpSpPr>
          <p:grpSpPr>
            <a:xfrm>
              <a:off x="6356880" y="4191480"/>
              <a:ext cx="153000" cy="202320"/>
              <a:chOff x="6356880" y="4191480"/>
              <a:chExt cx="153000" cy="202320"/>
            </a:xfrm>
          </p:grpSpPr>
          <p:sp>
            <p:nvSpPr>
              <p:cNvPr id="1185" name="Oval 24"/>
              <p:cNvSpPr/>
              <p:nvPr/>
            </p:nvSpPr>
            <p:spPr>
              <a:xfrm>
                <a:off x="641484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>
                <a:off x="635688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Group 26"/>
            <p:cNvGrpSpPr/>
            <p:nvPr/>
          </p:nvGrpSpPr>
          <p:grpSpPr>
            <a:xfrm>
              <a:off x="6905520" y="4191480"/>
              <a:ext cx="153000" cy="202320"/>
              <a:chOff x="6905520" y="4191480"/>
              <a:chExt cx="153000" cy="202320"/>
            </a:xfrm>
          </p:grpSpPr>
          <p:sp>
            <p:nvSpPr>
              <p:cNvPr id="1188" name="Oval 27"/>
              <p:cNvSpPr/>
              <p:nvPr/>
            </p:nvSpPr>
            <p:spPr>
              <a:xfrm>
                <a:off x="696348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8"/>
              <p:cNvSpPr/>
              <p:nvPr/>
            </p:nvSpPr>
            <p:spPr>
              <a:xfrm>
                <a:off x="690552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Group 29"/>
            <p:cNvGrpSpPr/>
            <p:nvPr/>
          </p:nvGrpSpPr>
          <p:grpSpPr>
            <a:xfrm>
              <a:off x="7392600" y="4191480"/>
              <a:ext cx="153000" cy="202320"/>
              <a:chOff x="7392600" y="4191480"/>
              <a:chExt cx="153000" cy="202320"/>
            </a:xfrm>
          </p:grpSpPr>
          <p:sp>
            <p:nvSpPr>
              <p:cNvPr id="1191" name="Oval 30"/>
              <p:cNvSpPr/>
              <p:nvPr/>
            </p:nvSpPr>
            <p:spPr>
              <a:xfrm>
                <a:off x="745056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31"/>
              <p:cNvSpPr/>
              <p:nvPr/>
            </p:nvSpPr>
            <p:spPr>
              <a:xfrm>
                <a:off x="739260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32"/>
            <p:cNvGrpSpPr/>
            <p:nvPr/>
          </p:nvGrpSpPr>
          <p:grpSpPr>
            <a:xfrm>
              <a:off x="7942680" y="4191480"/>
              <a:ext cx="153000" cy="202320"/>
              <a:chOff x="7942680" y="4191480"/>
              <a:chExt cx="153000" cy="202320"/>
            </a:xfrm>
          </p:grpSpPr>
          <p:sp>
            <p:nvSpPr>
              <p:cNvPr id="1194" name="Oval 33"/>
              <p:cNvSpPr/>
              <p:nvPr/>
            </p:nvSpPr>
            <p:spPr>
              <a:xfrm>
                <a:off x="800064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34"/>
              <p:cNvSpPr/>
              <p:nvPr/>
            </p:nvSpPr>
            <p:spPr>
              <a:xfrm>
                <a:off x="794268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Freeform 35"/>
            <p:cNvSpPr/>
            <p:nvPr/>
          </p:nvSpPr>
          <p:spPr>
            <a:xfrm>
              <a:off x="7768800" y="49104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6"/>
            <p:cNvSpPr/>
            <p:nvPr/>
          </p:nvSpPr>
          <p:spPr>
            <a:xfrm>
              <a:off x="6814080" y="52264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7"/>
            <p:cNvSpPr/>
            <p:nvPr/>
          </p:nvSpPr>
          <p:spPr>
            <a:xfrm>
              <a:off x="5806800" y="55544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Group 38"/>
            <p:cNvGrpSpPr/>
            <p:nvPr/>
          </p:nvGrpSpPr>
          <p:grpSpPr>
            <a:xfrm>
              <a:off x="8456040" y="4191120"/>
              <a:ext cx="153000" cy="202320"/>
              <a:chOff x="8456040" y="4191120"/>
              <a:chExt cx="153000" cy="202320"/>
            </a:xfrm>
          </p:grpSpPr>
          <p:sp>
            <p:nvSpPr>
              <p:cNvPr id="1200" name="Oval 39"/>
              <p:cNvSpPr/>
              <p:nvPr/>
            </p:nvSpPr>
            <p:spPr>
              <a:xfrm>
                <a:off x="8514000" y="43430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0"/>
              <p:cNvSpPr/>
              <p:nvPr/>
            </p:nvSpPr>
            <p:spPr>
              <a:xfrm>
                <a:off x="8456040" y="41911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2" name="AutoShape 40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218" dur="3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175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1175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3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4"/>
          <p:cNvSpPr/>
          <p:nvPr/>
        </p:nvSpPr>
        <p:spPr>
          <a:xfrm>
            <a:off x="1116000" y="162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611280" y="234936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Шли три гусенка. Один – впереди двух, один – между двумя, а один – позади двух. Как шли порос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33"/>
          <p:cNvSpPr/>
          <p:nvPr/>
        </p:nvSpPr>
        <p:spPr>
          <a:xfrm>
            <a:off x="586728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ве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7"/>
          <p:cNvGrpSpPr/>
          <p:nvPr/>
        </p:nvGrpSpPr>
        <p:grpSpPr>
          <a:xfrm>
            <a:off x="4800600" y="4495680"/>
            <a:ext cx="3816360" cy="1752840"/>
            <a:chOff x="4800600" y="4495680"/>
            <a:chExt cx="3816360" cy="1752840"/>
          </a:xfrm>
        </p:grpSpPr>
        <p:sp>
          <p:nvSpPr>
            <p:cNvPr id="1207" name="Freeform 8"/>
            <p:cNvSpPr/>
            <p:nvPr/>
          </p:nvSpPr>
          <p:spPr>
            <a:xfrm>
              <a:off x="4800600" y="4570200"/>
              <a:ext cx="3816360" cy="1678320"/>
            </a:xfrm>
            <a:custGeom>
              <a:avLst/>
              <a:gdLst>
                <a:gd name="textAreaLeft" fmla="*/ 0 w 3816360"/>
                <a:gd name="textAreaRight" fmla="*/ 3816720 w 3816360"/>
                <a:gd name="textAreaTop" fmla="*/ 0 h 1678320"/>
                <a:gd name="textAreaBottom" fmla="*/ 1678680 h 167832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99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Group 9"/>
            <p:cNvGrpSpPr/>
            <p:nvPr/>
          </p:nvGrpSpPr>
          <p:grpSpPr>
            <a:xfrm>
              <a:off x="5326200" y="4495680"/>
              <a:ext cx="141840" cy="165960"/>
              <a:chOff x="5326200" y="4495680"/>
              <a:chExt cx="141840" cy="165960"/>
            </a:xfrm>
          </p:grpSpPr>
          <p:sp>
            <p:nvSpPr>
              <p:cNvPr id="1209" name="Oval 10"/>
              <p:cNvSpPr/>
              <p:nvPr/>
            </p:nvSpPr>
            <p:spPr>
              <a:xfrm>
                <a:off x="5379840" y="462024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1"/>
              <p:cNvSpPr/>
              <p:nvPr/>
            </p:nvSpPr>
            <p:spPr>
              <a:xfrm>
                <a:off x="5326200" y="4495680"/>
                <a:ext cx="141840" cy="15840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12"/>
            <p:cNvGrpSpPr/>
            <p:nvPr/>
          </p:nvGrpSpPr>
          <p:grpSpPr>
            <a:xfrm>
              <a:off x="5804640" y="4496040"/>
              <a:ext cx="142920" cy="166320"/>
              <a:chOff x="5804640" y="4496040"/>
              <a:chExt cx="142920" cy="166320"/>
            </a:xfrm>
          </p:grpSpPr>
          <p:sp>
            <p:nvSpPr>
              <p:cNvPr id="1212" name="Oval 13"/>
              <p:cNvSpPr/>
              <p:nvPr/>
            </p:nvSpPr>
            <p:spPr>
              <a:xfrm>
                <a:off x="5858640" y="4620960"/>
                <a:ext cx="4248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14"/>
              <p:cNvSpPr/>
              <p:nvPr/>
            </p:nvSpPr>
            <p:spPr>
              <a:xfrm>
                <a:off x="5804640" y="4496040"/>
                <a:ext cx="142920" cy="158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15"/>
            <p:cNvGrpSpPr/>
            <p:nvPr/>
          </p:nvGrpSpPr>
          <p:grpSpPr>
            <a:xfrm>
              <a:off x="6314760" y="4496040"/>
              <a:ext cx="141840" cy="166320"/>
              <a:chOff x="6314760" y="4496040"/>
              <a:chExt cx="141840" cy="166320"/>
            </a:xfrm>
          </p:grpSpPr>
          <p:sp>
            <p:nvSpPr>
              <p:cNvPr id="1215" name="Oval 16"/>
              <p:cNvSpPr/>
              <p:nvPr/>
            </p:nvSpPr>
            <p:spPr>
              <a:xfrm>
                <a:off x="636840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17"/>
              <p:cNvSpPr/>
              <p:nvPr/>
            </p:nvSpPr>
            <p:spPr>
              <a:xfrm>
                <a:off x="631476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18"/>
            <p:cNvGrpSpPr/>
            <p:nvPr/>
          </p:nvGrpSpPr>
          <p:grpSpPr>
            <a:xfrm>
              <a:off x="6823440" y="4496040"/>
              <a:ext cx="141840" cy="166320"/>
              <a:chOff x="6823440" y="4496040"/>
              <a:chExt cx="141840" cy="166320"/>
            </a:xfrm>
          </p:grpSpPr>
          <p:sp>
            <p:nvSpPr>
              <p:cNvPr id="1218" name="Oval 19"/>
              <p:cNvSpPr/>
              <p:nvPr/>
            </p:nvSpPr>
            <p:spPr>
              <a:xfrm>
                <a:off x="687708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20"/>
              <p:cNvSpPr/>
              <p:nvPr/>
            </p:nvSpPr>
            <p:spPr>
              <a:xfrm>
                <a:off x="682344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Group 21"/>
            <p:cNvGrpSpPr/>
            <p:nvPr/>
          </p:nvGrpSpPr>
          <p:grpSpPr>
            <a:xfrm>
              <a:off x="7275600" y="4496040"/>
              <a:ext cx="141840" cy="166320"/>
              <a:chOff x="7275600" y="4496040"/>
              <a:chExt cx="141840" cy="166320"/>
            </a:xfrm>
          </p:grpSpPr>
          <p:sp>
            <p:nvSpPr>
              <p:cNvPr id="1221" name="Oval 22"/>
              <p:cNvSpPr/>
              <p:nvPr/>
            </p:nvSpPr>
            <p:spPr>
              <a:xfrm>
                <a:off x="732924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23"/>
              <p:cNvSpPr/>
              <p:nvPr/>
            </p:nvSpPr>
            <p:spPr>
              <a:xfrm>
                <a:off x="727560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3" name="Group 24"/>
            <p:cNvGrpSpPr/>
            <p:nvPr/>
          </p:nvGrpSpPr>
          <p:grpSpPr>
            <a:xfrm>
              <a:off x="7785720" y="4496040"/>
              <a:ext cx="141840" cy="166320"/>
              <a:chOff x="7785720" y="4496040"/>
              <a:chExt cx="141840" cy="166320"/>
            </a:xfrm>
          </p:grpSpPr>
          <p:sp>
            <p:nvSpPr>
              <p:cNvPr id="1224" name="Oval 25"/>
              <p:cNvSpPr/>
              <p:nvPr/>
            </p:nvSpPr>
            <p:spPr>
              <a:xfrm>
                <a:off x="783936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26"/>
              <p:cNvSpPr/>
              <p:nvPr/>
            </p:nvSpPr>
            <p:spPr>
              <a:xfrm>
                <a:off x="778572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6" name="Freeform 27"/>
            <p:cNvSpPr/>
            <p:nvPr/>
          </p:nvSpPr>
          <p:spPr>
            <a:xfrm>
              <a:off x="7624440" y="5086440"/>
              <a:ext cx="218160" cy="10270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8"/>
            <p:cNvSpPr/>
            <p:nvPr/>
          </p:nvSpPr>
          <p:spPr>
            <a:xfrm>
              <a:off x="6738840" y="5346360"/>
              <a:ext cx="339120" cy="8089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9"/>
            <p:cNvSpPr/>
            <p:nvPr/>
          </p:nvSpPr>
          <p:spPr>
            <a:xfrm>
              <a:off x="5804640" y="5616000"/>
              <a:ext cx="340200" cy="55980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30"/>
            <p:cNvGrpSpPr/>
            <p:nvPr/>
          </p:nvGrpSpPr>
          <p:grpSpPr>
            <a:xfrm>
              <a:off x="8261640" y="4495680"/>
              <a:ext cx="141840" cy="165960"/>
              <a:chOff x="8261640" y="4495680"/>
              <a:chExt cx="141840" cy="165960"/>
            </a:xfrm>
          </p:grpSpPr>
          <p:sp>
            <p:nvSpPr>
              <p:cNvPr id="1230" name="Oval 31"/>
              <p:cNvSpPr/>
              <p:nvPr/>
            </p:nvSpPr>
            <p:spPr>
              <a:xfrm>
                <a:off x="8315280" y="462024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2"/>
              <p:cNvSpPr/>
              <p:nvPr/>
            </p:nvSpPr>
            <p:spPr>
              <a:xfrm>
                <a:off x="8261640" y="4495680"/>
                <a:ext cx="141840" cy="15840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2" name="WordArt 3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3" name="WordArt 35"/>
          <p:cNvSpPr txBox="1"/>
          <p:nvPr/>
        </p:nvSpPr>
        <p:spPr>
          <a:xfrm>
            <a:off x="2556000" y="836640"/>
            <a:ext cx="46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ФИНАЛ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4" name="AutoShape 36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37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38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243" dur="30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4"/>
          <p:cNvSpPr/>
          <p:nvPr/>
        </p:nvSpPr>
        <p:spPr>
          <a:xfrm>
            <a:off x="684360" y="1700280"/>
            <a:ext cx="82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stellar"/>
              </a:rPr>
              <a:t>Спасибо Вам за участие в игр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stellar"/>
              </a:rPr>
              <a:t>Надеюсь,  что Вам понравилось</a:t>
            </a:r>
            <a:r>
              <a:rPr b="1" lang="en-US" sz="4000" spc="-1" strike="noStrike">
                <a:solidFill>
                  <a:srgbClr val="660033"/>
                </a:solidFill>
                <a:latin typeface="Castellar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Picture 5" descr="j0219096"/>
          <p:cNvPicPr/>
          <p:nvPr/>
        </p:nvPicPr>
        <p:blipFill>
          <a:blip r:embed="rId1"/>
          <a:stretch/>
        </p:blipFill>
        <p:spPr>
          <a:xfrm rot="5002800">
            <a:off x="2565360" y="3634200"/>
            <a:ext cx="2860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7162920" y="838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2"/>
          <p:cNvSpPr txBox="1"/>
          <p:nvPr/>
        </p:nvSpPr>
        <p:spPr>
          <a:xfrm>
            <a:off x="7391520" y="990720"/>
            <a:ext cx="80172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914400" y="1447920"/>
            <a:ext cx="6119640" cy="54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Найди лишне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57200" y="2492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Какая фигура лишня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076720" y="5084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6172200" y="586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900000" y="2133720"/>
            <a:ext cx="26654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1"/>
          <p:cNvSpPr/>
          <p:nvPr/>
        </p:nvSpPr>
        <p:spPr>
          <a:xfrm>
            <a:off x="2971800" y="3200400"/>
            <a:ext cx="12193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2"/>
          <p:cNvSpPr/>
          <p:nvPr/>
        </p:nvSpPr>
        <p:spPr>
          <a:xfrm>
            <a:off x="3200400" y="3886200"/>
            <a:ext cx="7621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4648320" y="3200400"/>
            <a:ext cx="990360" cy="6858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4800600" y="3886200"/>
            <a:ext cx="9907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6324480" y="3200400"/>
            <a:ext cx="1143000" cy="685800"/>
          </a:xfrm>
          <a:prstGeom prst="parallelogram">
            <a:avLst>
              <a:gd name="adj" fmla="val 41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6324480" y="3962520"/>
            <a:ext cx="990720" cy="685800"/>
          </a:xfrm>
          <a:custGeom>
            <a:avLst/>
            <a:gdLst>
              <a:gd name="textAreaLeft" fmla="*/ 206280 w 990720"/>
              <a:gd name="textAreaRight" fmla="*/ 784440 w 99072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3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6"/>
          <p:cNvGrpSpPr/>
          <p:nvPr/>
        </p:nvGrpSpPr>
        <p:grpSpPr>
          <a:xfrm>
            <a:off x="4952880" y="4876920"/>
            <a:ext cx="3962520" cy="1828800"/>
            <a:chOff x="4952880" y="4876920"/>
            <a:chExt cx="3962520" cy="1828800"/>
          </a:xfrm>
        </p:grpSpPr>
        <p:sp>
          <p:nvSpPr>
            <p:cNvPr id="101" name="Freeform 17"/>
            <p:cNvSpPr/>
            <p:nvPr/>
          </p:nvSpPr>
          <p:spPr>
            <a:xfrm>
              <a:off x="4952880" y="4954680"/>
              <a:ext cx="3962520" cy="175104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8"/>
            <p:cNvGrpSpPr/>
            <p:nvPr/>
          </p:nvGrpSpPr>
          <p:grpSpPr>
            <a:xfrm>
              <a:off x="5498640" y="4876920"/>
              <a:ext cx="147240" cy="173160"/>
              <a:chOff x="5498640" y="4876920"/>
              <a:chExt cx="147240" cy="173160"/>
            </a:xfrm>
          </p:grpSpPr>
          <p:sp>
            <p:nvSpPr>
              <p:cNvPr id="103" name="Oval 19"/>
              <p:cNvSpPr/>
              <p:nvPr/>
            </p:nvSpPr>
            <p:spPr>
              <a:xfrm>
                <a:off x="555444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0"/>
              <p:cNvSpPr/>
              <p:nvPr/>
            </p:nvSpPr>
            <p:spPr>
              <a:xfrm>
                <a:off x="549864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21"/>
            <p:cNvGrpSpPr/>
            <p:nvPr/>
          </p:nvGrpSpPr>
          <p:grpSpPr>
            <a:xfrm>
              <a:off x="5995440" y="4877280"/>
              <a:ext cx="148320" cy="173160"/>
              <a:chOff x="5995440" y="4877280"/>
              <a:chExt cx="148320" cy="173160"/>
            </a:xfrm>
          </p:grpSpPr>
          <p:sp>
            <p:nvSpPr>
              <p:cNvPr id="106" name="Oval 22"/>
              <p:cNvSpPr/>
              <p:nvPr/>
            </p:nvSpPr>
            <p:spPr>
              <a:xfrm>
                <a:off x="6052680" y="5007600"/>
                <a:ext cx="4500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3"/>
              <p:cNvSpPr/>
              <p:nvPr/>
            </p:nvSpPr>
            <p:spPr>
              <a:xfrm>
                <a:off x="5995440" y="4877280"/>
                <a:ext cx="148320" cy="1663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4"/>
            <p:cNvGrpSpPr/>
            <p:nvPr/>
          </p:nvGrpSpPr>
          <p:grpSpPr>
            <a:xfrm>
              <a:off x="6525000" y="4877280"/>
              <a:ext cx="147240" cy="173160"/>
              <a:chOff x="6525000" y="4877280"/>
              <a:chExt cx="147240" cy="173160"/>
            </a:xfrm>
          </p:grpSpPr>
          <p:sp>
            <p:nvSpPr>
              <p:cNvPr id="109" name="Oval 25"/>
              <p:cNvSpPr/>
              <p:nvPr/>
            </p:nvSpPr>
            <p:spPr>
              <a:xfrm>
                <a:off x="658260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>
                <a:off x="652500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7"/>
            <p:cNvGrpSpPr/>
            <p:nvPr/>
          </p:nvGrpSpPr>
          <p:grpSpPr>
            <a:xfrm>
              <a:off x="7053480" y="4877280"/>
              <a:ext cx="147240" cy="173160"/>
              <a:chOff x="7053480" y="4877280"/>
              <a:chExt cx="147240" cy="173160"/>
            </a:xfrm>
          </p:grpSpPr>
          <p:sp>
            <p:nvSpPr>
              <p:cNvPr id="112" name="Oval 28"/>
              <p:cNvSpPr/>
              <p:nvPr/>
            </p:nvSpPr>
            <p:spPr>
              <a:xfrm>
                <a:off x="7110000" y="5007600"/>
                <a:ext cx="4428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9"/>
              <p:cNvSpPr/>
              <p:nvPr/>
            </p:nvSpPr>
            <p:spPr>
              <a:xfrm>
                <a:off x="705348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30"/>
            <p:cNvGrpSpPr/>
            <p:nvPr/>
          </p:nvGrpSpPr>
          <p:grpSpPr>
            <a:xfrm>
              <a:off x="7522560" y="4877280"/>
              <a:ext cx="147240" cy="173160"/>
              <a:chOff x="7522560" y="4877280"/>
              <a:chExt cx="147240" cy="173160"/>
            </a:xfrm>
          </p:grpSpPr>
          <p:sp>
            <p:nvSpPr>
              <p:cNvPr id="115" name="Oval 31"/>
              <p:cNvSpPr/>
              <p:nvPr/>
            </p:nvSpPr>
            <p:spPr>
              <a:xfrm>
                <a:off x="757656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"/>
              <p:cNvSpPr/>
              <p:nvPr/>
            </p:nvSpPr>
            <p:spPr>
              <a:xfrm>
                <a:off x="752256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3"/>
            <p:cNvGrpSpPr/>
            <p:nvPr/>
          </p:nvGrpSpPr>
          <p:grpSpPr>
            <a:xfrm>
              <a:off x="8052120" y="4877280"/>
              <a:ext cx="147240" cy="173160"/>
              <a:chOff x="8052120" y="4877280"/>
              <a:chExt cx="147240" cy="173160"/>
            </a:xfrm>
          </p:grpSpPr>
          <p:sp>
            <p:nvSpPr>
              <p:cNvPr id="118" name="Oval 34"/>
              <p:cNvSpPr/>
              <p:nvPr/>
            </p:nvSpPr>
            <p:spPr>
              <a:xfrm>
                <a:off x="810792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5"/>
              <p:cNvSpPr/>
              <p:nvPr/>
            </p:nvSpPr>
            <p:spPr>
              <a:xfrm>
                <a:off x="805212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36"/>
            <p:cNvSpPr/>
            <p:nvPr/>
          </p:nvSpPr>
          <p:spPr>
            <a:xfrm>
              <a:off x="7884720" y="5493600"/>
              <a:ext cx="226440" cy="10713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7"/>
            <p:cNvSpPr/>
            <p:nvPr/>
          </p:nvSpPr>
          <p:spPr>
            <a:xfrm>
              <a:off x="6965640" y="5764320"/>
              <a:ext cx="352080" cy="843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43840"/>
                <a:gd name="textAreaBottom" fmla="*/ 844200 h 8438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8"/>
            <p:cNvSpPr/>
            <p:nvPr/>
          </p:nvSpPr>
          <p:spPr>
            <a:xfrm>
              <a:off x="5995440" y="6045840"/>
              <a:ext cx="353160" cy="5842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9"/>
            <p:cNvGrpSpPr/>
            <p:nvPr/>
          </p:nvGrpSpPr>
          <p:grpSpPr>
            <a:xfrm>
              <a:off x="8546400" y="4876920"/>
              <a:ext cx="147240" cy="173160"/>
              <a:chOff x="8546400" y="4876920"/>
              <a:chExt cx="147240" cy="17316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860040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1"/>
              <p:cNvSpPr/>
              <p:nvPr/>
            </p:nvSpPr>
            <p:spPr>
              <a:xfrm>
                <a:off x="854640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53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Какая из данных величин лишня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4час; 3мин; 4мм; 4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395280" y="69228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1619280" y="1197000"/>
            <a:ext cx="6119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Найди лишне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39640" y="191628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590920" y="32760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5724360" y="5229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553080" y="58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90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234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6"/>
          <p:cNvSpPr/>
          <p:nvPr/>
        </p:nvSpPr>
        <p:spPr>
          <a:xfrm>
            <a:off x="7467480" y="1522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3"/>
          <p:cNvSpPr txBox="1"/>
          <p:nvPr/>
        </p:nvSpPr>
        <p:spPr>
          <a:xfrm>
            <a:off x="7713720" y="304920"/>
            <a:ext cx="80172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39" name="AutoShape 50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4952880" y="4876920"/>
            <a:ext cx="3962520" cy="1828800"/>
            <a:chOff x="4952880" y="4876920"/>
            <a:chExt cx="3962520" cy="1828800"/>
          </a:xfrm>
        </p:grpSpPr>
        <p:sp>
          <p:nvSpPr>
            <p:cNvPr id="141" name="Freeform 17"/>
            <p:cNvSpPr/>
            <p:nvPr/>
          </p:nvSpPr>
          <p:spPr>
            <a:xfrm>
              <a:off x="4952880" y="4954680"/>
              <a:ext cx="3962520" cy="175104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8"/>
            <p:cNvGrpSpPr/>
            <p:nvPr/>
          </p:nvGrpSpPr>
          <p:grpSpPr>
            <a:xfrm>
              <a:off x="5498640" y="4876920"/>
              <a:ext cx="147240" cy="173160"/>
              <a:chOff x="5498640" y="4876920"/>
              <a:chExt cx="147240" cy="173160"/>
            </a:xfrm>
          </p:grpSpPr>
          <p:sp>
            <p:nvSpPr>
              <p:cNvPr id="143" name="Oval 19"/>
              <p:cNvSpPr/>
              <p:nvPr/>
            </p:nvSpPr>
            <p:spPr>
              <a:xfrm>
                <a:off x="555444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549864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1"/>
            <p:cNvGrpSpPr/>
            <p:nvPr/>
          </p:nvGrpSpPr>
          <p:grpSpPr>
            <a:xfrm>
              <a:off x="5995440" y="4877280"/>
              <a:ext cx="148320" cy="173160"/>
              <a:chOff x="5995440" y="4877280"/>
              <a:chExt cx="148320" cy="173160"/>
            </a:xfrm>
          </p:grpSpPr>
          <p:sp>
            <p:nvSpPr>
              <p:cNvPr id="146" name="Oval 22"/>
              <p:cNvSpPr/>
              <p:nvPr/>
            </p:nvSpPr>
            <p:spPr>
              <a:xfrm>
                <a:off x="6052680" y="5007600"/>
                <a:ext cx="4500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5995440" y="4877280"/>
                <a:ext cx="148320" cy="1663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4"/>
            <p:cNvGrpSpPr/>
            <p:nvPr/>
          </p:nvGrpSpPr>
          <p:grpSpPr>
            <a:xfrm>
              <a:off x="6525000" y="4877280"/>
              <a:ext cx="147240" cy="173160"/>
              <a:chOff x="6525000" y="4877280"/>
              <a:chExt cx="147240" cy="173160"/>
            </a:xfrm>
          </p:grpSpPr>
          <p:sp>
            <p:nvSpPr>
              <p:cNvPr id="149" name="Oval 25"/>
              <p:cNvSpPr/>
              <p:nvPr/>
            </p:nvSpPr>
            <p:spPr>
              <a:xfrm>
                <a:off x="658260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652500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7"/>
            <p:cNvGrpSpPr/>
            <p:nvPr/>
          </p:nvGrpSpPr>
          <p:grpSpPr>
            <a:xfrm>
              <a:off x="7053480" y="4877280"/>
              <a:ext cx="147240" cy="173160"/>
              <a:chOff x="7053480" y="4877280"/>
              <a:chExt cx="147240" cy="173160"/>
            </a:xfrm>
          </p:grpSpPr>
          <p:sp>
            <p:nvSpPr>
              <p:cNvPr id="152" name="Oval 28"/>
              <p:cNvSpPr/>
              <p:nvPr/>
            </p:nvSpPr>
            <p:spPr>
              <a:xfrm>
                <a:off x="7110000" y="5007600"/>
                <a:ext cx="4428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705348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30"/>
            <p:cNvGrpSpPr/>
            <p:nvPr/>
          </p:nvGrpSpPr>
          <p:grpSpPr>
            <a:xfrm>
              <a:off x="7522560" y="4877280"/>
              <a:ext cx="147240" cy="173160"/>
              <a:chOff x="7522560" y="4877280"/>
              <a:chExt cx="147240" cy="173160"/>
            </a:xfrm>
          </p:grpSpPr>
          <p:sp>
            <p:nvSpPr>
              <p:cNvPr id="155" name="Oval 31"/>
              <p:cNvSpPr/>
              <p:nvPr/>
            </p:nvSpPr>
            <p:spPr>
              <a:xfrm>
                <a:off x="757656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2"/>
              <p:cNvSpPr/>
              <p:nvPr/>
            </p:nvSpPr>
            <p:spPr>
              <a:xfrm>
                <a:off x="752256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3"/>
            <p:cNvGrpSpPr/>
            <p:nvPr/>
          </p:nvGrpSpPr>
          <p:grpSpPr>
            <a:xfrm>
              <a:off x="8052120" y="4877280"/>
              <a:ext cx="147240" cy="173160"/>
              <a:chOff x="8052120" y="4877280"/>
              <a:chExt cx="147240" cy="173160"/>
            </a:xfrm>
          </p:grpSpPr>
          <p:sp>
            <p:nvSpPr>
              <p:cNvPr id="158" name="Oval 34"/>
              <p:cNvSpPr/>
              <p:nvPr/>
            </p:nvSpPr>
            <p:spPr>
              <a:xfrm>
                <a:off x="810792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805212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6"/>
            <p:cNvSpPr/>
            <p:nvPr/>
          </p:nvSpPr>
          <p:spPr>
            <a:xfrm>
              <a:off x="7884720" y="5493600"/>
              <a:ext cx="226440" cy="10713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6965640" y="5764320"/>
              <a:ext cx="352080" cy="843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43840"/>
                <a:gd name="textAreaBottom" fmla="*/ 844200 h 8438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5995440" y="6045840"/>
              <a:ext cx="353160" cy="5842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9"/>
            <p:cNvGrpSpPr/>
            <p:nvPr/>
          </p:nvGrpSpPr>
          <p:grpSpPr>
            <a:xfrm>
              <a:off x="8546400" y="4876920"/>
              <a:ext cx="147240" cy="173160"/>
              <a:chOff x="8546400" y="4876920"/>
              <a:chExt cx="147240" cy="173160"/>
            </a:xfrm>
          </p:grpSpPr>
          <p:sp>
            <p:nvSpPr>
              <p:cNvPr id="164" name="Oval 40"/>
              <p:cNvSpPr/>
              <p:nvPr/>
            </p:nvSpPr>
            <p:spPr>
              <a:xfrm>
                <a:off x="860040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1"/>
              <p:cNvSpPr/>
              <p:nvPr/>
            </p:nvSpPr>
            <p:spPr>
              <a:xfrm>
                <a:off x="854640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94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Найди лишне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24000" y="220500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1547640" y="5516640"/>
            <a:ext cx="7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39640" y="5516640"/>
            <a:ext cx="7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8360" y="558972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154764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179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403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1619280" y="551664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796000" y="5373720"/>
            <a:ext cx="28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роб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3"/>
          <p:cNvSpPr/>
          <p:nvPr/>
        </p:nvSpPr>
        <p:spPr>
          <a:xfrm>
            <a:off x="90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4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5"/>
          <p:cNvSpPr/>
          <p:nvPr/>
        </p:nvSpPr>
        <p:spPr>
          <a:xfrm>
            <a:off x="234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3"/>
          <p:cNvSpPr/>
          <p:nvPr/>
        </p:nvSpPr>
        <p:spPr>
          <a:xfrm>
            <a:off x="304920" y="2666880"/>
            <a:ext cx="83055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Какое из данных слов лиш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Сложение, вычитание, умножение, раздробление,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0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5"/>
          <p:cNvSpPr/>
          <p:nvPr/>
        </p:nvSpPr>
        <p:spPr>
          <a:xfrm>
            <a:off x="739152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54"/>
          <p:cNvSpPr txBox="1"/>
          <p:nvPr/>
        </p:nvSpPr>
        <p:spPr>
          <a:xfrm>
            <a:off x="7696080" y="45720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4952880" y="4876920"/>
            <a:ext cx="3962520" cy="1828800"/>
            <a:chOff x="4952880" y="4876920"/>
            <a:chExt cx="3962520" cy="1828800"/>
          </a:xfrm>
        </p:grpSpPr>
        <p:sp>
          <p:nvSpPr>
            <p:cNvPr id="186" name="Freeform 17"/>
            <p:cNvSpPr/>
            <p:nvPr/>
          </p:nvSpPr>
          <p:spPr>
            <a:xfrm>
              <a:off x="4952880" y="4954680"/>
              <a:ext cx="3962520" cy="175104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8"/>
            <p:cNvGrpSpPr/>
            <p:nvPr/>
          </p:nvGrpSpPr>
          <p:grpSpPr>
            <a:xfrm>
              <a:off x="5498640" y="4876920"/>
              <a:ext cx="147240" cy="173160"/>
              <a:chOff x="5498640" y="4876920"/>
              <a:chExt cx="147240" cy="173160"/>
            </a:xfrm>
          </p:grpSpPr>
          <p:sp>
            <p:nvSpPr>
              <p:cNvPr id="188" name="Oval 19"/>
              <p:cNvSpPr/>
              <p:nvPr/>
            </p:nvSpPr>
            <p:spPr>
              <a:xfrm>
                <a:off x="555444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0"/>
              <p:cNvSpPr/>
              <p:nvPr/>
            </p:nvSpPr>
            <p:spPr>
              <a:xfrm>
                <a:off x="549864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21"/>
            <p:cNvGrpSpPr/>
            <p:nvPr/>
          </p:nvGrpSpPr>
          <p:grpSpPr>
            <a:xfrm>
              <a:off x="5995440" y="4877280"/>
              <a:ext cx="148320" cy="173160"/>
              <a:chOff x="5995440" y="4877280"/>
              <a:chExt cx="148320" cy="173160"/>
            </a:xfrm>
          </p:grpSpPr>
          <p:sp>
            <p:nvSpPr>
              <p:cNvPr id="191" name="Oval 22"/>
              <p:cNvSpPr/>
              <p:nvPr/>
            </p:nvSpPr>
            <p:spPr>
              <a:xfrm>
                <a:off x="6052680" y="5007600"/>
                <a:ext cx="4500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3"/>
              <p:cNvSpPr/>
              <p:nvPr/>
            </p:nvSpPr>
            <p:spPr>
              <a:xfrm>
                <a:off x="5995440" y="4877280"/>
                <a:ext cx="148320" cy="1663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4"/>
            <p:cNvGrpSpPr/>
            <p:nvPr/>
          </p:nvGrpSpPr>
          <p:grpSpPr>
            <a:xfrm>
              <a:off x="6525000" y="4877280"/>
              <a:ext cx="147240" cy="173160"/>
              <a:chOff x="6525000" y="4877280"/>
              <a:chExt cx="147240" cy="173160"/>
            </a:xfrm>
          </p:grpSpPr>
          <p:sp>
            <p:nvSpPr>
              <p:cNvPr id="194" name="Oval 25"/>
              <p:cNvSpPr/>
              <p:nvPr/>
            </p:nvSpPr>
            <p:spPr>
              <a:xfrm>
                <a:off x="658260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652500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7"/>
            <p:cNvGrpSpPr/>
            <p:nvPr/>
          </p:nvGrpSpPr>
          <p:grpSpPr>
            <a:xfrm>
              <a:off x="7053480" y="4877280"/>
              <a:ext cx="147240" cy="173160"/>
              <a:chOff x="7053480" y="4877280"/>
              <a:chExt cx="147240" cy="173160"/>
            </a:xfrm>
          </p:grpSpPr>
          <p:sp>
            <p:nvSpPr>
              <p:cNvPr id="197" name="Oval 28"/>
              <p:cNvSpPr/>
              <p:nvPr/>
            </p:nvSpPr>
            <p:spPr>
              <a:xfrm>
                <a:off x="7110000" y="5007600"/>
                <a:ext cx="4428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705348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30"/>
            <p:cNvGrpSpPr/>
            <p:nvPr/>
          </p:nvGrpSpPr>
          <p:grpSpPr>
            <a:xfrm>
              <a:off x="7522560" y="4877280"/>
              <a:ext cx="147240" cy="173160"/>
              <a:chOff x="7522560" y="4877280"/>
              <a:chExt cx="147240" cy="173160"/>
            </a:xfrm>
          </p:grpSpPr>
          <p:sp>
            <p:nvSpPr>
              <p:cNvPr id="200" name="Oval 31"/>
              <p:cNvSpPr/>
              <p:nvPr/>
            </p:nvSpPr>
            <p:spPr>
              <a:xfrm>
                <a:off x="757656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752256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3"/>
            <p:cNvGrpSpPr/>
            <p:nvPr/>
          </p:nvGrpSpPr>
          <p:grpSpPr>
            <a:xfrm>
              <a:off x="8052120" y="4877280"/>
              <a:ext cx="147240" cy="173160"/>
              <a:chOff x="8052120" y="4877280"/>
              <a:chExt cx="147240" cy="173160"/>
            </a:xfrm>
          </p:grpSpPr>
          <p:sp>
            <p:nvSpPr>
              <p:cNvPr id="203" name="Oval 34"/>
              <p:cNvSpPr/>
              <p:nvPr/>
            </p:nvSpPr>
            <p:spPr>
              <a:xfrm>
                <a:off x="810792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5"/>
              <p:cNvSpPr/>
              <p:nvPr/>
            </p:nvSpPr>
            <p:spPr>
              <a:xfrm>
                <a:off x="805212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6"/>
            <p:cNvSpPr/>
            <p:nvPr/>
          </p:nvSpPr>
          <p:spPr>
            <a:xfrm>
              <a:off x="7884720" y="5493600"/>
              <a:ext cx="226440" cy="10713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7"/>
            <p:cNvSpPr/>
            <p:nvPr/>
          </p:nvSpPr>
          <p:spPr>
            <a:xfrm>
              <a:off x="6965640" y="5764320"/>
              <a:ext cx="352080" cy="843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43840"/>
                <a:gd name="textAreaBottom" fmla="*/ 844200 h 8438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8"/>
            <p:cNvSpPr/>
            <p:nvPr/>
          </p:nvSpPr>
          <p:spPr>
            <a:xfrm>
              <a:off x="5995440" y="6045840"/>
              <a:ext cx="353160" cy="5842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39"/>
            <p:cNvGrpSpPr/>
            <p:nvPr/>
          </p:nvGrpSpPr>
          <p:grpSpPr>
            <a:xfrm>
              <a:off x="8546400" y="4876920"/>
              <a:ext cx="147240" cy="173160"/>
              <a:chOff x="8546400" y="4876920"/>
              <a:chExt cx="147240" cy="173160"/>
            </a:xfrm>
          </p:grpSpPr>
          <p:sp>
            <p:nvSpPr>
              <p:cNvPr id="209" name="Oval 40"/>
              <p:cNvSpPr/>
              <p:nvPr/>
            </p:nvSpPr>
            <p:spPr>
              <a:xfrm>
                <a:off x="860040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854640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238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Отгадай-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8160" y="1989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6084720" y="537372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4"/>
          <p:cNvGrpSpPr/>
          <p:nvPr/>
        </p:nvGrpSpPr>
        <p:grpSpPr>
          <a:xfrm>
            <a:off x="4724280" y="4724280"/>
            <a:ext cx="4160880" cy="1857600"/>
            <a:chOff x="4724280" y="4724280"/>
            <a:chExt cx="4160880" cy="1857600"/>
          </a:xfrm>
        </p:grpSpPr>
        <p:sp>
          <p:nvSpPr>
            <p:cNvPr id="220" name="Freeform 15"/>
            <p:cNvSpPr/>
            <p:nvPr/>
          </p:nvSpPr>
          <p:spPr>
            <a:xfrm>
              <a:off x="4724280" y="4803480"/>
              <a:ext cx="4160880" cy="1778400"/>
            </a:xfrm>
            <a:custGeom>
              <a:avLst/>
              <a:gdLst>
                <a:gd name="textAreaLeft" fmla="*/ 0 w 4160880"/>
                <a:gd name="textAreaRight" fmla="*/ 4161240 w 4160880"/>
                <a:gd name="textAreaTop" fmla="*/ 0 h 1778400"/>
                <a:gd name="textAreaBottom" fmla="*/ 1778760 h 177840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6"/>
            <p:cNvGrpSpPr/>
            <p:nvPr/>
          </p:nvGrpSpPr>
          <p:grpSpPr>
            <a:xfrm>
              <a:off x="5297400" y="4724280"/>
              <a:ext cx="154800" cy="175680"/>
              <a:chOff x="5297400" y="4724280"/>
              <a:chExt cx="154800" cy="175680"/>
            </a:xfrm>
          </p:grpSpPr>
          <p:sp>
            <p:nvSpPr>
              <p:cNvPr id="222" name="Oval 17"/>
              <p:cNvSpPr/>
              <p:nvPr/>
            </p:nvSpPr>
            <p:spPr>
              <a:xfrm>
                <a:off x="53560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"/>
              <p:cNvSpPr/>
              <p:nvPr/>
            </p:nvSpPr>
            <p:spPr>
              <a:xfrm>
                <a:off x="52974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5819040" y="4724640"/>
              <a:ext cx="155880" cy="175680"/>
              <a:chOff x="5819040" y="4724640"/>
              <a:chExt cx="155880" cy="175680"/>
            </a:xfrm>
          </p:grpSpPr>
          <p:sp>
            <p:nvSpPr>
              <p:cNvPr id="225" name="Oval 20"/>
              <p:cNvSpPr/>
              <p:nvPr/>
            </p:nvSpPr>
            <p:spPr>
              <a:xfrm>
                <a:off x="5878080" y="4856760"/>
                <a:ext cx="4608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5819040" y="4724640"/>
                <a:ext cx="155880" cy="167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2"/>
            <p:cNvGrpSpPr/>
            <p:nvPr/>
          </p:nvGrpSpPr>
          <p:grpSpPr>
            <a:xfrm>
              <a:off x="6375240" y="4724640"/>
              <a:ext cx="154800" cy="175680"/>
              <a:chOff x="6375240" y="4724640"/>
              <a:chExt cx="154800" cy="175680"/>
            </a:xfrm>
          </p:grpSpPr>
          <p:sp>
            <p:nvSpPr>
              <p:cNvPr id="228" name="Oval 23"/>
              <p:cNvSpPr/>
              <p:nvPr/>
            </p:nvSpPr>
            <p:spPr>
              <a:xfrm>
                <a:off x="643392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>
                <a:off x="637524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5"/>
            <p:cNvGrpSpPr/>
            <p:nvPr/>
          </p:nvGrpSpPr>
          <p:grpSpPr>
            <a:xfrm>
              <a:off x="6930000" y="4724640"/>
              <a:ext cx="154800" cy="175680"/>
              <a:chOff x="6930000" y="4724640"/>
              <a:chExt cx="154800" cy="175680"/>
            </a:xfrm>
          </p:grpSpPr>
          <p:sp>
            <p:nvSpPr>
              <p:cNvPr id="231" name="Oval 26"/>
              <p:cNvSpPr/>
              <p:nvPr/>
            </p:nvSpPr>
            <p:spPr>
              <a:xfrm>
                <a:off x="698868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693000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8"/>
            <p:cNvGrpSpPr/>
            <p:nvPr/>
          </p:nvGrpSpPr>
          <p:grpSpPr>
            <a:xfrm>
              <a:off x="7422480" y="4724640"/>
              <a:ext cx="154800" cy="175680"/>
              <a:chOff x="7422480" y="4724640"/>
              <a:chExt cx="154800" cy="175680"/>
            </a:xfrm>
          </p:grpSpPr>
          <p:sp>
            <p:nvSpPr>
              <p:cNvPr id="234" name="Oval 29"/>
              <p:cNvSpPr/>
              <p:nvPr/>
            </p:nvSpPr>
            <p:spPr>
              <a:xfrm>
                <a:off x="74811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0"/>
              <p:cNvSpPr/>
              <p:nvPr/>
            </p:nvSpPr>
            <p:spPr>
              <a:xfrm>
                <a:off x="74224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31"/>
            <p:cNvGrpSpPr/>
            <p:nvPr/>
          </p:nvGrpSpPr>
          <p:grpSpPr>
            <a:xfrm>
              <a:off x="7978680" y="4724640"/>
              <a:ext cx="154800" cy="175680"/>
              <a:chOff x="7978680" y="4724640"/>
              <a:chExt cx="154800" cy="175680"/>
            </a:xfrm>
          </p:grpSpPr>
          <p:sp>
            <p:nvSpPr>
              <p:cNvPr id="237" name="Oval 32"/>
              <p:cNvSpPr/>
              <p:nvPr/>
            </p:nvSpPr>
            <p:spPr>
              <a:xfrm>
                <a:off x="80373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3"/>
              <p:cNvSpPr/>
              <p:nvPr/>
            </p:nvSpPr>
            <p:spPr>
              <a:xfrm>
                <a:off x="79786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34"/>
            <p:cNvSpPr/>
            <p:nvPr/>
          </p:nvSpPr>
          <p:spPr>
            <a:xfrm>
              <a:off x="7803000" y="5350680"/>
              <a:ext cx="237960" cy="1088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88280"/>
                <a:gd name="textAreaBottom" fmla="*/ 1088640 h 10882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6837480" y="5625720"/>
              <a:ext cx="369720" cy="85716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5819040" y="5911560"/>
              <a:ext cx="370800" cy="593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37"/>
            <p:cNvGrpSpPr/>
            <p:nvPr/>
          </p:nvGrpSpPr>
          <p:grpSpPr>
            <a:xfrm>
              <a:off x="8497800" y="4724280"/>
              <a:ext cx="154800" cy="175680"/>
              <a:chOff x="8497800" y="4724280"/>
              <a:chExt cx="154800" cy="175680"/>
            </a:xfrm>
          </p:grpSpPr>
          <p:sp>
            <p:nvSpPr>
              <p:cNvPr id="243" name="Oval 38"/>
              <p:cNvSpPr/>
              <p:nvPr/>
            </p:nvSpPr>
            <p:spPr>
              <a:xfrm>
                <a:off x="85564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9"/>
              <p:cNvSpPr/>
              <p:nvPr/>
            </p:nvSpPr>
            <p:spPr>
              <a:xfrm>
                <a:off x="84978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AutoShape 47"/>
          <p:cNvSpPr/>
          <p:nvPr/>
        </p:nvSpPr>
        <p:spPr>
          <a:xfrm>
            <a:off x="7238880" y="2286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57"/>
          <p:cNvSpPr txBox="1"/>
          <p:nvPr/>
        </p:nvSpPr>
        <p:spPr>
          <a:xfrm>
            <a:off x="7467480" y="38088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826920" y="2852640"/>
            <a:ext cx="712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1"/>
          <p:cNvSpPr/>
          <p:nvPr/>
        </p:nvSpPr>
        <p:spPr>
          <a:xfrm>
            <a:off x="685800" y="2590920"/>
            <a:ext cx="73915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В школе есть такая пт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Если сядет на страниц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То с поникшей г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Возвращаюсь я до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4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294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1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2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Отгадай-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9"/>
          <p:cNvSpPr/>
          <p:nvPr/>
        </p:nvSpPr>
        <p:spPr>
          <a:xfrm>
            <a:off x="326880" y="2060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539640" y="2708280"/>
            <a:ext cx="75247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Мой приятель ш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Пятак наш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Двое пойд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Сколько найд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6400800" y="54864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льзя отве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4724280" y="4648320"/>
            <a:ext cx="4160880" cy="1857240"/>
            <a:chOff x="4724280" y="4648320"/>
            <a:chExt cx="4160880" cy="1857240"/>
          </a:xfrm>
        </p:grpSpPr>
        <p:sp>
          <p:nvSpPr>
            <p:cNvPr id="260" name="Freeform 15"/>
            <p:cNvSpPr/>
            <p:nvPr/>
          </p:nvSpPr>
          <p:spPr>
            <a:xfrm>
              <a:off x="4724280" y="4727520"/>
              <a:ext cx="4160880" cy="1778040"/>
            </a:xfrm>
            <a:custGeom>
              <a:avLst/>
              <a:gdLst>
                <a:gd name="textAreaLeft" fmla="*/ 0 w 4160880"/>
                <a:gd name="textAreaRight" fmla="*/ 4161240 w 416088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6"/>
            <p:cNvGrpSpPr/>
            <p:nvPr/>
          </p:nvGrpSpPr>
          <p:grpSpPr>
            <a:xfrm>
              <a:off x="5297400" y="4648320"/>
              <a:ext cx="154800" cy="175680"/>
              <a:chOff x="5297400" y="4648320"/>
              <a:chExt cx="154800" cy="175680"/>
            </a:xfrm>
          </p:grpSpPr>
          <p:sp>
            <p:nvSpPr>
              <p:cNvPr id="262" name="Oval 17"/>
              <p:cNvSpPr/>
              <p:nvPr/>
            </p:nvSpPr>
            <p:spPr>
              <a:xfrm>
                <a:off x="5356080" y="478044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"/>
              <p:cNvSpPr/>
              <p:nvPr/>
            </p:nvSpPr>
            <p:spPr>
              <a:xfrm>
                <a:off x="5297400" y="464832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9"/>
            <p:cNvGrpSpPr/>
            <p:nvPr/>
          </p:nvGrpSpPr>
          <p:grpSpPr>
            <a:xfrm>
              <a:off x="5819040" y="4648680"/>
              <a:ext cx="155880" cy="175680"/>
              <a:chOff x="5819040" y="4648680"/>
              <a:chExt cx="155880" cy="175680"/>
            </a:xfrm>
          </p:grpSpPr>
          <p:sp>
            <p:nvSpPr>
              <p:cNvPr id="265" name="Oval 20"/>
              <p:cNvSpPr/>
              <p:nvPr/>
            </p:nvSpPr>
            <p:spPr>
              <a:xfrm>
                <a:off x="5878080" y="4780800"/>
                <a:ext cx="4608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1"/>
              <p:cNvSpPr/>
              <p:nvPr/>
            </p:nvSpPr>
            <p:spPr>
              <a:xfrm>
                <a:off x="5819040" y="4648680"/>
                <a:ext cx="155880" cy="167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2"/>
            <p:cNvGrpSpPr/>
            <p:nvPr/>
          </p:nvGrpSpPr>
          <p:grpSpPr>
            <a:xfrm>
              <a:off x="6375240" y="4648680"/>
              <a:ext cx="154800" cy="175680"/>
              <a:chOff x="6375240" y="4648680"/>
              <a:chExt cx="154800" cy="175680"/>
            </a:xfrm>
          </p:grpSpPr>
          <p:sp>
            <p:nvSpPr>
              <p:cNvPr id="268" name="Oval 23"/>
              <p:cNvSpPr/>
              <p:nvPr/>
            </p:nvSpPr>
            <p:spPr>
              <a:xfrm>
                <a:off x="643392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4"/>
              <p:cNvSpPr/>
              <p:nvPr/>
            </p:nvSpPr>
            <p:spPr>
              <a:xfrm>
                <a:off x="637524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25"/>
            <p:cNvGrpSpPr/>
            <p:nvPr/>
          </p:nvGrpSpPr>
          <p:grpSpPr>
            <a:xfrm>
              <a:off x="6930000" y="4648680"/>
              <a:ext cx="154800" cy="175680"/>
              <a:chOff x="6930000" y="4648680"/>
              <a:chExt cx="154800" cy="175680"/>
            </a:xfrm>
          </p:grpSpPr>
          <p:sp>
            <p:nvSpPr>
              <p:cNvPr id="271" name="Oval 26"/>
              <p:cNvSpPr/>
              <p:nvPr/>
            </p:nvSpPr>
            <p:spPr>
              <a:xfrm>
                <a:off x="698868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7"/>
              <p:cNvSpPr/>
              <p:nvPr/>
            </p:nvSpPr>
            <p:spPr>
              <a:xfrm>
                <a:off x="693000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8"/>
            <p:cNvGrpSpPr/>
            <p:nvPr/>
          </p:nvGrpSpPr>
          <p:grpSpPr>
            <a:xfrm>
              <a:off x="7422480" y="4648680"/>
              <a:ext cx="154800" cy="175680"/>
              <a:chOff x="7422480" y="4648680"/>
              <a:chExt cx="154800" cy="17568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748116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0"/>
              <p:cNvSpPr/>
              <p:nvPr/>
            </p:nvSpPr>
            <p:spPr>
              <a:xfrm>
                <a:off x="742248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7978680" y="4648680"/>
              <a:ext cx="154800" cy="175680"/>
              <a:chOff x="7978680" y="4648680"/>
              <a:chExt cx="154800" cy="175680"/>
            </a:xfrm>
          </p:grpSpPr>
          <p:sp>
            <p:nvSpPr>
              <p:cNvPr id="277" name="Oval 32"/>
              <p:cNvSpPr/>
              <p:nvPr/>
            </p:nvSpPr>
            <p:spPr>
              <a:xfrm>
                <a:off x="803736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3"/>
              <p:cNvSpPr/>
              <p:nvPr/>
            </p:nvSpPr>
            <p:spPr>
              <a:xfrm>
                <a:off x="797868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4"/>
            <p:cNvSpPr/>
            <p:nvPr/>
          </p:nvSpPr>
          <p:spPr>
            <a:xfrm>
              <a:off x="7803000" y="5274360"/>
              <a:ext cx="237960" cy="1088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88280"/>
                <a:gd name="textAreaBottom" fmla="*/ 1088640 h 10882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"/>
            <p:cNvSpPr/>
            <p:nvPr/>
          </p:nvSpPr>
          <p:spPr>
            <a:xfrm>
              <a:off x="6837480" y="5549760"/>
              <a:ext cx="369720" cy="8568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56800"/>
                <a:gd name="textAreaBottom" fmla="*/ 857160 h 856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"/>
            <p:cNvSpPr/>
            <p:nvPr/>
          </p:nvSpPr>
          <p:spPr>
            <a:xfrm>
              <a:off x="5819040" y="5835240"/>
              <a:ext cx="370800" cy="593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37"/>
            <p:cNvGrpSpPr/>
            <p:nvPr/>
          </p:nvGrpSpPr>
          <p:grpSpPr>
            <a:xfrm>
              <a:off x="8497800" y="4648320"/>
              <a:ext cx="154800" cy="175680"/>
              <a:chOff x="8497800" y="4648320"/>
              <a:chExt cx="154800" cy="175680"/>
            </a:xfrm>
          </p:grpSpPr>
          <p:sp>
            <p:nvSpPr>
              <p:cNvPr id="283" name="Oval 38"/>
              <p:cNvSpPr/>
              <p:nvPr/>
            </p:nvSpPr>
            <p:spPr>
              <a:xfrm>
                <a:off x="8556480" y="478044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9"/>
              <p:cNvSpPr/>
              <p:nvPr/>
            </p:nvSpPr>
            <p:spPr>
              <a:xfrm>
                <a:off x="8497800" y="464832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AutoShape 66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1"/>
          <p:cNvSpPr/>
          <p:nvPr/>
        </p:nvSpPr>
        <p:spPr>
          <a:xfrm>
            <a:off x="7391520" y="2286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58"/>
          <p:cNvSpPr txBox="1"/>
          <p:nvPr/>
        </p:nvSpPr>
        <p:spPr>
          <a:xfrm>
            <a:off x="7696080" y="457200"/>
            <a:ext cx="838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329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Отгадай-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1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9"/>
          <p:cNvSpPr/>
          <p:nvPr/>
        </p:nvSpPr>
        <p:spPr>
          <a:xfrm>
            <a:off x="326880" y="1989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95280" y="2421000"/>
            <a:ext cx="84596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Есть, друзья, такая пт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Если сядет на страниц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Очень рад бываю я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А со мною вс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1"/>
          <p:cNvSpPr/>
          <p:nvPr/>
        </p:nvSpPr>
        <p:spPr>
          <a:xfrm>
            <a:off x="6172200" y="5867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ят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"/>
          <p:cNvGrpSpPr/>
          <p:nvPr/>
        </p:nvGrpSpPr>
        <p:grpSpPr>
          <a:xfrm>
            <a:off x="4724280" y="4724280"/>
            <a:ext cx="4160880" cy="1857600"/>
            <a:chOff x="4724280" y="4724280"/>
            <a:chExt cx="4160880" cy="1857600"/>
          </a:xfrm>
        </p:grpSpPr>
        <p:sp>
          <p:nvSpPr>
            <p:cNvPr id="298" name="Freeform 15"/>
            <p:cNvSpPr/>
            <p:nvPr/>
          </p:nvSpPr>
          <p:spPr>
            <a:xfrm>
              <a:off x="4724280" y="4803480"/>
              <a:ext cx="4160880" cy="1778400"/>
            </a:xfrm>
            <a:custGeom>
              <a:avLst/>
              <a:gdLst>
                <a:gd name="textAreaLeft" fmla="*/ 0 w 4160880"/>
                <a:gd name="textAreaRight" fmla="*/ 4161240 w 4160880"/>
                <a:gd name="textAreaTop" fmla="*/ 0 h 1778400"/>
                <a:gd name="textAreaBottom" fmla="*/ 1778760 h 177840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6"/>
            <p:cNvGrpSpPr/>
            <p:nvPr/>
          </p:nvGrpSpPr>
          <p:grpSpPr>
            <a:xfrm>
              <a:off x="5297400" y="4724280"/>
              <a:ext cx="154800" cy="175680"/>
              <a:chOff x="5297400" y="4724280"/>
              <a:chExt cx="154800" cy="175680"/>
            </a:xfrm>
          </p:grpSpPr>
          <p:sp>
            <p:nvSpPr>
              <p:cNvPr id="300" name="Oval 17"/>
              <p:cNvSpPr/>
              <p:nvPr/>
            </p:nvSpPr>
            <p:spPr>
              <a:xfrm>
                <a:off x="53560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"/>
              <p:cNvSpPr/>
              <p:nvPr/>
            </p:nvSpPr>
            <p:spPr>
              <a:xfrm>
                <a:off x="52974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19"/>
            <p:cNvGrpSpPr/>
            <p:nvPr/>
          </p:nvGrpSpPr>
          <p:grpSpPr>
            <a:xfrm>
              <a:off x="5819040" y="4724640"/>
              <a:ext cx="155880" cy="175680"/>
              <a:chOff x="5819040" y="4724640"/>
              <a:chExt cx="155880" cy="175680"/>
            </a:xfrm>
          </p:grpSpPr>
          <p:sp>
            <p:nvSpPr>
              <p:cNvPr id="303" name="Oval 20"/>
              <p:cNvSpPr/>
              <p:nvPr/>
            </p:nvSpPr>
            <p:spPr>
              <a:xfrm>
                <a:off x="5878080" y="4856760"/>
                <a:ext cx="4608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1"/>
              <p:cNvSpPr/>
              <p:nvPr/>
            </p:nvSpPr>
            <p:spPr>
              <a:xfrm>
                <a:off x="5819040" y="4724640"/>
                <a:ext cx="155880" cy="167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22"/>
            <p:cNvGrpSpPr/>
            <p:nvPr/>
          </p:nvGrpSpPr>
          <p:grpSpPr>
            <a:xfrm>
              <a:off x="6375240" y="4724640"/>
              <a:ext cx="154800" cy="175680"/>
              <a:chOff x="6375240" y="4724640"/>
              <a:chExt cx="154800" cy="175680"/>
            </a:xfrm>
          </p:grpSpPr>
          <p:sp>
            <p:nvSpPr>
              <p:cNvPr id="306" name="Oval 23"/>
              <p:cNvSpPr/>
              <p:nvPr/>
            </p:nvSpPr>
            <p:spPr>
              <a:xfrm>
                <a:off x="643392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4"/>
              <p:cNvSpPr/>
              <p:nvPr/>
            </p:nvSpPr>
            <p:spPr>
              <a:xfrm>
                <a:off x="637524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5"/>
            <p:cNvGrpSpPr/>
            <p:nvPr/>
          </p:nvGrpSpPr>
          <p:grpSpPr>
            <a:xfrm>
              <a:off x="6930000" y="4724640"/>
              <a:ext cx="154800" cy="175680"/>
              <a:chOff x="6930000" y="4724640"/>
              <a:chExt cx="154800" cy="175680"/>
            </a:xfrm>
          </p:grpSpPr>
          <p:sp>
            <p:nvSpPr>
              <p:cNvPr id="309" name="Oval 26"/>
              <p:cNvSpPr/>
              <p:nvPr/>
            </p:nvSpPr>
            <p:spPr>
              <a:xfrm>
                <a:off x="698868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7"/>
              <p:cNvSpPr/>
              <p:nvPr/>
            </p:nvSpPr>
            <p:spPr>
              <a:xfrm>
                <a:off x="693000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8"/>
            <p:cNvGrpSpPr/>
            <p:nvPr/>
          </p:nvGrpSpPr>
          <p:grpSpPr>
            <a:xfrm>
              <a:off x="7422480" y="4724640"/>
              <a:ext cx="154800" cy="175680"/>
              <a:chOff x="7422480" y="4724640"/>
              <a:chExt cx="154800" cy="175680"/>
            </a:xfrm>
          </p:grpSpPr>
          <p:sp>
            <p:nvSpPr>
              <p:cNvPr id="312" name="Oval 29"/>
              <p:cNvSpPr/>
              <p:nvPr/>
            </p:nvSpPr>
            <p:spPr>
              <a:xfrm>
                <a:off x="74811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0"/>
              <p:cNvSpPr/>
              <p:nvPr/>
            </p:nvSpPr>
            <p:spPr>
              <a:xfrm>
                <a:off x="74224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31"/>
            <p:cNvGrpSpPr/>
            <p:nvPr/>
          </p:nvGrpSpPr>
          <p:grpSpPr>
            <a:xfrm>
              <a:off x="7978680" y="4724640"/>
              <a:ext cx="154800" cy="175680"/>
              <a:chOff x="7978680" y="4724640"/>
              <a:chExt cx="154800" cy="175680"/>
            </a:xfrm>
          </p:grpSpPr>
          <p:sp>
            <p:nvSpPr>
              <p:cNvPr id="315" name="Oval 32"/>
              <p:cNvSpPr/>
              <p:nvPr/>
            </p:nvSpPr>
            <p:spPr>
              <a:xfrm>
                <a:off x="80373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3"/>
              <p:cNvSpPr/>
              <p:nvPr/>
            </p:nvSpPr>
            <p:spPr>
              <a:xfrm>
                <a:off x="79786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Freeform 34"/>
            <p:cNvSpPr/>
            <p:nvPr/>
          </p:nvSpPr>
          <p:spPr>
            <a:xfrm>
              <a:off x="7803000" y="5350680"/>
              <a:ext cx="237960" cy="1088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88280"/>
                <a:gd name="textAreaBottom" fmla="*/ 1088640 h 10882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5"/>
            <p:cNvSpPr/>
            <p:nvPr/>
          </p:nvSpPr>
          <p:spPr>
            <a:xfrm>
              <a:off x="6837480" y="5625720"/>
              <a:ext cx="369720" cy="85716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6"/>
            <p:cNvSpPr/>
            <p:nvPr/>
          </p:nvSpPr>
          <p:spPr>
            <a:xfrm>
              <a:off x="5819040" y="5911560"/>
              <a:ext cx="370800" cy="593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7"/>
            <p:cNvGrpSpPr/>
            <p:nvPr/>
          </p:nvGrpSpPr>
          <p:grpSpPr>
            <a:xfrm>
              <a:off x="8497800" y="4724280"/>
              <a:ext cx="154800" cy="175680"/>
              <a:chOff x="8497800" y="4724280"/>
              <a:chExt cx="154800" cy="175680"/>
            </a:xfrm>
          </p:grpSpPr>
          <p:sp>
            <p:nvSpPr>
              <p:cNvPr id="321" name="Oval 38"/>
              <p:cNvSpPr/>
              <p:nvPr/>
            </p:nvSpPr>
            <p:spPr>
              <a:xfrm>
                <a:off x="85564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9"/>
              <p:cNvSpPr/>
              <p:nvPr/>
            </p:nvSpPr>
            <p:spPr>
              <a:xfrm>
                <a:off x="84978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AutoShape 50"/>
          <p:cNvSpPr/>
          <p:nvPr/>
        </p:nvSpPr>
        <p:spPr>
          <a:xfrm>
            <a:off x="7543800" y="2286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59"/>
          <p:cNvSpPr txBox="1"/>
          <p:nvPr/>
        </p:nvSpPr>
        <p:spPr>
          <a:xfrm>
            <a:off x="7848720" y="3808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25" name="AutoShape 68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364" dur="3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7T09:26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