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6.png" ContentType="image/png"/>
  <Override PartName="/ppt/media/image22.wmf" ContentType="image/x-wmf"/>
  <Override PartName="/ppt/media/image19.png" ContentType="image/png"/>
  <Override PartName="/ppt/media/image15.gif" ContentType="image/gif"/>
  <Override PartName="/ppt/media/image1.png" ContentType="image/png"/>
  <Override PartName="/ppt/media/image23.png" ContentType="image/png"/>
  <Override PartName="/ppt/media/image18.gif" ContentType="image/gif"/>
  <Override PartName="/ppt/media/image5.jpeg" ContentType="image/jpeg"/>
  <Override PartName="/ppt/media/image20.wmf" ContentType="image/x-wmf"/>
  <Override PartName="/ppt/media/image16.wmf" ContentType="image/x-wmf"/>
  <Override PartName="/ppt/media/image14.png" ContentType="image/png"/>
  <Override PartName="/ppt/media/image2.jpeg" ContentType="image/jpeg"/>
  <Override PartName="/ppt/media/image3.png" ContentType="image/png"/>
  <Override PartName="/ppt/media/image8.gif" ContentType="image/gif"/>
  <Override PartName="/ppt/media/image2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1DE-1578-40CF-B4CA-DA48155A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546-0662-40BF-A98F-2BCE87CA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DF8-B1BC-451F-9010-1AEF6612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01D-B7B0-456D-8F23-F10672A6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1CCE-E27C-48E2-856A-44865F21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F69C-50EE-4C3F-A456-C413EDF7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B044-84FC-4066-AF33-A0C56290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2C5F-0B2D-4F27-AC41-C5C5C103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C2F9-F566-4352-9FDB-D04DC071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56A3-922A-45C9-A132-8FEFEECB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0183-0B0D-47BD-BC95-303DF40F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F2A-9365-4D04-96EC-081CE46B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DEEE-2513-45D6-8E08-7727543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115E-DD42-41DC-9234-6CD8C17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E341-FBEE-4CA4-9478-08C00209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D5AC-0423-4D94-8543-B2A480A5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F02F-1578-4316-9829-D861AB56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00B7-E03B-437E-9D41-DC934434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1591-8E9B-4916-8239-724B5E45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41500-1745-4E7D-A367-674324A8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AB21-0661-4342-9642-0D2C8136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131A-2968-4E47-95CF-027A254E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E78-95CE-4B53-8695-B8916496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18A6-062A-43C0-A00F-1980876F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CAF9-2EDE-4288-82A5-3E4A42D5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F9E5-E2CC-4095-AC39-335B54BD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827C-194C-4AF8-98E3-7AA1887B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BF55-8B16-4D1F-953B-69FEA000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0380-1BB8-48A9-9042-7EDA8812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7A8D-D403-429E-A477-C0D8F2E3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D213-6459-4EE5-B0D2-C972467B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93737-8C2C-4945-A149-17C341F5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8A6FF-5960-456D-AAC9-4A1F8B07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A9B-66E0-4C12-ABCD-78B2062E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2BC35-CEFF-4AB1-90FB-E0171DF4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FE749-C061-4D5F-AB8F-82429EF7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D2CF-C2EB-4E61-A024-91CEC31D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FA9C8-8EE6-4FA5-A22B-C4F5C01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9D9B5-D342-4D5E-9E48-E2D56818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53649-2BFD-4851-B665-623ED8D1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644A-C4FB-411F-9A0D-BC42EB2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A8183-69D0-4BCD-8D12-B0CE82F2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AE3E-E987-45D2-91E4-4688F508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6EA4-D4DE-4213-B558-859A1BDA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787-37AC-42D5-8275-A607225B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C1B46-4DA4-46EC-9864-1C0FC182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4212B-41E4-4A41-903D-D759AB63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DBDF0-C5D3-49D1-9FC3-1270A4F5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4F4E7-749D-4413-9CC0-C01D31F2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01ED5-1F2B-4D83-B363-9E8F2F10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32AB3-0280-4768-98D4-D81D608D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A8D2E-C665-4049-ADBA-E8B91AD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3E791-31B0-4F22-9010-C2BECE66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F827-BFAB-4ABE-A786-9E7791E1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F5398-FB30-45F3-9596-7495C351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97F-3262-4DC4-B5D5-4E3C64CE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ACED2-06E4-49FA-A1E5-E45890D9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66D-9246-4465-9752-754C2D37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F67-832E-44D8-9939-47D00D3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F74-D549-4548-ADE8-7D2787D7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AAA3-B087-438C-8BC6-EC66FFD7660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138C-CE5B-46C7-86E1-89A758286D0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12D6-7644-43DF-90F5-49A6EDB4BBA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E573-4BE7-4F65-8CA6-7D4DDFE212E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2902-3DC5-42FD-AFB2-E676481CFDD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p=484&amp;stype=simage&amp;text=&#1084;&#1072;&#1090;&#1077;&#1084;&#1072;&#1090;&#1080;&#1095;&#1077;&#1089;&#1082;&#1080;&#1077;%20&#1088;&#1080;&#1089;&#1091;&#1085;&#1082;&#1080;&amp;spsite=fake-016-2944002.ru&amp;img_url=www.gov.cap.ru/HOME/77/2009god/selskie/banner_sleva_selskie/shkolnoe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http://im4-tub.yandex.net/i?id=16084746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285920"/>
            <a:ext cx="2571840" cy="4000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771640" y="1989000"/>
            <a:ext cx="6838920" cy="194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бр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т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202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0"/>
          <p:cNvSpPr/>
          <p:nvPr/>
        </p:nvSpPr>
        <p:spPr>
          <a:xfrm rot="2876400">
            <a:off x="342720" y="418680"/>
            <a:ext cx="838080" cy="9144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Oval 3"/>
          <p:cNvSpPr/>
          <p:nvPr/>
        </p:nvSpPr>
        <p:spPr>
          <a:xfrm>
            <a:off x="228600" y="32004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533520" y="25146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1143000" y="21337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1905120" y="19810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Oval 7"/>
          <p:cNvSpPr/>
          <p:nvPr/>
        </p:nvSpPr>
        <p:spPr>
          <a:xfrm>
            <a:off x="2666880" y="22096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3276720" y="26668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3733920" y="31240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4191120" y="36576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4572000" y="41148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Oval 12"/>
          <p:cNvSpPr/>
          <p:nvPr/>
        </p:nvSpPr>
        <p:spPr>
          <a:xfrm>
            <a:off x="5257800" y="44956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Oval 13"/>
          <p:cNvSpPr/>
          <p:nvPr/>
        </p:nvSpPr>
        <p:spPr>
          <a:xfrm>
            <a:off x="2819520" y="45720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Oval 14"/>
          <p:cNvSpPr/>
          <p:nvPr/>
        </p:nvSpPr>
        <p:spPr>
          <a:xfrm>
            <a:off x="3505320" y="41911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Oval 15"/>
          <p:cNvSpPr/>
          <p:nvPr/>
        </p:nvSpPr>
        <p:spPr>
          <a:xfrm>
            <a:off x="2209680" y="48769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Oval 16"/>
          <p:cNvSpPr/>
          <p:nvPr/>
        </p:nvSpPr>
        <p:spPr>
          <a:xfrm>
            <a:off x="1371600" y="48769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Oval 17"/>
          <p:cNvSpPr/>
          <p:nvPr/>
        </p:nvSpPr>
        <p:spPr>
          <a:xfrm>
            <a:off x="685800" y="44197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Oval 18"/>
          <p:cNvSpPr/>
          <p:nvPr/>
        </p:nvSpPr>
        <p:spPr>
          <a:xfrm>
            <a:off x="228600" y="38862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Oval 19"/>
          <p:cNvSpPr/>
          <p:nvPr/>
        </p:nvSpPr>
        <p:spPr>
          <a:xfrm>
            <a:off x="6858000" y="50292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Oval 20"/>
          <p:cNvSpPr/>
          <p:nvPr/>
        </p:nvSpPr>
        <p:spPr>
          <a:xfrm>
            <a:off x="7620120" y="48006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8229600" y="42670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Oval 22"/>
          <p:cNvSpPr/>
          <p:nvPr/>
        </p:nvSpPr>
        <p:spPr>
          <a:xfrm>
            <a:off x="8381880" y="36576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Oval 23"/>
          <p:cNvSpPr/>
          <p:nvPr/>
        </p:nvSpPr>
        <p:spPr>
          <a:xfrm>
            <a:off x="8077320" y="29718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Oval 24"/>
          <p:cNvSpPr/>
          <p:nvPr/>
        </p:nvSpPr>
        <p:spPr>
          <a:xfrm>
            <a:off x="7620120" y="23623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Oval 25"/>
          <p:cNvSpPr/>
          <p:nvPr/>
        </p:nvSpPr>
        <p:spPr>
          <a:xfrm>
            <a:off x="6705720" y="21337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Oval 26"/>
          <p:cNvSpPr/>
          <p:nvPr/>
        </p:nvSpPr>
        <p:spPr>
          <a:xfrm>
            <a:off x="5867280" y="22860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Oval 27"/>
          <p:cNvSpPr/>
          <p:nvPr/>
        </p:nvSpPr>
        <p:spPr>
          <a:xfrm>
            <a:off x="5181480" y="274320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Oval 28"/>
          <p:cNvSpPr/>
          <p:nvPr/>
        </p:nvSpPr>
        <p:spPr>
          <a:xfrm>
            <a:off x="4648320" y="3124080"/>
            <a:ext cx="457200" cy="3812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Oval 29"/>
          <p:cNvSpPr/>
          <p:nvPr/>
        </p:nvSpPr>
        <p:spPr>
          <a:xfrm>
            <a:off x="6019920" y="4876920"/>
            <a:ext cx="457200" cy="380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3193 C 0.00209 -0.02984 0.00417 -0.09137 -4.72222E-006 0.04557 C -0.00434 0.18228 -0.09184 0.87093 -0.02586 0.85335 C 0.04046 0.83623 0.2606 -0.05598 0.3974 -0.05667 C 0.53438 -0.05736 0.72431 0.8552 0.7948 0.84895 C 0.86546 0.84247 0.8915 -0.09484 0.82066 -0.0953 C 0.74983 -0.09576 0.50678 0.83044 0.37014 0.84664 C 0.23334 0.8626 0.06129 0.14041 -4.72222E-006 -3.06731E-006 E">
                                      <p:cBhvr>
                                        <p:cTn id="127" dur="5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Конкурс творческих заданий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627280" y="2205000"/>
            <a:ext cx="2879640" cy="3456000"/>
            <a:chOff x="2627280" y="2205000"/>
            <a:chExt cx="2879640" cy="3456000"/>
          </a:xfrm>
        </p:grpSpPr>
        <p:sp>
          <p:nvSpPr>
            <p:cNvPr id="280" name=""/>
            <p:cNvSpPr/>
            <p:nvPr/>
          </p:nvSpPr>
          <p:spPr>
            <a:xfrm>
              <a:off x="2627280" y="4783320"/>
              <a:ext cx="2879640" cy="8776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Franklin Gothic Demi Cond"/>
                </a:rPr>
                <a:t>Учение—свет!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281" name="AN00790_" descr=""/>
            <p:cNvPicPr/>
            <p:nvPr/>
          </p:nvPicPr>
          <p:blipFill>
            <a:blip r:embed="rId1"/>
            <a:stretch/>
          </p:blipFill>
          <p:spPr>
            <a:xfrm>
              <a:off x="2627280" y="2205000"/>
              <a:ext cx="2879640" cy="257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Работа по учебнику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1351 (в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Picture 64" descr="j0233960"/>
          <p:cNvPicPr/>
          <p:nvPr/>
        </p:nvPicPr>
        <p:blipFill>
          <a:blip r:embed="rId1"/>
          <a:stretch/>
        </p:blipFill>
        <p:spPr>
          <a:xfrm>
            <a:off x="3203640" y="2706840"/>
            <a:ext cx="3889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68360" y="549360"/>
            <a:ext cx="72388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образите свое местоположение на гор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0" y="1557360"/>
            <a:ext cx="7919640" cy="4104720"/>
            <a:chOff x="0" y="1557360"/>
            <a:chExt cx="7919640" cy="4104720"/>
          </a:xfrm>
        </p:grpSpPr>
        <p:sp>
          <p:nvSpPr>
            <p:cNvPr id="289" name="AutoShape 3"/>
            <p:cNvSpPr/>
            <p:nvPr/>
          </p:nvSpPr>
          <p:spPr>
            <a:xfrm>
              <a:off x="592920" y="2113560"/>
              <a:ext cx="6711840" cy="34664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0" name="AutoShape 4"/>
            <p:cNvSpPr/>
            <p:nvPr/>
          </p:nvSpPr>
          <p:spPr>
            <a:xfrm>
              <a:off x="2054160" y="301680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1" name="AutoShape 5"/>
            <p:cNvSpPr/>
            <p:nvPr/>
          </p:nvSpPr>
          <p:spPr>
            <a:xfrm>
              <a:off x="0" y="510588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2" name="AutoShape 6"/>
            <p:cNvSpPr/>
            <p:nvPr/>
          </p:nvSpPr>
          <p:spPr>
            <a:xfrm>
              <a:off x="592920" y="454932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1317960" y="380124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4" name="AutoShape 8"/>
            <p:cNvSpPr/>
            <p:nvPr/>
          </p:nvSpPr>
          <p:spPr>
            <a:xfrm>
              <a:off x="2833920" y="218664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AutoShape 9"/>
            <p:cNvSpPr/>
            <p:nvPr/>
          </p:nvSpPr>
          <p:spPr>
            <a:xfrm>
              <a:off x="3624840" y="155736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6" name="AutoShape 10"/>
            <p:cNvSpPr/>
            <p:nvPr/>
          </p:nvSpPr>
          <p:spPr>
            <a:xfrm>
              <a:off x="4305960" y="211356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7" name="AutoShape 11"/>
            <p:cNvSpPr/>
            <p:nvPr/>
          </p:nvSpPr>
          <p:spPr>
            <a:xfrm>
              <a:off x="5009040" y="290736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8" name="AutoShape 12"/>
            <p:cNvSpPr/>
            <p:nvPr/>
          </p:nvSpPr>
          <p:spPr>
            <a:xfrm>
              <a:off x="5810760" y="374652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9" name="AutoShape 13"/>
            <p:cNvSpPr/>
            <p:nvPr/>
          </p:nvSpPr>
          <p:spPr>
            <a:xfrm>
              <a:off x="6623640" y="454932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7238880" y="5105880"/>
              <a:ext cx="680760" cy="556200"/>
            </a:xfrm>
            <a:prstGeom prst="smileyFace">
              <a:avLst>
                <a:gd name="adj" fmla="val 9282"/>
              </a:avLst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523800" y="1033560"/>
            <a:ext cx="822960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</a:rPr>
              <a:t>Дом.задание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</a:rPr>
              <a:t>Выполнить тест, подготовиться к контрольной работе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7" descr="j0292122"/>
          <p:cNvPicPr/>
          <p:nvPr/>
        </p:nvPicPr>
        <p:blipFill>
          <a:blip r:embed="rId1"/>
          <a:stretch/>
        </p:blipFill>
        <p:spPr>
          <a:xfrm>
            <a:off x="390600" y="3338640"/>
            <a:ext cx="2879640" cy="2523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2133720" cy="2394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28757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360" y="1915920"/>
            <a:ext cx="8172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14480" indent="-11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«Деятельность – единственный путь к знаниям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114480" indent="-114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14480" indent="-114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Джордж Бернард Шо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19280" y="3357720"/>
            <a:ext cx="177336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249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Цели урока: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723888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общить  и систематизировать знания и умения при решении систем линейных уравнений с двумя переменн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азвивать математический и общий кругозор, мышление и речь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516720" y="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62064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05 12                   Классная работ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268280"/>
            <a:ext cx="81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 дополнительных   упражнений к главе 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7559640" cy="22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28760" y="107172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498600" indent="-49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) Что называют решением системы уравнений с двумя переменными? Что значит решить систему уравнений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) Способы решения систем линейных уравнений с двумя переменн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) Назови методы решения систем линейных уравнений с двумя переменн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) Сформулируйте алгоритм решения по каждому способу решения в нескольких словах, назвав самое главно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Заполни таблицу: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9560"/>
          <a:ext cx="7238880" cy="347508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Способы реш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Преиму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Недостат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Графическ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Подстанов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Слож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24000" y="476280"/>
          <a:ext cx="7238880" cy="347508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Способы реш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Преиму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b83d68"/>
                          </a:solidFill>
                          <a:latin typeface="Trebuchet MS"/>
                        </a:rPr>
                        <a:t>Недостат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Графическ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гляд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точ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Подстанов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очн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рудоёмкие выклад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ff"/>
                          </a:solidFill>
                          <a:latin typeface="Trebuchet MS"/>
                        </a:rPr>
                        <a:t>Слож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очн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Выборе множител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Заголовок 2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20876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6275520" cy="7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rebuchet MS"/>
              </a:rPr>
              <a:t>Я выбираю способ ______, потому что____________ .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Текст 30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2089440" cy="115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2016360" cy="1209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2592360" cy="1297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5076720" y="3933720"/>
            <a:ext cx="2087640" cy="11527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J0282747.GIF"/>
          <p:cNvPicPr/>
          <p:nvPr/>
        </p:nvPicPr>
        <p:blipFill>
          <a:blip r:embed="rId5"/>
          <a:stretch/>
        </p:blipFill>
        <p:spPr>
          <a:xfrm>
            <a:off x="6084720" y="0"/>
            <a:ext cx="20005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rebuchet MS"/>
              </a:rPr>
              <a:t>Задание разноуровневого характера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5" descr="j0292112"/>
          <p:cNvPicPr/>
          <p:nvPr/>
        </p:nvPicPr>
        <p:blipFill>
          <a:blip r:embed="rId1"/>
          <a:stretch/>
        </p:blipFill>
        <p:spPr>
          <a:xfrm>
            <a:off x="5651640" y="4221000"/>
            <a:ext cx="2233440" cy="221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292134"/>
          <p:cNvPicPr/>
          <p:nvPr/>
        </p:nvPicPr>
        <p:blipFill>
          <a:blip r:embed="rId2"/>
          <a:stretch/>
        </p:blipFill>
        <p:spPr>
          <a:xfrm>
            <a:off x="1042920" y="2133720"/>
            <a:ext cx="26067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Физкультминутка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Текст 30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537080" cy="2916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116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6:50:44Z</dcterms:created>
  <dc:creator>admin</dc:creator>
  <dc:description/>
  <dc:language>en-US</dc:language>
  <cp:lastModifiedBy>comp</cp:lastModifiedBy>
  <dcterms:modified xsi:type="dcterms:W3CDTF">2012-05-14T22:46:22Z</dcterms:modified>
  <cp:revision>34</cp:revision>
  <dc:subject/>
  <dc:title>Системы линейных уравнений с двумя переменными</dc:title>
</cp:coreProperties>
</file>