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2.wmf" ContentType="image/x-wmf"/>
  <Override PartName="/ppt/media/image19.png" ContentType="image/png"/>
  <Override PartName="/ppt/media/image15.gif" ContentType="image/gif"/>
  <Override PartName="/ppt/media/image1.png" ContentType="image/png"/>
  <Override PartName="/ppt/media/image23.png" ContentType="image/png"/>
  <Override PartName="/ppt/media/image18.gif" ContentType="image/gif"/>
  <Override PartName="/ppt/media/image5.jpeg" ContentType="image/jpeg"/>
  <Override PartName="/ppt/media/image20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3.png" ContentType="image/png"/>
  <Override PartName="/ppt/media/image8.gif" ContentType="image/gif"/>
  <Override PartName="/ppt/media/image2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E72-FA3C-4B4C-B8E3-D49382EE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EB4-F4D0-44AD-9717-D6870686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1B8-A942-4AD3-87DA-DB8ABD6D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91F-0F83-45DC-B749-6B8AC78F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3DF-11CC-40AB-8D53-768DD9B0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7123-3BC1-473A-B143-645424F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541B-117B-498C-9510-B6C7955D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1C8-BDEF-4724-882A-60303AE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840F-C332-442C-9512-8316238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F5E7-BD99-4E14-BF51-A97FE08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CDA-108E-4940-B1C0-D4E89DC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BB9-9313-4452-9241-89B65A8F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DD46-A94E-4452-8CB1-6C9EB42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EC3C-A781-4B51-912A-3380B63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7156-4B9E-4D5B-AD62-A2D0858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3C7-B708-4D1B-BCC1-4AC4C2D0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0945-F38F-49C0-A7EA-B1A3B76E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5728-C58B-4FFF-A7FC-F6351116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7D94-15EE-471E-9801-515F10DD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D401-5DF5-416B-9B84-4035150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10F0-C578-44C3-9371-FC313970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7D4F-08F5-4165-AE0B-438715B2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6F4-ADAB-4F0C-BE2D-9E3E648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F270-9251-4C7B-A00D-BDEF5F1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0F6A-B858-437E-9969-6725001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6963-F4BD-4F86-BAF7-EC25B80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2C0D-565A-4D0C-A068-C4554D2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95F2-2C2E-4B70-81EB-EA5AF2C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7BE2-DA59-4734-B0B9-A119C811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4C05-D993-451D-A00C-4F25E77A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E26E-2846-4A47-882D-B5AB33F9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A007-F1E7-4C92-BEFF-5763B2A4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7C14-D223-44E6-AD17-447E91FE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204-A011-46B0-9D79-81041FAB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E0D0-8C6C-488B-90F0-76A78F6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4809-81D1-44D1-A7F7-4DD218A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4860-82F9-41A0-AD76-630A2ED9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FDE6-086E-4586-886A-FBC355D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133F-B97B-42E9-85B0-0F2502F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4FEC-20E3-4B93-A85F-B33DAE9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509F-7C9D-47D9-9343-CBFB9966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B945-CDB3-4F46-9114-BE4EE3E1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553E-69FC-4B55-BAE5-44F890C6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10DE-6181-4108-BB20-633F2485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D8E-3511-4254-8182-0EC00D6B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014F3-2744-413E-AED1-2AFCA60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36EC-FDAF-4EBC-8802-78695D21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C36D-1F87-4263-A5A2-0E9E7008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1ACA-0A11-4C20-B83D-ED9ED86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8B8A-E56D-45AA-B8CD-A45F020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F807-2024-4359-8FB5-4F4E42B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9FE5-90D8-493F-AE7A-09D81A72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0722-7F00-4C18-8A1A-D65EE46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1C2C-56E1-491C-A57F-05ACA9B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B126C-2ABA-4495-9096-E4FE36D3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1EB-917A-4200-B97D-6DB89CBC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0FDB-C26E-481B-9D69-AE38CA19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46A-43FE-4DBA-96F8-2106664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922-7A44-4F84-A2D8-6A68D550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E5F-28E4-440A-8056-E19A588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8FD-07C0-43D3-BF6C-4CADFB0A522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383-87A1-4DDC-8FE9-AB46F039B06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4D4-BFB7-4D2A-9675-545CE63CFC8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497-335E-4D66-A256-EAA69269942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64F-3692-41F9-910B-9AE7199E628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484&amp;stype=simage&amp;text=&#1084;&#1072;&#1090;&#1077;&#1084;&#1072;&#1090;&#1080;&#1095;&#1077;&#1089;&#1082;&#1080;&#1077;%20&#1088;&#1080;&#1089;&#1091;&#1085;&#1082;&#1080;&amp;spsite=fake-016-2944002.ru&amp;img_url=www.gov.cap.ru/HOME/77/2009god/selskie/banner_sleva_selskie/shkolnoe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://im4-tub.yandex.net/i?id=16084746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85920"/>
            <a:ext cx="2571840" cy="4000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771640" y="1989000"/>
            <a:ext cx="6838920" cy="194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бр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т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20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0"/>
          <p:cNvSpPr/>
          <p:nvPr/>
        </p:nvSpPr>
        <p:spPr>
          <a:xfrm rot="2876400">
            <a:off x="342720" y="418680"/>
            <a:ext cx="83808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Oval 3"/>
          <p:cNvSpPr/>
          <p:nvPr/>
        </p:nvSpPr>
        <p:spPr>
          <a:xfrm>
            <a:off x="228600" y="32004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533520" y="2514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143000" y="2133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1905120" y="1981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2666880" y="22096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3276720" y="26668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3733920" y="3124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4191120" y="3657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4572000" y="41148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5257800" y="44956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2819520" y="45720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3505320" y="41911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Oval 15"/>
          <p:cNvSpPr/>
          <p:nvPr/>
        </p:nvSpPr>
        <p:spPr>
          <a:xfrm>
            <a:off x="220968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Oval 16"/>
          <p:cNvSpPr/>
          <p:nvPr/>
        </p:nvSpPr>
        <p:spPr>
          <a:xfrm>
            <a:off x="137160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685800" y="4419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228600" y="3886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6858000" y="5029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Oval 20"/>
          <p:cNvSpPr/>
          <p:nvPr/>
        </p:nvSpPr>
        <p:spPr>
          <a:xfrm>
            <a:off x="7620120" y="4800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8229600" y="4267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8381880" y="3657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8077320" y="29718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Oval 24"/>
          <p:cNvSpPr/>
          <p:nvPr/>
        </p:nvSpPr>
        <p:spPr>
          <a:xfrm>
            <a:off x="7620120" y="23623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Oval 25"/>
          <p:cNvSpPr/>
          <p:nvPr/>
        </p:nvSpPr>
        <p:spPr>
          <a:xfrm>
            <a:off x="6705720" y="2133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Oval 26"/>
          <p:cNvSpPr/>
          <p:nvPr/>
        </p:nvSpPr>
        <p:spPr>
          <a:xfrm>
            <a:off x="5867280" y="22860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Oval 27"/>
          <p:cNvSpPr/>
          <p:nvPr/>
        </p:nvSpPr>
        <p:spPr>
          <a:xfrm>
            <a:off x="5181480" y="2743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Oval 28"/>
          <p:cNvSpPr/>
          <p:nvPr/>
        </p:nvSpPr>
        <p:spPr>
          <a:xfrm>
            <a:off x="4648320" y="3124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601992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3193 C 0.00209 -0.02984 0.00417 -0.09137 -4.72222E-006 0.04557 C -0.00434 0.18228 -0.09184 0.87093 -0.02586 0.85335 C 0.04046 0.83623 0.2606 -0.05598 0.3974 -0.05667 C 0.53438 -0.05736 0.72431 0.8552 0.7948 0.84895 C 0.86546 0.84247 0.8915 -0.09484 0.82066 -0.0953 C 0.74983 -0.09576 0.50678 0.83044 0.37014 0.84664 C 0.23334 0.8626 0.06129 0.14041 -4.72222E-006 -3.06731E-006 E">
                                      <p:cBhvr>
                                        <p:cTn id="127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Конкурс творческих заданий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627280" y="2205000"/>
            <a:ext cx="2879640" cy="3456000"/>
            <a:chOff x="2627280" y="2205000"/>
            <a:chExt cx="2879640" cy="3456000"/>
          </a:xfrm>
        </p:grpSpPr>
        <p:sp>
          <p:nvSpPr>
            <p:cNvPr id="280" name=""/>
            <p:cNvSpPr/>
            <p:nvPr/>
          </p:nvSpPr>
          <p:spPr>
            <a:xfrm>
              <a:off x="2627280" y="4783320"/>
              <a:ext cx="2879640" cy="8776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Franklin Gothic Demi Cond"/>
                </a:rPr>
                <a:t>Учение—свет!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81" name="AN00790_" descr=""/>
            <p:cNvPicPr/>
            <p:nvPr/>
          </p:nvPicPr>
          <p:blipFill>
            <a:blip r:embed="rId1"/>
            <a:stretch/>
          </p:blipFill>
          <p:spPr>
            <a:xfrm>
              <a:off x="2627280" y="2205000"/>
              <a:ext cx="2879640" cy="257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Работа по учебнику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1351 (в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64" descr="j0233960"/>
          <p:cNvPicPr/>
          <p:nvPr/>
        </p:nvPicPr>
        <p:blipFill>
          <a:blip r:embed="rId1"/>
          <a:stretch/>
        </p:blipFill>
        <p:spPr>
          <a:xfrm>
            <a:off x="3203640" y="2706840"/>
            <a:ext cx="3889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360" y="549360"/>
            <a:ext cx="72388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образите свое местоположение на гор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0" y="1557360"/>
            <a:ext cx="7919640" cy="4104720"/>
            <a:chOff x="0" y="1557360"/>
            <a:chExt cx="7919640" cy="4104720"/>
          </a:xfrm>
        </p:grpSpPr>
        <p:sp>
          <p:nvSpPr>
            <p:cNvPr id="289" name="AutoShape 3"/>
            <p:cNvSpPr/>
            <p:nvPr/>
          </p:nvSpPr>
          <p:spPr>
            <a:xfrm>
              <a:off x="592920" y="2113560"/>
              <a:ext cx="6711840" cy="3466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AutoShape 4"/>
            <p:cNvSpPr/>
            <p:nvPr/>
          </p:nvSpPr>
          <p:spPr>
            <a:xfrm>
              <a:off x="2054160" y="301680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AutoShape 5"/>
            <p:cNvSpPr/>
            <p:nvPr/>
          </p:nvSpPr>
          <p:spPr>
            <a:xfrm>
              <a:off x="0" y="510588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AutoShape 6"/>
            <p:cNvSpPr/>
            <p:nvPr/>
          </p:nvSpPr>
          <p:spPr>
            <a:xfrm>
              <a:off x="592920" y="45493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1317960" y="380124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AutoShape 8"/>
            <p:cNvSpPr/>
            <p:nvPr/>
          </p:nvSpPr>
          <p:spPr>
            <a:xfrm>
              <a:off x="2833920" y="218664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AutoShape 9"/>
            <p:cNvSpPr/>
            <p:nvPr/>
          </p:nvSpPr>
          <p:spPr>
            <a:xfrm>
              <a:off x="3624840" y="15573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AutoShape 10"/>
            <p:cNvSpPr/>
            <p:nvPr/>
          </p:nvSpPr>
          <p:spPr>
            <a:xfrm>
              <a:off x="4305960" y="21135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AutoShape 11"/>
            <p:cNvSpPr/>
            <p:nvPr/>
          </p:nvSpPr>
          <p:spPr>
            <a:xfrm>
              <a:off x="5009040" y="29073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5810760" y="37465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9" name="AutoShape 13"/>
            <p:cNvSpPr/>
            <p:nvPr/>
          </p:nvSpPr>
          <p:spPr>
            <a:xfrm>
              <a:off x="6623640" y="45493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7238880" y="510588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523800" y="103356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Дом.задание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Выполнить тест, подготовиться к контрольной работ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" descr="j0292122"/>
          <p:cNvPicPr/>
          <p:nvPr/>
        </p:nvPicPr>
        <p:blipFill>
          <a:blip r:embed="rId1"/>
          <a:stretch/>
        </p:blipFill>
        <p:spPr>
          <a:xfrm>
            <a:off x="390600" y="3338640"/>
            <a:ext cx="2879640" cy="252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2133720" cy="2394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8757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915920"/>
            <a:ext cx="817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14480" indent="-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«Деятельность – единственный путь к знаниям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-114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-114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жордж Бернард Шо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177336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249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Цели урока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7238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бщить  и систематизировать знания и умения при решении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вивать математический и общий кругозор, мышление и реч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620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5 12                   Классная рабо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68280"/>
            <a:ext cx="81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 дополнительных   упражнений к главе 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7559640" cy="22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287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498600" indent="-49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) Что называют решением системы уравнений с двумя переменными? Что значит решить систему уравнени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) Способы решения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) Назови методы решения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) Сформулируйте алгоритм решения по каждому способу решения в нескольких словах, назвав самое главн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Заполни таблицу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9560"/>
          <a:ext cx="7238880" cy="34750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Способы ре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Графическ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Подстано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Сло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24000" y="476280"/>
          <a:ext cx="7238880" cy="34750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Способы ре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Графическ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гляд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оч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Подстано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рудоёмкие выклад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Сло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Выборе множи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Заголовок 2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2087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6275520" cy="7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Я выбираю способ ______, потому что____________ .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Текст 30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2089440" cy="115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2016360" cy="1209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2087640" cy="1152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J0282747.GIF"/>
          <p:cNvPicPr/>
          <p:nvPr/>
        </p:nvPicPr>
        <p:blipFill>
          <a:blip r:embed="rId5"/>
          <a:stretch/>
        </p:blipFill>
        <p:spPr>
          <a:xfrm>
            <a:off x="6084720" y="0"/>
            <a:ext cx="2000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Задание разноуровневого характера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5" descr="j0292112"/>
          <p:cNvPicPr/>
          <p:nvPr/>
        </p:nvPicPr>
        <p:blipFill>
          <a:blip r:embed="rId1"/>
          <a:stretch/>
        </p:blipFill>
        <p:spPr>
          <a:xfrm>
            <a:off x="5651640" y="4221000"/>
            <a:ext cx="2233440" cy="221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292134"/>
          <p:cNvPicPr/>
          <p:nvPr/>
        </p:nvPicPr>
        <p:blipFill>
          <a:blip r:embed="rId2"/>
          <a:stretch/>
        </p:blipFill>
        <p:spPr>
          <a:xfrm>
            <a:off x="1042920" y="2133720"/>
            <a:ext cx="2606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Текст 30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537080" cy="291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11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6:50:44Z</dcterms:created>
  <dc:creator>admin</dc:creator>
  <dc:description/>
  <dc:language>en-US</dc:language>
  <cp:lastModifiedBy>comp</cp:lastModifiedBy>
  <dcterms:modified xsi:type="dcterms:W3CDTF">2012-05-14T22:46:22Z</dcterms:modified>
  <cp:revision>34</cp:revision>
  <dc:subject/>
  <dc:title>Системы линейных уравнений с двумя переменными</dc:title>
</cp:coreProperties>
</file>