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D25-27A6-4477-BE61-07C749B0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DE9-A1BA-4DC2-8768-FAF73EDB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B7D-98F1-4EF1-B329-97DC3A20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DC88-2194-41DB-BE08-4F24A0AC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9F06-94DB-4A5E-AFA4-50342326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686-8870-4DFB-8E92-C00AEAF8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2A74-D6CD-4896-8F8C-0BDF3992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235-75E0-429B-8452-820F1C4A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F496-48B4-4F45-BBFD-C0C3DB32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5B48-1581-4DD1-83D1-34F1CB32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218-CE43-4C53-BA10-0FA3C1B4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9AB0-B62F-4B54-84AA-0DB5BE68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FC09-4EA6-4002-A251-133261992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75280" cy="180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ВАЖНОСТЬ ПИТЬЕВОГО РЕЖИМА </a:t>
            </a:r>
            <a:br>
              <a:rPr sz="5000"/>
            </a:b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В ШКОЛ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03640" y="404640"/>
            <a:ext cx="273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У СОШ № 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.Владим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64000" y="6308640"/>
            <a:ext cx="158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372360" y="4365720"/>
            <a:ext cx="1828800" cy="1888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314172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404640"/>
            <a:ext cx="8569440" cy="1099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Человеку, чтобы жить долго и счастливо, необходимо мыть не только свою внешность, но обязательно мыть и внутри - отмывать свое внутреннее "жилище"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3280" y="2637000"/>
            <a:ext cx="4122720" cy="309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2867040" cy="426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258920" y="333000"/>
            <a:ext cx="7129440" cy="2592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СТАВКА ВОДЫ ПО ГОРОД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Фирма «Мастер - Ак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л. 32-15-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4000" y="3048120"/>
            <a:ext cx="1752480" cy="3809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164360" y="4005360"/>
            <a:ext cx="1627200" cy="266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708360" y="2997360"/>
            <a:ext cx="232092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0280"/>
            <a:ext cx="820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сем неудивительно, что  три тысячи лет тому назад у ск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а-ту-Ромиу из «пены морской» родилас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гиня любви и  красоты Афроди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удивительно, потому что все живое и прекрас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Земле появилось из в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и сам на 75% состоит из воды, содержание которой в организме подобно «засечкам» возраста (вода уходит из нас --- мы старее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637000"/>
            <a:ext cx="835344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, людей, как самые нежные цве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благоцветия, необходимо постоянно «поливать» и поить чистой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96360" y="115920"/>
            <a:ext cx="1353960" cy="158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3933720"/>
            <a:ext cx="7993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Все  оттого, что именно вода приносит во все клетк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питательные вещества(минерал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соли, витамины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кислор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уводит с «территории» накопившиеся «отбросы» жизнедеятельности, очищая кишеч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да «замешана» в сложном процессе регулировки температуры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даже для того, чтобы дышать, нужна вода (увлажняет кислород для дыха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189000"/>
            <a:ext cx="6120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Мало того, что дефицит воды в организме делает н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внимательными и даже слегка заторможенны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ассеянны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утомленны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так водный дисбаланс может еще привести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 головным боля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ердечной недостаточ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азличным опухоля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арушению мирного процесса пищевар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а главное, к…ожир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508720" y="981000"/>
            <a:ext cx="3444840" cy="242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826920" y="3716280"/>
            <a:ext cx="7920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ловек, на протяжении всей своей жизни,  ежедневно пользуется  в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ждое  утро  насыщается глотком воды, освежает свое тело. Вот она в кране! Открывая кран, наполняешь любой сосуд и использует эту самую воду не задумываясь откуда о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 использует ее для питья и пищи, для умывания, летом – для отдыха, зимой – для отоп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Мы на 80% состоим из в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Вода — главный материал, из которого построено наше те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итьевой режим и баланс воды в организ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052640"/>
            <a:ext cx="8497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итьевым режим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инято понимать рациональный порядок потребления воды. Правильный питьевой режим обеспечивает нормальный водно-солевой баланс и создает благоприятные условия для жизнедеятельности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ланс воды, в свою очередь, подразумевает, что организм человека в процессе жизнедеятельности получает из вне и выделяет наружу одинаковое количество в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нарушении этого баланса в ту или иную сторону наступают изменения вплоть до серьезных нарушений процесса жизне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отрицательном балансе, т.е. недостаточном поступлении в организм воды падает вес тела, увеличивается вязкость крови - при этом нарушается снабжение тканей кислородом и энергией и, как следствие, повышается температура тела, учащаются пульс и дыхание, возникает чувство жажды и тошнота, падает работоспособ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ановлено, что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уточная потреб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воде взрослого человека равна 30-40 г на 1 кг веса тела. В среднем же принято считать, что в сутки человек потребляет суммарно 2.5 л воды и столько же выводится из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6831000" cy="270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42920" y="3500280"/>
            <a:ext cx="7274160" cy="2946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200400" cy="4096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539640" y="1916280"/>
            <a:ext cx="4824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жедневно нужно выпивать не менее 1,5 - 2 литра полноценной жидкости, э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· чистая питьевая не газированная не кипячёная вод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·  зеленый ча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· травяные фиточа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оловной мозг и весь организм будут достаточно заряжены нужными веществами, если  пить не кипяченную,  а очищенную воду, не газированную, а высокого качества, то есть,  богатую минеральными вещест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05320" y="3500280"/>
            <a:ext cx="3838680" cy="3838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404640"/>
            <a:ext cx="5111640" cy="1008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Для сохранения водного баланса необходимо соблюдать питьевой режим.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00000" y="620640"/>
            <a:ext cx="4608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Для сохранения и укрепления здоровья школьников, в классах начальной школы размещены куллеры с питьевой вод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837400" y="333360"/>
            <a:ext cx="2655720" cy="5856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321080" cy="324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88000" y="2492280"/>
            <a:ext cx="4032000" cy="3022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68360" y="5734080"/>
            <a:ext cx="77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4 каби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я: Орлова Ирина Викторовна  и Пенкина Наталья Виктор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3500640" cy="2624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3529080" cy="264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4716360" y="260280"/>
            <a:ext cx="417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3 каби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я: Веселова Наталья Владимировна и Печкина Светлана Леонид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11280" y="3645000"/>
            <a:ext cx="3887640" cy="2914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4788000" y="5084640"/>
            <a:ext cx="417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3 каби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я: Кисина Татьяна Анатольевна и Горчакова Ольг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43:10Z</dcterms:created>
  <dc:creator>пк</dc:creator>
  <dc:description/>
  <dc:language>en-US</dc:language>
  <cp:lastModifiedBy>пк</cp:lastModifiedBy>
  <dcterms:modified xsi:type="dcterms:W3CDTF">2010-01-24T18:41:11Z</dcterms:modified>
  <cp:revision>2</cp:revision>
  <dc:subject/>
  <dc:title>ВАЖНОСТЬ ПИТЬЕВОГО РЕЖИМА  В ШКОЛЕ</dc:title>
</cp:coreProperties>
</file>