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9.jpeg" ContentType="image/jpeg"/>
  <Override PartName="/ppt/media/image7.png" ContentType="image/pn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6CB9-1E65-4C43-B01E-CB100AC83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C355-70BE-4273-9A3A-B0F0CEFA8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CB7F-F5FD-47EA-A52B-5BFA1C824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F222-F73A-4073-9500-81A878BAD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C8F2-0921-4DE6-8480-FEAD55DFD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7719-4091-4E6B-AB12-3473A4A88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AC00-01E0-4D26-B16C-FF4C21A1A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4780-509C-4A99-B39E-34FF387E3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E315-902C-47BE-BE5A-97ADAC1FB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A2CD-B41A-4B77-B93C-5A10CF0D6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CC3B-1EB5-4F2D-BD78-1FBB03EC1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4D42-D455-47F3-882C-662C1DA46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4D09A-BDE5-4858-BD34-EF781A260C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133720"/>
            <a:ext cx="7775280" cy="1800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0000"/>
                </a:solidFill>
                <a:latin typeface="Arial"/>
              </a:rPr>
              <a:t>ВАЖНОСТЬ ПИТЬЕВОГО РЕЖИМА </a:t>
            </a:r>
            <a:br>
              <a:rPr sz="5000"/>
            </a:br>
            <a:r>
              <a:rPr b="0" lang="en-US" sz="5000" spc="-1" strike="noStrike">
                <a:solidFill>
                  <a:srgbClr val="ff0000"/>
                </a:solidFill>
                <a:latin typeface="Arial"/>
              </a:rPr>
              <a:t>В ШКОЛЕ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203640" y="404640"/>
            <a:ext cx="27367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МОУ СОШ № 3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г.Владими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3564000" y="6308640"/>
            <a:ext cx="158436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010 го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372360" y="4365720"/>
            <a:ext cx="1828800" cy="1888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179280" y="3141720"/>
            <a:ext cx="3333960" cy="333360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95280" y="404640"/>
            <a:ext cx="8569440" cy="109944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Человеку, чтобы жить долго и счастливо, необходимо мыть не только свою внешность, но обязательно мыть и внутри - отмывать свое внутреннее "жилище"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643280" y="2637000"/>
            <a:ext cx="4122720" cy="30906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971640" y="1916280"/>
            <a:ext cx="2867040" cy="42670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1258920" y="333000"/>
            <a:ext cx="7129440" cy="259236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ДОСТАВКА ВОДЫ ПО ГОРОДУ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Фирма «Мастер - Аква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тел. 32-15-2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24000" y="3048120"/>
            <a:ext cx="1752480" cy="38098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7164360" y="4005360"/>
            <a:ext cx="1627200" cy="26654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3708360" y="2997360"/>
            <a:ext cx="2320920" cy="360036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60280"/>
            <a:ext cx="8209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всем неудивительно, что  три тысячи лет тому назад у ска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тра-ту-Ромиу из «пены морской» родилась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гиня любви и  красоты Афроди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удивительно, потому что все живое и прекрасн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Земле появилось из вод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ловек и сам на 75% состоит из воды, содержание которой в организме подобно «засечкам» возраста (вода уходит из нас --- мы стареем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2637000"/>
            <a:ext cx="8353440" cy="86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с, людей, как самые нежные цветы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благоцветия, необходимо постоянно «поливать» и поить чистой вод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596360" y="115920"/>
            <a:ext cx="1353960" cy="15843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84360" y="3933720"/>
            <a:ext cx="799308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Все  оттого, что именно вода приносит во все клетк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питательные вещества(минералы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соли, витамины)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кислоро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и уводит с «территории» накопившиеся «отбросы» жизнедеятельности, очищая кишечник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ода «замешана» в сложном процессе регулировки температуры тел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И даже для того, чтобы дышать, нужна вода (увлажняет кислород для дыхания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95280" y="189000"/>
            <a:ext cx="6120000" cy="30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Мало того, что дефицит воды в организме делает на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невнимательными и даже слегка заторможенным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рассеянным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утомленным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так водный дисбаланс может еще привести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к головным болям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сердечной недостаточност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различным опухолям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нарушению мирного процесса пищеварени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а главное, к…ожирению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508720" y="981000"/>
            <a:ext cx="3444840" cy="2425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2" name=""/>
          <p:cNvSpPr/>
          <p:nvPr/>
        </p:nvSpPr>
        <p:spPr>
          <a:xfrm>
            <a:off x="826920" y="3716280"/>
            <a:ext cx="7920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Человек, на протяжении всей своей жизни,  ежедневно пользуется  вод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Каждое  утро  насыщается глотком воды, освежает свое тело. Вот она в кране! Открывая кран, наполняешь любой сосуд и использует эту самую воду не задумываясь откуда он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н использует ее для питья и пищи, для умывания, летом – для отдыха, зимой – для отопл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600" spc="-1" strike="noStrike">
                <a:solidFill>
                  <a:srgbClr val="333399"/>
                </a:solidFill>
                <a:latin typeface="Arial"/>
              </a:rPr>
              <a:t>Мы на 80% состоим из вод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99"/>
                </a:solidFill>
                <a:latin typeface="Arial"/>
              </a:rPr>
              <a:t>Вода — главный материал, из которого построено наше тел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Питьевой режим и баланс воды в организм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1052640"/>
            <a:ext cx="8497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д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питьевым режимо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принято понимать рациональный порядок потребления воды. Правильный питьевой режим обеспечивает нормальный водно-солевой баланс и создает благоприятные условия для жизнедеятельности организм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аланс воды, в свою очередь, подразумевает, что организм человека в процессе жизнедеятельности получает из вне и выделяет наружу одинаковое количество вод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и нарушении этого баланса в ту или иную сторону наступают изменения вплоть до серьезных нарушений процесса жизнедеятельнос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и отрицательном балансе, т.е. недостаточном поступлении в организм воды падает вес тела, увеличивается вязкость крови - при этом нарушается снабжение тканей кислородом и энергией и, как следствие, повышается температура тела, учащаются пульс и дыхание, возникает чувство жажды и тошнота, падает работоспособ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становлено, что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суточная потребност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в воде взрослого человека равна 30-40 г на 1 кг веса тела. В среднем же принято считать, что в сутки человек потребляет суммарно 2.5 л воды и столько же выводится из организ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3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71640" y="692280"/>
            <a:ext cx="6831000" cy="2700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042920" y="3500280"/>
            <a:ext cx="7274160" cy="29466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651640" y="404640"/>
            <a:ext cx="3200400" cy="40960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8" name=""/>
          <p:cNvSpPr/>
          <p:nvPr/>
        </p:nvSpPr>
        <p:spPr>
          <a:xfrm>
            <a:off x="539640" y="1916280"/>
            <a:ext cx="48243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Ежедневно нужно выпивать не менее 1,5 - 2 литра полноценной жидкости, это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· чистая питьевая не газированная не кипячёная вод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·  зеленый чай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· травяные фиточа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Головной мозг и весь организм будут достаточно заряжены нужными веществами, если  пить не кипяченную,  а очищенную воду, не газированную, а высокого качества, то есть,  богатую минеральными веществ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5305320" y="3500280"/>
            <a:ext cx="3838680" cy="38386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24000" y="404640"/>
            <a:ext cx="5111640" cy="1008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Для сохранения водного баланса необходимо соблюдать питьевой режим.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900000" y="620640"/>
            <a:ext cx="460872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Для сохранения и укрепления здоровья школьников, в классах начальной школы размещены куллеры с питьевой водо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837400" y="333360"/>
            <a:ext cx="2655720" cy="58564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4321080" cy="32418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788000" y="2492280"/>
            <a:ext cx="4032000" cy="30225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65" name=""/>
          <p:cNvSpPr/>
          <p:nvPr/>
        </p:nvSpPr>
        <p:spPr>
          <a:xfrm>
            <a:off x="468360" y="5734080"/>
            <a:ext cx="7777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4 кабине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чителя: Орлова Ирина Викторовна  и Пенкина Наталья Викторов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826920" y="476280"/>
            <a:ext cx="3500640" cy="26240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716360" y="1628640"/>
            <a:ext cx="3529080" cy="26449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68" name=""/>
          <p:cNvSpPr/>
          <p:nvPr/>
        </p:nvSpPr>
        <p:spPr>
          <a:xfrm>
            <a:off x="4716360" y="260280"/>
            <a:ext cx="41767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3 кабин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чителя: Веселова Наталья Владимировна и Печкина Светлана Леонидов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611280" y="3645000"/>
            <a:ext cx="3887640" cy="29145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70" name=""/>
          <p:cNvSpPr/>
          <p:nvPr/>
        </p:nvSpPr>
        <p:spPr>
          <a:xfrm>
            <a:off x="4788000" y="5084640"/>
            <a:ext cx="41767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03 кабин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я: Кисина Татьяна Анатольевна и Горчакова Ольга Иван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4T17:43:10Z</dcterms:created>
  <dc:creator>пк</dc:creator>
  <dc:description/>
  <dc:language>en-US</dc:language>
  <cp:lastModifiedBy>пк</cp:lastModifiedBy>
  <dcterms:modified xsi:type="dcterms:W3CDTF">2010-01-24T18:41:11Z</dcterms:modified>
  <cp:revision>2</cp:revision>
  <dc:subject/>
  <dc:title>ВАЖНОСТЬ ПИТЬЕВОГО РЕЖИМА  В ШКОЛЕ</dc:title>
</cp:coreProperties>
</file>