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D91-15AF-4E6F-A61E-CDEB1C87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314-5D4B-48B0-914A-949A7CC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74E-9C9D-47E3-9CED-48559FF8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EB0-3FAF-4E41-BEB7-DC94E7CB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0E6-EA16-455A-B0A5-0D4C414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856-BEE4-4E14-BF4A-AA461B28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2A3-D55F-4762-82E9-673EB369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A10-B061-4F63-917D-B08977E7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CEB-E6EB-4CA5-A7F3-8C1E5A8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EAF-061E-4430-AA2F-34A97DA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832-902E-4120-9A31-A425507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2E6-AD9E-46AD-97A9-5090A8A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508-F4DA-4538-9906-6EDC2403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77080" y="2060640"/>
            <a:ext cx="2031840" cy="203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907920"/>
            <a:ext cx="770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 ЗДОРОВЫМ 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3789360"/>
            <a:ext cx="712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ЗДОРОВЬЕ СБЕРЕГУ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 СЕБЕ  Я  ПОМОГУ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208720" cy="14644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Здоровье – это не только благополучное физическое состояние челове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1773360"/>
            <a:ext cx="7991280" cy="192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Это и образ жизни челове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его дела, поступк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отношение к окружающим его люд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429000"/>
            <a:ext cx="7200720" cy="19213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Всё должно быть в человеке хорошо, только тогда он почувствует себя по-настоящему здоровым и счастлив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27280" y="5373720"/>
            <a:ext cx="432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99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 !</a:t>
            </a:r>
            <a:endParaRPr b="0" lang="en-US" sz="1800" spc="1" strike="noStrike">
              <a:ln w="38160">
                <a:solidFill>
                  <a:srgbClr val="cc99ff"/>
                </a:solidFill>
                <a:prstDash val="dash"/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620640"/>
            <a:ext cx="7993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Здоровь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величайшая ценность человека, источник рад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ый с юных лет должен заботиться о своём здоров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4508640"/>
            <a:ext cx="82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значит быть здоровым 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5661000"/>
            <a:ext cx="1655640" cy="96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8000" y="5661000"/>
            <a:ext cx="165564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333360"/>
            <a:ext cx="8713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Весёлый смех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Стройная фигура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Хороший аппетит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расивые глаза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Хорошая память – это ЗДОРОВЬЕ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35280" y="4508640"/>
            <a:ext cx="71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лет живёт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ый человек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692360" cy="986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 России более 350 тысяч человек, чей возраст перешагнул за 90 ле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190680" cy="40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24000" y="551664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г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вич Михал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 февраля (13 марта) 1913 — 27 августа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2565360"/>
            <a:ext cx="20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6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рина Петровна Токма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дилась 3 марта 1929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084480" cy="410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51280" y="1341360"/>
            <a:ext cx="504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а — это лож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ой суп е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а — это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шки семь к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пка — это тряп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пкой вытру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ка — это шап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лся и по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я придумал сло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ное слово — п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вторяю сн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ыгает и ск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чего не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им, плим, п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6021360"/>
            <a:ext cx="28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этом году 80 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38200"/>
            <a:ext cx="8209080" cy="1245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Долгожители считают, что е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СЕКРЕТ ЗДОРОВЬ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792180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Первый секрет – закалённое тел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i="1" lang="en-US" sz="2300" spc="-1" strike="noStrike">
                <a:solidFill>
                  <a:srgbClr val="009900"/>
                </a:solidFill>
                <a:latin typeface="Arial"/>
              </a:rPr>
              <a:t>Второй секрет – правильное пита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300" spc="-1" strike="noStrike">
                <a:solidFill>
                  <a:srgbClr val="cc00ff"/>
                </a:solidFill>
                <a:latin typeface="Arial"/>
              </a:rPr>
              <a:t>Третий секрет – режим дн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Четвёртый – ежедневный физический тру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5000"/>
            <a:ext cx="8134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Эти секреты доступны каждому из на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Каждый из нас может стать </a:t>
            </a:r>
            <a:r>
              <a:rPr b="1" i="1" lang="en-US" sz="2500" spc="-1" strike="noStrike">
                <a:solidFill>
                  <a:srgbClr val="ff3300"/>
                </a:solidFill>
                <a:latin typeface="Arial"/>
              </a:rPr>
              <a:t>ДОЛГОЖИТЕЛЕМ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4238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333360"/>
            <a:ext cx="295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12536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УЛЫБАЮЩИЙ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ОВ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916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27082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42900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50028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422100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КАЛЁН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94172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941720"/>
            <a:ext cx="29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ЕСЁЛ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5734080"/>
            <a:ext cx="295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9280" y="260280"/>
            <a:ext cx="620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еты доктора Чистюлькин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719280" y="981000"/>
            <a:ext cx="84247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бы быть здоровым, надо соблюдать чист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простой воды и мыла у микробов тают си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 в неделю мойся основатель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тром, после сна, прогулки мой руки, шею, лицо, уш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й руки после уборки комнаты, игр, прогулки, общения с животными, работы во двор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16360" y="4941720"/>
            <a:ext cx="2170080" cy="173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04000" y="4941720"/>
            <a:ext cx="218268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132000" y="2276640"/>
            <a:ext cx="2449800" cy="195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619280" y="260280"/>
            <a:ext cx="620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еты доктора Витаминкин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1125360"/>
            <a:ext cx="673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Чтобы здоровым, сильным  быть , нужно овощи любить все без исключения. В этом нет сомн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732720" y="2565360"/>
            <a:ext cx="2255760" cy="180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932360" y="3789360"/>
            <a:ext cx="21114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324000" y="2997360"/>
            <a:ext cx="3044520" cy="243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9:31:40Z</dcterms:created>
  <dc:creator>пк</dc:creator>
  <dc:description/>
  <dc:language>en-US</dc:language>
  <cp:lastModifiedBy>пк</cp:lastModifiedBy>
  <dcterms:modified xsi:type="dcterms:W3CDTF">2009-10-29T20:38:00Z</dcterms:modified>
  <cp:revision>6</cp:revision>
  <dc:subject/>
  <dc:title>Слайд 1</dc:title>
</cp:coreProperties>
</file>