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6.png" ContentType="image/png"/>
  <Override PartName="/ppt/media/image12.jpeg" ContentType="image/jpeg"/>
  <Override PartName="/ppt/media/image3.png" ContentType="image/png"/>
  <Override PartName="/ppt/media/image4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5.gif" ContentType="image/gif"/>
  <Override PartName="/ppt/media/image8.png" ContentType="image/png"/>
  <Override PartName="/ppt/media/image9.jpeg" ContentType="image/jpeg"/>
  <Override PartName="/ppt/media/image11.jpeg" ContentType="image/jpeg"/>
  <Override PartName="/ppt/media/image2.gif" ContentType="image/gif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366D-2022-4100-8715-3B0D0C027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1E3B-3A5C-4CAA-9113-282FF42C2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6DB0-A7A4-4E78-8178-F3DF55EC7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DD86-BF8F-43C8-9B41-2C77365A5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AB8A-0A86-43B6-8844-A16322F2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282D-4AFB-4839-AD6A-BB1F1B99D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0DE4-E745-4057-AB8D-433986CB0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E0BD-D0AA-40DA-983E-59D7E9730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4954-C6F8-4D6F-AABB-1642E6461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60F5-8B1A-4CE0-84C1-FC0C0A66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FC68-9BBB-4A79-8C3C-F736A8DA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025F-581A-4F0B-8FD9-DB869A79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267C1-8A2D-4AE2-BE86-93D37C45E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6877080" y="2060640"/>
            <a:ext cx="2031840" cy="2031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900000" y="907920"/>
            <a:ext cx="770436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АСТИ ЗДОРОВЫМ !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042920" y="3789360"/>
            <a:ext cx="712800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Я ЗДОРОВЬЕ СБЕРЕГУ,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АМ СЕБЕ  Я  ПОМОГУ 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50920" y="189000"/>
            <a:ext cx="8208720" cy="146448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Здоровье – это не только благополучное физическое состояние человек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50920" y="515772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11280" y="1773360"/>
            <a:ext cx="7991280" cy="19213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Это и образ жизни человека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его дела, поступки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отношение к окружающим его людя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19280" y="3429000"/>
            <a:ext cx="7200720" cy="192132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Всё должно быть в человеке хорошо, только тогда он почувствует себя по-настоящему здоровым и счастливы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627280" y="5373720"/>
            <a:ext cx="4321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cc99ff"/>
                  </a:solidFill>
                  <a:prstDash val="dash"/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удьте  здоровы !</a:t>
            </a:r>
            <a:endParaRPr b="0" lang="en-US" sz="1800" spc="1" strike="noStrike">
              <a:ln w="38160">
                <a:solidFill>
                  <a:srgbClr val="cc99ff"/>
                </a:solidFill>
                <a:prstDash val="dash"/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dissolv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6000"/>
                            </p:stCondLst>
                            <p:childTnLst>
                              <p:par>
                                <p:cTn id="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11280" y="620640"/>
            <a:ext cx="799308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Здоровь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величайшая ценность человека, источник радо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ждый с юных лет должен заботиться о своём здоровь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39640" y="4508640"/>
            <a:ext cx="82803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то значит быть здоровым ???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08000" y="5661000"/>
            <a:ext cx="1655640" cy="965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08000" y="5661000"/>
            <a:ext cx="1655640" cy="965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9280" y="333360"/>
            <a:ext cx="87138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Весёлый смех – это ЗДОРОВЬЕ 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Стройная фигура – это ЗДОРОВЬЕ 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Хороший аппетит – это ЗДОРОВЬЕ 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Красивые глаза – это ЗДОРОВЬЕ 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Хорошая память – это ЗДОРОВЬЕ 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835280" y="4508640"/>
            <a:ext cx="71276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колько лет живёт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доровый человек ?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08000" y="4941720"/>
            <a:ext cx="1692360" cy="98604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4000" y="189000"/>
            <a:ext cx="8569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В России более 350 тысяч человек, чей возраст перешагнул за 90 лет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916360" y="1413000"/>
            <a:ext cx="3190680" cy="4032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324000" y="5516640"/>
            <a:ext cx="864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ерге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ладимирович Михалк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 февраля (13 марта) 1913 — 27 августа 200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43640" y="2565360"/>
            <a:ext cx="201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96 ле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5472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рина Петровна Токмаков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родилась 3 марта 1929 год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042920" y="1628640"/>
            <a:ext cx="3084480" cy="4105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3851280" y="1341360"/>
            <a:ext cx="5040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жка — это лож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жкой суп едя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шка — это кош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кошки семь котя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япка — это тряп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япкой вытру сто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пка — это шап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елся и пош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я придумал слов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ешное слово — пл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 повторяю снов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им, плим, пли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т прыгает и ска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им, плим, пли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ничего не знач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им, плим, пл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6021360"/>
            <a:ext cx="288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В этом году 80 л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9640" y="538200"/>
            <a:ext cx="8209080" cy="124560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Долгожители считают, что есть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СЕКРЕТ ЗДОРОВЬ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26920" y="2349360"/>
            <a:ext cx="7921800" cy="20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ff"/>
                </a:solidFill>
                <a:latin typeface="Arial"/>
              </a:rPr>
              <a:t>Первый секрет – закалённое тело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1" i="1" lang="en-US" sz="2300" spc="-1" strike="noStrike">
                <a:solidFill>
                  <a:srgbClr val="009900"/>
                </a:solidFill>
                <a:latin typeface="Arial"/>
              </a:rPr>
              <a:t>Второй секрет – правильное питани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2300" spc="-1" strike="noStrike">
                <a:solidFill>
                  <a:srgbClr val="cc00ff"/>
                </a:solidFill>
                <a:latin typeface="Arial"/>
              </a:rPr>
              <a:t>Третий секрет – режим дня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n-US" sz="2300" spc="-1" strike="noStrike">
                <a:solidFill>
                  <a:srgbClr val="cc3300"/>
                </a:solidFill>
                <a:latin typeface="Arial"/>
              </a:rPr>
              <a:t>Четвёртый – ежедневный физический труд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5445000"/>
            <a:ext cx="81342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Эти секреты доступны каждому из нас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Каждый из нас может стать </a:t>
            </a:r>
            <a:r>
              <a:rPr b="1" i="1" lang="en-US" sz="2500" spc="-1" strike="noStrike">
                <a:solidFill>
                  <a:srgbClr val="ff3300"/>
                </a:solidFill>
                <a:latin typeface="Arial"/>
              </a:rPr>
              <a:t>ДОЛГОЖИТЕЛЕМ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68360" y="4238640"/>
            <a:ext cx="1511280" cy="1511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39640" y="260280"/>
            <a:ext cx="29527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КРАСИВЫ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724360" y="333360"/>
            <a:ext cx="29530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СИЛЬНЫ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32000" y="1125360"/>
            <a:ext cx="29527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УЛЫБАЮЩИЙС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1916280"/>
            <a:ext cx="29527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ЛОВКИ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1916280"/>
            <a:ext cx="29527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ТОЛСТЫ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2000" y="2708280"/>
            <a:ext cx="29527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КРЕПКИ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3429000"/>
            <a:ext cx="29527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БЛЕДНЫ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867280" y="3500280"/>
            <a:ext cx="29527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СЛАБЫ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59280" y="4221000"/>
            <a:ext cx="29527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ЗАКАЛЁННЫ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4941720"/>
            <a:ext cx="29527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СТРОЙНЫ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4941720"/>
            <a:ext cx="29527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ВЕСЁЛЫ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87640" y="5734080"/>
            <a:ext cx="29527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ГРУСТНЫ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6000"/>
                            </p:stCondLst>
                            <p:childTnLst>
                              <p:par>
                                <p:cTn id="50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1619280" y="260280"/>
            <a:ext cx="6200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веты доктора Чистюлькина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"/>
          <p:cNvSpPr/>
          <p:nvPr/>
        </p:nvSpPr>
        <p:spPr>
          <a:xfrm>
            <a:off x="719280" y="981000"/>
            <a:ext cx="8424720" cy="56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Чтобы быть здоровым, надо соблюдать чистот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т простой воды и мыла у микробов тают сил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аз в неделю мойся основательно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тром, после сна, прогулки мой руки, шею, лицо, уш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Мой руки после уборки комнаты, игр, прогулки, общения с животными, работы во двор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916360" y="4941720"/>
            <a:ext cx="2170080" cy="17352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804000" y="4941720"/>
            <a:ext cx="2182680" cy="1746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3132000" y="2276640"/>
            <a:ext cx="2449800" cy="19587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1619280" y="260280"/>
            <a:ext cx="6200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веты доктора Витаминкина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" name=""/>
          <p:cNvSpPr/>
          <p:nvPr/>
        </p:nvSpPr>
        <p:spPr>
          <a:xfrm>
            <a:off x="1332000" y="1125360"/>
            <a:ext cx="6732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Чтобы здоровым, сильным  быть , нужно овощи любить все без исключения. В этом нет сомн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6"/>
          <a:stretch/>
        </p:blipFill>
        <p:spPr>
          <a:xfrm>
            <a:off x="6732720" y="2565360"/>
            <a:ext cx="2255760" cy="18050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7"/>
          <a:stretch/>
        </p:blipFill>
        <p:spPr>
          <a:xfrm>
            <a:off x="4932360" y="3789360"/>
            <a:ext cx="2111400" cy="1689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8"/>
          <a:stretch/>
        </p:blipFill>
        <p:spPr>
          <a:xfrm>
            <a:off x="324000" y="2997360"/>
            <a:ext cx="3044520" cy="243648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5T09:31:40Z</dcterms:created>
  <dc:creator>пк</dc:creator>
  <dc:description/>
  <dc:language>en-US</dc:language>
  <cp:lastModifiedBy>пк</cp:lastModifiedBy>
  <dcterms:modified xsi:type="dcterms:W3CDTF">2009-10-29T20:38:00Z</dcterms:modified>
  <cp:revision>6</cp:revision>
  <dc:subject/>
  <dc:title>Слайд 1</dc:title>
</cp:coreProperties>
</file>