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CF0-F956-4615-A286-F0B776C0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F47-3B5D-4E73-A8E3-47CD15F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C8F-AF17-4DC3-9A42-617E2B65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C08-E481-43E2-9D22-62926B90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1F7-E55A-4973-8BB5-DF8F5E7C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BBD-60C2-41EF-8109-563D983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5BD-CED5-4A15-BAC1-DF0F1D6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BDC-7F53-4627-BB28-3D3B28BD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65B-5184-4C45-B2F8-0C7095AB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7C2-316B-4DAA-9D0C-7A655D24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103-92DD-4D53-B7D4-85AE3B7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314-C4F0-40E2-B48A-9AEF082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B6B4-9E46-4BE9-88AF-22EE7A3E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359240" y="-304920"/>
            <a:ext cx="4784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646520" cy="593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49880" y="762120"/>
            <a:ext cx="4794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Улыбающееся лицо 11"/>
          <p:cNvSpPr/>
          <p:nvPr/>
        </p:nvSpPr>
        <p:spPr>
          <a:xfrm>
            <a:off x="533520" y="1828800"/>
            <a:ext cx="2333520" cy="231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12"/>
          <p:cNvSpPr/>
          <p:nvPr/>
        </p:nvSpPr>
        <p:spPr>
          <a:xfrm>
            <a:off x="3352680" y="1828800"/>
            <a:ext cx="2438640" cy="236232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13"/>
          <p:cNvSpPr/>
          <p:nvPr/>
        </p:nvSpPr>
        <p:spPr>
          <a:xfrm>
            <a:off x="6172200" y="1828800"/>
            <a:ext cx="2209680" cy="228600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8"/>
          <p:cNvSpPr/>
          <p:nvPr/>
        </p:nvSpPr>
        <p:spPr>
          <a:xfrm>
            <a:off x="762120" y="4419720"/>
            <a:ext cx="1447560" cy="1066680"/>
          </a:xfrm>
          <a:prstGeom prst="rect">
            <a:avLst/>
          </a:prstGeom>
          <a:solidFill>
            <a:srgbClr val="0070c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85800" y="2895480"/>
            <a:ext cx="1447920" cy="1143000"/>
          </a:xfrm>
          <a:prstGeom prst="rect">
            <a:avLst/>
          </a:prstGeom>
          <a:solidFill>
            <a:srgbClr val="00b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685800" y="1600200"/>
            <a:ext cx="1447920" cy="1066680"/>
          </a:xfrm>
          <a:prstGeom prst="rect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15832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11"/>
          <p:cNvSpPr/>
          <p:nvPr/>
        </p:nvSpPr>
        <p:spPr>
          <a:xfrm>
            <a:off x="714240" y="1643040"/>
            <a:ext cx="1371600" cy="10573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12"/>
          <p:cNvSpPr/>
          <p:nvPr/>
        </p:nvSpPr>
        <p:spPr>
          <a:xfrm>
            <a:off x="762120" y="2895480"/>
            <a:ext cx="1371600" cy="114300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13"/>
          <p:cNvSpPr/>
          <p:nvPr/>
        </p:nvSpPr>
        <p:spPr>
          <a:xfrm>
            <a:off x="762120" y="4419720"/>
            <a:ext cx="1428480" cy="106668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F:\С НОУТБУКА\КАРТИНКИ, ФОН\картинки к проекту\картинки к проекту\рисунки\Рисунок2.wmf"/>
          <p:cNvPicPr/>
          <p:nvPr/>
        </p:nvPicPr>
        <p:blipFill>
          <a:blip r:embed="rId2"/>
          <a:stretch/>
        </p:blipFill>
        <p:spPr>
          <a:xfrm>
            <a:off x="7315200" y="0"/>
            <a:ext cx="1428840" cy="1790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2286000" y="152388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ось все отличн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2357280" y="2786040"/>
            <a:ext cx="678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ся, но были некоторые ошиб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не получилось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2500200" y="4357800"/>
            <a:ext cx="61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 не настроении, не получилось сегодня, получится на следующем заня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66280" cy="259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5053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,15,10,14,1,20,6,13, 28,15,16,19,20,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99ff"/>
                </a:solidFill>
                <a:latin typeface="Times New Roman"/>
              </a:rPr>
              <a:t>вниматель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2971800"/>
            <a:ext cx="7829280" cy="117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Развиваем</a:t>
            </a:r>
            <a:endParaRPr b="1" lang="en-US" sz="66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 </a:t>
            </a:r>
            <a:r>
              <a:rPr b="1" lang="en-US" sz="66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внимание</a:t>
            </a:r>
            <a:endParaRPr b="1" lang="en-US" sz="66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Улыбающееся лицо 11"/>
          <p:cNvSpPr/>
          <p:nvPr/>
        </p:nvSpPr>
        <p:spPr>
          <a:xfrm>
            <a:off x="533520" y="1828800"/>
            <a:ext cx="2333520" cy="231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лыбающееся лицо 12"/>
          <p:cNvSpPr/>
          <p:nvPr/>
        </p:nvSpPr>
        <p:spPr>
          <a:xfrm>
            <a:off x="3352680" y="1828800"/>
            <a:ext cx="2438640" cy="236232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Улыбающееся лицо 13"/>
          <p:cNvSpPr/>
          <p:nvPr/>
        </p:nvSpPr>
        <p:spPr>
          <a:xfrm>
            <a:off x="6172200" y="1828800"/>
            <a:ext cx="2209680" cy="228600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543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229600" cy="441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12193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11430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3962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9625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32004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5909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38862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862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5720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64832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8862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2004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5146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5146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17524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143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962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4956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2438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1828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Улыбающееся лицо 11"/>
          <p:cNvSpPr/>
          <p:nvPr/>
        </p:nvSpPr>
        <p:spPr>
          <a:xfrm>
            <a:off x="533520" y="1828800"/>
            <a:ext cx="2333520" cy="231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лыбающееся лицо 12"/>
          <p:cNvSpPr/>
          <p:nvPr/>
        </p:nvSpPr>
        <p:spPr>
          <a:xfrm>
            <a:off x="3352680" y="1828800"/>
            <a:ext cx="2438640" cy="236232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лыбающееся лицо 13"/>
          <p:cNvSpPr/>
          <p:nvPr/>
        </p:nvSpPr>
        <p:spPr>
          <a:xfrm>
            <a:off x="6172200" y="1828800"/>
            <a:ext cx="2209680" cy="228600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ЖАЛУЙСТА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F:\С НОУТБУКА\КАРТИНКИ, ФОН\картинки к проекту\картинки к проекту\рисунки\oc11-008.jpg"/>
          <p:cNvPicPr/>
          <p:nvPr/>
        </p:nvPicPr>
        <p:blipFill>
          <a:blip r:embed="rId2"/>
          <a:stretch/>
        </p:blipFill>
        <p:spPr>
          <a:xfrm>
            <a:off x="2514600" y="1676520"/>
            <a:ext cx="3894120" cy="4120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86240" y="4465800"/>
            <a:ext cx="34005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Улыбающееся лицо 11"/>
          <p:cNvSpPr/>
          <p:nvPr/>
        </p:nvSpPr>
        <p:spPr>
          <a:xfrm>
            <a:off x="533520" y="1828800"/>
            <a:ext cx="2333520" cy="231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12"/>
          <p:cNvSpPr/>
          <p:nvPr/>
        </p:nvSpPr>
        <p:spPr>
          <a:xfrm>
            <a:off x="3352680" y="1828800"/>
            <a:ext cx="2438640" cy="2362320"/>
          </a:xfrm>
          <a:prstGeom prst="smileyFace">
            <a:avLst>
              <a:gd name="adj" fmla="val -11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лыбающееся лицо 13"/>
          <p:cNvSpPr/>
          <p:nvPr/>
        </p:nvSpPr>
        <p:spPr>
          <a:xfrm>
            <a:off x="6172200" y="1828800"/>
            <a:ext cx="2209680" cy="2286000"/>
          </a:xfrm>
          <a:prstGeom prst="smileyFace">
            <a:avLst>
              <a:gd name="adj" fmla="val -4652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5T06:21:5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