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021-4D6E-410E-B86E-F625B6C7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75D-46CE-44B1-BE76-7770C8B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070-3815-448B-BA08-BA8EE050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327-76A6-46DB-BDF7-F24E9229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9E2-A489-4172-9BB3-7ECCFF3C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947-6E49-4126-A1C0-A693B541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DB8-6D37-4108-9B86-5817EA4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CA8-7C56-4EFC-9348-CFC6E9D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B2A-C316-4C01-917E-91758A8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53E-96E4-4996-BFF4-5491FDE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5A9-C7AC-4FD2-8FBD-AAE4AEB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F00-743E-4424-8FFA-699471B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F3E2-A6BF-407A-89DD-362C4C60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59240" y="-304920"/>
            <a:ext cx="478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646520" cy="593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49880" y="762120"/>
            <a:ext cx="4794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762120" y="4419720"/>
            <a:ext cx="1447560" cy="1066680"/>
          </a:xfrm>
          <a:prstGeom prst="rect">
            <a:avLst/>
          </a:prstGeom>
          <a:solidFill>
            <a:srgbClr val="0070c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85800" y="2895480"/>
            <a:ext cx="144792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685800" y="1600200"/>
            <a:ext cx="144792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15832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11"/>
          <p:cNvSpPr/>
          <p:nvPr/>
        </p:nvSpPr>
        <p:spPr>
          <a:xfrm>
            <a:off x="714240" y="1643040"/>
            <a:ext cx="1371600" cy="10573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12"/>
          <p:cNvSpPr/>
          <p:nvPr/>
        </p:nvSpPr>
        <p:spPr>
          <a:xfrm>
            <a:off x="762120" y="2895480"/>
            <a:ext cx="1371600" cy="114300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13"/>
          <p:cNvSpPr/>
          <p:nvPr/>
        </p:nvSpPr>
        <p:spPr>
          <a:xfrm>
            <a:off x="762120" y="4419720"/>
            <a:ext cx="1428480" cy="106668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:\С НОУТБУКА\КАРТИНКИ, ФОН\картинки к проекту\картинки к проекту\рисунки\Рисунок2.wmf"/>
          <p:cNvPicPr/>
          <p:nvPr/>
        </p:nvPicPr>
        <p:blipFill>
          <a:blip r:embed="rId2"/>
          <a:stretch/>
        </p:blipFill>
        <p:spPr>
          <a:xfrm>
            <a:off x="7315200" y="0"/>
            <a:ext cx="1428840" cy="1790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2286000" y="152388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ось все отличн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2357280" y="2786040"/>
            <a:ext cx="678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ся, но были некоторые ошиб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не получилось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2500200" y="4357800"/>
            <a:ext cx="61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 не настроении, не получилось сегодня, получится на следующем заня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66280" cy="25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5053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,15,10,14,1,20,6,13, 28,15,16,19,20,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99ff"/>
                </a:solidFill>
                <a:latin typeface="Times New Roman"/>
              </a:rPr>
              <a:t>вниматель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2971800"/>
            <a:ext cx="7829280" cy="117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Развиваем</a:t>
            </a:r>
            <a:endParaRPr b="1" lang="en-US" sz="66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внимание</a:t>
            </a:r>
            <a:endParaRPr b="1" lang="en-US" sz="66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543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441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12193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1430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962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9625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32004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5909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38862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862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5720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6483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8862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2004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5146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17524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143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962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495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2438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828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ЖАЛУЙСТА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:\С НОУТБУКА\КАРТИНКИ, ФОН\картинки к проекту\картинки к проекту\рисунки\oc11-008.jpg"/>
          <p:cNvPicPr/>
          <p:nvPr/>
        </p:nvPicPr>
        <p:blipFill>
          <a:blip r:embed="rId2"/>
          <a:stretch/>
        </p:blipFill>
        <p:spPr>
          <a:xfrm>
            <a:off x="2514600" y="1676520"/>
            <a:ext cx="3894120" cy="41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86240" y="4465800"/>
            <a:ext cx="34005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5T06:21:5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