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3.png" ContentType="image/pn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D5F3-E3C5-4EFE-A902-EC8288A9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317-D7BF-420D-8FED-ED9C7101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6360-F445-406E-B9C1-DFB40617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9675-6D93-4882-AF88-69CDDA07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ED72-E249-4116-9079-C7379494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DDAE-110A-4C91-A93F-CCC9A585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2581-1480-4530-9BF3-AA26DC5E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8C31-4801-4610-AF4B-AC24481A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7362-34D4-44AB-948F-511CACE9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174C-6DBB-4791-8F4D-C68F8398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0ECE-E6A1-4B01-AC67-DE23FA58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ABF3-0385-42A9-97AE-9062BB39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06CD-B05B-42A0-A9A6-70E8E58E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A309-7957-4465-AF81-58602EEF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7A9E-E816-40D3-91D4-DBC0DCAF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42A8-B4CF-4584-961B-EF2A71C2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55C0-A722-49B0-914F-4A29CCAF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0495-7F25-4253-9083-C7979D9E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F6A8-C328-4A8C-9451-C9254AEB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2D58-102F-4D76-8980-0FEEEDEE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08BE-3191-4174-818D-78E18774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4681-940F-4F74-9B02-F51640AE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C21A-391E-4C9A-9440-EBC5E72F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01F3-C7B0-4016-AEAD-C1E9CE54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67D4-7CD1-400E-81B9-F7B82C73FC42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FB3C-ED55-45E3-B8B7-D1CB3E2E8F19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360360" y="603360"/>
            <a:ext cx="8582040" cy="54687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2"/>
          <p:cNvSpPr/>
          <p:nvPr/>
        </p:nvSpPr>
        <p:spPr>
          <a:xfrm>
            <a:off x="3000240" y="5429160"/>
            <a:ext cx="592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рок изобразительного искусства, 6 клас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итель Расторгуева А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БО УСОШ №2 им. С. Ступако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85840" y="304560"/>
            <a:ext cx="8572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редние века витраж приобрел изначально храмовое, соборное звучание, создавая атмосферу торжественности и ритуаль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D:\Мои документы\витражи\готика-витр87.jpg"/>
          <p:cNvPicPr/>
          <p:nvPr/>
        </p:nvPicPr>
        <p:blipFill>
          <a:blip r:embed="rId1"/>
          <a:stretch/>
        </p:blipFill>
        <p:spPr>
          <a:xfrm>
            <a:off x="1071720" y="1857240"/>
            <a:ext cx="69339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2057400"/>
            <a:ext cx="36576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Современные витражи составляют из кусочков тонкого стекла и армируют его специальной лентой. Применяют как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бесцветное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, так и</a:t>
            </a:r>
            <a:r>
              <a:rPr b="0" lang="ru-RU" sz="2600" spc="-1" strike="noStrike">
                <a:solidFill>
                  <a:srgbClr val="9cb084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цветное</a:t>
            </a:r>
            <a:r>
              <a:rPr b="0" lang="ru-RU" sz="2600" spc="-1" strike="noStrike">
                <a:solidFill>
                  <a:srgbClr val="9cb084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стекло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5" descr="D:\Мои документы\витражи\витрфото.jpg"/>
          <p:cNvPicPr/>
          <p:nvPr/>
        </p:nvPicPr>
        <p:blipFill>
          <a:blip r:embed="rId1"/>
          <a:stretch/>
        </p:blipFill>
        <p:spPr>
          <a:xfrm>
            <a:off x="4495680" y="457200"/>
            <a:ext cx="4343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90720" y="30456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9c2d1"/>
                </a:solidFill>
                <a:latin typeface="Times New Roman"/>
                <a:ea typeface="Times New Roman"/>
              </a:rPr>
              <a:t>Развитие витража всегда было связано с историей живописи. К нему обращались такие мастера, ка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410082"/>
                </a:solidFill>
                <a:latin typeface="Times New Roman"/>
                <a:ea typeface="Times New Roman"/>
              </a:rPr>
              <a:t>Матисс, Шагал, Пикассо.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Работа Пикасс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4" descr="C:\Documents and Settings\Ленчик\Рабочий стол\конференция\КАТАЛОГ ВИТРАЖИ\iПИКАССО.jpg"/>
          <p:cNvPicPr/>
          <p:nvPr/>
        </p:nvPicPr>
        <p:blipFill>
          <a:blip r:embed="rId1"/>
          <a:stretch/>
        </p:blipFill>
        <p:spPr>
          <a:xfrm>
            <a:off x="1219320" y="2438280"/>
            <a:ext cx="6664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2" descr=""/>
          <p:cNvPicPr/>
          <p:nvPr/>
        </p:nvPicPr>
        <p:blipFill>
          <a:blip r:embed="rId1"/>
          <a:stretch/>
        </p:blipFill>
        <p:spPr>
          <a:xfrm>
            <a:off x="317520" y="212760"/>
            <a:ext cx="8862840" cy="1987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Documents and Settings\Ленчик\Рабочий стол\конференция\КАТАЛОГ ВИТРАЖИ\ЦАРЕТЕЛЛИ.gif"/>
          <p:cNvPicPr/>
          <p:nvPr/>
        </p:nvPicPr>
        <p:blipFill>
          <a:blip r:embed="rId2"/>
          <a:stretch/>
        </p:blipFill>
        <p:spPr>
          <a:xfrm>
            <a:off x="533520" y="2209680"/>
            <a:ext cx="3276360" cy="4191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Ленчик\Рабочий стол\конференция\КАТАЛОГ ВИТРАЖИ\ЦАРЕТЕЛЛИ2.jpg"/>
          <p:cNvPicPr/>
          <p:nvPr/>
        </p:nvPicPr>
        <p:blipFill>
          <a:blip r:embed="rId3"/>
          <a:stretch/>
        </p:blipFill>
        <p:spPr>
          <a:xfrm>
            <a:off x="4191120" y="2286000"/>
            <a:ext cx="457200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2" descr=""/>
          <p:cNvPicPr/>
          <p:nvPr/>
        </p:nvPicPr>
        <p:blipFill>
          <a:blip r:embed="rId1"/>
          <a:stretch/>
        </p:blipFill>
        <p:spPr>
          <a:xfrm>
            <a:off x="285840" y="5029200"/>
            <a:ext cx="8572320" cy="1249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Documents and Settings\Ленчик\Рабочий стол\конференция\КАТАЛОГ ВИТРАЖИ\ЦАРЕТЕЛЛИ1.gif"/>
          <p:cNvPicPr/>
          <p:nvPr/>
        </p:nvPicPr>
        <p:blipFill>
          <a:blip r:embed="rId2"/>
          <a:stretch/>
        </p:blipFill>
        <p:spPr>
          <a:xfrm>
            <a:off x="2000160" y="500040"/>
            <a:ext cx="482436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35812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овременном интерьере </a:t>
            </a:r>
            <a:r>
              <a:rPr b="0" lang="ru-RU" sz="2800" spc="-1" strike="noStrike">
                <a:solidFill>
                  <a:srgbClr val="410082"/>
                </a:solidFill>
                <a:latin typeface="Times New Roman"/>
                <a:ea typeface="Times New Roman"/>
              </a:rPr>
              <a:t>витраж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стает быть только оконным или дверным проемом, он нередко становится отдельной пластической формой в пространстве – это 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витраж-рельеф, витраж-стена, витраж-сто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4" descr="D:\Мои документы\витражи\витраж внише.jpg"/>
          <p:cNvPicPr/>
          <p:nvPr/>
        </p:nvPicPr>
        <p:blipFill>
          <a:blip r:embed="rId1"/>
          <a:srcRect l="20880" t="0" r="18685" b="0"/>
          <a:stretch/>
        </p:blipFill>
        <p:spPr>
          <a:xfrm>
            <a:off x="4495680" y="304920"/>
            <a:ext cx="4191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50004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Ваша задача сегодня 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ыполнить эскиз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ашего будущего витраж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итраж – (франц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itrag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от лат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itru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текло) – орнаментальная или сюжетная декоративная композиция в окне, двери, перегородке. Цветные витражи, заполняющие оконные проемы, создают богатую игру окрашенного цве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10" descr=""/>
          <p:cNvPicPr/>
          <p:nvPr/>
        </p:nvPicPr>
        <p:blipFill>
          <a:blip r:embed="rId1"/>
          <a:stretch/>
        </p:blipFill>
        <p:spPr>
          <a:xfrm>
            <a:off x="457200" y="-49320"/>
            <a:ext cx="8358120" cy="1994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D:\Мои документы\витражи\витаж-готика56.jpg"/>
          <p:cNvPicPr/>
          <p:nvPr/>
        </p:nvPicPr>
        <p:blipFill>
          <a:blip r:embed="rId2"/>
          <a:stretch/>
        </p:blipFill>
        <p:spPr>
          <a:xfrm>
            <a:off x="1071720" y="1785960"/>
            <a:ext cx="64767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716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9c2d1"/>
                </a:solidFill>
                <a:latin typeface="Arial"/>
                <a:ea typeface="Times New Roman"/>
              </a:rPr>
              <a:t>Человечество использовало витражи для украшения жилых домов, дворц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4" descr="C:\Documents and Settings\Ленчик\Рабочий стол\конференция\КАТАЛОГ ВИТРАЖИ\витраж в окне.jpg"/>
          <p:cNvPicPr/>
          <p:nvPr/>
        </p:nvPicPr>
        <p:blipFill>
          <a:blip r:embed="rId1"/>
          <a:stretch/>
        </p:blipFill>
        <p:spPr>
          <a:xfrm>
            <a:off x="5943600" y="1828800"/>
            <a:ext cx="2725560" cy="4724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D:\Мои документы\витражи\милан-готика-витраж.jpg"/>
          <p:cNvPicPr/>
          <p:nvPr/>
        </p:nvPicPr>
        <p:blipFill>
          <a:blip r:embed="rId2"/>
          <a:stretch/>
        </p:blipFill>
        <p:spPr>
          <a:xfrm>
            <a:off x="1360440" y="1752480"/>
            <a:ext cx="43624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7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52480" y="6091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9c2d1"/>
                </a:solidFill>
                <a:latin typeface="Arial Black"/>
              </a:rPr>
              <a:t>Оформлялись общественные помещ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5" descr="D:\Мои документы\витражи\vitrage01b.jpg"/>
          <p:cNvPicPr/>
          <p:nvPr/>
        </p:nvPicPr>
        <p:blipFill>
          <a:blip r:embed="rId2"/>
          <a:stretch/>
        </p:blipFill>
        <p:spPr>
          <a:xfrm>
            <a:off x="2057400" y="1905120"/>
            <a:ext cx="579132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304812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начала для изготовления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  <a:ea typeface="Times New Roman"/>
              </a:rPr>
              <a:t>витражей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использовали толстое литое стекло с оплавленными краями, которое вставляли в бронзовую раму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4" descr="D:\Мои документы\витражи\милан-готика-витраж.jpg"/>
          <p:cNvPicPr/>
          <p:nvPr/>
        </p:nvPicPr>
        <p:blipFill>
          <a:blip r:embed="rId1"/>
          <a:stretch/>
        </p:blipFill>
        <p:spPr>
          <a:xfrm>
            <a:off x="4114800" y="95400"/>
            <a:ext cx="472428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3733920" cy="52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ек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явилась  техника выполнен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итраж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 которой вся поверхность бесцветного стекла расписывается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  <a:ea typeface="Times New Roman"/>
              </a:rPr>
              <a:t>сплошным живописным узором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D:\Мои документы\витражи\готика-витраж.jpg"/>
          <p:cNvPicPr/>
          <p:nvPr/>
        </p:nvPicPr>
        <p:blipFill>
          <a:blip r:embed="rId1"/>
          <a:stretch/>
        </p:blipFill>
        <p:spPr>
          <a:xfrm>
            <a:off x="4495680" y="304920"/>
            <a:ext cx="43434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28760" y="1213920"/>
            <a:ext cx="33811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южеты витражей могли   быть самые разнообразные: фигуры людей, пти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5" descr="D:\Мои документы\витражи\витрфото78.jpg"/>
          <p:cNvPicPr/>
          <p:nvPr/>
        </p:nvPicPr>
        <p:blipFill>
          <a:blip r:embed="rId1"/>
          <a:stretch/>
        </p:blipFill>
        <p:spPr>
          <a:xfrm>
            <a:off x="4572000" y="457200"/>
            <a:ext cx="42670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D:\Мои документы\витражи\витражифото1.jpg"/>
          <p:cNvPicPr/>
          <p:nvPr/>
        </p:nvPicPr>
        <p:blipFill>
          <a:blip r:embed="rId1"/>
          <a:stretch/>
        </p:blipFill>
        <p:spPr>
          <a:xfrm>
            <a:off x="4986360" y="1828800"/>
            <a:ext cx="3814920" cy="4724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1295280" y="2286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ображали звере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тительный орнамен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6" descr="D:\Мои документы\витражи\витражфото3.jpg"/>
          <p:cNvPicPr/>
          <p:nvPr/>
        </p:nvPicPr>
        <p:blipFill>
          <a:blip r:embed="rId2"/>
          <a:stretch/>
        </p:blipFill>
        <p:spPr>
          <a:xfrm>
            <a:off x="990720" y="1828800"/>
            <a:ext cx="35622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12:30:13Z</dcterms:created>
  <dc:creator>Алена</dc:creator>
  <dc:description/>
  <dc:language>en-US</dc:language>
  <cp:lastModifiedBy>BEST</cp:lastModifiedBy>
  <dcterms:modified xsi:type="dcterms:W3CDTF">2012-05-10T13:35:48Z</dcterms:modified>
  <cp:revision>12</cp:revision>
  <dc:subject/>
  <dc:title>витраж</dc:title>
</cp:coreProperties>
</file>