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9E0-759B-42FE-BFE5-8C569D3E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842-6B32-4E98-AAC1-2E6B607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6C1-8CA4-404A-AD6B-8964895F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D4B-589C-4EAF-B886-FBBC227D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B22-F236-4291-9D68-ED40E9E7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D08-C6C1-4C7F-8C9B-64B90DE6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6AE8-521C-428C-84A8-4C52BF07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206D-532E-44B7-8477-DFC5385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DDB-9D07-4C41-83E6-FC4CCF3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87F-FC2F-410F-9458-7A1A6230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0A27-498A-404D-AD63-6E9BA1C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0AC-D74F-4ACF-9FCF-E13C70A4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5D1-806C-4EAE-8F46-9D4B28EE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C96-0583-4B7D-B1AD-B8D8BD9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1E6A-8B9D-441C-BEA5-69EA76A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EB0-8323-4E7E-839C-700F200E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1D7-68CF-4D0A-9824-F899C7FF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A75-4CC3-4718-8F9D-4CE9B26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99A-6FFB-419B-AED2-34B7EF8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48E-DA91-48A6-B321-8077AB4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6C0-0204-4F98-A29B-0194AC6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631-D887-4787-8BD0-0129CCA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51D-2203-47AE-9EA8-8405D18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8DC-E6CB-44FF-8784-B43984A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74D-2C9C-4675-B8F9-085B6E90D56F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E97-D33F-4A55-BEA7-835E450F6E84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60360" y="603360"/>
            <a:ext cx="8582040" cy="5468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3000240" y="5429160"/>
            <a:ext cx="592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изобразительного искусства, 6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Расторгуева А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 УСОШ №2 им. С. Ступак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304560"/>
            <a:ext cx="8572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редние века витраж приобрел изначально храмовое, соборное звучание, создавая атмосферу торжественности и ритуа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D:\Мои документы\витражи\готика-витр87.jpg"/>
          <p:cNvPicPr/>
          <p:nvPr/>
        </p:nvPicPr>
        <p:blipFill>
          <a:blip r:embed="rId1"/>
          <a:stretch/>
        </p:blipFill>
        <p:spPr>
          <a:xfrm>
            <a:off x="1071720" y="1857240"/>
            <a:ext cx="6933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36576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ременные витражи составляют из кусочков тонкого стекла и армируют его специальной лентой. Применяют ка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цветно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так и</a:t>
            </a:r>
            <a:r>
              <a:rPr b="0" lang="ru-RU" sz="2600" spc="-1" strike="noStrike">
                <a:solidFill>
                  <a:srgbClr val="9cb084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цветное</a:t>
            </a:r>
            <a:r>
              <a:rPr b="0" lang="ru-RU" sz="2600" spc="-1" strike="noStrike">
                <a:solidFill>
                  <a:srgbClr val="9cb084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кл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5" descr="D:\Мои документы\витражи\витрфото.jpg"/>
          <p:cNvPicPr/>
          <p:nvPr/>
        </p:nvPicPr>
        <p:blipFill>
          <a:blip r:embed="rId1"/>
          <a:stretch/>
        </p:blipFill>
        <p:spPr>
          <a:xfrm>
            <a:off x="4495680" y="45720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c2d1"/>
                </a:solidFill>
                <a:latin typeface="Times New Roman"/>
                <a:ea typeface="Times New Roman"/>
              </a:rPr>
              <a:t>Развитие витража всегда было связано с историей живописи. К нему обращались такие мастера, ка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Матисс, Шагал, Пикассо.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бота Пикасс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Ленчик\Рабочий стол\конференция\КАТАЛОГ ВИТРАЖИ\iПИКАССО.jpg"/>
          <p:cNvPicPr/>
          <p:nvPr/>
        </p:nvPicPr>
        <p:blipFill>
          <a:blip r:embed="rId1"/>
          <a:stretch/>
        </p:blipFill>
        <p:spPr>
          <a:xfrm>
            <a:off x="1219320" y="2438280"/>
            <a:ext cx="666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317520" y="212760"/>
            <a:ext cx="8862840" cy="198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Ленчик\Рабочий стол\конференция\КАТАЛОГ ВИТРАЖИ\ЦАРЕТЕЛЛИ.gif"/>
          <p:cNvPicPr/>
          <p:nvPr/>
        </p:nvPicPr>
        <p:blipFill>
          <a:blip r:embed="rId2"/>
          <a:stretch/>
        </p:blipFill>
        <p:spPr>
          <a:xfrm>
            <a:off x="533520" y="2209680"/>
            <a:ext cx="32763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Ленчик\Рабочий стол\конференция\КАТАЛОГ ВИТРАЖИ\ЦАРЕТЕЛЛИ2.jpg"/>
          <p:cNvPicPr/>
          <p:nvPr/>
        </p:nvPicPr>
        <p:blipFill>
          <a:blip r:embed="rId3"/>
          <a:stretch/>
        </p:blipFill>
        <p:spPr>
          <a:xfrm>
            <a:off x="4191120" y="2286000"/>
            <a:ext cx="45720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285840" y="5029200"/>
            <a:ext cx="8572320" cy="124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Ленчик\Рабочий стол\конференция\КАТАЛОГ ВИТРАЖИ\ЦАРЕТЕЛЛИ1.gif"/>
          <p:cNvPicPr/>
          <p:nvPr/>
        </p:nvPicPr>
        <p:blipFill>
          <a:blip r:embed="rId2"/>
          <a:stretch/>
        </p:blipFill>
        <p:spPr>
          <a:xfrm>
            <a:off x="2000160" y="500040"/>
            <a:ext cx="48243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3581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ом интерьере </a:t>
            </a:r>
            <a:r>
              <a:rPr b="0" lang="ru-RU" sz="28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витраж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стает быть только оконным или дверным проемом, он нередко становится отдельной пластической формой в пространстве – это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итраж-рельеф, витраж-стена, витраж-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D:\Мои документы\витражи\витраж внише.jpg"/>
          <p:cNvPicPr/>
          <p:nvPr/>
        </p:nvPicPr>
        <p:blipFill>
          <a:blip r:embed="rId1"/>
          <a:srcRect l="20880" t="0" r="18685" b="0"/>
          <a:stretch/>
        </p:blipFill>
        <p:spPr>
          <a:xfrm>
            <a:off x="4495680" y="30492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00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аша задача сегодня 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полнить эски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ашего будущего витраж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раж – (франц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trag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t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екло) – орнаментальная или сюжетная декоративная композиция в окне, двери, перегородке. Цветные витражи, заполняющие оконные проемы, создают богатую игру окрашенного ц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10" descr=""/>
          <p:cNvPicPr/>
          <p:nvPr/>
        </p:nvPicPr>
        <p:blipFill>
          <a:blip r:embed="rId1"/>
          <a:stretch/>
        </p:blipFill>
        <p:spPr>
          <a:xfrm>
            <a:off x="457200" y="-49320"/>
            <a:ext cx="8358120" cy="199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D:\Мои документы\витражи\витаж-готика56.jpg"/>
          <p:cNvPicPr/>
          <p:nvPr/>
        </p:nvPicPr>
        <p:blipFill>
          <a:blip r:embed="rId2"/>
          <a:stretch/>
        </p:blipFill>
        <p:spPr>
          <a:xfrm>
            <a:off x="1071720" y="1785960"/>
            <a:ext cx="6476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c2d1"/>
                </a:solidFill>
                <a:latin typeface="Arial"/>
                <a:ea typeface="Times New Roman"/>
              </a:rPr>
              <a:t>Человечество использовало витражи для украшения жилых домов, дворц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C:\Documents and Settings\Ленчик\Рабочий стол\конференция\КАТАЛОГ ВИТРАЖИ\витраж в окне.jpg"/>
          <p:cNvPicPr/>
          <p:nvPr/>
        </p:nvPicPr>
        <p:blipFill>
          <a:blip r:embed="rId1"/>
          <a:stretch/>
        </p:blipFill>
        <p:spPr>
          <a:xfrm>
            <a:off x="5943600" y="1828800"/>
            <a:ext cx="2725560" cy="472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:\Мои документы\витражи\милан-готика-витраж.jpg"/>
          <p:cNvPicPr/>
          <p:nvPr/>
        </p:nvPicPr>
        <p:blipFill>
          <a:blip r:embed="rId2"/>
          <a:stretch/>
        </p:blipFill>
        <p:spPr>
          <a:xfrm>
            <a:off x="1360440" y="1752480"/>
            <a:ext cx="43624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52480" y="609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 Black"/>
              </a:rPr>
              <a:t>Оформлялись общественные поме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D:\Мои документы\витражи\vitrage01b.jpg"/>
          <p:cNvPicPr/>
          <p:nvPr/>
        </p:nvPicPr>
        <p:blipFill>
          <a:blip r:embed="rId2"/>
          <a:stretch/>
        </p:blipFill>
        <p:spPr>
          <a:xfrm>
            <a:off x="2057400" y="1905120"/>
            <a:ext cx="579132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304812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начала для изготовления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витраже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ли толстое литое стекло с оплавленными краями, которое вставляли в бронзовую ра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D:\Мои документы\витражи\милан-готика-витраж.jpg"/>
          <p:cNvPicPr/>
          <p:nvPr/>
        </p:nvPicPr>
        <p:blipFill>
          <a:blip r:embed="rId1"/>
          <a:stretch/>
        </p:blipFill>
        <p:spPr>
          <a:xfrm>
            <a:off x="4114800" y="95400"/>
            <a:ext cx="47242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373392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явилась  техника выполн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раж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которой вся поверхность бесцветного стекла расписывается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сплошным живописным узоро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D:\Мои документы\витражи\готика-витраж.jpg"/>
          <p:cNvPicPr/>
          <p:nvPr/>
        </p:nvPicPr>
        <p:blipFill>
          <a:blip r:embed="rId1"/>
          <a:stretch/>
        </p:blipFill>
        <p:spPr>
          <a:xfrm>
            <a:off x="4495680" y="304920"/>
            <a:ext cx="4343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8760" y="1213920"/>
            <a:ext cx="3381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южеты витражей могли   быть самые разнообразные: фигуры людей, пти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D:\Мои документы\витражи\витрфото78.jpg"/>
          <p:cNvPicPr/>
          <p:nvPr/>
        </p:nvPicPr>
        <p:blipFill>
          <a:blip r:embed="rId1"/>
          <a:stretch/>
        </p:blipFill>
        <p:spPr>
          <a:xfrm>
            <a:off x="4572000" y="45720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D:\Мои документы\витражи\витражифото1.jpg"/>
          <p:cNvPicPr/>
          <p:nvPr/>
        </p:nvPicPr>
        <p:blipFill>
          <a:blip r:embed="rId1"/>
          <a:stretch/>
        </p:blipFill>
        <p:spPr>
          <a:xfrm>
            <a:off x="4986360" y="1828800"/>
            <a:ext cx="381492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295280" y="228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али звер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ительный орнамен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D:\Мои документы\витражи\витражфото3.jpg"/>
          <p:cNvPicPr/>
          <p:nvPr/>
        </p:nvPicPr>
        <p:blipFill>
          <a:blip r:embed="rId2"/>
          <a:stretch/>
        </p:blipFill>
        <p:spPr>
          <a:xfrm>
            <a:off x="990720" y="1828800"/>
            <a:ext cx="3562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2:30:13Z</dcterms:created>
  <dc:creator>Алена</dc:creator>
  <dc:description/>
  <dc:language>en-US</dc:language>
  <cp:lastModifiedBy>BEST</cp:lastModifiedBy>
  <dcterms:modified xsi:type="dcterms:W3CDTF">2012-05-10T13:35:48Z</dcterms:modified>
  <cp:revision>12</cp:revision>
  <dc:subject/>
  <dc:title>витраж</dc:title>
</cp:coreProperties>
</file>