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6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7426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432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32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760" y="21380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32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760" y="4742640"/>
            <a:ext cx="2709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4320" y="47426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742640"/>
            <a:ext cx="841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040"/>
            <a:ext cx="841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5400" y="644400"/>
            <a:ext cx="8418600" cy="62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 u="sng">
                <a:solidFill>
                  <a:srgbClr val="99284c"/>
                </a:solidFill>
                <a:uFillTx/>
                <a:latin typeface="Arial"/>
              </a:rPr>
              <a:t>Особенности работы с семьей, воспитывающей ребенка с ОВ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8000" y="1143000"/>
            <a:ext cx="356400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037120" y="1272960"/>
            <a:ext cx="410688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marL="496440" indent="-42588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Семья, имеющая ребенка с особыми нуждами - это семья, где происходит дезинтеграция семейных отношений. Болезнь ребенка зачастую меняет весь привычный уклад жизни в семь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Памятка для родителей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rmAutofit/>
          </a:bodyPr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Родители затрудняются определить свою роль в новых сложных условиях, они не всегда умеют создать условия, позволяющие ребенку нормально развиваться, обучаться и самореализовываться. Самостоятельно изменить сложившуюся ситуацию многие семьи не способны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950e"/>
                </a:solidFill>
                <a:latin typeface="Arial"/>
              </a:rPr>
              <a:t>Родителю, не включенному в коррекционный и абилитационный процесс, сложно изменить сложившиеся стереотипы своего взаимодействия с ребенком, что тормозит сам процесс коррекции и абилитации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47ff"/>
                </a:solidFill>
                <a:latin typeface="Arial"/>
              </a:rPr>
              <a:t>Родителям, воспитывающим детей с ОВЗ, сотрудничество с педагогом расширяет представление о собственной компетентности, придает уверенность в своих силах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3720" y="774720"/>
            <a:ext cx="41068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Взаимодействие с родителями – совершенно особый вид педагогической деятельности, требующий специальных психологических знаний, такта, терпимости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29120" y="1371600"/>
            <a:ext cx="4443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Сотрудничество с педагогом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7910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/>
          </a:bodyPr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расширяет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представление о собственной компетентности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придает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уверенность в своих силах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способствует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пониманию своих возможностей и компенсаторных возможностей ребенк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</a:rPr>
              <a:t>помогает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родителю и ребенку адекватно взаимодействовать друг с другом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6760" y="914040"/>
            <a:ext cx="4335480" cy="57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marL="496440" indent="-425880">
              <a:lnSpc>
                <a:spcPct val="96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3333"/>
                </a:solidFill>
                <a:latin typeface="Arial"/>
              </a:rPr>
              <a:t>Следует учитывать, что наибольший эффект достигается тогда, когда обучение соединено с решением практических задач воспитания детей с особыми потребностями с учетом их индивидуальных особенностей и возможносте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252520"/>
            <a:ext cx="434340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8640" y="685800"/>
            <a:ext cx="768816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914400"/>
            <a:ext cx="8174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5400" spc="-1" strike="noStrike">
                <a:solidFill>
                  <a:srgbClr val="99284c"/>
                </a:solidFill>
                <a:latin typeface="Arial"/>
              </a:rPr>
              <a:t>Выполнила:</a:t>
            </a:r>
            <a:br>
              <a:rPr sz="5400"/>
            </a:br>
            <a:r>
              <a:rPr b="1" i="1" lang="en-US" sz="5400" spc="-1" strike="noStrike">
                <a:solidFill>
                  <a:srgbClr val="99284c"/>
                </a:solidFill>
                <a:latin typeface="Arial"/>
              </a:rPr>
              <a:t>Колыхалова Ю.С</a:t>
            </a:r>
            <a:br>
              <a:rPr sz="5400"/>
            </a:b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2:05:11Z</dcterms:created>
  <dc:creator/>
  <dc:description/>
  <dc:language>en-US</dc:language>
  <cp:lastModifiedBy/>
  <dcterms:modified xsi:type="dcterms:W3CDTF">2011-02-11T06:13:08Z</dcterms:modified>
  <cp:revision>3</cp:revision>
  <dc:subject/>
  <dc:title/>
</cp:coreProperties>
</file>