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026E-C44E-46E1-9A92-89EB08428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7E8-582A-442F-804E-973ADEF8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0E9B-4FFA-4BD3-89D5-B48C6C296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4EE7-EF33-46C4-A797-D78674E8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864-5B3D-4431-A4E5-869B2E3C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429-C03A-4739-AFB0-305BBED9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918C-AAB2-4D4E-B85E-367D8697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A2B9-616F-4455-8C3C-6BB42F46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92E2-9540-47F5-ADA9-11365B3DF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64E7-1337-4DE8-BAB1-C5CC013E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5A53-C30C-4A01-A0E7-A327A9B6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A695-EAC5-4F34-AEA2-7710F28E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9E96-A826-47A0-B56D-AE09618494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549360"/>
            <a:ext cx="727236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умир.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манда выбор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Применяется, если ход решения задачи зависит от выполнения нескольких услови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квадрат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 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&gt;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ва кор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&lt;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т кор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график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8"/>
              <p:cNvSpPr txBox="1"/>
              <p:nvPr/>
            </p:nvSpPr>
            <p:spPr>
              <a:xfrm>
                <a:off x="611280" y="4662360"/>
                <a:ext cx="417672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при  х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при   -5</m:t>
                            </m:r>
                            <m:r>
                              <m:t xml:space="preserve">&lt;</m:t>
                            </m:r>
                            <m:r>
                              <m:t xml:space="preserve">х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Структура оператора вы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826920" y="1268280"/>
            <a:ext cx="7201080" cy="4353120"/>
          </a:xfrm>
          <a:prstGeom prst="rect">
            <a:avLst/>
          </a:pr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олная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ловие1: серия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ловие2: серия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лови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 сер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инач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вс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9872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619280" y="1052640"/>
            <a:ext cx="5977080" cy="3796920"/>
          </a:xfrm>
          <a:prstGeom prst="rect">
            <a:avLst/>
          </a:pr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)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еполная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ловие1: серия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ловие2: серия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лови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 сер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вс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147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шить уравнение ах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х+с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95280" y="2133720"/>
            <a:ext cx="83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ано 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вещ (аргуме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Найти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, x1,x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ве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 - лит (результ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Условие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D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D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D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вадратное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щ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, c, D, x1 ,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введите коэффициенты уравне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 b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=b*b-4*a*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&lt;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уравнение корней  не име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уравнение имеет один кор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1:=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)/(2*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“x=“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&gt;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уравнение имеет два кор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1:=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rt(D))/(2*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=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-sqrt(D))/(2*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“x1=“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x1,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“; x2=“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395280" y="33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Программа  на алгоритмическом язы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Составить алгоритм, позволяющий получить словесное описание школьной отметки, если оценка введена неправильно, алгоритм должен вывести сообщение «Такой оценки в школах России нет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79640" y="2852280"/>
            <a:ext cx="59054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ьник получает  оценки, которые «расшифровываютс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– отл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– хорош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– удовлетвор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– неудовлетвор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– очень пло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332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"/>
              </a:rPr>
              <a:t>Решит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281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айти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пишите алгорит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ахождения корней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250920" y="2852640"/>
                <a:ext cx="35272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при  х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при   -5</m:t>
                            </m:r>
                            <m:r>
                              <m:t xml:space="preserve">&lt;</m:t>
                            </m:r>
                            <m:r>
                              <m:t xml:space="preserve">х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6300720" y="5132520"/>
                <a:ext cx="1935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4011480" y="1557360"/>
                <a:ext cx="4892760" cy="22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при  х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при   х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при х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,5</m:t>
                            </m:r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при  х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0:02:55Z</dcterms:created>
  <dc:creator>учитель</dc:creator>
  <dc:description/>
  <dc:language>en-US</dc:language>
  <cp:lastModifiedBy>User</cp:lastModifiedBy>
  <dcterms:modified xsi:type="dcterms:W3CDTF">2011-10-01T01:50:02Z</dcterms:modified>
  <cp:revision>16</cp:revision>
  <dc:subject/>
  <dc:title>Слайд 1</dc:title>
</cp:coreProperties>
</file>