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B2B3-FEAE-43CF-AFF0-7FED6FE29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ECF4-5D7E-4576-8563-F5983D53C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39A6-84E9-432A-B86E-0F79209EC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7415-1C27-4B82-9700-E55E0AE4B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54E3-9C1C-469B-A7D5-11DDEEFFB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5A64-2AFB-49A7-BAAE-9D0FF554F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9E3A-2722-4722-B34F-0D5D74CDD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6FAE4-5C73-4940-A0C4-79067023E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9785-8C20-4DD5-93B8-A91723C1E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E238-739D-4B75-BF49-A817A784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B121-483A-48D3-B667-0C39FD48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7DD5-2FC0-4BB7-8288-AB897A604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F6F18-AD84-4353-971A-C85E996241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900000" y="549360"/>
            <a:ext cx="7272360" cy="53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умир.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оманда выбор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660066"/>
                </a:solidFill>
                <a:latin typeface="Arial"/>
              </a:rPr>
              <a:t>Применяется, если ход решения задачи зависит от выполнения нескольких условий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1360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шить квадратное уравн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=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один кор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&gt;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два кор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&lt;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нет корн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строить график функ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Object 8"/>
              <p:cNvSpPr txBox="1"/>
              <p:nvPr/>
            </p:nvSpPr>
            <p:spPr>
              <a:xfrm>
                <a:off x="611280" y="4662360"/>
                <a:ext cx="4176720" cy="17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8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при  х</m:t>
                            </m:r>
                            <m:r>
                              <m:t xml:space="preserve">≤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при   -5</m:t>
                            </m:r>
                            <m:r>
                              <m:t xml:space="preserve">&lt;</m:t>
                            </m:r>
                            <m:r>
                              <m:t xml:space="preserve">х</m:t>
                            </m:r>
                            <m:r>
                              <m:t xml:space="preserve">≤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660066"/>
                </a:solidFill>
                <a:latin typeface="Arial"/>
              </a:rPr>
              <a:t>Структура оператора выб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826920" y="1268280"/>
            <a:ext cx="7201080" cy="4353120"/>
          </a:xfrm>
          <a:prstGeom prst="rect">
            <a:avLst/>
          </a:prstGeom>
          <a:noFill/>
          <a:ln w="7632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333399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Полная фор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a50021"/>
                </a:solidFill>
                <a:uFillTx/>
                <a:latin typeface="Arial"/>
              </a:rPr>
              <a:t>Выб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2400" spc="-1" strike="noStrike" u="sng">
                <a:solidFill>
                  <a:srgbClr val="a50021"/>
                </a:solidFill>
                <a:uFillTx/>
                <a:latin typeface="Arial"/>
              </a:rPr>
              <a:t>пр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словие1: серия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2400" spc="-1" strike="noStrike" u="sng">
                <a:solidFill>
                  <a:srgbClr val="a50021"/>
                </a:solidFill>
                <a:uFillTx/>
                <a:latin typeface="Arial"/>
              </a:rPr>
              <a:t>пр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словие2: серия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400" spc="-1" strike="noStrike" u="sng">
                <a:solidFill>
                  <a:srgbClr val="a50021"/>
                </a:solidFill>
                <a:uFillTx/>
                <a:latin typeface="Arial"/>
              </a:rPr>
              <a:t>пр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словие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: серия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 u="sng">
                <a:solidFill>
                  <a:srgbClr val="a50021"/>
                </a:solidFill>
                <a:uFillTx/>
                <a:latin typeface="Arial"/>
              </a:rPr>
              <a:t>инач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ер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a50021"/>
                </a:solidFill>
                <a:uFillTx/>
                <a:latin typeface="Arial"/>
              </a:rPr>
              <a:t>вс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98720"/>
            <a:ext cx="8785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3600" spc="-1" strike="noStrike">
              <a:solidFill>
                <a:srgbClr val="660066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1619280" y="1052640"/>
            <a:ext cx="5977080" cy="3796920"/>
          </a:xfrm>
          <a:prstGeom prst="rect">
            <a:avLst/>
          </a:prstGeom>
          <a:noFill/>
          <a:ln w="7632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2) </a:t>
            </a:r>
            <a:r>
              <a:rPr b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Неполная фор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a50021"/>
                </a:solidFill>
                <a:uFillTx/>
                <a:latin typeface="Arial"/>
              </a:rPr>
              <a:t>Выб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2400" spc="-1" strike="noStrike" u="sng">
                <a:solidFill>
                  <a:srgbClr val="a50021"/>
                </a:solidFill>
                <a:uFillTx/>
                <a:latin typeface="Arial"/>
              </a:rPr>
              <a:t>пр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словие1: серия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2400" spc="-1" strike="noStrike" u="sng">
                <a:solidFill>
                  <a:srgbClr val="a50021"/>
                </a:solidFill>
                <a:uFillTx/>
                <a:latin typeface="Arial"/>
              </a:rPr>
              <a:t>пр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словие2: серия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ru-RU" sz="2400" spc="-1" strike="noStrike" u="sng">
                <a:solidFill>
                  <a:srgbClr val="a50021"/>
                </a:solidFill>
                <a:uFillTx/>
                <a:latin typeface="Arial"/>
              </a:rPr>
              <a:t>пр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словие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: серия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a50021"/>
                </a:solidFill>
                <a:uFillTx/>
                <a:latin typeface="Arial"/>
              </a:rPr>
              <a:t>вс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66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412640"/>
            <a:ext cx="81471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Решить уравнение ах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²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  <a:ea typeface="Arial"/>
              </a:rPr>
              <a:t>+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b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  <a:ea typeface="Arial"/>
              </a:rPr>
              <a:t>х+с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395280" y="2133720"/>
            <a:ext cx="83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Дано 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, b, c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вещ (аргумен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Найти</a:t>
            </a: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, x1,x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ве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 - лит (результа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Условие: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) D=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) D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) D&l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50560" y="907920"/>
            <a:ext cx="8497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квадратное урав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нач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вещ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а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, c, D, x1 ,x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в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«введите коэффициенты уравнения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н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вод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, b,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:=b*b-4*a*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&lt;0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в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«уравнение корней  не имее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=0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вод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«уравнение имеет один корен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1:=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b)/(2*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вод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“x=“</a:t>
            </a: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x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&gt;0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в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«уравнение имеет два корн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1:=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qrt(D))/(2*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=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b-sqrt(D))/(2*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вод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“x1=“</a:t>
            </a: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 x1, </a:t>
            </a:r>
            <a:r>
              <a:rPr b="0" i="1" lang="en-US" sz="1800" spc="-1" strike="noStrike">
                <a:solidFill>
                  <a:srgbClr val="0000cc"/>
                </a:solidFill>
                <a:latin typeface="Arial"/>
              </a:rPr>
              <a:t>“; x2=“</a:t>
            </a:r>
            <a:r>
              <a:rPr b="0" i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x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4"/>
          <p:cNvSpPr/>
          <p:nvPr/>
        </p:nvSpPr>
        <p:spPr>
          <a:xfrm>
            <a:off x="395280" y="33336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Arial"/>
              </a:rPr>
              <a:t>Программа  на алгоритмическом язы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5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8642160" cy="26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66"/>
                </a:solidFill>
                <a:latin typeface="Arial"/>
              </a:rPr>
              <a:t>Составить алгоритм, позволяющий получить словесное описание школьной отметки, если оценка введена неправильно, алгоритм должен вывести сообщение «Такой оценки в школах России нет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979640" y="2852280"/>
            <a:ext cx="5905440" cy="32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кольник получает  оценки, которые «расшифровываются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 – отлич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 – хорош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 – удовлетворите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 – неудовлетворитель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– очень плох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8923320" cy="65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60066"/>
                </a:solidFill>
                <a:latin typeface="Arial"/>
              </a:rPr>
              <a:t>Решите задач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8281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Найти зна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функ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Запишите алгорит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нахождения корней уравн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4"/>
              <p:cNvSpPr txBox="1"/>
              <p:nvPr/>
            </p:nvSpPr>
            <p:spPr>
              <a:xfrm>
                <a:off x="250920" y="2852640"/>
                <a:ext cx="3527280" cy="13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8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при  х</m:t>
                            </m:r>
                            <m:r>
                              <m:t xml:space="preserve">≤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при   -5</m:t>
                            </m:r>
                            <m:r>
                              <m:t xml:space="preserve">&lt;</m:t>
                            </m:r>
                            <m:r>
                              <m:t xml:space="preserve">х</m:t>
                            </m:r>
                            <m:r>
                              <m:t xml:space="preserve">≤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6"/>
              <p:cNvSpPr txBox="1"/>
              <p:nvPr/>
            </p:nvSpPr>
            <p:spPr>
              <a:xfrm>
                <a:off x="6300720" y="5132520"/>
                <a:ext cx="193536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х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8"/>
              <p:cNvSpPr txBox="1"/>
              <p:nvPr/>
            </p:nvSpPr>
            <p:spPr>
              <a:xfrm>
                <a:off x="4011480" y="1557360"/>
                <a:ext cx="4892760" cy="22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при  х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х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при   х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0,5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при х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х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1,5</m:t>
                            </m:r>
                            <m:r>
                              <m:t xml:space="preserve">х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при  х</m:t>
                            </m:r>
                            <m:r>
                              <m:t xml:space="preserve">=</m:t>
                            </m:r>
                            <m:r>
                              <m:t xml:space="preserve">3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8T00:02:55Z</dcterms:created>
  <dc:creator>учитель</dc:creator>
  <dc:description/>
  <dc:language>en-US</dc:language>
  <cp:lastModifiedBy>User</cp:lastModifiedBy>
  <dcterms:modified xsi:type="dcterms:W3CDTF">2011-10-01T01:50:02Z</dcterms:modified>
  <cp:revision>16</cp:revision>
  <dc:subject/>
  <dc:title>Слайд 1</dc:title>
</cp:coreProperties>
</file>