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17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FA6CC-AFF7-4C6E-9F2F-C62DEBFC760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B8956-A294-4CA0-813D-4C2F6859C513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156CC-9AC7-423B-BAC0-D60830FDE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11E7E-0794-4354-8496-1241DBC55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C0417-EC97-4368-BCB7-FF342A2E5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BDD2C-AC1C-4725-9FA0-3E866D393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B2A79-B09D-4AA5-BD43-D48E1452F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75865-DD63-4E16-BA3C-E37915B13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7A38B-8C07-4C08-B863-CD7DD8F9B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5D3EB-52B5-4E53-964F-A6EA72F37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A91CB-17F3-43AB-9992-18836D177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DD09A-E635-4B03-B4C9-C9D365243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BD8F6-4DD5-4297-9155-89856F70C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22460-3AC6-4FA1-B146-86A1D588C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A7DD0-A4D3-4B66-9E46-93D5AF164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FF34B-15A5-4626-8056-06C4879B5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451CE-1231-413B-9F02-52A7F13B5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A764B-346A-4B0C-828F-307FEE49E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973D9-A4CB-4E38-AA5B-DEBAFF01D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EEBA8-27F9-42E4-BCE0-BFC38A81E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16B09-8C3F-407B-9339-9C78694BA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BEE9C-A5C1-47C5-A218-42122D64E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8CE81-30AE-4762-A548-DF0B3626A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F5347-7B8D-4B36-9F96-35B230B19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FBC9B-10FD-4A45-ACFE-950312AF4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B46D8-4D6F-4FD8-962F-3362F749A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grpSp>
        <p:nvGrpSpPr>
          <p:cNvPr id="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</p:grpSp>
        <p:grpSp>
          <p:nvGrpSpPr>
            <p:cNvPr id="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</p:grp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2959F-FC68-4348-9C4F-F26300921142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3A01E-DC8F-4FE8-8519-A238CBD04922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"/>
          <p:cNvSpPr/>
          <p:nvPr/>
        </p:nvSpPr>
        <p:spPr>
          <a:xfrm>
            <a:off x="0" y="720"/>
            <a:ext cx="91440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Bookman Old Style"/>
                <a:ea typeface="Calibri"/>
              </a:rPr>
              <a:t>Негосударственное образовательное учреждение средняя общеобразовательная школа с углубленным изучением гуманитарных предметов</a:t>
            </a:r>
            <a:endParaRPr b="0" lang="en-US" sz="11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Rectangle 3"/>
          <p:cNvSpPr/>
          <p:nvPr/>
        </p:nvSpPr>
        <p:spPr>
          <a:xfrm>
            <a:off x="4429080" y="4747320"/>
            <a:ext cx="564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4" name="Rectangle 4"/>
          <p:cNvSpPr/>
          <p:nvPr/>
        </p:nvSpPr>
        <p:spPr>
          <a:xfrm>
            <a:off x="3580200" y="6093000"/>
            <a:ext cx="102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okman Old Style"/>
                <a:ea typeface="Calibri"/>
              </a:rPr>
              <a:t>Г.Сургут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okman Old Style"/>
                <a:ea typeface="Calibri"/>
              </a:rPr>
              <a:t>2008 год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05" name="Picture 5" descr="C:\Documents and Settings\BOSS\Рабочий стол\index.jpg"/>
          <p:cNvPicPr/>
          <p:nvPr/>
        </p:nvPicPr>
        <p:blipFill>
          <a:blip r:embed="rId2"/>
          <a:stretch/>
        </p:blipFill>
        <p:spPr>
          <a:xfrm>
            <a:off x="4427640" y="692280"/>
            <a:ext cx="4464000" cy="4206600"/>
          </a:xfrm>
          <a:prstGeom prst="rect">
            <a:avLst/>
          </a:prstGeom>
          <a:ln w="76320">
            <a:solidFill>
              <a:srgbClr val="800080"/>
            </a:solidFill>
            <a:miter/>
          </a:ln>
        </p:spPr>
      </p:pic>
      <p:sp>
        <p:nvSpPr>
          <p:cNvPr id="106" name=""/>
          <p:cNvSpPr txBox="1"/>
          <p:nvPr/>
        </p:nvSpPr>
        <p:spPr>
          <a:xfrm>
            <a:off x="179280" y="692280"/>
            <a:ext cx="4032360" cy="38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Творческий проект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о теме: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«Бальные танцы»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508720" y="5373720"/>
            <a:ext cx="349236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Выполнила: Чебышева Алёна.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роверила: Михеева Ольга Богдановна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comb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"/>
          <p:cNvSpPr/>
          <p:nvPr/>
        </p:nvSpPr>
        <p:spPr>
          <a:xfrm>
            <a:off x="250920" y="493560"/>
            <a:ext cx="5106960" cy="606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Bookman Old Style"/>
                <a:ea typeface="Calibri"/>
              </a:rPr>
              <a:t>Этот является одним из самых популярных нововведений в Англии, он часто исполняется на светских вечерах, потому что обмен партнерами создает дружескую атмосферу.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Bookman Old Style"/>
                <a:ea typeface="Calibri"/>
              </a:rPr>
              <a:t>Описание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Bookman Old Style"/>
                <a:ea typeface="Calibri"/>
              </a:rPr>
              <a:t>Музыкальный конфераньсе, диджей или руководитель оркестровой группы объявляет «Пол Джонс», затем музыканты исполняют бодрую мелодию. Танцоры образуют большой круг: кавалеры становятся внутрь, лицом наружу, дамы образуют внешнее кольцо, лицом внутрь, то есть к кавалерам. Взявшись за руки, каждое кольцо танцоров начинает двигаться вправо, таким образом, они идут в противоположных направлениях. Когда музыка прерывается, кавалер приглашает даму, стоящую прямо перед ним, и начинает танцевать. Затем музыкантам необходимо сделать небольшую паузу, чтобы позволить кавалерам вывести своих партнерш, после чего они играют вальс, квикстеп, фокстрот и т.п., подборку разнохарактерных мелодий или латиноамериканский . После исполнения приблизительно 32 тактов музыка останавливается, вновь образуются круги, и продолжается, как описано выше.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Bookman Old Style"/>
                <a:ea typeface="Calibri"/>
              </a:rPr>
              <a:t>Иногда желательно начать исполнением вальса или квикстепа, а затем, когда все танцующие выйдут на танцпол, объявить «Пол Джонс» и немедленно сделать перерыв для приглашающей мелодии. Тогда можно быть уверенным, что все пары примут участие в танце.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17" name="Picture 2" descr="C:\Documents and Settings\BOSS\Рабочий стол\н.jpeg"/>
          <p:cNvPicPr/>
          <p:nvPr/>
        </p:nvPicPr>
        <p:blipFill>
          <a:blip r:embed="rId2"/>
          <a:stretch/>
        </p:blipFill>
        <p:spPr>
          <a:xfrm>
            <a:off x="5715000" y="351000"/>
            <a:ext cx="3000240" cy="2252520"/>
          </a:xfrm>
          <a:prstGeom prst="rect">
            <a:avLst/>
          </a:prstGeom>
          <a:ln w="76320">
            <a:solidFill>
              <a:srgbClr val="00ffff"/>
            </a:solidFill>
            <a:miter/>
          </a:ln>
        </p:spPr>
      </p:pic>
      <p:pic>
        <p:nvPicPr>
          <p:cNvPr id="118" name="Picture 5" descr="C:\Documents and Settings\BOSS\Рабочий стол\77.jpeg"/>
          <p:cNvPicPr/>
          <p:nvPr/>
        </p:nvPicPr>
        <p:blipFill>
          <a:blip r:embed="rId3"/>
          <a:stretch/>
        </p:blipFill>
        <p:spPr>
          <a:xfrm>
            <a:off x="5715000" y="2928960"/>
            <a:ext cx="2928960" cy="3224160"/>
          </a:xfrm>
          <a:prstGeom prst="rect">
            <a:avLst/>
          </a:prstGeom>
          <a:ln w="76320">
            <a:solidFill>
              <a:srgbClr val="00ffff"/>
            </a:solidFill>
            <a:miter/>
          </a:ln>
        </p:spPr>
      </p:pic>
    </p:spTree>
  </p:cSld>
  <p:transition>
    <p:comb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comb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1"/>
          <p:cNvSpPr/>
          <p:nvPr/>
        </p:nvSpPr>
        <p:spPr>
          <a:xfrm>
            <a:off x="611280" y="998280"/>
            <a:ext cx="7848360" cy="523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Bookman Old Style"/>
                <a:ea typeface="Calibri"/>
              </a:rPr>
              <a:t>Быстрый темп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Bookman Old Style"/>
                <a:ea typeface="Calibri"/>
              </a:rPr>
              <a:t>Медленный темп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Bookman Old Style"/>
                <a:ea typeface="Calibri"/>
              </a:rPr>
              <a:t>Ритмичные танцы — название, присвоенное определенному типу танцев, которые обычно исполняются в переполненном танцевальном зале. Конечно, они существуют уже много лет, их часто называют «танцы в давке». Среди фигур, используемых в танцах этого типа, нет ни одной новой, они лишь были стандартизованы в качестве руководства для кандидатов на участие в любительских соревнованиях.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Bookman Old Style"/>
                <a:ea typeface="Calibri"/>
              </a:rPr>
              <a:t>Следует заметить, что многие похожие фигуры описаны в разделе «Квикстеп» данной книги, однако теперь не нужно пытаться придерживаться строгих правил выравнивания, которые столь </a:t>
            </a:r>
            <a:r>
              <a:rPr b="1" lang="ru-RU" sz="1600" spc="-1" strike="noStrike">
                <a:solidFill>
                  <a:srgbClr val="ffffff"/>
                </a:solidFill>
                <a:latin typeface="Bookman Old Style"/>
                <a:ea typeface="Calibri"/>
              </a:rPr>
              <a:t>необходимы</a:t>
            </a:r>
            <a:r>
              <a:rPr b="1" lang="ru-RU" sz="1400" spc="-1" strike="noStrike">
                <a:solidFill>
                  <a:srgbClr val="ffffff"/>
                </a:solidFill>
                <a:latin typeface="Bookman Old Style"/>
                <a:ea typeface="Calibri"/>
              </a:rPr>
              <a:t> в этом танце. Очень часто фигуры приходится исполнять, используя минимум движений и практически без перемещения вперед; поэтому желательно попрактиковаться в исполнении таких фигур, как натуральный пивот и обратный шассе-поворот на площадке в форме квадрата, вообще не перемещаясь вдоль помещения.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Bookman Old Style"/>
                <a:ea typeface="Calibri"/>
              </a:rPr>
              <a:t>Для этих фигур наиболее важна манера выражения ритма, поскольку выполнение набора основных фигур при полном отсутствии движения и вращения корпуса может показаться очень скучным. Опытный танцор с врожденным чувством ритма исполняет фигуры с помощью различных типов ритма. Едва ли не самым популярным и, возможно, самым простым в изучении для новичков является чарльстон; восприятие этого утонченного ритма очень важно, если танцор стремится полностью овладеть ритмичными танцами. Чарльстон можно изучить достаточно быстро, если потренироваться на следующих упражнениях: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comb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68360" y="112536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Начните, поставив стопы вместе, колени немного расслаблены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Счет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Сделайте небольшой боковой шаг ЛС — колени прямые . 1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Расслабьте немного колени . 2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Закройте ПС к ЛС без переноса веса тела — колени прямые . 3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Расслабьте немного колени . 4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Сделайте небольшой боковой шаг ПС — колени прямые . 1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Немного расслабьте колени . 2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Закройте ЛС к ПС без переноса веса тела . 3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Расслабьте немного колени . 4 Затем шагните в сторону ЛС и повторите .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comb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Прямоугольник 3"/>
          <p:cNvSpPr/>
          <p:nvPr/>
        </p:nvSpPr>
        <p:spPr>
          <a:xfrm>
            <a:off x="468360" y="189000"/>
            <a:ext cx="7524720" cy="46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Bookman Old Style"/>
                <a:ea typeface="Calibri"/>
              </a:rPr>
              <a:t>Попрактиковавшись в выполнении этого движения, танцор должен уделять чуть больше времени 1 -й и 3-й доле в каждом такте. Таким образом боковой шаг и закрытие будут выдерживаться достаточно твердо, а последовательное расслабление коленей выполняться достаточно резко. Если этого не сделать, возникнет упорное стремление сгибать их каждый раз при выполнении шага в сторону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Bookman Old Style"/>
                <a:ea typeface="Calibri"/>
              </a:rPr>
              <a:t>После освоения ритма чарльстона эти движения следует выполнять значительно мягче, поскольку использовать отрывистые (или стаккато) движения чальстона в ритмичных танцах — не самый лучший способ. При использовании чарльсона в качестве прогрессивной фигуры следует поочередно выводить ПС вперед, а ЛС — в сторону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Bookman Old Style"/>
                <a:ea typeface="Calibri"/>
              </a:rPr>
              <a:t>Повышение и понижение. В ритмичных танцах повышения не применяются, вместо этого используется расслабление и напряжение коленей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Bookman Old Style"/>
                <a:ea typeface="Calibri"/>
              </a:rPr>
              <a:t>Приведем стандартные фигуры как для быстрых, так и для медленных ритмичных танцев вместе с небольшими замечаниями по их применению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22" name="Picture 1" descr="C:\Documents and Settings\BOSS\Рабочий стол\г.jpeg"/>
          <p:cNvPicPr/>
          <p:nvPr/>
        </p:nvPicPr>
        <p:blipFill>
          <a:blip r:embed="rId2"/>
          <a:stretch/>
        </p:blipFill>
        <p:spPr>
          <a:xfrm>
            <a:off x="2411280" y="4221000"/>
            <a:ext cx="4213440" cy="2462400"/>
          </a:xfrm>
          <a:prstGeom prst="rect">
            <a:avLst/>
          </a:prstGeom>
          <a:ln w="76320">
            <a:solidFill>
              <a:srgbClr val="00ffff"/>
            </a:solidFill>
            <a:miter/>
          </a:ln>
        </p:spPr>
      </p:pic>
    </p:spTree>
  </p:cSld>
  <p:transition>
    <p:comb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1"/>
          <p:cNvSpPr/>
          <p:nvPr/>
        </p:nvSpPr>
        <p:spPr>
          <a:xfrm>
            <a:off x="611280" y="2180520"/>
            <a:ext cx="777564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man Old Style"/>
                <a:ea typeface="Calibri"/>
              </a:rPr>
              <a:t>Этот современный можно было бы назвать «танцем радости», потому что его основные фигуры весьма просты, а темп музыки и характер танца в целом, кажется, словно приглашают к беззаботной интерпретации его яркого ритма. Новички увидят, насколько легко изучить его основные шаги и насколько просто они соответствуют музыке. А опытный танцор обнаружит, что музыка располагает к бесконечному разнообразию шагов. Большинство видов спорта и другие способы проведения досуга потребуют от вас углубленных знаний и основательной работы, прежде чем вы сможете развлечься всевозможными «ненужными украшениями» для собственного удовольствия. Танцор, овладевший основами квикстепа, будет иметь в распоряжении , который никогда не потеряет свежесть и который, бесспорно, является воплощением наиболее привлекательного ритма из всех когда-либо известных миру. 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2050920" y="836640"/>
            <a:ext cx="468180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Квикстеп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comb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57200" y="836640"/>
            <a:ext cx="8229600" cy="548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37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Arial"/>
              </a:rPr>
              <a:t>Ритм. 4/4. Четыре доли в такте. 1-я и 3-я доля акцентированы.</a:t>
            </a:r>
            <a:endParaRPr b="0" lang="en-US" sz="15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7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Arial"/>
              </a:rPr>
              <a:t>Темп. Музыка должна исполняться со скоростью 50 тактов в минуту, хотя на любительских испытаниях разрешается небольшая свобода.</a:t>
            </a:r>
            <a:endParaRPr b="0" lang="en-US" sz="15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7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Arial"/>
              </a:rPr>
              <a:t>Основные ритмы. Фигуры состоят из комбинаций «медленного» и «быстрого» ритмов. Каждая «медленная» часть исполняется на 2 счета музыки, «быстрая» — на 1 счет.</a:t>
            </a:r>
            <a:endParaRPr b="0" lang="en-US" sz="15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7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Arial"/>
              </a:rPr>
              <a:t>Для новичка</a:t>
            </a:r>
            <a:endParaRPr b="0" lang="en-US" sz="15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7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Arial"/>
              </a:rPr>
              <a:t>Главные фигуры квикстепа — основной шаг и шассе, последняя фигура обычно включается в основные фигуры как составная часть. Предлагаем следующий порядок изучения основных фигур, которые должны быть полезными для новичка.</a:t>
            </a:r>
            <a:endParaRPr b="0" lang="en-US" sz="15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7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Arial"/>
              </a:rPr>
              <a:t>После основного шага:</a:t>
            </a:r>
            <a:endParaRPr b="0" lang="en-US" sz="15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7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Arial"/>
              </a:rPr>
              <a:t>Четвертные повороты. Их следует изучить сначала.</a:t>
            </a:r>
            <a:endParaRPr b="0" lang="en-US" sz="15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7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Arial"/>
              </a:rPr>
              <a:t>Натуральный поворот. Он является превосходной основой для других фигур и должен быть изучен прежде натурального пивота, который в качестве альтернативного используется на углах.</a:t>
            </a:r>
            <a:endParaRPr b="0" lang="en-US" sz="15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7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Arial"/>
              </a:rPr>
              <a:t>Прогрессивное шассе и замковый шаг вперед. Эти две фигуры по популярности уступают лишь вышеупомянутым, и желательно изучить их во вторую очередь.</a:t>
            </a:r>
            <a:endParaRPr b="0" lang="en-US" sz="15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7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Arial"/>
              </a:rPr>
              <a:t>Обратные повороты. Среди обратных поворотов особенно полезен шассе-поворот; он компактен и его легко выполнять, когда танцы проходят в переполненном помещении.</a:t>
            </a:r>
            <a:endParaRPr b="0" lang="en-US" sz="15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7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Arial"/>
              </a:rPr>
              <a:t>Более подробные детали соединения этих фигур и введения других фигур даются после описаний.</a:t>
            </a:r>
            <a:endParaRPr b="0" lang="en-US" sz="15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comb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2484360" y="1844640"/>
            <a:ext cx="4635720" cy="204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ВАЛЬС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comb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1"/>
          <p:cNvSpPr/>
          <p:nvPr/>
        </p:nvSpPr>
        <p:spPr>
          <a:xfrm>
            <a:off x="1116000" y="208800"/>
            <a:ext cx="734364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okman Old Style"/>
                <a:ea typeface="Calibri"/>
              </a:rPr>
              <a:t>Шаги современного вальса, по всей видимости, являются наиболее легкими для изучения среди танцев нашего времени. Однако шаги — ни в коем случае не самая важная особенность современного танца: танцор должен обратить весьма пристальное внимание на некоторые другие детали, прежде чем сможет понять секрет восхитительной ритмичной походки и живости этого танца. Правильное использование противоположных движений корпуса, в результате которых тело совершает легкие мерные повороты, правильное расслабление и выпрямление коленей в сочетании с подъемами и управление применением покачиваний корпуса — все это играет свою роль в создании танца с его непрерывным течением ритмичных, плавных движений. Элементы вальса рассматриваются в соответствующих разделах, их следует изучить после того, как будут усвоены основные принципы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28" name="Picture 2" descr="C:\Documents and Settings\BOSS\Рабочий стол\жж.jpeg"/>
          <p:cNvPicPr/>
          <p:nvPr/>
        </p:nvPicPr>
        <p:blipFill>
          <a:blip r:embed="rId2"/>
          <a:stretch/>
        </p:blipFill>
        <p:spPr>
          <a:xfrm>
            <a:off x="6156360" y="3789360"/>
            <a:ext cx="2328840" cy="2844720"/>
          </a:xfrm>
          <a:prstGeom prst="rect">
            <a:avLst/>
          </a:prstGeom>
          <a:ln w="76320">
            <a:solidFill>
              <a:srgbClr val="00ffff"/>
            </a:solidFill>
            <a:miter/>
          </a:ln>
        </p:spPr>
      </p:pic>
      <p:pic>
        <p:nvPicPr>
          <p:cNvPr id="129" name="Picture 3" descr="C:\Documents and Settings\BOSS\Рабочий стол\н.jpeg"/>
          <p:cNvPicPr/>
          <p:nvPr/>
        </p:nvPicPr>
        <p:blipFill>
          <a:blip r:embed="rId3"/>
          <a:stretch/>
        </p:blipFill>
        <p:spPr>
          <a:xfrm>
            <a:off x="539640" y="3933720"/>
            <a:ext cx="3929040" cy="2660760"/>
          </a:xfrm>
          <a:prstGeom prst="rect">
            <a:avLst/>
          </a:prstGeom>
          <a:ln w="76320">
            <a:solidFill>
              <a:srgbClr val="00ffff"/>
            </a:solidFill>
            <a:miter/>
          </a:ln>
        </p:spPr>
      </p:pic>
    </p:spTree>
  </p:cSld>
  <p:transition>
    <p:comb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2268360" y="1484280"/>
            <a:ext cx="4443480" cy="1755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ТАНГО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5280" y="1557360"/>
            <a:ext cx="5486400" cy="3249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Бальные танцы.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comb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1"/>
          <p:cNvSpPr/>
          <p:nvPr/>
        </p:nvSpPr>
        <p:spPr>
          <a:xfrm>
            <a:off x="179280" y="334440"/>
            <a:ext cx="5605560" cy="64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okman Old Style"/>
                <a:ea typeface="Calibri"/>
              </a:rPr>
              <a:t>Средний англичанин воспринимает танго как необыкновенно эксцентричный , и, вероятнее всего, считает, что им предельно трудно овладеть. На самом деле движения танго освоить гораздо проще, чем шаги квикстепа и фокстрота, но есть в «стиле» и «характере» танго нечто ускользающее — то, что обычно называют «атмосферой» танго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okman Old Style"/>
                <a:ea typeface="Calibri"/>
              </a:rPr>
              <a:t>Английские танцоры пытаются передать эту «атмосферу» введением неестественных и достаточно судорожных объятий в сочетании с очень расслабленными движениями, в конце концов представляет собой нечто одновременно устрашающее и неуклюжее. Введение большого числа движений стаккато значительно оживляет , и хотя стремление злоупотреблять ими вызывает определенную долю критики, подобные влияния сохраняются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okman Old Style"/>
                <a:ea typeface="Calibri"/>
              </a:rPr>
              <a:t>Музыка танго сама по себе настолько привлекательна, что средний танцор получает хорошее вознаграждение за время, потраченное на изучение нескольких простых основных фигур. Сильные танцоры, которые побеспокоились о том, чтобы проникнуться ускользающей атмосферой танго, получат подлинное удовольствие от правильной интерпретации, несомненно, одного из самых очаровательных танцевальных ритмов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32" name="Picture 2" descr="C:\Documents and Settings\BOSS\Рабочий стол\ш.jpeg"/>
          <p:cNvPicPr/>
          <p:nvPr/>
        </p:nvPicPr>
        <p:blipFill>
          <a:blip r:embed="rId2"/>
          <a:stretch/>
        </p:blipFill>
        <p:spPr>
          <a:xfrm>
            <a:off x="5940360" y="1197000"/>
            <a:ext cx="2948040" cy="4437000"/>
          </a:xfrm>
          <a:prstGeom prst="rect">
            <a:avLst/>
          </a:prstGeom>
          <a:ln w="76320">
            <a:solidFill>
              <a:srgbClr val="00ffff"/>
            </a:solidFill>
            <a:miter/>
          </a:ln>
        </p:spPr>
      </p:pic>
    </p:spTree>
  </p:cSld>
  <p:transition>
    <p:comb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2484360" y="1916280"/>
            <a:ext cx="4197600" cy="2352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авана.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comb dir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Прямоугольник 3"/>
          <p:cNvSpPr/>
          <p:nvPr/>
        </p:nvSpPr>
        <p:spPr>
          <a:xfrm>
            <a:off x="468360" y="692280"/>
            <a:ext cx="450036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Bookman Old Style"/>
              </a:rPr>
              <a:t>Это танец, распространенный в XVI в. в Европе. По одной из версий, павана, или падуана, появилась в г. Падуя, по другой - танец испанского происхождения, наименование которого - от латинского pavo (павлин) - связано с торжественным и горделивым характером танца. В начале XVI в. павана стала одним из самых популярных придворных танцев. Для паваны характерны четкость строения, нередко квадратность метроритмической структуры, преимущественно аккордовое изложение, иногда расцвеченное пассажами. Музыкальный размер 4/4, 4/2, темп медленный. Со второй половины XVI в. до конца XVII в. павана существовала как самостоятельная инструментальная пьеса. Нередко объединялась в сюитное последование с бысгрыми трехдольными танцами - гальярдой, сальтарелло, пивой. 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35" name="Picture 1" descr="C:\Documents and Settings\BOSS\Рабочий стол\к.jpeg"/>
          <p:cNvPicPr/>
          <p:nvPr/>
        </p:nvPicPr>
        <p:blipFill>
          <a:blip r:embed="rId2"/>
          <a:stretch/>
        </p:blipFill>
        <p:spPr>
          <a:xfrm>
            <a:off x="5508720" y="1052640"/>
            <a:ext cx="2868480" cy="4298760"/>
          </a:xfrm>
          <a:prstGeom prst="rect">
            <a:avLst/>
          </a:prstGeom>
          <a:ln w="76320">
            <a:solidFill>
              <a:srgbClr val="00ffff"/>
            </a:solidFill>
            <a:miter/>
          </a:ln>
        </p:spPr>
      </p:pic>
    </p:spTree>
  </p:cSld>
  <p:transition>
    <p:comb dir="horz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2484360" y="1989000"/>
            <a:ext cx="4424400" cy="240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аспье.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comb dir="horz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Прямоугольник 3"/>
          <p:cNvSpPr/>
          <p:nvPr/>
        </p:nvSpPr>
        <p:spPr>
          <a:xfrm>
            <a:off x="214200" y="142920"/>
            <a:ext cx="87505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Bookman Old Style"/>
              </a:rPr>
              <a:t>Это старинный французский танец, возникший, по-видимому, в Северной Бретани. В народном быту музыка танца исполнялась на волынке или пелась. С середины XVII в. паспье стал придворным танцем. Музыкальный размер придворного паспье 3/4 или 3/8, начинается с затакта. Паспье близок к менуэту, но исполнялся в более быстром темпе. Включался в инструментальную сюиту между ее основными танцевальными частями (обычно между сарабандой и жигой). 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38" name="Picture 2" descr="C:\Documents and Settings\BOSS\Рабочий стол\6.jpeg"/>
          <p:cNvPicPr/>
          <p:nvPr/>
        </p:nvPicPr>
        <p:blipFill>
          <a:blip r:embed="rId2"/>
          <a:stretch/>
        </p:blipFill>
        <p:spPr>
          <a:xfrm>
            <a:off x="5732640" y="2492280"/>
            <a:ext cx="3027240" cy="3873600"/>
          </a:xfrm>
          <a:prstGeom prst="rect">
            <a:avLst/>
          </a:prstGeom>
          <a:ln w="76320">
            <a:solidFill>
              <a:srgbClr val="00ffff"/>
            </a:solidFill>
            <a:miter/>
          </a:ln>
        </p:spPr>
      </p:pic>
      <p:pic>
        <p:nvPicPr>
          <p:cNvPr id="139" name="Picture 4" descr="C:\Documents and Settings\BOSS\Рабочий стол\к.jpeg"/>
          <p:cNvPicPr/>
          <p:nvPr/>
        </p:nvPicPr>
        <p:blipFill>
          <a:blip r:embed="rId3"/>
          <a:stretch/>
        </p:blipFill>
        <p:spPr>
          <a:xfrm>
            <a:off x="971640" y="2492280"/>
            <a:ext cx="2625480" cy="3935520"/>
          </a:xfrm>
          <a:prstGeom prst="rect">
            <a:avLst/>
          </a:prstGeom>
          <a:ln w="76320">
            <a:solidFill>
              <a:srgbClr val="00ffff"/>
            </a:solidFill>
            <a:miter/>
          </a:ln>
        </p:spPr>
      </p:pic>
    </p:spTree>
  </p:cSld>
  <p:transition>
    <p:comb dir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916360" y="1989000"/>
            <a:ext cx="460836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Рок-н-ролл.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comb dir="horz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1"/>
          <p:cNvSpPr/>
          <p:nvPr/>
        </p:nvSpPr>
        <p:spPr>
          <a:xfrm>
            <a:off x="755640" y="456840"/>
            <a:ext cx="77439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Calibri"/>
              </a:rPr>
              <a:t>Это песенно-танцевальная форма, возникшая в США в начале 1950-х гг. В основе рок-н-ролла - упрощенный вариант негритянской танцевальной бытовой музыки "ритм-энд-блюз" в сочетании с элементами "кантри-энд-вестерн", "буги вуги" и стиля диксиленд. Рок-н-ролл дал жизнь новым танцевальным жанрам рубежа 50-60-х гг. (твист, шейк, мэдисон, джайв). 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42" name="Picture 3" descr="C:\Documents and Settings\BOSS\Рабочий стол\55.jpeg"/>
          <p:cNvPicPr/>
          <p:nvPr/>
        </p:nvPicPr>
        <p:blipFill>
          <a:blip r:embed="rId2"/>
          <a:stretch/>
        </p:blipFill>
        <p:spPr>
          <a:xfrm>
            <a:off x="5435640" y="2492280"/>
            <a:ext cx="3157560" cy="3983040"/>
          </a:xfrm>
          <a:prstGeom prst="rect">
            <a:avLst/>
          </a:prstGeom>
          <a:ln w="76320">
            <a:solidFill>
              <a:srgbClr val="00ffff"/>
            </a:solidFill>
            <a:miter/>
          </a:ln>
        </p:spPr>
      </p:pic>
      <p:pic>
        <p:nvPicPr>
          <p:cNvPr id="143" name="Picture 4" descr="C:\Documents and Settings\BOSS\Рабочий стол\99.jpeg"/>
          <p:cNvPicPr/>
          <p:nvPr/>
        </p:nvPicPr>
        <p:blipFill>
          <a:blip r:embed="rId3"/>
          <a:stretch/>
        </p:blipFill>
        <p:spPr>
          <a:xfrm>
            <a:off x="1071720" y="2500200"/>
            <a:ext cx="2928960" cy="4003920"/>
          </a:xfrm>
          <a:prstGeom prst="rect">
            <a:avLst/>
          </a:prstGeom>
          <a:ln w="76320">
            <a:solidFill>
              <a:srgbClr val="00ffff"/>
            </a:solidFill>
            <a:miter/>
          </a:ln>
        </p:spPr>
      </p:pic>
    </p:spTree>
  </p:cSld>
  <p:transition>
    <p:comb dir="horz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2771640" y="1557360"/>
            <a:ext cx="3867120" cy="2352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Румба.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comb dir="horz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1"/>
          <p:cNvSpPr/>
          <p:nvPr/>
        </p:nvSpPr>
        <p:spPr>
          <a:xfrm>
            <a:off x="324000" y="730080"/>
            <a:ext cx="496872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Bookman Old Style"/>
                <a:ea typeface="Calibri"/>
              </a:rPr>
              <a:t>Это афро-американский песенно-танцевальный жанр. Современная румба сложилась на Кубе в среде городских и отчасти сельских негров. Румба включает пение солиста, реплики хора и собственно танец (мимико-акробатический импровизированный) под аккомпанемент ударных и шумовых инструментов. Танец исполняется парой или солистом в центре круга зрителей и музыкантов. В музыкальном отношении представляет собой многократное повторение, обычно вариантное, 8-тактового периода. Музыкальный размер двудольный, ритм остросинкопированный, с акцентами на слабых долях такта, темп от умеренно подвижного до быстрого. В конце 1920-х гг. румба получила распространение в США и странах Европы как эстрадно-бытовой танец. Разновидности румбы - иамбу, гуагуанко, колумбия. 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46" name="Picture 2" descr="C:\Documents and Settings\BOSS\Рабочий стол\66.jpeg"/>
          <p:cNvPicPr/>
          <p:nvPr/>
        </p:nvPicPr>
        <p:blipFill>
          <a:blip r:embed="rId2"/>
          <a:stretch/>
        </p:blipFill>
        <p:spPr>
          <a:xfrm>
            <a:off x="5796000" y="1341360"/>
            <a:ext cx="2908440" cy="4087800"/>
          </a:xfrm>
          <a:prstGeom prst="rect">
            <a:avLst/>
          </a:prstGeom>
          <a:ln w="76320">
            <a:solidFill>
              <a:srgbClr val="00ff00"/>
            </a:solidFill>
            <a:miter/>
          </a:ln>
        </p:spPr>
      </p:pic>
    </p:spTree>
  </p:cSld>
  <p:transition>
    <p:comb dir="horz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2771640" y="1700280"/>
            <a:ext cx="3646800" cy="1778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Танго.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836640"/>
            <a:ext cx="8229600" cy="548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2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Бальные танцы — группа парных танцев, которые танцуются в специальных помещениях.</a:t>
            </a:r>
            <a:endParaRPr b="0" lang="en-US" sz="9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портивные бальные танцы делятся на 2 программы: европейскую и латиноамериканскую. В европейскую программу входят: медленный вальс, танго, венский вальс, медленный фокстрот и квикстеп (быстрый фокстрот). В латиноамериканскую: самба, ча-ча-ча, румба, пасодобль и джайв.</a:t>
            </a: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Бальные танцы пользуются огромной популярностью, по ним проводятся турниры по всему миру. Бальные танцы — группа парных танцев, которые танцуются в специальных помещениях.</a:t>
            </a: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портивные бальные танцы делятся на 2 программы: европейскую и латиноамериканскую. В европейскую программу входят: медленный вальс, танго, венский вальс, медленный фокстрот и квикстеп (быстрый фокстрот). В латиноамериканскую: самба, ча-ча-ча, румба, пасодобль и джайв.</a:t>
            </a: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Бальные танцы пользуются огромной популярностью, по ним проводятся турниры по всему миру.</a:t>
            </a: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Термин «бальные» относится к парным непрофессиональным светским танцам, возникшим в средневековой Европе. Эти танцы очень сильно видоизменялись — любая эпоха европейской истории — Возрождение, Просвещение, классицизм, романтизм — порождала своеобразный танцевальный комплекс. На протяжении всего европейского культурного развития на бальный танец влияли самые разнообразные этнические источники, а также профессиональный танец. Международный авторитет, достигнутый без особой пропаганды, является естественным результатом признания современных бальных танцев в качестве великолепного вида спорта и развлечения. Соревнования в этом виде спорта вызывают интерес практически во всех странах мира, а уровень танцевальной подготовки достаточно высок, чтобы бросить вызов лучшим английским танцорам.</a:t>
            </a: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Термин «бальные» относится к парным непрофессиональным светским танцам, возникшим в средневековой Европе. Эти танцы очень сильно видоизменялись — любая эпоха европейской истории — Возрождение, Просвещение, классицизм, романтизм — порождала своеобразный танцевальный комплекс. На протяжении всего европейского культурного развития на бальный танец влияли самые разнообразные этнические источники, а также профессиональный танец. Международный авторитет, достигнутый без особой пропаганды, является естественным результатом признания современных бальных танцев в качестве великолепного вида спорта и развлечения. Соревнования в этом виде спорта вызывают интерес практически во всех странах мира, а уровень танцевальной подготовки достаточно высок, чтобы бросить вызов лучшим английским танцорам.</a:t>
            </a: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comb dir="horz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Прямоугольник 3"/>
          <p:cNvSpPr/>
          <p:nvPr/>
        </p:nvSpPr>
        <p:spPr>
          <a:xfrm>
            <a:off x="3924360" y="189000"/>
            <a:ext cx="5041800" cy="61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Bookman Old Style"/>
              </a:rPr>
              <a:t>1) Андалусийское танго - шуточная, иногда сатирическая уличная песенка, популярная в Севилье в 1850-80-х гг. Андалусийское танго имеет общие черты с кубинской хабанерой, распространившейся в Испании около середины XIX в. В конце 1870 - начале 1880-х гг. андалусийское танго проникло в Аргентину. 2) Креольское танго, или танго портеньо (tango porteno, то есть буэносайресское танго ), возникло в Буэнос-Айресе и его пригородах в 1880-х гг. от смешения мелодических и ритмических элементов андалусийского танго, кубинской хабанеры и аргентинской милонги. Поначалу было песней, в конце 1880-х - начале 1890-х гг. приобрело хореографию, близкую хабанере и милонге, превратившись в парный танец типа контрданса. 3) Аргентинское танго - парный танец, сложившийся в Буэнос-Айресе в конце 1890-х гг. в результате изменения хореографии креольского танго. В 1910 аргентинское танго проникло в Париж (где и получило название "аргентинское танго"), откуда, усовершенствованное хореографами, распространилось повсеместно как салонный и эстрадно-бытовой танец. 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49" name="Picture 1" descr="C:\Documents and Settings\BOSS\Рабочий стол\88.jpeg"/>
          <p:cNvPicPr/>
          <p:nvPr/>
        </p:nvPicPr>
        <p:blipFill>
          <a:blip r:embed="rId2"/>
          <a:stretch/>
        </p:blipFill>
        <p:spPr>
          <a:xfrm>
            <a:off x="179280" y="1628640"/>
            <a:ext cx="3643560" cy="2727360"/>
          </a:xfrm>
          <a:prstGeom prst="rect">
            <a:avLst/>
          </a:prstGeom>
          <a:ln w="76320">
            <a:solidFill>
              <a:srgbClr val="00ffff"/>
            </a:solidFill>
            <a:miter/>
          </a:ln>
        </p:spPr>
      </p:pic>
    </p:spTree>
  </p:cSld>
  <p:transition>
    <p:comb dir="horz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468360" y="981000"/>
            <a:ext cx="8136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Bookman Old Style"/>
                <a:ea typeface="Calibri"/>
              </a:rPr>
              <a:t>Бальные танцы — группа парных танцев, которые танцуются в специальных помещениях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Bookman Old Style"/>
                <a:ea typeface="Calibri"/>
              </a:rPr>
              <a:t>Спортивные бальные танцы делятся на 2 программы: европейскую и латиноамериканскую. В европейскую программу входят: медленный вальс, танго, венский вальс, медленный фокстрот и квикстеп (быстрый фокстрот). В латиноамериканскую: самба, ча-ча-ча, румба, пасодобль и джайв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Bookman Old Style"/>
                <a:ea typeface="Calibri"/>
              </a:rPr>
              <a:t>Бальные танцы пользуются огромной популярностью, по ним проводятся турниры по всему миру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Bookman Old Style"/>
                <a:ea typeface="Calibri"/>
              </a:rPr>
              <a:t>Термин «бальные» относится к парным непрофессиональным светским танцам, возникшим в средневековой Европе. Эти танцы очень сильно видоизменялись — любая эпоха европейской истории — Возрождение, Просвещение, классицизм, романтизм — порождала своеобразный танцевальный комплекс. На протяжении всего европейского культурного развития на бальный танец влияли самые разнообразные этнические источники, а также профессиональный танец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Bookman Old Style"/>
                <a:ea typeface="Calibri"/>
              </a:rPr>
              <a:t>Бальные танцы ХХ века сложились на основе европейского танца, в который на рубеже XIX—XX веков вдохнула новую жизнь африканская и латиноамериканская музыкальная и танцевальная культура. Громадное большинство современных бальных танцев имеют африканские «корни», уже хорошо замаскированные технической обработкой европейской танцевальной школы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comb dir="horz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57200" y="1412640"/>
            <a:ext cx="8229600" cy="49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1920-е годы в Англии при Императорским обществе учителей танцев возник специальный Совет по бальным танцам. Английские специалисты стандартизировали все известные к тому времени танцы — вальс, быстрый и медленный фокстроты, танго. Так возникли конкурсные танцы, и с тех пор бальный танец подразделился на два направления — спортивный и soсial dance. В 1930—1950-е годы число стандартных бальных танцев увеличилось за счет того, что к ним добавилось пять латиноамериканских танцев (в таком порядке: румба, самба, джайв, пасодобль, ча-ча-ча)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ейчас по спортивным танцам проводятся соревнования. Сформировалось три программы: европейская, латиноамериканская и так называемая «десятка», куда входят все десять танцев. Любительские чемпионаты мира проводятся под эгидой IDSF, а профессиональные — под покровительством английских танцевальных организаций. Наиболее престижными в мире продолжают оставаться английские конкурсы, в частности, UK Open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comb dir="horz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Прямоугольник 3"/>
          <p:cNvSpPr/>
          <p:nvPr/>
        </p:nvSpPr>
        <p:spPr>
          <a:xfrm>
            <a:off x="1547640" y="2492280"/>
            <a:ext cx="6480360" cy="35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Bookman Old Style"/>
                <a:ea typeface="Calibri"/>
              </a:rPr>
              <a:t>В Соединенных Штатах Америки сохраняется своеобразный национальный вариант как некоторых бальных танцев, так и проведения соревнований по ним. — «American Smooth» «American Rhythm»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Bookman Old Style"/>
                <a:ea typeface="Calibri"/>
              </a:rPr>
              <a:t>Слово «бал» пришло в русский язык из французского и происходит от латинского глагола ballare, который означает «танцевать». Из огромного разнообразия как элитных (историко-бытовых), так и народных танцев в группу бальных попали танцы, характеризующиеся следующими признаками.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Bookman Old Style"/>
                <a:ea typeface="Calibri"/>
              </a:rPr>
              <a:t>Все бальные танцы являются парными. Пару составляют кавалер и дама, танцующие с соблюдением точек контакта. В Европейской программе этот контакт более плотный. Он сохраняется в течение всего танца. В Латиноамериканской программе контакт более свободный, чаще всего осуществляется за счет соединенных рук и иногда может как вообще теряться, так и усиливаться за счет натяжения при исполнении фигур.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comb dir="horz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1"/>
          <p:cNvSpPr/>
          <p:nvPr/>
        </p:nvSpPr>
        <p:spPr>
          <a:xfrm>
            <a:off x="250920" y="1401480"/>
            <a:ext cx="41432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Bookman Old Style"/>
                <a:ea typeface="Calibri"/>
              </a:rPr>
              <a:t>Танцы европейской программы: 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Bookman Old Style"/>
                <a:ea typeface="Calibri"/>
              </a:rPr>
              <a:t>Медленный Вальс 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Bookman Old Style"/>
                <a:ea typeface="Calibri"/>
              </a:rPr>
              <a:t>Танго 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Bookman Old Style"/>
                <a:ea typeface="Calibri"/>
              </a:rPr>
              <a:t>Венский Вальс 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Bookman Old Style"/>
                <a:ea typeface="Calibri"/>
              </a:rPr>
              <a:t>Медленный Фокстрот 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Bookman Old Style"/>
                <a:ea typeface="Calibri"/>
              </a:rPr>
              <a:t>Квикстеп (быстрый Фокстрот) 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Bookman Old Style"/>
                <a:ea typeface="Calibri"/>
              </a:rPr>
              <a:t>Каждый из этих танцев характеризуется своим настроением и эмоциями, отличается исполняемыми фигурами, темпом и энергетикой движений. Медленный Вальс передает лирическое настроение, Танго выражает любовь и страсть, Венский Вальс напоминает нам о брызгах шампанского, Медленный Фокстрот демонстрирует любезную обходительность, а Квикстеп заставляет впомнить о веселых праздниках. Эту пятерку танцев европейской программы дама танцует в длинном приталенном платье, визуально ассоциирующимся с классическим бальным туалетом. Такое платье условно называется "стандарт" и обозначается буквами - St.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54" name="Picture 2" descr="C:\Documents and Settings\BOSS\Рабочий стол\г.jpeg"/>
          <p:cNvPicPr/>
          <p:nvPr/>
        </p:nvPicPr>
        <p:blipFill>
          <a:blip r:embed="rId2"/>
          <a:stretch/>
        </p:blipFill>
        <p:spPr>
          <a:xfrm>
            <a:off x="4572000" y="1341360"/>
            <a:ext cx="4214880" cy="5072040"/>
          </a:xfrm>
          <a:prstGeom prst="rect">
            <a:avLst/>
          </a:prstGeom>
          <a:ln w="76320">
            <a:solidFill>
              <a:srgbClr val="00ffff"/>
            </a:solidFill>
            <a:miter/>
          </a:ln>
        </p:spPr>
      </p:pic>
    </p:spTree>
  </p:cSld>
  <p:transition>
    <p:comb dir="horz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1" descr="C:\Documents and Settings\BOSS\Рабочий стол\73102a_d.jpg"/>
          <p:cNvPicPr/>
          <p:nvPr/>
        </p:nvPicPr>
        <p:blipFill>
          <a:blip r:embed="rId2"/>
          <a:stretch/>
        </p:blipFill>
        <p:spPr>
          <a:xfrm>
            <a:off x="2195640" y="4581360"/>
            <a:ext cx="6762600" cy="2009880"/>
          </a:xfrm>
          <a:prstGeom prst="rect">
            <a:avLst/>
          </a:prstGeom>
          <a:ln w="76320">
            <a:solidFill>
              <a:srgbClr val="00ffff"/>
            </a:solidFill>
            <a:miter/>
          </a:ln>
        </p:spPr>
      </p:pic>
      <p:pic>
        <p:nvPicPr>
          <p:cNvPr id="156" name="Picture 2" descr="C:\Documents and Settings\BOSS\Рабочий стол\73101a_b.jpg"/>
          <p:cNvPicPr/>
          <p:nvPr/>
        </p:nvPicPr>
        <p:blipFill>
          <a:blip r:embed="rId3"/>
          <a:stretch/>
        </p:blipFill>
        <p:spPr>
          <a:xfrm>
            <a:off x="539640" y="2060640"/>
            <a:ext cx="6400800" cy="2085840"/>
          </a:xfrm>
          <a:prstGeom prst="rect">
            <a:avLst/>
          </a:prstGeom>
          <a:ln w="76320">
            <a:solidFill>
              <a:srgbClr val="00ffff"/>
            </a:solidFill>
            <a:miter/>
          </a:ln>
        </p:spPr>
      </p:pic>
      <p:sp>
        <p:nvSpPr>
          <p:cNvPr id="157" name="Прямоугольник 5"/>
          <p:cNvSpPr/>
          <p:nvPr/>
        </p:nvSpPr>
        <p:spPr>
          <a:xfrm>
            <a:off x="3708360" y="1197000"/>
            <a:ext cx="2174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Bookman Old Style"/>
              </a:rPr>
              <a:t>Детская обувь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8" name="Прямоугольник 6"/>
          <p:cNvSpPr/>
          <p:nvPr/>
        </p:nvSpPr>
        <p:spPr>
          <a:xfrm>
            <a:off x="2857680" y="2500200"/>
            <a:ext cx="378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«Катрин»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9" name="Прямоугольник 7"/>
          <p:cNvSpPr/>
          <p:nvPr/>
        </p:nvSpPr>
        <p:spPr>
          <a:xfrm>
            <a:off x="3606840" y="5000760"/>
            <a:ext cx="289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«Кристина-блок»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comb dir="horz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2" descr="C:\Documents and Settings\BOSS\Рабочий стол\73102e_h.jpg"/>
          <p:cNvPicPr/>
          <p:nvPr/>
        </p:nvPicPr>
        <p:blipFill>
          <a:blip r:embed="rId2"/>
          <a:stretch/>
        </p:blipFill>
        <p:spPr>
          <a:xfrm>
            <a:off x="2340000" y="4508640"/>
            <a:ext cx="6514920" cy="1981080"/>
          </a:xfrm>
          <a:prstGeom prst="rect">
            <a:avLst/>
          </a:prstGeom>
          <a:ln w="76320">
            <a:solidFill>
              <a:srgbClr val="00ffff"/>
            </a:solidFill>
            <a:miter/>
          </a:ln>
        </p:spPr>
      </p:pic>
      <p:pic>
        <p:nvPicPr>
          <p:cNvPr id="161" name="Picture 3" descr="C:\Documents and Settings\BOSS\Рабочий стол\73101c_e.jpg"/>
          <p:cNvPicPr/>
          <p:nvPr/>
        </p:nvPicPr>
        <p:blipFill>
          <a:blip r:embed="rId3"/>
          <a:stretch/>
        </p:blipFill>
        <p:spPr>
          <a:xfrm>
            <a:off x="468360" y="1413000"/>
            <a:ext cx="6381720" cy="2076480"/>
          </a:xfrm>
          <a:prstGeom prst="rect">
            <a:avLst/>
          </a:prstGeom>
          <a:ln w="76320">
            <a:solidFill>
              <a:srgbClr val="00ffff"/>
            </a:solidFill>
            <a:miter/>
          </a:ln>
        </p:spPr>
      </p:pic>
      <p:sp>
        <p:nvSpPr>
          <p:cNvPr id="162" name="Прямоугольник 5"/>
          <p:cNvSpPr/>
          <p:nvPr/>
        </p:nvSpPr>
        <p:spPr>
          <a:xfrm>
            <a:off x="4788000" y="3789360"/>
            <a:ext cx="31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«Катрин-Классика»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3" name="Прямоугольник 6"/>
          <p:cNvSpPr/>
          <p:nvPr/>
        </p:nvSpPr>
        <p:spPr>
          <a:xfrm>
            <a:off x="3763800" y="5072040"/>
            <a:ext cx="223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«Санта-блок»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comb dir="horz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Прямоугольник 1"/>
          <p:cNvSpPr/>
          <p:nvPr/>
        </p:nvSpPr>
        <p:spPr>
          <a:xfrm>
            <a:off x="2916360" y="1052640"/>
            <a:ext cx="2371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Bookman Old Style"/>
              </a:rPr>
              <a:t>Мужская обувь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65" name="Picture 2" descr="C:\Documents and Settings\BOSS\Рабочий стол\91101 mlat.jpg"/>
          <p:cNvPicPr/>
          <p:nvPr/>
        </p:nvPicPr>
        <p:blipFill>
          <a:blip r:embed="rId2"/>
          <a:stretch/>
        </p:blipFill>
        <p:spPr>
          <a:xfrm>
            <a:off x="468360" y="1916280"/>
            <a:ext cx="6981840" cy="2247840"/>
          </a:xfrm>
          <a:prstGeom prst="rect">
            <a:avLst/>
          </a:prstGeom>
          <a:ln w="76320">
            <a:solidFill>
              <a:srgbClr val="00ffff"/>
            </a:solidFill>
            <a:miter/>
          </a:ln>
        </p:spPr>
      </p:pic>
      <p:pic>
        <p:nvPicPr>
          <p:cNvPr id="166" name="Picture 3" descr="C:\Documents and Settings\BOSS\Рабочий стол\92101 mst.jpg"/>
          <p:cNvPicPr/>
          <p:nvPr/>
        </p:nvPicPr>
        <p:blipFill>
          <a:blip r:embed="rId3"/>
          <a:stretch/>
        </p:blipFill>
        <p:spPr>
          <a:xfrm>
            <a:off x="1979640" y="4581360"/>
            <a:ext cx="6896160" cy="1990800"/>
          </a:xfrm>
          <a:prstGeom prst="rect">
            <a:avLst/>
          </a:prstGeom>
          <a:ln w="76320">
            <a:solidFill>
              <a:srgbClr val="00ffff"/>
            </a:solidFill>
            <a:miter/>
          </a:ln>
        </p:spPr>
      </p:pic>
      <p:sp>
        <p:nvSpPr>
          <p:cNvPr id="167" name="Прямоугольник 4"/>
          <p:cNvSpPr/>
          <p:nvPr/>
        </p:nvSpPr>
        <p:spPr>
          <a:xfrm>
            <a:off x="1214280" y="2714760"/>
            <a:ext cx="128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Bookman Old Style"/>
              </a:rPr>
              <a:t>«Фабио»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Прямоугольник 5"/>
          <p:cNvSpPr/>
          <p:nvPr/>
        </p:nvSpPr>
        <p:spPr>
          <a:xfrm>
            <a:off x="2987640" y="2997360"/>
            <a:ext cx="164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Bookman Old Style"/>
              </a:rPr>
              <a:t>«Фабио- К»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Прямоугольник 6"/>
          <p:cNvSpPr/>
          <p:nvPr/>
        </p:nvSpPr>
        <p:spPr>
          <a:xfrm>
            <a:off x="3967200" y="5786280"/>
            <a:ext cx="120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«Патрон»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comb dir="horz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" descr="C:\Documents and Settings\BOSS\Рабочий стол\92102_92103_92104 mst.jpg"/>
          <p:cNvPicPr/>
          <p:nvPr/>
        </p:nvPicPr>
        <p:blipFill>
          <a:blip r:embed="rId2"/>
          <a:stretch/>
        </p:blipFill>
        <p:spPr>
          <a:xfrm>
            <a:off x="395280" y="1413000"/>
            <a:ext cx="6715080" cy="1876320"/>
          </a:xfrm>
          <a:prstGeom prst="rect">
            <a:avLst/>
          </a:prstGeom>
          <a:ln w="76320">
            <a:solidFill>
              <a:srgbClr val="00ffff"/>
            </a:solidFill>
            <a:miter/>
          </a:ln>
        </p:spPr>
      </p:pic>
      <p:pic>
        <p:nvPicPr>
          <p:cNvPr id="171" name="Picture 3" descr="C:\Documents and Settings\BOSS\Рабочий стол\92105_92106_92107_mst.jpg"/>
          <p:cNvPicPr/>
          <p:nvPr/>
        </p:nvPicPr>
        <p:blipFill>
          <a:blip r:embed="rId3"/>
          <a:stretch/>
        </p:blipFill>
        <p:spPr>
          <a:xfrm>
            <a:off x="1835280" y="4292640"/>
            <a:ext cx="6991200" cy="2124000"/>
          </a:xfrm>
          <a:prstGeom prst="rect">
            <a:avLst/>
          </a:prstGeom>
          <a:ln w="76320">
            <a:solidFill>
              <a:srgbClr val="00ffff"/>
            </a:solidFill>
            <a:miter/>
          </a:ln>
        </p:spPr>
      </p:pic>
      <p:sp>
        <p:nvSpPr>
          <p:cNvPr id="172" name="Прямоугольник 3"/>
          <p:cNvSpPr/>
          <p:nvPr/>
        </p:nvSpPr>
        <p:spPr>
          <a:xfrm>
            <a:off x="2786040" y="4721400"/>
            <a:ext cx="45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«Патрон» для « Ча-ча-ча»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3" name="Прямоугольник 4"/>
          <p:cNvSpPr/>
          <p:nvPr/>
        </p:nvSpPr>
        <p:spPr>
          <a:xfrm>
            <a:off x="4859280" y="350028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«Оксфорд»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comb dir="horz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1"/>
          <p:cNvSpPr/>
          <p:nvPr/>
        </p:nvSpPr>
        <p:spPr>
          <a:xfrm>
            <a:off x="3203640" y="837000"/>
            <a:ext cx="214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Bookman Old Style"/>
                <a:ea typeface="Calibri"/>
              </a:rPr>
              <a:t>Женская обувь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5" name="Picture 2" descr="C:\Documents and Settings\BOSS\Рабочий стол\81105 e_f 81106.jpg"/>
          <p:cNvPicPr/>
          <p:nvPr/>
        </p:nvPicPr>
        <p:blipFill>
          <a:blip r:embed="rId2"/>
          <a:stretch/>
        </p:blipFill>
        <p:spPr>
          <a:xfrm>
            <a:off x="2124000" y="4437000"/>
            <a:ext cx="6610320" cy="2152800"/>
          </a:xfrm>
          <a:prstGeom prst="rect">
            <a:avLst/>
          </a:prstGeom>
          <a:ln w="76320">
            <a:solidFill>
              <a:srgbClr val="00ffff"/>
            </a:solidFill>
            <a:miter/>
          </a:ln>
        </p:spPr>
      </p:pic>
      <p:pic>
        <p:nvPicPr>
          <p:cNvPr id="176" name="Picture 4" descr="C:\Documents and Settings\BOSS\Рабочий стол\81101 st_lady.jpg"/>
          <p:cNvPicPr/>
          <p:nvPr/>
        </p:nvPicPr>
        <p:blipFill>
          <a:blip r:embed="rId3"/>
          <a:stretch/>
        </p:blipFill>
        <p:spPr>
          <a:xfrm>
            <a:off x="250920" y="1484280"/>
            <a:ext cx="6848280" cy="2104920"/>
          </a:xfrm>
          <a:prstGeom prst="rect">
            <a:avLst/>
          </a:prstGeom>
          <a:ln w="76320">
            <a:solidFill>
              <a:srgbClr val="00ffff"/>
            </a:solidFill>
            <a:miter/>
          </a:ln>
        </p:spPr>
      </p:pic>
      <p:sp>
        <p:nvSpPr>
          <p:cNvPr id="177" name="Прямоугольник 4"/>
          <p:cNvSpPr/>
          <p:nvPr/>
        </p:nvSpPr>
        <p:spPr>
          <a:xfrm>
            <a:off x="5072040" y="2857680"/>
            <a:ext cx="17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«Натали»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8" name="Прямоугольник 5"/>
          <p:cNvSpPr/>
          <p:nvPr/>
        </p:nvSpPr>
        <p:spPr>
          <a:xfrm>
            <a:off x="6500880" y="5786280"/>
            <a:ext cx="20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«Лада»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9" name="Прямоугольник 6"/>
          <p:cNvSpPr/>
          <p:nvPr/>
        </p:nvSpPr>
        <p:spPr>
          <a:xfrm>
            <a:off x="2214720" y="5786280"/>
            <a:ext cx="310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Constantia"/>
              </a:rPr>
              <a:t>«</a:t>
            </a: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Роксолана»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95280" y="411840"/>
            <a:ext cx="7812000" cy="581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man Old Style"/>
                <a:ea typeface="Calibri"/>
              </a:rPr>
              <a:t> </a:t>
            </a:r>
            <a:r>
              <a:rPr b="0" lang="en-US" sz="1600" spc="-1" strike="noStrike">
                <a:solidFill>
                  <a:srgbClr val="000000"/>
                </a:solidFill>
                <a:latin typeface="Bookman Old Style"/>
                <a:ea typeface="Calibri"/>
              </a:rPr>
              <a:t>Каждый год в разных странах устраиваются мировые чемпионаты, в которых соревнуются команды со всего мира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man Old Style"/>
                <a:ea typeface="Calibri"/>
              </a:rPr>
              <a:t> </a:t>
            </a:r>
            <a:r>
              <a:rPr b="0" lang="en-US" sz="1600" spc="-1" strike="noStrike">
                <a:solidFill>
                  <a:srgbClr val="000000"/>
                </a:solidFill>
                <a:latin typeface="Bookman Old Style"/>
                <a:ea typeface="Calibri"/>
              </a:rPr>
              <a:t>Прежде всего бальные танцы дают умственную и физическую разгрузку, и в этом плане с ними ничто не сравнится. При серьезном подходе они могут дать молодому человеку такую физическую нагрузку, какую он только пожелает; более зрелым танцовщикам танцы позволяют получить вполне эффективную нагрузку без излишнего переутомления; деловым мужчинам и женщинам они обеспечивают умственную релаксацию, которая столь необходима для физического здоровья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man Old Style"/>
                <a:ea typeface="Calibri"/>
              </a:rPr>
              <a:t> </a:t>
            </a:r>
            <a:r>
              <a:rPr b="0" lang="en-US" sz="1600" spc="-1" strike="noStrike">
                <a:solidFill>
                  <a:srgbClr val="000000"/>
                </a:solidFill>
                <a:latin typeface="Bookman Old Style"/>
                <a:ea typeface="Calibri"/>
              </a:rPr>
              <a:t>Приемлемый уровень подготовки достигается без особых сложностей и труда, а дополнительное удовольствие от правильного исполнения нескольких простых шагов, хорошей осанки и чувства равновесия полностью компенсируют все время, потраченное на обучение танцу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  <a:ea typeface="Calibri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  <a:ea typeface="Calibri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nstantia"/>
                <a:ea typeface="Calibri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nstantia"/>
                <a:ea typeface="Calibri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nstantia"/>
                <a:ea typeface="Calibri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nstantia"/>
                <a:ea typeface="Calibri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  <a:ea typeface="Calibri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comb dir="horz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2" descr="C:\Documents and Settings\BOSS\Рабочий стол\81105 a_d st_lady.jpg"/>
          <p:cNvPicPr/>
          <p:nvPr/>
        </p:nvPicPr>
        <p:blipFill>
          <a:blip r:embed="rId2"/>
          <a:stretch/>
        </p:blipFill>
        <p:spPr>
          <a:xfrm>
            <a:off x="468360" y="1125360"/>
            <a:ext cx="6686640" cy="2086200"/>
          </a:xfrm>
          <a:prstGeom prst="rect">
            <a:avLst/>
          </a:prstGeom>
          <a:ln w="76320">
            <a:solidFill>
              <a:srgbClr val="00ffff"/>
            </a:solidFill>
            <a:miter/>
          </a:ln>
        </p:spPr>
      </p:pic>
      <p:pic>
        <p:nvPicPr>
          <p:cNvPr id="181" name="Picture 3" descr="C:\Documents and Settings\BOSS\Рабочий стол\81102_81103_81104 st_lady.jpg"/>
          <p:cNvPicPr/>
          <p:nvPr/>
        </p:nvPicPr>
        <p:blipFill>
          <a:blip r:embed="rId3"/>
          <a:stretch/>
        </p:blipFill>
        <p:spPr>
          <a:xfrm>
            <a:off x="1835280" y="4292640"/>
            <a:ext cx="6762600" cy="2104920"/>
          </a:xfrm>
          <a:prstGeom prst="rect">
            <a:avLst/>
          </a:prstGeom>
          <a:ln w="76320">
            <a:solidFill>
              <a:srgbClr val="00ffff"/>
            </a:solidFill>
            <a:miter/>
          </a:ln>
        </p:spPr>
      </p:pic>
      <p:sp>
        <p:nvSpPr>
          <p:cNvPr id="182" name="Прямоугольник 3"/>
          <p:cNvSpPr/>
          <p:nvPr/>
        </p:nvSpPr>
        <p:spPr>
          <a:xfrm>
            <a:off x="1486440" y="5286240"/>
            <a:ext cx="12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«Натали»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3" name="Прямоугольник 4"/>
          <p:cNvSpPr/>
          <p:nvPr/>
        </p:nvSpPr>
        <p:spPr>
          <a:xfrm>
            <a:off x="3480120" y="5286240"/>
            <a:ext cx="125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«Николь»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4" name="Прямоугольник 5"/>
          <p:cNvSpPr/>
          <p:nvPr/>
        </p:nvSpPr>
        <p:spPr>
          <a:xfrm>
            <a:off x="3768120" y="3500280"/>
            <a:ext cx="135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«Барбара»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5" name="Прямоугольник 6"/>
          <p:cNvSpPr/>
          <p:nvPr/>
        </p:nvSpPr>
        <p:spPr>
          <a:xfrm>
            <a:off x="5208840" y="5300640"/>
            <a:ext cx="163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«Маргарита»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Прямоугольник 7"/>
          <p:cNvSpPr/>
          <p:nvPr/>
        </p:nvSpPr>
        <p:spPr>
          <a:xfrm>
            <a:off x="6919920" y="528624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«Татьяна»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comb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332000" y="1557360"/>
            <a:ext cx="6624720" cy="20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История бальных танцев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comb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1"/>
          <p:cNvSpPr/>
          <p:nvPr/>
        </p:nvSpPr>
        <p:spPr>
          <a:xfrm>
            <a:off x="324000" y="1131480"/>
            <a:ext cx="8028000" cy="51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Bookman Old Style"/>
                <a:ea typeface="Calibri"/>
              </a:rPr>
              <a:t>Бальные танцы ХХ века сложились на основе европейского танца, в который на рубеже XIX—XX веков вдохнула новую жизнь африканская и латиноамериканская музыкальная и танцевальная культура. Громадное большинство современных бальных танцев имеют африканские «корни», уже хорошо замаскированные технической обработкой европейской танцевальной школы.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Bookman Old Style"/>
                <a:ea typeface="Calibri"/>
              </a:rPr>
              <a:t>В 1920-е годы в Англии при Императорским обществе учителей танцев возник специальный Совет по бальным танцам. Английские специалисты стандартизировали все известные к тому времени танцы — вальс, быстрый и медленный фокстроты, танго. Так возникли конкурсные танцы, и с тех пор бальный танец подразделился на два направления — спортивный и soсial dance. В 1930—1950-е годы число стандартных бальных танцев увеличилось за счет того, что к ним добавилось пять латиноамериканских танцев (в таком порядке: румба, самба, джайв, пасодобль, ча-ча-ча).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Bookman Old Style"/>
                <a:ea typeface="Calibri"/>
              </a:rPr>
              <a:t>С середины XIX в. самым популярным бальным танцем стал вальс. 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Bookman Old Style"/>
                <a:ea typeface="Calibri"/>
              </a:rPr>
              <a:t>В конце XIX-начале XX вв. значительное влияние на развитие бального танца оказали страны Северной и Южной Америки. Появились тустеп, уанстеп, блюз, фокстрот, квикстеп, чарльстон и другие, затем бостон, танго, а после первой мировой войны- румба, самба. Для современного бального танца характерна импровизация, танцующие свободно варьируют бальные па. Со второй половины XX в. интерес к импровизационным бальным танцам значительно возрос. 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Bookman Old Style"/>
                <a:ea typeface="Calibri"/>
              </a:rPr>
              <a:t>Большинство бальных танцев 60-70-х гг. - танцы свободной композиции (твист и другие). 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onstantia"/>
                <a:ea typeface="Calibri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comb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1403280" y="1844640"/>
            <a:ext cx="5973840" cy="20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Танцевальные ритмы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вселенной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comb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1"/>
          <p:cNvSpPr/>
          <p:nvPr/>
        </p:nvSpPr>
        <p:spPr>
          <a:xfrm>
            <a:off x="684360" y="583200"/>
            <a:ext cx="7777080" cy="63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Bookman Old Style"/>
                <a:ea typeface="Calibri"/>
              </a:rPr>
              <a:t>Прошло много веков, мир неузнаваемо изменился, а человек продолжает танцевать. Почему? Организм - сложнейшая саморегулирующаяся система. Помимо множества других физиологических факторов большое значение для его жизнедеятельности имеет ритмичность. Все внутренние органы и психические процессы функционируют в определенном ритме. Движение Природы - живой и неживой, макро- и микрокосмоса - тоже подчиняется определенному ритму. Человек - часть Вселенной, и потому для него обязательны законы ее существования. Мы можем в течение многих лет ни разу не взглянуть на звездное небо, не подозревать о существовании некоторых планет, но тем не менее испытываем их влияние (например, всем известно, как полнолуние действует на самочувствие и настроение). И чем больше наш внутренний ритм будет соответствовать ритму Природы, тем более гармоничным станет наше бытие. Это хорошо понимали в древности. Наши предки танцевали, когда хотели слиться с природой, энергетически подпитаться от нее. Последователь суфизма Хазрат Инайят Хан писал: "Здоровье есть состояние совершенного ритма и тона. Музыка есть ритм и тон. Когда здоровье не в порядке, это значит, что музыка в нас неправильна, необходима помощь гармонии и ритма, чтобы привести нас в состояние Гармонии и Ритма". Танец дарит человеку здоровье, понимаемое не как отсутствие болезненных ощущений, а как полнота и естественность жизни, как самореализация. Но - это и прекрасный лекарь. Он способствует уменьшению локального мышечного напряжения - так называемых зажимов. Различные движения, вращения, прыжки заставляют напрягаться все мышцы. Одновременно происходит тренировка равновесия и дыхания, улучшаются подвижность и осанка. Любые танцы учат владеть своим телом, помогают скорректировать фигуру. (Современные танцы сжигают 300 ккал за полчаса, балет, бальные танцы и чечетка - 200, народные -225.)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comb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1908000" y="1557360"/>
            <a:ext cx="5518440" cy="2352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«ПОЛ ДЖОНС»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4T18:06:19Z</dcterms:created>
  <dc:creator>c400</dc:creator>
  <dc:description/>
  <dc:language>en-US</dc:language>
  <cp:lastModifiedBy>МОНа</cp:lastModifiedBy>
  <dcterms:modified xsi:type="dcterms:W3CDTF">2009-02-24T05:31:55Z</dcterms:modified>
  <cp:revision>15</cp:revision>
  <dc:subject/>
  <dc:title>Слайд 1</dc:title>
</cp:coreProperties>
</file>