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33A6-A736-4F02-87B8-29DE2D48E1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21B3-12B3-4E5F-84E6-D2954164CC7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984-D7EF-48D8-A286-A3075F0E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166-D923-4CB3-BF28-656C4282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ABF-297E-4A71-AFC4-58DEB713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A708-9B2C-4A3A-BC09-E01FEEA1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B65C-8B17-4951-8EED-793045B2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9F8D-2DD2-41AD-9DD9-25FC4B20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FFED-0651-4558-BCFB-B8AA2BCD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003E-1D67-4ECA-8067-E06B0502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02AB-0F98-4F12-AD61-E25E33E5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CAC9-689B-431A-AACF-01ACF8E1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FA1F-2C59-480C-A9D9-9A7465D6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DEF4-10C3-4C08-B193-39F5D022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22A5-5194-47D3-B7BB-C401A81A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3F1A-61B5-4B17-91A5-41CBEE20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163B-7985-411C-B82A-177CFC97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EC51-4A74-49FF-A6AB-40277D83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5F15-6802-41B5-A176-8A56F8DD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4F7-AF61-41A9-A5FC-C4B2E7C3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B5C-E6ED-4B8D-BFEA-4C6CADE4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33A-E011-48B6-B7D2-AED231B2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BCE-48B8-46EE-BB41-DFE99361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487-0F21-452E-964A-491ED3EF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EBC-E22A-4CE3-B458-B21F7BA8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0862-19F6-4E68-A2A3-B3F2BA9E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9E51-B253-46B4-B80B-1B7C34E0D4D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216A-0722-41B6-BB21-FDA3F186967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0" y="7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ookman Old Style"/>
                <a:ea typeface="Calibri"/>
              </a:rPr>
              <a:t>Негосударственное образовательное учреждение средняя общеобразовательная школа с углубленным изучением гуманитарных предметов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429080" y="474732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580200" y="6093000"/>
            <a:ext cx="102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Г.Сургут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2008 год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5" name="Picture 5" descr="C:\Documents and Settings\BOSS\Рабочий стол\index.jpg"/>
          <p:cNvPicPr/>
          <p:nvPr/>
        </p:nvPicPr>
        <p:blipFill>
          <a:blip r:embed="rId2"/>
          <a:stretch/>
        </p:blipFill>
        <p:spPr>
          <a:xfrm>
            <a:off x="4427640" y="692280"/>
            <a:ext cx="4464000" cy="420660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sp>
        <p:nvSpPr>
          <p:cNvPr id="106" name=""/>
          <p:cNvSpPr txBox="1"/>
          <p:nvPr/>
        </p:nvSpPr>
        <p:spPr>
          <a:xfrm>
            <a:off x="179280" y="692280"/>
            <a:ext cx="4032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ворческий проек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теме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Бальные танцы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508720" y="5373720"/>
            <a:ext cx="349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ыполнила: Чебышева Алёна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ила: Михеева Ольга Богдановн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250920" y="493560"/>
            <a:ext cx="510696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Этот является одним из самых популярных нововведений в Англии, он часто исполняется на светских вечерах, потому что обмен партнерами создает дружескую атмосферу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Описание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Музыкальный конфераньсе, диджей или руководитель оркестровой группы объявляет «Пол Джонс», затем музыканты исполняют бодрую мелодию. Танцоры образуют большой круг: кавалеры становятся внутрь, лицом наружу, дамы образуют внешнее кольцо, лицом внутрь, то есть к кавалерам. Взявшись за руки, каждое кольцо танцоров начинает двигаться вправо, таким образом, они идут в противоположных направлениях. Когда музыка прерывается, кавалер приглашает даму, стоящую прямо перед ним, и начинает танцевать. Затем музыкантам необходимо сделать небольшую паузу, чтобы позволить кавалерам вывести своих партнерш, после чего они играют вальс, квикстеп, фокстрот и т.п., подборку разнохарактерных мелодий или латиноамериканский . После исполнения приблизительно 32 тактов музыка останавливается, вновь образуются круги, и продолжается, как описано выше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Иногда желательно начать исполнением вальса или квикстепа, а затем, когда все танцующие выйдут на танцпол, объявить «Пол Джонс» и немедленно сделать перерыв для приглашающей мелодии. Тогда можно быть уверенным, что все пары примут участие в танце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7" name="Picture 2" descr="C:\Documents and Settings\BOSS\Рабочий стол\н.jpeg"/>
          <p:cNvPicPr/>
          <p:nvPr/>
        </p:nvPicPr>
        <p:blipFill>
          <a:blip r:embed="rId2"/>
          <a:stretch/>
        </p:blipFill>
        <p:spPr>
          <a:xfrm>
            <a:off x="5715000" y="351000"/>
            <a:ext cx="3000240" cy="22525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18" name="Picture 5" descr="C:\Documents and Settings\BOSS\Рабочий стол\77.jpeg"/>
          <p:cNvPicPr/>
          <p:nvPr/>
        </p:nvPicPr>
        <p:blipFill>
          <a:blip r:embed="rId3"/>
          <a:stretch/>
        </p:blipFill>
        <p:spPr>
          <a:xfrm>
            <a:off x="5715000" y="2928960"/>
            <a:ext cx="2928960" cy="32241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611280" y="998280"/>
            <a:ext cx="784836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Быстрый темп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Медленный темп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Ритмичные танцы — название, присвоенное определенному типу танцев, которые обычно исполняются в переполненном танцевальном зале. Конечно, они существуют уже много лет, их часто называют «танцы в давке». Среди фигур, используемых в танцах этого типа, нет ни одной новой, они лишь были стандартизованы в качестве руководства для кандидатов на участие в любительских соревнованиях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Следует заметить, что многие похожие фигуры описаны в разделе «Квикстеп» данной книги, однако теперь не нужно пытаться придерживаться строгих правил выравнивания, которые столь </a:t>
            </a:r>
            <a:r>
              <a:rPr b="1" lang="ru-RU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необходимы</a:t>
            </a: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 в этом танце. Очень часто фигуры приходится исполнять, используя минимум движений и практически без перемещения вперед; поэтому желательно попрактиковаться в исполнении таких фигур, как натуральный пивот и обратный шассе-поворот на площадке в форме квадрата, вообще не перемещаясь вдоль помещения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Для этих фигур наиболее важна манера выражения ритма, поскольку выполнение набора основных фигур при полном отсутствии движения и вращения корпуса может показаться очень скучным. Опытный танцор с врожденным чувством ритма исполняет фигуры с помощью различных типов ритма. Едва ли не самым популярным и, возможно, самым простым в изучении для новичков является чарльстон; восприятие этого утонченного ритма очень важно, если танцор стремится полностью овладеть ритмичными танцами. Чарльстон можно изучить достаточно быстро, если потренироваться на следующих упражнениях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Начните, поставив стопы вместе, колени немного расслаблен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че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делайте небольшой боковой шаг ЛС — колени прямые . 1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Расслабьте немного колени . 2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Закройте ПС к ЛС без переноса веса тела — колени прямые . 3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Расслабьте немного колени . 4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делайте небольшой боковой шаг ПС — колени прямые . 1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Немного расслабьте колени . 2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Закройте ЛС к ПС без переноса веса тела . 3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Расслабьте немного колени . 4 Затем шагните в сторону ЛС и повторите 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"/>
          <p:cNvSpPr/>
          <p:nvPr/>
        </p:nvSpPr>
        <p:spPr>
          <a:xfrm>
            <a:off x="468360" y="189000"/>
            <a:ext cx="752472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Попрактиковавшись в выполнении этого движения, танцор должен уделять чуть больше времени 1 -й и 3-й доле в каждом такте. Таким образом боковой шаг и закрытие будут выдерживаться достаточно твердо, а последовательное расслабление коленей выполняться достаточно резко. Если этого не сделать, возникнет упорное стремление сгибать их каждый раз при выполнении шага в сторону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После освоения ритма чарльстона эти движения следует выполнять значительно мягче, поскольку использовать отрывистые (или стаккато) движения чальстона в ритмичных танцах — не самый лучший способ. При использовании чарльсона в качестве прогрессивной фигуры следует поочередно выводить ПС вперед, а ЛС — в сторону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Повышение и понижение. В ритмичных танцах повышения не применяются, вместо этого используется расслабление и напряжение коленей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Приведем стандартные фигуры как для быстрых, так и для медленных ритмичных танцев вместе с небольшими замечаниями по их применению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2" name="Picture 1" descr="C:\Documents and Settings\BOSS\Рабочий стол\г.jpeg"/>
          <p:cNvPicPr/>
          <p:nvPr/>
        </p:nvPicPr>
        <p:blipFill>
          <a:blip r:embed="rId2"/>
          <a:stretch/>
        </p:blipFill>
        <p:spPr>
          <a:xfrm>
            <a:off x="2411280" y="4221000"/>
            <a:ext cx="4213440" cy="24624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611280" y="2180520"/>
            <a:ext cx="7775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  <a:ea typeface="Calibri"/>
              </a:rPr>
              <a:t>Этот современный можно было бы назвать «танцем радости», потому что его основные фигуры весьма просты, а темп музыки и характер танца в целом, кажется, словно приглашают к беззаботной интерпретации его яркого ритма. Новички увидят, насколько легко изучить его основные шаги и насколько просто они соответствуют музыке. А опытный танцор обнаружит, что музыка располагает к бесконечному разнообразию шагов. Большинство видов спорта и другие способы проведения досуга потребуют от вас углубленных знаний и основательной работы, прежде чем вы сможете развлечься всевозможными «ненужными украшениями» для собственного удовольствия. Танцор, овладевший основами квикстепа, будет иметь в распоряжении , который никогда не потеряет свежесть и который, бесспорно, является воплощением наиболее привлекательного ритма из всех когда-либо известных миру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050920" y="836640"/>
            <a:ext cx="4681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викстеп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Ритм. 4/4. Четыре доли в такте. 1-я и 3-я доля акцентированы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Темп. Музыка должна исполняться со скоростью 50 тактов в минуту, хотя на любительских испытаниях разрешается небольшая свобода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Основные ритмы. Фигуры состоят из комбинаций «медленного» и «быстрого» ритмов. Каждая «медленная» часть исполняется на 2 счета музыки, «быстрая» — на 1 счет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Для новичка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Главные фигуры квикстепа — основной шаг и шассе, последняя фигура обычно включается в основные фигуры как составная часть. Предлагаем следующий порядок изучения основных фигур, которые должны быть полезными для новичка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осле основного шага: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Четвертные повороты. Их следует изучить сначала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Натуральный поворот. Он является превосходной основой для других фигур и должен быть изучен прежде натурального пивота, который в качестве альтернативного используется на углах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рогрессивное шассе и замковый шаг вперед. Эти две фигуры по популярности уступают лишь вышеупомянутым, и желательно изучить их во вторую очередь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Обратные повороты. Среди обратных поворотов особенно полезен шассе-поворот; он компактен и его легко выполнять, когда танцы проходят в переполненном помещении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Более подробные детали соединения этих фигур и введения других фигур даются после описаний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484360" y="1844640"/>
            <a:ext cx="4635720" cy="204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АЛЬ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1116000" y="208800"/>
            <a:ext cx="73436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Шаги современного вальса, по всей видимости, являются наиболее легкими для изучения среди танцев нашего времени. Однако шаги — ни в коем случае не самая важная особенность современного танца: танцор должен обратить весьма пристальное внимание на некоторые другие детали, прежде чем сможет понять секрет восхитительной ритмичной походки и живости этого танца. Правильное использование противоположных движений корпуса, в результате которых тело совершает легкие мерные повороты, правильное расслабление и выпрямление коленей в сочетании с подъемами и управление применением покачиваний корпуса — все это играет свою роль в создании танца с его непрерывным течением ритмичных, плавных движений. Элементы вальса рассматриваются в соответствующих разделах, их следует изучить после того, как будут усвоены основные принципы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8" name="Picture 2" descr="C:\Documents and Settings\BOSS\Рабочий стол\жж.jpeg"/>
          <p:cNvPicPr/>
          <p:nvPr/>
        </p:nvPicPr>
        <p:blipFill>
          <a:blip r:embed="rId2"/>
          <a:stretch/>
        </p:blipFill>
        <p:spPr>
          <a:xfrm>
            <a:off x="6156360" y="3789360"/>
            <a:ext cx="2328840" cy="28447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29" name="Picture 3" descr="C:\Documents and Settings\BOSS\Рабочий стол\н.jpeg"/>
          <p:cNvPicPr/>
          <p:nvPr/>
        </p:nvPicPr>
        <p:blipFill>
          <a:blip r:embed="rId3"/>
          <a:stretch/>
        </p:blipFill>
        <p:spPr>
          <a:xfrm>
            <a:off x="539640" y="3933720"/>
            <a:ext cx="3929040" cy="26607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268360" y="1484280"/>
            <a:ext cx="4443480" cy="17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АНГ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5280" y="1557360"/>
            <a:ext cx="5486400" cy="324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альные танцы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179280" y="334440"/>
            <a:ext cx="56055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Средний англичанин воспринимает танго как необыкновенно эксцентричный , и, вероятнее всего, считает, что им предельно трудно овладеть. На самом деле движения танго освоить гораздо проще, чем шаги квикстепа и фокстрота, но есть в «стиле» и «характере» танго нечто ускользающее — то, что обычно называют «атмосферой» тан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Английские танцоры пытаются передать эту «атмосферу» введением неестественных и достаточно судорожных объятий в сочетании с очень расслабленными движениями, в конце концов представляет собой нечто одновременно устрашающее и неуклюжее. Введение большого числа движений стаккато значительно оживляет , и хотя стремление злоупотреблять ими вызывает определенную долю критики, подобные влияния сохраняютс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Музыка танго сама по себе настолько привлекательна, что средний танцор получает хорошее вознаграждение за время, потраченное на изучение нескольких простых основных фигур. Сильные танцоры, которые побеспокоились о том, чтобы проникнуться ускользающей атмосферой танго, получат подлинное удовольствие от правильной интерпретации, несомненно, одного из самых очаровательных танцевальных ритмов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2" name="Picture 2" descr="C:\Documents and Settings\BOSS\Рабочий стол\ш.jpeg"/>
          <p:cNvPicPr/>
          <p:nvPr/>
        </p:nvPicPr>
        <p:blipFill>
          <a:blip r:embed="rId2"/>
          <a:stretch/>
        </p:blipFill>
        <p:spPr>
          <a:xfrm>
            <a:off x="5940360" y="1197000"/>
            <a:ext cx="2948040" cy="4437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484360" y="1916280"/>
            <a:ext cx="419760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вана.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3"/>
          <p:cNvSpPr/>
          <p:nvPr/>
        </p:nvSpPr>
        <p:spPr>
          <a:xfrm>
            <a:off x="468360" y="692280"/>
            <a:ext cx="4500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Это танец, распространенный в XVI в. в Европе. По одной из версий, павана, или падуана, появилась в г. Падуя, по другой - танец испанского происхождения, наименование которого - от латинского pavo (павлин) - связано с торжественным и горделивым характером танца. В начале XVI в. павана стала одним из самых популярных придворных танцев. Для паваны характерны четкость строения, нередко квадратность метроритмической структуры, преимущественно аккордовое изложение, иногда расцвеченное пассажами. Музыкальный размер 4/4, 4/2, темп медленный. Со второй половины XVI в. до конца XVII в. павана существовала как самостоятельная инструментальная пьеса. Нередко объединялась в сюитное последование с бысгрыми трехдольными танцами - гальярдой, сальтарелло, пивой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5" name="Picture 1" descr="C:\Documents and Settings\BOSS\Рабочий стол\к.jpeg"/>
          <p:cNvPicPr/>
          <p:nvPr/>
        </p:nvPicPr>
        <p:blipFill>
          <a:blip r:embed="rId2"/>
          <a:stretch/>
        </p:blipFill>
        <p:spPr>
          <a:xfrm>
            <a:off x="5508720" y="1052640"/>
            <a:ext cx="2868480" cy="42987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484360" y="1989000"/>
            <a:ext cx="4424400" cy="240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спье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214200" y="142920"/>
            <a:ext cx="8750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Это старинный французский танец, возникший, по-видимому, в Северной Бретани. В народном быту музыка танца исполнялась на волынке или пелась. С середины XVII в. паспье стал придворным танцем. Музыкальный размер придворного паспье 3/4 или 3/8, начинается с затакта. Паспье близок к менуэту, но исполнялся в более быстром темпе. Включался в инструментальную сюиту между ее основными танцевальными частями (обычно между сарабандой и жигой)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8" name="Picture 2" descr="C:\Documents and Settings\BOSS\Рабочий стол\6.jpeg"/>
          <p:cNvPicPr/>
          <p:nvPr/>
        </p:nvPicPr>
        <p:blipFill>
          <a:blip r:embed="rId2"/>
          <a:stretch/>
        </p:blipFill>
        <p:spPr>
          <a:xfrm>
            <a:off x="5732640" y="2492280"/>
            <a:ext cx="3027240" cy="38736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39" name="Picture 4" descr="C:\Documents and Settings\BOSS\Рабочий стол\к.jpeg"/>
          <p:cNvPicPr/>
          <p:nvPr/>
        </p:nvPicPr>
        <p:blipFill>
          <a:blip r:embed="rId3"/>
          <a:stretch/>
        </p:blipFill>
        <p:spPr>
          <a:xfrm>
            <a:off x="971640" y="2492280"/>
            <a:ext cx="2625480" cy="39355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916360" y="1989000"/>
            <a:ext cx="4608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к-н-ролл.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755640" y="456840"/>
            <a:ext cx="7743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Calibri"/>
              </a:rPr>
              <a:t>Это песенно-танцевальная форма, возникшая в США в начале 1950-х гг. В основе рок-н-ролла - упрощенный вариант негритянской танцевальной бытовой музыки "ритм-энд-блюз" в сочетании с элементами "кантри-энд-вестерн", "буги вуги" и стиля диксиленд. Рок-н-ролл дал жизнь новым танцевальным жанрам рубежа 50-60-х гг. (твист, шейк, мэдисон, джайв)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2" name="Picture 3" descr="C:\Documents and Settings\BOSS\Рабочий стол\55.jpeg"/>
          <p:cNvPicPr/>
          <p:nvPr/>
        </p:nvPicPr>
        <p:blipFill>
          <a:blip r:embed="rId2"/>
          <a:stretch/>
        </p:blipFill>
        <p:spPr>
          <a:xfrm>
            <a:off x="5435640" y="2492280"/>
            <a:ext cx="3157560" cy="39830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43" name="Picture 4" descr="C:\Documents and Settings\BOSS\Рабочий стол\99.jpeg"/>
          <p:cNvPicPr/>
          <p:nvPr/>
        </p:nvPicPr>
        <p:blipFill>
          <a:blip r:embed="rId3"/>
          <a:stretch/>
        </p:blipFill>
        <p:spPr>
          <a:xfrm>
            <a:off x="1071720" y="2500200"/>
            <a:ext cx="2928960" cy="40039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771640" y="1557360"/>
            <a:ext cx="386712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умба.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324000" y="730080"/>
            <a:ext cx="4968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Это афро-американский песенно-танцевальный жанр. Современная румба сложилась на Кубе в среде городских и отчасти сельских негров. Румба включает пение солиста, реплики хора и собственно танец (мимико-акробатический импровизированный) под аккомпанемент ударных и шумовых инструментов. Танец исполняется парой или солистом в центре круга зрителей и музыкантов. В музыкальном отношении представляет собой многократное повторение, обычно вариантное, 8-тактового периода. Музыкальный размер двудольный, ритм остросинкопированный, с акцентами на слабых долях такта, темп от умеренно подвижного до быстрого. В конце 1920-х гг. румба получила распространение в США и странах Европы как эстрадно-бытовой танец. Разновидности румбы - иамбу, гуагуанко, колумбия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6" name="Picture 2" descr="C:\Documents and Settings\BOSS\Рабочий стол\66.jpeg"/>
          <p:cNvPicPr/>
          <p:nvPr/>
        </p:nvPicPr>
        <p:blipFill>
          <a:blip r:embed="rId2"/>
          <a:stretch/>
        </p:blipFill>
        <p:spPr>
          <a:xfrm>
            <a:off x="5796000" y="1341360"/>
            <a:ext cx="2908440" cy="40878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771640" y="1700280"/>
            <a:ext cx="3646800" cy="17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анго.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альные танцы — группа парных танцев, которые танцуются в специальных помещениях.</a:t>
            </a:r>
            <a:endParaRPr b="0" lang="en-US" sz="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ртивные бальные танцы делятся на 2 программы: европейскую и латиноамериканскую. В европейскую программу входят: медленный вальс, танго, венский вальс, медленный фокстрот и квикстеп (быстрый фокстрот). В латиноамериканскую: самба, ча-ча-ча, румба, пасодобль и джайв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альные танцы пользуются огромной популярностью, по ним проводятся турниры по всему миру. Бальные танцы — группа парных танцев, которые танцуются в специальных помещениях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ртивные бальные танцы делятся на 2 программы: европейскую и латиноамериканскую. В европейскую программу входят: медленный вальс, танго, венский вальс, медленный фокстрот и квикстеп (быстрый фокстрот). В латиноамериканскую: самба, ча-ча-ча, румба, пасодобль и джайв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альные танцы пользуются огромной популярностью, по ним проводятся турниры по всему миру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рмин «бальные» относится к парным непрофессиональным светским танцам, возникшим в средневековой Европе. Эти танцы очень сильно видоизменялись — любая эпоха европейской истории — Возрождение, Просвещение, классицизм, романтизм — порождала своеобразный танцевальный комплекс. На протяжении всего европейского культурного развития на бальный танец влияли самые разнообразные этнические источники, а также профессиональный танец. Международный авторитет, достигнутый без особой пропаганды, является естественным результатом признания современных бальных танцев в качестве великолепного вида спорта и развлечения. Соревнования в этом виде спорта вызывают интерес практически во всех странах мира, а уровень танцевальной подготовки достаточно высок, чтобы бросить вызов лучшим английским танцорам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рмин «бальные» относится к парным непрофессиональным светским танцам, возникшим в средневековой Европе. Эти танцы очень сильно видоизменялись — любая эпоха европейской истории — Возрождение, Просвещение, классицизм, романтизм — порождала своеобразный танцевальный комплекс. На протяжении всего европейского культурного развития на бальный танец влияли самые разнообразные этнические источники, а также профессиональный танец. Международный авторитет, достигнутый без особой пропаганды, является естественным результатом признания современных бальных танцев в качестве великолепного вида спорта и развлечения. Соревнования в этом виде спорта вызывают интерес практически во всех странах мира, а уровень танцевальной подготовки достаточно высок, чтобы бросить вызов лучшим английским танцорам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3"/>
          <p:cNvSpPr/>
          <p:nvPr/>
        </p:nvSpPr>
        <p:spPr>
          <a:xfrm>
            <a:off x="3924360" y="189000"/>
            <a:ext cx="50418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1) Андалусийское танго - шуточная, иногда сатирическая уличная песенка, популярная в Севилье в 1850-80-х гг. Андалусийское танго имеет общие черты с кубинской хабанерой, распространившейся в Испании около середины XIX в. В конце 1870 - начале 1880-х гг. андалусийское танго проникло в Аргентину. 2) Креольское танго, или танго портеньо (tango porteno, то есть буэносайресское танго ), возникло в Буэнос-Айресе и его пригородах в 1880-х гг. от смешения мелодических и ритмических элементов андалусийского танго, кубинской хабанеры и аргентинской милонги. Поначалу было песней, в конце 1880-х - начале 1890-х гг. приобрело хореографию, близкую хабанере и милонге, превратившись в парный танец типа контрданса. 3) Аргентинское танго - парный танец, сложившийся в Буэнос-Айресе в конце 1890-х гг. в результате изменения хореографии креольского танго. В 1910 аргентинское танго проникло в Париж (где и получило название "аргентинское танго"), откуда, усовершенствованное хореографами, распространилось повсеместно как салонный и эстрадно-бытовой танец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9" name="Picture 1" descr="C:\Documents and Settings\BOSS\Рабочий стол\88.jpeg"/>
          <p:cNvPicPr/>
          <p:nvPr/>
        </p:nvPicPr>
        <p:blipFill>
          <a:blip r:embed="rId2"/>
          <a:stretch/>
        </p:blipFill>
        <p:spPr>
          <a:xfrm>
            <a:off x="179280" y="1628640"/>
            <a:ext cx="3643560" cy="27273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p:transition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468360" y="981000"/>
            <a:ext cx="8136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Бальные танцы — группа парных танцев, которые танцуются в специальных помещениях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Спортивные бальные танцы делятся на 2 программы: европейскую и латиноамериканскую. В европейскую программу входят: медленный вальс, танго, венский вальс, медленный фокстрот и квикстеп (быстрый фокстрот). В латиноамериканскую: самба, ча-ча-ча, румба, пасодобль и джайв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Бальные танцы пользуются огромной популярностью, по ним проводятся турниры по всему миру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Термин «бальные» относится к парным непрофессиональным светским танцам, возникшим в средневековой Европе. Эти танцы очень сильно видоизменялись — любая эпоха европейской истории — Возрождение, Просвещение, классицизм, романтизм — порождала своеобразный танцевальный комплекс. На протяжении всего европейского культурного развития на бальный танец влияли самые разнообразные этнические источники, а также профессиональный танец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Бальные танцы ХХ века сложились на основе европейского танца, в который на рубеже XIX—XX веков вдохнула новую жизнь африканская и латиноамериканская музыкальная и танцевальная культура. Громадное большинство современных бальных танцев имеют африканские «корни», уже хорошо замаскированные технической обработкой европейской танцевальной школы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20-е годы в Англии при Императорским обществе учителей танцев возник специальный Совет по бальным танцам. Английские специалисты стандартизировали все известные к тому времени танцы — вальс, быстрый и медленный фокстроты, танго. Так возникли конкурсные танцы, и с тех пор бальный танец подразделился на два направления — спортивный и soсial dance. В 1930—1950-е годы число стандартных бальных танцев увеличилось за счет того, что к ним добавилось пять латиноамериканских танцев (в таком порядке: румба, самба, джайв, пасодобль, ча-ча-ча)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йчас по спортивным танцам проводятся соревнования. Сформировалось три программы: европейская, латиноамериканская и так называемая «десятка», куда входят все десять танцев. Любительские чемпионаты мира проводятся под эгидой IDSF, а профессиональные — под покровительством английских танцевальных организаций. Наиболее престижными в мире продолжают оставаться английские конкурсы, в частности, UK Open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3"/>
          <p:cNvSpPr/>
          <p:nvPr/>
        </p:nvSpPr>
        <p:spPr>
          <a:xfrm>
            <a:off x="1547640" y="2492280"/>
            <a:ext cx="64803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В Соединенных Штатах Америки сохраняется своеобразный национальный вариант как некоторых бальных танцев, так и проведения соревнований по ним. — «American Smooth» «American Rhythm»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Слово «бал» пришло в русский язык из французского и происходит от латинского глагола ballare, который означает «танцевать». Из огромного разнообразия как элитных (историко-бытовых), так и народных танцев в группу бальных попали танцы, характеризующиеся следующими признаками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Все бальные танцы являются парными. Пару составляют кавалер и дама, танцующие с соблюдением точек контакта. В Европейской программе этот контакт более плотный. Он сохраняется в течение всего танца. В Латиноамериканской программе контакт более свободный, чаще всего осуществляется за счет соединенных рук и иногда может как вообще теряться, так и усиливаться за счет натяжения при исполнении фигур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250920" y="1401480"/>
            <a:ext cx="4143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Танцы европейской программы: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Медленный Вальс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Танго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Венский Вальс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Медленный Фокстрот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Квикстеп (быстрый Фокстрот)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Каждый из этих танцев характеризуется своим настроением и эмоциями, отличается исполняемыми фигурами, темпом и энергетикой движений. Медленный Вальс передает лирическое настроение, Танго выражает любовь и страсть, Венский Вальс напоминает нам о брызгах шампанского, Медленный Фокстрот демонстрирует любезную обходительность, а Квикстеп заставляет впомнить о веселых праздниках. Эту пятерку танцев европейской программы дама танцует в длинном приталенном платье, визуально ассоциирующимся с классическим бальным туалетом. Такое платье условно называется "стандарт" и обозначается буквами - St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4" name="Picture 2" descr="C:\Documents and Settings\BOSS\Рабочий стол\г.jpeg"/>
          <p:cNvPicPr/>
          <p:nvPr/>
        </p:nvPicPr>
        <p:blipFill>
          <a:blip r:embed="rId2"/>
          <a:stretch/>
        </p:blipFill>
        <p:spPr>
          <a:xfrm>
            <a:off x="4572000" y="1341360"/>
            <a:ext cx="4214880" cy="50720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</p:spTree>
  </p:cSld>
  <p:transition>
    <p:comb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C:\Documents and Settings\BOSS\Рабочий стол\73102a_d.jpg"/>
          <p:cNvPicPr/>
          <p:nvPr/>
        </p:nvPicPr>
        <p:blipFill>
          <a:blip r:embed="rId2"/>
          <a:stretch/>
        </p:blipFill>
        <p:spPr>
          <a:xfrm>
            <a:off x="2195640" y="4581360"/>
            <a:ext cx="6762600" cy="20098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56" name="Picture 2" descr="C:\Documents and Settings\BOSS\Рабочий стол\73101a_b.jpg"/>
          <p:cNvPicPr/>
          <p:nvPr/>
        </p:nvPicPr>
        <p:blipFill>
          <a:blip r:embed="rId3"/>
          <a:stretch/>
        </p:blipFill>
        <p:spPr>
          <a:xfrm>
            <a:off x="539640" y="2060640"/>
            <a:ext cx="6400800" cy="20858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57" name="Прямоугольник 5"/>
          <p:cNvSpPr/>
          <p:nvPr/>
        </p:nvSpPr>
        <p:spPr>
          <a:xfrm>
            <a:off x="3708360" y="1197000"/>
            <a:ext cx="21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Детская обув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Прямоугольник 6"/>
          <p:cNvSpPr/>
          <p:nvPr/>
        </p:nvSpPr>
        <p:spPr>
          <a:xfrm>
            <a:off x="2857680" y="250020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Катрин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3606840" y="5000760"/>
            <a:ext cx="28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Кристина-блок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BOSS\Рабочий стол\73102e_h.jpg"/>
          <p:cNvPicPr/>
          <p:nvPr/>
        </p:nvPicPr>
        <p:blipFill>
          <a:blip r:embed="rId2"/>
          <a:stretch/>
        </p:blipFill>
        <p:spPr>
          <a:xfrm>
            <a:off x="2340000" y="4508640"/>
            <a:ext cx="6514920" cy="19810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61" name="Picture 3" descr="C:\Documents and Settings\BOSS\Рабочий стол\73101c_e.jpg"/>
          <p:cNvPicPr/>
          <p:nvPr/>
        </p:nvPicPr>
        <p:blipFill>
          <a:blip r:embed="rId3"/>
          <a:stretch/>
        </p:blipFill>
        <p:spPr>
          <a:xfrm>
            <a:off x="468360" y="1413000"/>
            <a:ext cx="6381720" cy="20764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62" name="Прямоугольник 5"/>
          <p:cNvSpPr/>
          <p:nvPr/>
        </p:nvSpPr>
        <p:spPr>
          <a:xfrm>
            <a:off x="4788000" y="3789360"/>
            <a:ext cx="31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Катрин-Классика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Прямоугольник 6"/>
          <p:cNvSpPr/>
          <p:nvPr/>
        </p:nvSpPr>
        <p:spPr>
          <a:xfrm>
            <a:off x="3763800" y="5072040"/>
            <a:ext cx="22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Санта-блок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1"/>
          <p:cNvSpPr/>
          <p:nvPr/>
        </p:nvSpPr>
        <p:spPr>
          <a:xfrm>
            <a:off x="2916360" y="1052640"/>
            <a:ext cx="23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Мужская обув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5" name="Picture 2" descr="C:\Documents and Settings\BOSS\Рабочий стол\91101 mlat.jpg"/>
          <p:cNvPicPr/>
          <p:nvPr/>
        </p:nvPicPr>
        <p:blipFill>
          <a:blip r:embed="rId2"/>
          <a:stretch/>
        </p:blipFill>
        <p:spPr>
          <a:xfrm>
            <a:off x="468360" y="1916280"/>
            <a:ext cx="6981840" cy="22478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66" name="Picture 3" descr="C:\Documents and Settings\BOSS\Рабочий стол\92101 mst.jpg"/>
          <p:cNvPicPr/>
          <p:nvPr/>
        </p:nvPicPr>
        <p:blipFill>
          <a:blip r:embed="rId3"/>
          <a:stretch/>
        </p:blipFill>
        <p:spPr>
          <a:xfrm>
            <a:off x="1979640" y="4581360"/>
            <a:ext cx="6896160" cy="19908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67" name="Прямоугольник 4"/>
          <p:cNvSpPr/>
          <p:nvPr/>
        </p:nvSpPr>
        <p:spPr>
          <a:xfrm>
            <a:off x="1214280" y="2714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«Фабио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Прямоугольник 5"/>
          <p:cNvSpPr/>
          <p:nvPr/>
        </p:nvSpPr>
        <p:spPr>
          <a:xfrm>
            <a:off x="2987640" y="29973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«Фабио- К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Прямоугольник 6"/>
          <p:cNvSpPr/>
          <p:nvPr/>
        </p:nvSpPr>
        <p:spPr>
          <a:xfrm>
            <a:off x="3967200" y="57862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Патрон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Documents and Settings\BOSS\Рабочий стол\92102_92103_92104 mst.jpg"/>
          <p:cNvPicPr/>
          <p:nvPr/>
        </p:nvPicPr>
        <p:blipFill>
          <a:blip r:embed="rId2"/>
          <a:stretch/>
        </p:blipFill>
        <p:spPr>
          <a:xfrm>
            <a:off x="395280" y="1413000"/>
            <a:ext cx="6715080" cy="18763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71" name="Picture 3" descr="C:\Documents and Settings\BOSS\Рабочий стол\92105_92106_92107_mst.jpg"/>
          <p:cNvPicPr/>
          <p:nvPr/>
        </p:nvPicPr>
        <p:blipFill>
          <a:blip r:embed="rId3"/>
          <a:stretch/>
        </p:blipFill>
        <p:spPr>
          <a:xfrm>
            <a:off x="1835280" y="4292640"/>
            <a:ext cx="6991200" cy="2124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72" name="Прямоугольник 3"/>
          <p:cNvSpPr/>
          <p:nvPr/>
        </p:nvSpPr>
        <p:spPr>
          <a:xfrm>
            <a:off x="2786040" y="472140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Патрон» для « Ча-ча-ча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Прямоугольник 4"/>
          <p:cNvSpPr/>
          <p:nvPr/>
        </p:nvSpPr>
        <p:spPr>
          <a:xfrm>
            <a:off x="4859280" y="35002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Оксфорд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3203640" y="83700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  <a:ea typeface="Calibri"/>
              </a:rPr>
              <a:t>Женская обув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Picture 2" descr="C:\Documents and Settings\BOSS\Рабочий стол\81105 e_f 81106.jpg"/>
          <p:cNvPicPr/>
          <p:nvPr/>
        </p:nvPicPr>
        <p:blipFill>
          <a:blip r:embed="rId2"/>
          <a:stretch/>
        </p:blipFill>
        <p:spPr>
          <a:xfrm>
            <a:off x="2124000" y="4437000"/>
            <a:ext cx="6610320" cy="21528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76" name="Picture 4" descr="C:\Documents and Settings\BOSS\Рабочий стол\81101 st_lady.jpg"/>
          <p:cNvPicPr/>
          <p:nvPr/>
        </p:nvPicPr>
        <p:blipFill>
          <a:blip r:embed="rId3"/>
          <a:stretch/>
        </p:blipFill>
        <p:spPr>
          <a:xfrm>
            <a:off x="250920" y="1484280"/>
            <a:ext cx="6848280" cy="21049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77" name="Прямоугольник 4"/>
          <p:cNvSpPr/>
          <p:nvPr/>
        </p:nvSpPr>
        <p:spPr>
          <a:xfrm>
            <a:off x="5072040" y="28576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Натали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Прямоугольник 5"/>
          <p:cNvSpPr/>
          <p:nvPr/>
        </p:nvSpPr>
        <p:spPr>
          <a:xfrm>
            <a:off x="6500880" y="578628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«Лада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Прямоугольник 6"/>
          <p:cNvSpPr/>
          <p:nvPr/>
        </p:nvSpPr>
        <p:spPr>
          <a:xfrm>
            <a:off x="2214720" y="5786280"/>
            <a:ext cx="31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Роксолана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95280" y="411840"/>
            <a:ext cx="7812000" cy="58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Каждый год в разных странах устраиваются мировые чемпионаты, в которых соревнуются команды со всего мир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Прежде всего бальные танцы дают умственную и физическую разгрузку, и в этом плане с ними ничто не сравнится. При серьезном подходе они могут дать молодому человеку такую физическую нагрузку, какую он только пожелает; более зрелым танцовщикам танцы позволяют получить вполне эффективную нагрузку без излишнего переутомления; деловым мужчинам и женщинам они обеспечивают умственную релаксацию, которая столь необходима для физического здоровь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Calibri"/>
              </a:rPr>
              <a:t>Приемлемый уровень подготовки достигается без особых сложностей и труда, а дополнительное удовольствие от правильного исполнения нескольких простых шагов, хорошей осанки и чувства равновесия полностью компенсируют все время, потраченное на обучение танцу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Calibri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Calibri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  <a:ea typeface="Calibri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tantia"/>
                <a:ea typeface="Calibri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tantia"/>
                <a:ea typeface="Calibri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tantia"/>
                <a:ea typeface="Calibri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  <a:ea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Documents and Settings\BOSS\Рабочий стол\81105 a_d st_lady.jpg"/>
          <p:cNvPicPr/>
          <p:nvPr/>
        </p:nvPicPr>
        <p:blipFill>
          <a:blip r:embed="rId2"/>
          <a:stretch/>
        </p:blipFill>
        <p:spPr>
          <a:xfrm>
            <a:off x="468360" y="1125360"/>
            <a:ext cx="6686640" cy="20862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81" name="Picture 3" descr="C:\Documents and Settings\BOSS\Рабочий стол\81102_81103_81104 st_lady.jpg"/>
          <p:cNvPicPr/>
          <p:nvPr/>
        </p:nvPicPr>
        <p:blipFill>
          <a:blip r:embed="rId3"/>
          <a:stretch/>
        </p:blipFill>
        <p:spPr>
          <a:xfrm>
            <a:off x="1835280" y="4292640"/>
            <a:ext cx="6762600" cy="21049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82" name="Прямоугольник 3"/>
          <p:cNvSpPr/>
          <p:nvPr/>
        </p:nvSpPr>
        <p:spPr>
          <a:xfrm>
            <a:off x="1486440" y="52862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Натали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3480120" y="528624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Николь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Прямоугольник 5"/>
          <p:cNvSpPr/>
          <p:nvPr/>
        </p:nvSpPr>
        <p:spPr>
          <a:xfrm>
            <a:off x="3768120" y="350028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Барбара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Прямоугольник 6"/>
          <p:cNvSpPr/>
          <p:nvPr/>
        </p:nvSpPr>
        <p:spPr>
          <a:xfrm>
            <a:off x="5208840" y="530064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Маргарита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Прямоугольник 7"/>
          <p:cNvSpPr/>
          <p:nvPr/>
        </p:nvSpPr>
        <p:spPr>
          <a:xfrm>
            <a:off x="6919920" y="528624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«Татьяна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332000" y="1557360"/>
            <a:ext cx="6624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 бальных танце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324000" y="1131480"/>
            <a:ext cx="802800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Бальные танцы ХХ века сложились на основе европейского танца, в который на рубеже XIX—XX веков вдохнула новую жизнь африканская и латиноамериканская музыкальная и танцевальная культура. Громадное большинство современных бальных танцев имеют африканские «корни», уже хорошо замаскированные технической обработкой европейской танцевальной школы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В 1920-е годы в Англии при Императорским обществе учителей танцев возник специальный Совет по бальным танцам. Английские специалисты стандартизировали все известные к тому времени танцы — вальс, быстрый и медленный фокстроты, танго. Так возникли конкурсные танцы, и с тех пор бальный танец подразделился на два направления — спортивный и soсial dance. В 1930—1950-е годы число стандартных бальных танцев увеличилось за счет того, что к ним добавилось пять латиноамериканских танцев (в таком порядке: румба, самба, джайв, пасодобль, ча-ча-ча)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С середины XIX в. самым популярным бальным танцем стал вальс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В конце XIX-начале XX вв. значительное влияние на развитие бального танца оказали страны Северной и Южной Америки. Появились тустеп, уанстеп, блюз, фокстрот, квикстеп, чарльстон и другие, затем бостон, танго, а после первой мировой войны- румба, самба. Для современного бального танца характерна импровизация, танцующие свободно варьируют бальные па. Со второй половины XX в. интерес к импровизационным бальным танцам значительно возрос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Большинство бальных танцев 60-70-х гг. - танцы свободной композиции (твист и другие)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onstantia"/>
                <a:ea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403280" y="1844640"/>
            <a:ext cx="59738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анцевальные ритмы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селенно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84360" y="583200"/>
            <a:ext cx="7777080" cy="63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Прошло много веков, мир неузнаваемо изменился, а человек продолжает танцевать. Почему? Организм - сложнейшая саморегулирующаяся система. Помимо множества других физиологических факторов большое значение для его жизнедеятельности имеет ритмичность. Все внутренние органы и психические процессы функционируют в определенном ритме. Движение Природы - живой и неживой, макро- и микрокосмоса - тоже подчиняется определенному ритму. Человек - часть Вселенной, и потому для него обязательны законы ее существования. Мы можем в течение многих лет ни разу не взглянуть на звездное небо, не подозревать о существовании некоторых планет, но тем не менее испытываем их влияние (например, всем известно, как полнолуние действует на самочувствие и настроение). И чем больше наш внутренний ритм будет соответствовать ритму Природы, тем более гармоничным станет наше бытие. Это хорошо понимали в древности. Наши предки танцевали, когда хотели слиться с природой, энергетически подпитаться от нее. Последователь суфизма Хазрат Инайят Хан писал: "Здоровье есть состояние совершенного ритма и тона. Музыка есть ритм и тон. Когда здоровье не в порядке, это значит, что музыка в нас неправильна, необходима помощь гармонии и ритма, чтобы привести нас в состояние Гармонии и Ритма". Танец дарит человеку здоровье, понимаемое не как отсутствие болезненных ощущений, а как полнота и естественность жизни, как самореализация. Но - это и прекрасный лекарь. Он способствует уменьшению локального мышечного напряжения - так называемых зажимов. Различные движения, вращения, прыжки заставляют напрягаться все мышцы. Одновременно происходит тренировка равновесия и дыхания, улучшаются подвижность и осанка. Любые танцы учат владеть своим телом, помогают скорректировать фигуру. (Современные танцы сжигают 300 ккал за полчаса, балет, бальные танцы и чечетка - 200, народные -225.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908000" y="1557360"/>
            <a:ext cx="551844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ПОЛ ДЖОНС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8:06:19Z</dcterms:created>
  <dc:creator>c400</dc:creator>
  <dc:description/>
  <dc:language>en-US</dc:language>
  <cp:lastModifiedBy>МОНа</cp:lastModifiedBy>
  <dcterms:modified xsi:type="dcterms:W3CDTF">2009-02-24T05:31:55Z</dcterms:modified>
  <cp:revision>15</cp:revision>
  <dc:subject/>
  <dc:title>Слайд 1</dc:title>
</cp:coreProperties>
</file>