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000-0FC4-42BA-BBC6-FB84C5CC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814-CF02-4C5E-B091-1E9F466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81E-EE91-40C0-AF88-BC8D6EEC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584-910E-4548-A97D-56C6E18E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55A5-7958-4537-90DD-842BEC2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F42-B4FF-4F9B-81CE-BD97B10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420-F058-4F41-B5FA-4A3A026A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B326-46B7-4D6B-B5A6-F380BFE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3515-E214-42A4-99F3-67917DC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061A-C688-4E4F-98D1-3CA2250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0842-2657-444F-A784-03896F6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EA5-E6F2-4BE5-9311-F3D0644F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8176-B8F2-498B-89BB-6CDFFED0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3796-343B-407F-AA84-A8A3DAE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EF5-9C3E-4D64-A9E3-3D975E5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1DF-32CF-4DFB-BECA-343F1270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6FA-3F32-4356-B574-1EFDCF5B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EEB-7DC5-4B0B-AF4D-3F7FF8A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ADA-FD94-4560-960E-E6C0631E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003-977E-455C-BA64-D7DA85D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7A2-CE33-47F6-9DA3-22A15D7F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36D-2BBB-4EDF-9875-DC19A7D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1EF-D800-4390-A717-B70A7C5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950-AA73-4479-9D44-C03C5FE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45B-C44E-44A3-8797-FE604483FA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24EC-8E9D-43D1-888D-7CE8CA8805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 rot="20712000">
            <a:off x="533520" y="837720"/>
            <a:ext cx="5029200" cy="4648320"/>
          </a:xfrm>
          <a:prstGeom prst="rect">
            <a:avLst/>
          </a:prstGeom>
          <a:gradFill rotWithShape="0">
            <a:gsLst>
              <a:gs pos="0">
                <a:srgbClr val="ff99ff">
                  <a:alpha val="42352"/>
                </a:srgbClr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2971800" y="1905120"/>
            <a:ext cx="5562720" cy="495288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ccf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514600" y="3352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as ist hier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447920" y="99072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ie Stad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 rot="20452200">
            <a:off x="609480" y="837720"/>
            <a:ext cx="5867640" cy="44197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99ff">
                  <a:alpha val="44313"/>
                </a:srgbClr>
              </a:gs>
            </a:gsLst>
            <a:lin ang="6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1295280" y="1447920"/>
            <a:ext cx="6705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ojabrs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Picture 7" descr="noyb"/>
          <p:cNvPicPr/>
          <p:nvPr/>
        </p:nvPicPr>
        <p:blipFill>
          <a:blip r:embed="rId1"/>
          <a:stretch/>
        </p:blipFill>
        <p:spPr>
          <a:xfrm>
            <a:off x="4572000" y="281952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240" y="3733560"/>
            <a:ext cx="8915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ch lebe in der Stadt Nojabrsk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jabrsk ist meine Heimatstadt.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liegt im Norden. Hier leben über 100 000 Einwohner. Die Stadt ist schön, modern und attrakti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Noy3"/>
          <p:cNvPicPr/>
          <p:nvPr/>
        </p:nvPicPr>
        <p:blipFill>
          <a:blip r:embed="rId1"/>
          <a:stretch/>
        </p:blipFill>
        <p:spPr>
          <a:xfrm>
            <a:off x="1905120" y="0"/>
            <a:ext cx="54291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s ist ein industrielles Zentrum Westsibi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Hier gewinnt man Gas und Erdö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033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jabrsk ist ein Kulturzentrum. Hier gibt es viele Schulen, ein Museum, zwei Musikschulen, eine Kunstschule, ein Kinderzentrum, viele Bibliotheken, ein Kinderpark, ein Platz des Sieges, eine Kirche, ein Intellektzent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музшкола_06"/>
          <p:cNvPicPr/>
          <p:nvPr/>
        </p:nvPicPr>
        <p:blipFill>
          <a:blip r:embed="rId1"/>
          <a:stretch/>
        </p:blipFill>
        <p:spPr>
          <a:xfrm>
            <a:off x="0" y="572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OLESO"/>
          <p:cNvPicPr/>
          <p:nvPr/>
        </p:nvPicPr>
        <p:blipFill>
          <a:blip r:embed="rId2"/>
          <a:stretch/>
        </p:blipFill>
        <p:spPr>
          <a:xfrm>
            <a:off x="2590920" y="114300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Площадь Памяти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Klima ist hier hart.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Natur ist nicht besonders vielfältig. Der Winter ist sehr kalt, der Sommer ist küh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0005"/>
          <p:cNvPicPr/>
          <p:nvPr/>
        </p:nvPicPr>
        <p:blipFill>
          <a:blip r:embed="rId1"/>
          <a:stretch/>
        </p:blipFill>
        <p:spPr>
          <a:xfrm>
            <a:off x="609480" y="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0a"/>
          <p:cNvPicPr/>
          <p:nvPr/>
        </p:nvPicPr>
        <p:blipFill>
          <a:blip r:embed="rId2"/>
          <a:stretch/>
        </p:blipFill>
        <p:spPr>
          <a:xfrm>
            <a:off x="3809880" y="91440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onders schön ist hier der Herbst. Es gibt viele Beeren und Pilze in der Tai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main1091282604"/>
          <p:cNvPicPr/>
          <p:nvPr/>
        </p:nvPicPr>
        <p:blipFill>
          <a:blip r:embed="rId1"/>
          <a:stretch/>
        </p:blipFill>
        <p:spPr>
          <a:xfrm>
            <a:off x="1600200" y="0"/>
            <a:ext cx="4495680" cy="3056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08_brusnika"/>
          <p:cNvPicPr/>
          <p:nvPr/>
        </p:nvPicPr>
        <p:blipFill>
          <a:blip r:embed="rId2"/>
          <a:stretch/>
        </p:blipFill>
        <p:spPr>
          <a:xfrm>
            <a:off x="5181480" y="2514600"/>
            <a:ext cx="3638520" cy="2432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1918"/>
          <p:cNvPicPr/>
          <p:nvPr/>
        </p:nvPicPr>
        <p:blipFill>
          <a:blip r:embed="rId3"/>
          <a:stretch/>
        </p:blipFill>
        <p:spPr>
          <a:xfrm>
            <a:off x="228600" y="1752480"/>
            <a:ext cx="37339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liebe meine Stadt.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ier gibt es viel zu s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Храм_панорама01"/>
          <p:cNvPicPr/>
          <p:nvPr/>
        </p:nvPicPr>
        <p:blipFill>
          <a:blip r:embed="rId1"/>
          <a:stretch/>
        </p:blipFill>
        <p:spPr>
          <a:xfrm>
            <a:off x="0" y="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улица Ленина 01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день города 01"/>
          <p:cNvPicPr/>
          <p:nvPr/>
        </p:nvPicPr>
        <p:blipFill>
          <a:blip r:embed="rId3"/>
          <a:stretch/>
        </p:blipFill>
        <p:spPr>
          <a:xfrm>
            <a:off x="2286000" y="26668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Wie ist weiter</a:t>
            </a:r>
            <a:r>
              <a:rPr b="1" lang="ru-RU" sz="4800" spc="-1" strike="noStrike">
                <a:solidFill>
                  <a:srgbClr val="ff99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85800" y="1219320"/>
            <a:ext cx="2514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ch l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3200400" y="1219320"/>
            <a:ext cx="41148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n der Stadt Nojabr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143000" y="2666880"/>
            <a:ext cx="29718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Nojabrsk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liegt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4114800" y="2666880"/>
            <a:ext cx="32767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m No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1676520" y="4114800"/>
            <a:ext cx="41148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Hier leben über 100 000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5715000" y="4114800"/>
            <a:ext cx="28195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Einwohner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905120" y="5562720"/>
            <a:ext cx="2514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ie Stadt i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4419720" y="5562720"/>
            <a:ext cx="472428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chön,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moder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und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attraktiv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533520" y="380880"/>
            <a:ext cx="3809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a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st ein industrie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343400" y="380880"/>
            <a:ext cx="411480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Zentrum Westsibiri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676520" y="1371600"/>
            <a:ext cx="2666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Nojabrsk ist 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343400" y="1371600"/>
            <a:ext cx="320040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Kulturzentrum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2280" y="2590920"/>
            <a:ext cx="2819520" cy="17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Hier gi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es viele Schule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971800" y="2590920"/>
            <a:ext cx="6019920" cy="175248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 Museum, zwei Musikschulen,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e Kunstschule, ein Kinderzentru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viele Bibliotheken, ein Kinderpar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 Platz des Sieges, eine Kirche ein Intellektzentru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1828800" y="4724280"/>
            <a:ext cx="2666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er Winter i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4495680" y="4724280"/>
            <a:ext cx="30481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ehr kal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1828800" y="5791320"/>
            <a:ext cx="259092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ch lie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419720" y="5791320"/>
            <a:ext cx="304776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ine Stad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57150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s ist eine Kirc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962"/>
          <p:cNvPicPr/>
          <p:nvPr/>
        </p:nvPicPr>
        <p:blipFill>
          <a:blip r:embed="rId1"/>
          <a:stretch/>
        </p:blipFill>
        <p:spPr>
          <a:xfrm>
            <a:off x="838080" y="0"/>
            <a:ext cx="3483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Hilfsw</a:t>
            </a:r>
            <a:r>
              <a:rPr b="1" lang="en-US" sz="4800" spc="-1" strike="noStrike">
                <a:solidFill>
                  <a:srgbClr val="ff99ff"/>
                </a:solidFill>
                <a:latin typeface="Arial"/>
                <a:ea typeface="Arial"/>
              </a:rPr>
              <a:t>ört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ieg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über 100 000 Einwoh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chön, modern, attrakt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dustri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in Kulturz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gibt 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k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Muse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untitled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1295280" y="54100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The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th_01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s ist ein Ratha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r_01"/>
          <p:cNvPicPr/>
          <p:nvPr/>
        </p:nvPicPr>
        <p:blipFill>
          <a:blip r:embed="rId1"/>
          <a:stretch/>
        </p:blipFill>
        <p:spPr>
          <a:xfrm>
            <a:off x="2362320" y="228600"/>
            <a:ext cx="3724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685800" y="541008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Platz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2344556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914400" y="5410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Denkm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908"/>
          <p:cNvPicPr/>
          <p:nvPr/>
        </p:nvPicPr>
        <p:blipFill>
          <a:blip r:embed="rId1"/>
          <a:stretch/>
        </p:blipFill>
        <p:spPr>
          <a:xfrm>
            <a:off x="2514600" y="0"/>
            <a:ext cx="3330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371600" y="51814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e Po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6789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5105520" y="380880"/>
            <a:ext cx="3657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ine alte deutsche Stad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2-10-01T16:29:5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