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87E-3A6B-493E-B580-0F04A94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D7C-051D-41D4-848C-C8E4919B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CE6-1864-4048-ABFD-AB5E0F0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3D3-179C-464A-A914-039FCEE5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85C-BE02-4A36-84DD-F5471106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D318-1DE1-4F58-9386-17C65BC4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BD16-91D0-447D-A062-CB5C5955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E978-426B-4B64-84E0-08500C1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1BAC-E6D7-4A12-A574-B91CADF8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B443-FCA4-49CC-8154-9F5700E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85B5-8264-48C2-8029-550C453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F98-2024-451E-9459-D20E105E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1F09-F981-4E4D-9E81-6412E33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3975-628F-42E6-BA3D-ED37CD0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5DB3-2F1E-46B7-9C85-9D13021B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8F9-91B6-4ED5-8191-25B7B82A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200F-DF1D-4458-934F-7949166F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B4F-BF5A-43DB-B701-DE7C6991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64D-38F7-4B21-B464-E54321B0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52F-A197-454C-B072-E6350C5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EDE-5F1D-45CD-A976-4661C72F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506-6D7A-450B-9EE0-143584A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B61-F44E-4A8D-A8A2-7EF11103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243-1C61-4BD2-8597-7F76E88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6F6-4533-477F-BF00-D17BB5AD89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A074-3C07-4B40-A349-E3E13E6507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 rot="20712000">
            <a:off x="533520" y="837720"/>
            <a:ext cx="5029200" cy="4648320"/>
          </a:xfrm>
          <a:prstGeom prst="rect">
            <a:avLst/>
          </a:prstGeom>
          <a:gradFill rotWithShape="0">
            <a:gsLst>
              <a:gs pos="0">
                <a:srgbClr val="ff99ff">
                  <a:alpha val="42352"/>
                </a:srgbClr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2971800" y="1905120"/>
            <a:ext cx="5562720" cy="495288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ccf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514600" y="3352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as ist hier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447920" y="99072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ie Stad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 rot="20452200">
            <a:off x="609480" y="837720"/>
            <a:ext cx="5867640" cy="44197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99ff">
                  <a:alpha val="44313"/>
                </a:srgbClr>
              </a:gs>
            </a:gsLst>
            <a:lin ang="6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1295280" y="1447920"/>
            <a:ext cx="6705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ojabrs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Picture 7" descr="noyb"/>
          <p:cNvPicPr/>
          <p:nvPr/>
        </p:nvPicPr>
        <p:blipFill>
          <a:blip r:embed="rId1"/>
          <a:stretch/>
        </p:blipFill>
        <p:spPr>
          <a:xfrm>
            <a:off x="4572000" y="281952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240" y="3733560"/>
            <a:ext cx="8915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ch lebe in der Stadt Nojabrsk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jabrsk ist meine Heimatstadt.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liegt im Norden. Hier leben über 100 000 Einwohner. Die Stadt ist schön, modern und attrakti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Noy3"/>
          <p:cNvPicPr/>
          <p:nvPr/>
        </p:nvPicPr>
        <p:blipFill>
          <a:blip r:embed="rId1"/>
          <a:stretch/>
        </p:blipFill>
        <p:spPr>
          <a:xfrm>
            <a:off x="1905120" y="0"/>
            <a:ext cx="54291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s ist ein industrielles Zentrum Westsibi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s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Hier gewinnt man Gas und Erdö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033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jabrsk ist ein Kulturzentrum. Hier gibt es viele Schulen, ein Museum, zwei Musikschulen, eine Kunstschule, ein Kinderzentrum, viele Bibliotheken, ein Kinderpark, ein Platz des Sieges, eine Kirche, ein Intellektzent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музшкола_06"/>
          <p:cNvPicPr/>
          <p:nvPr/>
        </p:nvPicPr>
        <p:blipFill>
          <a:blip r:embed="rId1"/>
          <a:stretch/>
        </p:blipFill>
        <p:spPr>
          <a:xfrm>
            <a:off x="0" y="572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OLESO"/>
          <p:cNvPicPr/>
          <p:nvPr/>
        </p:nvPicPr>
        <p:blipFill>
          <a:blip r:embed="rId2"/>
          <a:stretch/>
        </p:blipFill>
        <p:spPr>
          <a:xfrm>
            <a:off x="2590920" y="114300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Площадь Памяти"/>
          <p:cNvPicPr/>
          <p:nvPr/>
        </p:nvPicPr>
        <p:blipFill>
          <a:blip r:embed="rId3"/>
          <a:stretch/>
        </p:blipFill>
        <p:spPr>
          <a:xfrm>
            <a:off x="5562720" y="0"/>
            <a:ext cx="3581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Klima ist hier hart.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Natur ist nicht besonders vielfältig. Der Winter ist sehr kalt, der Sommer ist küh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0005"/>
          <p:cNvPicPr/>
          <p:nvPr/>
        </p:nvPicPr>
        <p:blipFill>
          <a:blip r:embed="rId1"/>
          <a:stretch/>
        </p:blipFill>
        <p:spPr>
          <a:xfrm>
            <a:off x="609480" y="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0a"/>
          <p:cNvPicPr/>
          <p:nvPr/>
        </p:nvPicPr>
        <p:blipFill>
          <a:blip r:embed="rId2"/>
          <a:stretch/>
        </p:blipFill>
        <p:spPr>
          <a:xfrm>
            <a:off x="3809880" y="91440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onders schön ist hier der Herbst. Es gibt viele Beeren und Pilze in der Taig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main1091282604"/>
          <p:cNvPicPr/>
          <p:nvPr/>
        </p:nvPicPr>
        <p:blipFill>
          <a:blip r:embed="rId1"/>
          <a:stretch/>
        </p:blipFill>
        <p:spPr>
          <a:xfrm>
            <a:off x="1600200" y="0"/>
            <a:ext cx="4495680" cy="3056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08_brusnika"/>
          <p:cNvPicPr/>
          <p:nvPr/>
        </p:nvPicPr>
        <p:blipFill>
          <a:blip r:embed="rId2"/>
          <a:stretch/>
        </p:blipFill>
        <p:spPr>
          <a:xfrm>
            <a:off x="5181480" y="2514600"/>
            <a:ext cx="3638520" cy="2432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1918"/>
          <p:cNvPicPr/>
          <p:nvPr/>
        </p:nvPicPr>
        <p:blipFill>
          <a:blip r:embed="rId3"/>
          <a:stretch/>
        </p:blipFill>
        <p:spPr>
          <a:xfrm>
            <a:off x="228600" y="1752480"/>
            <a:ext cx="37339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h liebe meine Stadt.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ier gibt es viel zu se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Храм_панорама01"/>
          <p:cNvPicPr/>
          <p:nvPr/>
        </p:nvPicPr>
        <p:blipFill>
          <a:blip r:embed="rId1"/>
          <a:stretch/>
        </p:blipFill>
        <p:spPr>
          <a:xfrm>
            <a:off x="0" y="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улица Ленина 01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день города 01"/>
          <p:cNvPicPr/>
          <p:nvPr/>
        </p:nvPicPr>
        <p:blipFill>
          <a:blip r:embed="rId3"/>
          <a:stretch/>
        </p:blipFill>
        <p:spPr>
          <a:xfrm>
            <a:off x="2286000" y="26668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Wie ist weiter</a:t>
            </a:r>
            <a:r>
              <a:rPr b="1" lang="ru-RU" sz="4800" spc="-1" strike="noStrike">
                <a:solidFill>
                  <a:srgbClr val="ff99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85800" y="1219320"/>
            <a:ext cx="251460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ch l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3200400" y="1219320"/>
            <a:ext cx="41148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n der Stadt Nojabr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1143000" y="2666880"/>
            <a:ext cx="29718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Nojabrsk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liegt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4114800" y="2666880"/>
            <a:ext cx="327672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m No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1676520" y="4114800"/>
            <a:ext cx="41148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Hier leben über 100 000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5715000" y="4114800"/>
            <a:ext cx="281952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Einwohner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905120" y="5562720"/>
            <a:ext cx="251460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ie Stadt i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4419720" y="5562720"/>
            <a:ext cx="472428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chön,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moder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und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attraktiv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533520" y="380880"/>
            <a:ext cx="38098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a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ist ein industrie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343400" y="380880"/>
            <a:ext cx="411480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Zentrum Westsibiri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676520" y="1371600"/>
            <a:ext cx="26668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Nojabrsk ist e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343400" y="1371600"/>
            <a:ext cx="320040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Kulturzentrum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52280" y="2590920"/>
            <a:ext cx="2819520" cy="1752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Hier gib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es viele Schule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971800" y="2590920"/>
            <a:ext cx="6019920" cy="175248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ein Museum, zwei Musikschulen,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eine Kunstschule, ein Kinderzentru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viele Bibliotheken, ein Kinderpar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ein Platz des Sieges, eine Kirche ein Intellektzentru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1828800" y="4724280"/>
            <a:ext cx="26668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er Winter i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4495680" y="4724280"/>
            <a:ext cx="304812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ehr kal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1828800" y="5791320"/>
            <a:ext cx="259092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ch lie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419720" y="5791320"/>
            <a:ext cx="304776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ine Stad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57150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as ist eine Kirc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962"/>
          <p:cNvPicPr/>
          <p:nvPr/>
        </p:nvPicPr>
        <p:blipFill>
          <a:blip r:embed="rId1"/>
          <a:stretch/>
        </p:blipFill>
        <p:spPr>
          <a:xfrm>
            <a:off x="838080" y="0"/>
            <a:ext cx="3483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Hilfsw</a:t>
            </a:r>
            <a:r>
              <a:rPr b="1" lang="en-US" sz="4800" spc="-1" strike="noStrike">
                <a:solidFill>
                  <a:srgbClr val="ff99ff"/>
                </a:solidFill>
                <a:latin typeface="Arial"/>
                <a:ea typeface="Arial"/>
              </a:rPr>
              <a:t>ört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ieg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über 100 000 Einwoh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schön, modern, attrakt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ndustri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in Kulturz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gibt 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ka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eb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90360" y="54097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Muse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untitled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1295280" y="54100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Theat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th_01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90360" y="54097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s ist ein Ratha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r_01"/>
          <p:cNvPicPr/>
          <p:nvPr/>
        </p:nvPicPr>
        <p:blipFill>
          <a:blip r:embed="rId1"/>
          <a:stretch/>
        </p:blipFill>
        <p:spPr>
          <a:xfrm>
            <a:off x="2362320" y="228600"/>
            <a:ext cx="3724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685800" y="541008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Platz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2344556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914400" y="5410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 Denkm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908"/>
          <p:cNvPicPr/>
          <p:nvPr/>
        </p:nvPicPr>
        <p:blipFill>
          <a:blip r:embed="rId1"/>
          <a:stretch/>
        </p:blipFill>
        <p:spPr>
          <a:xfrm>
            <a:off x="2514600" y="0"/>
            <a:ext cx="3330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371600" y="51814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as ist eine Pos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6789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город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5105520" y="380880"/>
            <a:ext cx="3657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ine alte deutsche Stad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2-10-01T16:29:5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