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594D-EB69-435A-A7F6-5B4241168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3910-EB2E-441C-A85E-352E2CF3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6260-C1A3-455F-BB3D-41A768477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7144-B4C7-40E8-B778-C226F987F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2B2D-CDBB-467C-9875-9917C2216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C161-27D6-40B2-A9FB-F2C29FFF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BFA7-5288-44D8-9E8E-29EF1F2F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C658-CAC2-4507-8DFE-4FC75406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1F19E-4D1C-4D5C-8563-4E96B84F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0FEEF-B28C-4A9B-91BE-56F10B3E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B94A-507C-4CD6-B642-77C5C231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6F4D-5B27-48A2-A389-FF5AFA1A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A88C-D8CC-46E9-9C98-0FF9593A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3B49-8748-48AA-ADFF-F28B7EE0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7993-D758-418E-BD08-3DCC7CCF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42EA-FCDD-4A8C-87E9-3333F7CFB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FFFB-6106-4407-B6EC-D1FE94C7E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C627-53D3-4D06-8BFD-0BBC40DE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3A72-635F-4A73-BD14-F6541608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8998-3B6C-4491-A3E9-E2329999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5E41-5596-4258-A80D-9825F301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7F4E-B5AF-42BD-B151-F9C24218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EED5-181C-4D60-88E6-6490AC27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D8A5-0A28-45F0-BEAA-782679E5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AD1A-AC30-4D1A-B246-A00F9EF809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E25E-ED81-4F95-96B5-5E7BE7C7DC0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042920" y="404640"/>
            <a:ext cx="7416720" cy="24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ff"/>
                    </a:gs>
                    <a:gs pos="50000">
                      <a:srgbClr val="999900"/>
                    </a:gs>
                    <a:gs pos="100000">
                      <a:srgbClr val="33ccff"/>
                    </a:gs>
                  </a:gsLst>
                  <a:lin ang="8100000"/>
                </a:gradFill>
                <a:latin typeface="Impact"/>
              </a:rPr>
              <a:t>Человек и информа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ccff"/>
                  </a:gs>
                  <a:gs pos="50000">
                    <a:srgbClr val="999900"/>
                  </a:gs>
                  <a:gs pos="100000">
                    <a:srgbClr val="33ccff"/>
                  </a:gs>
                </a:gsLst>
                <a:lin ang="8100000"/>
              </a:gradFill>
              <a:latin typeface="Impact"/>
              <a:ea typeface="Impact"/>
            </a:endParaRPr>
          </a:p>
        </p:txBody>
      </p:sp>
      <p:sp>
        <p:nvSpPr>
          <p:cNvPr id="91" name=""/>
          <p:cNvSpPr/>
          <p:nvPr/>
        </p:nvSpPr>
        <p:spPr>
          <a:xfrm>
            <a:off x="2526120" y="2492280"/>
            <a:ext cx="430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00"/>
                </a:solidFill>
                <a:latin typeface="Monotype Corsiva"/>
              </a:rPr>
              <a:t>урок - повтор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1400040" cy="4259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867280" y="4437000"/>
            <a:ext cx="2376720" cy="12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40160" y="473040"/>
            <a:ext cx="815328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 = «Единица измерения информации»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= «Килобайт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12985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034720" y="54900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 = «Устройство ввода информации»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= «Клавиатура»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= «Мышь»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= «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канер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»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= «Микрофон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236000" y="-892080"/>
            <a:ext cx="15620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76720" y="4042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 = «Холодный чай»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= «Горячий чай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115596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 = «Новый учебник»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= «Неновый учебник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012000" y="0"/>
            <a:ext cx="12985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иведите примеры отношений между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нятиями и изобразите их с помощью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ругов Эйлера - Ве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093080" y="-1179360"/>
            <a:ext cx="177624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Составьте общеутвердительное суждение используя картинк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908000" y="2349360"/>
            <a:ext cx="5761080" cy="27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Составьте общеотрицательное суждение используя картинку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348000" y="2421000"/>
            <a:ext cx="2382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оставьте частноутвердительное суждение используя картинку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619280" y="2251080"/>
            <a:ext cx="1320840" cy="21715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788000" y="2322360"/>
            <a:ext cx="2771640" cy="21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оставьте частноотрицательное  суждение используя картинку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771640" y="2349360"/>
            <a:ext cx="3384720" cy="31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Постройте правильные умозаключения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) Все имена существительные изменяются по паде­жам и числам. Слов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«урок» - имя существитель­ное. Следовательно, ..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) Все ученики, которые учатся в первую смену, при­ходят в школу в 8 часов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ережа учится в первую смену. Когда приходит в школу. Сережа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) Названия городов - имена собственные. Имена собственные пишутся с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ольшой буквы. Значит, ..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) Если числитель дроби меньше знаменателя, то дробь правильная. У дроби 3/8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числитель меньше знаменателя. Следовательно, ..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) Все растения на свету поглощают углекислый газ. Тополь - растени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ледовательно, ..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) Если число оканчивается цифрой 0, то оно делится на 5. Известно, чт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анное число не делится на 5.Следовательно, ..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) Если ни один слон не может летать, и все птицы летают, то ..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92360" y="4042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Заполните пробел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335720" y="0"/>
            <a:ext cx="1298520" cy="16668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60360" y="1916280"/>
            <a:ext cx="8964720" cy="37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Информация для человека – это __________________, которые он получает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из различных источников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2. Сообщение, полученное человеком, может пополнить его знания, если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содержащиеся в нем сведения являются для человека ___________________ и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__________________ 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3. Все знания можно разделить на две части: _______________ и _____________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. К ______________________ относятся знания о последовательностях действий,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направленных на достижение некоторой цели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5. К ______________________ относятся знания об определенных явлениях,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событиях, свойствах объектов и зависимостях между объектами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4360" y="47268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Проанализируйте условия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следующих задач и дайте ответ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spcBef>
                <a:spcPts val="451"/>
              </a:spcBef>
              <a:buClr>
                <a:srgbClr val="99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 столе стояло три стакана с вишней. Оксана съела один стакан вишни. Сколько стаканов осталось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451"/>
              </a:spcBef>
              <a:buClr>
                <a:srgbClr val="990000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жгли семь свечей, 2 из них погасли. Сколько свечей осталось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451"/>
              </a:spcBef>
              <a:buClr>
                <a:srgbClr val="990000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ем кончается день? Ночь? Чем кончается лето и начинается осен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451"/>
              </a:spcBef>
              <a:buClr>
                <a:srgbClr val="990000"/>
              </a:buClr>
              <a:buSzPct val="7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тарик купил трех коз и заплатил за них три рубля. По чему пошла каждая коз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930240" cy="1354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076720" y="21258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ff"/>
                </a:solidFill>
                <a:latin typeface="Arial"/>
              </a:rPr>
              <a:t>ТР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207280" y="2781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ff"/>
                </a:solidFill>
                <a:latin typeface="Arial"/>
              </a:rPr>
              <a:t>ДВ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24000" y="37162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ff"/>
                </a:solidFill>
                <a:latin typeface="Arial"/>
              </a:rPr>
              <a:t>Мягким знак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4653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ff"/>
                </a:solidFill>
                <a:latin typeface="Arial"/>
              </a:rPr>
              <a:t>По земл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67280" y="37162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ff"/>
                </a:solidFill>
                <a:latin typeface="Arial"/>
              </a:rPr>
              <a:t>Буквой «о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472680"/>
            <a:ext cx="519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Отгадайте загадк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ез языка живет, не ест, не пьет, а говорит и по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 что не взглянет этот глаз – все на картинке передас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оря есть – плавать нельзя, дороги есть – ехать нельзя, земля есть пахать нельзя. Что это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335720" y="0"/>
            <a:ext cx="1298520" cy="1666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979640" y="2276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ff"/>
                </a:solidFill>
                <a:latin typeface="Arial"/>
              </a:rPr>
              <a:t>Ради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84720" y="3573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ff"/>
                </a:solidFill>
                <a:latin typeface="Arial"/>
              </a:rPr>
              <a:t>Фотоаппар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35280" y="5300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ff"/>
                </a:solidFill>
                <a:latin typeface="Arial"/>
              </a:rPr>
              <a:t>Кар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равните между собой приведенные последовательности и найдите среди них такие, которые образованы при мощи одного и того же общего для них свойст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а) 2, 4, 6, 8, 10,…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б) 2, 4, 8, 16, 32,…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в) 1, 2, 3, 4, 5,…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г) 2, 5, 8, 11, 14,…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516720" y="2349360"/>
            <a:ext cx="19303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71280" y="40428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Содержание понят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9640" y="33480"/>
            <a:ext cx="12985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Укажите какие отношения между понятиями изображены ниж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1916280"/>
            <a:ext cx="1655640" cy="1584000"/>
          </a:xfrm>
          <a:prstGeom prst="ellipse">
            <a:avLst/>
          </a:prstGeom>
          <a:noFill/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2166840"/>
            <a:ext cx="776160" cy="711360"/>
          </a:xfrm>
          <a:prstGeom prst="ellipse">
            <a:avLst/>
          </a:prstGeom>
          <a:noFill/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19280" y="4076640"/>
            <a:ext cx="1490760" cy="1484280"/>
          </a:xfrm>
          <a:prstGeom prst="ellipse">
            <a:avLst/>
          </a:prstGeom>
          <a:noFill/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4054320"/>
            <a:ext cx="1490400" cy="1484640"/>
          </a:xfrm>
          <a:prstGeom prst="ellipse">
            <a:avLst/>
          </a:prstGeom>
          <a:noFill/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093080" y="4005360"/>
            <a:ext cx="1655280" cy="1656720"/>
            <a:chOff x="7093080" y="4005360"/>
            <a:chExt cx="1655280" cy="1656720"/>
          </a:xfrm>
        </p:grpSpPr>
        <p:sp>
          <p:nvSpPr>
            <p:cNvPr id="123" name=""/>
            <p:cNvSpPr/>
            <p:nvPr/>
          </p:nvSpPr>
          <p:spPr>
            <a:xfrm>
              <a:off x="7093080" y="4005360"/>
              <a:ext cx="1655280" cy="1656720"/>
            </a:xfrm>
            <a:prstGeom prst="ellipse">
              <a:avLst/>
            </a:prstGeom>
            <a:noFill/>
            <a:ln w="572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7720" y="4213440"/>
              <a:ext cx="1440" cy="13100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433720" y="4213440"/>
              <a:ext cx="1440" cy="13100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940360" y="1916280"/>
            <a:ext cx="1655640" cy="1584000"/>
            <a:chOff x="5940360" y="1916280"/>
            <a:chExt cx="1655640" cy="1584000"/>
          </a:xfrm>
        </p:grpSpPr>
        <p:sp>
          <p:nvSpPr>
            <p:cNvPr id="127" name=""/>
            <p:cNvSpPr/>
            <p:nvPr/>
          </p:nvSpPr>
          <p:spPr>
            <a:xfrm>
              <a:off x="5940360" y="1916280"/>
              <a:ext cx="1655640" cy="1584000"/>
            </a:xfrm>
            <a:prstGeom prst="ellipse">
              <a:avLst/>
            </a:prstGeom>
            <a:noFill/>
            <a:ln w="572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516720" y="1984320"/>
              <a:ext cx="0" cy="144756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211640" y="4005360"/>
            <a:ext cx="1623600" cy="1621800"/>
            <a:chOff x="4211640" y="4005360"/>
            <a:chExt cx="1623600" cy="1621800"/>
          </a:xfrm>
        </p:grpSpPr>
        <p:sp>
          <p:nvSpPr>
            <p:cNvPr id="130" name=""/>
            <p:cNvSpPr/>
            <p:nvPr/>
          </p:nvSpPr>
          <p:spPr>
            <a:xfrm>
              <a:off x="5276520" y="4873680"/>
              <a:ext cx="377640" cy="414000"/>
            </a:xfrm>
            <a:prstGeom prst="ellipse">
              <a:avLst/>
            </a:prstGeom>
            <a:noFill/>
            <a:ln w="572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211640" y="4005360"/>
              <a:ext cx="1623600" cy="1621800"/>
            </a:xfrm>
            <a:prstGeom prst="ellipse">
              <a:avLst/>
            </a:prstGeom>
            <a:noFill/>
            <a:ln w="572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684680" y="5122080"/>
              <a:ext cx="377640" cy="414000"/>
            </a:xfrm>
            <a:prstGeom prst="ellipse">
              <a:avLst/>
            </a:prstGeom>
            <a:noFill/>
            <a:ln w="572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353840" y="4667760"/>
              <a:ext cx="377640" cy="414000"/>
            </a:xfrm>
            <a:prstGeom prst="ellipse">
              <a:avLst/>
            </a:prstGeom>
            <a:noFill/>
            <a:ln w="572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flipV="1">
            <a:off x="3059280" y="1843920"/>
            <a:ext cx="1584000" cy="1513080"/>
          </a:xfrm>
          <a:prstGeom prst="ellipse">
            <a:avLst/>
          </a:prstGeom>
          <a:noFill/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зобразите отношения между понятиями с помощью кругов Эйлера-Ве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 = «Классный руководитель 6 «Б» класс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= «Коновалова Елена Михайловн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236000" y="-892080"/>
            <a:ext cx="15620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79440" y="387000"/>
            <a:ext cx="8153280" cy="16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 = «Автомобили «Волга»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= «Автомобили красного цвет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308720" y="260280"/>
            <a:ext cx="1155960" cy="16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20:02:50Z</dcterms:created>
  <dc:creator>Влад</dc:creator>
  <dc:description/>
  <dc:language>en-US</dc:language>
  <cp:lastModifiedBy>Влад</cp:lastModifiedBy>
  <dcterms:modified xsi:type="dcterms:W3CDTF">2010-03-16T21:46:03Z</dcterms:modified>
  <cp:revision>2</cp:revision>
  <dc:subject/>
  <dc:title>Слайд 1</dc:title>
</cp:coreProperties>
</file>