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F6A-2BA9-4FD2-9E6B-0037F611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D6E-7A90-404F-B54B-F6FCE09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CC2-4801-4C9F-A961-255AB50F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37B-BAF8-4558-B21D-96076FF0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AE7-EE94-48A4-A908-4A9CD88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159-5824-4CD4-839A-89223B8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2278-87DF-43B9-9FAF-2609A51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F3A4-F0D6-47E7-8A67-E0C7965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0D30-AEC6-4F8A-AAF7-BAE6F94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E541-D265-4A6E-9BFB-C61460BF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66C-D342-4564-B9FC-61A04F3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199-C2FB-4E97-B878-CE5B5F4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AD7-33F7-4646-8394-B721145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3A6D-D14B-46C9-839E-D06516E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3AB-1D14-4A6D-91E4-D0C52A1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1A7-66E9-4E20-AD50-BF9D5048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69D9-4993-4C99-97C3-CB4482D6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410-25AD-4608-9480-B3A0D50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19D-889F-4FA3-94BD-6B1FE23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48F-DA72-4A60-B3E8-517D9B1F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D19-4999-4011-9ACD-9F84ACA4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698-017F-4A4C-A539-B87ED05F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1C8-30FC-48A0-B1AF-5D7D96A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EB9-3F32-4D90-82A9-0BE7298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47D5-111E-45AB-B64A-B66FF719E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4E06-6691-4F3A-A35E-C4E2D0A19C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42920" y="404640"/>
            <a:ext cx="74167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999900"/>
                    </a:gs>
                    <a:gs pos="100000">
                      <a:srgbClr val="33ccff"/>
                    </a:gs>
                  </a:gsLst>
                  <a:lin ang="8100000"/>
                </a:gradFill>
                <a:latin typeface="Impact"/>
              </a:rPr>
              <a:t>Человек и 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999900"/>
                  </a:gs>
                  <a:gs pos="100000">
                    <a:srgbClr val="33ccff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2526120" y="249228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Monotype Corsiva"/>
              </a:rPr>
              <a:t>урок - повтор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400040" cy="425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3767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40160" y="47304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Единица измерения информации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Килобай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298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4720" y="5490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= «Устройство ввода информации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= «Клавиатура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«Мышь»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«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«Микрофо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236000" y="-892080"/>
            <a:ext cx="1562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Холодный чай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Горячий чай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1559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Новый учебник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Неновый учебник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1298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едите примеры отношений между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нятиями и изобразите их с помощью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угов Эйлера - В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093080" y="-1179360"/>
            <a:ext cx="1776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ставьте общеутвердительное суждение используя картин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7610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ставьте общеотрицательное суждение используя картин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48000" y="2421000"/>
            <a:ext cx="238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ставьте частноутвердительное суждение используя картин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2251080"/>
            <a:ext cx="1320840" cy="217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88000" y="2322360"/>
            <a:ext cx="27716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ставьте частноотрицательное  суждение используя картин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3847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стройте правильные умозаключени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Все имена существительные изменяются по паде­жам и числам. Сло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урок» - имя существитель­ное. 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Все ученики, которые учатся в первую смену, при­ходят в школу в 8 час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ережа учится в первую смену. Когда приходит в школу. Сереж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Названия городов - имена собственные. Имена собственные пишутся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ой буквы. Значит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Если числитель дроби меньше знаменателя, то дробь правильная. У дроби 3/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ислитель меньше знаменателя. 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Все растения на свету поглощают углекислый газ. Тополь - раст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) Если число оканчивается цифрой 0, то оно делится на 5. Известно, чт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нное число не делится на 5.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) Если ни один слон не может летать, и все птицы летают, то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полните пробел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35720" y="0"/>
            <a:ext cx="1298520" cy="166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0360" y="1916280"/>
            <a:ext cx="896472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Информация для человека – это __________________, которые он получае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из различных источников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. Сообщение, полученное человеком, может пополнить его знания, есл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одержащиеся в нем сведения являются для человека ___________________ 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__________________ 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3. Все знания можно разделить на две части: _______________ и _____________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. К ______________________ относятся знания о последовательностях действий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направленных на достижение некоторой цел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. К ______________________ относятся знания об определенных явлениях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обытиях, свойствах объектов и зависимостях между объектам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4360" y="4726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оанализируйте условия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ледующих задач и дайте отв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толе стояло три стакана с вишней. Оксана съела один стакан вишни. Сколько стаканов осталос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жгли семь свечей, 2 из них погасли. Сколько свечей осталос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м кончается день? Ночь? Чем кончается лето и начинается осен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ик купил трех коз и заплатил за них три рубля. По чему пошла каждая коз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930240" cy="1354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2125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Т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0728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Д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37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Мягким зна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65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По з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Буквой «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72680"/>
            <a:ext cx="519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тгадайте загад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 языка живет, не ест, не пьет, а говорит и по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что не взглянет этот глаз – все на картинке переда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я есть – плавать нельзя, дороги есть – ехать нельзя, земля есть пахать нельзя. Что эт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35720" y="0"/>
            <a:ext cx="1298520" cy="166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79640" y="22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Ради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5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Фото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530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К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авните между собой приведенные последовательности и найдите среди них такие, которые образованы при мощи одного и того же общего для них свой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) 2, 4, 6, 8, 10,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) 2, 4, 8, 16, 32,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) 1, 2, 3, 4, 5,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) 2, 5, 8, 11, 14,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16720" y="2349360"/>
            <a:ext cx="1930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одержание понят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3480"/>
            <a:ext cx="1298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кажите какие отношения между понятиями изображены ниж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916280"/>
            <a:ext cx="1655640" cy="158400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166840"/>
            <a:ext cx="776160" cy="71136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4076640"/>
            <a:ext cx="1490760" cy="148428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54320"/>
            <a:ext cx="1490400" cy="148464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93080" y="4005360"/>
            <a:ext cx="1655280" cy="1656720"/>
            <a:chOff x="7093080" y="4005360"/>
            <a:chExt cx="1655280" cy="1656720"/>
          </a:xfrm>
        </p:grpSpPr>
        <p:sp>
          <p:nvSpPr>
            <p:cNvPr id="123" name=""/>
            <p:cNvSpPr/>
            <p:nvPr/>
          </p:nvSpPr>
          <p:spPr>
            <a:xfrm>
              <a:off x="7093080" y="4005360"/>
              <a:ext cx="1655280" cy="165672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7720" y="4213440"/>
              <a:ext cx="1440" cy="1310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33720" y="4213440"/>
              <a:ext cx="1440" cy="1310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40360" y="1916280"/>
            <a:ext cx="1655640" cy="1584000"/>
            <a:chOff x="5940360" y="1916280"/>
            <a:chExt cx="1655640" cy="1584000"/>
          </a:xfrm>
        </p:grpSpPr>
        <p:sp>
          <p:nvSpPr>
            <p:cNvPr id="127" name=""/>
            <p:cNvSpPr/>
            <p:nvPr/>
          </p:nvSpPr>
          <p:spPr>
            <a:xfrm>
              <a:off x="5940360" y="1916280"/>
              <a:ext cx="1655640" cy="158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6720" y="1984320"/>
              <a:ext cx="0" cy="14475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211640" y="4005360"/>
            <a:ext cx="1623600" cy="1621800"/>
            <a:chOff x="4211640" y="4005360"/>
            <a:chExt cx="1623600" cy="1621800"/>
          </a:xfrm>
        </p:grpSpPr>
        <p:sp>
          <p:nvSpPr>
            <p:cNvPr id="130" name=""/>
            <p:cNvSpPr/>
            <p:nvPr/>
          </p:nvSpPr>
          <p:spPr>
            <a:xfrm>
              <a:off x="5276520" y="4873680"/>
              <a:ext cx="377640" cy="41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4005360"/>
              <a:ext cx="1623600" cy="16218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84680" y="5122080"/>
              <a:ext cx="377640" cy="41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53840" y="4667760"/>
              <a:ext cx="377640" cy="41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3059280" y="1843920"/>
            <a:ext cx="1584000" cy="151308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образите отношения между понятиями с помощью кругов Эйлера-В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Классный руководитель 6 «Б» кла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Коновалова Елена Михайлов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6000" y="-892080"/>
            <a:ext cx="1562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79440" y="38700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Автомобили «Волга»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Автомобили красного цве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1559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0:02:50Z</dcterms:created>
  <dc:creator>Влад</dc:creator>
  <dc:description/>
  <dc:language>en-US</dc:language>
  <cp:lastModifiedBy>Влад</cp:lastModifiedBy>
  <dcterms:modified xsi:type="dcterms:W3CDTF">2010-03-16T21:46:03Z</dcterms:modified>
  <cp:revision>2</cp:revision>
  <dc:subject/>
  <dc:title>Слайд 1</dc:title>
</cp:coreProperties>
</file>