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02DC-5E09-46B7-9A54-82156DFD4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E3CE-B8CD-410E-B8F4-9A33E7CF5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7A96-4DF7-4003-B030-E36C528B8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AD2F-CC18-4CE5-9DC3-D35DA7D64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229B6-FE68-4AA0-89BC-D4890FAC8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15EA8-C92F-4F89-BFF8-2ADF1958D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C2218-130E-496B-BE87-E00CDEDB6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50E9D-3AB4-4E38-ABDF-1D188B4A3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9846F-30A2-4360-BBA9-0B60F9B02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C4D7F-D5B6-4B2B-912C-818AC2407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D19CD-DEBF-45E0-A823-8AE11DEB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3245-5283-460D-8452-B8621F8B4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6740B-E2BE-4BE8-8EC5-CCA7F129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49651-63E2-4444-9112-D0B96486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ACC31-148C-4111-BDEC-C2C816941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EF0F9-931E-4EC4-BAC9-4A1FA0F58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4922E-077E-48FD-B749-C08898A03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3A20-92BC-4B92-B4A4-248DF0122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6DE2-CD69-454B-BD4F-8AA6913B2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2FD2-461C-4F94-8519-6B46776B9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3DBC-00F3-4F7C-82C6-82EC73513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76D9-5F95-49C5-97A4-EFFCC346B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8275-6E02-454E-9D41-0555E435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BF16-C04B-4D42-982E-115049A3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2400D-C538-4F37-8E94-DB4ADF1C2D6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BC366-175B-4C3A-AA90-752BA805609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hyperlink" Target="file:///&#1069;&#1082;&#1086;&#1083;&#1086;&#1075;&#1080;&#1095;&#1077;&#1089;&#1082;&#1086;&#1077;%20&#1087;&#1088;&#1072;&#1074;&#1086;.doc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&#1090;&#1088;&#1077;&#1085;&#1072;&#1078;&#1077;&#1088;%209%20&#1082;&#1083;&#1072;&#1089;&#1089;.ppt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835280" y="620280"/>
            <a:ext cx="730872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Использование различных форм работы с текстом на уроках истории и обществознания как средство формирования информационной компетенции обучающихся.</a:t>
            </a: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                               (</a:t>
            </a:r>
            <a:r>
              <a:rPr b="0" i="1" lang="ru-RU" sz="2000" spc="-1" strike="noStrike">
                <a:solidFill>
                  <a:srgbClr val="330033"/>
                </a:solidFill>
                <a:latin typeface="Times New Roman"/>
              </a:rPr>
              <a:t>Из опыта работы Житеневой О.А,</a:t>
            </a:r>
            <a:br>
              <a:rPr sz="2000"/>
            </a:br>
            <a:r>
              <a:rPr b="0" i="1" lang="ru-RU" sz="2000" spc="-1" strike="noStrike">
                <a:solidFill>
                  <a:srgbClr val="330033"/>
                </a:solidFill>
                <a:latin typeface="Times New Roman"/>
              </a:rPr>
              <a:t>                                    учителя истории и обществознания</a:t>
            </a:r>
            <a:br>
              <a:rPr sz="2000"/>
            </a:br>
            <a:r>
              <a:rPr b="0" i="1" lang="ru-RU" sz="2000" spc="-1" strike="noStrike">
                <a:solidFill>
                  <a:srgbClr val="330033"/>
                </a:solidFill>
                <a:latin typeface="Times New Roman"/>
              </a:rPr>
              <a:t>                                                           ОУ СОШ №12 г. Сызрани)                                       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10920" y="3962520"/>
            <a:ext cx="7923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тение делает человека ___________, беседа — _____________, а привычка записывать — ___________ (Ф. Бэко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187280" y="6093000"/>
            <a:ext cx="187200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330033"/>
                </a:solidFill>
                <a:latin typeface="Arial"/>
              </a:rPr>
              <a:t>знающим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330033"/>
              </a:solid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284720" y="6093000"/>
            <a:ext cx="187164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330033"/>
                </a:solidFill>
                <a:latin typeface="Arial"/>
              </a:rPr>
              <a:t>находчивым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330033"/>
              </a:solid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7308720" y="6093000"/>
            <a:ext cx="1297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330033"/>
                </a:solidFill>
                <a:latin typeface="Arial"/>
              </a:rPr>
              <a:t>точным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330033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6.93642E-007 L 0.50416 -0.2622 E">
                                      <p:cBhvr>
                                        <p:cTn id="31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6.93642E-007 L -0.08663 -0.19931 E">
                                      <p:cBhvr>
                                        <p:cTn id="35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1.38728E-006 L -0.33872 -0.1311 E">
                                      <p:cBhvr>
                                        <p:cTn id="39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С4 -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Конкретизация собственными примерам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Содержательное пространство», из которого могут черпаться примеры, очень большое и разнородное. Примерами могут быть факты прошлого и современности, почерпнутые из собственного опыта или получившие общественную известность; реальные события и смоделированные ситуа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С5 - </a:t>
            </a:r>
            <a:r>
              <a:rPr b="0" i="1" lang="en-US" sz="3800" spc="-1" strike="noStrike">
                <a:solidFill>
                  <a:srgbClr val="330033"/>
                </a:solidFill>
                <a:latin typeface="Times New Roman"/>
              </a:rPr>
              <a:t>Задание-задача</a:t>
            </a: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Внимательно ознакомьтесь с условием задачи и запомните вопрос. В случае необходимости уточните значение непонятных терминов с помощью словарей, справочников и учебника (в условиях экзамена придется рассчитывать только на свои знания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Соотнесите вопросы, сформулированные в задаче с ее условием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- определите, какая полезная для решения задачи информация содержится в ее условии; - подумайте, не противоречат ли друг другу данные условия задачи (именно противоречия данных может подсказать путь решения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Подумайте, какие дополнительные знания следует привлечь для  решения задачи, к каким источникам,  нормативно-правовым актам следует обратиться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Наметьте предполагаемый ответ в соответствии с вопросом или предписанием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Продумайте аргументы, подкрепляющие ваше решение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Убедитесь в правильности вашего отве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- соответствует ли ваш ответ существу вопроса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- если в задаче дано несколько вопросов, то дан ли ответ на каждый из них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-  нет ли противоречий между вашими аргументами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- нет ли в условии задачи данных, противоречащих вашему решению;                       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- можно ли считать предложенный путь решения единственно возможным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- не следуют ли из условия задачи какие-либо другие выводы помимо обозначенных вам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44360" y="1051920"/>
            <a:ext cx="516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алгоритм решения обществоведческих задач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5949360"/>
            <a:ext cx="84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алгоритм составлен Котовой О.А. и Лисковой Т.Е. на основе памятки, разработанной авторским коллективом под руководством Л. Н. Боголюбов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С6 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аргументация собственной позиции с опорой на содержание текста, знания курса и личный социальный опыт.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ъектами оценки экспертов при выполнении этих заданий является не заявленное школьником отношение, а сила аргументации своего выбора, а также умение извлечь нужную в данном случае информацию из текста и правильно интерпретировать ее в заданном ракурс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95280" y="155700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332000" y="2781360"/>
            <a:ext cx="7272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"/>
              </a:rPr>
              <a:t>Спасибо за внимание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4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4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Приложение </a:t>
            </a: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330033"/>
                </a:solidFill>
                <a:latin typeface="Times New Roman"/>
              </a:rPr>
              <a:t>п.21учебник Обществознание. 10 класс)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55280" y="1600200"/>
            <a:ext cx="79311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ма «Политическая власть и политическая систем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читайте текст. Назовите структурные компоненты (подсистемы) политической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темы, проявившиеся в решении вопросов модернизации образов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итическая система получила мощный импульс, который положил начало процессу выработки политического решения по вопросам модернизации образования. Данный вопрос стал предметом рассмотрения в Федеральном Собрании, правительстве и других властных структурах (____________________________). Его решение потребовало изменения Закона «Об образовании» и других нормативных актов, а также принятия Закона «О государственных образовательных стандартах» (_______________________________). Подготовка решений по модернизации образования проявилась в различных формах деятельности: дискуссиях, опросах, собраниях учителей, экспертизах (__________________________________). Потребовалось взаимодействие политических партий, министерств образования, финансов Государственной Думы, Президента РФ (_____________________________________). Формы политической деятельности всех учстников и предполагаемые проекты модернизации отражали ценности, идеалы, политическую культуру (________________________). В результате сложного подготовительного процесса, анализа проблемы, обсуждения и т.д. в политической системе созрело решение, которое приняло форму постановлений Правительства РФ …(__________________________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>
            <a:hlinkClick r:id="rId1" action="ppaction://hlinksldjump"/>
          </p:cNvPr>
          <p:cNvSpPr/>
          <p:nvPr/>
        </p:nvSpPr>
        <p:spPr>
          <a:xfrm>
            <a:off x="8675640" y="6453360"/>
            <a:ext cx="468360" cy="404640"/>
          </a:xfrm>
          <a:custGeom>
            <a:avLst/>
            <a:gdLst>
              <a:gd name="textAreaLeft" fmla="*/ 25920 w 468360"/>
              <a:gd name="textAreaRight" fmla="*/ 442440 w 468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4998" h="21600">
                <a:moveTo>
                  <a:pt x="0" y="0"/>
                </a:moveTo>
                <a:lnTo>
                  <a:pt x="24998" y="0"/>
                </a:lnTo>
                <a:lnTo>
                  <a:pt x="24998" y="21600"/>
                </a:lnTo>
                <a:lnTo>
                  <a:pt x="0" y="21600"/>
                </a:lnTo>
                <a:close/>
              </a:path>
              <a:path fill="lightenLess" w="24998" h="21600">
                <a:moveTo>
                  <a:pt x="0" y="0"/>
                </a:moveTo>
                <a:lnTo>
                  <a:pt x="24998" y="0"/>
                </a:lnTo>
                <a:lnTo>
                  <a:pt x="23598" y="1400"/>
                </a:lnTo>
                <a:lnTo>
                  <a:pt x="1400" y="1400"/>
                </a:lnTo>
                <a:close/>
              </a:path>
              <a:path fill="darken" w="24998" h="21600">
                <a:moveTo>
                  <a:pt x="24998" y="0"/>
                </a:moveTo>
                <a:lnTo>
                  <a:pt x="24998" y="21600"/>
                </a:lnTo>
                <a:lnTo>
                  <a:pt x="23598" y="20200"/>
                </a:lnTo>
                <a:lnTo>
                  <a:pt x="23598" y="1400"/>
                </a:lnTo>
                <a:close/>
              </a:path>
              <a:path fill="darkenLess" w="24998" h="21600">
                <a:moveTo>
                  <a:pt x="24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98" y="20200"/>
                </a:lnTo>
                <a:close/>
              </a:path>
              <a:path fill="lighten" w="24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98" h="21600">
                <a:moveTo>
                  <a:pt x="5493" y="7493"/>
                </a:moveTo>
                <a:lnTo>
                  <a:pt x="9000" y="7493"/>
                </a:lnTo>
                <a:lnTo>
                  <a:pt x="9000" y="12828"/>
                </a:lnTo>
                <a:cubicBezTo>
                  <a:pt x="9000" y="13751"/>
                  <a:pt x="9801" y="14482"/>
                  <a:pt x="10837" y="14482"/>
                </a:cubicBezTo>
                <a:lnTo>
                  <a:pt x="12499" y="14482"/>
                </a:lnTo>
                <a:cubicBezTo>
                  <a:pt x="13535" y="14482"/>
                  <a:pt x="14336" y="13751"/>
                  <a:pt x="14336" y="12828"/>
                </a:cubicBezTo>
                <a:lnTo>
                  <a:pt x="14336" y="7493"/>
                </a:lnTo>
                <a:lnTo>
                  <a:pt x="12499" y="7493"/>
                </a:lnTo>
                <a:lnTo>
                  <a:pt x="16007" y="3985"/>
                </a:lnTo>
                <a:lnTo>
                  <a:pt x="19680" y="7493"/>
                </a:lnTo>
                <a:lnTo>
                  <a:pt x="17843" y="7493"/>
                </a:lnTo>
                <a:lnTo>
                  <a:pt x="17843" y="12828"/>
                </a:lnTo>
                <a:cubicBezTo>
                  <a:pt x="17843" y="15596"/>
                  <a:pt x="15267" y="18155"/>
                  <a:pt x="12499" y="18155"/>
                </a:cubicBezTo>
                <a:lnTo>
                  <a:pt x="10837" y="18155"/>
                </a:lnTo>
                <a:cubicBezTo>
                  <a:pt x="8069" y="18155"/>
                  <a:pt x="5493" y="15596"/>
                  <a:pt x="5493" y="12828"/>
                </a:cubicBez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Приложение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Как составлять простой план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Прочитайте текст (представьте мысленно весь материал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Разделите текст на части и выделите в каждой из них главную мысл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Озаглавьте части; подбирая заголовки, замените глаголы именами существительны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Прочитайте текст во второй раз и проверьте, все ли главные мысли отражены в план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 Запишите пла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лан должен полностью охватывать все содержание текс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 заголовках (пунктах плана) не должны повторятся сходные формулиров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58920" y="1628640"/>
            <a:ext cx="38098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Как составлять сложный пл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Внимательно прочитайте изучаемый материа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Разделите его на основные смысловые части и озаглавьте их (пункты план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Разделите на смысловые части содержание каждого пункта и тоже  озаглавьте  (подпункты план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Проверьте, не совмещаются ли пункты и подпункты плана, полностью ли отражено в них основное содержание  изучаемого материа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58920" y="980280"/>
            <a:ext cx="59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ПАМЯТКИ ДЛЯ УЧАЩИХ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>
            <a:hlinkClick r:id="rId1" action="ppaction://hlinksldjump"/>
          </p:cNvPr>
          <p:cNvSpPr/>
          <p:nvPr/>
        </p:nvSpPr>
        <p:spPr>
          <a:xfrm>
            <a:off x="8675640" y="6453360"/>
            <a:ext cx="468360" cy="404640"/>
          </a:xfrm>
          <a:custGeom>
            <a:avLst/>
            <a:gdLst>
              <a:gd name="textAreaLeft" fmla="*/ 25920 w 468360"/>
              <a:gd name="textAreaRight" fmla="*/ 442440 w 468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4998" h="21600">
                <a:moveTo>
                  <a:pt x="0" y="0"/>
                </a:moveTo>
                <a:lnTo>
                  <a:pt x="24998" y="0"/>
                </a:lnTo>
                <a:lnTo>
                  <a:pt x="24998" y="21600"/>
                </a:lnTo>
                <a:lnTo>
                  <a:pt x="0" y="21600"/>
                </a:lnTo>
                <a:close/>
              </a:path>
              <a:path fill="lightenLess" w="24998" h="21600">
                <a:moveTo>
                  <a:pt x="0" y="0"/>
                </a:moveTo>
                <a:lnTo>
                  <a:pt x="24998" y="0"/>
                </a:lnTo>
                <a:lnTo>
                  <a:pt x="23598" y="1400"/>
                </a:lnTo>
                <a:lnTo>
                  <a:pt x="1400" y="1400"/>
                </a:lnTo>
                <a:close/>
              </a:path>
              <a:path fill="darken" w="24998" h="21600">
                <a:moveTo>
                  <a:pt x="24998" y="0"/>
                </a:moveTo>
                <a:lnTo>
                  <a:pt x="24998" y="21600"/>
                </a:lnTo>
                <a:lnTo>
                  <a:pt x="23598" y="20200"/>
                </a:lnTo>
                <a:lnTo>
                  <a:pt x="23598" y="1400"/>
                </a:lnTo>
                <a:close/>
              </a:path>
              <a:path fill="darkenLess" w="24998" h="21600">
                <a:moveTo>
                  <a:pt x="24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98" y="20200"/>
                </a:lnTo>
                <a:close/>
              </a:path>
              <a:path fill="lighten" w="24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98" h="21600">
                <a:moveTo>
                  <a:pt x="5493" y="7493"/>
                </a:moveTo>
                <a:lnTo>
                  <a:pt x="9000" y="7493"/>
                </a:lnTo>
                <a:lnTo>
                  <a:pt x="9000" y="12828"/>
                </a:lnTo>
                <a:cubicBezTo>
                  <a:pt x="9000" y="13751"/>
                  <a:pt x="9801" y="14482"/>
                  <a:pt x="10837" y="14482"/>
                </a:cubicBezTo>
                <a:lnTo>
                  <a:pt x="12499" y="14482"/>
                </a:lnTo>
                <a:cubicBezTo>
                  <a:pt x="13535" y="14482"/>
                  <a:pt x="14336" y="13751"/>
                  <a:pt x="14336" y="12828"/>
                </a:cubicBezTo>
                <a:lnTo>
                  <a:pt x="14336" y="7493"/>
                </a:lnTo>
                <a:lnTo>
                  <a:pt x="12499" y="7493"/>
                </a:lnTo>
                <a:lnTo>
                  <a:pt x="16007" y="3985"/>
                </a:lnTo>
                <a:lnTo>
                  <a:pt x="19680" y="7493"/>
                </a:lnTo>
                <a:lnTo>
                  <a:pt x="17843" y="7493"/>
                </a:lnTo>
                <a:lnTo>
                  <a:pt x="17843" y="12828"/>
                </a:lnTo>
                <a:cubicBezTo>
                  <a:pt x="17843" y="15596"/>
                  <a:pt x="15267" y="18155"/>
                  <a:pt x="12499" y="18155"/>
                </a:cubicBezTo>
                <a:lnTo>
                  <a:pt x="10837" y="18155"/>
                </a:lnTo>
                <a:cubicBezTo>
                  <a:pt x="8069" y="18155"/>
                  <a:pt x="5493" y="15596"/>
                  <a:pt x="5493" y="12828"/>
                </a:cubicBez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Цель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Формирование информационной компетенции обучающихся через развитие умений работы с текс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268360" y="2997360"/>
            <a:ext cx="4892760" cy="3666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indefinite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6" dur="indefinite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7" dur="indefinite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Задач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делять в тексте главные положения и мыс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ставлять различные виды план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вертывать текст, строя по плану собственное высказы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нспектировать и реферировать тек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основе сопоставления нескольких источников восстанавливать поврежденный тек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ставлять устное или письменное высказывание на основе представленной цифровой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indefinite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5" dur="indefinite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6" dur="indefinite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Основные формы и методы работы с текстом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6560" y="1599840"/>
            <a:ext cx="785988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оставление вопросов к тексту и ответы на них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 Комментированное чтение текст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. Аналитическое чтение текст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. Деление текста на смысловые част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. Составление тезисного план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6. Составление конкретизирующих, сравнительных, хронологических обобщающих таблиц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7. Подбор примеров, раскрывающих основные идеи текст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en-US" sz="2200" spc="-1" strike="noStrike" u="sng">
                <a:solidFill>
                  <a:srgbClr val="990033"/>
                </a:solidFill>
                <a:uFillTx/>
                <a:latin typeface="Arial"/>
                <a:hlinkClick r:id="rId1" action="ppaction://hlinksldjump"/>
              </a:rPr>
              <a:t>Восстановление деформированного текста на основе полученных знаний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0" lang="en-US" sz="22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Составление логической схем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0. Преобразование цифровой информации (графика, статистической таблицы, диаграммы) в собственный текс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Анализ результатов ГИА - 2010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Часть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асть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47640" y="2205000"/>
          <a:ext cx="8496000" cy="924120"/>
        </p:xfrm>
        <a:graphic>
          <a:graphicData uri="http://schemas.openxmlformats.org/drawingml/2006/table">
            <a:tbl>
              <a:tblPr/>
              <a:tblGrid>
                <a:gridCol w="299880"/>
                <a:gridCol w="492120"/>
                <a:gridCol w="360360"/>
                <a:gridCol w="503280"/>
                <a:gridCol w="360360"/>
                <a:gridCol w="503280"/>
                <a:gridCol w="360360"/>
                <a:gridCol w="360360"/>
                <a:gridCol w="360360"/>
                <a:gridCol w="360360"/>
                <a:gridCol w="431640"/>
                <a:gridCol w="432000"/>
                <a:gridCol w="503280"/>
                <a:gridCol w="360360"/>
                <a:gridCol w="431640"/>
                <a:gridCol w="360360"/>
                <a:gridCol w="360360"/>
                <a:gridCol w="432000"/>
                <a:gridCol w="504720"/>
                <a:gridCol w="358560"/>
                <a:gridCol w="360360"/>
              </a:tblGrid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2195640" y="3933720"/>
          <a:ext cx="6408720" cy="2254320"/>
        </p:xfrm>
        <a:graphic>
          <a:graphicData uri="http://schemas.openxmlformats.org/drawingml/2006/table">
            <a:tbl>
              <a:tblPr/>
              <a:tblGrid>
                <a:gridCol w="821160"/>
                <a:gridCol w="1959120"/>
                <a:gridCol w="1962360"/>
                <a:gridCol w="166608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равилис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ично справилис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справилис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В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В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В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В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В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Анализ результатов ГИА - 2010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55280" y="1052280"/>
            <a:ext cx="38098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асть 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684360" y="1989000"/>
          <a:ext cx="2303280" cy="216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2303280" cy="21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826920" y="1556280"/>
            <a:ext cx="223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С1. Задание на составление пла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51280" y="1556280"/>
            <a:ext cx="439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Воспроизводящие задания к текст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С2.                                                     С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3419640" y="1916280"/>
          <a:ext cx="2582640" cy="223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19640" y="1916280"/>
                    <a:ext cx="2582640" cy="22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6227640" y="1773360"/>
          <a:ext cx="2737080" cy="2447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27640" y="1773360"/>
                    <a:ext cx="2737080" cy="24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539640" y="4626000"/>
          <a:ext cx="2303640" cy="2232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9640" y="4626000"/>
                    <a:ext cx="2303640" cy="22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684360" y="4078440"/>
            <a:ext cx="223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С4. Конкретизация собственными пример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36720" y="4075920"/>
            <a:ext cx="207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С5. Задание-задач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348000" y="4437000"/>
          <a:ext cx="2303640" cy="2421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348000" y="4437000"/>
                    <a:ext cx="2303640" cy="24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6443640" y="4508640"/>
          <a:ext cx="2303640" cy="2349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43640" y="4508640"/>
                    <a:ext cx="2303640" cy="23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6372360" y="4003920"/>
            <a:ext cx="2447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С6. Формулирование и обоснование своего отнош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2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С 1- С 4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1495080"/>
            <a:ext cx="835344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Язык, культура, нравственность, весь духовный капитал, которым 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живем, и который составляет наше существо, берется из сложившихся жизненных отношений между людьми. Социальная, общественная жизнь 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есть, следовательно, какая-то внешняя форма человеческой жизни. Она е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еобходимое выражение единства людей, составляющего основу человеческой жизни во всех ее областях. Человек живет в обществе не потому, что так жить удобнее, а потому, что лишь в качестве члена обще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н может состояться как человек, подобно тому, как лист может быть тольк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листом целого дере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Это внутреннее органическое единство может выступать в форме семьи, в форме религиозной общины и т. д., наконец, в форме общности судьбы и жизни всякого объединенного множества людей. Эта общность образует жизненное содержание самой личности. Общность –  это духовное питание, которым внутренне живет личность, ее богатство, ее личное  достоя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ля поверхностного восприятия общество состоит из людей, в настоящее время населяющих землю. Но за наружным, временны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осприятием жизни скрывается ее вечный фундамент и источник сил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единство настоящего с прошлым и будущим. В каждое мгновение наш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жизнь определена силами и средствами, накопленными в прошлом, и вмес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 тем устремлена в будущее, выступает как творчество того, чего еще н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По материалам энциклопедии для школьнико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С1 - </a:t>
            </a:r>
            <a:r>
              <a:rPr b="0" i="1" lang="en-US" sz="3200" spc="-1" strike="noStrike">
                <a:solidFill>
                  <a:srgbClr val="330033"/>
                </a:solidFill>
                <a:latin typeface="Times New Roman"/>
              </a:rPr>
              <a:t>Задание на составление план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83432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План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еткое последовательное представление частей содержания изученного текста в кратких формулировках, отражающих тему и/или основную идею соответствующего фрагмен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187280" y="2637000"/>
            <a:ext cx="7354800" cy="1009080"/>
            <a:chOff x="1187280" y="2637000"/>
            <a:chExt cx="7354800" cy="1009080"/>
          </a:xfrm>
        </p:grpSpPr>
        <p:cxnSp>
          <p:nvCxnSpPr>
            <p:cNvPr id="137" name="_s139276"/>
            <p:cNvCxnSpPr>
              <a:stCxn id="138" idx="0"/>
              <a:endCxn id="139" idx="2"/>
            </p:cNvCxnSpPr>
            <p:nvPr/>
          </p:nvCxnSpPr>
          <p:spPr>
            <a:xfrm flipV="1" rot="16200000">
              <a:off x="6050520" y="1853640"/>
              <a:ext cx="202320" cy="2574720"/>
            </a:xfrm>
            <a:prstGeom prst="bentConnector3">
              <a:avLst>
                <a:gd name="adj1" fmla="val 2228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0" name="_s139275"/>
            <p:cNvCxnSpPr>
              <a:stCxn id="141" idx="0"/>
              <a:endCxn id="139" idx="2"/>
            </p:cNvCxnSpPr>
            <p:nvPr/>
          </p:nvCxnSpPr>
          <p:spPr>
            <a:xfrm flipV="1">
              <a:off x="4864680" y="3040200"/>
              <a:ext cx="2880" cy="202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2" name="_s139274"/>
            <p:cNvCxnSpPr>
              <a:stCxn id="143" idx="0"/>
              <a:endCxn id="139" idx="2"/>
            </p:cNvCxnSpPr>
            <p:nvPr/>
          </p:nvCxnSpPr>
          <p:spPr>
            <a:xfrm flipH="1" flipV="1" rot="5400000">
              <a:off x="3476160" y="1854000"/>
              <a:ext cx="202320" cy="2574720"/>
            </a:xfrm>
            <a:prstGeom prst="bentConnector3">
              <a:avLst>
                <a:gd name="adj1" fmla="val 2228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9" name="_s139270"/>
            <p:cNvSpPr/>
            <p:nvPr/>
          </p:nvSpPr>
          <p:spPr>
            <a:xfrm>
              <a:off x="3761280" y="2637000"/>
              <a:ext cx="2206440" cy="40356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990033"/>
                  </a:solidFill>
                  <a:uFillTx/>
                  <a:latin typeface="Arial"/>
                  <a:hlinkClick r:id="rId1" action="ppaction://hlinksldjump"/>
                </a:rPr>
                <a:t>Пла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139271"/>
            <p:cNvSpPr/>
            <p:nvPr/>
          </p:nvSpPr>
          <p:spPr>
            <a:xfrm>
              <a:off x="1187280" y="3242520"/>
              <a:ext cx="2206440" cy="40356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"/>
                </a:rPr>
                <a:t>Назывной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139272"/>
            <p:cNvSpPr/>
            <p:nvPr/>
          </p:nvSpPr>
          <p:spPr>
            <a:xfrm>
              <a:off x="3761280" y="3242520"/>
              <a:ext cx="2206440" cy="40356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Вопросны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139273"/>
            <p:cNvSpPr/>
            <p:nvPr/>
          </p:nvSpPr>
          <p:spPr>
            <a:xfrm>
              <a:off x="6335640" y="3242520"/>
              <a:ext cx="2206440" cy="40356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Тезисный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971640" y="4250880"/>
            <a:ext cx="2305080" cy="179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) социальная сущность челове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) внутреннее органическое единство люд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) уровни восприятия обще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195640" y="3789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92360" y="4146840"/>
            <a:ext cx="2448000" cy="222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) Что определяет социальную сущность человека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) В какой форме проявляется внутреннее органическое единство людей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) Какие уровни восприятия общества выделены в тексте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859280" y="3716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156360" y="4153680"/>
            <a:ext cx="2808360" cy="246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Социальная, общественная жизнь есть необходимое выражение единства людей, составляющего основу человеческой жизни во всех ее областя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внутреннее органическое единство образует жизненное содержание самой лич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за наружным, временным восприятием жизни скрывается ее вечный фундамент и источник сил – единство настоящего с прошлым и будущи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524720" y="3716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С 2 – С3 - </a:t>
            </a:r>
            <a:r>
              <a:rPr b="0" i="1" lang="en-US" sz="2000" spc="-1" strike="noStrike">
                <a:solidFill>
                  <a:srgbClr val="330033"/>
                </a:solidFill>
                <a:latin typeface="Times New Roman"/>
              </a:rPr>
              <a:t>Воспроизводящие задания к тексту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26920" y="907920"/>
            <a:ext cx="77724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33"/>
                </a:solidFill>
                <a:uFillTx/>
                <a:latin typeface="Arial"/>
              </a:rPr>
              <a:t>памятка для учащихся по анализу текс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4360" y="1527120"/>
            <a:ext cx="8280360" cy="51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прежде чем отвечать на вопросы и выполнять задания, внимательно прочитайте текст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б) помните: прямые ответы на многие вопросы или подсказки содержатся в тексте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в) соотнесите предложенный текст с изученным курсом определите, с какой содержательной линией связан данный текст («Общество», «Человек», «Познание», «Духовная жизнь  общества», «Экономическая сфера жизни общества», «Социальные отношения», «Политика» и «Право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г) дайте ответ на вопрос: «О чем данный текст?» - и определите его основную идею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д) отвечать на предложенные вопросы старайтесь по порядку, так как они чаще всего предъявляются по принципу «от простого к сложному». Ответ на первый вопрос может послужить основой для выполнения следующего задания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ж) вопросы к документам читайте вдумчиво, стремясь уяснить задания полностью. Отвечайте точно на поставленный вопрос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з) обратите внимание, на что именно предлагается опереться при выполнении задания (это часто оговаривается в условии): текст, личный опыт, материал, изученный в курсе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и) старайтесь давать логически связный ответ, содержащий четкие и ясные формулировки. Не останавливайтесь на какой-либо части задания, избегайте неполных ответов. Не прибегайте к излишним обобщениям и интерпретации авторского текста там, где этого не требует задание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к) сформулировав ответ, проверьте его правильность. Для этого вернитесь к тексту и найдите в нем ключевые слова и фразы, которые подтверждают ваши выводы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09:06:55Z</dcterms:created>
  <dc:creator>Кирилловы-Малковы</dc:creator>
  <dc:description/>
  <dc:language>en-US</dc:language>
  <cp:lastModifiedBy>админ</cp:lastModifiedBy>
  <dcterms:modified xsi:type="dcterms:W3CDTF">2011-04-05T04:30:01Z</dcterms:modified>
  <cp:revision>11</cp:revision>
  <dc:subject/>
  <dc:title>Использование различных форм работы с текстом на уроках истории и обществознания. </dc:title>
</cp:coreProperties>
</file>