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543-3E4A-4259-A4B3-5629F6A9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FF4-0B90-4158-89E3-D1D8D10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021-7EF3-40D5-9F2C-F209A7F0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97F-7E2B-4D7E-8ECA-8A909AA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88C9-1EA4-4B64-A5D9-098EFFF0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63E-3657-43EF-9873-A9D67F62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1840-87C7-4C2F-BE78-643E3C57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CB8C-871E-403C-9BAE-9079127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5AB-EBD3-405A-8219-0CE53735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DE3-D069-4F0E-A035-935E8AE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55E5-95F0-4814-9499-A18F965F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359-57F0-4B87-943E-5980E8F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607-A0C8-4EBC-8773-4AF7D8F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C9C2-2EEC-4036-BCD0-B702CB6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F7F-DB72-418D-A9B9-2A6E595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8CF8-009E-4EAD-95CE-42FAB91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EAC-A051-4A41-802D-18B5A74C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4CE-870B-48C3-ABC6-CC8A48F1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0B0-F2F0-4D05-8B5E-787AC6E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C9C-4492-4842-A441-D0B589E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A63-10C8-47E0-B357-41E5ADFC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117-C8D7-4AB1-92B7-0FEC81A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9F3-D3D4-446D-822F-5BBC75B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8C8-312E-43DE-BDFD-5BECDE1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ABDB-384E-479E-8CF0-90CAAB406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DD56-3B99-4D6B-BDEF-5C0452CF2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/&#1069;&#1082;&#1086;&#1083;&#1086;&#1075;&#1080;&#1095;&#1077;&#1089;&#1082;&#1086;&#1077;%20&#1087;&#1088;&#1072;&#1074;&#1086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90;&#1088;&#1077;&#1085;&#1072;&#1078;&#1077;&#1088;%209%20&#1082;&#1083;&#1072;&#1089;&#1089;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5280" y="620280"/>
            <a:ext cx="7308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Использование различных форм работы с текстом на уроках истории и обществознания как средство формирования информационной компетенции обучающихся.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                             (</a:t>
            </a: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Из опыта работы Житеневой О.А,</a:t>
            </a:r>
            <a:br>
              <a:rPr sz="2000"/>
            </a:b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учителя истории и обществознания</a:t>
            </a:r>
            <a:br>
              <a:rPr sz="2000"/>
            </a:b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ОУ СОШ №12 г. Сызрани)                                      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0920" y="3962520"/>
            <a:ext cx="7923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ение делает человека ___________, беседа — _____________, а привычка записывать — ___________ (Ф. Бэк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6093000"/>
            <a:ext cx="187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знающи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609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находчивы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08720" y="6093000"/>
            <a:ext cx="129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0033"/>
                </a:solidFill>
                <a:latin typeface="Arial"/>
              </a:rPr>
              <a:t>точны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642E-007 L 0.50416 -0.2622 E">
                                      <p:cBhvr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08663 -0.19931 E">
                                      <p:cBhvr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28E-006 L -0.33872 -0.1311 E"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4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кретизация собственными примера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одержательное пространство», из которого могут черпаться примеры, очень большое и разнородное. Примерами могут быть факты прошлого и современности, почерпнутые из собственного опыта или получившие общественную известность; реальные события и смоделирован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5 -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Задание-задача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имательно ознакомьтесь с условием задачи и запомните вопрос. В случае необходимости уточните значение непонятных терминов с помощью словарей, справочников и учебника (в условиях экзамена придется рассчитывать только на свои знания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отнесите вопросы, сформулированные в задаче с ее условием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определите, какая полезная для решения задачи информация содержится в ее условии; - подумайте, не противоречат ли друг другу данные условия задачи (именно противоречия данных может подсказать путь решения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думайте, какие дополнительные знания следует привлечь для  решения задачи, к каким источникам,  нормативно-правовым актам следует обратить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метьте предполагаемый ответ в соответствии с вопросом или предписание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одумайте аргументы, подкрепляющие ваше реш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бедитесь в правильности вашего отв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соответствует ли ваш ответ существу вопрос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если в задаче дано несколько вопросов, то дан ли ответ на каждый из них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нет ли противоречий между вашими аргумент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нет ли в условии задачи данных, противоречащих вашему решению;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можно ли считать предложенный путь решения единственно возможны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не следуют ли из условия задачи какие-либо другие выводы помимо обозначенных в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4360" y="10519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лгоритм решения обществоведческих задач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9493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лгоритм составлен Котовой О.А. и Лисковой Т.Е. на основе памятки, разработанной авторским коллективом под руководством Л. Н. Боголюб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6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гументация собственной позиции с опорой на содержание текста, знания курса и личный социальный опыт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ами оценки экспертов при выполнении этих заданий является не заявленное школьником отношение, а сила аргументации своего выбора, а также умение извлечь нужную в данном случае информацию из текста и правильно интерпретировать ее в заданном ракур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278136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иложение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п.21учебник Обществознание. 10 класс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а «Политическая власть и политическая систе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тайте текст. Назовите структурные компоненты (подсистемы) политическ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емы, проявившиеся в решении вопросов модернизаци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система получила мощный импульс, который положил начало процессу выработки политического решения по вопросам модернизации образования. Данный вопрос стал предметом рассмотрения в Федеральном Собрании, правительстве и других властных структурах (____________________________). Его решение потребовало изменения Закона «Об образовании» и других нормативных актов, а также принятия Закона «О государственных образовательных стандартах» (_______________________________). Подготовка решений по модернизации образования проявилась в различных формах деятельности: дискуссиях, опросах, собраниях учителей, экспертизах (__________________________________). Потребовалось взаимодействие политических партий, министерств образования, финансов Государственной Думы, Президента РФ (_____________________________________). Формы политической деятельности всех учстников и предполагаемые проекты модернизации отражали ценности, идеалы, политическую культуру (________________________). В результате сложного подготовительного процесса, анализа проблемы, обсуждения и т.д. в политической системе созрело решение, которое приняло форму постановлений Правительства РФ …(_________________________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к составлять простой план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Прочитайте текст (представьте мысленно весь материа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азделите текст на части и выделите в каждой из них главную мыс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Озаглавьте части; подбирая заголовки, замените глаголы именами существи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очитайте текст во второй раз и проверьте, все ли главные мысли отражены в пл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Запишите п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ан должен полностью охватывать все содержание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заголовках (пунктах плана) не должны повторятся сходные формули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к составлять сложный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Внимательно прочитайте изучаемый матери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азделите его на основные смысловые части и озаглавьте их (пункты пл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Разделите на смысловые части содержание каждого пункта и тоже  озаглавьте  (подпункты пл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оверьте, не совмещаются ли пункты и подпункты плана, полностью ли отражено в них основное содержание 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9802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ПАМЯТКИ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й компетенции обучающихся через развитие умений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2760" cy="36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ть в тексте главные положения 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ть различные виды пл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ертывать текст, строя по плану собствен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пектировать и реферировать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е сопоставления нескольких источников восстанавливать поврежден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ть устное или письменное высказывание на основе представленной цифр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формы и методы работы с текстом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ение вопросов к тексту и ответы на них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Комментированное чтение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Аналитическое чтение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Деление текста на смысловые ч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Составление тезисного пла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Составление конкретизирующих, сравнительных, хронологических обобщающих таб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Подбор примеров, раскрывающих основные идеи тек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Восстановление деформированного текста на основе полученных знаний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оставление логической сх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. Преобразование цифровой информации (графика, статистической таблицы, диаграммы) в собственный тек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результатов ГИА -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Час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7640" y="2205000"/>
          <a:ext cx="8496000" cy="924120"/>
        </p:xfrm>
        <a:graphic>
          <a:graphicData uri="http://schemas.openxmlformats.org/drawingml/2006/table">
            <a:tbl>
              <a:tblPr/>
              <a:tblGrid>
                <a:gridCol w="299880"/>
                <a:gridCol w="492120"/>
                <a:gridCol w="360360"/>
                <a:gridCol w="503280"/>
                <a:gridCol w="360360"/>
                <a:gridCol w="503280"/>
                <a:gridCol w="360360"/>
                <a:gridCol w="360360"/>
                <a:gridCol w="360360"/>
                <a:gridCol w="360360"/>
                <a:gridCol w="431640"/>
                <a:gridCol w="432000"/>
                <a:gridCol w="503280"/>
                <a:gridCol w="360360"/>
                <a:gridCol w="431640"/>
                <a:gridCol w="360360"/>
                <a:gridCol w="360360"/>
                <a:gridCol w="432000"/>
                <a:gridCol w="504720"/>
                <a:gridCol w="358560"/>
                <a:gridCol w="36036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95640" y="3933720"/>
          <a:ext cx="6408720" cy="2254320"/>
        </p:xfrm>
        <a:graphic>
          <a:graphicData uri="http://schemas.openxmlformats.org/drawingml/2006/table">
            <a:tbl>
              <a:tblPr/>
              <a:tblGrid>
                <a:gridCol w="821160"/>
                <a:gridCol w="1959120"/>
                <a:gridCol w="1962360"/>
                <a:gridCol w="1666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 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нализ результатов ГИА -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3809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989000"/>
          <a:ext cx="230328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2303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26920" y="1556280"/>
            <a:ext cx="22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1. Задание на составление п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1556280"/>
            <a:ext cx="43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роизводящие задания к текс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2.                                                     С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19640" y="1916280"/>
          <a:ext cx="25826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916280"/>
                    <a:ext cx="2582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27640" y="1773360"/>
          <a:ext cx="2737080" cy="24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773360"/>
                    <a:ext cx="273708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4626000"/>
          <a:ext cx="2303640" cy="22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626000"/>
                    <a:ext cx="2303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4360" y="40784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4. Конкретизация собственными приме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6720" y="407592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5. Задание-задач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4437000"/>
          <a:ext cx="2303640" cy="24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437000"/>
                    <a:ext cx="230364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4508640"/>
          <a:ext cx="2303640" cy="234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4508640"/>
                    <a:ext cx="23036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372360" y="4003920"/>
            <a:ext cx="24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6. Формулирование и обоснование своего отно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 1- С 4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9508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зык, культура, нравственность, весь духовный капитал, которым 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вем, и который составляет наше существо, берется из сложившихся жизненных отношений между людьми. Социальная, общественная жизн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ть, следовательно, какая-то внешняя форма человеческой жизни. Она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обходимое выражение единства людей, составляющего основу человеческой жизни во всех ее областях. Человек живет в обществе не потому, что так жить удобнее, а потому, что лишь в качестве члена 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может состояться как человек, подобно тому, как лист может быть 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стом целого дер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внутреннее органическое единство может выступать в форме семьи, в форме религиозной общины и т. д., наконец, в форме общности судьбы и жизни всякого объединенного множества людей. Эта общность образует жизненное содержание самой личности. Общность –  это духовное питание, которым внутренне живет личность, ее богатство, ее личное  достоя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оверхностного восприятия общество состоит из людей, в настоящее время населяющих землю. Но за наружным, време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риятием жизни скрывается ее вечный фундамент и источник сил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инство настоящего с прошлым и будущим. В каждое мгновение на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знь определена силами и средствами, накопленными в прошлом, и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тем устремлена в будущее, выступает как творчество того, чего ещ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о материалам энциклопедии для школьни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1 -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Задание на составление план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Пла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кое последовательное представление частей содержания изученного текста в кратких формулировках, отражающих тему и/или основную идею соответствующего фраг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2637000"/>
            <a:ext cx="7354800" cy="1009080"/>
            <a:chOff x="1187280" y="2637000"/>
            <a:chExt cx="7354800" cy="1009080"/>
          </a:xfrm>
        </p:grpSpPr>
        <p:cxnSp>
          <p:nvCxnSpPr>
            <p:cNvPr id="137" name="_s139276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050520" y="1853640"/>
              <a:ext cx="202320" cy="2574720"/>
            </a:xfrm>
            <a:prstGeom prst="bentConnector3">
              <a:avLst>
                <a:gd name="adj1" fmla="val 222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39275"/>
            <p:cNvCxnSpPr>
              <a:stCxn id="141" idx="0"/>
              <a:endCxn id="139" idx="2"/>
            </p:cNvCxnSpPr>
            <p:nvPr/>
          </p:nvCxnSpPr>
          <p:spPr>
            <a:xfrm flipV="1">
              <a:off x="4864680" y="3040200"/>
              <a:ext cx="2880" cy="20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39274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476160" y="1854000"/>
              <a:ext cx="202320" cy="2574720"/>
            </a:xfrm>
            <a:prstGeom prst="bentConnector3">
              <a:avLst>
                <a:gd name="adj1" fmla="val 222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39270"/>
            <p:cNvSpPr/>
            <p:nvPr/>
          </p:nvSpPr>
          <p:spPr>
            <a:xfrm>
              <a:off x="3761280" y="263700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0033"/>
                  </a:solidFill>
                  <a:uFillTx/>
                  <a:latin typeface="Arial"/>
                  <a:hlinkClick r:id="rId1" action="ppaction://hlinksldjump"/>
                </a:rPr>
                <a:t>Пл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39271"/>
            <p:cNvSpPr/>
            <p:nvPr/>
          </p:nvSpPr>
          <p:spPr>
            <a:xfrm>
              <a:off x="118728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Назыв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39272"/>
            <p:cNvSpPr/>
            <p:nvPr/>
          </p:nvSpPr>
          <p:spPr>
            <a:xfrm>
              <a:off x="376128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Вопрос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9273"/>
            <p:cNvSpPr/>
            <p:nvPr/>
          </p:nvSpPr>
          <p:spPr>
            <a:xfrm>
              <a:off x="6335640" y="3242520"/>
              <a:ext cx="2206440" cy="403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Тезис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71640" y="4250880"/>
            <a:ext cx="2305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социальная сущность челове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внутреннее органическое единство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уровни восприятия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146840"/>
            <a:ext cx="244800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Что определяет социальную сущность челове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В какой форме проявляется внутреннее органическое единство люд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Какие уровни восприятия общества выделены в текс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4153680"/>
            <a:ext cx="280836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циальная, общественная жизнь есть необходимое выражение единства людей, составляющего основу человеческой жизни во всех ее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внутреннее органическое единство образует жизненное содержание самой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за наружным, временным восприятием жизни скрывается ее вечный фундамент и источник сил – единство настоящего с прошлым и буду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 2 – С3 - </a:t>
            </a:r>
            <a:r>
              <a:rPr b="0" i="1" lang="en-US" sz="2000" spc="-1" strike="noStrike">
                <a:solidFill>
                  <a:srgbClr val="330033"/>
                </a:solidFill>
                <a:latin typeface="Times New Roman"/>
              </a:rPr>
              <a:t>Воспроизводящие задания к текст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памятка для учащихся по анализу тек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527120"/>
            <a:ext cx="828036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ежде чем отвечать на вопросы и выполнять задания, внимательно прочитайте текст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) помните: прямые ответы на многие вопросы или подсказки содержатся в текст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) соотнесите предложенный текст с изученным курсом определите, с какой содержательной линией связан данный текст («Общество», «Человек», «Познание», «Духовная жизнь  общества», «Экономическая сфера жизни общества», «Социальные отношения», «Политика» и «Право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) дайте ответ на вопрос: «О чем данный текст?» - и определите его основную идею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) отвечать на предложенные вопросы старайтесь по порядку, так как они чаще всего предъявляются по принципу «от простого к сложному». Ответ на первый вопрос может послужить основой для выполнения следующего задани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ж) вопросы к документам читайте вдумчиво, стремясь уяснить задания полностью. Отвечайте точно на поставленный вопрос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) обратите внимание, на что именно предлагается опереться при выполнении задания (это часто оговаривается в условии): текст, личный опыт, материал, изученный в курс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) старайтесь давать логически связный ответ, содержащий четкие и ясные формулировки. Не останавливайтесь на какой-либо части задания, избегайте неполных ответов. Не прибегайте к излишним обобщениям и интерпретации авторского текста там, где этого не требует задани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) сформулировав ответ, проверьте его правильность. Для этого вернитесь к тексту и найдите в нем ключевые слова и фразы, которые подтверждают ваши вывод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9:06:55Z</dcterms:created>
  <dc:creator>Кирилловы-Малковы</dc:creator>
  <dc:description/>
  <dc:language>en-US</dc:language>
  <cp:lastModifiedBy>админ</cp:lastModifiedBy>
  <dcterms:modified xsi:type="dcterms:W3CDTF">2011-04-05T04:30:01Z</dcterms:modified>
  <cp:revision>11</cp:revision>
  <dc:subject/>
  <dc:title>Использование различных форм работы с текстом на уроках истории и обществознания. </dc:title>
</cp:coreProperties>
</file>