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0.png" ContentType="image/png"/>
  <Override PartName="/ppt/media/image8.jpeg" ContentType="image/jpeg"/>
  <Override PartName="/ppt/media/image2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1.png" ContentType="image/png"/>
  <Override PartName="/ppt/media/image19.png" ContentType="image/png"/>
  <Override PartName="/ppt/media/image16.gif" ContentType="image/gif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2F60-98F4-444A-8209-009419E85A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C461-4EFA-4B1A-B2E6-2A7CCF4E35EA}" type="slidenum">
              <a:rPr b="0" lang="ru-RU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7819-E03E-4BD6-BE3C-361AB5A688C5}" type="slidenum">
              <a:rPr b="0" lang="ru-RU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F111-83A3-43CD-8792-0B41E241373E}" type="slidenum">
              <a:rPr b="0" lang="ru-RU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E96A-EB7F-4CDC-8F0A-74D91173EE1E}" type="slidenum">
              <a:rPr b="0" lang="ru-RU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76F8-0DBF-4B0F-8841-6DB7E1EDFE7B}" type="slidenum">
              <a:rPr b="0" lang="ru-RU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93B4-A9CD-409F-83CA-1259BE7A3B80}" type="slidenum">
              <a:rPr b="0" lang="ru-RU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5CCF-366E-48BE-BFB3-C3887066CAB3}" type="slidenum">
              <a:rPr b="0" lang="ru-RU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AA4C-205B-4FB2-A0F6-2EC1FB672597}" type="slidenum">
              <a:rPr b="0" lang="ru-RU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51B3-8CA1-4772-88CD-9B8865661CA5}" type="slidenum">
              <a:rPr b="0" lang="ru-RU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2E27-72D8-48F0-891A-F3D726E1B445}" type="slidenum">
              <a:rPr b="0" lang="ru-RU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0052-49E3-4F53-95A8-C29E1EB7BC3B}" type="slidenum">
              <a:rPr b="0" lang="ru-RU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CDAF-8331-46E3-B859-AC83F55A8975}" type="slidenum">
              <a:rPr b="0" lang="ru-RU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525E8-DF2D-41D1-8606-2EAA0683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5C572-C763-449F-AA63-0459779A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7DF3F-CC7D-4B73-87FC-13500582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0AF61-E43E-4C58-B5E1-5D527DAF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C40E-20E6-4F92-B32F-F77B8799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3E1F-627F-4742-B3F8-98FD1A61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995E-4E24-4813-9AE0-50F097F5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09BB-7720-4976-B2CF-4499D832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DEA1-3D09-4770-B14C-606CFB1F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5583-80E0-4D8F-AAF0-B85A8575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6338-6F76-4B6E-8DD3-A9D47A98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09317-92DF-494F-A2B4-47A92F74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8186-29BF-46FB-8E9F-B9DA02EC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D86B-D339-4900-BB83-4B593B70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68B3-C551-4024-8D97-6A4EF6C1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2685-156E-4DDB-A5FB-623FF3B1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5ADB-937B-46B9-B465-C11B5B6B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3D317-7090-4AB8-ACCE-7DD540E8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CEADE-EF82-4761-8614-E8FB1F58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5BD4B-245C-497E-9DB6-403AA8B8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347CF-C6F5-44A0-A6EB-65B1CC34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2A4D4-9D8F-46BD-915A-13A18743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1FAC1-76DF-4E82-BDF9-45174764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449AB-CF15-47D0-94C5-86CAA6FE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586E-227A-4F4F-A8C5-707B5BB4D7D8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B213-8F7B-4594-A90E-EDB7B8AB400A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258920" y="0"/>
            <a:ext cx="788508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336600"/>
                </a:solidFill>
                <a:latin typeface="Pero"/>
              </a:rPr>
              <a:t>ЗАСЕДАНИЕ КЛУБА</a:t>
            </a:r>
            <a:r>
              <a:rPr b="0" lang="en-US" sz="5600" spc="-1" strike="noStrike">
                <a:solidFill>
                  <a:srgbClr val="cc0000"/>
                </a:solidFill>
                <a:latin typeface="Joke"/>
              </a:rPr>
              <a:t> </a:t>
            </a:r>
            <a:br>
              <a:rPr sz="5600"/>
            </a:b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ЮНЫХ ЭКОНОМИСТОВ   «ЭКО»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57080" y="4221000"/>
            <a:ext cx="914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920" y="5013360"/>
            <a:ext cx="514440" cy="190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69920" y="5589720"/>
            <a:ext cx="514440" cy="190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69920" y="6237360"/>
            <a:ext cx="514440" cy="190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33300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ожно ли сказать, что этот человек на необитаемом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трове богат?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rcRect l="0" t="700" r="0" b="0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ую, с экономической точки зрения, ошибку допустил Буратино?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1258920" y="0"/>
            <a:ext cx="788508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336600"/>
                </a:solidFill>
                <a:latin typeface="Pero"/>
              </a:rPr>
              <a:t>ЗАСЕДАНИЕ КЛУБА</a:t>
            </a:r>
            <a:r>
              <a:rPr b="0" lang="en-US" sz="5600" spc="-1" strike="noStrike">
                <a:solidFill>
                  <a:srgbClr val="cc0000"/>
                </a:solidFill>
                <a:latin typeface="Joke"/>
              </a:rPr>
              <a:t> </a:t>
            </a:r>
            <a:br>
              <a:rPr sz="5600"/>
            </a:b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ЮНЫХ ЭКОНОМИСТОВ   «ЭКО»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757080" y="4221000"/>
            <a:ext cx="914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Georgia"/>
              </a:rPr>
              <a:t>ПЛАН РАБОТЫ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Georgia"/>
              </a:rPr>
              <a:t>Ответы на присланные в   клуб письма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Georgia"/>
              </a:rPr>
              <a:t>Приём посетителей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Georgia"/>
              </a:rPr>
              <a:t>Разное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69920" y="5013360"/>
            <a:ext cx="514440" cy="190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69920" y="5589720"/>
            <a:ext cx="514440" cy="190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69920" y="6237360"/>
            <a:ext cx="514440" cy="190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WordArt 7"/>
          <p:cNvSpPr txBox="1"/>
          <p:nvPr/>
        </p:nvSpPr>
        <p:spPr>
          <a:xfrm>
            <a:off x="1116000" y="404640"/>
            <a:ext cx="712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ВЕТ ОТ КОРОЛЯ ЭКОНОМА !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755640" y="0"/>
            <a:ext cx="788508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00"/>
                </a:solidFill>
                <a:latin typeface="Pero"/>
              </a:rPr>
              <a:t>ЗАСЕДАНИЕ КЛУБА</a:t>
            </a:r>
            <a:r>
              <a:rPr b="0" lang="en-US" sz="4800" spc="-1" strike="noStrike">
                <a:solidFill>
                  <a:srgbClr val="336600"/>
                </a:solidFill>
                <a:latin typeface="Joke"/>
              </a:rPr>
              <a:t> </a:t>
            </a:r>
            <a:br>
              <a:rPr sz="4800"/>
            </a:br>
            <a:r>
              <a:rPr b="0" lang="en-US" sz="4200" spc="-1" strike="noStrike">
                <a:solidFill>
                  <a:srgbClr val="336600"/>
                </a:solidFill>
                <a:latin typeface="Georgia"/>
              </a:rPr>
              <a:t>ЮНЫХ ЭКОНОМИСТОВ   «ЭКО»</a:t>
            </a:r>
            <a:endParaRPr b="0" lang="en-US" sz="4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396720" y="4149720"/>
            <a:ext cx="914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ПЛАН РАБОТЫ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Ответы на присланные в   клуб письма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Приём посетителей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Разное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1258920" y="0"/>
            <a:ext cx="788508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336600"/>
                </a:solidFill>
                <a:latin typeface="Pero"/>
              </a:rPr>
              <a:t>ЗАСЕДАНИЕ КЛУБА</a:t>
            </a:r>
            <a:r>
              <a:rPr b="0" lang="en-US" sz="5600" spc="-1" strike="noStrike">
                <a:solidFill>
                  <a:srgbClr val="cc0000"/>
                </a:solidFill>
                <a:latin typeface="Joke"/>
              </a:rPr>
              <a:t> </a:t>
            </a:r>
            <a:br>
              <a:rPr sz="5600"/>
            </a:b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ЮНЫХ ЭКОНОМИСТОВ   «ЭКО»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757080" y="4221000"/>
            <a:ext cx="914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СЧАСТЛИВОГО ПУТИ!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9920" y="5013360"/>
            <a:ext cx="514440" cy="190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69920" y="5589720"/>
            <a:ext cx="514440" cy="190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69920" y="6237360"/>
            <a:ext cx="514440" cy="190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-1476360" y="1052640"/>
            <a:ext cx="3889440" cy="35287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66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620720" y="3328920"/>
            <a:ext cx="388908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66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1549440" y="5092560"/>
            <a:ext cx="388944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66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1405080" y="-674640"/>
            <a:ext cx="388944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66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402920" y="1484280"/>
            <a:ext cx="69138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00"/>
                </a:solidFill>
                <a:latin typeface="Georgia"/>
              </a:rPr>
              <a:t>Мишка коммерсантом стал,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00"/>
                </a:solidFill>
                <a:latin typeface="Georgia"/>
              </a:rPr>
              <a:t>У лисы кредит он взял.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00"/>
                </a:solidFill>
                <a:latin typeface="Georgia"/>
              </a:rPr>
              <a:t>Через годик разорился-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00"/>
                </a:solidFill>
                <a:latin typeface="Georgia"/>
              </a:rPr>
              <a:t>И в …….….…... превратился.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127920" y="2819520"/>
            <a:ext cx="3016080" cy="4038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588000" y="5781600"/>
            <a:ext cx="1095480" cy="1076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340000" y="314172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БАНКРОТ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95280" y="549360"/>
            <a:ext cx="571680" cy="714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1476360" y="1052640"/>
            <a:ext cx="3889440" cy="35287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99cc00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1620720" y="3328920"/>
            <a:ext cx="388908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99cc00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1405080" y="-674640"/>
            <a:ext cx="388944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99cc00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258560" y="2060640"/>
            <a:ext cx="7561080" cy="186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00"/>
                </a:solidFill>
                <a:latin typeface="Kartika"/>
              </a:rPr>
              <a:t>На биржах, в банках покупается,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00"/>
                </a:solidFill>
                <a:latin typeface="Kartika"/>
              </a:rPr>
              <a:t>Ценной бумагой называется.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00"/>
                </a:solidFill>
                <a:latin typeface="Kartika"/>
              </a:rPr>
              <a:t>И хоть собой любит гордиться,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00"/>
                </a:solidFill>
                <a:latin typeface="Kartika"/>
              </a:rPr>
              <a:t>Но в жизни очень пригодится.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300720" y="4581360"/>
            <a:ext cx="201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АКЦИЯ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1549440" y="5092560"/>
            <a:ext cx="388944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99cc00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571680" cy="714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445080" y="835200"/>
            <a:ext cx="3889440" cy="35287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cc0000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3111480"/>
            <a:ext cx="388944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cc0000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72360" y="4875120"/>
            <a:ext cx="388908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cc0000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16720" y="-892080"/>
            <a:ext cx="388944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cc0000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403280" y="2252160"/>
            <a:ext cx="6400800" cy="17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Здесь вам работу предлагают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Валюту тоже покупают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Любой товар вам продадут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Скажите, как меня зовут?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4559400"/>
            <a:ext cx="2454120" cy="2298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5292720" y="458136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БИРЖ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571320" cy="714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468360" y="407664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8675640" cy="25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Когда мультфильмы я смотрю внимательно,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Она прервёт на интересном обязательно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Расхвалит «Сникерс», «Орбит», «Милки Уэй»,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Чтоб мамы покупали нам скорей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819760" y="0"/>
            <a:ext cx="3324240" cy="2523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24000" y="4869000"/>
            <a:ext cx="61884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6012000" y="472428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РЕКЛАМ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395280" y="692280"/>
            <a:ext cx="571680" cy="714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732720" y="1268280"/>
            <a:ext cx="388908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66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88000" y="3544920"/>
            <a:ext cx="388944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66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59640" y="5308560"/>
            <a:ext cx="388944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66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04000" y="-458640"/>
            <a:ext cx="3889440" cy="35287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66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Угадай, как то зовётся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Что за деньги продаётся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Это не чудесный дар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А просто-напросто  …………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03440" y="4221000"/>
            <a:ext cx="1296720" cy="2268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5580000" y="3284640"/>
            <a:ext cx="201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ТОВАР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571320" cy="714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-1476360" y="1052640"/>
            <a:ext cx="3889440" cy="35287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9999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18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Чтобы врач купил пирог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Заплати скорей …….……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867280" y="4797360"/>
            <a:ext cx="2521080" cy="1190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5292720" y="242100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НАЛОГ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1620720" y="3328920"/>
            <a:ext cx="388908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9999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1549440" y="5092560"/>
            <a:ext cx="388944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9999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1405080" y="-674640"/>
            <a:ext cx="388944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9999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571320" cy="714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-1476360" y="1052640"/>
            <a:ext cx="3889440" cy="35287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cc99ff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1620720" y="3328920"/>
            <a:ext cx="388908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cc99ff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1549440" y="5092560"/>
            <a:ext cx="388944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cc99ff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1405080" y="-674640"/>
            <a:ext cx="388944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cc99ff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7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Та сумма, что заплатит покупатель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Та сумма, что устроит продавца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Как мера для обмена всех товаров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На рынке называется  .....….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84720" y="3789360"/>
            <a:ext cx="201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ЦЕН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571320" cy="714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ой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это вид расчета?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08:23:52Z</dcterms:created>
  <dc:creator>Волкова Татьяна</dc:creator>
  <dc:description/>
  <dc:language>en-US</dc:language>
  <cp:lastModifiedBy>Волкова Татьяна</cp:lastModifiedBy>
  <dcterms:modified xsi:type="dcterms:W3CDTF">2008-11-19T07:26:54Z</dcterms:modified>
  <cp:revision>16</cp:revision>
  <dc:subject/>
  <dc:title>Слайд 1</dc:title>
</cp:coreProperties>
</file>