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png" ContentType="image/png"/>
  <Override PartName="/ppt/media/image8.jpeg" ContentType="image/jpeg"/>
  <Override PartName="/ppt/media/image2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900-372F-4C19-B5B2-CBB04854A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231-4E6C-40E9-A61F-8EF6A7A7F97F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15A-00E6-4077-8F85-DA146EFA30FE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510-74B0-40D4-9B5F-B069C5C069AC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BDFC-1BB2-4CF3-A250-A140AB84AA9D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BB7-95B2-463B-9D68-5F758A8738DA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6F6-E9EC-434A-9431-30D4D964B59C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B0CD-86CA-411B-BCC6-16EBDF9A6F8E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28E-0BB5-4FDB-A268-2749479F7E9D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5026-60A8-4B8B-9976-5C0F5501B849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D843-07C8-40B5-A200-5C180A25E586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188-0D1B-4D57-961E-D1D5B7941E1A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A90D-C115-4D18-AF84-9563F7B3078A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78F4-34A0-4777-9B28-E056C35E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9D40-EB2D-4F8C-A28F-8DBE337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8625-A7FB-4523-9909-F7210A45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8A11-9DCB-4B6D-B42F-058B8B6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E039-C40A-415E-B6E6-12711A52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6BF3-E556-4AE9-B6D7-0E245BD2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6B4-D4E5-4B7A-8E06-B91BC0F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575-ACF1-4D03-B508-9E4B3186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683-CEA3-455B-88BB-B88E32D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30A-6BD4-4B0D-AC56-D66710FC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AEDB-A43F-437F-AB71-D232E41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9C8D-E1DC-493F-A498-CE5225E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1395-29E9-4535-8D6A-3C54FD5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783-D958-4E4D-B026-E77F27C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9AB-978F-4222-8F6A-828BBDE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299-B7FF-4D19-BC18-46DBBE4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C622-79AA-4675-A8C1-F22FE71D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D872-89DE-41FF-B399-EAC88C4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09CD-9890-44DC-91A6-65A1ED7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0806-4660-41F4-AA10-24C2C56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4D60-8039-4F82-B919-C97E788C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6C1F-2B00-49AB-9DD9-13B574FC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068D-47E1-4293-9238-9A507DC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72A6-853D-46B2-89E0-D9F351F9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E0E4-D45B-4CA7-A145-485179EA3A9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A8A-001C-44DE-A1ED-4E96728AEA7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жно ли сказать, что этот человек на необитаемом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трове богат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700" r="0" b="0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ую, с экономической точки зрения, ошибку допустил Буратино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ПЛАН РАБОТЫ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Ответы на присланные в   клуб письма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Приём посетителей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Georgia"/>
              </a:rPr>
              <a:t>Разное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7"/>
          <p:cNvSpPr txBox="1"/>
          <p:nvPr/>
        </p:nvSpPr>
        <p:spPr>
          <a:xfrm>
            <a:off x="1116000" y="40464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ВЕТ ОТ КОРОЛЯ ЭКОНОМА 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5564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4800" spc="-1" strike="noStrike">
                <a:solidFill>
                  <a:srgbClr val="336600"/>
                </a:solidFill>
                <a:latin typeface="Joke"/>
              </a:rPr>
              <a:t> </a:t>
            </a:r>
            <a:br>
              <a:rPr sz="4800"/>
            </a:br>
            <a:r>
              <a:rPr b="0" lang="en-US" sz="4200" spc="-1" strike="noStrike">
                <a:solidFill>
                  <a:srgbClr val="336600"/>
                </a:solidFill>
                <a:latin typeface="Georgia"/>
              </a:rPr>
              <a:t>ЮНЫХ ЭКОНОМИСТОВ   «ЭКО»</a:t>
            </a:r>
            <a:endParaRPr b="0" lang="en-US" sz="4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96720" y="414972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ПЛАН РАБОТ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Ответы на присланные в   клуб письм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риём посетителе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Разно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258920" y="0"/>
            <a:ext cx="7885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336600"/>
                </a:solidFill>
                <a:latin typeface="Pero"/>
              </a:rPr>
              <a:t>ЗАСЕДАНИЕ КЛУБА</a:t>
            </a:r>
            <a:r>
              <a:rPr b="0" lang="en-US" sz="5600" spc="-1" strike="noStrike">
                <a:solidFill>
                  <a:srgbClr val="cc0000"/>
                </a:solidFill>
                <a:latin typeface="Joke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ЮНЫХ ЭКОНОМИСТОВ   «ЭКО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757080" y="422100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ЧАСТЛИВОГО ПУТИ!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920" y="501336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69920" y="5589720"/>
            <a:ext cx="514440" cy="190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69920" y="6237360"/>
            <a:ext cx="514440" cy="19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913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Мишка коммерсантом стал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У лисы кредит он взял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Через годик разорился-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И в …….….…... превратил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27920" y="2819520"/>
            <a:ext cx="301608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88000" y="5781600"/>
            <a:ext cx="109548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340000" y="314172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БАНКРОТ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258560" y="2060640"/>
            <a:ext cx="756108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На биржах, в банках покупается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Ценной бумагой называет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И хоть собой любит гордиться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Kartika"/>
              </a:rPr>
              <a:t>Но в жизни очень пригодится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00720" y="4581360"/>
            <a:ext cx="20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АК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9cc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45080" y="83520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11148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48751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-89208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0000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3280" y="2252160"/>
            <a:ext cx="64008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Здесь вам работу предлагаю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Валюту тоже покупаю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Любой товар вам продадут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Скажите, как меня зовут?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559400"/>
            <a:ext cx="2454120" cy="229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292720" y="458136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БИРЖ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71320" cy="71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468360" y="407664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675640" cy="25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Когда мультфильмы я смотрю внимательно,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Она прервёт на интересном обязательно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Расхвалит «Сникерс», «Орбит», «Милки Уэй»,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Чтоб мамы покупали нам скорей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19760" y="0"/>
            <a:ext cx="3324240" cy="2523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61884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012000" y="472428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РЕКЛА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95280" y="69228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32720" y="126828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54492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5308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-458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Угадай, как то зовётся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Что за деньги продаёт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Это не чудесный дар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А просто-напросто  ……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3440" y="4221000"/>
            <a:ext cx="1296720" cy="2268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580000" y="3284640"/>
            <a:ext cx="20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ТОВАР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Чтобы врач купил пирог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Заплати скорей …….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67280" y="4797360"/>
            <a:ext cx="2521080" cy="119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292720" y="2421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НАЛОГ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9999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476360" y="1052640"/>
            <a:ext cx="3889440" cy="35287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620720" y="3328920"/>
            <a:ext cx="388908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549440" y="509256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405080" y="-674640"/>
            <a:ext cx="3889440" cy="3529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cc99ff">
                  <a:alpha val="53333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Та сумма, что заплатит покупатель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Та сумма, что устроит продавца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Как мера для обмена всех товаров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На рынке называется  .....….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84720" y="3789360"/>
            <a:ext cx="20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ЦЕН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571320" cy="714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ой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то вид расчета?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8:23:52Z</dcterms:created>
  <dc:creator>Волкова Татьяна</dc:creator>
  <dc:description/>
  <dc:language>en-US</dc:language>
  <cp:lastModifiedBy>Волкова Татьяна</cp:lastModifiedBy>
  <dcterms:modified xsi:type="dcterms:W3CDTF">2008-11-19T07:26:54Z</dcterms:modified>
  <cp:revision>16</cp:revision>
  <dc:subject/>
  <dc:title>Слайд 1</dc:title>
</cp:coreProperties>
</file>