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A1E-C8B1-4247-9C6D-79FA275F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C9D-9C59-4569-8C91-DA3824C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275-1AAB-4EFC-B8B6-ED30C593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7D0-366F-4723-B8EF-9683C681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305-1C38-4492-8EA6-341068E9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59F-AFBD-4CD4-A553-33956E4B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C9F8-4EEE-41A5-A588-D0229DC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C8C7-CE59-4BEF-97BD-875EC1DA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8F5-CA8F-44DB-87A9-C137F042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2284-5F0C-45C6-8A38-DD41011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FFEC-C473-4A61-A214-A2250B6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455-06AD-48CA-BC42-B0B1BA2F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3B2-ECE8-4660-84E8-17675D4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C78-9561-4176-AB1D-498AF52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BFD1-E93E-446D-9DA1-98BE752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8C7-D22D-4B4B-8531-8AA1CB88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422-CB8E-44E8-A2F4-D65B051E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7F52-537E-47D2-9699-012C751B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0A80-C126-476D-896B-8C19702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5EB3-2B82-4870-9930-D3ADB3F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CA22-9ED6-451A-8DA0-76F0A08E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3F28-6866-4ABC-95EF-1DABE67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9D7-D21E-401E-981E-1B9DCA2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176A-B6D4-4A2C-A7D4-67B9C09C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1FDB-BE10-42DF-ADEF-B6786F4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1DCC-BABC-435A-8C7B-572C728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3B69-791A-48EB-BB92-C6D171D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F26C-9180-4376-9D16-4FC42F3A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84D5-85E2-4854-9305-4A3D4955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D4D9-0F02-4094-BD0C-B7AF22E9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237D-4BFB-4B06-9B6C-A930A70A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C56A-7911-49E8-A17C-B5F6A6E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7273-2A37-473F-A9CB-5EA269E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6B4-4F7E-470C-BE2B-EBA78C2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0808-32FD-4C67-8BFC-23F7B08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5DC5-F6F2-4975-8B06-F5A7640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08CE-1C83-43CB-9E3B-FE909B2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3AFC-293C-407E-A506-CE64653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7BA1-ECFC-4BCC-903B-999326D6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4F18-F345-4133-B32E-7A4AB17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6F54-104C-4CDE-BD0C-D39067D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CDE1-B0D4-4601-A8A5-24ABD7C0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F0B8-085A-4426-AB9D-E60F2531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99F-77AB-4353-A089-CE9B7C9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45C-FE81-415C-A603-AF5B9242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F35-39AB-4482-BC15-DD1BC4F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E3D-15FE-4582-964B-009340E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F5F-1337-41E0-91AC-103B081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418-4C50-4894-8104-253E931D78E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645B-A505-494E-9A14-09FBE98AB0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F597-22EA-4B4F-8DEC-CA16AE6258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C3A-4D88-4BD2-95A7-3449E50F99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566720"/>
            <a:ext cx="8746920" cy="170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63640" y="3571560"/>
            <a:ext cx="331164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Выполнила: 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onstantia"/>
              </a:rPr>
              <a:t>Волохина Юлия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6 «В» МОУ «Гимназия 58»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Руководитель: Саидова Е.В.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908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г. Са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20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ая прямоугольная выноска 3"/>
          <p:cNvSpPr/>
          <p:nvPr/>
        </p:nvSpPr>
        <p:spPr>
          <a:xfrm>
            <a:off x="0" y="1125360"/>
            <a:ext cx="4000680" cy="2664000"/>
          </a:xfrm>
          <a:prstGeom prst="wedgeRoundRectCallout">
            <a:avLst>
              <a:gd name="adj1" fmla="val -20833"/>
              <a:gd name="adj2" fmla="val 65851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ист Мёбиуса попробуем разрезать его вдоль, но не посередине, а  ближе к одному краю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" descr="лента 021"/>
          <p:cNvPicPr/>
          <p:nvPr/>
        </p:nvPicPr>
        <p:blipFill>
          <a:blip r:embed="rId2"/>
          <a:srcRect l="0" t="11760" r="6099" b="7896"/>
          <a:stretch/>
        </p:blipFill>
        <p:spPr>
          <a:xfrm>
            <a:off x="4572000" y="3811680"/>
            <a:ext cx="4498920" cy="278748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ая прямоугольная выноска 5"/>
          <p:cNvSpPr/>
          <p:nvPr/>
        </p:nvSpPr>
        <p:spPr>
          <a:xfrm>
            <a:off x="4716360" y="333360"/>
            <a:ext cx="4000680" cy="3000240"/>
          </a:xfrm>
          <a:prstGeom prst="wedgeRoundRectCallout">
            <a:avLst>
              <a:gd name="adj1" fmla="val -39208"/>
              <a:gd name="adj2" fmla="val 62643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Из обычного круга получилось 2 кольца  разной ширины, а из ленты Мёбиуса  получились два сцепленных  друг с другом кольца, одно маленькое – другое большо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ЫВОДЫ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549000"/>
            <a:ext cx="903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 листа Мёбиуса – всего одна сторо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Эх, Мёбиус, спасибо за науку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Поверхность одинокой стороны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Подобна закольцованному звуку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Вибрацией неоновой струн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листе Мёбиуса любая точка может быть соединена с любой другой точкой и при этом ни разу не придётся переходить через край “ленты”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Лентой Мёбиуса закручен путь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В какую сторону не иди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Обязательно увидишь ещё раз того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Кого однажды встретил на пути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Если нужно кого-то догнать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Не трать сил, времени на ускорение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Лучше просто подождать или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Двинуться в обратном направлении</a:t>
            </a: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ст Мёбиуса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вусвязе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т.к.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nstantia"/>
              </a:rPr>
              <a:t>Ценность листа Мёбиус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3640" y="692280"/>
            <a:ext cx="824868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Дал мощный толчок новым обширным математическим исследованиям, в частности, появление нового раздела  геометрии – тополог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Топология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зучает свойства геометрических фигур, которые не меняются, если  их гнуть, растягивать, сжимать, но не склеивать и не рва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спользование темы ленты Мебиуса в литературе, скульптуре, живописи, графике и т.д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Применение в техник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Лист Мёбиуса считают символом современной математ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агнитофонная пленка, соединенная  в виде  листа Мебиуса  позволяет  записывать звук на  обеих сторонах, что удваивает  время запис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красящая лента  в  матричных принтер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енточный конвейе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опасти бетономешалки или обычного бытового миксера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инты на судн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аттракционы “Американские горки”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Применение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     в науке и техник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Блок-схема: процесс 4"/>
          <p:cNvSpPr/>
          <p:nvPr/>
        </p:nvSpPr>
        <p:spPr>
          <a:xfrm>
            <a:off x="395280" y="189000"/>
            <a:ext cx="8215200" cy="1944720"/>
          </a:xfrm>
          <a:prstGeom prst="flowChartProcess">
            <a:avLst/>
          </a:prstGeom>
          <a:solidFill>
            <a:srgbClr val="04617b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Берем бумажную ленту АВСD. Прикладываем ее концы АВ и СD друг к другу и склеиваем так, чтобы точка А совпала с точкой D, а точка B с точкой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39640" y="2781360"/>
            <a:ext cx="7993080" cy="865080"/>
          </a:xfrm>
          <a:prstGeom prst="rect">
            <a:avLst/>
          </a:prstGeom>
          <a:solidFill>
            <a:srgbClr val="0461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4000" y="220500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8244000" y="220500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11"/>
          <p:cNvSpPr/>
          <p:nvPr/>
        </p:nvSpPr>
        <p:spPr>
          <a:xfrm>
            <a:off x="8172360" y="3716280"/>
            <a:ext cx="5716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24000" y="371628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395280" y="278136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:\ИРИНА\ЮЛЯ\Мебиус\180px-mobius_strip.jpg"/>
          <p:cNvPicPr/>
          <p:nvPr/>
        </p:nvPicPr>
        <p:blipFill>
          <a:blip r:embed="rId2"/>
          <a:stretch/>
        </p:blipFill>
        <p:spPr>
          <a:xfrm>
            <a:off x="2643120" y="4071960"/>
            <a:ext cx="3998880" cy="24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41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Август Фердинанд Мёбиу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mebius-foto.gif"/>
          <p:cNvPicPr/>
          <p:nvPr/>
        </p:nvPicPr>
        <p:blipFill>
          <a:blip r:embed="rId2"/>
          <a:stretch/>
        </p:blipFill>
        <p:spPr>
          <a:xfrm>
            <a:off x="179280" y="1916280"/>
            <a:ext cx="2422800" cy="2689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714760" y="1964880"/>
            <a:ext cx="642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</a:t>
            </a:r>
            <a:r>
              <a:rPr b="0" lang="ru-RU" sz="1800" spc="-1" strike="noStrike">
                <a:solidFill>
                  <a:srgbClr val="6bdbfa"/>
                </a:solidFill>
                <a:latin typeface="Constantia"/>
              </a:rPr>
              <a:t>1858 г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в  возрасте   68  лет  немецкому геометру и астроному, профессору Лейпцигского университета, учени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усса и Пфаффа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Августу Мёбиусу удалось   сделать  открытие   поразительной красоты.  Он открыл односторонние поверхности, одна из которых – лист Мёбиу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1862 году предложил в качестве примера односторонней поверхности  этот лист и другой ученик К.Ф. Гаусса – Иоганн Бенедикт Листинг, профессор Геттингенского Университ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0" y="4786200"/>
            <a:ext cx="22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Август Фердинанд Мёби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(1790-1868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Свойства ленты Мебиуса</a:t>
            </a:r>
            <a:br>
              <a:rPr sz="4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Односторон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У листа Мёбиуса – всего одна сторон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епрерыв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На листе Мёбиуса любая точка может быть соединена с любой другой точкой и при этом ни разу не придётся переходить через край “ленты”. Разрывов нет – непрерывность полн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вяз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Лист Мёбиуса двусвязен, так как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Ориентированно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свойство отсутствующее у листа Мёбиуса . Так, если бы человек смог пропутешествовать по всем изгибам листа Мёбиуса, то когда он вернулся бы в исходную точку, он превратился в своё зеркальное отраж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. «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роматический номер»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- максимальное число областей, которые можно нарисовать на поверхности так, чтобы каждая из них имела общую границу со всеми другими. Хроматический номер листа Мёбиуса равен ше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5" descr="Копия лента 004.jpg"/>
          <p:cNvPicPr/>
          <p:nvPr/>
        </p:nvPicPr>
        <p:blipFill>
          <a:blip r:embed="rId2"/>
          <a:stretch/>
        </p:blipFill>
        <p:spPr>
          <a:xfrm>
            <a:off x="5072040" y="2786040"/>
            <a:ext cx="3289320" cy="33606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Копия (2) лента 004.jpg"/>
          <p:cNvPicPr/>
          <p:nvPr/>
        </p:nvPicPr>
        <p:blipFill>
          <a:blip r:embed="rId3"/>
          <a:stretch/>
        </p:blipFill>
        <p:spPr>
          <a:xfrm>
            <a:off x="1062000" y="3068640"/>
            <a:ext cx="3009960" cy="307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324000" y="33336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Односторонность листа Мебиу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Убедиться в односторонности листа Мёбиуса несложно: если начать постепенно окрашивать его в какой-нибудь цвет, начиная с любого места, и по завершении работы вы обнаружите, что весь он полностью окраш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ая прямоугольная выноска 3"/>
          <p:cNvSpPr/>
          <p:nvPr/>
        </p:nvSpPr>
        <p:spPr>
          <a:xfrm>
            <a:off x="468360" y="2637000"/>
            <a:ext cx="4143240" cy="3357360"/>
          </a:xfrm>
          <a:prstGeom prst="wedgeRoundRectCallout">
            <a:avLst>
              <a:gd name="adj1" fmla="val -55634"/>
              <a:gd name="adj2" fmla="val -3995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Что будет , если поставить точку  на обычном круге и на листе Мёбиуса  и чертить непрерывную линию  пока не вернёшься в отмеченную точку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" descr="лента 017в.jpg"/>
          <p:cNvPicPr/>
          <p:nvPr/>
        </p:nvPicPr>
        <p:blipFill>
          <a:blip r:embed="rId2"/>
          <a:stretch/>
        </p:blipFill>
        <p:spPr>
          <a:xfrm>
            <a:off x="5219640" y="2708280"/>
            <a:ext cx="3924360" cy="3565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50920" y="0"/>
            <a:ext cx="85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Непреры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а листе Мёбиуса любая точка может быть соединена с любой другой точкой и при этом ни разу не придётся переползать через край “ленты”. Разрывов нет – непрерывность пол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ая прямоугольная выноска 3"/>
          <p:cNvSpPr/>
          <p:nvPr/>
        </p:nvSpPr>
        <p:spPr>
          <a:xfrm>
            <a:off x="468360" y="549360"/>
            <a:ext cx="4286160" cy="3786120"/>
          </a:xfrm>
          <a:prstGeom prst="wedgeRoundRectCallout">
            <a:avLst>
              <a:gd name="adj1" fmla="val -25851"/>
              <a:gd name="adj2" fmla="val 47273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Закрасим непрерывной линией только один край колец, у  обычного круга полоски будут  только на одной стороне, а у ленты Мёбиуса полоски будут идти  по всей плос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4" descr="лента 025.jpg"/>
          <p:cNvPicPr/>
          <p:nvPr/>
        </p:nvPicPr>
        <p:blipFill>
          <a:blip r:embed="rId2"/>
          <a:stretch/>
        </p:blipFill>
        <p:spPr>
          <a:xfrm>
            <a:off x="4859280" y="24922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ая прямоугольная выноска 3"/>
          <p:cNvSpPr/>
          <p:nvPr/>
        </p:nvSpPr>
        <p:spPr>
          <a:xfrm>
            <a:off x="250920" y="3141720"/>
            <a:ext cx="4071960" cy="3357360"/>
          </a:xfrm>
          <a:prstGeom prst="wedgeRoundRectCallout">
            <a:avLst>
              <a:gd name="adj1" fmla="val -23490"/>
              <a:gd name="adj2" fmla="val -13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внутренней поверхности стоит некто Х, а по внешней идет в любую сторону некто Y.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обычном круге Х и Y никогда не встретятся, не пересекая края, а на ленте Мёбиуса Х и Y встретятся, не пересекая края в любом случа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4" descr="лента 030.jpg"/>
          <p:cNvPicPr/>
          <p:nvPr/>
        </p:nvPicPr>
        <p:blipFill>
          <a:blip r:embed="rId2"/>
          <a:stretch/>
        </p:blipFill>
        <p:spPr>
          <a:xfrm>
            <a:off x="4456080" y="3197160"/>
            <a:ext cx="4643640" cy="3481560"/>
          </a:xfrm>
          <a:prstGeom prst="rect">
            <a:avLst/>
          </a:prstGeom>
          <a:ln w="0">
            <a:noFill/>
          </a:ln>
        </p:spPr>
      </p:pic>
      <p:sp>
        <p:nvSpPr>
          <p:cNvPr id="222" name="Блок-схема: узел 5"/>
          <p:cNvSpPr/>
          <p:nvPr/>
        </p:nvSpPr>
        <p:spPr>
          <a:xfrm>
            <a:off x="5786280" y="4143240"/>
            <a:ext cx="571680" cy="50004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Равнобедренный треугольник 7"/>
          <p:cNvSpPr/>
          <p:nvPr/>
        </p:nvSpPr>
        <p:spPr>
          <a:xfrm>
            <a:off x="5715000" y="54291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Блок-схема: узел 8"/>
          <p:cNvSpPr/>
          <p:nvPr/>
        </p:nvSpPr>
        <p:spPr>
          <a:xfrm>
            <a:off x="7500960" y="5357880"/>
            <a:ext cx="500040" cy="42840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Блок-схема: извлечение 9"/>
          <p:cNvSpPr/>
          <p:nvPr/>
        </p:nvSpPr>
        <p:spPr>
          <a:xfrm>
            <a:off x="7072200" y="5357880"/>
            <a:ext cx="357480" cy="50004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95280" y="476280"/>
            <a:ext cx="813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Если на внутреннюю сторону простого кольца посадить паука, а на внутреннюю сторону муху и разрешить им ползать как угодно, запретив лишь переползать через края кольца, то паук не сможет добраться до мухи. А если их обоих посадить на лист Мёбиуса, то бедная муха будет съедена, если, конечно, паук бегает быстре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4 7.40741E-007 C -0.08264 0.00833 -0.11163 0.01667 -0.12778 0.04074 C -0.14392 0.06481 -0.15972 0.11389 -0.15034 0.14398 C -0.14097 0.17407 -0.10434 0.21366 -0.07135 0.22153 C -0.03837 0.2294 0.02518 0.21366 0.04809 0.19143 C 0.07101 0.16921 0.07222 0.11898 0.0658 0.08819 C 0.05938 0.05741 0.02101 0.02199 0.00938 0.00648 C -0.00225 -0.00903 -0.00139 -0.00255 -0.00364 -0.0044 E">
                                      <p:cBhvr>
                                        <p:cTn id="2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13 -0.01088 -0.04826 -0.02153 -0.05972 -0.03658 C -0.07118 -0.05162 -0.07726 -0.07408 -0.06927 -0.09028 C -0.06129 -0.10649 -0.03594 -0.1294 -0.01129 -0.13334 C 0.01337 -0.13727 0.06476 -0.1301 0.07899 -0.11389 C 0.09323 -0.09769 0.08142 -0.05301 0.07413 -0.03658 C 0.06684 -0.02014 0.05104 -0.0176 0.03542 -0.01505 E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кругленная прямоугольная выноска 3"/>
          <p:cNvSpPr/>
          <p:nvPr/>
        </p:nvSpPr>
        <p:spPr>
          <a:xfrm>
            <a:off x="324000" y="2852640"/>
            <a:ext cx="4071960" cy="3143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Что будет, если разрезать обычную ленту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?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Конечно же, получится 2 кольца, в 2 раза уже чем исход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6"/>
          <p:cNvSpPr/>
          <p:nvPr/>
        </p:nvSpPr>
        <p:spPr>
          <a:xfrm>
            <a:off x="324000" y="2852640"/>
            <a:ext cx="4214520" cy="3143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А что случится, если разрезать вдоль посередине лист Мёбиуса по всей длин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А вот ч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7" descr="Копия (2) лента 019.jpg"/>
          <p:cNvPicPr/>
          <p:nvPr/>
        </p:nvPicPr>
        <p:blipFill>
          <a:blip r:embed="rId2"/>
          <a:stretch/>
        </p:blipFill>
        <p:spPr>
          <a:xfrm>
            <a:off x="5580000" y="1989000"/>
            <a:ext cx="2801880" cy="439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Копия лента 019.jpg"/>
          <p:cNvPicPr/>
          <p:nvPr/>
        </p:nvPicPr>
        <p:blipFill>
          <a:blip r:embed="rId3"/>
          <a:stretch/>
        </p:blipFill>
        <p:spPr>
          <a:xfrm>
            <a:off x="5572080" y="1928880"/>
            <a:ext cx="3321000" cy="4727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468360" y="189000"/>
            <a:ext cx="8280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вя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ст Мёбиуса двусвязен, так как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47:19Z</dcterms:created>
  <dc:creator>Васильна</dc:creator>
  <dc:description/>
  <dc:language>en-US</dc:language>
  <cp:lastModifiedBy>syun</cp:lastModifiedBy>
  <dcterms:modified xsi:type="dcterms:W3CDTF">2012-10-08T13:58:16Z</dcterms:modified>
  <cp:revision>128</cp:revision>
  <dc:subject/>
  <dc:title>Слайд 1</dc:title>
</cp:coreProperties>
</file>