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A55-5AAE-4C7A-A0B4-76E1950B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EC0A-F5C8-4B18-A305-89015A0D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943E-FAC6-4090-86BD-B15FFE99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0A71-247D-4D77-BB05-5BAD4589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EEF1-9A02-47C9-9DC2-449E0A8B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E0CE-B346-482F-8B8E-C3551082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D951-C08F-465D-9C4D-055A14DF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48A0-3223-44AF-B8E9-81107A07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3634-1D3D-4442-803E-881F839A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C625-9CB8-4ED4-90F2-527AD6ED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E42A-F6B0-49DF-BFDC-40BA2721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6662-983E-4DF7-8051-0B8A7A5F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ADB3-DEC7-41D3-AA51-3AD6DFAC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2498-7A9D-46B5-882C-CB4750E8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E06C-E7DD-485B-9AAC-752621A1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3AE8-EF73-4AAD-8D15-47F495BD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57D7-4CCA-4383-B516-57B7E69E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3DE85-4270-487C-8C2E-EFDE9100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11F66-69F2-4F4F-A0AC-AB40506E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34700-D54E-42BC-AE93-733239DB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6C8C5-23BF-4FDB-80B6-FAC046E6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6B1A2-AB5C-4B96-9EFD-7029FC50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C398-71BE-4579-AC16-F47B8D07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F22E1-D968-48F8-8344-06B41DEB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587A7-F312-40EA-A916-57325E59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3148B-78E1-4F55-BDF0-5A9DA104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81A5F-2033-4310-8937-72917E0C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72D94-CAA7-47C0-B681-F8346574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1DD4E-8980-43F6-99D6-E1E3F99A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65281-71AE-4B8B-8FEF-EAB908F9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3F51E-71DE-4295-91BE-EE7BEED2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5AFAB-3195-4F56-9581-F55B7AED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17EEF-9BDB-49C3-BC82-D800B36A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5A10-AC54-48F7-A8F6-11D3BA41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BF97E-4BA0-4011-8DDE-2F7FF43C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C9CAC-1E6E-4062-9C9B-8006ED8A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F3326-4EFD-47EC-B71C-EBE3176D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C1EA3-05E2-41DC-9D8E-5CC73C00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A9B1A-9CBB-4E8A-9669-D8D60F37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3FA37-9B20-4312-A12E-24793385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0AA30-DDB7-4870-9E10-C430763C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DB831-A72D-474B-8BA8-418C993A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19888-3FDC-4706-9B86-5D29C066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2B2B-B0CE-4114-A76A-9DC8C543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8C82-C6A8-43E2-BA18-EF04E79C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1F85-D615-4F17-9990-E654C48B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4DC3-84E6-4BC2-BDE3-2755D13C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A25A-F15D-4877-8E1C-08EDEE99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486A-7514-41CC-AF9C-3F79EE2E692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4617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4617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E833-A2DE-48E8-A4AF-E1000068BD7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4617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4617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1B5D-C51D-4148-B916-365E400BC16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A055-284B-48D7-AF6C-58A34B481A2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530280" y="1566720"/>
            <a:ext cx="8746920" cy="170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63640" y="3571560"/>
            <a:ext cx="3311640" cy="27147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Constantia"/>
              </a:rPr>
              <a:t>Выполнила: </a:t>
            </a:r>
            <a:endParaRPr b="0" lang="en-US" sz="2000" spc="-1" strike="noStrike">
              <a:solidFill>
                <a:srgbClr val="04617b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Constantia"/>
              </a:rPr>
              <a:t>Волохина Юлия</a:t>
            </a:r>
            <a:endParaRPr b="0" lang="en-US" sz="2000" spc="-1" strike="noStrike">
              <a:solidFill>
                <a:srgbClr val="04617b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Constantia"/>
              </a:rPr>
              <a:t>6 «В» МОУ «Гимназия 58»</a:t>
            </a:r>
            <a:endParaRPr b="0" lang="en-US" sz="2000" spc="-1" strike="noStrike">
              <a:solidFill>
                <a:srgbClr val="04617b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Constantia"/>
              </a:rPr>
              <a:t>Руководитель: Саидова Е.В.</a:t>
            </a:r>
            <a:endParaRPr b="0" lang="en-US" sz="2000" spc="-1" strike="noStrike">
              <a:solidFill>
                <a:srgbClr val="04617b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1908000" y="5950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г. Сара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20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Скругленная прямоугольная выноска 3"/>
          <p:cNvSpPr/>
          <p:nvPr/>
        </p:nvSpPr>
        <p:spPr>
          <a:xfrm>
            <a:off x="0" y="1125360"/>
            <a:ext cx="4000680" cy="2664000"/>
          </a:xfrm>
          <a:prstGeom prst="wedgeRoundRectCallout">
            <a:avLst>
              <a:gd name="adj1" fmla="val -20833"/>
              <a:gd name="adj2" fmla="val 65851"/>
              <a:gd name="adj3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лист Мёбиуса попробуем разрезать его вдоль, но не посередине, а  ближе к одному краю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1" descr="лента 021"/>
          <p:cNvPicPr/>
          <p:nvPr/>
        </p:nvPicPr>
        <p:blipFill>
          <a:blip r:embed="rId2"/>
          <a:srcRect l="0" t="11760" r="6099" b="7896"/>
          <a:stretch/>
        </p:blipFill>
        <p:spPr>
          <a:xfrm>
            <a:off x="4572000" y="3811680"/>
            <a:ext cx="4498920" cy="2787480"/>
          </a:xfrm>
          <a:prstGeom prst="rect">
            <a:avLst/>
          </a:prstGeom>
          <a:ln w="0">
            <a:noFill/>
          </a:ln>
        </p:spPr>
      </p:pic>
      <p:sp>
        <p:nvSpPr>
          <p:cNvPr id="234" name="Скругленная прямоугольная выноска 5"/>
          <p:cNvSpPr/>
          <p:nvPr/>
        </p:nvSpPr>
        <p:spPr>
          <a:xfrm>
            <a:off x="4716360" y="333360"/>
            <a:ext cx="4000680" cy="3000240"/>
          </a:xfrm>
          <a:prstGeom prst="wedgeRoundRectCallout">
            <a:avLst>
              <a:gd name="adj1" fmla="val -39208"/>
              <a:gd name="adj2" fmla="val 62643"/>
              <a:gd name="adj3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Из обычного круга получилось 2 кольца  разной ширины, а из ленты Мёбиуса  получились два сцепленных  друг с другом кольца, одно маленькое – другое большо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ВЫВОДЫ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8000" y="549000"/>
            <a:ext cx="9036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У листа Мёбиуса – всего одна сторо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Constantia"/>
              </a:rPr>
              <a:t>Эх, Мёбиус, спасибо за науку!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Constantia"/>
              </a:rPr>
              <a:t>Поверхность одинокой стороны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Constantia"/>
              </a:rPr>
              <a:t>Подобна закольцованному звуку,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Constantia"/>
              </a:rPr>
              <a:t>Вибрацией неоновой струны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а листе Мёбиуса любая точка может быть соединена с любой другой точкой и при этом ни разу не придётся переходить через край “ленты”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i="1" lang="ru-RU" sz="1400" spc="-1" strike="noStrike">
                <a:solidFill>
                  <a:srgbClr val="ffffff"/>
                </a:solidFill>
                <a:latin typeface="Constantia"/>
              </a:rPr>
              <a:t>Лентой Мёбиуса закручен путь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Constantia"/>
              </a:rPr>
              <a:t>В какую сторону не иди…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Constantia"/>
              </a:rPr>
              <a:t>Обязательно увидишь ещё раз того,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Constantia"/>
              </a:rPr>
              <a:t>Кого однажды встретил на пути…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Constantia"/>
              </a:rPr>
              <a:t>Если нужно кого-то догнать,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Constantia"/>
              </a:rPr>
              <a:t>Не трать сил, времени на ускорение…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Constantia"/>
              </a:rPr>
              <a:t>Лучше просто подождать или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Constantia"/>
              </a:rPr>
              <a:t>Двинуться в обратном направлении</a:t>
            </a:r>
            <a:r>
              <a:rPr b="0" i="1" lang="ru-RU" sz="1600" spc="-1" strike="noStrike">
                <a:solidFill>
                  <a:srgbClr val="ffffff"/>
                </a:solidFill>
                <a:latin typeface="Constantia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Лист Мёбиуса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двусвязен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т.к. если разрезать его вдоль, он превратится не в два отдельных кольца, а в одну целую ленту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onstantia"/>
              </a:rPr>
              <a:t>Ценность листа Мёбиус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3640" y="692280"/>
            <a:ext cx="8248680" cy="20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193680" indent="-1936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Дал мощный толчок новым обширным математическим исследованиям, в частности, появление нового раздела  геометрии – топологи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93680" indent="-193680" algn="just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Топология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изучает свойства геометрических фигур, которые не меняются, если  их гнуть, растягивать, сжимать, но не склеивать и не рвать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93680" indent="-193680" algn="just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Использование темы ленты Мебиуса в литературе, скульптуре, живописи, графике и т.д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93680" indent="-193680" algn="just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Применение в техник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93680" indent="-193680" algn="just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Лист Мёбиуса считают символом современной математик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97920" indent="-979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Магнитофонная пленка, соединенная  в виде  листа Мебиуса  позволяет  записывать звук на  обеих сторонах, что удваивает  время записи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97920" indent="-979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красящая лента  в  матричных принтерах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97920" indent="-979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ленточный конвейер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97920" indent="-979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лопасти бетономешалки или обычного бытового миксера.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97920" indent="-979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винты на суднах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97920" indent="-979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аттракционы “Американские горки”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97920" indent="-979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97920" indent="-979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97920" indent="-97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Применение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     в науке и техник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Блок-схема: процесс 4"/>
          <p:cNvSpPr/>
          <p:nvPr/>
        </p:nvSpPr>
        <p:spPr>
          <a:xfrm>
            <a:off x="395280" y="189000"/>
            <a:ext cx="8215200" cy="1944720"/>
          </a:xfrm>
          <a:prstGeom prst="flowChartProcess">
            <a:avLst/>
          </a:prstGeom>
          <a:solidFill>
            <a:srgbClr val="04617b"/>
          </a:solidFill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Берем бумажную ленту АВСD. Прикладываем ее концы АВ и СD друг к другу и склеиваем так, чтобы точка А совпала с точкой D, а точка B с точкой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539640" y="2781360"/>
            <a:ext cx="7993080" cy="865080"/>
          </a:xfrm>
          <a:prstGeom prst="rect">
            <a:avLst/>
          </a:prstGeom>
          <a:solidFill>
            <a:srgbClr val="0461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8"/>
          <p:cNvSpPr/>
          <p:nvPr/>
        </p:nvSpPr>
        <p:spPr>
          <a:xfrm>
            <a:off x="324000" y="2205000"/>
            <a:ext cx="571320" cy="571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оугольник 10"/>
          <p:cNvSpPr/>
          <p:nvPr/>
        </p:nvSpPr>
        <p:spPr>
          <a:xfrm>
            <a:off x="8244000" y="2205000"/>
            <a:ext cx="571320" cy="571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оугольник 11"/>
          <p:cNvSpPr/>
          <p:nvPr/>
        </p:nvSpPr>
        <p:spPr>
          <a:xfrm>
            <a:off x="8172360" y="3716280"/>
            <a:ext cx="571680" cy="571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12"/>
          <p:cNvSpPr/>
          <p:nvPr/>
        </p:nvSpPr>
        <p:spPr>
          <a:xfrm>
            <a:off x="324000" y="3716280"/>
            <a:ext cx="571320" cy="571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Заголовок 1"/>
          <p:cNvSpPr/>
          <p:nvPr/>
        </p:nvSpPr>
        <p:spPr>
          <a:xfrm>
            <a:off x="395280" y="2781360"/>
            <a:ext cx="82296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D:\ИРИНА\ЮЛЯ\Мебиус\180px-mobius_strip.jpg"/>
          <p:cNvPicPr/>
          <p:nvPr/>
        </p:nvPicPr>
        <p:blipFill>
          <a:blip r:embed="rId2"/>
          <a:stretch/>
        </p:blipFill>
        <p:spPr>
          <a:xfrm>
            <a:off x="2643120" y="4071960"/>
            <a:ext cx="3998880" cy="248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41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5000" spc="-1" strike="noStrike">
                <a:solidFill>
                  <a:srgbClr val="ffffff"/>
                </a:solidFill>
                <a:latin typeface="Constantia"/>
              </a:rPr>
              <a:t>Август Фердинанд Мёбиус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Содержимое 3" descr="mebius-foto.gif"/>
          <p:cNvPicPr/>
          <p:nvPr/>
        </p:nvPicPr>
        <p:blipFill>
          <a:blip r:embed="rId2"/>
          <a:stretch/>
        </p:blipFill>
        <p:spPr>
          <a:xfrm>
            <a:off x="179280" y="1916280"/>
            <a:ext cx="2422800" cy="26892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2714760" y="1964880"/>
            <a:ext cx="6429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  </a:t>
            </a:r>
            <a:r>
              <a:rPr b="0" lang="ru-RU" sz="1800" spc="-1" strike="noStrike">
                <a:solidFill>
                  <a:srgbClr val="6bdbfa"/>
                </a:solidFill>
                <a:latin typeface="Constantia"/>
              </a:rPr>
              <a:t>1858 г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в  возрасте   68  лет  немецкому геометру и астроному, профессору Лейпцигского университета, ученик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аусса и Пфаффа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Августу Мёбиусу удалось   сделать  открытие   поразительной красоты.  Он открыл односторонние поверхности, одна из которых – лист Мёбиус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  1862 году предложил в качестве примера односторонней поверхности  этот лист и другой ученик К.Ф. Гаусса – Иоганн Бенедикт Листинг, профессор Геттингенского Университе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5"/>
          <p:cNvSpPr/>
          <p:nvPr/>
        </p:nvSpPr>
        <p:spPr>
          <a:xfrm>
            <a:off x="0" y="4786200"/>
            <a:ext cx="221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Август Фердинанд Мёбиу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(1790-1868г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Свойства ленты Мебиуса</a:t>
            </a:r>
            <a:br>
              <a:rPr sz="46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424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.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Односторонность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У листа Мёбиуса – всего одна сторона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2.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Непрерывность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На листе Мёбиуса любая точка может быть соединена с любой другой точкой и при этом ни разу не придётся переходить через край “ленты”. Разрывов нет – непрерывность полная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3.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Связность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Лист Мёбиуса двусвязен, так как если разрезать его вдоль, он превратится не в два отдельных кольца, а в одну целую ленту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4.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Ориентированность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– свойство отсутствующее у листа Мёбиуса . Так, если бы человек смог пропутешествовать по всем изгибам листа Мёбиуса, то когда он вернулся бы в исходную точку, он превратился в своё зеркальное отражени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5. «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Хроматический номер»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- максимальное число областей, которые можно нарисовать на поверхности так, чтобы каждая из них имела общую границу со всеми другими. Хроматический номер листа Мёбиуса равен шести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5" descr="Копия лента 004.jpg"/>
          <p:cNvPicPr/>
          <p:nvPr/>
        </p:nvPicPr>
        <p:blipFill>
          <a:blip r:embed="rId2"/>
          <a:stretch/>
        </p:blipFill>
        <p:spPr>
          <a:xfrm>
            <a:off x="5072040" y="2786040"/>
            <a:ext cx="3289320" cy="336060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7" descr="Копия (2) лента 004.jpg"/>
          <p:cNvPicPr/>
          <p:nvPr/>
        </p:nvPicPr>
        <p:blipFill>
          <a:blip r:embed="rId3"/>
          <a:stretch/>
        </p:blipFill>
        <p:spPr>
          <a:xfrm>
            <a:off x="1062000" y="3068640"/>
            <a:ext cx="3009960" cy="307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8"/>
          <p:cNvSpPr/>
          <p:nvPr/>
        </p:nvSpPr>
        <p:spPr>
          <a:xfrm>
            <a:off x="324000" y="333360"/>
            <a:ext cx="8208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Односторонность листа Мебиус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Убедиться в односторонности листа Мёбиуса несложно: если начать постепенно окрашивать его в какой-нибудь цвет, начиная с любого места, и по завершении работы вы обнаружите, что весь он полностью окраше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Скругленная прямоугольная выноска 3"/>
          <p:cNvSpPr/>
          <p:nvPr/>
        </p:nvSpPr>
        <p:spPr>
          <a:xfrm>
            <a:off x="468360" y="2637000"/>
            <a:ext cx="4143240" cy="3357360"/>
          </a:xfrm>
          <a:prstGeom prst="wedgeRoundRectCallout">
            <a:avLst>
              <a:gd name="adj1" fmla="val -55634"/>
              <a:gd name="adj2" fmla="val -3995"/>
              <a:gd name="adj3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Что будет , если поставить точку  на обычном круге и на листе Мёбиуса  и чертить непрерывную линию  пока не вернёшься в отмеченную точку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Рисунок 7" descr="лента 017в.jpg"/>
          <p:cNvPicPr/>
          <p:nvPr/>
        </p:nvPicPr>
        <p:blipFill>
          <a:blip r:embed="rId2"/>
          <a:stretch/>
        </p:blipFill>
        <p:spPr>
          <a:xfrm>
            <a:off x="5219640" y="2708280"/>
            <a:ext cx="3924360" cy="35654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250920" y="0"/>
            <a:ext cx="85690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Непрерыв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На листе Мёбиуса любая точка может быть соединена с любой другой точкой и при этом ни разу не придётся переползать через край “ленты”. Разрывов нет – непрерывность пол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Скругленная прямоугольная выноска 3"/>
          <p:cNvSpPr/>
          <p:nvPr/>
        </p:nvSpPr>
        <p:spPr>
          <a:xfrm>
            <a:off x="468360" y="549360"/>
            <a:ext cx="4286160" cy="3786120"/>
          </a:xfrm>
          <a:prstGeom prst="wedgeRoundRectCallout">
            <a:avLst>
              <a:gd name="adj1" fmla="val -25851"/>
              <a:gd name="adj2" fmla="val 47273"/>
              <a:gd name="adj3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Закрасим непрерывной линией только один край колец, у  обычного круга полоски будут  только на одной стороне, а у ленты Мёбиуса полоски будут идти  по всей плоск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Рисунок 4" descr="лента 025.jpg"/>
          <p:cNvPicPr/>
          <p:nvPr/>
        </p:nvPicPr>
        <p:blipFill>
          <a:blip r:embed="rId2"/>
          <a:stretch/>
        </p:blipFill>
        <p:spPr>
          <a:xfrm>
            <a:off x="4859280" y="249228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ая прямоугольная выноска 3"/>
          <p:cNvSpPr/>
          <p:nvPr/>
        </p:nvSpPr>
        <p:spPr>
          <a:xfrm>
            <a:off x="250920" y="3141720"/>
            <a:ext cx="4071960" cy="3357360"/>
          </a:xfrm>
          <a:prstGeom prst="wedgeRoundRectCallout">
            <a:avLst>
              <a:gd name="adj1" fmla="val -23490"/>
              <a:gd name="adj2" fmla="val -1300"/>
              <a:gd name="adj3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На внутренней поверхности стоит некто Х, а по внешней идет в любую сторону некто Y.</a:t>
            </a: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На обычном круге Х и Y никогда не встретятся, не пересекая края, а на ленте Мёбиуса Х и Y встретятся, не пересекая края в любом случа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Рисунок 4" descr="лента 030.jpg"/>
          <p:cNvPicPr/>
          <p:nvPr/>
        </p:nvPicPr>
        <p:blipFill>
          <a:blip r:embed="rId2"/>
          <a:stretch/>
        </p:blipFill>
        <p:spPr>
          <a:xfrm>
            <a:off x="4456080" y="3197160"/>
            <a:ext cx="4643640" cy="3481560"/>
          </a:xfrm>
          <a:prstGeom prst="rect">
            <a:avLst/>
          </a:prstGeom>
          <a:ln w="0">
            <a:noFill/>
          </a:ln>
        </p:spPr>
      </p:pic>
      <p:sp>
        <p:nvSpPr>
          <p:cNvPr id="222" name="Блок-схема: узел 5"/>
          <p:cNvSpPr/>
          <p:nvPr/>
        </p:nvSpPr>
        <p:spPr>
          <a:xfrm>
            <a:off x="5786280" y="4143240"/>
            <a:ext cx="571680" cy="50004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Равнобедренный треугольник 7"/>
          <p:cNvSpPr/>
          <p:nvPr/>
        </p:nvSpPr>
        <p:spPr>
          <a:xfrm>
            <a:off x="5715000" y="542916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Блок-схема: узел 8"/>
          <p:cNvSpPr/>
          <p:nvPr/>
        </p:nvSpPr>
        <p:spPr>
          <a:xfrm>
            <a:off x="7500960" y="5357880"/>
            <a:ext cx="500040" cy="42840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Блок-схема: извлечение 9"/>
          <p:cNvSpPr/>
          <p:nvPr/>
        </p:nvSpPr>
        <p:spPr>
          <a:xfrm>
            <a:off x="7072200" y="5357880"/>
            <a:ext cx="357480" cy="500040"/>
          </a:xfrm>
          <a:prstGeom prst="flowChartExtra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395280" y="476280"/>
            <a:ext cx="8137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Если на внутреннюю сторону простого кольца посадить паука, а на внутреннюю сторону муху и разрешить им ползать как угодно, запретив лишь переползать через края кольца, то паук не сможет добраться до мухи. А если их обоих посадить на лист Мёбиуса, то бедная муха будет съедена, если, конечно, паук бегает быстрее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64 7.40741E-007 C -0.08264 0.00833 -0.11163 0.01667 -0.12778 0.04074 C -0.14392 0.06481 -0.15972 0.11389 -0.15034 0.14398 C -0.14097 0.17407 -0.10434 0.21366 -0.07135 0.22153 C -0.03837 0.2294 0.02518 0.21366 0.04809 0.19143 C 0.07101 0.16921 0.07222 0.11898 0.0658 0.08819 C 0.05938 0.05741 0.02101 0.02199 0.00938 0.00648 C -0.00225 -0.00903 -0.00139 -0.00255 -0.00364 -0.0044 E">
                                      <p:cBhvr>
                                        <p:cTn id="25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413 -0.01088 -0.04826 -0.02153 -0.05972 -0.03658 C -0.07118 -0.05162 -0.07726 -0.07408 -0.06927 -0.09028 C -0.06129 -0.10649 -0.03594 -0.1294 -0.01129 -0.13334 C 0.01337 -0.13727 0.06476 -0.1301 0.07899 -0.11389 C 0.09323 -0.09769 0.08142 -0.05301 0.07413 -0.03658 C 0.06684 -0.02014 0.05104 -0.0176 0.03542 -0.01505 E">
                                      <p:cBhvr>
                                        <p:cTn id="27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Скругленная прямоугольная выноска 3"/>
          <p:cNvSpPr/>
          <p:nvPr/>
        </p:nvSpPr>
        <p:spPr>
          <a:xfrm>
            <a:off x="324000" y="2852640"/>
            <a:ext cx="4071960" cy="31435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Что будет, если разрезать обычную ленту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?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Конечно же, получится 2 кольца, в 2 раза уже чем исходно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Скругленная прямоугольная выноска 6"/>
          <p:cNvSpPr/>
          <p:nvPr/>
        </p:nvSpPr>
        <p:spPr>
          <a:xfrm>
            <a:off x="324000" y="2852640"/>
            <a:ext cx="4214520" cy="31435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А что случится, если разрезать вдоль посередине лист Мёбиуса по всей длине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А вот чт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Рисунок 7" descr="Копия (2) лента 019.jpg"/>
          <p:cNvPicPr/>
          <p:nvPr/>
        </p:nvPicPr>
        <p:blipFill>
          <a:blip r:embed="rId2"/>
          <a:stretch/>
        </p:blipFill>
        <p:spPr>
          <a:xfrm>
            <a:off x="5580000" y="1989000"/>
            <a:ext cx="2801880" cy="43927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8" descr="Копия лента 019.jpg"/>
          <p:cNvPicPr/>
          <p:nvPr/>
        </p:nvPicPr>
        <p:blipFill>
          <a:blip r:embed="rId3"/>
          <a:stretch/>
        </p:blipFill>
        <p:spPr>
          <a:xfrm>
            <a:off x="5572080" y="1928880"/>
            <a:ext cx="3321000" cy="47275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7"/>
          <p:cNvSpPr/>
          <p:nvPr/>
        </p:nvSpPr>
        <p:spPr>
          <a:xfrm>
            <a:off x="468360" y="189000"/>
            <a:ext cx="828036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Связ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Лист Мёбиуса двусвязен, так как если разрезать его вдоль, он превратится не в два отдельных кольца, а в одну целую лен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16:47:19Z</dcterms:created>
  <dc:creator>Васильна</dc:creator>
  <dc:description/>
  <dc:language>en-US</dc:language>
  <cp:lastModifiedBy>syun</cp:lastModifiedBy>
  <dcterms:modified xsi:type="dcterms:W3CDTF">2012-10-08T13:58:16Z</dcterms:modified>
  <cp:revision>128</cp:revision>
  <dc:subject/>
  <dc:title>Слайд 1</dc:title>
</cp:coreProperties>
</file>