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FCE-555F-42B8-9841-972F8BF8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CA1-975F-48D5-AF9F-6416FEF8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EB83-EB0B-4D92-B229-DCAC3E7D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B56-653E-4649-82BF-254C8C69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7899-E40C-49D7-9321-2ACEDBF3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59F1-3BA2-4AB7-89D1-97074F90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370B-623C-47AF-8A60-12840C2E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6EBF-FEA5-43B9-869D-52FDCCBC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2674-B586-4E1C-9384-9D7FD488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9128-1AC8-43C6-8043-EE412AA2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F56A-5EC8-4A3E-8AFA-50C23E42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5D8-EA72-4029-AC67-C9A88503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AA72-EC5D-425C-97B9-58E9A278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3A1B-52F7-417D-9D61-6381D640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AE16-E626-4A75-B9B2-A3F1BD09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A4B3-8BFF-458A-B45E-07BA6576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7EFE-B863-434E-AA7F-EBF2B24D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C3C-EF77-4CB5-8188-5E5AE856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CA3-CD10-422B-BB52-3D45D670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2DAA-FF67-414A-BC18-E36FB7C0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B11-34EF-495B-8809-B4B6048A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4A8-5A43-4F00-AB5A-ADF15438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28E-9883-48FC-8B89-6B1A77FE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455-538B-42A6-9269-5367B20E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3CEA-FCA6-45D2-9D16-143A561EEC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0FE7-AAB6-4D82-8B67-B20D6BAAC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826920" y="404640"/>
            <a:ext cx="7777440" cy="604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8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тературная 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Проще простог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Покажите потылицу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5445000"/>
            <a:ext cx="868680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Потылица – это затыл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Клобук носят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на голов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на ше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в карман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Клобук – монашеский головной уб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5084640"/>
            <a:ext cx="84247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Василиск – это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сын Васил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цвето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нечистая си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Василиск – дракон, змей, нечи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0" y="4797000"/>
            <a:ext cx="8424720" cy="730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Алкать - значит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крич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пи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жел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Алкать – сильно хоте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084640"/>
            <a:ext cx="84978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Сколько копеек в полушке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Полушка – четверть копей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013360"/>
            <a:ext cx="8496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99"/>
                </a:solidFill>
                <a:latin typeface="Tahoma"/>
              </a:rPr>
              <a:t>Можно ли употреблять ядь в свежем виде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н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99"/>
                </a:solidFill>
                <a:latin typeface="Tahoma"/>
              </a:rPr>
              <a:t>Ядь – пища, е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013360"/>
            <a:ext cx="84247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Пращур – это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динозав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пред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название болез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Пращур - предо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4941720"/>
            <a:ext cx="8496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Какого цвета бывают ланиты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крас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зеле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си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Ланиты – ще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941720"/>
            <a:ext cx="83534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Сколько раз в год крестьяне орали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од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д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сто ра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Орать – пахать. Два раз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084640"/>
            <a:ext cx="83534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Можно ли носить кольцо с аспидом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д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н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Аспид – ядовитая зме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95280" y="5013360"/>
            <a:ext cx="8497800" cy="712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99"/>
                </a:solidFill>
                <a:latin typeface="Tahoma"/>
              </a:rPr>
              <a:t>Можно</a:t>
            </a: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99ff99"/>
                </a:solidFill>
                <a:latin typeface="Tahoma"/>
              </a:rPr>
              <a:t>ли сшить платье из аксамита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д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не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Да. Аксамит – бархат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4797360"/>
            <a:ext cx="820728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Простоволосый – это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без причес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без воло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без головного убо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Простоволосый – с непокрытой голов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5013360"/>
            <a:ext cx="856908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Мурза – это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грязнул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нищ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вельмож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99"/>
                </a:solidFill>
                <a:latin typeface="Tahoma"/>
              </a:rPr>
              <a:t>мурза – татарский вельмож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5013360"/>
            <a:ext cx="84247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99"/>
                </a:solidFill>
                <a:latin typeface="Tahoma"/>
              </a:rPr>
              <a:t>Можно ли верить забобонам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99ff99"/>
                </a:solidFill>
                <a:latin typeface="Tahoma"/>
              </a:rPr>
              <a:t>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99ff99"/>
                </a:solidFill>
                <a:latin typeface="Tahoma"/>
              </a:rPr>
              <a:t>н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99"/>
                </a:solidFill>
                <a:latin typeface="Tahoma"/>
              </a:rPr>
              <a:t>Забобоны – сказки, бредн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5013360"/>
            <a:ext cx="8820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Инок живет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в другом государств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в монасты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в лес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Инок – православный мона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941720"/>
            <a:ext cx="889308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Все ли могут писать десницей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д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н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Десница – правая ру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4941720"/>
            <a:ext cx="87138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Что необходимо, чтобы стать толмачом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хорошо рисов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быстро бег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знать иностранные язы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Толмач – переводчи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013360"/>
            <a:ext cx="8820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Очеса – это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гла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воло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вален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Очеса – очи, глаз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5013360"/>
            <a:ext cx="8424720" cy="712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Во время битвы живот можно:</a:t>
            </a:r>
            <a:br>
              <a:rPr sz="40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наби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отрасти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потеря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Живот – жизн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5013360"/>
            <a:ext cx="8496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На вые носят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шапк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шар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оч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Выя – ше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5013360"/>
            <a:ext cx="87487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99"/>
                </a:solidFill>
                <a:latin typeface="Tahoma"/>
              </a:rPr>
              <a:t>Для чего использовали дощеник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для пла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для захорон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для пись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Tahoma"/>
              </a:rPr>
              <a:t>Дощеник – парусное весельное суд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5013360"/>
            <a:ext cx="86407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Агнец – это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анге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ягнено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огонь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Агнец – ягненок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157720"/>
            <a:ext cx="83534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Послух – это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послушный ребен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мона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свидет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Послух – свидетел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5013360"/>
            <a:ext cx="8820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Присный – это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родн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вкусны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несолены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Присный – родной, близк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5013360"/>
            <a:ext cx="87138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Где вам могли встретиться буки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в лесу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в книг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на карт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Буки – название буквы «Б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95280" y="5300280"/>
            <a:ext cx="8353440" cy="730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Можно ли сейчас побывать в весях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н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99"/>
                </a:solidFill>
                <a:latin typeface="Tahoma"/>
              </a:rPr>
              <a:t>Да. Весь – это деревня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4724280"/>
            <a:ext cx="89647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Покажите длань.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99"/>
                </a:solidFill>
                <a:latin typeface="Tahoma"/>
              </a:rPr>
              <a:t>Длань – это рука, ладон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Духовник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играет на духовых инструмента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создает дух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совершает церковные обря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Духовник – это священн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805360"/>
            <a:ext cx="84247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Басурман – это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националь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воинское зв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вероиспове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Басурман – нехристианин, иноверец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99"/>
                </a:solidFill>
                <a:latin typeface="Tahoma"/>
              </a:rPr>
              <a:t>Что такое понт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свойство характе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мо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извержение вулка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Tahoma"/>
              </a:rPr>
              <a:t>Понт - мор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084640"/>
            <a:ext cx="84247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18:36:33Z</dcterms:created>
  <dc:creator>мт</dc:creator>
  <dc:description/>
  <dc:language>en-US</dc:language>
  <cp:lastModifiedBy>мт</cp:lastModifiedBy>
  <dcterms:modified xsi:type="dcterms:W3CDTF">2011-09-20T07:43:51Z</dcterms:modified>
  <cp:revision>4</cp:revision>
  <dc:subject/>
  <dc:title>Литературная игра «Проще простого»</dc:title>
</cp:coreProperties>
</file>