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D455-1BB4-4517-90FA-CC2F7EB1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E66-65CE-4254-94E2-DF345CFB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836A-B098-437C-BFC1-2C241DD5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AAC-8319-4D1B-A805-935E672B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2D5B-1B58-4498-8992-562CC2B4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5842-99A5-4812-8A31-5998CE20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F81E-CB87-49A7-9760-B381F22E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5396-A9FF-4D82-899F-4D45F9ED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FBC2-F337-40A1-A6B1-4B1BAACC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80ED-9750-4969-9F94-C6DD9086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0814-71CC-41AF-A6D6-921BF482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65B-2BEA-4F2B-977E-0989ED84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F848-8BFC-4602-9C3F-E046EC38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BA17-5709-40D2-98A2-615B1DA0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73E5-967F-448D-B06C-3FECB4DB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8EAD-09B6-42F7-856A-1B87632B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1CC3-E77C-45BD-A65E-324C2A67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CF57-1D2A-4398-AC81-87A196E8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39E-E809-4E8D-9B3E-1AD057D4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136-26AF-4B0F-85CD-3A1A404A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E17-89EC-4BBB-A5B2-258A1C00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583-F6BC-47A7-9815-9BB8046D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2C5-712D-4E2B-8C7D-C7377CF7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B58-F943-4231-BC85-6AF19A53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1B59-4182-44DA-93F8-C69784CB15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0E35-9781-4289-9B9D-10E62F0549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826920" y="404640"/>
            <a:ext cx="7777440" cy="604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8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тературная 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Проще простог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Покажите потылицу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5445000"/>
            <a:ext cx="868680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Потылица – это затыл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Клобук носят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на голов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на ше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в карман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Клобук – монашеский головной убо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5084640"/>
            <a:ext cx="842472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Василиск – это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сын Васил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цвето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нечистая си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Василиск – дракон, змей, нечи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0" y="4797000"/>
            <a:ext cx="8424720" cy="730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Алкать - значит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крича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пи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жела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Алкать – сильно хоте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5084640"/>
            <a:ext cx="84978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Сколько копеек в полушке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1/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Полушка – четверть копей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013360"/>
            <a:ext cx="8496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ff99"/>
                </a:solidFill>
                <a:latin typeface="Tahoma"/>
              </a:rPr>
              <a:t>Можно ли употреблять ядь в свежем виде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н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99"/>
                </a:solidFill>
                <a:latin typeface="Tahoma"/>
              </a:rPr>
              <a:t>Ядь – пища, е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5013360"/>
            <a:ext cx="842472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Пращур – это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динозав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пред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название болез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Пращур - предо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4941720"/>
            <a:ext cx="8496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Какого цвета бывают ланиты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красн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зелен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си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Ланиты – ще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941720"/>
            <a:ext cx="83534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Сколько раз в год крестьяне орали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од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д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сто раз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Орать – пахать. Два раз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084640"/>
            <a:ext cx="83534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Можно ли носить кольцо с аспидом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д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н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Аспид – ядовитая зме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95280" y="5013360"/>
            <a:ext cx="8497800" cy="712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99"/>
                </a:solidFill>
                <a:latin typeface="Tahoma"/>
              </a:rPr>
              <a:t>Можно</a:t>
            </a: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99ff99"/>
                </a:solidFill>
                <a:latin typeface="Tahoma"/>
              </a:rPr>
              <a:t>ли сшить платье из аксамита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д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не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Да. Аксамит – бархат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4797360"/>
            <a:ext cx="820728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Простоволосый – это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без причес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без воло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без головного убо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Простоволосый – с непокрытой голов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5013360"/>
            <a:ext cx="856908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Мурза – это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грязнул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нищ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вельмож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99"/>
                </a:solidFill>
                <a:latin typeface="Tahoma"/>
              </a:rPr>
              <a:t>мурза – татарский вельмож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5013360"/>
            <a:ext cx="842472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ff99"/>
                </a:solidFill>
                <a:latin typeface="Tahoma"/>
              </a:rPr>
              <a:t>Можно ли верить забобонам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99ff99"/>
                </a:solidFill>
                <a:latin typeface="Tahoma"/>
              </a:rPr>
              <a:t>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99ff99"/>
                </a:solidFill>
                <a:latin typeface="Tahoma"/>
              </a:rPr>
              <a:t>н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99"/>
                </a:solidFill>
                <a:latin typeface="Tahoma"/>
              </a:rPr>
              <a:t>Забобоны – сказки, бредн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5013360"/>
            <a:ext cx="8820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Инок живет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в другом государств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в монасты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в лес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Инок – православный мона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4941720"/>
            <a:ext cx="889308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Все ли могут писать десницей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д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н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Десница – правая ру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4941720"/>
            <a:ext cx="87138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Что необходимо, чтобы стать толмачом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хорошо рисова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быстро бега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знать иностранные язы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Толмач – переводчи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013360"/>
            <a:ext cx="8820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Очеса – это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гла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воло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вален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Очеса – очи, глаз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5013360"/>
            <a:ext cx="8424720" cy="712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Во время битвы живот можно:</a:t>
            </a:r>
            <a:br>
              <a:rPr sz="40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наби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отрасти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потеря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Живот – жизн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5013360"/>
            <a:ext cx="8496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На вые носят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шапк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шар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оч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Выя – ше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5013360"/>
            <a:ext cx="874872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ff99"/>
                </a:solidFill>
                <a:latin typeface="Tahoma"/>
              </a:rPr>
              <a:t>Для чего использовали дощеник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для плав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для захорон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для пись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Tahoma"/>
              </a:rPr>
              <a:t>Дощеник – парусное весельное суд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5013360"/>
            <a:ext cx="864072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Агнец – это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анге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ягненок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огонь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Агнец – ягненок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157720"/>
            <a:ext cx="83534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Послух – это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послушный ребен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мона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свидете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Послух – свидетел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5013360"/>
            <a:ext cx="8820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Присный – это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родн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вкусны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несолены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Присный – родной, близк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5013360"/>
            <a:ext cx="87138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Где вам могли встретиться буки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в лесу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в книг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на карт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Буки – название буквы «Б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95280" y="5300280"/>
            <a:ext cx="8353440" cy="730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Можно ли сейчас побывать в весях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н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99"/>
                </a:solidFill>
                <a:latin typeface="Tahoma"/>
              </a:rPr>
              <a:t>Да. Весь – это деревня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4724280"/>
            <a:ext cx="896472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Покажите длань.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99"/>
                </a:solidFill>
                <a:latin typeface="Tahoma"/>
              </a:rPr>
              <a:t>Длань – это рука, ладон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Духовник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играет на духовых инструмента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создает дух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совершает церковные обря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Tahoma"/>
              </a:rPr>
              <a:t>Духовник – это священн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5805360"/>
            <a:ext cx="842472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Tahoma"/>
              </a:rPr>
              <a:t>Басурман – это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националь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воинское зв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99ff99"/>
                </a:solidFill>
                <a:latin typeface="Tahoma"/>
              </a:rPr>
              <a:t>вероиспове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Басурман – нехристианин, иноверец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ff99"/>
                </a:solidFill>
                <a:latin typeface="Tahoma"/>
              </a:rPr>
              <a:t>Что такое понт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свойство характе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мо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9ff99"/>
                </a:solidFill>
                <a:latin typeface="Tahoma"/>
              </a:rPr>
              <a:t>извержение вулка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Tahoma"/>
              </a:rPr>
              <a:t>Понт - мор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084640"/>
            <a:ext cx="842472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18:36:33Z</dcterms:created>
  <dc:creator>мт</dc:creator>
  <dc:description/>
  <dc:language>en-US</dc:language>
  <cp:lastModifiedBy>мт</cp:lastModifiedBy>
  <dcterms:modified xsi:type="dcterms:W3CDTF">2011-09-20T07:43:51Z</dcterms:modified>
  <cp:revision>4</cp:revision>
  <dc:subject/>
  <dc:title>Литературная игра «Проще простого»</dc:title>
</cp:coreProperties>
</file>