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E8C-FED7-443B-95D3-DD82B758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0F3A-DCFB-4539-B4E1-E0AF768D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8145-9244-40E7-B41A-A2055D79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417C-300A-4E65-8F43-8C63E2C7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2E5E-3672-4B8A-A822-A2F686E2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8B3F-89C9-47B8-ADAE-BED59AF3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63AE-A5DA-4DB6-8D98-8A59CF68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843D-B51B-4C43-BA5A-BB086180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BDAD-548B-45EE-BAA3-306AF704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502F-CD85-4CC8-943E-DDB1E7F5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257E-E0F0-47F9-9337-444FBF1C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452A-2C9A-4B77-A629-71B8717D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4A5C-041C-4F75-B3D1-0D8C66E6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B946-33BE-4369-9E8D-5A2B1A0E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6575-0439-43BA-9D88-8BB82E27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34C5-C074-48FF-BB53-374495B9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B1C5-4153-45D8-8AF7-CB554C4A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3062-5B9D-4D4F-8966-573AF376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B0F3-CC97-48CB-8740-F6999EB0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D6EE-0D15-4477-BA3A-6325D955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BE61-EC2C-434B-AAA0-A5603B7B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5D58-99E6-4068-8B44-ACE0B396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A6F-1E3D-45F8-BD39-63DA639E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A49A-9E2D-4F24-B3E0-CAF86F1B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7BEF-3435-40FC-A958-97D9F0F3FB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3738-FDA1-44F0-982D-50121B22A1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0755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dobe Garamond Pro Bold"/>
              </a:rPr>
              <a:t>Морские жители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ru-RU" sz="2800" spc="-1" strike="noStrike">
                <a:solidFill>
                  <a:srgbClr val="ffffff"/>
                </a:solidFill>
                <a:latin typeface="Adobe Garamond Pro Bold"/>
              </a:rPr>
              <a:t>презентация подготовлен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dobe Garamond Pro Bold"/>
              </a:rPr>
              <a:t>Алмаевой Ириной Александров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4216680" cy="5746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716360" y="549360"/>
            <a:ext cx="4202280" cy="57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4324680" cy="60897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08000" y="333360"/>
            <a:ext cx="4386240" cy="61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716360" y="260280"/>
            <a:ext cx="4295880" cy="5905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3360" y="189000"/>
            <a:ext cx="45086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87280" y="2565360"/>
            <a:ext cx="75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myltfilmu.ucoz.ru/load/detskie/risovannye/smotret_onlajn_devochka_i_delfin/2-1-0-3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716360" y="404640"/>
            <a:ext cx="4294440" cy="5904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08000" y="404640"/>
            <a:ext cx="4510080" cy="59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4680" y="333360"/>
            <a:ext cx="4294080" cy="5975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436104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716360" y="476280"/>
            <a:ext cx="4222800" cy="5905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4359240" cy="58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77120" y="3246480"/>
            <a:ext cx="87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myltfilmu.ucoz.ru/load/detskie/risovannye/smotret_onlajn_osminozhki/2-1-0-1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0" y="404640"/>
            <a:ext cx="4317840" cy="5977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47600" y="333360"/>
            <a:ext cx="43164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07:34:19Z</dcterms:created>
  <dc:creator>ДОМ</dc:creator>
  <dc:description/>
  <dc:language>en-US</dc:language>
  <cp:lastModifiedBy>ДОМ</cp:lastModifiedBy>
  <dcterms:modified xsi:type="dcterms:W3CDTF">2012-10-08T08:06:58Z</dcterms:modified>
  <cp:revision>5</cp:revision>
  <dc:subject/>
  <dc:title>Рисование без карандаша</dc:title>
</cp:coreProperties>
</file>