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05D-0233-4940-82B0-BAD64AA1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FED-D538-460A-A3FD-E67D68DF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775-1C91-46AC-A804-D257336E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428-FD10-4F14-9D20-6D77D876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B700-F86F-4B34-8DA2-800A0036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6944-D5CA-4125-99CA-69152250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511E-0DDE-43D2-B297-36849F6C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17CB-B9A6-480E-BD9A-7801C14D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5B08-202A-4994-B604-178B088B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2B9A-81A3-43A1-985C-6C6EE5DB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5C9D-3D86-491F-A097-B27CA903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0DF-EFCA-4CFF-B1A0-096A46BD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4694-7A7F-467B-A6C3-4D8F4F99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E3C0-9791-483C-BA54-8E122764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FD66-56F8-4D16-AFEC-341106D1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D17E-B1C6-48DD-A097-D53A932F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EF85-FCA0-4605-BCC5-0C9432D2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A9F-9FAD-457B-8890-425C78D4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EFF-1305-4A5E-8816-43E36A22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48A-C453-4360-A0BF-A40C0267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12C-8FD8-4C41-8EB4-5B73AD00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8E6-F5FB-4AEE-B381-E089C75E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7D1-E6DE-410A-AB4D-5FB5F35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F33-A12A-4AED-BCE0-DB798C6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798D-98BD-4D4E-B71D-E6E34A46D9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324F-A6A3-4C54-8CED-B47E7B301A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075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dobe Garamond Pro Bold"/>
              </a:rPr>
              <a:t>Морские жители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2800" spc="-1" strike="noStrike">
                <a:solidFill>
                  <a:srgbClr val="ffffff"/>
                </a:solidFill>
                <a:latin typeface="Adobe Garamond Pro Bold"/>
              </a:rPr>
              <a:t>презентация подготовлен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dobe Garamond Pro Bold"/>
              </a:rPr>
              <a:t>Алмаевой Ириной Александров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216680" cy="5746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42022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324680" cy="6089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438624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295880" cy="5905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3360" y="189000"/>
            <a:ext cx="4508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7280" y="2565360"/>
            <a:ext cx="75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yltfilmu.ucoz.ru/load/detskie/risovannye/smotret_onlajn_devochka_i_delfin/2-1-0-3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4294440" cy="590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51008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4680" y="333360"/>
            <a:ext cx="4294080" cy="5975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6104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4222800" cy="5905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35924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7120" y="3246480"/>
            <a:ext cx="87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yltfilmu.ucoz.ru/load/detskie/risovannye/smotret_onlajn_osminozhki/2-1-0-1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317840" cy="5977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7600" y="333360"/>
            <a:ext cx="43164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34:19Z</dcterms:created>
  <dc:creator>ДОМ</dc:creator>
  <dc:description/>
  <dc:language>en-US</dc:language>
  <cp:lastModifiedBy>ДОМ</cp:lastModifiedBy>
  <dcterms:modified xsi:type="dcterms:W3CDTF">2012-10-08T08:06:58Z</dcterms:modified>
  <cp:revision>5</cp:revision>
  <dc:subject/>
  <dc:title>Рисование без карандаша</dc:title>
</cp:coreProperties>
</file>