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6EEC-647F-428D-82FA-AFB31661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F8D-7272-4ABC-AEB4-8F5CE07AB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0A03-F102-4491-9C52-A2FFEF48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E3B8-7A11-463C-B8B3-2DAD5FD5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B762-8B41-4491-A613-59DB939D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B49-F1EE-461A-808C-4A773F6F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CE5F-F598-45A4-BAAF-ACB093685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66E8-2610-457B-826A-1E5DFFA9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3188-B505-47F8-9BEB-205C329D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C54-D2C9-41BC-B32F-B5F35712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B45D-B89F-4B70-9832-765FD978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BFF0-F743-492D-A4BC-07351970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81A-D145-4CAA-B8CE-20E9694C8C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58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«Этот удивительный окружающий мир»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Тема: «ОБЛАКА»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Чичирко Роман Олегович</a:t>
            </a: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2-а класс МБОУ СОШ №2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0000cc"/>
                </a:solidFill>
                <a:latin typeface="Arial"/>
              </a:rPr>
              <a:t>г. Амурск Хабаровский кра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539640" y="333360"/>
            <a:ext cx="77724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6" descr="окно"/>
          <p:cNvPicPr/>
          <p:nvPr/>
        </p:nvPicPr>
        <p:blipFill>
          <a:blip r:embed="rId1"/>
          <a:stretch/>
        </p:blipFill>
        <p:spPr>
          <a:xfrm>
            <a:off x="179280" y="479520"/>
            <a:ext cx="8929800" cy="62452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08000" y="-360"/>
            <a:ext cx="9036000" cy="76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исто- слоистые -парусоподобные 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купола"/>
          <p:cNvPicPr/>
          <p:nvPr/>
        </p:nvPicPr>
        <p:blipFill>
          <a:blip r:embed="rId1"/>
          <a:stretch/>
        </p:blipFill>
        <p:spPr>
          <a:xfrm>
            <a:off x="214200" y="868320"/>
            <a:ext cx="8821800" cy="58467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2"/>
          <p:cNvSpPr/>
          <p:nvPr/>
        </p:nvSpPr>
        <p:spPr>
          <a:xfrm>
            <a:off x="412920" y="388800"/>
            <a:ext cx="8424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учевые – имеют форму куполов или баш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213920" y="4714560"/>
            <a:ext cx="403884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13"/>
          <p:cNvPicPr/>
          <p:nvPr/>
        </p:nvPicPr>
        <p:blipFill>
          <a:blip r:embed="rId1"/>
          <a:stretch/>
        </p:blipFill>
        <p:spPr>
          <a:xfrm>
            <a:off x="108000" y="692280"/>
            <a:ext cx="9001080" cy="60213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4"/>
          <p:cNvSpPr/>
          <p:nvPr/>
        </p:nvSpPr>
        <p:spPr>
          <a:xfrm>
            <a:off x="2068920" y="125280"/>
            <a:ext cx="48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учево-дождевые обл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9"/>
          <p:cNvPicPr/>
          <p:nvPr/>
        </p:nvPicPr>
        <p:blipFill>
          <a:blip r:embed="rId1"/>
          <a:stretch/>
        </p:blipFill>
        <p:spPr>
          <a:xfrm>
            <a:off x="139680" y="884160"/>
            <a:ext cx="8906040" cy="5862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405720" y="404640"/>
            <a:ext cx="1301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За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6" descr="5"/>
          <p:cNvPicPr/>
          <p:nvPr/>
        </p:nvPicPr>
        <p:blipFill>
          <a:blip r:embed="rId1"/>
          <a:stretch/>
        </p:blipFill>
        <p:spPr>
          <a:xfrm>
            <a:off x="108000" y="1484280"/>
            <a:ext cx="9001080" cy="52722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90360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Когда облака наплывают на гору, ощущаешь себя как в тум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6"/>
          <p:cNvPicPr/>
          <p:nvPr/>
        </p:nvPicPr>
        <p:blipFill>
          <a:blip r:embed="rId1"/>
          <a:stretch/>
        </p:blipFill>
        <p:spPr>
          <a:xfrm>
            <a:off x="142920" y="981000"/>
            <a:ext cx="8908920" cy="573408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2"/>
          <p:cNvSpPr/>
          <p:nvPr/>
        </p:nvSpPr>
        <p:spPr>
          <a:xfrm>
            <a:off x="112680" y="115920"/>
            <a:ext cx="4572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Ялта. Вид из ок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4200" y="214200"/>
            <a:ext cx="7886880" cy="66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 marL="150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Эффект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«ПОЯС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ВЕНЕРЫ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c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полосы1"/>
          <p:cNvPicPr/>
          <p:nvPr/>
        </p:nvPicPr>
        <p:blipFill>
          <a:blip r:embed="rId1"/>
          <a:stretch/>
        </p:blipFill>
        <p:spPr>
          <a:xfrm>
            <a:off x="108000" y="674640"/>
            <a:ext cx="8928000" cy="60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1"/>
          <p:cNvPicPr/>
          <p:nvPr/>
        </p:nvPicPr>
        <p:blipFill>
          <a:blip r:embed="rId1"/>
          <a:stretch/>
        </p:blipFill>
        <p:spPr>
          <a:xfrm>
            <a:off x="142920" y="285840"/>
            <a:ext cx="8969400" cy="64659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50920" y="285840"/>
            <a:ext cx="667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Эффект </a:t>
            </a: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«ОГНЕННАЯ РАДУГА»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6" descr="Фото001"/>
          <p:cNvPicPr/>
          <p:nvPr/>
        </p:nvPicPr>
        <p:blipFill>
          <a:blip r:embed="rId1"/>
          <a:stretch/>
        </p:blipFill>
        <p:spPr>
          <a:xfrm>
            <a:off x="103320" y="836640"/>
            <a:ext cx="9007200" cy="5905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2"/>
          <p:cNvSpPr/>
          <p:nvPr/>
        </p:nvSpPr>
        <p:spPr>
          <a:xfrm>
            <a:off x="68400" y="115920"/>
            <a:ext cx="904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Одна из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ей кучевых облаков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: двояко-выпуклые облака. Они связаны с грозой. Носят название «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MAMMATUS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10"/>
          <p:cNvPicPr/>
          <p:nvPr/>
        </p:nvPicPr>
        <p:blipFill>
          <a:blip r:embed="rId1"/>
          <a:stretch/>
        </p:blipFill>
        <p:spPr>
          <a:xfrm>
            <a:off x="108000" y="981000"/>
            <a:ext cx="8951760" cy="57610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92800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Разновидность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кучевых облаков: двояко-выпуклые облака. «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MAMMATUS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8"/>
          <p:cNvPicPr/>
          <p:nvPr/>
        </p:nvPicPr>
        <p:blipFill>
          <a:blip r:embed="rId1"/>
          <a:srcRect l="0" t="0" r="6246" b="0"/>
          <a:stretch/>
        </p:blipFill>
        <p:spPr>
          <a:xfrm>
            <a:off x="179280" y="115920"/>
            <a:ext cx="8879040" cy="4825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50846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роблема.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«Из чего сделаны облака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Как они образуются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очему они плывут? </a:t>
            </a:r>
            <a:br>
              <a:rPr sz="2400"/>
            </a:b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Почему они всегда разные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547280" y="2204640"/>
            <a:ext cx="50403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Небо и обла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так прекрасны и необыкновенны. Я очень хочу, чтобы люди чаще смотрели ввысь и замечали красоту неб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229600" cy="53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ри создании презентации  я пользовался собственными наблюдениями и опытом, данными из ИНТЕРНЕТ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икипеди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ru.wikipedia.org/wiki/%D2%F3%F7%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Что такое облака?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meltice.com.ua/articles/wasser/tag/raznovidnosti-oblakov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Яркое разнообразие облаков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lifeglobe.net/entry/18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ША ПЛАНЕТ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planeta.moy.su/blog/jarkoe_raznoobrazie_oblakov/2011-12-04-109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иационная метеорология Облака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http://aviaspec.com/aviatsionnaya-meteorologiya/oblaka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се фотографии взяты из семейного фотоарх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6" descr="17"/>
          <p:cNvPicPr/>
          <p:nvPr/>
        </p:nvPicPr>
        <p:blipFill>
          <a:blip r:embed="rId1"/>
          <a:stretch/>
        </p:blipFill>
        <p:spPr>
          <a:xfrm>
            <a:off x="285840" y="142920"/>
            <a:ext cx="5742000" cy="385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18"/>
          <p:cNvPicPr/>
          <p:nvPr/>
        </p:nvPicPr>
        <p:blipFill>
          <a:blip r:embed="rId2"/>
          <a:stretch/>
        </p:blipFill>
        <p:spPr>
          <a:xfrm>
            <a:off x="2916360" y="2708280"/>
            <a:ext cx="6048360" cy="400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56760" y="4929120"/>
            <a:ext cx="8472600" cy="15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да, которая испаряется с поверхности Мирового океана, поднимается в атмосферу в виде водяного па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_0004"/>
          <p:cNvPicPr/>
          <p:nvPr/>
        </p:nvPicPr>
        <p:blipFill>
          <a:blip r:embed="rId1"/>
          <a:stretch/>
        </p:blipFill>
        <p:spPr>
          <a:xfrm>
            <a:off x="108000" y="189000"/>
            <a:ext cx="9001080" cy="5543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5732280"/>
            <a:ext cx="8229600" cy="43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Провел опыт: 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однес к носику чайника зерк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10-013-Posle-dozhdja-krugom-mnogo-vody-luzhi-kapli-vody-na-listjakh-i-trave"/>
          <p:cNvPicPr/>
          <p:nvPr/>
        </p:nvPicPr>
        <p:blipFill>
          <a:blip r:embed="rId1"/>
          <a:stretch/>
        </p:blipFill>
        <p:spPr>
          <a:xfrm>
            <a:off x="214200" y="142920"/>
            <a:ext cx="6445440" cy="65008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928840" y="1928520"/>
            <a:ext cx="3357720" cy="15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з мелких капе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воды образуются обла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19"/>
          <p:cNvPicPr/>
          <p:nvPr/>
        </p:nvPicPr>
        <p:blipFill>
          <a:blip r:embed="rId1"/>
          <a:stretch/>
        </p:blipFill>
        <p:spPr>
          <a:xfrm>
            <a:off x="142920" y="142920"/>
            <a:ext cx="8748720" cy="60228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324000" y="609300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Облака проливаются на землю дождем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16"/>
          <p:cNvPicPr/>
          <p:nvPr/>
        </p:nvPicPr>
        <p:blipFill>
          <a:blip r:embed="rId1"/>
          <a:stretch/>
        </p:blipFill>
        <p:spPr>
          <a:xfrm>
            <a:off x="210960" y="115920"/>
            <a:ext cx="8745840" cy="662616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2"/>
          <p:cNvSpPr/>
          <p:nvPr/>
        </p:nvSpPr>
        <p:spPr>
          <a:xfrm>
            <a:off x="6168240" y="333360"/>
            <a:ext cx="266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…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или снег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848052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зновидности облаков:</a:t>
            </a:r>
            <a:br>
              <a:rPr sz="2800"/>
            </a:b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перистые- имеют вид тонких белых нитей </a:t>
            </a:r>
            <a:br>
              <a:rPr sz="2800"/>
            </a:br>
            <a:br>
              <a:rPr sz="2800"/>
            </a:b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DSC00262"/>
          <p:cNvPicPr/>
          <p:nvPr/>
        </p:nvPicPr>
        <p:blipFill>
          <a:blip r:embed="rId1"/>
          <a:stretch/>
        </p:blipFill>
        <p:spPr>
          <a:xfrm>
            <a:off x="179280" y="981000"/>
            <a:ext cx="88376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небо"/>
          <p:cNvPicPr/>
          <p:nvPr/>
        </p:nvPicPr>
        <p:blipFill>
          <a:blip r:embed="rId1"/>
          <a:stretch/>
        </p:blipFill>
        <p:spPr>
          <a:xfrm>
            <a:off x="179280" y="836640"/>
            <a:ext cx="8856720" cy="58071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3"/>
          <p:cNvSpPr/>
          <p:nvPr/>
        </p:nvSpPr>
        <p:spPr>
          <a:xfrm>
            <a:off x="1365480" y="152280"/>
            <a:ext cx="6887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Arial"/>
              </a:rPr>
              <a:t>Разновидности облаков: </a:t>
            </a:r>
            <a:r>
              <a:rPr b="1" i="1" lang="ru-RU" sz="2800" spc="-1" strike="noStrike">
                <a:solidFill>
                  <a:srgbClr val="0000cc"/>
                </a:solidFill>
                <a:latin typeface="Arial"/>
              </a:rPr>
              <a:t>слоисты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8T05:03:35Z</dcterms:created>
  <dc:creator>Светлана</dc:creator>
  <dc:description/>
  <dc:language>en-US</dc:language>
  <cp:lastModifiedBy>Дом</cp:lastModifiedBy>
  <dcterms:modified xsi:type="dcterms:W3CDTF">2012-10-08T12:20:39Z</dcterms:modified>
  <cp:revision>18</cp:revision>
  <dc:subject/>
  <dc:title>«Этот удивительный окружающий мир»  Тема: «ОБЛАКА»  Чичирко Роман Олегович  2-а класс МДОУ СОШ №2  г. Амурск Хабаровский край</dc:title>
</cp:coreProperties>
</file>