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14D9-DEE0-4453-9E1E-81B3981B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458-79FA-4E01-9071-2FEAED0E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C15-D6D4-446B-AADC-0604C5C6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A940-A488-48AF-BE18-AA29910FE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F5B-CB0C-4567-A215-8A451D37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6BF-C6B1-4D89-8573-FF61FB15C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3B0-3BC2-4097-B862-9E21B341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306-4136-44CD-B120-60776229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AA25-51F6-4E10-A744-516D255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49D7-85FE-4E47-B2BF-359E5014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927-DDC7-4BC0-BF7E-C1D80550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420A-0850-49BB-8EF0-A724EB5F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3490-F1B4-496E-A41C-98310057B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«Этот удивительный окружающий мир»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Тема: «ОБЛАК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Чичирко Роман Олегович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2-а класс МБОУ СОШ №2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г. Амурск Хабаров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333360"/>
            <a:ext cx="77724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окно"/>
          <p:cNvPicPr/>
          <p:nvPr/>
        </p:nvPicPr>
        <p:blipFill>
          <a:blip r:embed="rId1"/>
          <a:stretch/>
        </p:blipFill>
        <p:spPr>
          <a:xfrm>
            <a:off x="179280" y="479520"/>
            <a:ext cx="8929800" cy="6245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-360"/>
            <a:ext cx="9036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исто- слоистые -парусоподобные 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купола"/>
          <p:cNvPicPr/>
          <p:nvPr/>
        </p:nvPicPr>
        <p:blipFill>
          <a:blip r:embed="rId1"/>
          <a:stretch/>
        </p:blipFill>
        <p:spPr>
          <a:xfrm>
            <a:off x="214200" y="868320"/>
            <a:ext cx="882180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412920" y="388800"/>
            <a:ext cx="842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учевые – имеют форму куполов или ба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13920" y="4714560"/>
            <a:ext cx="40388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3"/>
          <p:cNvPicPr/>
          <p:nvPr/>
        </p:nvPicPr>
        <p:blipFill>
          <a:blip r:embed="rId1"/>
          <a:stretch/>
        </p:blipFill>
        <p:spPr>
          <a:xfrm>
            <a:off x="108000" y="692280"/>
            <a:ext cx="9001080" cy="6021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068920" y="125280"/>
            <a:ext cx="48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учево-дождевые обл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9"/>
          <p:cNvPicPr/>
          <p:nvPr/>
        </p:nvPicPr>
        <p:blipFill>
          <a:blip r:embed="rId1"/>
          <a:stretch/>
        </p:blipFill>
        <p:spPr>
          <a:xfrm>
            <a:off x="139680" y="884160"/>
            <a:ext cx="8906040" cy="5862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05720" y="404640"/>
            <a:ext cx="130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З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5"/>
          <p:cNvPicPr/>
          <p:nvPr/>
        </p:nvPicPr>
        <p:blipFill>
          <a:blip r:embed="rId1"/>
          <a:stretch/>
        </p:blipFill>
        <p:spPr>
          <a:xfrm>
            <a:off x="108000" y="1484280"/>
            <a:ext cx="9001080" cy="5272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903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гда облака наплывают на гору, ощущаешь себя как в тум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6"/>
          <p:cNvPicPr/>
          <p:nvPr/>
        </p:nvPicPr>
        <p:blipFill>
          <a:blip r:embed="rId1"/>
          <a:stretch/>
        </p:blipFill>
        <p:spPr>
          <a:xfrm>
            <a:off x="142920" y="981000"/>
            <a:ext cx="8908920" cy="5734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12680" y="11592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лта. Вид из 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788688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Эффект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«ПОЯС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ЕНЕРЫ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полосы1"/>
          <p:cNvPicPr/>
          <p:nvPr/>
        </p:nvPicPr>
        <p:blipFill>
          <a:blip r:embed="rId1"/>
          <a:stretch/>
        </p:blipFill>
        <p:spPr>
          <a:xfrm>
            <a:off x="108000" y="674640"/>
            <a:ext cx="8928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1"/>
          <p:cNvPicPr/>
          <p:nvPr/>
        </p:nvPicPr>
        <p:blipFill>
          <a:blip r:embed="rId1"/>
          <a:stretch/>
        </p:blipFill>
        <p:spPr>
          <a:xfrm>
            <a:off x="142920" y="285840"/>
            <a:ext cx="8969400" cy="646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50920" y="28584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Эффект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«ОГНЕННАЯ РАДУГА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Фото001"/>
          <p:cNvPicPr/>
          <p:nvPr/>
        </p:nvPicPr>
        <p:blipFill>
          <a:blip r:embed="rId1"/>
          <a:stretch/>
        </p:blipFill>
        <p:spPr>
          <a:xfrm>
            <a:off x="103320" y="836640"/>
            <a:ext cx="9007200" cy="5905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68400" y="115920"/>
            <a:ext cx="90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дна из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ей кучевых облако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: двояко-выпуклые облака. Они связаны с грозой. Носят название «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MAMMATUS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0"/>
          <p:cNvPicPr/>
          <p:nvPr/>
        </p:nvPicPr>
        <p:blipFill>
          <a:blip r:embed="rId1"/>
          <a:stretch/>
        </p:blipFill>
        <p:spPr>
          <a:xfrm>
            <a:off x="108000" y="981000"/>
            <a:ext cx="895176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ь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кучевых облаков: двояко-выпуклые облака. «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MAMMATUS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"/>
          <p:cNvPicPr/>
          <p:nvPr/>
        </p:nvPicPr>
        <p:blipFill>
          <a:blip r:embed="rId1"/>
          <a:srcRect l="0" t="0" r="6246" b="0"/>
          <a:stretch/>
        </p:blipFill>
        <p:spPr>
          <a:xfrm>
            <a:off x="179280" y="115920"/>
            <a:ext cx="8879040" cy="482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.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Из чего сделаны облака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Как они образуются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очему они плывут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очему они всегда разны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47280" y="2204640"/>
            <a:ext cx="504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бо и 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ак прекрасны и необыкновенны. Я очень хочу, чтобы люди чаще смотрели ввысь и замечали красоту н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создании презентации  я пользовался собственными наблюдениями и опытом, данными из ИНТЕРН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ru.wikipedia.org/wiki/%D2%F3%F7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такое облака?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meltice.com.ua/articles/wasser/tag/raznovidnosti-oblakov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ркое разнообразие облако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lifeglobe.net/entry/18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ША ПЛАНЕТ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planeta.moy.su/blog/jarkoe_raznoobrazie_oblakov/2011-12-04-10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иационная метеорология Обла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aviaspec.com/aviatsionnaya-meteorologiya/oblak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фотографии взяты из семейного фотоарх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7"/>
          <p:cNvPicPr/>
          <p:nvPr/>
        </p:nvPicPr>
        <p:blipFill>
          <a:blip r:embed="rId1"/>
          <a:stretch/>
        </p:blipFill>
        <p:spPr>
          <a:xfrm>
            <a:off x="285840" y="142920"/>
            <a:ext cx="5742000" cy="385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18"/>
          <p:cNvPicPr/>
          <p:nvPr/>
        </p:nvPicPr>
        <p:blipFill>
          <a:blip r:embed="rId2"/>
          <a:stretch/>
        </p:blipFill>
        <p:spPr>
          <a:xfrm>
            <a:off x="2916360" y="2708280"/>
            <a:ext cx="6048360" cy="400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6760" y="4929120"/>
            <a:ext cx="847260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да, которая испаряется с поверхности Мирового океана, поднимается в атмосферу в виде водяного п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0004"/>
          <p:cNvPicPr/>
          <p:nvPr/>
        </p:nvPicPr>
        <p:blipFill>
          <a:blip r:embed="rId1"/>
          <a:stretch/>
        </p:blipFill>
        <p:spPr>
          <a:xfrm>
            <a:off x="108000" y="189000"/>
            <a:ext cx="9001080" cy="554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7322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вел опыт: 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днес к носику чайника зерк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10-013-Posle-dozhdja-krugom-mnogo-vody-luzhi-kapli-vody-na-listjakh-i-trave"/>
          <p:cNvPicPr/>
          <p:nvPr/>
        </p:nvPicPr>
        <p:blipFill>
          <a:blip r:embed="rId1"/>
          <a:stretch/>
        </p:blipFill>
        <p:spPr>
          <a:xfrm>
            <a:off x="214200" y="142920"/>
            <a:ext cx="6445440" cy="6500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28840" y="1928520"/>
            <a:ext cx="335772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з мелких капе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ды образуются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19"/>
          <p:cNvPicPr/>
          <p:nvPr/>
        </p:nvPicPr>
        <p:blipFill>
          <a:blip r:embed="rId1"/>
          <a:stretch/>
        </p:blipFill>
        <p:spPr>
          <a:xfrm>
            <a:off x="142920" y="142920"/>
            <a:ext cx="8748720" cy="60228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24000" y="6093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блака проливаются на землю дожде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6"/>
          <p:cNvPicPr/>
          <p:nvPr/>
        </p:nvPicPr>
        <p:blipFill>
          <a:blip r:embed="rId1"/>
          <a:stretch/>
        </p:blipFill>
        <p:spPr>
          <a:xfrm>
            <a:off x="210960" y="115920"/>
            <a:ext cx="8745840" cy="6626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168240" y="333360"/>
            <a:ext cx="26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ли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805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зновидности облаков: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истые- имеют вид тонких белых нитей </a:t>
            </a:r>
            <a:br>
              <a:rPr sz="2800"/>
            </a:b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SC00262"/>
          <p:cNvPicPr/>
          <p:nvPr/>
        </p:nvPicPr>
        <p:blipFill>
          <a:blip r:embed="rId1"/>
          <a:stretch/>
        </p:blipFill>
        <p:spPr>
          <a:xfrm>
            <a:off x="179280" y="981000"/>
            <a:ext cx="8837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небо"/>
          <p:cNvPicPr/>
          <p:nvPr/>
        </p:nvPicPr>
        <p:blipFill>
          <a:blip r:embed="rId1"/>
          <a:stretch/>
        </p:blipFill>
        <p:spPr>
          <a:xfrm>
            <a:off x="179280" y="836640"/>
            <a:ext cx="8856720" cy="5807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365480" y="152280"/>
            <a:ext cx="68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зновидности облаков: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лоист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5:03:35Z</dcterms:created>
  <dc:creator>Светлана</dc:creator>
  <dc:description/>
  <dc:language>en-US</dc:language>
  <cp:lastModifiedBy>Дом</cp:lastModifiedBy>
  <dcterms:modified xsi:type="dcterms:W3CDTF">2012-10-08T12:20:39Z</dcterms:modified>
  <cp:revision>18</cp:revision>
  <dc:subject/>
  <dc:title>«Этот удивительный окружающий мир»  Тема: «ОБЛАКА»  Чичирко Роман Олегович  2-а класс МДОУ СОШ №2  г. Амурск Хабаровский край</dc:title>
</cp:coreProperties>
</file>