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E16-890C-416E-8974-90F714BD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00F-F6F1-4422-82A8-1BE03ADF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DD2-8F8D-4561-AE62-455B1FD0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ECF-5C06-4CEC-9438-B3C8FB61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12A8-A3FA-4F95-A7E0-4B81CAF1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3DD6-1DB1-4D8F-B492-9B8A48BC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D2DF-5BF2-447F-B218-0E8BF4EF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2349-0419-4DBF-8E51-58499614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DF95-45FA-4504-B54F-9D94EA88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0D5F-57B5-46F4-8AFF-DF3CCB6A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8C9E-8B9C-4102-BB9C-FEF92771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FAA-14F1-4FCA-B7DA-FFDA14B4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B7B8-D78A-48A6-B2E9-97624AD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84D8-2EE2-45E6-BED0-D50B75FB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33C2-322F-409F-99E1-55ABFC86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B94B-A9F5-45A5-98B7-A0F7DB51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CDF2-5552-4B29-9A7E-5878829D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E0E-B78C-4CEA-9335-BD34B53B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674-7D1D-475D-AF4E-ADAA1538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AE1-C490-4514-A749-CB343E7F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72D-3083-4B08-8A1C-C4888946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138-F280-4867-B16B-E30F80D4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A35-0F81-45CF-9706-5DD0C90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7B7-FC35-4A7C-BFC9-5BC49A28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BEF9-2EEF-4224-9B3E-F1C28F2207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F3F3-0E4A-49B6-BF4A-6BE2D25FC4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ЛИЯНИЕ    ВЕСЕННЕ-ЛЕТНИХ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КОРМОК  ПЧЕЛ НА  МЕДОСБОР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УСЛОВИЯХ  ЧЕРНОЗЕМЬ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49880" y="2017800"/>
            <a:ext cx="460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Жданов Евгений Сергее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У «Основная общеобразовательная Знаменская школ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ный руководител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улганина   Марина Владимировна, учитель    биолог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ормить   или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                  не  кормить 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1819440" cy="2857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3880" y="4191120"/>
            <a:ext cx="194328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4876920"/>
            <a:ext cx="142236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057400" y="2209680"/>
            <a:ext cx="1155600" cy="1752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1101960" cy="1733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592440" y="5029200"/>
            <a:ext cx="143676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534440" y="4800600"/>
            <a:ext cx="160956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525780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7086600" y="1981080"/>
            <a:ext cx="1905120" cy="2847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3352680" y="1981080"/>
            <a:ext cx="1962360" cy="2733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1219320" y="152280"/>
            <a:ext cx="23619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Ц е л ь   р а б о т ы:  выяснить влияние весенне-летних подкормок  пчел на медосбор в условиях  Черноземья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З а д а ч 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 Создать две группы пчелосемей, экспериментальную  и контрольную, равные по силе и условиям  медосбора в течение летнего перио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 Осуществлять весенне-летние  подкормки в  экспериментальных семья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 Сравнить количество собранного меда   из экспериментальных  и контрольных  улье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29200" y="2413080"/>
            <a:ext cx="396252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зультаты  исследований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2017800"/>
          <a:ext cx="8345520" cy="4201920"/>
        </p:xfrm>
        <a:graphic>
          <a:graphicData uri="http://schemas.openxmlformats.org/drawingml/2006/table">
            <a:tbl>
              <a:tblPr/>
              <a:tblGrid>
                <a:gridCol w="1279800"/>
                <a:gridCol w="706320"/>
                <a:gridCol w="706320"/>
                <a:gridCol w="706680"/>
                <a:gridCol w="706320"/>
                <a:gridCol w="708120"/>
                <a:gridCol w="706320"/>
                <a:gridCol w="706320"/>
                <a:gridCol w="706680"/>
                <a:gridCol w="706320"/>
                <a:gridCol w="706320"/>
              </a:tblGrid>
              <a:tr h="76716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асса  меда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обранного  в исследуемых уль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сперимента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сса меда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щая масса меда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масса меда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Диаграмма массы  меда,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собранного  в исследуемых ульях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164040" y="201780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4040" y="201780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981080"/>
          <a:ext cx="853416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981080"/>
                    <a:ext cx="85341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пасеки, расположенной в условиях  Черноземья весенне-летние подкормки пчелиных семей нецелесообразны, так как не увеличивают  существенно медосбор, но повышают материальные и трудовые затраты  пчелово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05520" y="4648320"/>
            <a:ext cx="22096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</cp:lastModifiedBy>
  <dcterms:modified xsi:type="dcterms:W3CDTF">2008-11-13T14:04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