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C40-33D8-427B-8BC9-AAFA7269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4CB-7A53-496F-ADBF-F2F73A41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EC3-355D-493E-8B38-33DE49AA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0C8-D383-4FE3-B6B1-CA1ECAEF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7264-07A2-42F3-87DA-71C95444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C5E4-31AB-4D94-8E76-4F4488A9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CFDD-7BC6-482B-B6FA-AC1A434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F041-E93C-49E1-8CF5-6F9D5E82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E783-EDCA-4B48-B067-620AB078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AE7E-8DD8-4D07-844F-29177485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44BB-D53D-49EE-AE96-1157F8E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BB5-2BFF-4E07-8B68-DC7FD7F4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66C9-9763-464A-A473-0710057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D0EA-711F-49A0-97BE-8E28A03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84E-DDB0-46ED-B388-007FF26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D751-690A-45A3-8CE0-961AAB4E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CCA6-CA22-4C05-A165-2874ECFD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649-CA65-43CD-954E-2069CC31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B1C-C9A4-4638-A562-D1DDD573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100-D143-47FA-889A-3A667A00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62E-B1D3-477E-9705-00EAD1C6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B57-C5F8-479B-B42C-42896445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6D5-51E7-47FB-972B-B622EE0B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A59-6526-42DE-8DEA-DF3C7533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3A8D-64C7-47F5-9DEA-AB8896F3BB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42CA-13C6-4888-BCCF-3AA942A67B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ЛИЯНИЕ    ВЕСЕННЕ-ЛЕТНИХ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ДКОРМОК  ПЧЕЛ НА  МЕДОСБОР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УСЛОВИЯХ  ЧЕРНОЗЕМЬ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49880" y="2017800"/>
            <a:ext cx="460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Жданов Евгений Серге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У «Основная общеобразовательная Знаменская школ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ный руководител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лганина   Марина Владимировна, учитель    биолог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ормить   или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                  не  кормить 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181944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4191120"/>
            <a:ext cx="194328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87692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057400" y="2209680"/>
            <a:ext cx="1155600" cy="1752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1101960" cy="1733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592440" y="5029200"/>
            <a:ext cx="143676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534440" y="4800600"/>
            <a:ext cx="160956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25780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7086600" y="1981080"/>
            <a:ext cx="1905120" cy="2847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3352680" y="1981080"/>
            <a:ext cx="1962360" cy="2733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1219320" y="152280"/>
            <a:ext cx="23619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Ц е л ь   р а б о т ы:  выяснить влияние весенне-летних подкормок  пчел на медосбор в условиях  Черноземья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З а д а ч 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Создать две группы пчелосемей, экспериментальную  и контрольную, равные по силе и условиям  медосбора в течение летнего пери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Осуществлять весенне-летние  подкормки в  экспериментальных семья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Сравнить количество собранного меда   из экспериментальных  и контрольных  улье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29200" y="2413080"/>
            <a:ext cx="39625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зультаты  исследовани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017800"/>
          <a:ext cx="8345520" cy="4201920"/>
        </p:xfrm>
        <a:graphic>
          <a:graphicData uri="http://schemas.openxmlformats.org/drawingml/2006/table">
            <a:tbl>
              <a:tblPr/>
              <a:tblGrid>
                <a:gridCol w="1279800"/>
                <a:gridCol w="706320"/>
                <a:gridCol w="706320"/>
                <a:gridCol w="706680"/>
                <a:gridCol w="706320"/>
                <a:gridCol w="708120"/>
                <a:gridCol w="706320"/>
                <a:gridCol w="706320"/>
                <a:gridCol w="706680"/>
                <a:gridCol w="706320"/>
                <a:gridCol w="706320"/>
              </a:tblGrid>
              <a:tr h="76716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асса  мед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обранного  в исследуемых уль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сперимента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са мед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щая масса мед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масса меда,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Диаграмма массы  меда,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собранного  в исследуемых улья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164040" y="201780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4040" y="201780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981080"/>
          <a:ext cx="853416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81080"/>
                    <a:ext cx="8534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пасеки, расположенной в условиях  Черноземья весенне-летние подкормки пчелиных семей нецелесообразны, так как не увеличивают  существенно медосбор, но повышают материальные и трудовые затраты  пчелов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22096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</cp:lastModifiedBy>
  <dcterms:modified xsi:type="dcterms:W3CDTF">2008-11-13T14:04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