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4.wmf" ContentType="image/x-wmf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9.gif" ContentType="image/gif"/>
  <Override PartName="/ppt/media/image1.gif" ContentType="image/gi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CBD-FA7B-4310-BD78-3A9D948B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53D-822C-4217-8076-987520F5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55C-7C04-48CB-854D-2B7AA978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078-D91B-4D98-B68F-1521D90D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FE57-84DE-4174-9016-6ED615AE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3930-B365-494E-BC4B-D9D7872F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509D-0651-48FD-BFCD-D163DF76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7419-4F83-42FE-AE93-6C5E4AA1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3E88-EB7F-453B-A239-3894F25B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7F6B-ADB7-4A7E-8E23-1FEBFC51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77FD-2206-4522-9660-C3F35CD2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10B-6A5F-4F93-9C77-C1C4A542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5799-91FC-4D37-9206-0C4A04AF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C30D-2573-4027-86A1-E4152409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6E39-4B38-488C-A42B-CC259691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E0A1-4089-4B1E-A3C0-C8C3E1B7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E7F8-B903-4507-B516-867DF7FD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5563-157E-4141-A1D4-B2D80E38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38FA-C85A-4E9E-B4DE-8FB43C6C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AD74-A567-4D46-BDA1-9077ACDB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6BAD-50DC-4D8D-92F6-1326F2DA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3E95-DA44-466F-AE90-1EAD2292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D0C-3650-4F57-B44B-F57F5224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56AD-EC17-4FF0-9EE9-B27D6F52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A8B4E-7F8E-4169-AC42-17B055D3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5AE0-DF55-4342-AAE4-BEE3F14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7D16-F030-441F-BC67-1AA1D7A0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536F-D8D6-4211-9533-A6B019BF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117B-02C2-40EB-9629-7FDC4C9B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544A-EAF8-45B1-871C-3C0C0F52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83DF-4D56-4322-9A7A-22DE3069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3CDC0-3154-4C27-A0D1-28C51F72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C8913-990C-481F-83A7-4509BA7E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D39-9B09-41D5-AC7E-5DFA101A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57AB-D2FC-4F61-A091-072B011B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9C98-2EBF-4793-8101-A482D774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70B2C-A6F1-4516-8D34-0FD06BF6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80AD-EBAA-4BBA-8982-90E8BCA1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38165-CCEC-4C1E-83E6-64C15CE6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1EDF5-F38B-4B92-AB13-BCEF8F9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59E0-8633-4622-BE6B-0ED9CFC4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05AF6-9735-4425-9AB4-8A48325C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1711-6517-490D-B2CD-A32B2FF9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312A2-B70A-4D53-80CE-53A119E1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355-05DA-493B-BDEA-03E18B08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F0AA5-E1F8-47EC-AD5B-E183D2AA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B5D8-14EA-4660-AF52-E054A76B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4572D-03D9-4E38-9DE5-DB9AD9B9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29053-FA3B-4890-BD97-639331E1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08427-F64F-4CE8-99A2-C2EBAE23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BCC1-E2C7-4F39-9689-9DE1B829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39BC6-F6F3-4170-94B9-6691E6C3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FA5FB-5BF6-4B89-B904-4A9AEB29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BC39A-6A9E-4B16-B23A-397B1D31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B336F-79DC-47A3-B2B4-95E5B666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210-471C-41F2-85FD-1AFAFFEB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3E040-F2BF-43A8-BE2D-F6FEEBE6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044-DDB7-4275-9748-27F117C1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5B0-3F3F-425E-B00C-78612D4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0EA-B1CF-4BBA-832C-7B4191F2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AE44-6705-4F59-9908-3C2CC1337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A900-D87E-4AD1-BEAC-D7F3873508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EA1E-2EBD-4515-9727-18D7BDBF74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C5AF-8FCB-4E84-B526-D45ECC8694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BCB2-7BA6-48B3-BE9C-238C44F833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3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4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619280" y="549360"/>
            <a:ext cx="648000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8100000"/>
                </a:gradFill>
                <a:latin typeface="Arial"/>
              </a:rPr>
              <a:t>Игра-путешест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11280" y="4076640"/>
            <a:ext cx="78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latin typeface="Times New Roman"/>
              </a:rPr>
              <a:t>"Права детей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latin typeface="Times New Roman"/>
              <a:ea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4392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71640" y="907920"/>
            <a:ext cx="4771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тературная странич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9640" y="198900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сценировка по «Сказке о мертвой Царевне и о семи богатырях» А.С. Пу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71640" y="3357720"/>
            <a:ext cx="15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429264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помните название сказки? А кто её написал: Чем закончилась сказка? О каком праве идет речь в сказ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2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826920" y="907920"/>
            <a:ext cx="749016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едущ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мотря на все злодеяния царицы, царевна все же осталась жива. Помогли ей в этом семь богатырей, Царевич Елисей и сказочные силы. В наше время о сохранении жизни ребенка заботится государство, родители, воспитатели, врачи, милиционеры и многие другие люди. Никто и никогда не имеет права лишить ребенк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763640" y="836640"/>
            <a:ext cx="353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 рисунков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6920" y="249228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можно в рисунке изобразить право на жизн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1944720" cy="2303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3025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276720" y="404640"/>
            <a:ext cx="2114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нция 2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00000" y="2276640"/>
            <a:ext cx="78901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аво ребенка на защиту государства</a:t>
            </a:r>
            <a:endParaRPr b="0" lang="en-US" sz="1800" spc="1" strike="noStrike">
              <a:ln w="1260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всех форм физического и нравственного, </a:t>
            </a:r>
            <a:endParaRPr b="0" lang="en-US" sz="1800" spc="1" strike="noStrike">
              <a:ln w="1260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сихического насилия,</a:t>
            </a:r>
            <a:endParaRPr b="0" lang="en-US" sz="1800" spc="1" strike="noStrike">
              <a:ln w="1260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убого отношения или эксплуатации"</a:t>
            </a:r>
            <a:endParaRPr b="0" lang="en-US" sz="1800" spc="1" strike="noStrike">
              <a:ln w="1260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785960" cy="19191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084720" y="333360"/>
            <a:ext cx="2268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843280" y="404640"/>
            <a:ext cx="266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цен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0920" y="1268280"/>
            <a:ext cx="8713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- й разбойник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ажется, это здесь, Боб, много детей, которых мы похит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- й разбойник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, Джон, это зде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- й разбойник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х, сколько мы денег заработаем на этих ребятишках. Всю оставшуюся жизнь буду одни бананы и шоколад есть, красо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- й разбойник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шай, Джон, а кто нам заплатит больше за них6 Баба Яга, Бармалей, Змей Горыныч или злая Мачех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- й разбойник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б, все они хорошо заплатят звонкой монетой. Разбогатеем мы с т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- й разбойник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Ах, вы наши хорошие и пригожие. Какие чудесные ребятки! Пойдемте с нами, у нас целый магазин сладост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- й разбойник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ы хорошие, мы очень детей любим. Будем вам сказки рассказыв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- й разбойник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от вы какие? А мы вас силой возьмем, вон у нас какие пистолет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016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268360" y="836640"/>
            <a:ext cx="22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16000" y="213372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вас пытаются увести силой, похитить. Что вам нужно делать, как вы думае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755640" y="620640"/>
            <a:ext cx="763272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едущ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ак, на угощение, предлагаемые незнакомым человеком, лучше не смотреть. Если вас пытаются увести силой, то кричите во весь голос «Помогите, я не знаю этого человека».А похитителями могут быть не только страшные разбойники, но и милые тети и д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419640" y="549360"/>
            <a:ext cx="2114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нция 3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58920" y="2852640"/>
            <a:ext cx="62593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аво на защит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разлучения с родителями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506680" cy="19908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881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258920" y="220500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2349360"/>
            <a:ext cx="61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ите названия сказок или рассказов, в которых говорится о разлучении детей с родителями или о других правах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908000" y="692280"/>
            <a:ext cx="280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995640" y="907920"/>
            <a:ext cx="360360" cy="324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126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9564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9564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9564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95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9564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9564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1268280"/>
            <a:ext cx="3888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56000" y="162864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6000" y="1989000"/>
            <a:ext cx="1584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56000" y="907920"/>
            <a:ext cx="1584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56000" y="2349360"/>
            <a:ext cx="417672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6000" y="2708280"/>
            <a:ext cx="1584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56000" y="306864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56000" y="3429000"/>
            <a:ext cx="720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56000" y="3789360"/>
            <a:ext cx="29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59280" y="3429000"/>
            <a:ext cx="936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1989000"/>
            <a:ext cx="1295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9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0872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76720" y="9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1636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7672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08720" y="9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0072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5964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2000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38036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81200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16360" y="162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76720" y="126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7672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0872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5928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1636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16360" y="2708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6720" y="2349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94036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09308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2472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2800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234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76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0872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4036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7236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0400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6400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92360" y="3068640"/>
            <a:ext cx="2303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5928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2728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2400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067280" y="981000"/>
            <a:ext cx="21564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067280" y="134136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067280" y="170028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771640" y="2060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067280" y="242100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067280" y="278136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763640" y="314172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276720" y="3500280"/>
            <a:ext cx="142920" cy="2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140360" y="386064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4000" y="4221000"/>
            <a:ext cx="8496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Чего не купи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Что должен получить каждый ребен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Полезен для здоровь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Место для отдыха молодеж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Второй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Самые счастливые дни в году для ребе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0920" y="260280"/>
            <a:ext cx="35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Что должен исполнять каждый ребен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Что должен отстаивать ребен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Что есть у каждого гражданина перед Роди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2521080" cy="2160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 rot="183000">
            <a:off x="4427640" y="188640"/>
            <a:ext cx="4033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792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792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348000" y="476280"/>
            <a:ext cx="187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и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341360"/>
            <a:ext cx="792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игровой форме познакомить учащихся с Конвенцией о правах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собствовать формированию у учащихся стремления понять этот док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916360" y="2565360"/>
            <a:ext cx="28954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рудование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640" y="2997360"/>
            <a:ext cx="7561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кст Конвенции о правах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корации и костюмы для инсценир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унки  с изображением сказочных героев, портр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ршрутные лис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ставка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59280" y="5084640"/>
            <a:ext cx="3314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астники игры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87700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щиеся 3-4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1441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26920" y="83664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58920" y="2133720"/>
            <a:ext cx="66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сценировка произведений, в которых говорится о правах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4033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627280" y="476280"/>
            <a:ext cx="187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тог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4360" y="177336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детьми часто обращаются несправедливо, порой жестоко. Поэтому, чтобы прекратить подобное, взрослые всего мира решили собраться и подумать, что можно сделать, чтобы у детей было счастливое детство. Вскоре ими был составлен документ – «Конвенция о правах ребенка», где записаны основные права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2692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заключение игры подводятся итоги и проводится награждение побе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2950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284720" y="620640"/>
            <a:ext cx="288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д игры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1628640"/>
            <a:ext cx="792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ущий объясняет условия игры-путешествия, раздает командам маршрутные листы, в соответствии с которыми они будут путешествовать по станциям. Затем команды придумывают название и девиз, которые должны соответствовать теме иг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737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4360" y="692280"/>
            <a:ext cx="7848360" cy="53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дущ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настоящее время права каждого человека на Земле призвана защищать международная организация, созданная в 1945 году.       Это – Организация Объединенных Наций (ООН).Важнейшими задачами ООн являются предотвращение военных конфликтов и защита прав человека. ООн приняла множество международных документов, важнейшими из которых для людей всего мира стали «Всеобщая Декларация прав человека» (1948) и «Конвенция о правах ребенка» (1989). В Конвенции сформулированы права детей, которые им гарантируют государства независимо от их национальности, цвета кожи, пола и рели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484360" y="47628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1125360"/>
            <a:ext cx="748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е права может иметь ребён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16000" y="2492280"/>
            <a:ext cx="18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жизнь;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16000" y="3213000"/>
            <a:ext cx="2571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ажданство;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116000" y="3860640"/>
            <a:ext cx="2514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разование;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187280" y="4581360"/>
            <a:ext cx="1305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дых;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42920" y="5300640"/>
            <a:ext cx="347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боту родителей;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5825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635280" y="404640"/>
            <a:ext cx="2114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нция 1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700360" y="1197000"/>
            <a:ext cx="370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аво на жизнь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2205000"/>
            <a:ext cx="741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конвенции о правах         ребенка записано, что «главное право каждого человека – право на жиз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6804000" y="333360"/>
            <a:ext cx="19051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11280" y="213372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ький человек – ребенок – тоже имеет право жить. Но так думали не всегда. Было в древности такое государство – Спарта, которое славилось своими непобедимыми воинами: сильными, здоровыми, выносливыми. И в этом государстве каждого новорожденного осматривали и решали: если крепкий, здоровый – пусть живет. А если родился слабым, больным – бросить его вниз со ск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7280" y="620640"/>
            <a:ext cx="4314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ческая справ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638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268360" y="836640"/>
            <a:ext cx="22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220500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вы думаете, правильно, справедливо поступали жители Спар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55640" y="76500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абый человек, если будет хорошо питаться и заниматься спортом, может стать очень сильным. Больных необходимо лечить, слабым – помо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24360" y="2492280"/>
            <a:ext cx="4314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ческая справ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638440" cy="1584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84360" y="3500280"/>
            <a:ext cx="79912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менитый русский полководец А.В. Сувор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лся слабым, больным ребенком. Но у него была сильная воля: он занимался физкультурой, закалялся и победил свои хвори. Из него вырос умный человек, талантливый военачальник. В военных походах он переносил все тяготы наравне с солдатами. Под руководством А.В. Суворова русская армия не проиграла ни одного с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6:55:23Z</dcterms:created>
  <dc:creator>SvalovV</dc:creator>
  <dc:description/>
  <dc:language>en-US</dc:language>
  <cp:lastModifiedBy>teacher</cp:lastModifiedBy>
  <dcterms:modified xsi:type="dcterms:W3CDTF">2007-12-05T10:44:15Z</dcterms:modified>
  <cp:revision>13</cp:revision>
  <dc:subject/>
  <dc:title>Слайд 1</dc:title>
</cp:coreProperties>
</file>