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4.wmf" ContentType="image/x-wmf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9.gif" ContentType="image/gif"/>
  <Override PartName="/ppt/media/image1.gif" ContentType="image/gif"/>
  <Override PartName="/ppt/media/image12.wmf" ContentType="image/x-wmf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528D-2085-4515-A9CF-8BA807A85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E22C-896A-4400-9BFC-626CC5B1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15BB-CF1F-4CD9-9086-1ECDA75A8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1FF7-0C56-4986-ABFB-37F516D37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98EA-64A4-4067-8A3B-F330ADE85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8E7B-D687-48C6-A578-89C59F3A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3227-D15E-49F9-A1A2-9DEE6AA7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0C36-22F8-4EAC-BC7B-4CEC306F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9224-B6B8-486C-870B-33EF0FBC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416F-9EB7-43DC-AB33-15F89953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EB4A1-89EB-4CAB-9E60-22FA7349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AF73-21CD-4C78-B8DD-11EEA4AD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CA14-2FA0-4F2F-B4BA-F0714A03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2BEF4-E3D7-4596-A5B0-5147A93D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A2CF-3C12-482D-99AA-8C10902A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5A72-18E9-4B90-9EBC-2C002EFB3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B95A-8BF6-4931-A5FA-4192F2BB3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67D93-0B6D-4807-86CC-333C68F59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75B72-7728-4ED5-A84E-398053EA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10FE4-AB59-4628-9B09-F440A06B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F34BF-2587-4F4D-B874-4ABD0951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C50B6-005F-4E60-9426-872F402E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31A4-270F-4120-96B5-494BEFE6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9DFE9-9433-4E1C-99AD-2C61DA02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5B3BE-E4C8-4B93-B70A-15BA917B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4A5DF-EACD-4F07-AAD1-6B1676BE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2803D-2DF3-4B0A-8FE9-E6287838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453A2-16B4-4028-9ED0-A74A96F6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2FA59-7848-4BC3-A557-5F72F040F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9DB71-7643-42C3-BE1C-F5B42A0BB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37B15-A2E9-4803-97F1-48268A74F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4B5A1-CF8E-4D24-84E0-B9A62AD5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2C5A7-918C-4E99-8C0A-0BE3DD1B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14B9-CA0D-4127-9ED9-209593AB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FBFA1-3F8F-402A-B9ED-CAB467D5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06D7B-A401-427A-8043-C7727BE4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CAC42-78F3-4305-B8D7-03DF391D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71E1B-3BAE-4425-B938-98F29C1D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47106-1420-4FDE-9C43-7CB6C59C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D991B-4536-4EB6-A4E1-A8380BA2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5C6C8-F932-4DD7-84E7-F57AEE21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EE303-CA1B-4FFB-B066-EC080BFEE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D72F9-67AF-402D-91C7-F81EECCB9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6683C-C65E-406E-90D3-B270DF600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DF7A-32FA-4B47-ABC0-0F8D2BE2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28E42-5889-4EAA-A5F7-9C10D08C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05377-D6AA-45E4-9262-2C2B1C34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3FE3F-FC33-433E-AEC2-DDAD014D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D99AC-D61D-4B5E-9111-8E0E96C1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817DB-A639-40BB-994A-BE301F43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A3F9A-A674-4E80-92D1-564D6D4A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DE00E-6A54-444E-B04F-9927B64B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71F86-E3E9-4DDE-A360-D755E8FD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E004A-3A63-4EC1-914A-062CFE16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779F6-6A3C-454C-812A-82B05A420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07F9-A8F2-4C74-9C19-05EC3D96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F919F-7BC5-4649-B527-9AE405CBF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D553-499C-4A24-A814-29DC216F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39A9-0417-428B-9738-2E104AF0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5E19-1220-48CF-89A5-138F3975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4DE4-D624-4207-A893-F0011D46F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91C7-9CB3-4001-A4B5-0A0E727BDB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9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AAD6-4958-48B6-A70A-90E72B2E71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FA76-3720-4D79-86F3-69470115678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48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4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75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78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79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1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9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8DFF-E337-408E-A599-F4E94849757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32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1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42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46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1619280" y="549360"/>
            <a:ext cx="6480000" cy="1728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00ffff"/>
                    </a:gs>
                    <a:gs pos="100000">
                      <a:srgbClr val="0000ff"/>
                    </a:gs>
                  </a:gsLst>
                  <a:lin ang="8100000"/>
                </a:gradFill>
                <a:latin typeface="Arial"/>
              </a:rPr>
              <a:t>Игра-путешеств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00ffff"/>
                  </a:gs>
                  <a:gs pos="100000">
                    <a:srgbClr val="0000ff"/>
                  </a:gs>
                </a:gsLst>
                <a:lin ang="8100000"/>
              </a:gradFill>
              <a:latin typeface="Arial"/>
              <a:ea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11280" y="4076640"/>
            <a:ext cx="7848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0000"/>
                    </a:gs>
                    <a:gs pos="100000">
                      <a:srgbClr val="ffff00"/>
                    </a:gs>
                  </a:gsLst>
                  <a:lin ang="8100000"/>
                </a:gradFill>
                <a:latin typeface="Times New Roman"/>
              </a:rPr>
              <a:t>"Права детей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0000"/>
                  </a:gs>
                  <a:gs pos="100000">
                    <a:srgbClr val="ffff00"/>
                  </a:gs>
                </a:gsLst>
                <a:lin ang="8100000"/>
              </a:gradFill>
              <a:latin typeface="Times New Roman"/>
              <a:ea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2556000" y="1125360"/>
            <a:ext cx="439236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971640" y="907920"/>
            <a:ext cx="47718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итературная страничк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9640" y="1989000"/>
            <a:ext cx="77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сценировка по «Сказке о мертвой Царевне и о семи богатырях» А.С. Пушк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971640" y="3357720"/>
            <a:ext cx="1533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прос: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00000" y="4292640"/>
            <a:ext cx="70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спомните название сказки? А кто её написал: Чем закончилась сказка? О каком праве идет речь в сказ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6659640" y="333360"/>
            <a:ext cx="226836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826920" y="907920"/>
            <a:ext cx="749016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едущ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смотря на все злодеяния царицы, царевна все же осталась жива. Помогли ей в этом семь богатырей, Царевич Елисей и сказочные силы. В наше время о сохранении жизни ребенка заботится государство, родители, воспитатели, врачи, милиционеры и многие другие люди. Никто и никогда не имеет права лишить ребенка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1763640" y="836640"/>
            <a:ext cx="3533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нкурс рисунков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26920" y="2492280"/>
            <a:ext cx="770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к можно в рисунке изобразить право на жизн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6372360" y="333360"/>
            <a:ext cx="1944720" cy="230364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3132000" y="4149720"/>
            <a:ext cx="30258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3276720" y="404640"/>
            <a:ext cx="2114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анция 2.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900000" y="2276640"/>
            <a:ext cx="789012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00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Право ребенка на защиту государства</a:t>
            </a:r>
            <a:endParaRPr b="0" lang="en-US" sz="1800" spc="1" strike="noStrike">
              <a:ln w="12600">
                <a:solidFill>
                  <a:srgbClr val="cc00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00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cc00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 всех форм физического и нравственного, </a:t>
            </a:r>
            <a:endParaRPr b="0" lang="en-US" sz="1800" spc="1" strike="noStrike">
              <a:ln w="12600">
                <a:solidFill>
                  <a:srgbClr val="cc00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00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сихического насилия,</a:t>
            </a:r>
            <a:endParaRPr b="0" lang="en-US" sz="1800" spc="1" strike="noStrike">
              <a:ln w="12600">
                <a:solidFill>
                  <a:srgbClr val="cc00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00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рубого отношения или эксплуатации"</a:t>
            </a:r>
            <a:endParaRPr b="0" lang="en-US" sz="1800" spc="1" strike="noStrike">
              <a:ln w="12600">
                <a:solidFill>
                  <a:srgbClr val="cc00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1785960" cy="191916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6084720" y="333360"/>
            <a:ext cx="226872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2843280" y="404640"/>
            <a:ext cx="2665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ценк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50920" y="1268280"/>
            <a:ext cx="87138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- й разбойник: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Кажется, это здесь, Боб, много детей, которых мы похит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- й разбойник: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рно, Джон, это зде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- й разбойник: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х, сколько мы денег заработаем на этих ребятишках. Всю оставшуюся жизнь буду одни бананы и шоколад есть, красот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- й разбойник: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ушай, Джон, а кто нам заплатит больше за них6 Баба Яга, Бармалей, Змей Горыныч или злая Мачех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- й разбойник: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б, все они хорошо заплатят звонкой монетой. Разбогатеем мы с тоб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- й разбойник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Ах, вы наши хорошие и пригожие. Какие чудесные ребятки! Пойдемте с нами, у нас целый магазин сладостей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- й разбойник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Мы хорошие, мы очень детей любим. Будем вам сказки рассказывать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- й разбойник: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от вы какие? А мы вас силой возьмем, вон у нас какие пистолеты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6443640" y="0"/>
            <a:ext cx="20160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2268360" y="836640"/>
            <a:ext cx="2232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прос: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16000" y="2133720"/>
            <a:ext cx="6985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Если вас пытаются увести силой, похитить. Что вам нужно делать, как вы думает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012000" y="333360"/>
            <a:ext cx="2232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755640" y="620640"/>
            <a:ext cx="7632720" cy="59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Ведущ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так, на угощение, предлагаемые незнакомым человеком, лучше не смотреть. Если вас пытаются увести силой, то кричите во весь голос «Помогите, я не знаю этого человека».А похитителями могут быть не только страшные разбойники, но и милые тети и д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3419640" y="549360"/>
            <a:ext cx="2114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анция 3.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258920" y="2852640"/>
            <a:ext cx="62593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Право на защиту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 разлучения с родителями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506680" cy="19908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6012000" y="476280"/>
            <a:ext cx="28810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6012000" y="333360"/>
            <a:ext cx="2232000" cy="18003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1258920" y="2205000"/>
            <a:ext cx="68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042920" y="2349360"/>
            <a:ext cx="61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апишите названия сказок или рассказов, в которых говорится о разлучении детей с родителями или о других правах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908000" y="692280"/>
            <a:ext cx="280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дание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3995640" y="907920"/>
            <a:ext cx="360360" cy="3241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995640" y="1268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995640" y="162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95640" y="198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995640" y="234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995640" y="2708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995640" y="306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995640" y="342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995640" y="378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356000" y="1268280"/>
            <a:ext cx="388800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56000" y="1628640"/>
            <a:ext cx="115272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356000" y="1989000"/>
            <a:ext cx="158436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356000" y="907920"/>
            <a:ext cx="158436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356000" y="2349360"/>
            <a:ext cx="4176720" cy="358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356000" y="2708280"/>
            <a:ext cx="158436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356000" y="3068640"/>
            <a:ext cx="115272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356000" y="3429000"/>
            <a:ext cx="72072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356000" y="3789360"/>
            <a:ext cx="295272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059280" y="3429000"/>
            <a:ext cx="93636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700360" y="1989000"/>
            <a:ext cx="129528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907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508720" y="1268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076720" y="907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716360" y="1268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076720" y="1557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508720" y="907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940360" y="1268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300720" y="1268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659640" y="1268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020000" y="1268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380360" y="1268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812000" y="1268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716360" y="162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076720" y="1268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716360" y="198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076720" y="198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508720" y="198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492360" y="198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059280" y="198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716360" y="227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716360" y="2708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076720" y="2349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940360" y="227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3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73272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09308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52472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02800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508720" y="234936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076720" y="3716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508720" y="378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940360" y="378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372360" y="378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804000" y="378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564000" y="342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692360" y="3068640"/>
            <a:ext cx="230328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564000" y="306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059280" y="306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627280" y="306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124000" y="306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067280" y="981000"/>
            <a:ext cx="215640" cy="1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067280" y="1341360"/>
            <a:ext cx="215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067280" y="1700280"/>
            <a:ext cx="215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2771640" y="206064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067280" y="2421000"/>
            <a:ext cx="215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067280" y="2781360"/>
            <a:ext cx="215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763640" y="314172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276720" y="3500280"/>
            <a:ext cx="142920" cy="23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140360" y="3860640"/>
            <a:ext cx="144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24000" y="4221000"/>
            <a:ext cx="84960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Чего не купиш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Что должен получить каждый ребено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Полезен для здоровь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Место для отдыха молодеж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Второй 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Самые счастливые дни в году для ребен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50920" y="260280"/>
            <a:ext cx="352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Что должен исполнять каждый ребено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Что должен отстаивать ребено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Что есть у каждого гражданина перед Родин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6084720" y="4365720"/>
            <a:ext cx="2521080" cy="216036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 rot="183000">
            <a:off x="4427640" y="188640"/>
            <a:ext cx="403380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00ffff"/>
                    </a:gs>
                    <a:gs pos="100000">
                      <a:srgbClr val="0000ff"/>
                    </a:gs>
                  </a:gsLst>
                  <a:lin ang="792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россворд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00ffff"/>
                  </a:gs>
                  <a:gs pos="100000">
                    <a:srgbClr val="0000ff"/>
                  </a:gs>
                </a:gsLst>
                <a:lin ang="792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348000" y="476280"/>
            <a:ext cx="18716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ели: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95280" y="1341360"/>
            <a:ext cx="7920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игровой форме познакомить учащихся с Конвенцией о правах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пособствовать формированию у учащихся стремления понять этот доку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916360" y="2565360"/>
            <a:ext cx="28954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борудование: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9640" y="2997360"/>
            <a:ext cx="75614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кст Конвенции о правах ребен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корации и костюмы для инсцениров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исунки  с изображением сказочных героев, портре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ршрутные лис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ставка литера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59280" y="5084640"/>
            <a:ext cx="33145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астники игры: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5877000"/>
            <a:ext cx="67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чащиеся 3-4 клас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14414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826920" y="836640"/>
            <a:ext cx="5400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машнее задание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258920" y="2133720"/>
            <a:ext cx="66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нсценировка произведений, в которых говорится о правах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6372360" y="333360"/>
            <a:ext cx="240336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2627280" y="476280"/>
            <a:ext cx="1873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тог: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4360" y="1773360"/>
            <a:ext cx="806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 детьми часто обращаются несправедливо, порой жестоко. Поэтому, чтобы прекратить подобное, взрослые всего мира решили собраться и подумать, что можно сделать, чтобы у детей было счастливое детство. Вскоре ими был составлен документ – «Конвенция о правах ребенка», где записаны основные права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826920" y="4437000"/>
            <a:ext cx="71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заключение игры подводятся итоги и проводится награждение побед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5508720" y="333360"/>
            <a:ext cx="295092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4284720" y="620640"/>
            <a:ext cx="2881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од игры: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11280" y="1628640"/>
            <a:ext cx="7921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едущий объясняет условия игры-путешествия, раздает командам маршрутные листы, в соответствии с которыми они будут путешествовать по станциям. Затем команды придумывают название и девиз, которые должны соответствовать теме иг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27370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4360" y="692280"/>
            <a:ext cx="7848360" cy="53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дущ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настоящее время права каждого человека на Земле призвана защищать международная организация, созданная в 1945 году.       Это – Организация Объединенных Наций (ООН).Важнейшими задачами ООн являются предотвращение военных конфликтов и защита прав человека. ООн приняла множество международных документов, важнейшими из которых для людей всего мира стали «Всеобщая Декларация прав человека» (1948) и «Конвенция о правах ребенка» (1989). В Конвенции сформулированы права детей, которые им гарантируют государства независимо от их национальности, цвета кожи, пола и религ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2484360" y="476280"/>
            <a:ext cx="2232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прос: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042920" y="1125360"/>
            <a:ext cx="7489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ие права может иметь ребёно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пиш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116000" y="2492280"/>
            <a:ext cx="1886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жизнь;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1116000" y="3213000"/>
            <a:ext cx="2571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ражданство;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116000" y="3860640"/>
            <a:ext cx="25146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бразование;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187280" y="4581360"/>
            <a:ext cx="1305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дых;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042920" y="5300640"/>
            <a:ext cx="3476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боту родителей;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5825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635280" y="404640"/>
            <a:ext cx="2114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анция 1.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2700360" y="1197000"/>
            <a:ext cx="3705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Право на жизнь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00000" y="2205000"/>
            <a:ext cx="741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 конвенции о правах         ребенка записано, что «главное право каждого человека – право на жизн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1224000" cy="17287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6804000" y="333360"/>
            <a:ext cx="19051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11280" y="213372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ленький человек – ребенок – тоже имеет право жить. Но так думали не всегда. Было в древности такое государство – Спарта, которое славилось своими непобедимыми воинами: сильными, здоровыми, выносливыми. И в этом государстве каждого новорожденного осматривали и решали: если крепкий, здоровый – пусть живет. А если родился слабым, больным – бросить его вниз со ска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067280" y="620640"/>
            <a:ext cx="43146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сторическая справк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26384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2268360" y="836640"/>
            <a:ext cx="2232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прос: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26920" y="2205000"/>
            <a:ext cx="7490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к вы думаете, правильно, справедливо поступали жители Спарт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012000" y="333360"/>
            <a:ext cx="2232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755640" y="765000"/>
            <a:ext cx="77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абый человек, если будет хорошо питаться и заниматься спортом, может стать очень сильным. Больных необходимо лечить, слабым – помог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924360" y="2492280"/>
            <a:ext cx="43146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сторическая справк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684360" y="2421000"/>
            <a:ext cx="2638440" cy="1584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684360" y="3500280"/>
            <a:ext cx="799128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наменитый русский полководец А.В. Суворов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одился слабым, больным ребенком. Но у него была сильная воля: он занимался физкультурой, закалялся и победил свои хвори. Из него вырос умный человек, талантливый военачальник. В военных походах он переносил все тяготы наравне с солдатами. Под руководством А.В. Суворова русская армия не проиграла ни одного сра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0T16:55:23Z</dcterms:created>
  <dc:creator>SvalovV</dc:creator>
  <dc:description/>
  <dc:language>en-US</dc:language>
  <cp:lastModifiedBy>teacher</cp:lastModifiedBy>
  <dcterms:modified xsi:type="dcterms:W3CDTF">2007-12-05T10:44:15Z</dcterms:modified>
  <cp:revision>13</cp:revision>
  <dc:subject/>
  <dc:title>Слайд 1</dc:title>
</cp:coreProperties>
</file>