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04CD-9812-4004-84C8-A2EB5648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F6B6-684A-4DD9-8DA1-621A9E48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6FF-7552-42C6-94F1-2134ABF9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66D4-4D93-4C69-A52A-67D59BC3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1DA-7384-479D-930C-FB8D59D2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6E0-CE70-49F4-AC93-68474BDD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97F-E900-4E9D-A88D-1801CC27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EAA3-F09D-4031-8A23-0F822B27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BB8E-DBAD-4EE4-9C69-DE38F7D6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BDA-BB50-4EDB-9659-48643018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7026-EE22-4295-8C68-B66E7C14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EA4-ADC2-4DC9-BDD5-2ABC2886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6BF8-172B-49C6-BCCA-607E3E55A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mashapps.files.wordpress.com/2009/09/171.jpg?w=450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5_&#1072;&#1074;&#1075;&#1091;&#1089;&#1090;&#1072;" TargetMode="External"/><Relationship Id="rId3" Type="http://schemas.openxmlformats.org/officeDocument/2006/relationships/hyperlink" Target="http://ru.wikipedia.org/wiki/1914_&#1075;&#1086;&#1076;" TargetMode="External"/><Relationship Id="rId4" Type="http://schemas.openxmlformats.org/officeDocument/2006/relationships/hyperlink" Target="http://ru.wikipedia.org/wiki/&#1057;&#1064;&#1040;" TargetMode="External"/><Relationship Id="rId5" Type="http://schemas.openxmlformats.org/officeDocument/2006/relationships/hyperlink" Target="http://ru.wikipedia.org/wiki/&#1050;&#1083;&#1080;&#1074;&#1083;&#1077;&#1085;&#1076;" TargetMode="External"/><Relationship Id="rId6" Type="http://schemas.openxmlformats.org/officeDocument/2006/relationships/hyperlink" Target="http://ru.wikipedia.org/wiki/1920_&#1075;&#1086;&#1076;" TargetMode="External"/><Relationship Id="rId7" Type="http://schemas.openxmlformats.org/officeDocument/2006/relationships/hyperlink" Target="http://ru.wikipedia.org/wiki/&#1057;&#1064;&#1040;" TargetMode="External"/><Relationship Id="rId8" Type="http://schemas.openxmlformats.org/officeDocument/2006/relationships/hyperlink" Target="http://ru.wikipedia.org/wiki/&#1044;&#1077;&#1090;&#1088;&#1086;&#1081;&#1090;" TargetMode="External"/><Relationship Id="rId9" Type="http://schemas.openxmlformats.org/officeDocument/2006/relationships/hyperlink" Target="http://ru.wikipedia.org/wiki/&#1053;&#1100;&#1102;-&#1049;&#1086;&#1088;&#1082;" TargetMode="External"/><Relationship Id="rId10" Type="http://schemas.openxmlformats.org/officeDocument/2006/relationships/hyperlink" Target="http://ru.wikipedia.org/w/index.php?title=&#1055;&#1086;&#1090;&#1090;&#1089;,_&#1059;&#1080;&#1083;&#1100;&#1103;&#1084;&amp;action=edit&amp;redlink=1" TargetMode="External"/><Relationship Id="rId11" Type="http://schemas.openxmlformats.org/officeDocument/2006/relationships/hyperlink" Target="http://ru.wikipedia.org/w/index.php?title=&#1055;&#1086;&#1090;&#1090;&#1089;,_&#1059;&#1080;&#1083;&#1100;&#1103;&#1084;&amp;action=edit&amp;redlink=1" TargetMode="External"/><Relationship Id="rId12" Type="http://schemas.openxmlformats.org/officeDocument/2006/relationships/hyperlink" Target="http://blog.autoland.ru/wp-content/uploads/2009/04/svetofor4.jpg" TargetMode="External"/><Relationship Id="rId13" Type="http://schemas.openxmlformats.org/officeDocument/2006/relationships/image" Target="../media/image7.jpeg"/><Relationship Id="rId14" Type="http://schemas.openxmlformats.org/officeDocument/2006/relationships/hyperlink" Target="http://www.ellf.ru/uploads/posts/2010-06/1275855954_a97092_105.jpg" TargetMode="External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0920" y="3645000"/>
            <a:ext cx="55422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Правил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дорожного 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движения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 ученик 8 «А» класса Саидов Данил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оводитель – Саидо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24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10 из 49667"/>
          <p:cNvPicPr/>
          <p:nvPr/>
        </p:nvPicPr>
        <p:blipFill>
          <a:blip r:embed="rId2"/>
          <a:stretch/>
        </p:blipFill>
        <p:spPr>
          <a:xfrm>
            <a:off x="611280" y="260280"/>
            <a:ext cx="3924360" cy="2841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028000" y="5373720"/>
            <a:ext cx="3715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6923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148360" y="1989000"/>
            <a:ext cx="3651120" cy="4526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920" y="836640"/>
            <a:ext cx="414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Если в знаке пешех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То – дорожный пере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Пешеход, пешех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Помни ты про пере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788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Если ты спешишь в пути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Через улицу пройти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Помни, Петя, Толя, Сева,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Что смотреть надо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НАЛЕВО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Как дойдешь до середины,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То отсюда с половины,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Помни, Таня, Юра, Клава,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Что смотреть нужно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НАПРАВО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859280" y="2924280"/>
            <a:ext cx="38530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40000" y="811080"/>
            <a:ext cx="4546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000" y="1268280"/>
            <a:ext cx="4027320" cy="4857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4398840" cy="308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932360" y="475200"/>
            <a:ext cx="374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до с правилами ладить –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ходить автобус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сз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59280" y="3788280"/>
            <a:ext cx="357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ужно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сперед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ты знай, обходить всегда трамв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ая дор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71298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6097320" cy="4276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51832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5808600" cy="4075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03640" y="2205000"/>
            <a:ext cx="3456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361944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643280" y="2276640"/>
            <a:ext cx="43563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акие игры приводят к несчастью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Детские шалости ценою в жизнь"/>
          <p:cNvPicPr/>
          <p:nvPr/>
        </p:nvPicPr>
        <p:blipFill>
          <a:blip r:embed="rId2"/>
          <a:stretch/>
        </p:blipFill>
        <p:spPr>
          <a:xfrm>
            <a:off x="611280" y="1628640"/>
            <a:ext cx="2520720" cy="20955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2268360" y="3357360"/>
            <a:ext cx="367164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72000" y="1700280"/>
            <a:ext cx="3635280" cy="1898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26920" y="1700280"/>
            <a:ext cx="3961080" cy="4751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148360" y="3891240"/>
            <a:ext cx="363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Ты навсегда запомни строго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Не место для игры - дорог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а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6121440" cy="64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ереходи дорог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ольк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по пешеходному переходу или на перекрест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Ид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олько на зеленый сигнал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светофора, даже если нет маш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ереходя дорогу, сначала посмотр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алев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а дойдя до середины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аправ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Если не успел перейти дорогу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становис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на центральной линии или островке безопасност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Ты навсегда запомни строго: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е место для игры - …дорог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72360" y="620640"/>
            <a:ext cx="2409840" cy="3565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37152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pravdd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484360" y="1700280"/>
            <a:ext cx="4159440" cy="22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дачи!!!!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авила движения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ажная на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облюдать их  все долж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зрослые и де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-main-pic" descr="Картинка 12 из 20008"/>
          <p:cNvPicPr/>
          <p:nvPr/>
        </p:nvPicPr>
        <p:blipFill>
          <a:blip r:embed="rId2"/>
          <a:stretch/>
        </p:blipFill>
        <p:spPr>
          <a:xfrm>
            <a:off x="684360" y="1125360"/>
            <a:ext cx="34178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482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Автобус, троллейбус,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Трамвай и такси…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 вся мостовая спешит – колесит!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ойти с тротуара мне страшно!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Так как же, скажите, проспект перейти?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А может быть, очередь тут завести?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А может, кому – нибудь нам поручить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За ней справедливо и строго следить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Кому же поручим мы этот дозор?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от тут нам на помощь пришел…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светофо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-main-pic" descr="Картинка 31 из 134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2060640"/>
            <a:ext cx="2927520" cy="4137120"/>
          </a:xfrm>
          <a:prstGeom prst="rect">
            <a:avLst/>
          </a:prstGeom>
          <a:ln w="0">
            <a:noFill/>
          </a:ln>
        </p:spPr>
      </p:pic>
      <p:pic>
        <p:nvPicPr>
          <p:cNvPr id="50" name="i-main-pic" descr="Картинка 39 из 28269"/>
          <p:cNvPicPr/>
          <p:nvPr/>
        </p:nvPicPr>
        <p:blipFill>
          <a:blip r:embed="rId4"/>
          <a:stretch/>
        </p:blipFill>
        <p:spPr>
          <a:xfrm>
            <a:off x="5580000" y="549360"/>
            <a:ext cx="287676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757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5410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вый светофор был установлен 10 декабря 1868 года в Лондоне, возле здания Британского Парламента. Его изобретатель — Дж. П. Найт (англ. J. P. Knight) — был специалистом по железнодорожным семафорам. Его детище управлялось вручную и имело два семафорных крыла. Поднятые горизонтально, они означали сигнал «стоп», а опущенные под углом в 45о — движение с осторожностью. В тёмное время суток использовался вращающийся газовый фонарь, с помощью которого подавались соответственно сигналы красного и зеленого цветов. Светофор использовался для облегчения перехода пешеходов через улицу, а его сигналы предназначались для транспортных средств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5 авгус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1914 г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СШ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городе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Кливленд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Американская светофорная компания установила на перекрёстке 105-й улицы и авеню Эвклида четыре электрических светофора конструкции Джеймса Хога. Они имели красный и зелёный сигнал и, переключаясь, издавали звуковой сигнал. Система управлялась полицейским, сидящим в стеклянной будке на перекрёст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1920 год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рёхцветные светофоры с использованием жёлтого сигнала были установлены в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СШ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городах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Детройт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Нью-Йорк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Авторами изобретений были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Уилья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Потт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Джон Ф. Харри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оссии первый светофор установили 15 января 1930 года в Ленинграде, на пересечении Невского и Литейного проспектов. А первый светофор в Москве появился 30 декабря того же года на углу улиц Петровка и Кузнецкий мо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16720" y="1557360"/>
            <a:ext cx="23860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-main-pic" descr="Картинка 19 из 1343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724360" y="189000"/>
            <a:ext cx="2156040" cy="2874960"/>
          </a:xfrm>
          <a:prstGeom prst="rect">
            <a:avLst/>
          </a:prstGeom>
          <a:ln w="0">
            <a:noFill/>
          </a:ln>
        </p:spPr>
      </p:pic>
      <p:pic>
        <p:nvPicPr>
          <p:cNvPr id="55" name="i-main-pic" descr="Картинка 52 из 13435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588000" y="1557360"/>
            <a:ext cx="2313000" cy="2873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6084720" y="4724280"/>
            <a:ext cx="20894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расный свет — твой первый друг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ловито строгий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сли он зажёгся вдруг —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Нет пути дороги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08720" y="1700280"/>
            <a:ext cx="3043080" cy="377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26920" y="5157720"/>
            <a:ext cx="37152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43640" y="912240"/>
            <a:ext cx="5494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Жёлтый свет — твой друг второй.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Стой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Внимание утрой!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Жди сигналов новых! 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Картинка 85 из 20107"/>
          <p:cNvPicPr/>
          <p:nvPr/>
        </p:nvPicPr>
        <p:blipFill>
          <a:blip r:embed="rId3"/>
          <a:stretch/>
        </p:blipFill>
        <p:spPr>
          <a:xfrm>
            <a:off x="4572000" y="1052640"/>
            <a:ext cx="3997440" cy="2813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84360" y="5373720"/>
            <a:ext cx="37116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404640"/>
            <a:ext cx="4824360" cy="67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ретий друг тебе мигнул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оим зелёным свето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етофор сигнал дает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 </a:t>
            </a:r>
            <a:r>
              <a:rPr b="0" lang="en-US" sz="3200" spc="-1" strike="noStrike">
                <a:solidFill>
                  <a:srgbClr val="99cc00"/>
                </a:solidFill>
                <a:latin typeface="Times New Roman"/>
              </a:rPr>
              <a:t>пора идти впере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 для нас препятствий нет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едь горит </a:t>
            </a:r>
            <a:r>
              <a:rPr b="0" lang="en-US" sz="3200" spc="-1" strike="noStrike">
                <a:solidFill>
                  <a:srgbClr val="99cc00"/>
                </a:solidFill>
                <a:latin typeface="Times New Roman"/>
              </a:rPr>
              <a:t>зеле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3394080" cy="1805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Картинка 6 из 13152"/>
          <p:cNvPicPr/>
          <p:nvPr/>
        </p:nvPicPr>
        <p:blipFill>
          <a:blip r:embed="rId3"/>
          <a:stretch/>
        </p:blipFill>
        <p:spPr>
          <a:xfrm>
            <a:off x="5003640" y="3645000"/>
            <a:ext cx="3451320" cy="30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39640" y="5229360"/>
            <a:ext cx="3715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47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сли не успел перейти дорогу –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становис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подожд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зеленый сигнал светофора на центральной линии или островке безопасност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64000" y="18900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572000" y="2781360"/>
            <a:ext cx="307332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если нет светофора?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же поступи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547640" y="1989000"/>
            <a:ext cx="6275520" cy="4402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340000" y="2276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Подземный, надзем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Похожий на зеб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Знай, что только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От беды тебя спасё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7:56:36Z</dcterms:created>
  <dc:creator>syun</dc:creator>
  <dc:description/>
  <dc:language>en-US</dc:language>
  <cp:lastModifiedBy>syun</cp:lastModifiedBy>
  <dcterms:modified xsi:type="dcterms:W3CDTF">2011-04-21T20:01:13Z</dcterms:modified>
  <cp:revision>3</cp:revision>
  <dc:subject/>
  <dc:title>Слайд 1</dc:title>
</cp:coreProperties>
</file>