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563-B808-44A2-8554-F59D0BD7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782-1627-4CAC-A498-8918B027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86A-537B-4C30-AB55-0F1CF7D1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85E-25BA-4C1E-A62E-CEDF250A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BE9-E51B-4335-8126-359714AD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76A-3617-4D27-A432-0C469BE3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61F-002D-49B5-AF53-531B1A38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E6D-8FF0-4A57-858A-8866B22A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F51-BD4D-4C36-A538-D886A5F0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B56-9423-4AA4-BD7B-FE194376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CD2-3CF4-43E8-BCD2-AB56767E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AC1-EFB4-40D5-A6A0-CD040D2B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6C9-1F2D-4696-A6CB-BD0AF22AF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ashapps.files.wordpress.com/2009/09/171.jpg?w=450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5_&#1072;&#1074;&#1075;&#1091;&#1089;&#1090;&#1072;" TargetMode="External"/><Relationship Id="rId3" Type="http://schemas.openxmlformats.org/officeDocument/2006/relationships/hyperlink" Target="http://ru.wikipedia.org/wiki/1914_&#1075;&#1086;&#1076;" TargetMode="External"/><Relationship Id="rId4" Type="http://schemas.openxmlformats.org/officeDocument/2006/relationships/hyperlink" Target="http://ru.wikipedia.org/wiki/&#1057;&#1064;&#1040;" TargetMode="External"/><Relationship Id="rId5" Type="http://schemas.openxmlformats.org/officeDocument/2006/relationships/hyperlink" Target="http://ru.wikipedia.org/wiki/&#1050;&#1083;&#1080;&#1074;&#1083;&#1077;&#1085;&#1076;" TargetMode="External"/><Relationship Id="rId6" Type="http://schemas.openxmlformats.org/officeDocument/2006/relationships/hyperlink" Target="http://ru.wikipedia.org/wiki/1920_&#1075;&#1086;&#1076;" TargetMode="External"/><Relationship Id="rId7" Type="http://schemas.openxmlformats.org/officeDocument/2006/relationships/hyperlink" Target="http://ru.wikipedia.org/wiki/&#1057;&#1064;&#1040;" TargetMode="External"/><Relationship Id="rId8" Type="http://schemas.openxmlformats.org/officeDocument/2006/relationships/hyperlink" Target="http://ru.wikipedia.org/wiki/&#1044;&#1077;&#1090;&#1088;&#1086;&#1081;&#1090;" TargetMode="External"/><Relationship Id="rId9" Type="http://schemas.openxmlformats.org/officeDocument/2006/relationships/hyperlink" Target="http://ru.wikipedia.org/wiki/&#1053;&#1100;&#1102;-&#1049;&#1086;&#1088;&#1082;" TargetMode="External"/><Relationship Id="rId10" Type="http://schemas.openxmlformats.org/officeDocument/2006/relationships/hyperlink" Target="http://ru.wikipedia.org/w/index.php?title=&#1055;&#1086;&#1090;&#1090;&#1089;,_&#1059;&#1080;&#1083;&#1100;&#1103;&#1084;&amp;action=edit&amp;redlink=1" TargetMode="External"/><Relationship Id="rId11" Type="http://schemas.openxmlformats.org/officeDocument/2006/relationships/hyperlink" Target="http://ru.wikipedia.org/w/index.php?title=&#1055;&#1086;&#1090;&#1090;&#1089;,_&#1059;&#1080;&#1083;&#1100;&#1103;&#1084;&amp;action=edit&amp;redlink=1" TargetMode="External"/><Relationship Id="rId12" Type="http://schemas.openxmlformats.org/officeDocument/2006/relationships/hyperlink" Target="http://blog.autoland.ru/wp-content/uploads/2009/04/svetofor4.jpg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www.ellf.ru/uploads/posts/2010-06/1275855954_a97092_105.jpg" TargetMode="External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3645000"/>
            <a:ext cx="55422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равил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орожного 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вижения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ученик 8 «А» класса Саидов Данил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 – Саид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0 из 49667"/>
          <p:cNvPicPr/>
          <p:nvPr/>
        </p:nvPicPr>
        <p:blipFill>
          <a:blip r:embed="rId2"/>
          <a:stretch/>
        </p:blipFill>
        <p:spPr>
          <a:xfrm>
            <a:off x="611280" y="260280"/>
            <a:ext cx="3924360" cy="2841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28000" y="537372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6923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651120" cy="452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836640"/>
            <a:ext cx="414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Если в знаке пеше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То – дорожный пере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Пешеход, пеше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Помни ты про пере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788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Если ты спешишь в пути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Через улицу пройти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Помни, Петя, Толя, Сева,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Что смотреть надо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НАЛЕВО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Как дойдешь до середины,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То отсюда с половины,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Помни, Таня, Юра, Клава,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Что смотреть нужно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НАПРАВО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3853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0000" y="811080"/>
            <a:ext cx="454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000" y="1268280"/>
            <a:ext cx="4027320" cy="485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4398840" cy="308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32360" y="475200"/>
            <a:ext cx="37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о с правилами ладить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ходить автобус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сз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3788280"/>
            <a:ext cx="357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жно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спере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ты знай, обходить всегда трам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ая д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71298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609732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183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5808600" cy="407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03640" y="2205000"/>
            <a:ext cx="3456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3280" y="2276640"/>
            <a:ext cx="4356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кие игры приводят к несчастью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Детские шалости ценою в жизнь"/>
          <p:cNvPicPr/>
          <p:nvPr/>
        </p:nvPicPr>
        <p:blipFill>
          <a:blip r:embed="rId2"/>
          <a:stretch/>
        </p:blipFill>
        <p:spPr>
          <a:xfrm>
            <a:off x="611280" y="1628640"/>
            <a:ext cx="252072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268360" y="3357360"/>
            <a:ext cx="367164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3635280" cy="189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3961080" cy="475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48360" y="3891240"/>
            <a:ext cx="363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Ты навсегда запомни строго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Не место для игры - дорог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612144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ереходи дорог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ольк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по пешеходному переходу или на перекрест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д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олько на зеленый сигна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светофора, даже если нет маш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ереходя дорогу, сначала посмотр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лев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а дойдя до середины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прав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сли не успел перейти дорогу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становис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на центральной линии или островке безопас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ы навсегда запомни строго: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 место для игры - …дорог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409840" cy="35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3715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ravdd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84360" y="1700280"/>
            <a:ext cx="415944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дачи!!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авила движен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ажная на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облюдать их  все дол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зрослые и д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-main-pic" descr="Картинка 12 из 20008"/>
          <p:cNvPicPr/>
          <p:nvPr/>
        </p:nvPicPr>
        <p:blipFill>
          <a:blip r:embed="rId2"/>
          <a:stretch/>
        </p:blipFill>
        <p:spPr>
          <a:xfrm>
            <a:off x="684360" y="1125360"/>
            <a:ext cx="34178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482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втобус, троллейбус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рамвай и такси…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 вся мостовая спешит – колесит!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ойти с тротуара мне страшно!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ак как же, скажите, проспект перейти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 может быть, очередь тут завести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 может, кому – нибудь нам поручить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 ней справедливо и строго следить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ому же поручим мы этот дозор?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от тут нам на помощь пришел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светофо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31 из 134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2060640"/>
            <a:ext cx="2927520" cy="413712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39 из 28269"/>
          <p:cNvPicPr/>
          <p:nvPr/>
        </p:nvPicPr>
        <p:blipFill>
          <a:blip r:embed="rId4"/>
          <a:stretch/>
        </p:blipFill>
        <p:spPr>
          <a:xfrm>
            <a:off x="5580000" y="549360"/>
            <a:ext cx="287676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757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5410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й светофор был установлен 10 декабря 1868 года в Лондоне, возле здания Британского Парламента. Его изобретатель — Дж. П. Найт (англ. J. P. Knight) — был специалистом по железнодорожным семафорам. Его детище управлялось вручную и имело два семафорных крыла. Поднятые горизонтально, они означали сигнал «стоп», а опущенные под углом в 45о — движение с осторожностью. В тёмное время суток использовался вращающийся газовый фонарь, с помощью которого подавались соответственно сигналы красного и зеленого цветов. Светофор использовался для облегчения перехода пешеходов через улицу, а его сигналы предназначались для транспортных средст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5 авгус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1914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городе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Кливленд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Американская светофорная компания установила на перекрёстке 105-й улицы и авеню Эвклида четыре электрических светофора конструкции Джеймса Хога. Они имели красный и зелёный сигнал и, переключаясь, издавали звуковой сигнал. Система управлялась полицейским, сидящим в стеклянной будке на перекрёст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1920 г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рёхцветные светофоры с использованием жёлтого сигнала были установлены в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городах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Детройт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Нью-Йорк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Авторами изобретений были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Уилья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Потт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жон Ф. Харри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оссии первый светофор установили 15 января 1930 года в Ленинграде, на пересечении Невского и Литейного проспектов. А первый светофор в Москве появился 30 декабря того же года на углу улиц Петровка и Кузнецкий м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16720" y="1557360"/>
            <a:ext cx="23860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-main-pic" descr="Картинка 19 из 1343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724360" y="189000"/>
            <a:ext cx="2156040" cy="2874960"/>
          </a:xfrm>
          <a:prstGeom prst="rect">
            <a:avLst/>
          </a:prstGeom>
          <a:ln w="0">
            <a:noFill/>
          </a:ln>
        </p:spPr>
      </p:pic>
      <p:pic>
        <p:nvPicPr>
          <p:cNvPr id="55" name="i-main-pic" descr="Картинка 52 из 1343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588000" y="1557360"/>
            <a:ext cx="2313000" cy="287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084720" y="4724280"/>
            <a:ext cx="20894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асный свет — твой первый друг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ловито строги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он зажёгся вдруг —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ет пути дорог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3043080" cy="377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26920" y="5157720"/>
            <a:ext cx="3715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43640" y="912240"/>
            <a:ext cx="549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ёлтый свет — твой друг второй.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Стой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нимание утрой!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Жди сигналов новых!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85 из 20107"/>
          <p:cNvPicPr/>
          <p:nvPr/>
        </p:nvPicPr>
        <p:blipFill>
          <a:blip r:embed="rId3"/>
          <a:stretch/>
        </p:blipFill>
        <p:spPr>
          <a:xfrm>
            <a:off x="4572000" y="1052640"/>
            <a:ext cx="3997440" cy="2813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4360" y="5373720"/>
            <a:ext cx="37116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404640"/>
            <a:ext cx="4824360" cy="67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етий друг тебе мигнул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им зелёным свето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етофор сигнал дае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пора идти впере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для нас препятствий нет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дь горит </a:t>
            </a: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зеле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394080" cy="1805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Картинка 6 из 13152"/>
          <p:cNvPicPr/>
          <p:nvPr/>
        </p:nvPicPr>
        <p:blipFill>
          <a:blip r:embed="rId3"/>
          <a:stretch/>
        </p:blipFill>
        <p:spPr>
          <a:xfrm>
            <a:off x="5003640" y="3645000"/>
            <a:ext cx="345132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3715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47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не успел перейти дорогу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становис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подож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еленый сигнал светофора на центральной линии или островке безопас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307332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если нет светофора?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же поступ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547640" y="1989000"/>
            <a:ext cx="6275520" cy="4402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40000" y="227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дземный, надзем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хожий на зеб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Знай, что только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От беды тебя спас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7:56:36Z</dcterms:created>
  <dc:creator>syun</dc:creator>
  <dc:description/>
  <dc:language>en-US</dc:language>
  <cp:lastModifiedBy>syun</cp:lastModifiedBy>
  <dcterms:modified xsi:type="dcterms:W3CDTF">2011-04-21T20:01:13Z</dcterms:modified>
  <cp:revision>3</cp:revision>
  <dc:subject/>
  <dc:title>Слайд 1</dc:title>
</cp:coreProperties>
</file>