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9F7-51DD-416C-8D9A-17B6A929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36A-32A1-4369-AA93-24DC6BAC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CC6-C249-4C06-A753-9B643B4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3C4-3B0A-4AAF-84AD-F92EE6C0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AB10-9E53-4712-B2F9-497C7BE9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0F1C-8C65-403D-BFBC-01E0412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BD9D-54E9-4FFC-BE17-DE3B33C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DAEE-7BA4-4115-8289-26CA5F15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668E-9776-4B2D-A3AB-E09F2EB5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F6A7-9FAE-4F6F-8F96-C307984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2FF5-CC2F-4C8F-A469-F36730D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597-04E5-431D-B898-A4A2395D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7A43-0DFA-48F1-8A84-1C7A854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4FA2-ABF6-496D-A98D-3AD1115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C7B-05F6-492E-8E7C-C4B501BB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E2B6-C3A8-49AF-90A8-41951C05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3BA-462F-4939-8473-6B717FEE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8B79-E394-45F5-AA8A-8E140CBF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65BB-980A-4978-8F56-9FF3100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4FD0-D32C-4449-B95B-0FF29C14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8D28-7B2A-42C7-908C-4249ECE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765A-07EA-4660-9A6D-B532FE8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9E3-BC5C-474A-AE31-7BCC36AD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DAAE-06F0-4C3A-9F8F-97B1640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DF5A-3C83-4F34-BC30-74C08338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C230-4CC1-47F3-B748-5387EA8E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334D-5603-47A6-9453-F56ABBE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FBA0-8CA5-45AD-BD9E-6704E89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1867-BAE8-468B-9DDD-BC9B32C3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C357-FC30-4268-99E8-5F33394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174B-BA33-4CC9-A606-32C4A5C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722B-3AD7-4809-ADD8-FBB0772C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2140-FFE2-43A6-8CD8-A3BA95FA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7D4-F85E-43D3-83C9-A51AB52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CB1A-BC6A-458D-A222-7EB1F1FC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696E-CF25-4839-906B-13318B74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BAD2-FE63-4957-AD75-2E92113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9052-1E03-4CBC-BB7D-F2470E40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7D38-7F21-4112-852D-3E43EA53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CE013-7107-4A30-8B61-57467E5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F55A-9669-4908-87AF-984D9C5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E1F1-2E20-4C6A-B466-231D0C31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2712-5E3A-42B4-AAB7-5099445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A048-6435-4BB7-90A0-B620144F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AD9-85D7-4718-91CD-0F48589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8E6B0-88FB-4A3E-8ADD-D061A6C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0B57-792B-4222-B31F-491B2006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28D0-544E-410F-A07A-A025013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2443-4CCB-4BC3-9D26-5A311D04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DDA4-86F8-4B59-AC67-4356C4CD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4532-9D5C-46A4-A84B-E2A22DA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F320-6E5E-4EF9-B5D1-49E3C30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702D-58A0-4B04-8FB3-12FEA13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6499-0ECA-4F6C-BC2E-B94AE6F1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79D1-148B-434F-8800-AE6D803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1C1-23DB-4EB0-961F-1A619CC1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E95B-1E38-43A9-97D0-2C08C5FE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C2EA1-05DD-4263-B33A-AD0CC32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F627D-4A7C-47C1-A5D2-08CE8C0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DC31-A9A5-4823-8FAC-57889BE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ACA2-9767-4887-88ED-DD743AAD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2BF0-F5EF-420D-911E-BEE37D1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8CFA-A0CD-443E-B136-85FFF9EF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28C6-F153-4994-B4D8-A2231EF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DF54-0384-4D02-B3B6-92EE870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09AA-3275-4D42-BE0D-C0F4033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FEB-E73D-41BE-9650-2D7924B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1D12-768E-481A-AC61-919B298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BF0E-ECDC-4602-B2C9-4D63ED46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433B-720F-4895-BAD5-BFA00AA4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D0C3C-C366-49CD-9F11-3BDA1EAB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74E51-488D-48E5-95A0-9AF32D4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802D7-A2E7-4D17-B12E-B77CA66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6917C-ED6D-4113-967A-9A9038A2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0D4F5-187F-4248-9E8A-EE07B128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328B5-21A9-4742-9CE0-ABB6F0B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A0E3C-A534-493F-9CC3-ADA76AD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E1D-3685-4E7A-964E-A05E5FF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81D14-268A-40DC-99E2-2D312F2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DB427-FE9F-4923-892E-87E0935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17607-65B6-4360-9A8C-0D42A65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B3CC3-BAD2-4AE0-9106-518BBF17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AF99C-763E-461C-8D1B-38D351FD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41BF-960E-497D-B73C-5DEA85DB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260C-B8B7-413F-8232-F29919F3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A56B-2BE3-4520-9741-B24379AF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6581-4AEA-4860-BB66-BE1B319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F332-A158-44C0-835A-ABEED9B5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726-BA6E-47BF-A500-E3AC034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B9B1C-3FFF-444E-9739-A596345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0ADE-E867-4DD4-A8F4-76D863B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0C49-D40A-48D5-B2A4-CF03006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EF73-96B0-463A-AE7F-B9E856A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AA28-7D7B-4CB1-9FB1-DC769B11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3BBB3-F16E-4053-8A0F-A9BC312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9C15-5BD8-4633-828C-2A6D1DF7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B42-F4B9-481A-BAE0-FE788713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6EF-D3E9-4610-8CFA-AACB470A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CC6-B356-4D03-B44E-67E9C331C1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DDE3-6DDB-40B6-93FC-9127B90CA7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C186-4D9C-4367-A87D-3F556548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0A7A-8F58-40CA-8321-517A0A2F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2F9-E3AC-4CE9-8ACF-FFAA500B44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EDF-E900-41B9-9F00-08710AC2B5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c/0/36/624/36624524_PUSHKIN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igfoto.ru/gallery/albums/userpics/12444/normal_Pushkin-sz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605/26605077_3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p=24&amp;ed=1&amp;text=&#1087;&#1091;&#1096;&#1082;&#1080;&#1085;&amp;spsite=fake-025-182668.ru&amp;img_url=uralpress.ru%2Fshow_thumbinail.php%3Fw%3D980%26image%3Dimg%2F86858_01.jpg&amp;rpt=simag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95280" y="620640"/>
            <a:ext cx="554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Monotype Corsiva"/>
              </a:rPr>
              <a:t>Пушкин и математи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427280" y="4869000"/>
            <a:ext cx="45003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еница 10 «а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Гимназия №58» г. Сар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врилюк Виктория Владимиров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он – Саратовская обла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60960" cy="40320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04292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На графике распределения стихотворений А.С. Пушкина по числу строк в них отчетливо выделяются несколько максимумов – наиболее часто встречающихся размеров. Они явно тяготеют к числам 5, 8, 13, 21, 3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Характерно также, что, наиболее выдающиеся произведения поэта, шедевры его творчества явно тяготеют к размерам 8, 13, 21 и 34 строки. К ним относятся стихи «В крови горит огонь желаний…», «Я вас любил, любовь еще, быть может…», и, наконец, одно из последних: «Пора, мой друг, пора! Покоя сердце просит…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еобладание в анализе стихотворений А.С. Пушкина чисел ряда Фибоначчи никак нельзя признать случайностью, игрой слепой вероятности. Наличие этих чисел выражает одну из фундаментальных закономерностей творческого метода поэта, его эстетические требования, чувство гармо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Monotype Corsiva"/>
              </a:rPr>
              <a:t>В метрике и композиции стихов поэта сосуществуют два начала, обеспечивающие их гармонию: </a:t>
            </a:r>
            <a:br>
              <a:rPr sz="3000"/>
            </a:br>
            <a:r>
              <a:rPr b="0" lang="en-US" sz="3000" spc="-1" strike="noStrike">
                <a:solidFill>
                  <a:srgbClr val="feec94"/>
                </a:solidFill>
                <a:latin typeface="Monotype Corsiva"/>
              </a:rPr>
              <a:t>симметрия и асимметрия.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Симметрия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тихотворений выражается в чётном числе рифмованных строк, в парном количестве стихов в произведе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А одним из выражений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асимметрии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в метрике и композиции стихов является золотая пропорция, подчинение метрики числам Фибоначч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очетание этих двух основ гармонии и порождает удивительное разнообразие художественных форм в поэзии А.С. Пушк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65164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820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Закон «</a:t>
            </a: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золотого сечения</a:t>
            </a: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» в самом общем случае формулируется следующим образом: «целое так относится к большему, как большее относится к меньшему»;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А = В + С                  А/В = В/С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инцип «золотого сечения» обнаруживается в формах живых организмов (например, в форме яблока или в форме улитки), пропорциях тела и органов человека, биоритмах головного мозга, ритмах сердечной деятельности, строении плодородного слоя земли, статистике популяций, музыке, строении планетарных систем и системы Менделеева, микрокосмосе, в компонентах генного аппарата человека и животных и т.д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2460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796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В повести «Пиковая дама» (издания 1978 г.) 853 строки. В каждой из шести глав золотая пропорция приходится на кульминационный момент этой главы. Это поразительное, фантастически точное, интуитивное владение поэтом законами гармонической компози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И всматриваясь в математически строгие и точные композиции крупнейших пушкинских произведений («Борис Годунов», «Евгений Онегин» и др.), опять вспоминаешь всю не случайность пушкинского утверждения, чт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508720" y="7174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179280" y="5013360"/>
            <a:ext cx="88203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"Вдохновение нужно в поэзии, как и в геометрии"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068560" cy="26654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Monotype Corsiva"/>
              </a:rPr>
              <a:t>Александра Сергеевича Пушкина давно относят к пророкам и обычно речь ведут о том, что он предсказал свое будущее, нетленность, вечность своей поэзии и бессмертие своих прозаических произведени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3007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Ведущие принципы пушкинских откровений: «Равенство противоположностей», «Вечное движение по кругу, равное в сумме нулю», «Цикличность явлений», «Смена ведущей роли», «Истина — любовь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ушкин выявил периоды национальных резолюций, которые происходят каждые 78 лет. Его периодика совпала с волнениями августа 1991 года и октября 1993 года. Архивы Пушкина — это свод знаний, важный для всего человече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0" y="472392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мена мирового лидера, согласно космическим таблицам Пушкина, должна произойти в самое ближайшее время. Этим лидером должна стать Россия, которая уступит свою роль новой ведущей расе после 2548 год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огласно пушкинской философии, с 1998 года в России начался 39-летний период природных катаклизмов. Возможны землетрясения, гол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883908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501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Monotype Corsiva"/>
              </a:rPr>
              <a:t>Но, конечно, самым главным в жизни Пушкина является его поэтическое творчество, как пример великого искусства, которое сочетает мысль и эмоции в совершенной фор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15636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Картинка 9 из 750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60280"/>
            <a:ext cx="3817800" cy="47134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заключении осталось выразить надежду на то, что мне удалось в какой-то степени обосновать, на первый взгляд, «странное сближение» А.С. Пушкина с матема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Гениальный человек гениален во всем. И на самом деле, не столь уж важно, в какой степени знал А.С. Пушкин точные науки. Каждый человек находит в нем и его творчестве что-то свое, близкое и понятное только ему. Даже люди, которые считают себя далекими от поэзии, от романтических переживаний, занятые только сухими расчетами в своем мире формул и чисел, и они найдут множество «открытий чудных» в мире пушкинских произведений. Но самое главное, что и в наше время А.С. Пушкин учит нас искренности чувств, жизнелюбию; ставит перед нами вечные вопросы: какое место в списке ценностей занимают милосердие, доброта, дружба, любов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58800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25892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3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ушкинские высказы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26560" y="90792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Сам по себе налог слеп и падает без разбора на все состояния. Налог может отозваться на всех сословиях, но обыкновенно падает на одно – на крестьянство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Кредит родился при первом меновом обороте. Роль кредитора и должника возникает из простого товарного обращения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Две неподвижные идеи не могут вместе существовать в нравственной природе так же, как два тела не могут в физическом мире занимать одно и то же место»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308720" y="731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372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547640" y="2781360"/>
            <a:ext cx="58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Спасибо за внимание</a:t>
            </a:r>
            <a:endParaRPr b="0" lang="en-US" sz="4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456840" y="4436640"/>
            <a:ext cx="1235160" cy="16938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6516720" y="4436640"/>
            <a:ext cx="2170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46911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2010 году Россия отметит светлую дату – 211 лет со дня рождения великого русского поэта Александра Сергеевича Пушк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 хотя всё дальше и дальше удаляется от нас та эпоха, Пушкин, преодолевший время и пространство, остаётся с нами. Первый не по нумерации, а по силе любви к нему русского на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43564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0" name="i-main-pic" descr="Картинка 165 из 750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284640"/>
            <a:ext cx="3781440" cy="2609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5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Широко распространено мнение, что А. С. Пушкин был не совсем в ладах с математикой. В детстве, бывало, он плакал над задачами по арифметике. По результатам вступительных экзаменов в лицей, об  Александре Пушкине записано, что «в познании языков: российского - очень хорошо, немецкого – не учился, в арифметике – знает до тройного правила, в познании общих свойств тел – хорошо, в начальных основаниях географии и начальных основаниях истории – имеет сведения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«Дневнике» поэта за 1 января 1834 года  находим запись: « Меня спрашивали, доволен ли я моим  камер – юнкерством. Доволен, потому что государь имел намерение отличить меня, а не сделать смешным, а по мне хоть в камер – пажи, только бы не заставили учиться французским вокабулам и арифметик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воспоминаниях об учёбе в лицее Иван Пущин рассказывал о том, как однажды их учитель по физике и математике Яков Иванович  Карцов  вызвал Пушкина к доске решать алгебраическую задачу. Переминаясь с ноги на ногу, Пушкин молча сделал на доске какие-то записи чисел. На вопрос учителя: «Ну, что же у Вас получилось? Чему равняется икс?» - ученик улыбнулся и ответил: «Нулю!». «Хорошо, - подытожил Карцов. – У вас, Пушкин, всё в моём классе кончается нулём. Садитесь на место и пишите стихи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. Д. Комовский вспоминал: «…Вообще он жил более в мире фантазии. Набрасывая же свои мысли на бумагу, везде, где мог, а чаще всего во время математических уроков, от нетерпения он грыз обыкновенно перо и, насупя брови, надувши губы, с огненным взором читал про себя написан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А.С. Пушкин всегда стремился  «стать с веком наравне» даже по отношению к математи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н помещал математические статьи П.Б. Козловского в своём «Современник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го библиотека, содержащая более четырёх тысяч томов, включала в себя  немало книг по естественно-научной тематике: философские труды Платона, Канта, Фихте, работы Паскаля, Бюффона, Кювье по естествознанию, сочинения Лейбница по математи-ческому анализу, труды Гершеля по астрономии, исследования по физике и механике Араго и Даламбера, имелись два сочинения по теории вероят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Причиной повышенного интереса к теории вероятностей являлась страсть Пушкина к картам, которые являлись одной из причин зарождения и развития этой теор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Можно составить задачу на вычисление вероятности, используя сюжет одного из самых известных его произведений – «Пиковая дама» : Из колоды карт (52 листа) Герман наугад извлекает три карты. Найдите вероятность того, что это будут 3,7 и ту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В 4 главе «Евгения Онегина» в ночь перед дуэлью в романтических стихах Ленского Пушкин описывает закон распределения случайной величины Х («судьбы закон»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Что день грядущий мне готовит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Его мой взор напрасно лови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 глубокой мгле таится о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Нет нужды; прав судьбы зако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Паду ли я, стрелой пронзённы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Иль мимо пролетит он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сё благо: бдения и с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Приходит час определённы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Благословен и день забо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Благословен и тьмы приход!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497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ушкинский «глубокий эконом» - личность, субъект производства, он знает экономическую науку, хорошо образован, понимает окружающую действительность и не жаждет зол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448 строф «Онегина» более 20 - исключительно экономические,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еще примерно 120 содержат экономическую информацию. Но, чтобы это понять, надо вчитываться очень терпеливо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i-main-pic" descr="Картинка 36 из 75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033640"/>
            <a:ext cx="3780000" cy="27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Серьёзный интерес великого поэта к научным достижениям привёл его к пониманию сложности процесса познания природных явлений и их физических закономерностей. Он признавал, что критерием обоснованности любой научной теории являются всесторонние знания и опыт, о чём и написал в 1829 году: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3500280"/>
            <a:ext cx="5256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О, сколько нам открытий чуд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Готовит просвещенья ду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И опыт, сын ошибок труд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И гений, парадоксов друг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900000" y="731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3860640"/>
            <a:ext cx="16048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Monotype Corsiva"/>
              </a:rPr>
              <a:t>Вашему вниманию предлагаются результаты «математического анализа» произведений поэта.</a:t>
            </a:r>
            <a:r>
              <a:rPr b="1" lang="en-US" sz="2300" spc="-1" strike="noStrike">
                <a:solidFill>
                  <a:srgbClr val="feec94"/>
                </a:solidFill>
                <a:latin typeface="Monotype Corsiva"/>
              </a:rPr>
              <a:t> </a:t>
            </a:r>
            <a:endParaRPr b="1" lang="en-US" sz="23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Чёткий ритм, закономерное чередование ударных и безударных слогов, упорядоченная размерность стихотворений, их эмоциональная насыщенность делают поэзию родной сестрой музыкальных произведений. Каждый стих обладает своей музыкальной формой, своей ритмикой и мелодией. Можно ожидать, что в строении стихотворений проявятся некоторые черты музыкальных композиций, закономерности музыкальной гармонии, а следовательно, и золотая пропорция, и числа Фибоначчи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Числа Фибоначчи – элементы числовой последовательности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59280" y="760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2195640" y="5661000"/>
            <a:ext cx="454824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82000"/>
                  </a:blip>
                  <a:srcRect/>
                  <a:tile tx="0" ty="0" sx="100000" sy="100000" algn="ctr"/>
                </a:blipFill>
                <a:latin typeface="Monotype Corsiva"/>
              </a:rPr>
              <a:t>1; 1; 2; 3; 5; 8; 13; 21; 34; 55..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82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bfa04"/>
                                      </p:to>
                                    </p:animClr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bfa04"/>
                                      </p:to>
                                    </p:animClr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9:33:29Z</dcterms:created>
  <dc:creator>Виктория</dc:creator>
  <dc:description/>
  <dc:language>en-US</dc:language>
  <cp:lastModifiedBy>syun</cp:lastModifiedBy>
  <dcterms:modified xsi:type="dcterms:W3CDTF">2011-05-16T20:41:01Z</dcterms:modified>
  <cp:revision>16</cp:revision>
  <dc:subject/>
  <dc:title>Начало1 2008-й, как и любой год, пушкинский. В мае исполнились 195 лет со дня написания Пушкиным в Кишиневе первых 16 строф первой главы романа в стихах «Евгений Онегин» с его главной экономической строфой (№7), не имеющей аналога во всемирной литературе. А осенью этого года исполнилось 175 лет со дня начала написания повести «Дубровский», в которой Пушкин гибридизировал политэкономию с экономическим правом. Я рассматриваю политико-экономический аспект творчества Пушкина, так как убежден, что он был «глубоким экономом», фундаментальным экономистом. </dc:title>
</cp:coreProperties>
</file>