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CF3-A461-48E2-8986-73526F3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787-47A1-4E78-8083-676AA85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4D4-F7D8-45B2-A736-89EAC91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882-4099-4443-8C3C-F3BB5399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7E16-A6D8-4975-BF98-11FB7068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9B1-3C48-43F6-BF7D-9A2ED06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B8D8-6626-4EE5-A2F1-C04DC71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9237-0512-4A38-9A70-EA6E9FA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D80E-83D5-4C7A-AC12-638B6F7C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9B5-9713-4519-8C02-1B1F2E1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B47-F224-4BB4-BBC7-E9B6B79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0B7-6ADD-419B-ACB4-C6F5CF6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B248-13C9-4497-A336-D811270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C689-BACE-42ED-8339-BD73BCE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7F8D-F21E-4E69-B9F9-36BA527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0297-47B3-452A-94F5-9C3942D5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ADA-40E8-4BE6-8A74-3848AD5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429C-5A74-4909-B0B3-8740A7CE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921E-4496-4EE3-A1AC-83F67F7A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43ED-33C3-4950-8EBB-F462A809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AD54-6FE5-49FB-B5BC-43BD23B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91D5-F4AF-49E6-B946-62952AF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EF5-D7B1-437D-A0C4-9F864DF6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59AE-1752-4F59-8E01-4EDE203E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BF3C-A8F9-4E05-90BA-19DABF7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EE80-7DA8-4816-A95B-8574F68F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9D47-8497-4700-962D-05B5C15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E4CE-1E63-46F9-9AC7-5A938EA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1BD5-3F1A-4DEF-87E4-7A057251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4E19-0E2F-43FD-9673-7904E154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5F15-21A0-4773-8E8F-1D022292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9430-11AF-4A4F-A223-65A8AD4B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3393-4B8B-4820-AD20-529150E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B77-4E87-458D-AECB-03637958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421A-EF04-4062-BFE8-1B20F5D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D14C-C3A4-4731-9FB3-91335EB9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86CE-C7DD-4D23-8C7F-BD1E4C1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B1C5-6F66-442B-8E1E-A0B22C8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63ED-2E47-4097-8167-B0F3A6D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DAC5-437A-41BC-9D52-7FE5606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D598-BC02-4139-A8DC-7B0F8641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9EA9-C3DD-4E28-B151-6EB764C1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772A-3DF5-4426-85B7-682ECC1D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942F-AEDE-4302-BFF5-FB00B83D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352-E5E0-4248-9D43-1632D0AF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6EAD-BDE4-4258-8CEF-D40F470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4F6D2-4FF1-4F91-A79D-3365984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A4A3-D2B4-4FFF-B4BB-A91F7FB0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A717-E9DA-4186-940F-DB46B30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4BC4A-1D1E-491D-8D46-F37FF013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34DD-EC62-41FC-A841-3E97F8E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481D-9B3F-4DAC-9D7E-44D94EEC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A88BD-173D-46B4-8A9B-BC0993E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D4493-41A7-4A17-864B-2921CD6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9AC1-2C1A-49CD-A6D0-BBCBCDD4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756-7606-4ED6-AFF1-5486BC5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4CE9-5B0C-4FCE-A8C7-28D35654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02CA2-19D8-4B82-823F-0E14B892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BA1D-F1B2-4FA4-863D-2365577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083B6-3D37-4203-B78D-BD02C34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2E7F6-3CBB-4CAC-BFC8-50EDF4E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4C59-D535-4987-996D-B17AFA23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E654-8E19-4FBB-B09B-C442B6E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C4BE-B96A-47F4-BBE0-7E01BDA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E9CD-06C5-4E4D-8DEB-1404F81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CB2D-4144-482D-BCBF-5691F1C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D54-AF21-4167-AF9E-5923D2E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E0D22-F75E-40CD-B276-347CB0B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5F182-AECF-44D6-B047-CB6A0CDF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23EB-EE5A-48B7-ACFD-28CA455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5D428-8627-4B36-AA05-E818321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DE194-E685-415A-833E-AFB62A9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B3CA8-4567-4544-AD26-4712B62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1D8A9-FE86-4A14-842B-6CA8741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C02E9-63D5-4096-8D93-5DF6A49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5AEC1-01C7-4050-8ABC-82749B1F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04061-166C-4077-8892-891539F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F3C-A021-4A6B-8582-85E29EF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BB678-552F-40E3-A3F3-CB59CBF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6704F-1437-463A-A89B-E828EBE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E1960-43A5-481C-BB8B-CF7DA8E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98FC4-99A7-4DD9-A910-919219EC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031E8-00DF-48E9-B18F-B213BDCA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3003-5928-4FFA-9AAE-69F5445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2991-E884-4AF9-A0E7-1B14D544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20841-304D-4ECE-ACA1-E290F5D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83ED-6829-49E4-B2E9-7847AD3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C1ED-E28F-4629-B7F3-68039B5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312-4E60-4727-A307-286C277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58D0-5949-4143-A5D0-89D5D9A9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E253-000B-493E-8738-44CDCD4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B927-9B01-4B82-A677-DC2B7B2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9586-ABEA-4EF5-871B-9F0F08C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E2EF-63A3-4F74-B2FD-456A4D7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6B9D-A351-4B92-86F2-1CFB2066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6D05-7D91-46CD-81A0-66559004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954A-6A02-4C4D-92E6-B47CC484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E1EC-A048-4726-BCDE-C389F526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717-EA8A-4AD7-B057-8BC1C04961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F9A-2265-41D8-80B9-20CE458216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C96-B0FD-4C9A-9DB3-8FD84F03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5A8-A85B-44EF-8DD6-33659B7F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9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4775-427F-423B-A98F-E07B6AC486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A94-AE41-4B74-8623-9A011CDC63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987640" y="731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c/0/36/624/36624524_PUSHKIN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igfoto.ru/gallery/albums/userpics/12444/normal_Pushkin-sz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6/605/26605077_3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p=24&amp;ed=1&amp;text=&#1087;&#1091;&#1096;&#1082;&#1080;&#1085;&amp;spsite=fake-025-182668.ru&amp;img_url=uralpress.ru%2Fshow_thumbinail.php%3Fw%3D980%26image%3Dimg%2F86858_01.jpg&amp;rpt=simag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95280" y="620640"/>
            <a:ext cx="554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Monotype Corsiva"/>
              </a:rPr>
              <a:t>Пушкин и математи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427280" y="4869000"/>
            <a:ext cx="45003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еница 10 «а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Гимназия №58» г. Сар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врилюк Виктория Владимиров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гион – Саратовская обла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60960" cy="40320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04292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На графике распределения стихотворений А.С. Пушкина по числу строк в них отчетливо выделяются несколько максимумов – наиболее часто встречающихся размеров. Они явно тяготеют к числам 5, 8, 13, 21, 3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Характерно также, что, наиболее выдающиеся произведения поэта, шедевры его творчества явно тяготеют к размерам 8, 13, 21 и 34 строки. К ним относятся стихи «В крови горит огонь желаний…», «Я вас любил, любовь еще, быть может…», и, наконец, одно из последних: «Пора, мой друг, пора! Покоя сердце просит…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еобладание в анализе стихотворений А.С. Пушкина чисел ряда Фибоначчи никак нельзя признать случайностью, игрой слепой вероятности. Наличие этих чисел выражает одну из фундаментальных закономерностей творческого метода поэта, его эстетические требования, чувство гармо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Monotype Corsiva"/>
              </a:rPr>
              <a:t>В метрике и композиции стихов поэта сосуществуют два начала, обеспечивающие их гармонию: </a:t>
            </a:r>
            <a:br>
              <a:rPr sz="3000"/>
            </a:br>
            <a:r>
              <a:rPr b="0" lang="en-US" sz="3000" spc="-1" strike="noStrike">
                <a:solidFill>
                  <a:srgbClr val="feec94"/>
                </a:solidFill>
                <a:latin typeface="Monotype Corsiva"/>
              </a:rPr>
              <a:t>симметрия и асимметрия.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Симметрия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тихотворений выражается в чётном числе рифмованных строк, в парном количестве стихов в произведен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А одним из выражений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асимметрии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в метрике и композиции стихов является золотая пропорция, подчинение метрики числам Фибоначч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очетание этих двух основ гармонии и порождает удивительное разнообразие художественных форм в поэзии А.С. Пушк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65164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820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Закон «</a:t>
            </a: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золотого сечения</a:t>
            </a: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» в самом общем случае формулируется следующим образом: «целое так относится к большему, как большее относится к меньшему»;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Monotype Corsiva"/>
              </a:rPr>
              <a:t>А = В + С                  А/В = В/С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инцип «золотого сечения» обнаруживается в формах живых организмов (например, в форме яблока или в форме улитки), пропорциях тела и органов человека, биоритмах головного мозга, ритмах сердечной деятельности, строении плодородного слоя земли, статистике популяций, музыке, строении планетарных систем и системы Менделеева, микрокосмосе, в компонентах генного аппарата человека и животных и т.д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2460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796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В повести «Пиковая дама» (издания 1978 г.) 853 строки. В каждой из шести глав золотая пропорция приходится на кульминационный момент этой главы. Это поразительное, фантастически точное, интуитивное владение поэтом законами гармонической компози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Monotype Corsiva"/>
              </a:rPr>
              <a:t>И всматриваясь в математически строгие и точные композиции крупнейших пушкинских произведений («Борис Годунов», «Евгений Онегин» и др.), опять вспоминаешь всю не случайность пушкинского утверждения, чт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508720" y="7174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179280" y="5013360"/>
            <a:ext cx="88203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"Вдохновение нужно в поэзии, как и в геометрии"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068560" cy="26654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Monotype Corsiva"/>
              </a:rPr>
              <a:t>Александра Сергеевича Пушкина давно относят к пророкам и обычно речь ведут о том, что он предсказал свое будущее, нетленность, вечность своей поэзии и бессмертие своих прозаических произведени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3007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Ведущие принципы пушкинских откровений: «Равенство противоположностей», «Вечное движение по кругу, равное в сумме нулю», «Цикличность явлений», «Смена ведущей роли», «Истина — любовь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ушкин выявил периоды национальных резолюций, которые происходят каждые 78 лет. Его периодика совпала с волнениями августа 1991 года и октября 1993 года. Архивы Пушкина — это свод знаний, важный для всего человече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0" y="472392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мена мирового лидера, согласно космическим таблицам Пушкина, должна произойти в самое ближайшее время. Этим лидером должна стать Россия, которая уступит свою роль новой ведущей расе после 2548 год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огласно пушкинской философии, с 1998 года в России начался 39-летний период природных катаклизмов. Возможны землетрясения, гол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883908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501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cccc00"/>
                </a:solidFill>
                <a:latin typeface="Monotype Corsiva"/>
              </a:rPr>
              <a:t>Но, конечно, самым главным в жизни Пушкина является его поэтическое творчество, как пример великого искусства, которое сочетает мысль и эмоции в совершенной форм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15636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Картинка 9 из 750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60280"/>
            <a:ext cx="3817800" cy="47134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заключении осталось выразить надежду на то, что мне удалось в какой-то степени обосновать, на первый взгляд, «странное сближение» А.С. Пушкина с матема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Гениальный человек гениален во всем. И на самом деле, не столь уж важно, в какой степени знал А.С. Пушкин точные науки. Каждый человек находит в нем и его творчестве что-то свое, близкое и понятное только ему. Даже люди, которые считают себя далекими от поэзии, от романтических переживаний, занятые только сухими расчетами в своем мире формул и чисел, и они найдут множество «открытий чудных» в мире пушкинских произведений. Но самое главное, что и в наше время А.С. Пушкин учит нас искренности чувств, жизнелюбию; ставит перед нами вечные вопросы: какое место в списке ценностей занимают милосердие, доброта, дружба, любов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58800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25892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3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ушкинские высказы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26560" y="90792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Сам по себе налог слеп и падает без разбора на все состояния. Налог может отозваться на всех сословиях, но обыкновенно падает на одно – на крестьянство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Кредит родился при первом меновом обороте. Роль кредитора и должника возникает из простого товарного обращения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Две неподвижные идеи не могут вместе существовать в нравственной природе так же, как два тела не могут в физическом мире занимать одно и то же место»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308720" y="731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372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547640" y="2781360"/>
            <a:ext cx="58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Спасибо за внимание</a:t>
            </a:r>
            <a:endParaRPr b="0" lang="en-US" sz="4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456840" y="4436640"/>
            <a:ext cx="1235160" cy="16938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6516720" y="4436640"/>
            <a:ext cx="2170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46911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2010 году Россия отметит светлую дату – 211 лет со дня рождения великого русского поэта Александра Сергеевича Пушк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 хотя всё дальше и дальше удаляется от нас та эпоха, Пушкин, преодолевший время и пространство, остаётся с нами. Первый не по нумерации, а по силе любви к нему русского на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435640" y="724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0" name="i-main-pic" descr="Картинка 165 из 750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284640"/>
            <a:ext cx="3781440" cy="2609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5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Широко распространено мнение, что А. С. Пушкин был не совсем в ладах с математикой. В детстве, бывало, он плакал над задачами по арифметике. По результатам вступительных экзаменов в лицей, об  Александре Пушкине записано, что «в познании языков: российского - очень хорошо, немецкого – не учился, в арифметике – знает до тройного правила, в познании общих свойств тел – хорошо, в начальных основаниях географии и начальных основаниях истории – имеет сведения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 «Дневнике» поэта за 1 января 1834 года  находим запись: « Меня спрашивали, доволен ли я моим  камер – юнкерством. Доволен, потому что государь имел намерение отличить меня, а не сделать смешным, а по мне хоть в камер – пажи, только бы не заставили учиться французским вокабулам и арифметик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воспоминаниях об учёбе в лицее Иван Пущин рассказывал о том, как однажды их учитель по физике и математике Яков Иванович  Карцов  вызвал Пушкина к доске решать алгебраическую задачу. Переминаясь с ноги на ногу, Пушкин молча сделал на доске какие-то записи чисел. На вопрос учителя: «Ну, что же у Вас получилось? Чему равняется икс?» - ученик улыбнулся и ответил: «Нулю!». «Хорошо, - подытожил Карцов. – У вас, Пушкин, всё в моём классе кончается нулём. Садитесь на место и пишите стихи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. Д. Комовский вспоминал: «…Вообще он жил более в мире фантазии. Набрасывая же свои мысли на бумагу, везде, где мог, а чаще всего во время математических уроков, от нетерпения он грыз обыкновенно перо и, насупя брови, надувши губы, с огненным взором читал про себя написан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А.С. Пушкин всегда стремился  «стать с веком наравне» даже по отношению к математи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н помещал математические статьи П.Б. Козловского в своём «Современник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го библиотека, содержащая более четырёх тысяч томов, включала в себя  немало книг по естественно-научной тематике: философские труды Платона, Канта, Фихте, работы Паскаля, Бюффона, Кювье по естествознанию, сочинения Лейбница по математи-ческому анализу, труды Гершеля по астрономии, исследования по физике и механике Араго и Даламбера, имелись два сочинения по теории вероят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Причиной повышенного интереса к теории вероятностей являлась страсть Пушкина к картам, которые являлись одной из причин зарождения и развития этой теор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Можно составить задачу на вычисление вероятности, используя сюжет одного из самых известных его произведений – «Пиковая дама» : Из колоды карт (52 листа) Герман наугад извлекает три карты. Найдите вероятность того, что это будут 3,7 и ту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В 4 главе «Евгения Онегина» в ночь перед дуэлью в романтических стихах Ленского Пушкин описывает закон распределения случайной величины Х («судьбы закон»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Что день грядущий мне готовит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Его мой взор напрасно лови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 глубокой мгле таится о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Нет нужды; прав судьбы зако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Паду ли я, стрелой пронзённы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Иль мимо пролетит он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сё благо: бдения и с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Приходит час определённы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Благословен и день забот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Благословен и тьмы приход!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497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ушкинский «глубокий эконом» - личность, субъект производства, он знает экономическую науку, хорошо образован, понимает окружающую действительность и не жаждет зол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448 строф «Онегина» более 20 - исключительно экономические,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еще примерно 120 содержат экономическую информацию. Но, чтобы это понять, надо вчитываться очень терпеливо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i-main-pic" descr="Картинка 36 из 75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033640"/>
            <a:ext cx="3780000" cy="27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Серьёзный интерес великого поэта к научным достижениям привёл его к пониманию сложности процесса познания природных явлений и их физических закономерностей. Он признавал, что критерием обоснованности любой научной теории являются всесторонние знания и опыт, о чём и написал в 1829 году: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3500280"/>
            <a:ext cx="5256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О, сколько нам открытий чуд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Готовит просвещенья ду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И опыт, сын ошибок труд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И гений, парадоксов друг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900000" y="731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3860640"/>
            <a:ext cx="16048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Monotype Corsiva"/>
              </a:rPr>
              <a:t>Вашему вниманию предлагаются результаты «математического анализа» произведений поэта.</a:t>
            </a:r>
            <a:r>
              <a:rPr b="1" lang="en-US" sz="2300" spc="-1" strike="noStrike">
                <a:solidFill>
                  <a:srgbClr val="feec94"/>
                </a:solidFill>
                <a:latin typeface="Monotype Corsiva"/>
              </a:rPr>
              <a:t> </a:t>
            </a:r>
            <a:endParaRPr b="1" lang="en-US" sz="23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Чёткий ритм, закономерное чередование ударных и безударных слогов, упорядоченная размерность стихотворений, их эмоциональная насыщенность делают поэзию родной сестрой музыкальных произведений. Каждый стих обладает своей музыкальной формой, своей ритмикой и мелодией. Можно ожидать, что в строении стихотворений проявятся некоторые черты музыкальных композиций, закономерности музыкальной гармонии, а следовательно, и золотая пропорция, и числа Фибоначчи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Числа Фибоначчи – элементы числовой последовательности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59280" y="760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2195640" y="5661000"/>
            <a:ext cx="454824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82000"/>
                  </a:blip>
                  <a:srcRect/>
                  <a:tile tx="0" ty="0" sx="100000" sy="100000" algn="ctr"/>
                </a:blipFill>
                <a:latin typeface="Monotype Corsiva"/>
              </a:rPr>
              <a:t>1; 1; 2; 3; 5; 8; 13; 21; 34; 55..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82000"/>
                </a:blip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bfa04"/>
                                      </p:to>
                                    </p:animClr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bfa04"/>
                                      </p:to>
                                    </p:animClr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9:33:29Z</dcterms:created>
  <dc:creator>Виктория</dc:creator>
  <dc:description/>
  <dc:language>en-US</dc:language>
  <cp:lastModifiedBy>syun</cp:lastModifiedBy>
  <dcterms:modified xsi:type="dcterms:W3CDTF">2011-05-16T20:41:01Z</dcterms:modified>
  <cp:revision>16</cp:revision>
  <dc:subject/>
  <dc:title>Начало1 2008-й, как и любой год, пушкинский. В мае исполнились 195 лет со дня написания Пушкиным в Кишиневе первых 16 строф первой главы романа в стихах «Евгений Онегин» с его главной экономической строфой (№7), не имеющей аналога во всемирной литературе. А осенью этого года исполнилось 175 лет со дня начала написания повести «Дубровский», в которой Пушкин гибридизировал политэкономию с экономическим правом. Я рассматриваю политико-экономический аспект творчества Пушкина, так как убежден, что он был «глубоким экономом», фундаментальным экономистом. </dc:title>
</cp:coreProperties>
</file>