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056-DF24-4409-B119-69871633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1D1-32A6-446A-8CB2-274DC5C4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BA5-CF3F-4239-837F-890891F4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EDE-837A-48D9-B399-8809F9C2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2EB5-31FF-43D0-A3E9-66872307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6468-3E3C-476F-9659-CC6F1464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75B9-4241-4487-85FB-ACA9D528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E96B-E446-445D-A81B-092DE07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B4E9-7DA3-43E2-93AD-EC0BB37A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4F4B-B96C-4F90-81F0-EC7E64AD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97BB-EDB1-463F-A3B2-9115F0B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1CA-B003-4D4C-9488-86CE21B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95D5-77D3-47F3-BFB6-E8B67CE9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7606-85FA-47D0-B315-CE385606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D2DF-9E53-4156-82BD-8581FC1E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AA8C-D82A-449D-8FEA-7E359480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B412-D901-4EE1-AA84-0C71EF32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54F-6BDF-49BE-8AB6-2D7C36F2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A13-929B-4A6D-A37A-E4EF63D0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EE1-E6E5-448C-9039-84A7A89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5ED-EA81-48B5-A012-F8FB017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9DD-4BE9-4884-8252-C0B7072E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297-2320-406E-83F5-9CF17A6E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FE4-3B35-47C6-82A4-B3A22677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EB21-4C30-457A-BD62-F3C183D1F51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1254-90F1-4987-84CE-236FA918D45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Arial Unicode MS"/>
              </a:rPr>
              <a:t>Методическая разработка урока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b0d6f"/>
                </a:solidFill>
                <a:latin typeface="Verdana"/>
              </a:rPr>
              <a:t>«Род и семья – исток нравственных отношений»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7242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3434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57200" y="5040360"/>
            <a:ext cx="35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итель начальных классо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БОУ СОШ №22 города Ковров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едро Ирина Владимир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221000"/>
            <a:ext cx="864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Arial Unicode MS"/>
              </a:rPr>
              <a:t>(модуль «Основы светской этики»,  урок 18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28440"/>
            <a:ext cx="472464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78520" y="111240"/>
            <a:ext cx="37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d6f"/>
                </a:solidFill>
                <a:latin typeface="Arial"/>
              </a:rPr>
              <a:t>Заповеди семьи: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105264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Свято храни честь своей семьи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8040" y="220500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Люби свою семью и делай её лучше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3141720"/>
            <a:ext cx="84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Будь внимательным и чутким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всегда готовым придти на помощь членам своей семьи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437000"/>
            <a:ext cx="44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Подари родителям радость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1840" y="5373720"/>
            <a:ext cx="61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* Жизнь – это дорога, полная испытаний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будь готов с честью пройти и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81080" y="2421000"/>
            <a:ext cx="878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b0d6f"/>
                </a:solidFill>
                <a:latin typeface="Arial"/>
              </a:rPr>
              <a:t>Семейное согласие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b0d6f"/>
                </a:solidFill>
                <a:latin typeface="Arial"/>
              </a:rPr>
              <a:t>без родных не живёт.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92160" y="6589800"/>
            <a:ext cx="923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6633"/>
                </a:solidFill>
                <a:latin typeface="Verdana"/>
              </a:rPr>
              <a:t>  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1619280"/>
            <a:ext cx="8136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b0d6f"/>
                </a:solidFill>
                <a:latin typeface="Arial"/>
                <a:ea typeface="Arial Unicode MS"/>
              </a:rPr>
              <a:t>формирование представлений </a:t>
            </a:r>
            <a:br>
              <a:rPr sz="4000"/>
            </a:br>
            <a:r>
              <a:rPr b="0" lang="en-US" sz="4000" spc="-1" strike="noStrike">
                <a:solidFill>
                  <a:srgbClr val="0b0d6f"/>
                </a:solidFill>
                <a:latin typeface="Arial"/>
                <a:ea typeface="Arial Unicode MS"/>
              </a:rPr>
              <a:t>о семье, как важнейшей </a:t>
            </a:r>
            <a:br>
              <a:rPr sz="4000"/>
            </a:br>
            <a:r>
              <a:rPr b="0" lang="en-US" sz="4000" spc="-1" strike="noStrike">
                <a:solidFill>
                  <a:srgbClr val="0b0d6f"/>
                </a:solidFill>
                <a:latin typeface="Arial"/>
                <a:ea typeface="Arial Unicode MS"/>
              </a:rPr>
              <a:t>нравственной ценности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6633"/>
                </a:solidFill>
                <a:latin typeface="Arial"/>
                <a:ea typeface="Arial Unicode MS"/>
              </a:rPr>
              <a:t>   </a:t>
            </a:r>
            <a:r>
              <a:rPr b="1" lang="en-US" sz="4400" spc="-1" strike="noStrike">
                <a:solidFill>
                  <a:srgbClr val="006699"/>
                </a:solidFill>
                <a:latin typeface="Arial"/>
                <a:ea typeface="Arial Unicode MS"/>
              </a:rPr>
              <a:t>Задачи урока: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8208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1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1.Познакомить с понятиями: «род», «семья», «родословная»;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1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ознакомить с терминами ближайшего родства; представить образ семьи, как великую духовную ценность.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1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2.Обучать ведению учебного диалога на основе личного опыта учащихся в области рассматриваемых  категорий, развитие речевых и социально- коммуникативных навыков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1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3.Обучать приемам рефлексии собственных впечатлений и чувств.       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38880" y="1197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920" y="576360"/>
            <a:ext cx="9128160" cy="570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Род и семья –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исток нравственных отношений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8975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92160" y="5753160"/>
            <a:ext cx="92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Счастлив тот, кто счастлив у себя дома.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Л. Н. Толсто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80" y="8571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b0d6f"/>
                </a:solidFill>
                <a:latin typeface="Arial"/>
              </a:rPr>
              <a:t>Зачем человеку семья?</a:t>
            </a:r>
            <a:endParaRPr b="0" lang="en-US" sz="9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23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6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Arial"/>
              </a:rPr>
              <a:t>Род – это люди, </a:t>
            </a:r>
            <a:endParaRPr b="0" lang="en-US" sz="7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Arial"/>
              </a:rPr>
              <a:t>которые считают себя </a:t>
            </a:r>
            <a:endParaRPr b="0" lang="en-US" sz="7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Arial"/>
              </a:rPr>
              <a:t>потомками общего предка</a:t>
            </a:r>
            <a:endParaRPr b="0" lang="en-US" sz="7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760" y="65160"/>
            <a:ext cx="9096480" cy="6819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5240" y="49320"/>
            <a:ext cx="4618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Семья – это союз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близких родственников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которые живут вместе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даря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друг другу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сво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любов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b10"/>
                </a:solidFill>
                <a:latin typeface="Arial"/>
              </a:rPr>
              <a:t>и заботу.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0920" y="18900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Прабабушка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981000"/>
            <a:ext cx="3529080" cy="90828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8280"/>
              <a:gd name="textAreaBottom" fmla="*/ 79056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Прадедуш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773360"/>
            <a:ext cx="3529080" cy="90792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7920"/>
              <a:gd name="textAreaBottom" fmla="*/ 7902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Бабуш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637000"/>
            <a:ext cx="3529080" cy="90792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7920"/>
              <a:gd name="textAreaBottom" fmla="*/ 7902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едушка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429000"/>
            <a:ext cx="3529080" cy="90792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7920"/>
              <a:gd name="textAreaBottom" fmla="*/ 7902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яд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221000"/>
            <a:ext cx="3529080" cy="90828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8280"/>
              <a:gd name="textAreaBottom" fmla="*/ 79056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Тётя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5084640"/>
            <a:ext cx="3529080" cy="908280"/>
          </a:xfrm>
          <a:custGeom>
            <a:avLst/>
            <a:gdLst>
              <a:gd name="textAreaLeft" fmla="*/ 0 w 3529080"/>
              <a:gd name="textAreaRight" fmla="*/ 3529440 w 3529080"/>
              <a:gd name="textAreaTop" fmla="*/ 117720 h 908280"/>
              <a:gd name="textAreaBottom" fmla="*/ 79056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воюродный бра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595008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воюродная сестр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18900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Мама твоего дедушки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105264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Дедушка твоего отц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1844640"/>
            <a:ext cx="3529080" cy="71928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9280"/>
              <a:gd name="textAreaBottom" fmla="*/ 626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Мама твоей мамы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263700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Мамин папа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64000" y="3500280"/>
            <a:ext cx="3529080" cy="71928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9280"/>
              <a:gd name="textAreaBottom" fmla="*/ 626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Папин бра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429264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Мамина сестра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35640" y="5084640"/>
            <a:ext cx="3529080" cy="71928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9280"/>
              <a:gd name="textAreaBottom" fmla="*/ 626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Сын твоей тёти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5950080"/>
            <a:ext cx="3529080" cy="718920"/>
          </a:xfrm>
          <a:custGeom>
            <a:avLst/>
            <a:gdLst>
              <a:gd name="textAreaLeft" fmla="*/ 0 w 3529080"/>
              <a:gd name="textAreaRight" fmla="*/ 3529440 w 352908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Дочь твоего дяди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47628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1341360"/>
            <a:ext cx="1152720" cy="28908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213372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292428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95640" y="364500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437000"/>
            <a:ext cx="1152360" cy="2890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5373720"/>
            <a:ext cx="1152720" cy="288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95640" y="6165720"/>
            <a:ext cx="1152720" cy="28908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14720" y="33480"/>
            <a:ext cx="47145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6:25:16Z</dcterms:created>
  <dc:creator>Loner-XP</dc:creator>
  <dc:description/>
  <dc:language>en-US</dc:language>
  <cp:lastModifiedBy>User</cp:lastModifiedBy>
  <dcterms:modified xsi:type="dcterms:W3CDTF">2012-08-08T14:41:53Z</dcterms:modified>
  <cp:revision>41</cp:revision>
  <dc:subject/>
  <dc:title>Слайд 1</dc:title>
</cp:coreProperties>
</file>