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2A2-114F-42AC-9AA5-1FB30ED5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089-930C-4AA8-B706-D914469C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748C-AE1D-414F-807F-86653CBD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3713-ADCF-4A18-A7CC-4B5658A5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A797-577C-4C47-82E2-8B744963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BBFC-DC2D-43D7-B89E-4A5C75B9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8D60-54C8-4F1E-84A7-39035F93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69DC-AF5B-4014-B2DF-3D0DE277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6185-4F03-472D-B16C-8134AE05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669F-4989-48FB-9CB9-7AA6ED82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D6A1-D034-4971-B886-6C19B8AB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901-7986-4594-B8CC-DFC86A86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64F6-85EE-4EB4-A151-B81E8A36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1B07-2FAF-48BB-BA3A-CBDF7758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EA20-59B4-4189-B396-90FB1414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1D33-4A18-46FD-8571-4FCAA59C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CDD5-36CE-4734-8BE4-36098DC3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F4B-D1E8-4BAC-A418-CA3D48B1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A45-4691-4006-9C47-87A69A64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8F2-93C4-47A9-8EF7-C8CE44DB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B136-BEF5-4C63-B991-C6142965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27C-FC7E-44CE-959D-91654D49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26A-DEBD-495E-9F40-562B72F7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1A4B-7EDF-425C-998F-131E7479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3B21-00A3-4EAE-A423-4925DB4B4CD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F3CC-2B0D-452A-8657-886FCE98D2D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  <a:ea typeface="Arial Unicode MS"/>
              </a:rPr>
              <a:t>Методическая разработка урока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0328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0b0d6f"/>
                </a:solidFill>
                <a:latin typeface="Verdana"/>
              </a:rPr>
              <a:t>«Род и семья – исток нравственных отношений»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47242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343400"/>
            <a:ext cx="51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57200" y="5040360"/>
            <a:ext cx="353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итель начальных классов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БОУ СОШ №22 города Ковров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едро Ирина Владимировн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221000"/>
            <a:ext cx="864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Arial Unicode MS"/>
              </a:rPr>
              <a:t>(модуль «Основы светской этики»,  урок 18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2840" y="228600"/>
            <a:ext cx="9058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09680" y="28440"/>
            <a:ext cx="472464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278520" y="111240"/>
            <a:ext cx="37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0d6f"/>
                </a:solidFill>
                <a:latin typeface="Arial"/>
              </a:rPr>
              <a:t>Заповеди семьи: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1052640"/>
            <a:ext cx="50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* Свято храни честь своей семьи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8040" y="2205000"/>
            <a:ext cx="57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* Люби свою семью и делай её лучше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7680" y="3141720"/>
            <a:ext cx="84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* Будь внимательным и чутким,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всегда готовым придти на помощь членам своей семьи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4437000"/>
            <a:ext cx="44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* Подари родителям радость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1840" y="5373720"/>
            <a:ext cx="612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* Жизнь – это дорога, полная испытаний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будь готов с честью пройти их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81080" y="2421000"/>
            <a:ext cx="878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b0d6f"/>
                </a:solidFill>
                <a:latin typeface="Arial"/>
              </a:rPr>
              <a:t>Семейное согласие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b0d6f"/>
                </a:solidFill>
                <a:latin typeface="Arial"/>
              </a:rPr>
              <a:t>без родных не живёт.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92160" y="6589800"/>
            <a:ext cx="923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cc6633"/>
                </a:solidFill>
                <a:latin typeface="Verdana"/>
              </a:rPr>
              <a:t>   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Цель урок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1619280"/>
            <a:ext cx="8136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b0d6f"/>
                </a:solidFill>
                <a:latin typeface="Arial"/>
                <a:ea typeface="Arial Unicode MS"/>
              </a:rPr>
              <a:t>формирование представлений </a:t>
            </a:r>
            <a:br>
              <a:rPr sz="4000"/>
            </a:br>
            <a:r>
              <a:rPr b="0" lang="en-US" sz="4000" spc="-1" strike="noStrike">
                <a:solidFill>
                  <a:srgbClr val="0b0d6f"/>
                </a:solidFill>
                <a:latin typeface="Arial"/>
                <a:ea typeface="Arial Unicode MS"/>
              </a:rPr>
              <a:t>о семье, как важнейшей </a:t>
            </a:r>
            <a:br>
              <a:rPr sz="4000"/>
            </a:br>
            <a:r>
              <a:rPr b="0" lang="en-US" sz="4000" spc="-1" strike="noStrike">
                <a:solidFill>
                  <a:srgbClr val="0b0d6f"/>
                </a:solidFill>
                <a:latin typeface="Arial"/>
                <a:ea typeface="Arial Unicode MS"/>
              </a:rPr>
              <a:t>нравственной ценности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63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cc6633"/>
                </a:solidFill>
                <a:latin typeface="Arial"/>
                <a:ea typeface="Arial Unicode MS"/>
              </a:rPr>
              <a:t>   </a:t>
            </a:r>
            <a:r>
              <a:rPr b="1" lang="en-US" sz="4400" spc="-1" strike="noStrike">
                <a:solidFill>
                  <a:srgbClr val="006699"/>
                </a:solidFill>
                <a:latin typeface="Arial"/>
                <a:ea typeface="Arial Unicode MS"/>
              </a:rPr>
              <a:t>Задачи урока:</a:t>
            </a:r>
            <a:endParaRPr b="1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82087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1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1.Познакомить с понятиями: «род», «семья», «родословная»;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1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познакомить с терминами ближайшего родства; представить образ семьи, как великую духовную ценность.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1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2.Обучать ведению учебного диалога на основе личного опыта учащихся в области рассматриваемых  категорий, развитие речевых и социально- коммуникативных навыков.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1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3.Обучать приемам рефлексии собственных впечатлений и чувств.       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38880" y="1197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920" y="576360"/>
            <a:ext cx="9128160" cy="5705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26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Род и семья –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исток нравственных отношений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8975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92160" y="5753160"/>
            <a:ext cx="923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Счастлив тот, кто счастлив у себя дома.»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Л. Н. Толсто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79280" y="85716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b0d6f"/>
                </a:solidFill>
                <a:latin typeface="Arial"/>
              </a:rPr>
              <a:t>Зачем человеку семья?</a:t>
            </a:r>
            <a:endParaRPr b="0" lang="en-US" sz="9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237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76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99"/>
                </a:solidFill>
                <a:latin typeface="Arial"/>
              </a:rPr>
              <a:t>Род – это люди, </a:t>
            </a:r>
            <a:endParaRPr b="0" lang="en-US" sz="7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99"/>
                </a:solidFill>
                <a:latin typeface="Arial"/>
              </a:rPr>
              <a:t>которые считают себя </a:t>
            </a:r>
            <a:endParaRPr b="0" lang="en-US" sz="7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99"/>
                </a:solidFill>
                <a:latin typeface="Arial"/>
              </a:rPr>
              <a:t>потомками общего предка</a:t>
            </a:r>
            <a:endParaRPr b="0" lang="en-US" sz="7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3760" y="65160"/>
            <a:ext cx="9096480" cy="6819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5240" y="49320"/>
            <a:ext cx="4618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b10"/>
                </a:solidFill>
                <a:latin typeface="Arial"/>
              </a:rPr>
              <a:t>Семья – это союз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b10"/>
                </a:solidFill>
                <a:latin typeface="Arial"/>
              </a:rPr>
              <a:t>близких родственников,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b10"/>
                </a:solidFill>
                <a:latin typeface="Arial"/>
              </a:rPr>
              <a:t>которые живут вместе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b10"/>
                </a:solidFill>
                <a:latin typeface="Arial"/>
              </a:rPr>
              <a:t>дарят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b10"/>
                </a:solidFill>
                <a:latin typeface="Arial"/>
              </a:rPr>
              <a:t>друг другу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b10"/>
                </a:solidFill>
                <a:latin typeface="Arial"/>
              </a:rPr>
              <a:t>свою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b10"/>
                </a:solidFill>
                <a:latin typeface="Arial"/>
              </a:rPr>
              <a:t>любовь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b10"/>
                </a:solidFill>
                <a:latin typeface="Arial"/>
              </a:rPr>
              <a:t>и заботу.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50920" y="189000"/>
            <a:ext cx="3529080" cy="718920"/>
          </a:xfrm>
          <a:custGeom>
            <a:avLst/>
            <a:gdLst>
              <a:gd name="textAreaLeft" fmla="*/ 0 w 3529080"/>
              <a:gd name="textAreaRight" fmla="*/ 3529440 w 3529080"/>
              <a:gd name="textAreaTop" fmla="*/ 93240 h 718920"/>
              <a:gd name="textAreaBottom" fmla="*/ 6260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Прабабушка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981000"/>
            <a:ext cx="3529080" cy="908280"/>
          </a:xfrm>
          <a:custGeom>
            <a:avLst/>
            <a:gdLst>
              <a:gd name="textAreaLeft" fmla="*/ 0 w 3529080"/>
              <a:gd name="textAreaRight" fmla="*/ 3529440 w 3529080"/>
              <a:gd name="textAreaTop" fmla="*/ 117720 h 908280"/>
              <a:gd name="textAreaBottom" fmla="*/ 790560 h 908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Прадедушк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1773360"/>
            <a:ext cx="3529080" cy="907920"/>
          </a:xfrm>
          <a:custGeom>
            <a:avLst/>
            <a:gdLst>
              <a:gd name="textAreaLeft" fmla="*/ 0 w 3529080"/>
              <a:gd name="textAreaRight" fmla="*/ 3529440 w 3529080"/>
              <a:gd name="textAreaTop" fmla="*/ 117720 h 907920"/>
              <a:gd name="textAreaBottom" fmla="*/ 790200 h 907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Бабушк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2637000"/>
            <a:ext cx="3529080" cy="907920"/>
          </a:xfrm>
          <a:custGeom>
            <a:avLst/>
            <a:gdLst>
              <a:gd name="textAreaLeft" fmla="*/ 0 w 3529080"/>
              <a:gd name="textAreaRight" fmla="*/ 3529440 w 3529080"/>
              <a:gd name="textAreaTop" fmla="*/ 117720 h 907920"/>
              <a:gd name="textAreaBottom" fmla="*/ 790200 h 907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Дедушка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3429000"/>
            <a:ext cx="3529080" cy="907920"/>
          </a:xfrm>
          <a:custGeom>
            <a:avLst/>
            <a:gdLst>
              <a:gd name="textAreaLeft" fmla="*/ 0 w 3529080"/>
              <a:gd name="textAreaRight" fmla="*/ 3529440 w 3529080"/>
              <a:gd name="textAreaTop" fmla="*/ 117720 h 907920"/>
              <a:gd name="textAreaBottom" fmla="*/ 790200 h 907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Дяд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221000"/>
            <a:ext cx="3529080" cy="908280"/>
          </a:xfrm>
          <a:custGeom>
            <a:avLst/>
            <a:gdLst>
              <a:gd name="textAreaLeft" fmla="*/ 0 w 3529080"/>
              <a:gd name="textAreaRight" fmla="*/ 3529440 w 3529080"/>
              <a:gd name="textAreaTop" fmla="*/ 117720 h 908280"/>
              <a:gd name="textAreaBottom" fmla="*/ 790560 h 908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Тётя 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5084640"/>
            <a:ext cx="3529080" cy="908280"/>
          </a:xfrm>
          <a:custGeom>
            <a:avLst/>
            <a:gdLst>
              <a:gd name="textAreaLeft" fmla="*/ 0 w 3529080"/>
              <a:gd name="textAreaRight" fmla="*/ 3529440 w 3529080"/>
              <a:gd name="textAreaTop" fmla="*/ 117720 h 908280"/>
              <a:gd name="textAreaBottom" fmla="*/ 790560 h 908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Двоюродный бра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5950080"/>
            <a:ext cx="3529080" cy="718920"/>
          </a:xfrm>
          <a:custGeom>
            <a:avLst/>
            <a:gdLst>
              <a:gd name="textAreaLeft" fmla="*/ 0 w 3529080"/>
              <a:gd name="textAreaRight" fmla="*/ 3529440 w 3529080"/>
              <a:gd name="textAreaTop" fmla="*/ 93240 h 718920"/>
              <a:gd name="textAreaBottom" fmla="*/ 6260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Двоюродная сестр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64000" y="189000"/>
            <a:ext cx="3529080" cy="718920"/>
          </a:xfrm>
          <a:custGeom>
            <a:avLst/>
            <a:gdLst>
              <a:gd name="textAreaLeft" fmla="*/ 0 w 3529080"/>
              <a:gd name="textAreaRight" fmla="*/ 3529440 w 3529080"/>
              <a:gd name="textAreaTop" fmla="*/ 93240 h 718920"/>
              <a:gd name="textAreaBottom" fmla="*/ 6260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Мама твоего дедушки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64000" y="1052640"/>
            <a:ext cx="3529080" cy="718920"/>
          </a:xfrm>
          <a:custGeom>
            <a:avLst/>
            <a:gdLst>
              <a:gd name="textAreaLeft" fmla="*/ 0 w 3529080"/>
              <a:gd name="textAreaRight" fmla="*/ 3529440 w 3529080"/>
              <a:gd name="textAreaTop" fmla="*/ 93240 h 718920"/>
              <a:gd name="textAreaBottom" fmla="*/ 6260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Дедушка твоего отца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4000" y="1844640"/>
            <a:ext cx="3529080" cy="719280"/>
          </a:xfrm>
          <a:custGeom>
            <a:avLst/>
            <a:gdLst>
              <a:gd name="textAreaLeft" fmla="*/ 0 w 3529080"/>
              <a:gd name="textAreaRight" fmla="*/ 3529440 w 3529080"/>
              <a:gd name="textAreaTop" fmla="*/ 93240 h 719280"/>
              <a:gd name="textAreaBottom" fmla="*/ 6260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Мама твоей мамы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64000" y="2637000"/>
            <a:ext cx="3529080" cy="718920"/>
          </a:xfrm>
          <a:custGeom>
            <a:avLst/>
            <a:gdLst>
              <a:gd name="textAreaLeft" fmla="*/ 0 w 3529080"/>
              <a:gd name="textAreaRight" fmla="*/ 3529440 w 3529080"/>
              <a:gd name="textAreaTop" fmla="*/ 93240 h 718920"/>
              <a:gd name="textAreaBottom" fmla="*/ 6260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Мамин папа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64000" y="3500280"/>
            <a:ext cx="3529080" cy="719280"/>
          </a:xfrm>
          <a:custGeom>
            <a:avLst/>
            <a:gdLst>
              <a:gd name="textAreaLeft" fmla="*/ 0 w 3529080"/>
              <a:gd name="textAreaRight" fmla="*/ 3529440 w 3529080"/>
              <a:gd name="textAreaTop" fmla="*/ 93240 h 719280"/>
              <a:gd name="textAreaBottom" fmla="*/ 6260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Папин брат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64000" y="4292640"/>
            <a:ext cx="3529080" cy="718920"/>
          </a:xfrm>
          <a:custGeom>
            <a:avLst/>
            <a:gdLst>
              <a:gd name="textAreaLeft" fmla="*/ 0 w 3529080"/>
              <a:gd name="textAreaRight" fmla="*/ 3529440 w 3529080"/>
              <a:gd name="textAreaTop" fmla="*/ 93240 h 718920"/>
              <a:gd name="textAreaBottom" fmla="*/ 6260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Мамина сестра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35640" y="5084640"/>
            <a:ext cx="3529080" cy="719280"/>
          </a:xfrm>
          <a:custGeom>
            <a:avLst/>
            <a:gdLst>
              <a:gd name="textAreaLeft" fmla="*/ 0 w 3529080"/>
              <a:gd name="textAreaRight" fmla="*/ 3529440 w 3529080"/>
              <a:gd name="textAreaTop" fmla="*/ 93240 h 719280"/>
              <a:gd name="textAreaBottom" fmla="*/ 6260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Сын твоей тёти</a:t>
            </a: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5950080"/>
            <a:ext cx="3529080" cy="718920"/>
          </a:xfrm>
          <a:custGeom>
            <a:avLst/>
            <a:gdLst>
              <a:gd name="textAreaLeft" fmla="*/ 0 w 3529080"/>
              <a:gd name="textAreaRight" fmla="*/ 3529440 w 3529080"/>
              <a:gd name="textAreaTop" fmla="*/ 93240 h 718920"/>
              <a:gd name="textAreaBottom" fmla="*/ 6260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Дочь твоего дяди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95640" y="476280"/>
            <a:ext cx="1152720" cy="28872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95640" y="1341360"/>
            <a:ext cx="1152720" cy="28908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95640" y="2133720"/>
            <a:ext cx="1152720" cy="28872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2924280"/>
            <a:ext cx="1152720" cy="28872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95640" y="3645000"/>
            <a:ext cx="1152720" cy="28872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4437000"/>
            <a:ext cx="1152360" cy="289080"/>
          </a:xfrm>
          <a:custGeom>
            <a:avLst/>
            <a:gdLst>
              <a:gd name="textAreaLeft" fmla="*/ 144000 w 1152360"/>
              <a:gd name="textAreaRight" fmla="*/ 1008360 w 115236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95640" y="5373720"/>
            <a:ext cx="1152720" cy="28872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95640" y="6165720"/>
            <a:ext cx="1152720" cy="28908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14720" y="33480"/>
            <a:ext cx="47145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16:25:16Z</dcterms:created>
  <dc:creator>Loner-XP</dc:creator>
  <dc:description/>
  <dc:language>en-US</dc:language>
  <cp:lastModifiedBy>User</cp:lastModifiedBy>
  <dcterms:modified xsi:type="dcterms:W3CDTF">2012-08-08T14:41:53Z</dcterms:modified>
  <cp:revision>41</cp:revision>
  <dc:subject/>
  <dc:title>Слайд 1</dc:title>
</cp:coreProperties>
</file>