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5F93D-AA18-473C-8BC8-0D813E499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2CC34-8362-4EC7-B6AF-DB59311CF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6DBA7-19E8-4A05-AAF4-BDD978954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EE2F1-5D71-49BC-8E48-3658EEE81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3C3B2-6D06-4BFC-ADE9-02D011B32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B8A7C-1724-4C4D-BDF1-22C2A4482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2C0AC-D3AB-409D-B167-14D25F90E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CC3D1-136B-4195-8320-B9F112B8A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2EE4E-45EE-4571-8E88-571F3DA32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B240D-284F-467F-9B2A-C2B3067E0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A2185-C346-43A7-BC15-6798BCF4F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8C545-A320-4018-AA1F-7B0E9D62B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C437B-6BBF-42C9-AC84-EE0C66C111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19280" y="2708280"/>
            <a:ext cx="60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00"/>
                </a:solidFill>
                <a:latin typeface="Arial"/>
              </a:rPr>
              <a:t>Мы идём в ле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2916360" y="1341360"/>
            <a:ext cx="2692440" cy="383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>
            <a:lum contrast="28000"/>
          </a:blip>
          <a:stretch/>
        </p:blipFill>
        <p:spPr>
          <a:xfrm>
            <a:off x="3348000" y="981000"/>
            <a:ext cx="2570040" cy="36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133800" y="2347920"/>
            <a:ext cx="347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Спасибо за вним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>
            <a:lum contrast="32000"/>
          </a:blip>
          <a:stretch/>
        </p:blipFill>
        <p:spPr>
          <a:xfrm>
            <a:off x="3419640" y="836640"/>
            <a:ext cx="2655720" cy="380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2987640" y="981000"/>
            <a:ext cx="2584440" cy="367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348000" y="1484280"/>
            <a:ext cx="2508120" cy="36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3059280" y="1052640"/>
            <a:ext cx="2558880" cy="37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2771640" y="1413000"/>
            <a:ext cx="2551320" cy="36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>
            <a:lum contrast="28000"/>
          </a:blip>
          <a:stretch/>
        </p:blipFill>
        <p:spPr>
          <a:xfrm>
            <a:off x="2771640" y="765000"/>
            <a:ext cx="2656080" cy="381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2124000" y="1125360"/>
            <a:ext cx="4048200" cy="374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3348000" y="1052640"/>
            <a:ext cx="2658960" cy="38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8T16:14:45Z</dcterms:created>
  <dc:creator>Марина</dc:creator>
  <dc:description/>
  <dc:language>en-US</dc:language>
  <cp:lastModifiedBy>Марина</cp:lastModifiedBy>
  <dcterms:modified xsi:type="dcterms:W3CDTF">2012-10-08T16:31:32Z</dcterms:modified>
  <cp:revision>9</cp:revision>
  <dc:subject/>
  <dc:title>Слайд 1</dc:title>
</cp:coreProperties>
</file>