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A95-0A15-4C47-95B8-5A4D3054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0D7-2131-4464-974E-F6F636CD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D24-EB82-470B-B18B-95DD66BA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C67-2DB9-4F9A-8608-408F547A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94A-4800-45C3-872E-FE54D49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F59-BD8D-4915-B515-05A2C37F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862-2BAB-44EE-B41C-27834E3C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969-0CF8-40F2-8AAB-CA35A761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FD-03D6-4134-8EEB-523DAD5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F25-C61C-4D4F-B28E-3897583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FEA-5165-48D1-9FED-110087A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D8A-6E54-4103-84C6-69A1162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947-AC94-439B-8C06-E6D5C14D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70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Мы идём в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16360" y="1341360"/>
            <a:ext cx="269244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3348000" y="981000"/>
            <a:ext cx="25700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33800" y="23479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32000"/>
          </a:blip>
          <a:stretch/>
        </p:blipFill>
        <p:spPr>
          <a:xfrm>
            <a:off x="3419640" y="836640"/>
            <a:ext cx="2655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87640" y="981000"/>
            <a:ext cx="25844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5081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1052640"/>
            <a:ext cx="2558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71640" y="1413000"/>
            <a:ext cx="25513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2771640" y="765000"/>
            <a:ext cx="2656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24000" y="1125360"/>
            <a:ext cx="40482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348000" y="1052640"/>
            <a:ext cx="26589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6:14:45Z</dcterms:created>
  <dc:creator>Марина</dc:creator>
  <dc:description/>
  <dc:language>en-US</dc:language>
  <cp:lastModifiedBy>Марина</cp:lastModifiedBy>
  <dcterms:modified xsi:type="dcterms:W3CDTF">2012-10-08T16:31:32Z</dcterms:modified>
  <cp:revision>9</cp:revision>
  <dc:subject/>
  <dc:title>Слайд 1</dc:title>
</cp:coreProperties>
</file>