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C1510-9761-45E7-9873-B2B0D16BB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8E439-2FA1-4541-9ADC-888770E03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AB6AC-390A-41F4-BABB-C312625FF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A6DDD-4E11-42C2-9C89-7967AC78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7336-AA87-4F9A-9014-95B23B63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BE55-EDB0-48B7-A440-8131D1631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B23DB-B908-43BC-A51E-B83F9298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8221-DB7A-408C-A8B6-22A6E26A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1C39-8506-4F1D-A810-8F615FCF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62C1-2658-48B3-928A-436BD259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548E-8EF1-4EB8-85EC-0CA91568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02EC8-9803-4B4C-9D3A-78A5BDEC4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2DE7-DE53-4B31-9428-1EE123CE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7FE9-A1D1-46BC-904F-77892DD8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8500-AAF0-4A11-AB7E-B2BC77CD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DA53F-0358-483B-8EA3-14474993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A1FF-1C05-4ADE-87A3-8ACFEA1EE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0A6FF-37D5-40C9-BA13-41860E5E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9E682-2D3C-42DD-B959-1BC431A02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5E19-067D-457B-8DA4-62A4D13C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14694-CB7D-402D-B176-5D3A0F133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4F540-02AD-46AD-BA97-29207E91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4B9D2-4874-4F63-B6AE-A29E3604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BC4E7-8524-400C-91EF-733326A5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EF4B-F01D-4FED-9D58-5F28012BAA5E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4ABE-65EF-42EC-9506-108789976C1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cc"/>
                </a:solidFill>
                <a:latin typeface="Tahoma"/>
              </a:rPr>
              <a:t>Презентация опыта работы</a:t>
            </a:r>
            <a:br>
              <a:rPr sz="6900"/>
            </a:br>
            <a:r>
              <a:rPr b="0" lang="en-US" sz="6900" spc="-1" strike="noStrike">
                <a:solidFill>
                  <a:srgbClr val="ffffcc"/>
                </a:solidFill>
                <a:latin typeface="Tahoma"/>
              </a:rPr>
              <a:t>часть 1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Уроки с использованием игровых технолог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Урок-ролевая игра (Суд над героем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Урок-викторина («В стране невыученных уроков», «По дорогам сказок»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Урок-инсценировка («Эта новая старая басня», «Чему смеетесь? Над собой смеетесь!», «Я искала любви и не нашла»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нтегрированный урок (Блокада: герои или жертвы? Патриотизм: знак вопроса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Инсценирование литературных сказок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5" descr="SN859133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SN859149"/>
          <p:cNvPicPr/>
          <p:nvPr/>
        </p:nvPicPr>
        <p:blipFill>
          <a:blip r:embed="rId1"/>
          <a:stretch/>
        </p:blipFill>
        <p:spPr>
          <a:xfrm>
            <a:off x="2514600" y="380880"/>
            <a:ext cx="4602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Урок-концер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Rectangle 25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38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Объект 3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597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Объект 3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612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астерские пись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колько страничек из дневника Маши Троекур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о к матери (по рассказу Л.Н.Толстого «Кавказский пленник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тцы и дети» в письмах (переписка Аркадия и Николая Петрович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ные пародии (стилизация под различные литературные направления «Сказки о сереньком козлике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Смирнова Маргарита Анатольевна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Учитель высшей категории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20 лет педагогического стажа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11" descr="x_c10c1ae1[1]"/>
          <p:cNvPicPr/>
          <p:nvPr/>
        </p:nvPicPr>
        <p:blipFill>
          <a:blip r:embed="rId1"/>
          <a:stretch/>
        </p:blipFill>
        <p:spPr>
          <a:xfrm>
            <a:off x="1676520" y="22860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Собранье пестрых глав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Путь к ученику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Глава 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ворческая лич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должны жить в мире красоты,игры,сказки,твор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Сухомл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ие тенденции мирового развития обуславливают необходимость существенных изменений в системе образования: нужно формировать творческую личность, обладающую современным мышлением, коммуникабельностью, толерантн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концепции модернизации российского 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етодическая 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творческих способностей учащихся через игровые технологии и элементы театрального искус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9907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армоничное развитие ребёнка, раскрытие его потенциальных талантов и создание условий для духовного, умственного совершенств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36576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ущая педагогическая идея опы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иапазон опы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47920" y="1904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апазон опыта распространяется на педагогическую систему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рок литератур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еурочная работа по литератур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стоятельная деятельность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аправления реализации опы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пользование игровых технологий, технологий критического мышления, мастерских строения знаний и пись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театрализованных прое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лава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то наша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гр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ия Германна «Пиковая дам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2-09-25T10:46:5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