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80A90-ECB0-4A50-88A1-A229E85F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10A8E-2B86-4D1C-B183-8B129011E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8D060-03C3-4665-9121-2642BAE77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7F3A-83F1-4235-96B2-F96B538D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8075-6260-44D5-8978-3BEE56B32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241C-8535-4119-B01C-03A264DD1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781CB-468C-4970-B5D3-DC338441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711D-5A78-4599-BC6D-B96524108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C3D2-FB21-48A0-81BE-EF37720C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1E2AE-0597-419B-BE64-8AFC221C1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B62D3-6DB8-4FAF-991D-BE6F3DD0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DE276-5F01-4079-B7F0-ABAA4D6B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076B-8B64-4E25-8A30-D7A1CB8B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2884F-85CA-4E1F-9AEB-B660F0D6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6FD8-48BA-44E2-BCBE-890C31B5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4FB7-7FCC-4011-BD12-2F646B2DA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D63AC-A54F-409C-B9D8-EECC05979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18EF6-0750-4F4B-B056-2AA155A6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29421-0D19-4B62-936E-C2BBC6E5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1D9D5-FA5B-45DE-8005-8B5B2E01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BED97-C57B-4137-9CB8-12AC5A1D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D1A6B-EFA9-4CCC-9982-59284A1B1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F0B2A-1C93-4BD0-B96B-D11AB460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7C109-FCE3-4C70-972F-1D270B46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B14E-6EAE-44AE-9FC5-0C2245C08899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91E4-ED88-4199-9CBD-A69FFE8BE9D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cc"/>
                </a:solidFill>
                <a:latin typeface="Tahoma"/>
              </a:rPr>
              <a:t>Презентация опыта работы</a:t>
            </a:r>
            <a:br>
              <a:rPr sz="6900"/>
            </a:br>
            <a:r>
              <a:rPr b="0" lang="en-US" sz="6900" spc="-1" strike="noStrike">
                <a:solidFill>
                  <a:srgbClr val="ffffcc"/>
                </a:solidFill>
                <a:latin typeface="Tahoma"/>
              </a:rPr>
              <a:t>часть 1</a:t>
            </a:r>
            <a:endParaRPr b="0" lang="en-US" sz="69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Уроки с использованием игровых технологий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Урок-ролевая игра (Суд над героем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Урок-викторина («В стране невыученных уроков», «По дорогам сказок»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Урок-инсценировка («Эта новая старая басня», «Чему смеетесь? Над собой смеетесь!», «Я искала любви и не нашла»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Tahoma"/>
              </a:rPr>
              <a:t>Интегрированный урок (Блокада: герои или жертвы? Патриотизм: знак вопроса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cc"/>
                </a:solidFill>
                <a:latin typeface="Tahoma"/>
              </a:rPr>
              <a:t>Инсценирование литературных сказок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8" name="Picture 5" descr="SN859133"/>
          <p:cNvPicPr/>
          <p:nvPr/>
        </p:nvPicPr>
        <p:blipFill>
          <a:blip r:embed="rId1"/>
          <a:stretch/>
        </p:blipFill>
        <p:spPr>
          <a:xfrm>
            <a:off x="838080" y="1600200"/>
            <a:ext cx="77724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SN859149"/>
          <p:cNvPicPr/>
          <p:nvPr/>
        </p:nvPicPr>
        <p:blipFill>
          <a:blip r:embed="rId1"/>
          <a:stretch/>
        </p:blipFill>
        <p:spPr>
          <a:xfrm>
            <a:off x="2514600" y="380880"/>
            <a:ext cx="4602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Урок-концерт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1" name="Rectangle 25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60386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3" name="Объект 3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25976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55" name="Объект 3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3612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астерские пись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есколько страничек из дневника Маши Троекуров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сьмо к матери (по рассказу Л.Н.Толстого «Кавказский пленник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«Отцы и дети» в письмах (переписка Аркадия и Николая Петрович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Литературные пародии (стилизация под различные литературные направления «Сказки о сереньком козлике»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844560" y="633240"/>
            <a:ext cx="745488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844560" y="633240"/>
            <a:ext cx="7454880" cy="559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Смирнова Маргарита Анатольевна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Учитель высшей категории</a:t>
            </a:r>
            <a:br>
              <a:rPr sz="3000"/>
            </a:br>
            <a:r>
              <a:rPr b="0" lang="en-US" sz="3000" spc="-1" strike="noStrike">
                <a:solidFill>
                  <a:srgbClr val="ffffcc"/>
                </a:solidFill>
                <a:latin typeface="Tahoma"/>
              </a:rPr>
              <a:t>20 лет педагогического стажа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8" name="Picture 11" descr="x_c10c1ae1[1]"/>
          <p:cNvPicPr/>
          <p:nvPr/>
        </p:nvPicPr>
        <p:blipFill>
          <a:blip r:embed="rId1"/>
          <a:stretch/>
        </p:blipFill>
        <p:spPr>
          <a:xfrm>
            <a:off x="1676520" y="228600"/>
            <a:ext cx="575316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Собранье пестрых глав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Путь к ученику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Глава </a:t>
            </a: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42640" y="2209320"/>
            <a:ext cx="71629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Творческая личност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ети должны жить в мире красоты,игры,сказки,творче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.Сухомлински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бщие тенденции мирового развития обуславливают необходимость существенных изменений в системе образования: нужно формировать творческую личность, обладающую современным мышлением, коммуникабельностью, толерантностью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Из концепции модернизации российского образова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Методическая тем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звитие творческих способностей учащихся через игровые технологии и элементы театрального искусст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9907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Гармоничное развитие ребёнка, раскрытие его потенциальных талантов и создание условий для духовного, умственного совершенствов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1219320" y="3657600"/>
            <a:ext cx="662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ahoma"/>
              </a:rPr>
              <a:t>Ведущая педагогическая идея опы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Диапазон опыт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47920" y="1904760"/>
            <a:ext cx="64008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Диапазон опыта распространяется на педагогическую систему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рок литературы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неурочная работа по литературе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амостоятельная деятельность учащих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Направления реализации опыта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спользование игровых технологий, технологий критического мышления, мастерских строения знаний и письм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оздание театрализованных проект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cc"/>
                </a:solidFill>
                <a:latin typeface="Tahoma"/>
              </a:rPr>
              <a:t>Глава 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II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Что наша жизнь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Игра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рия Германна «Пиковая дама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acher</cp:lastModifiedBy>
  <dcterms:modified xsi:type="dcterms:W3CDTF">2012-09-25T10:46:55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