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0509-4C79-4321-888E-22337FCB6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63AB-8F52-4DC6-BD0E-46B56C83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67C9-8393-47C8-AB23-2FC58530E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3AAF-7154-4726-B7B1-0E4C72779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2478-CBEC-4D13-B9B2-B231DF8B3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3A6F-1F4C-4C90-A065-9ED1EFBB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913AC-5DFD-46C7-B241-1E45FD7B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B821-66F2-439F-B0A8-45C1DCE6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E9ED-BF49-4F96-B884-321C9DE3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363D-EAAB-44E1-837F-9DFF2B07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812F-DD26-43BA-9B19-1839735E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3AB7-6496-41A6-ACE5-FEB157A1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C27C-DD6D-4F97-ADFC-C2817C5D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0FF4-57F3-432C-B2B0-76C22ACC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87D7-FC0F-4BA7-88F5-13B6EA3A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9507-0056-49B0-8A62-06A92D561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4B96-51FE-48ED-BB35-7FFDC31C0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7646-131C-4CA2-B8F4-A7C8FDF2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5FF9-9712-4443-9FF6-80F3287D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D2DA-4785-426A-B351-D3DD08E3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92B5-E80E-422B-BE46-0330896E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64B9-3AF4-417A-A272-52F1D5DE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BA6D-B4E5-409E-A7D9-634D2CB1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EFA0-F6AE-4CA6-80E3-46C15A23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1D9E-302C-4C79-9004-6CD82F0B46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6683-ADEF-41B3-B5C5-ECAF99FB20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http://president2012.ru/kandidatyi/zjuganov.html" TargetMode="External"/><Relationship Id="rId5" Type="http://schemas.openxmlformats.org/officeDocument/2006/relationships/image" Target="../media/image7.jpeg"/><Relationship Id="rId6" Type="http://schemas.openxmlformats.org/officeDocument/2006/relationships/hyperlink" Target="http://president2012.ru/kandidatyi/putin.html" TargetMode="External"/><Relationship Id="rId7" Type="http://schemas.openxmlformats.org/officeDocument/2006/relationships/image" Target="../media/image8.jpeg"/><Relationship Id="rId8" Type="http://schemas.openxmlformats.org/officeDocument/2006/relationships/hyperlink" Target="http://president2012.ru/kandidatyi/zhirinovskiy.html" TargetMode="External"/><Relationship Id="rId9" Type="http://schemas.openxmlformats.org/officeDocument/2006/relationships/image" Target="../media/image9.jpeg"/><Relationship Id="rId10" Type="http://schemas.openxmlformats.org/officeDocument/2006/relationships/hyperlink" Target="http://president2012.ru/kandidatyi/mironov.html" TargetMode="External"/><Relationship Id="rId1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7886520" cy="4927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371600" y="457200"/>
            <a:ext cx="67057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cc00"/>
                </a:solidFill>
                <a:latin typeface="Arial Black"/>
              </a:rPr>
              <a:t>4</a:t>
            </a:r>
            <a:r>
              <a:rPr b="1" lang="en-US" sz="6500" spc="-1" strike="noStrike">
                <a:solidFill>
                  <a:srgbClr val="3366ff"/>
                </a:solidFill>
                <a:latin typeface="Arial Black"/>
              </a:rPr>
              <a:t>  </a:t>
            </a:r>
            <a:r>
              <a:rPr b="1" lang="en-US" sz="6500" spc="-1" strike="noStrike">
                <a:solidFill>
                  <a:srgbClr val="ffcc00"/>
                </a:solidFill>
                <a:latin typeface="Arial Black"/>
              </a:rPr>
              <a:t>марта</a:t>
            </a: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Неоднократными </a:t>
            </a:r>
            <a:r>
              <a:rPr b="0" lang="ru-RU" sz="3200" spc="-1" strike="noStrike">
                <a:solidFill>
                  <a:srgbClr val="ff5050"/>
                </a:solidFill>
                <a:latin typeface="Tahoma"/>
              </a:rPr>
              <a:t>призерами и победителями школьных олимпиад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 являются следуюшие учащиеся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 класс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оров Егор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колова Мар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 класс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аснова  Екатерина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каров Иван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ссказова Анастас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7 класс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огинова Екатерин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атрикеев Денис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душкина Ольг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8 класс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линина Екатерин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ишкова Виктор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етлов Кирилл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анцова Анастас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9 класс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тапова Ю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устов Владимир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юмова Зари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Tahoma"/>
              </a:rPr>
              <a:t>Призеры  районных олимпиад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Смирнов Алексей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3 место по биологии ( 2010 г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Тишкова Виктор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 место по физике (2011 г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Tahoma"/>
              </a:rPr>
              <a:t>Результаты ЕГЭ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009-2010 уч. г   2010- 2011уч 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усский язык       51                        57,6 (наиб.72)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тематика        39,5                      40,3 (наиб. 5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Tahoma"/>
              </a:rPr>
              <a:t>Результаты ГИ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009-2010 уч. г   2010- 2011уч г.   По район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Русский язык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3,6                4,1         3,9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чество           50%             87,5%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тематик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3,6               3,9          3,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чество             50%             75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Tahoma"/>
              </a:rPr>
              <a:t>В школе работают кружк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еселый этикет     2 клас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Физика рядом        9 клас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еселые нотки      2-5 клас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мпьютерная грамотность  5-9 клас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оя малая Родина   5-9 клас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Юный инспектор     5-6 клас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портивные игры    5-9 класс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43%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учащихся посещают школьные кружки и сек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Занятость в городских и сельских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учреждений дополнительного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бразования - 62 челове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(35%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оспитательная работ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Tahoma"/>
              </a:rPr>
              <a:t>Кадровый соста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сего работает:   18  учителей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административных работник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педагог-психоло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з них имеют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ысшую категорию  -  12 челове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ервую                      -  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торую                      -  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 высшим образованием  - 22 челове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5050"/>
                </a:solidFill>
                <a:latin typeface="Tahoma"/>
              </a:rPr>
              <a:t>Задачи школы на 2011-2012 гг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Повысить уровень качества обучения  и воспит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Сохранять и укреплять здоровье школьник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Обеспечение индивидуализированного психолого-педагогического сопровождения каждого учащегос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456840"/>
            <a:ext cx="83818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5050"/>
                </a:solidFill>
                <a:latin typeface="Tahoma"/>
              </a:rPr>
              <a:t>Затраты по смете расходов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050"/>
                </a:solidFill>
                <a:latin typeface="Tahoma"/>
              </a:rPr>
              <a:t>на </a:t>
            </a:r>
            <a:r>
              <a:rPr b="1" lang="en-US" sz="3600" spc="-1" strike="noStrike">
                <a:solidFill>
                  <a:srgbClr val="ff5050"/>
                </a:solidFill>
                <a:latin typeface="Tahoma"/>
              </a:rPr>
              <a:t>2012 </a:t>
            </a:r>
            <a:r>
              <a:rPr b="0" lang="en-US" sz="3600" spc="-1" strike="noStrike">
                <a:solidFill>
                  <a:srgbClr val="ff5050"/>
                </a:solidFill>
                <a:latin typeface="Tahoma"/>
              </a:rPr>
              <a:t>год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ff"/>
                </a:solidFill>
                <a:latin typeface="Tahoma"/>
              </a:rPr>
              <a:t>14 244 000 р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Расход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на одного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ученика в год в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нашей школе составляет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80 000 р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Tahoma"/>
              </a:rPr>
              <a:t>Задачи школы в 2011 году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 Введение ФГО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 Создание благоприятных условий обуч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 Формирование культуры здорового и безопасного образа жиз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04920" y="1787400"/>
            <a:ext cx="8686800" cy="4540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457200"/>
            <a:ext cx="84582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5050"/>
                </a:solidFill>
                <a:latin typeface="Arial"/>
              </a:rPr>
              <a:t>Сделай  свой  выбор!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Tahoma"/>
              </a:rPr>
              <a:t>Кандидаты в президен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</a:rPr>
              <a:t>Прохоров Михаил Дмитриеви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617400" cy="7491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228600" y="1371600"/>
            <a:ext cx="617400" cy="749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990720" y="251460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Arial"/>
                <a:hlinkClick r:id="rId4"/>
              </a:rPr>
              <a:t>Зюганов Геннадий Андрееви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228600" y="3200400"/>
            <a:ext cx="617400" cy="7491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990720" y="3404160"/>
            <a:ext cx="693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Arial"/>
                <a:hlinkClick r:id="rId6"/>
              </a:rPr>
              <a:t>Путин Владимир Владимирови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7"/>
          <a:stretch/>
        </p:blipFill>
        <p:spPr>
          <a:xfrm>
            <a:off x="228600" y="4114800"/>
            <a:ext cx="617400" cy="749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914400" y="4419000"/>
            <a:ext cx="7467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cff"/>
                </a:solidFill>
                <a:uFillTx/>
                <a:latin typeface="Arial"/>
                <a:hlinkClick r:id="rId8"/>
              </a:rPr>
              <a:t>Жириновский Владимир Вольфови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9"/>
          <a:stretch/>
        </p:blipFill>
        <p:spPr>
          <a:xfrm>
            <a:off x="228600" y="5181480"/>
            <a:ext cx="617400" cy="7495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990720" y="5333400"/>
            <a:ext cx="6781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Arial"/>
                <a:hlinkClick r:id="rId10"/>
              </a:rPr>
              <a:t>Миронов Сергей Михайлович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5050"/>
                </a:solidFill>
                <a:latin typeface="Tahoma"/>
              </a:rPr>
              <a:t>Задачи школы на 2011-2012 гг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Повысить уровень качества обучения  и воспит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Сохранять и укреплять здоровье школьник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Обеспечение индивидуализированного психолого-педагогического сопровождения каждого учащегос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Tahoma"/>
              </a:rPr>
              <a:t>Введение ФГОС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тверждена образовательная программа начального общего образов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шли курсы повышения квалификации 4 педагогических работни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работан комплекс мер по модернизации образования.(«Наша новая школа»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здана программа внеурочной работы на 4 года в начальной школ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5050"/>
                </a:solidFill>
                <a:latin typeface="Tahoma"/>
              </a:rPr>
              <a:t>Затраты школы  на 2011 год</a:t>
            </a: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1.Ремонт школы: 1 370 000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мена оконных рам - 350 т.р.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вещение - 200 т.р.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екущий ремонт - 340 т.р.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злы учета - 420 т.р.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становка вытяжных шкафов на кухне - 62 т.р.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становка электронагревателей - 8 т.р.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2.Содержание школьного автобуса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3366ff"/>
                </a:solidFill>
                <a:latin typeface="Tahoma"/>
              </a:rPr>
              <a:t>800 т.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3. Приобретение учебных пособий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ff"/>
                </a:solidFill>
                <a:latin typeface="Tahoma"/>
              </a:rPr>
              <a:t>81900 р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4. Приобретение технических средств обуче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1" i="1" lang="en-US" sz="2800" spc="-1" strike="noStrike">
                <a:solidFill>
                  <a:srgbClr val="3366ff"/>
                </a:solidFill>
                <a:latin typeface="Tahoma"/>
              </a:rPr>
              <a:t>55 т.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5. Питание школьников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1" i="1" lang="en-US" sz="2800" spc="-1" strike="noStrike">
                <a:solidFill>
                  <a:srgbClr val="3366ff"/>
                </a:solidFill>
                <a:latin typeface="Tahoma"/>
              </a:rPr>
              <a:t>350 т.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6. Школьный лагерь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ff"/>
                </a:solidFill>
                <a:latin typeface="Tahoma"/>
              </a:rPr>
              <a:t>                                </a:t>
            </a:r>
            <a:r>
              <a:rPr b="1" i="1" lang="en-US" sz="2800" spc="-1" strike="noStrike">
                <a:solidFill>
                  <a:srgbClr val="3366ff"/>
                </a:solidFill>
                <a:latin typeface="Tahoma"/>
              </a:rPr>
              <a:t>80 т. 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-11201400" y="-7696080"/>
            <a:ext cx="26822520" cy="20116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-378360" y="3047400"/>
            <a:ext cx="1043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Содержание школьного автобуса -  800 т.р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Tahoma"/>
              </a:rPr>
              <a:t>Питание школьник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Всего учащихся в 2012 году - </a:t>
            </a:r>
            <a:r>
              <a:rPr b="0" lang="en-US" sz="2300" spc="-1" strike="noStrike">
                <a:solidFill>
                  <a:srgbClr val="ff5050"/>
                </a:solidFill>
                <a:latin typeface="Tahoma"/>
              </a:rPr>
              <a:t>178 чел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 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b5481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2b5481"/>
                </a:solidFill>
                <a:latin typeface="Tahoma"/>
              </a:rPr>
              <a:t>Горячим питанием обеспечены (завтраки и обеды):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1 - 4 классы                   5 - 9 классы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ff5050"/>
                </a:solidFill>
                <a:latin typeface="Tahoma"/>
              </a:rPr>
              <a:t>81  (из 82)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300" spc="-1" strike="noStrike">
                <a:solidFill>
                  <a:srgbClr val="ff5050"/>
                </a:solidFill>
                <a:latin typeface="Tahoma"/>
              </a:rPr>
              <a:t>80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2b5481"/>
                </a:solidFill>
                <a:latin typeface="Tahoma"/>
              </a:rPr>
              <a:t>Бесплатно питаются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1 - 4 классы                   5 - 9 классы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завтраки            </a:t>
            </a:r>
            <a:r>
              <a:rPr b="0" lang="en-US" sz="2300" spc="-1" strike="noStrike">
                <a:solidFill>
                  <a:srgbClr val="ff5050"/>
                </a:solidFill>
                <a:latin typeface="Tahoma"/>
              </a:rPr>
              <a:t>24                                    28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обеды                </a:t>
            </a:r>
            <a:r>
              <a:rPr b="0" lang="en-US" sz="2300" spc="-1" strike="noStrike">
                <a:solidFill>
                  <a:srgbClr val="ff5050"/>
                </a:solidFill>
                <a:latin typeface="Tahoma"/>
              </a:rPr>
              <a:t>21                                     5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2b5481"/>
                </a:solidFill>
                <a:latin typeface="Tahoma"/>
              </a:rPr>
              <a:t>100% учащихся пользуются буфетной продукцией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Tahoma"/>
              </a:rPr>
              <a:t>Итоги успеваемости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09-2010 у. г 2010- 2011у.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Успеваемост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99%                10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Качество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37%                  39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Отличник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10                      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5331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ведено </a:t>
            </a:r>
            <a:r>
              <a:rPr b="0" lang="ru-RU" sz="3200" spc="-1" strike="noStrike">
                <a:solidFill>
                  <a:srgbClr val="ff5050"/>
                </a:solidFill>
                <a:latin typeface="Tahoma"/>
              </a:rPr>
              <a:t>школьных олимпиа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2011-2012 уч. году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5 по предметам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тематика, рус. язык, англ. язык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тература, информатика, физика, истор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ществознание, биология, географ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имия, ОБЖ, физическая культур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-е в начальной школ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дежда</cp:lastModifiedBy>
  <dcterms:modified xsi:type="dcterms:W3CDTF">2012-02-14T11:10:4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