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D90-E468-47A3-B007-39283A81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3E7-BA3A-4B95-8AEA-AA4E4A7F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9C3-C4DE-4898-883B-EA5C8F3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60B-FDAE-4DD0-B758-AEB5E815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BF9-B85F-48F1-A0D3-982E2E7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4FE-2BEF-4A26-8398-B517C6A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956-6C43-4915-AAB5-C12827BB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9ACA-28E8-431E-8CE6-01DFB0EF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DBB7-8BDD-45CA-94F5-AF25E9B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29B-E38F-4B02-8AE9-7FEA395B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B20-F866-4845-A24F-60327E6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F5C-D968-4891-B5AE-F76E5E9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ED13-CFA3-4BA6-96FB-DA1BED9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DA8C-9769-4125-9FF0-67EA0A9E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6EF9-2F11-455E-A53B-47E7F32F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B7C-C4E5-456E-B2EB-C082856B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2718-EE00-43C4-BD18-BEAE5B4A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3E8-02E2-4A1A-94BD-64582F2B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9C7-52AD-4B9A-8F11-0995304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3D3-CD0A-430D-8AA5-C89B78A4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ECB-E193-4584-853E-A70AC5D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60C-C078-4C68-A7D3-C711861B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0E5-536B-4D27-9378-E189C46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580-79A9-431B-974F-4569082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8258-6320-4741-9C03-ACDF70994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098-1A3C-4ECE-8547-A030E0E28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resident2012.ru/kandidatyi/zjuganov.html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president2012.ru/kandidatyi/putin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president2012.ru/kandidatyi/zhirinovskiy.html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president2012.ru/kandidatyi/mironov.html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886520" cy="492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457200"/>
            <a:ext cx="6705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en-US" sz="6500" spc="-1" strike="noStrike">
                <a:solidFill>
                  <a:srgbClr val="3366ff"/>
                </a:solidFill>
                <a:latin typeface="Arial Black"/>
              </a:rPr>
              <a:t>  </a:t>
            </a:r>
            <a:r>
              <a:rPr b="1" lang="en-US" sz="6500" spc="-1" strike="noStrike">
                <a:solidFill>
                  <a:srgbClr val="ffcc00"/>
                </a:solidFill>
                <a:latin typeface="Arial Black"/>
              </a:rPr>
              <a:t>марта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Неоднократными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призерами и победителями школьных олимпиад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являются следуюшие учащие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ров Его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олова Мар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ова  Екатерин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аров Ив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ова Анастас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инова Екатерин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трикеев Дени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душкина Оль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линина Екатерин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шкова Виктор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лов Кирилл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нцова Анастас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апова 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устов Владими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юмова Зар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Призеры  районных олимпиад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Смирнов Алекс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место по биологии ( 2010 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Тишкова Викто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место по физике (2011 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Результаты ЕГЭ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9-2010 уч. г   2010- 2011уч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й язык       51                        57,6 (наиб.72)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ка        39,5                      40,3 (наиб. 5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Результаты Г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9-2010 уч. г   2010- 2011уч г.   По райо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усский язы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3,6                4,1         3,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о           50%             87,5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темат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3,6               3,9          3,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о             50%             7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В школе работают круж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елый этикет     2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ка рядом        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елые нотки      2-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ьютерная грамотность  5-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я малая Родина   5-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Юный инспектор     5-6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ортивные игры    5-9 клас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43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чащихся посещают школьные кружки и с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нятость в городских и сельски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чреждений дополнитель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разования - 62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35%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спита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Кадровый соста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го работает:   18  учител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административных работн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педагог-психоло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них имею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шую категорию  -  12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ую                      -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ую                      -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высшим образованием  - 22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ahoma"/>
              </a:rPr>
              <a:t>Задачи школы на 2011-2012 г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высить уровень качества обучения  и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охранять и укреплять здоровье шк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Обеспечение индивидуализированного психолого-педагогического сопровождения каждого учащего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Затраты по смете расходо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на </a:t>
            </a: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2012 </a:t>
            </a: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год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ahoma"/>
              </a:rPr>
              <a:t>14 244 000 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сход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на одного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ученика в год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шей школе составляе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80 000 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Задачи школы в 2011 год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Введение ФГ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Создание благоприятных условий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Формирование культуры здорового и безопасного образа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787400"/>
            <a:ext cx="8686800" cy="4540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458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5050"/>
                </a:solidFill>
                <a:latin typeface="Arial"/>
              </a:rPr>
              <a:t>Сделай  свой  выбор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Кандидаты в презид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Прохоров Михаил Дмитри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617400" cy="74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2514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Зюганов Геннади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340416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Путин Владимир Владимир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228600" y="41148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44190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Жириновский Владимир Вольфови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228600" y="5181480"/>
            <a:ext cx="617400" cy="749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0720" y="533340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Миронов Сергей Михайлови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ahoma"/>
              </a:rPr>
              <a:t>Задачи школы на 2011-2012 г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высить уровень качества обучения  и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охранять и укреплять здоровье шк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Обеспечение индивидуализированного психолого-педагогического сопровождения каждого учащего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Введение ФГ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верждена образовательная программа 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шли курсы повышения квалификации 4 педагогических работ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н комплекс мер по модернизации образования.(«Наша новая школа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а программа внеурочной работы на 4 года в начальной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Затраты школы  на 2011 год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.Ремонт школы: 1 370 000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на оконных рам - 35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ение - 20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ий ремонт - 34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лы учета - 42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ка вытяжных шкафов на кухне - 62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ка электронагревателей - 8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.Содержание школьного автобус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00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3. Приобретение учебных пособий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1900 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4. Приобретение технических средств обуч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55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5. Питание школьнико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350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6. Школьный лагерь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0 т. 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1201400" y="-7696080"/>
            <a:ext cx="26822520" cy="2011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378360" y="3047400"/>
            <a:ext cx="104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одержание школьного автобуса -  800 т.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Питание школьни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сего учащихся в 2012 году -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178 чел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Горячим питанием обеспечены (завтраки и обеды)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1 - 4 классы                   5 - 9 класс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81  (из 82)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8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Бесплатно питаются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1 - 4 классы                   5 - 9 класс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завтраки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24                                    28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обеды    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21                                     5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100% учащихся пользуются буфетной продукцией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Итоги успеваемост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9-2010 у. г 2010- 2011у.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спеваем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99%               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ачеств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37%                  3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Отличн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10                 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дено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школьных олимпи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011-2012 уч. год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 по предмета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ка, рус. язык, англ. язы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, информатика, физика, исто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ествознание, биология, географ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я, ОБЖ, физическая культур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-е в начальной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02-14T11:1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