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426-F86E-4BC9-8010-CA4A8DAC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474-CFB8-4571-B565-F91EC38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0DAC7-73BC-4296-B3E3-679439C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AB357-93F3-4ACB-A83D-EB3568CE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0BCCE-BB0C-487E-ACC4-46DFEC2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E5167-DA1F-44BC-8051-6BEB904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14F11-EA10-43A6-843E-B46133F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8240B-9157-404E-8E2C-37D6191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4C9D0-1018-4A93-BA7B-6C593FD1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D211E-DD7B-4198-8045-DD80B5F8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CC161-62F6-4FBE-9B14-75A6B97E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8353C-63AF-46F1-9523-663EF81C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3E9-0B45-47DA-99C0-281B831C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CACE7-852E-4FF5-9012-A2B6A63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EA77AC-D824-4D2E-917F-E3C88DB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AE977C-45C4-407B-8354-00A23A0F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3B659-24EE-4FC9-9AF9-9B0CBF9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73CE97-6BA9-4235-B354-D10CB7C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CE76A3-0193-438D-8D9E-083ED1CD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6DA50-6057-4BD4-AFD5-3F23642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75B03-4B99-450A-AAEB-D46B6A5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10028-1A65-4998-A74C-00E0CC67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F6125-B56B-44B7-88B5-D0BB3732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872-B66F-426C-8B3A-BDC40418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D410D-E5D7-41B4-9AC6-6DB31CFF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D25513-53D6-4986-966F-8210151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97479D-1C03-4D44-A86F-CC5F2FBD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5A7B74-729F-4321-9DEE-3F1D64BA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033F0-AF80-48DC-A607-E82A6E7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78937-4B0E-4EAE-8CAC-FE7F5B5A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A132CE-6617-49C3-8E0A-DC3D556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362F65-E8C4-4D04-A00D-2EBB560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E249E-07C9-42CA-8A35-0A27A05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C4E45-FD48-470E-B9B0-D3C704A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D28-F8F4-4CA1-9793-D50C54EE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7987D8-7844-4C34-A5E5-13DBCDC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71E5AA-1DF4-4CD9-ACF6-A5FF3CB7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4E8D12-2DB5-4EAA-B0E9-3EE8D78F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89F5C3-EBA5-49A8-B8F6-92C28129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2E2A7A-ECA9-4504-A643-9C7C9D8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C97408-6EF6-4F8A-9949-038DF02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7AE289-AC01-4A76-A860-093E8106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15292E-CA7E-4B3F-8C36-3AF2D68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6AFEA-33E3-4AA3-BFBE-10951EB2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4C704-5094-4CAD-A0BE-1902840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79D-EDEE-4E95-A72D-0AAB9D44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4F5A8F-C1B8-455A-B1AB-88D0021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F907C5-84A5-41BB-93C1-7D38E06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96E6CF-C372-4C0E-8972-0031BF09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09914-7296-40AF-80EE-52BCEEAB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96D2BF-55CD-498C-B62F-9F26EA4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715E6D-FF62-443B-B53A-005CA481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C5348B-E4CA-44FB-A9C6-CC2BF884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56A924-CFE5-4853-842D-5A8A755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F8436F-0DC2-47B2-AAB9-DB2D4D3A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64B25-C419-4ACF-A196-E288D7F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2A1-798D-46C4-A9A6-5EEF766F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34F1D2-ECE2-4C6F-996B-8E729E8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EB6CC-EFD3-4DB3-BDD6-9598A28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7D6B5-259D-4983-8BEA-48D3BEC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EE790A-4CAA-4758-AE01-72D605B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31E8AB-52BF-4ABD-9BDB-2166F92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D09A30-BB89-42E7-9DE0-D5CCE9C4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451732-8D87-4356-8463-50F65299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075FDF-8549-4052-B2C6-8F5477C4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20AF3D-5A35-4A36-96E1-15F5C75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88836E-6BF0-46DA-BE13-D97A2BD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1CE-528C-455E-B28B-DB50880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75DA8B-E6B8-4EFE-B24C-4F00394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8BA4E6-A875-4B61-812B-569B189B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1CCB94-516C-4BC4-9F42-1094A26C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F5E1EF-05C1-4194-8D43-E455091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5ECC87-1F75-4E1A-AAE8-5B8D19CD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4B919C-79D1-439B-B3E0-04BE82E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651BA4-F728-43F2-8FE9-2E70B2FF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06EFC4-8624-4BF8-AA82-61B070B4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88A7D7-A8A9-4B02-9C12-17AE5FE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66385E-E50C-41F9-A6EC-333C8375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0A71-75C0-480A-A78F-B6587A71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52C6C1-A98A-4859-827F-52633BD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B5000A-AF66-475B-BB9D-1CB57526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E312C5-2420-4016-B91D-CBE71EB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740CD5-BDEA-4D0E-992C-D7531A5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483DFE-1EFF-43D1-AD14-18443C89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DD647E-9FB1-4427-821E-7E957BF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B87095-FECE-4E47-9E16-E34CA85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D0B259-A139-4B87-9138-35892B6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AA981D-FF59-4696-A083-C701BE41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C25143-D6C9-4B40-B15B-69495DCB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BD8-1065-400B-AEE4-099F8B66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7FF039-881F-414E-BDDC-A4FBD332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949E-BBE2-4E07-AB34-CDFC141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792-8CE2-4FF6-86E0-D1C18DD1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E97-D203-408B-A154-E90DDA9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16C4-1CAD-4D75-AEE8-8583ED5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2D6-33DD-4398-8337-55BBBB1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D225-476E-43E0-A3C8-B1F4AD8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0C78-2339-4244-9FFF-77E98CC0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D45E5-D41C-40C4-8C2C-E9ED7876E6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23E39-CA67-448E-9D7B-1BA178E3EB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AD7BB-DFFA-4E62-8F1F-302345611C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55236-68B9-486B-B161-9FDD37E177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CA466-D2D5-4940-A26A-504E8D075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307-15AC-4F0C-8158-5AF5D665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73C1F-ABDE-43C1-940F-A0D066D382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AFB4E-CC61-4F93-AA78-110246B631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68297-C971-4B01-8BBB-F79579C532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698B4-FB54-4646-A551-32834011DF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05DA7-84CB-42D7-99B2-D169213D10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DAD87-1A6F-4FFF-A722-F313A9BAD9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D3A77-BD29-4E27-BF51-40C23510ED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E2B2C-8BF9-4332-B67E-B345DAF0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57627-1D55-427C-8F39-532FC4AD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E8D14-FCE3-4ABD-8587-E3F7A64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D30-3782-455D-8DAB-DC5512C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1B2F9-0069-4E77-AD7D-D4E5EE2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C191A-CFEB-4DA9-A9B1-38C6DDD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9BFCC-3B68-47C1-BBA7-1C306E85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88E50-F78E-488C-A31C-E19B3F20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0D10C-40F3-4433-9436-99267A8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6A2AC-8D9D-4E53-A118-F171C90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4B288-EA37-4D55-A021-0907F7F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A0839-A193-4FF9-BC54-C4B10656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5548B-038F-491C-A329-2DF373A9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11053-6193-4931-B68F-442D4E6A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026-C4CC-43EC-A1FF-109F628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98FCB-3D59-49E6-AE62-3E3DE469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6834E-045D-4148-A2D3-C221C451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09E2D-5D03-4B8C-85A0-BE02301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F68FE-65FF-4118-B8A1-CBBD9F5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78CD0-CBC1-42FC-BD62-63D1609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753DA-29AB-4D65-B0F5-366F604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3016A-376E-4563-A4CA-456190A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7E367-51C6-4C8C-97DE-0634036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47D16-C296-4126-AA17-9429D744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7E8C5-E9AE-489A-B765-54C621DC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78A-3C9C-4AC9-B7A9-5451D523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EAEAB-1947-4F6B-9C9A-04C066E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26378-66A7-4496-915C-CCFDAAE2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67755-878A-4344-910E-D6AB6CA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47EAA-6860-43EE-9BC5-F302907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3BDC4-8FA3-4B16-B8F6-1E4FCCCA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82327-7348-4779-B46D-7657BAB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9BC7D-DD1D-4452-A21E-71293BE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674B0-485E-4B8D-BC5C-FAD51D9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C69CA-0FFA-4D35-A8EC-C1158E1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EC872-61AA-4C13-AD88-E4D8E29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E58-DFA2-49EF-BBC9-1EC67A4D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370B0-ABB4-4385-B901-5E68D899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5AFEF-6F38-47ED-8B7E-11B04141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8DAC1-A711-45DB-A389-A2BEBCD4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07EDB-1D9E-4C5C-B72E-827F2897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42400-090B-4A0F-996A-C80DBD16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D26F5-8D96-4196-8417-A4B7CBEB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A084A-69C4-491B-907E-95E29EA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F5168-E539-43B1-A8B8-251A47A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ACF69-9FA2-43F6-938D-1B529E6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A3F57-21CC-43C4-B8D2-75847B6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23F-7172-4B56-9DF7-975E8EB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D2801-829D-4A0C-BBF2-46AE157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EE12F-B0D1-41FB-B154-095D3447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1A3EF-9EDC-430F-BBBC-15CAC063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58065-A024-4FE1-BE40-F3C8A752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F9860-E418-4929-9BE6-E2EC283B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226CA-3D9F-4B1D-B841-250983E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910EB-E6B2-42EF-8588-408D48A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C88A0-5D18-406E-84E0-CF6DB67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4FAF4-81A4-4D20-BC26-3D5633D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AB5E6-B6B8-4B16-9A96-DE30A46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D04-B510-4012-8E5E-BCEF176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D5512-5A30-49D3-B573-DFB8941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30383-61B5-4DB8-9366-18E6A1D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C05C2-8A68-42C8-9660-3D4F52F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3B974F-9914-4516-BF34-B3547B2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6D2E5-BEE8-43FF-BD17-94F1E36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3B7AE-D633-4BC2-B49B-6ED6509D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065DB-706E-4E4B-9A38-F525BA37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833A6-E2C1-4415-8566-7F175822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2099E-F059-4161-915D-44876D62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1A7F0-C5F9-41C8-B926-CCD48362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611E-F10E-4628-B5F5-486DF7FC56D6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D87B-6957-4E56-BFB7-285E3FA593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636-B16E-4C2B-B569-FC947B7E88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80B-22D5-4613-AEE8-30D287830D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35A-F4AE-4518-AE1D-2CC5558CAAD3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B15-EE04-4CA5-A145-42FB40B32BEC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B3A-96CA-49C7-BFC3-027A511150AD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F6E-CEEF-4C87-A63B-CB1FA840FA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38240"/>
            <a:ext cx="2170080" cy="2779920"/>
            <a:chOff x="706320" y="1938240"/>
            <a:chExt cx="2170080" cy="277992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38240"/>
              <a:ext cx="21700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65A1-4868-490D-AE65-89AE16460895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130-2C19-4F6A-BA69-A898D1311DE1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36C4-2942-4A69-89ED-B73831D7EC8B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8DC5-FB4C-4B20-8903-DB0ED198FB49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9B5-E964-407F-944D-7E4DF5061E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804C-613F-4C82-8E02-FD0FAD5C7A04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-6480" y="2889360"/>
            <a:ext cx="7559640" cy="2146320"/>
            <a:chOff x="-6480" y="2889360"/>
            <a:chExt cx="7559640" cy="21463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2889360"/>
              <a:ext cx="75596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51E-093A-47B8-99FB-25E06381BB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634920" y="764640"/>
            <a:ext cx="53118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c5c"/>
                </a:solidFill>
                <a:latin typeface="Calibri"/>
              </a:rPr>
              <a:t>Составила учитель-логопед Турыгина А.А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79280" y="2852280"/>
            <a:ext cx="73152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ородские прогулки. Часть 1.</a:t>
            </a:r>
            <a:br>
              <a:rPr sz="36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Знакомимся с памятниками площади Первой пятилетки города Екатеринбурга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900000" y="59342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филиал МБДОУ – детского сада комбинированного вида «Надежда» - детский сад комбинированного вида №475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491920"/>
            <a:ext cx="7867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ЦЕЛЬ ПРОЕКТА: ПОЗНАКОМИТЬ ДЕТЕЙ С ДОСТОПРИМЕЧАТЕЛЬНОСТЯМИ РОДНОГО ГОРОДА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Уралмаш — один из старейших районов города, построенный в 20-е годы вокруг Уралмашзавода. Тогда это был город в городе и остается таким по некоторым показателям до сих пор. Площадь 1-й Пятилетки — центр Уралмаша — находится непосредственно перед заводом. На площади первой Пятилетки много достопримечательностей.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43280" y="404280"/>
            <a:ext cx="450072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Памятник А.С. Пушкину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В 1950 г. на улице Машиностроителей был установлен бетонный памятник А. С. Пушкина, изготовленный неизвестным скульптором. Памятник изображает поэта в полный рост в выходном костюме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4" name="Picture 2" descr="C:\Users\1\Desktop\памятники\катя 022.jpg"/>
          <p:cNvPicPr/>
          <p:nvPr/>
        </p:nvPicPr>
        <p:blipFill>
          <a:blip r:embed="rId1"/>
          <a:stretch/>
        </p:blipFill>
        <p:spPr>
          <a:xfrm>
            <a:off x="395280" y="476280"/>
            <a:ext cx="413856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74747"/>
                </a:solidFill>
                <a:latin typeface="Calibri"/>
              </a:rPr>
              <a:t>Бюст Музрукову Б.Г.</a:t>
            </a:r>
            <a:br>
              <a:rPr sz="3000"/>
            </a:b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052280"/>
            <a:ext cx="3816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Музруков Борис Глебович - (1904-79) , дважды Герой Социалистического Труда (1943, 1949), генерал-майор-инженер (1945). 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В 1939-47 директор Уралмашзавода. В 1955-74 директор НИИ. Способствовал организации отечественной оборонной промышленности и созданию новой военной техники.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7" name="Picture 2" descr="C:\Users\1\Desktop\памятники\катя 018.jpg"/>
          <p:cNvPicPr/>
          <p:nvPr/>
        </p:nvPicPr>
        <p:blipFill>
          <a:blip r:embed="rId1"/>
          <a:stretch/>
        </p:blipFill>
        <p:spPr>
          <a:xfrm>
            <a:off x="4140360" y="260280"/>
            <a:ext cx="45702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6320"/>
            <a:ext cx="410508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Памятник </a:t>
            </a:r>
            <a:br>
              <a:rPr sz="2800"/>
            </a:b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Серго Орджоникидзе.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50920" y="1268280"/>
            <a:ext cx="4176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Памятник установлен перед проходной Уралмаша на площади 1-й Пятилетки в 1955 году. В годы индустриализации Орджоникидзе был наркомом тяжелой промышленности. Автор монумента — скульптор Г. В. Нерода. 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0" name="Picture 2" descr="C:\Users\1\Desktop\памятники\Безымянный2.png"/>
          <p:cNvPicPr/>
          <p:nvPr/>
        </p:nvPicPr>
        <p:blipFill>
          <a:blip r:embed="rId1"/>
          <a:stretch/>
        </p:blipFill>
        <p:spPr>
          <a:xfrm>
            <a:off x="4500720" y="333360"/>
            <a:ext cx="4213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6680" y="333360"/>
            <a:ext cx="840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5c5c"/>
                </a:solidFill>
                <a:latin typeface="Arial"/>
                <a:ea typeface="Times New Roman"/>
              </a:rPr>
              <a:t>Мемориал уралмашевцам, погибшим в годы Великой Отечественной войны. </a:t>
            </a:r>
            <a:br>
              <a:rPr sz="1100"/>
            </a:b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2" name="Picture 2" descr="C:\Users\1\Desktop\памятники\катя 015.jpg"/>
          <p:cNvPicPr/>
          <p:nvPr/>
        </p:nvPicPr>
        <p:blipFill>
          <a:blip r:embed="rId1"/>
          <a:stretch/>
        </p:blipFill>
        <p:spPr>
          <a:xfrm>
            <a:off x="1547640" y="1125360"/>
            <a:ext cx="5940720" cy="44546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457200" y="5514480"/>
            <a:ext cx="8075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ульпторы И.И.Симонов и С.П.Романов, архитектор Г.И. Белянкин. Установлен в 1969 г. В Орджоникидзевском районе на площади Первой пятилетки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00360" y="1268280"/>
            <a:ext cx="43383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Стела с орденами Уральского завода тяжелого машиностроения (Уралмаша)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32144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75960"/>
            <a:ext cx="84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Храм в честь Рождества Христова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000" y="4869000"/>
            <a:ext cx="8218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православный храм в Екатеринбурге. Первый вновь построенный храм Русской Церкви Екатеринбурга со времён Октябрьской революции. Закладка храма была произведена 30 сентября 1996 года. Строительство велось быстрыми темпами, и его открытие состоялось 7 января 1999 года, в праздник Рождества Христова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296040" cy="41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00:29Z</dcterms:created>
  <dc:creator>1</dc:creator>
  <dc:description/>
  <dc:language>en-US</dc:language>
  <cp:lastModifiedBy>NT</cp:lastModifiedBy>
  <dcterms:modified xsi:type="dcterms:W3CDTF">2012-10-08T13:17:10Z</dcterms:modified>
  <cp:revision>13</cp:revision>
  <dc:subject/>
  <dc:title>Проект «Городские прогулки»: знакомимся с памятниками Уралмаша</dc:title>
</cp:coreProperties>
</file>