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66B-C0D6-4D41-8D79-97B236CE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65C-AF58-4CBC-894D-82BABA02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790F57-6101-48D3-B5BC-9DAC73E4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0C618-E98C-4957-992B-195E903D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C89141-3B1A-4FED-8B1E-DFC4851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AC93E-2659-493D-96F9-310C5FC6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31EEEC-9DFA-4D1B-BE69-9252B1F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6B8303-0DD9-4C14-AA09-F43AA26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11F0C-ABE2-4CF4-A1BF-1BD2287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1384CE-BFF8-490F-A540-86795B7C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7D0A6-C055-47E7-BB09-2C1AAA0C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B3D482-281A-4E74-8F67-20BDB9F5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9A3-092F-4473-9584-FB1EB6A3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2FF2D0-276D-4E42-8016-548CA0DC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457A6-2787-489E-BBD5-56105FAA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94F40A-E5C6-49A6-AF9A-37E1FEF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F1DDEE-4E2A-4992-A1B9-E9981BFF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64A75-E166-4149-81FA-B9031AB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B1E7E3-5F82-4EBA-8239-F80A008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AB83B-4BFB-4164-AB76-613857A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8F67C-6D8D-47CF-A051-F1653D5B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78095-161D-4F60-9698-332C8F78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A8F15-5281-4B08-9912-400C19FC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7CA-4591-4512-9932-E75E1CD7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95B48-6EA0-4231-9A7B-23C2083E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FDB1EE-7342-4ADB-BAF4-47AA8A4C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00E31F-2B2B-4560-905F-BE5CFCB9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2A3D8E-45FD-4756-A991-97F3C515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CF897F-1F7D-4F56-AC55-82905F9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F3D40C-AE3B-4DD4-B867-D05BBC08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1A508-2670-4C87-8704-CC5C1342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0AE3C-6AA7-4F44-B574-DFAF5B0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1DF514-313D-403E-9F16-1E10687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80B00-038F-4DE2-AE6F-29989265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1726-410B-45FE-8F58-A168B30B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2825BC-505B-4865-BB5D-C259CFB3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21B8E1-9FC6-41FC-8524-635462DA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FAEDC9-8CB8-4376-954D-6F0F2AD7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943F3F-53C1-497B-8B1E-398547F3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67D8E5-1411-4E89-9D5A-FC42F7BF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88685B-AE6C-4DEB-A7A2-B2CFFFB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33926A-F74D-4506-910F-0D3F622D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533658-3C84-4847-A710-C4800E5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B1C084-6D95-4CA2-B73C-4CE69825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3D48C3-627F-42E2-A04E-07FF9AF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9A8-E331-4135-A4CB-4672C36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696AFE-4A3D-4897-BBDA-41B76B3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01D609-47BA-489E-871D-59C95BA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613015-372E-446F-9539-1FDFF14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AB0576-DCB8-4825-B8BE-713C1252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6C138A-D7F9-40BE-A824-781D13E4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C6324-56E0-403B-8FE1-22402B1B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DACE5A-B220-401A-B52D-22272239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52E831-1AF1-4D25-A685-6CC26C2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331016-FD24-4FFB-A85E-F29BA46B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131B6D-3AB6-448F-B736-FA4C1C4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8DBC-8F55-4F08-B295-EC5D79B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82FDE7-BCA7-4D4F-992A-BA7FF6C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87C53B-E6B2-4D91-98F9-CE336C9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06E4B8-C255-4AB7-85B4-87484C7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53D45-7FC1-4A62-B0EF-8812EC6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DB6204-4DD1-4C7F-99FE-F5AC1D9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A6ADA0-E268-4C79-9C3A-744C71E5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61CD59-6D5E-4B7F-B864-2AC83B49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763E75-C03A-4747-B9EA-69DE48E2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A8AD8D-2498-4E1B-9E4A-BE6E1CF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DF5E43-6D9C-4AB3-847E-1DE127F7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617A-F368-48CB-9BD6-F6057DD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7C808C-4488-4006-9486-46EF9BA4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29A8ED-7388-4767-A594-30A08405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63D138-08E6-4EF6-A4C9-3A6F75EF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1322BB-7322-4438-AC22-0D9EE6F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909152-C4E0-43A4-87EE-E8461DF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42D9C1-14F5-47BE-A04B-A61C0C5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CD4F09-8C85-4272-9944-85CA938C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F0996A-A539-4C09-B367-B8B8E180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E744A8-0522-40FF-AD98-78D0A5E7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052BE1-94D4-442C-A74C-1BE0BADD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905E-1834-42A6-92B8-8C3953C6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ECBA34-889E-413D-B1EA-66900C5D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2177B5-126C-49AE-82CF-E47662EB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7D8137-FAEB-44D9-A614-3B74EB57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DD1648-0FDD-4E5B-9967-6C73675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8BAECC-090B-4680-84CF-39145A1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32571D-A980-4399-965E-2A0A8A1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ADB1B5-ADD6-4880-9610-B5277D7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6BDEF1-DBAF-43F1-BC83-2B50E90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8A73A6-0BB2-4A0B-A277-10557A0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5D5E5E-61F8-418C-8B9E-B5FD43A8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C4A9-619F-45F4-9517-A83E2DB3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7018E5-BF7A-4556-A455-98B97980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FB4-DD29-4BFE-846B-DB86567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074-0A70-4398-A3C2-68AF6EB4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76DA-7C4D-4E82-97F8-52AB5B8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B46A-5010-4C38-BA9E-1FAE3286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653-5FEA-41CD-AF1A-265FAD36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A68-5BFE-4262-BC43-5BB9299E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D7D4-E66C-4208-A221-71063D6A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5D665-329C-4D2D-AD59-16E6C1967A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2F8F3-2652-4161-B615-A5FE7030FB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90811-74B3-440C-BAF2-53E1BDF8C1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1C554-6180-48FA-8FC1-34397D8D77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C646C-E7BE-4120-97F0-18A5598D2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11C-D30F-44E0-9DE1-170CD02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DA34A-32CA-4153-A506-43906FD596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F6AD2-1C0E-4215-9154-99D6A67F47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9A93-3C10-434B-8DF4-3C8623B6BA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5BB23-470F-4347-A5BA-9B0321B80F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E2009-E6DF-414F-B7A2-9414494DD5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73790-6060-4BFE-83C4-6EBB656C2F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CB901-C4D0-4FB3-ABE9-9F41EA23ED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13FD2-C5CF-4B9F-80DA-0BF8694B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33DC8-FAC7-481F-882A-39D7EEB1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A50D0-C7C5-47BA-9B60-6B42E36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5A7-FAE1-42F1-9C8E-1ECCE6DE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9A4F2-5B2B-4D85-B9B2-B8120956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ACD27-0E3B-4D1A-89DA-B7795C4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7E7AD-7312-4275-AA8D-9154C7C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0A90D-F858-40AD-982B-51A35325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685D9-E0DF-44C5-BCB9-E5BB211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E5E5C-1370-4A40-8522-EAC0BE6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E8EBB-4A13-4CF3-9DD4-6594E3A8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9D848-6209-4C80-92FD-114CC5F9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378E1-7701-4860-A838-B841A68C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486B5-BFD5-4A50-9950-55F531A7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ECC-9CA4-4CC4-89FB-BB283809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2C85C-1CC2-43E4-80E6-062D731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978C5-4E1E-4E52-8223-A30BE8EB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DE79A-3388-499E-A139-36BF9984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73711-E6FF-4571-B0E2-93F61C8A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AC461-029D-487E-A78E-31AF9FBE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24239-9A05-44EA-8CCB-7A49855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F5FEF-C643-4947-8C27-7D2252A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55530-972B-447C-B6E9-2C00F08E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8A6D4-5846-418C-A604-4ADCC22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2BE63-BBA4-4E38-A09D-A93AC9C0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A44-2470-4EEF-84DC-0F185DA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B868E-9942-4204-B40F-EAC7CBD9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6456B-06A5-4B6D-B225-F9415BFE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29061-9EC5-4A8B-899A-E809B742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4DF48-BC79-4608-967E-89C5930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3071A-5444-490C-AB9E-E06E6532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99C0A-12FE-4EF2-9196-68452A7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61B4A-9935-4285-97CA-EE9DCF50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11EE4-C10B-414B-9D1F-3B96EB4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28685-95AC-42D8-A3CC-9E63209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537D5-FF5C-462F-8170-CFD3F29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A27-A049-4C04-B144-E28E559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EA68E-C8F3-43B6-89DF-9E89F72C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4DD35-24F6-4BB0-BA81-174C5048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DB230-4E37-4CB0-ACF2-DB381F10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0D9FF-2DB5-49FD-BE86-8F6CA626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9746E-C153-4978-B373-2AAA6F21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D9218-4E14-4D15-A1D5-71477B6F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66526-8420-4477-A789-EA14C2A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7B7C7-609D-47AB-97E0-97BE79EC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D8FAD-425B-4019-A69C-053F454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FF0AE-ED26-4F3F-9681-97F3B85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92E-0592-4C49-B916-5848CD3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C0448-90B7-48E8-8DF0-0E89EB1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C837A-9CA6-4DB1-90D0-1934568A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B459F-7B42-46FD-A0CC-0AA1749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8E6BE-C568-4828-BCAA-13D64E92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04465-E7FF-4754-9E60-65292455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CC955-4F43-4910-A314-D3B184E0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4C2F5-9AEC-4276-8F50-6BACF1AD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BC51C-FE34-4685-8215-D0E9C9E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8FDAF-4461-40F0-AE80-10FC9529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E4A214-DA75-421E-A497-8B8F73D2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740-88B5-4FC1-860A-EDB1816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AE6F6-18D0-487F-83EC-F1E6297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51B09-90D7-4D73-8E9B-0455DA51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10ECFC-CA5E-4467-932D-BA5546D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49B923-9244-42FA-A2DA-16D299E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B30FE-8844-4FDD-8A68-E3DD4D8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75DCB-29E3-4389-AE3C-045B7312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39B96-1BDD-4DD9-8D37-B3958B9A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20CC2-C6FD-44B3-9D4E-4C702867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C3126-D7AA-49F0-B42F-3899FFA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DDF18-3F9D-41E5-B18A-1DC78A4C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E0E4-841A-47E8-B4F4-551D84A3E436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5D03-D2E8-45B7-A54C-20804AF3CC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8CB-E101-484A-BB86-0BA78F4D38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C14-B29A-4595-AEA6-CF2E508116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1E39-8777-4D0F-8116-25917649A190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490-1D1B-4D94-900B-87D23F4F47BE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729-20A3-49C7-82CD-86674E97F910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2119-CD9F-4FC5-94D2-D79D22776F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38240"/>
            <a:ext cx="2170080" cy="2779920"/>
            <a:chOff x="706320" y="1938240"/>
            <a:chExt cx="2170080" cy="277992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38240"/>
              <a:ext cx="21700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0E9-C75E-41CC-984A-E27B9B0A7F6F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C6FF-02BE-4826-BA4B-0179B4CD974B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74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70F-4AF4-47C3-B90A-DCEA2896A550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F64-116E-4E60-B274-40AC47789B30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110-82CA-432D-AD1E-DFC39DBB2B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350-A873-45DB-95F5-DF7172BA1091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-6480" y="2889360"/>
            <a:ext cx="7559640" cy="2146320"/>
            <a:chOff x="-6480" y="2889360"/>
            <a:chExt cx="7559640" cy="21463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2889360"/>
              <a:ext cx="75596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4E56-00EE-4779-9B59-5EB45425D6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634920" y="764640"/>
            <a:ext cx="53118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c5c"/>
                </a:solidFill>
                <a:latin typeface="Calibri"/>
              </a:rPr>
              <a:t>Составила учитель-логопед Турыгина А.А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179280" y="2852280"/>
            <a:ext cx="73152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Городские прогулки. Часть 1.</a:t>
            </a:r>
            <a:br>
              <a:rPr sz="36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Знакомимся с памятниками площади Первой пятилетки города Екатеринбурга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900000" y="59342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филиал МБДОУ – детского сада комбинированного вида «Надежда» - детский сад комбинированного вида №475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280" y="2491920"/>
            <a:ext cx="78678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ЦЕЛЬ ПРОЕКТА: ПОЗНАКОМИТЬ ДЕТЕЙ С ДОСТОПРИМЕЧАТЕЛЬНОСТЯМИ РОДНОГО ГОРОДА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Уралмаш — один из старейших районов города, построенный в 20-е годы вокруг Уралмашзавода. Тогда это был город в городе и остается таким по некоторым показателям до сих пор. Площадь 1-й Пятилетки — центр Уралмаша — находится непосредственно перед заводом. На площади первой Пятилетки много достопримечательностей.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43280" y="404280"/>
            <a:ext cx="450072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4747"/>
                </a:solidFill>
                <a:latin typeface="Calibri"/>
              </a:rPr>
              <a:t>Памятник А.С. Пушкину</a:t>
            </a:r>
            <a:br>
              <a:rPr sz="2700"/>
            </a:b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"/>
              </a:rPr>
              <a:t>В 1950 г. на улице Машиностроителей был установлен бетонный памятник А. С. Пушкина, изготовленный неизвестным скульптором. Памятник изображает поэта в полный рост в выходном костюме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4" name="Picture 2" descr="C:\Users\1\Desktop\памятники\катя 022.jpg"/>
          <p:cNvPicPr/>
          <p:nvPr/>
        </p:nvPicPr>
        <p:blipFill>
          <a:blip r:embed="rId1"/>
          <a:stretch/>
        </p:blipFill>
        <p:spPr>
          <a:xfrm>
            <a:off x="395280" y="476280"/>
            <a:ext cx="413856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74747"/>
                </a:solidFill>
                <a:latin typeface="Calibri"/>
              </a:rPr>
              <a:t>Бюст Музрукову Б.Г.</a:t>
            </a:r>
            <a:br>
              <a:rPr sz="3000"/>
            </a:b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052280"/>
            <a:ext cx="3816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Музруков Борис Глебович - (1904-79) , дважды Герой Социалистического Труда (1943, 1949), генерал-майор-инженер (1945). </a:t>
            </a: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В 1939-47 директор Уралмашзавода. В 1955-74 директор НИИ. Способствовал организации отечественной оборонной промышленности и созданию новой военной техники.</a:t>
            </a: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7" name="Picture 2" descr="C:\Users\1\Desktop\памятники\катя 018.jpg"/>
          <p:cNvPicPr/>
          <p:nvPr/>
        </p:nvPicPr>
        <p:blipFill>
          <a:blip r:embed="rId1"/>
          <a:stretch/>
        </p:blipFill>
        <p:spPr>
          <a:xfrm>
            <a:off x="4140360" y="260280"/>
            <a:ext cx="45702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560" y="76320"/>
            <a:ext cx="410508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4747"/>
                </a:solidFill>
                <a:latin typeface="Calibri"/>
              </a:rPr>
              <a:t>Памятник </a:t>
            </a:r>
            <a:br>
              <a:rPr sz="2800"/>
            </a:br>
            <a:r>
              <a:rPr b="1" lang="ru-RU" sz="2800" spc="-1" strike="noStrike">
                <a:solidFill>
                  <a:srgbClr val="474747"/>
                </a:solidFill>
                <a:latin typeface="Calibri"/>
              </a:rPr>
              <a:t>Серго Орджоникидзе.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50920" y="1268280"/>
            <a:ext cx="4176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"/>
              </a:rPr>
              <a:t>Памятник установлен перед проходной Уралмаша на площади 1-й Пятилетки в 1955 году. В годы индустриализации Орджоникидзе был наркомом тяжелой промышленности. Автор монумента — скульптор Г. В. Нерода. 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0" name="Picture 2" descr="C:\Users\1\Desktop\памятники\Безымянный2.png"/>
          <p:cNvPicPr/>
          <p:nvPr/>
        </p:nvPicPr>
        <p:blipFill>
          <a:blip r:embed="rId1"/>
          <a:stretch/>
        </p:blipFill>
        <p:spPr>
          <a:xfrm>
            <a:off x="4500720" y="333360"/>
            <a:ext cx="4213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6680" y="333360"/>
            <a:ext cx="840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5c5c"/>
                </a:solidFill>
                <a:latin typeface="Arial"/>
                <a:ea typeface="Times New Roman"/>
              </a:rPr>
              <a:t>Мемориал уралмашевцам, погибшим в годы Великой Отечественной войны. </a:t>
            </a:r>
            <a:br>
              <a:rPr sz="1100"/>
            </a:b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2" name="Picture 2" descr="C:\Users\1\Desktop\памятники\катя 015.jpg"/>
          <p:cNvPicPr/>
          <p:nvPr/>
        </p:nvPicPr>
        <p:blipFill>
          <a:blip r:embed="rId1"/>
          <a:stretch/>
        </p:blipFill>
        <p:spPr>
          <a:xfrm>
            <a:off x="1547640" y="1125360"/>
            <a:ext cx="5940720" cy="44546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457200" y="5514480"/>
            <a:ext cx="8075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ульпторы И.И.Симонов и С.П.Романов, архитектор Г.И. Белянкин. Установлен в 1969 г. В Орджоникидзевском районе на площади Первой пятилетки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00360" y="1268280"/>
            <a:ext cx="43383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"/>
              </a:rPr>
              <a:t>Стела с орденами Уральского завода тяжелого машиностроения (Уралмаша)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32144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75960"/>
            <a:ext cx="84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Храм в честь Рождества Христова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000" y="4869000"/>
            <a:ext cx="8218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Calibri"/>
              </a:rPr>
              <a:t>православный храм в Екатеринбурге. Первый вновь построенный храм Русской Церкви Екатеринбурга со времён Октябрьской революции. Закладка храма была произведена 30 сентября 1996 года. Строительство велось быстрыми темпами, и его открытие состоялось 7 января 1999 года, в праздник Рождества Христова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296040" cy="41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00:29Z</dcterms:created>
  <dc:creator>1</dc:creator>
  <dc:description/>
  <dc:language>en-US</dc:language>
  <cp:lastModifiedBy>NT</cp:lastModifiedBy>
  <dcterms:modified xsi:type="dcterms:W3CDTF">2012-10-08T13:17:10Z</dcterms:modified>
  <cp:revision>13</cp:revision>
  <dc:subject/>
  <dc:title>Проект «Городские прогулки»: знакомимся с памятниками Уралмаша</dc:title>
</cp:coreProperties>
</file>