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BB7-D283-4F1A-B0AC-6437A68B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631-3940-4FA4-968B-789FDE5E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0A5A02-A01A-44A3-8411-6A6E735E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B52CB2-42BC-4FE7-86ED-679A0822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F4C3D-F056-4A67-B9A8-50569A44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D242E-7FD1-46DD-BC96-E7E58344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97A39-54D8-40A5-B915-54E49EAF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8CBA19-1ABC-4B3B-B5B3-9CB2DC2C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288A11-952D-4DAE-B16B-CCA18CA5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9A0073-DA02-4434-8861-78F74071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307B7E-7410-4733-860D-40D2D34B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A8CB1F-D19B-4B75-A4BF-B629BBDE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9D4-CCAA-410A-B722-53185E94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EDB3A1-33C7-4F2D-BB04-8B0667B7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EFCBBF-4F90-4E10-B121-F18027C3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EF4F2C-B26D-4914-AD44-402C0743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34DEB2-D1B4-40CA-9ED0-34492268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03B031-2F4F-47CA-8AEC-8CCC233E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7072DE-339E-49CC-A8B7-F3E49F2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B0BC02-2D5F-47C2-8E34-25E528E5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3ACD4A-0BA6-4027-B266-0BC3189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ACDDC5-8CA4-4522-9364-1ECD160C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7CC292-F808-4A41-877E-3ACFC885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3B3-770F-44CB-86AE-C7456568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83AA82-2B57-4C4C-B129-C31A5031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F6A6CB-D2C6-490C-B593-8BD619D4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E7A0CE-A7ED-4574-92D4-D5E08795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5EB553-F9DB-420D-A1EA-BCC70454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FD34AE-E895-4FE7-9BF5-60EA9832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69EAD7-C4A6-4D51-99F7-C4315749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7F40F7-02B4-4BB6-A3ED-087D5FFD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CB5D88-C72F-43EE-9B91-53BDF43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653B7C-C621-47DC-9165-52380FCC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48AEB4-5256-4465-A3ED-AE8B0B0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ED2D-1E92-4A60-9D8E-5A5E82AB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62A749-22C6-4923-BA04-1736AC2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2C0166-70DF-4E96-8B9B-9D9A0F8F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216C8D-47AD-40D5-8D64-95D212D0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2C8C9D-37DC-45AE-A87C-856A681D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2E6C7A-CA47-4C19-A8D3-4DBC0B5F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1C819A-D09D-4D6E-BCF7-934CA821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AD8ECD-44FE-497A-A8CB-B7E55794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4BCBD3-3600-4739-A40F-841723E5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A9D4DF-2AE2-4F13-9CD2-B3B3CF06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869B10-528C-4B84-9152-055D69BC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6450-DFC7-4F8A-9666-28D5F285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C46A16-9343-4D4B-97D3-EF06E261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1258AE-8F27-4299-95A4-9C51432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54684D-1B72-4F20-8F07-064B58E3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7555DA-75DA-4CBC-A343-609798E4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C87D3F-622B-46FC-8FB0-5A91F05F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2D3932-9158-47BF-B308-69A713F8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0985DA-5380-4C45-9F2A-BE354320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51FC56-C593-4476-B1BF-5A27C22A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FA14E-6B4B-4B01-BDC2-0F4CEA26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DCC4AC-705A-4C08-864A-08D56F6B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DB04-050D-4488-8628-7EC1827F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F3C613-055B-4369-A51D-08361BE9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2E80BD-E4FC-41F0-97C4-EE846CC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110124-731E-4F5B-8D45-6E6D2DF5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665E0C-7D9E-421A-9E16-8E46F25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C6C7EC-5F8E-400B-BC7F-69CB5CA4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6B4326-5DDE-48A7-BBC1-11A66B53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CF5DDE-9D4B-482D-B865-0C3B4918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23692C-4589-4789-B90D-F41C17B5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18CE1F-019B-4CDE-9D1B-178A03EA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B367F0-E1EB-4011-8B60-3B5A03EA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FA24-B37F-4F42-AABE-9936A84C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F31722-F8D4-4149-A74C-1A59CB0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E15C29-4B48-42A7-BEF4-6467B771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94108C-E0B6-47F2-A6E7-080AC6F9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1AD750-7E64-4FB5-812D-AD4EF70B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EEAE91-CC66-4B57-8B4C-DFD9F62B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A7AF61-C283-41F6-8E4E-5E928175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478327-A205-46A6-A64B-8A51C883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A10975-BE1F-4B37-9E91-B24A6FF7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BE14D5-C567-4A78-A650-5F5EC013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751AA1-DC8A-4EE2-B8A1-BDCD42F3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7672-F2E4-494B-8472-4F630E0B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CE3A06-7526-47AB-899A-1CA69BD7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9C742D-621E-4F47-AC2E-1ED7087D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050989-C99A-4A10-AF8D-1DCFF688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09ED8B-866D-4497-A41A-9E664C22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4FDDC1-2AF1-4F18-967A-92A034E9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5B5F20-A0AA-46AB-B471-625F6838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923391-44B4-42EA-9EE6-714F1C42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75C607-071E-4968-BCD7-88F43A8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1C0AC5-BAA8-42A7-BE2A-ED54DFBD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A7C26D-D9C4-4BCE-A23E-361EAE1B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180E-D46C-4DD6-BE3B-B651C849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B397F4-828B-42C5-BF57-37ECA338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0963-8231-46EA-8742-C06AD684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520-DCC5-43F6-AA9A-3A212614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6856-108B-4A13-997A-758AAB2D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7DC4-FC25-4EE5-9CE1-B524102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1E63-5944-4103-9BDA-40139386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EF10-0DBC-4585-BC69-6DC71CBC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7399-F2D1-4B87-B3FA-335F843C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674B6-629C-4251-8FE0-59C4468830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DA9B4-3171-40B6-8CE6-21A339589B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D3044-9516-4949-B297-17059431CB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342F0-50C8-4110-97F6-D07EE3707D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E32A6-59D2-4328-8C1D-840CFDE3A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19C-0241-49D8-9A38-4D263032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4DA89-0C65-4147-8700-28095867FB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B3BA1-D085-48DB-8985-4E62B4914A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4A7F3-00F7-46D9-A4AA-C79E9D0E16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6B44D-1643-4209-AA06-A1F7675316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B27FF-5030-460F-A56D-AFF47C0973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2E87F-3DDA-4C87-B6F9-8653DDB193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1F73A-1F87-4F8F-B4A1-974C60E6E8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98C3E-FCC4-490F-ADD6-F7C4B75D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BF74F-0031-4409-8492-4A37A56C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B16D9-742A-4BC0-A24D-2614AFD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9E7-1641-4F37-8F12-F5062783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40BB7-64E6-4EA6-BD3F-D48B20F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12C2D-5BDE-4DA6-8DDA-FC8F9BCF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28D6C-E797-444C-BEA3-E4A7FB27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7FBC0-A8B4-466F-A846-E00BEFE2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9C43D-48C6-4089-97EB-14F10EF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F31EB-590F-490C-8A08-337EFDB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96D8A-87E5-465F-9BDD-3A0E0015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3C4AD-B9AD-4982-AC32-65359DE5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50FEE-B74B-4AD2-8642-989A1E15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BD796-46E4-4405-A0C5-7B6D7795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3E8-5C23-4E4A-98AF-EB66C5F1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92E95-C9FB-411F-9B54-99D60A08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0A275-1D6B-42A4-A156-E31BCD24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A366D-11F9-4F35-B67A-B75FB2CB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0A80C-6680-4B11-BB66-2D33DF20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33500-1B5F-4625-83BA-B2355DD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FFE5B-991F-4552-8179-BC9CDFB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87C72-D128-40A3-9AEC-269B21DC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7403C-9AD4-42ED-BA00-2807BCF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CFD7D-FB9D-445C-A324-E36D7C48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95E70-463F-4F3A-B839-4CE056B8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888-5044-4F3D-840D-1C277496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DEEF9-DFCD-4D7C-8FBE-DDC54171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78AE3-A63C-4ECB-9614-5B70F6D1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CC5CA-60E8-4E6E-ACC2-183DC542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D874F-F861-4113-A11E-AF8000E9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04F99-5DC1-4469-A938-1588839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301A0-3F04-440A-96C5-E12A2D1A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46813-B984-4BD2-8F54-C10EFB03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CC9C4-4CEC-412D-AD27-6B90DA16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E567A-47C0-4674-AF9E-F2AC87AA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DDEC3-87FB-44FB-835E-B2EA0C31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0BC-3221-4E8D-A37C-4FF28718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2FFE4-FBE3-4E5F-9B77-415ACA93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557D3-C886-4130-ABEE-01C59E54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728F7-937B-4110-ABD5-9514E17D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CFA6F-336B-4CD7-A7DE-BFE3309F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8054B-E535-47AA-A0E1-C5185203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4B154-6C24-4563-AB0A-B81D86E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86ACA-2321-4F05-B17E-6F0002C2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AD8D3-CDED-41F6-9206-EDCDB9C4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12732-5AD8-4ACD-AC78-E5867852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84ED9-F360-4624-9590-7FD2E50B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0E4-83BF-49E9-A598-3ADF9CD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0B99F-09F3-4022-A37B-518DA50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261FF-8FCD-4A4C-A31B-788D0689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A2B2B-D3BE-4A15-A6E3-84066FF7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F10CA-6B76-458A-8916-EAF84BD0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AD47C-F662-4D76-8407-2D6DE6F2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C74F80-7D35-4D2D-AE58-4DF2CC67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0FAB41-98F4-4356-9A15-2B420A7F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053508-B778-448A-B39E-61EF5C4A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17171-C6D5-4C75-BE05-F3D4CB90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74D237-D948-4378-BDCC-F0C0256C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698-AEDD-41F5-A938-B9DEAC8C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E3612-87B5-4F36-96FC-03B40075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F7826A-D875-4AFC-BFAE-0FABB034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9058E7-11E0-490C-BEFA-C1324D7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F08962-E397-4790-848D-EA7E354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6205E-6965-4714-BDA2-1D7540A9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196B12-5F45-4A91-8363-C975CB44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6692F-B15F-4A6C-AAB6-18D6921F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9C518-C7E0-487B-B56D-84BF48E9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F02E3D-D79A-4D45-BF70-B3E77C09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86333F-6A97-45A8-8A98-1573DD7A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485-663C-4E28-ACC2-17F6C4403015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6406-3F78-452B-A29E-FE4EB282BA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1F45-054D-43A6-BFA5-158D185CAEB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4C7A-CFE6-49D5-B98D-4D58D507926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F436-E1AB-432D-BF74-6FEFD15AF031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7C0D-DE0E-49CD-A877-378B32151475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F587-4F0F-401A-84A1-7464EE05831A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9EE6-33F3-4DF2-85D2-CB342B6D027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38240"/>
            <a:ext cx="2170080" cy="2779920"/>
            <a:chOff x="706320" y="1938240"/>
            <a:chExt cx="2170080" cy="277992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38240"/>
              <a:ext cx="217008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C20F-B592-441C-A3F6-237EC49FF657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696D-0DA8-4533-8912-D2EE6179226D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0938-976E-4643-A3AC-A1D2B5557386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568E-41C4-46A0-8511-A9E382596D8D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2EA2-D17C-4C1E-8C63-3029932CF8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CAFD-C5C1-45A4-A1E4-CDCAB98D1396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-6480" y="2889360"/>
            <a:ext cx="7559640" cy="2146320"/>
            <a:chOff x="-6480" y="2889360"/>
            <a:chExt cx="7559640" cy="21463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2889360"/>
              <a:ext cx="75596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D208-168A-4CB9-862B-7A9B67CC3A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708360" y="691920"/>
            <a:ext cx="5105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marL="246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5c5c"/>
                </a:solidFill>
                <a:latin typeface="Calibri"/>
              </a:rPr>
              <a:t>Составила учитель-логопед ДОУ</a:t>
            </a:r>
            <a:r>
              <a:rPr b="1" i="1" lang="ru-RU" sz="2800" spc="-1" strike="noStrike">
                <a:solidFill>
                  <a:srgbClr val="5c5c5c"/>
                </a:solidFill>
                <a:latin typeface="Calibri"/>
              </a:rPr>
              <a:t> Турыгина А.А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105840" y="2997360"/>
            <a:ext cx="741852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роект «Городские прогулки»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знакомимся с памятниками улицы Вайнера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TextBox 4"/>
          <p:cNvSpPr/>
          <p:nvPr/>
        </p:nvSpPr>
        <p:spPr>
          <a:xfrm>
            <a:off x="1835280" y="530064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филиал МБДОУ – детского сада комбинированного вида «Надежда» - детский сад комбинированного вида №475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Г. Екатеринбург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36680" y="75960"/>
            <a:ext cx="840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4747"/>
                </a:solidFill>
                <a:latin typeface="Calibri"/>
              </a:rPr>
              <a:t>«Городские прогулки»: улица Вайнера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Улица Вайнера от Ленина до Радищева является пешеходной. У горожан она является излюбленным местом для прогулок, и именуют они его "Уральский Арбат". Помимо магазинов и кафе здесь находится большое количество скульптурных композиций из бронзы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Все памятники на улице Вайнера установили летом 2006 года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280" y="2491920"/>
            <a:ext cx="78678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ЦЕЛЬ ПРОЕКТА: ПОЗНАКОМИТЬ ДЕТЕЙ С ДОСТОПРИМЕЧАТЕЛЬНОСТЯМИ РОДНОГО ГОРОДА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727272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148360" y="404640"/>
            <a:ext cx="369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4747"/>
                </a:solidFill>
                <a:latin typeface="Calibri"/>
              </a:rPr>
              <a:t>Коробейник</a:t>
            </a:r>
            <a:br>
              <a:rPr sz="3600"/>
            </a:b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03280" y="907560"/>
            <a:ext cx="4032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Коробейник сразу выделяется среди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прохожих - ростом. В сюртуке, с лотком, на котором - все, что женщине надо - пудра, духи, помада. Памятник находится на месте, где всегда шла торговля. Это очень тонкая работа. Он не просто тяжелый - Коробейник например, весит 700 кг - а еще и устойчивый: под землей основа памятника только в длину больше метра.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С первых же минут открытия  горожане фотографируются с Коробейником.  Появился даже ритуал - загадать желание и потереть флакончик духов, который предлагает купить Коробейник. По крайней мере, изучая  скульптуру, пузырек трогали абсолютно все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4" name="Picture 4" descr="C:\Users\1\Documents\Новая папка\фото\фото 2009\фото 2009\памятники\памятники 022.jpg"/>
          <p:cNvPicPr/>
          <p:nvPr/>
        </p:nvPicPr>
        <p:blipFill>
          <a:blip r:embed="rId1"/>
          <a:stretch/>
        </p:blipFill>
        <p:spPr>
          <a:xfrm>
            <a:off x="108000" y="115920"/>
            <a:ext cx="4786200" cy="63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932000" y="189000"/>
            <a:ext cx="4211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474747"/>
                </a:solidFill>
                <a:latin typeface="Calibri"/>
              </a:rPr>
              <a:t>Бронзовый Велосипедист </a:t>
            </a:r>
            <a:br>
              <a:rPr sz="2700"/>
            </a:br>
            <a:r>
              <a:rPr b="0" lang="ru-RU" sz="2700" spc="-1" strike="noStrike">
                <a:solidFill>
                  <a:srgbClr val="474747"/>
                </a:solidFill>
                <a:latin typeface="Calibri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003280" y="907920"/>
            <a:ext cx="39610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262626"/>
                </a:solidFill>
                <a:latin typeface="Calibri"/>
              </a:rPr>
              <a:t>(памятник создателю велосипеда Е. Артамонову)</a:t>
            </a:r>
            <a:endParaRPr b="0" lang="en-US" sz="21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В Екатеринбурге к 285-летию города в 2006 году установили памятник</a:t>
            </a: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создателю велосипеда Ефиму Артамонову. По легенде, именно Артамонов придумал новое транспортное средство и отправился на нем в Москву на коронацию АлександраI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Современники не оценили заслуг изобретателя. Говорят, он был бит розгами за то, что пугал лошадей, катаясь на велосипеде по городу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7" name="Picture 3" descr="C:\Users\1\Documents\Новая папка\фото\фото 2009\фото 2009\памятники\памятники 019.jpg"/>
          <p:cNvPicPr/>
          <p:nvPr/>
        </p:nvPicPr>
        <p:blipFill>
          <a:blip r:embed="rId1"/>
          <a:stretch/>
        </p:blipFill>
        <p:spPr>
          <a:xfrm>
            <a:off x="179280" y="115920"/>
            <a:ext cx="478656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03280" y="25992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4747"/>
                </a:solidFill>
                <a:latin typeface="Calibri"/>
              </a:rPr>
              <a:t>Скульптура Банкира</a:t>
            </a:r>
            <a:br>
              <a:rPr sz="2700"/>
            </a:b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5003280" y="981000"/>
            <a:ext cx="396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Идет к своему кабриолету Банкир. В автомобиле его уже ожидает личный водитель. Сиденье у автомобиля выполнено в виде плетёного дивана.  Место установки памятника выбрано не случайно - позади финансиста расположено здание Государственного Банка. Отличительные признаки банкира - это золотая цепочка и печатка. И эта скульптура не обошлась без легенд, говорят, если потрешь перстень на правой руке банкира, то будешь жить всегда в достатке. 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0" name="Picture 2" descr="C:\Users\1\Documents\Новая папка\фото\фото 2009\фото 2009\памятники\памятники 024.jpg"/>
          <p:cNvPicPr/>
          <p:nvPr/>
        </p:nvPicPr>
        <p:blipFill>
          <a:blip r:embed="rId1"/>
          <a:stretch/>
        </p:blipFill>
        <p:spPr>
          <a:xfrm>
            <a:off x="179280" y="189000"/>
            <a:ext cx="2952720" cy="3935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C:\Users\1\Desktop\памятники\памятники 028.jpg"/>
          <p:cNvPicPr/>
          <p:nvPr/>
        </p:nvPicPr>
        <p:blipFill>
          <a:blip r:embed="rId2"/>
          <a:stretch/>
        </p:blipFill>
        <p:spPr>
          <a:xfrm>
            <a:off x="2484360" y="2852640"/>
            <a:ext cx="287964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56360" y="1052280"/>
            <a:ext cx="2682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4747"/>
                </a:solidFill>
                <a:latin typeface="Calibri"/>
              </a:rPr>
              <a:t>Фонтан «Спираль времени»</a:t>
            </a:r>
            <a:br>
              <a:rPr sz="4400"/>
            </a:b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08000" y="4723920"/>
            <a:ext cx="8928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Так же как и скульптуры, ко дню города ул. Вайнера украсил фонтан «Спираль времени». Фонтан представляет собой спираль времени, в центре которой шар, висящий на водяном столбе. Лучи, соединяющие временные потоки, символизируют наш мир. Фонтан еще раз напоминает нам о том, что прошлое, настоящее и будущее тесно связаны между собой, ведь без прошлого нет будущего. А в Екатеринбурге появилось еще одно место, где можно бросить на счастье монетку и загадать желание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4" name="Picture 2" descr="C:\Users\1\Documents\Новая папка\фото\фото 2009\фото 2009\памятники\памятники 031.jpg"/>
          <p:cNvPicPr/>
          <p:nvPr/>
        </p:nvPicPr>
        <p:blipFill>
          <a:blip r:embed="rId1"/>
          <a:stretch/>
        </p:blipFill>
        <p:spPr>
          <a:xfrm>
            <a:off x="108000" y="11592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42920" y="333000"/>
            <a:ext cx="41958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4747"/>
                </a:solidFill>
                <a:latin typeface="Calibri"/>
              </a:rPr>
              <a:t>Берлинский медведь.</a:t>
            </a:r>
            <a:br>
              <a:rPr sz="2700"/>
            </a:b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716000" y="1052280"/>
            <a:ext cx="42483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Этот подарок ко Дню города екатеринбуржцам сделал генеральный консул Германии в Екатеринбурге Тило Клиннер. Медведь, который на протяжении 7 столетий украшает Берлинский герб, теперь "станет символом дружбы Германии и Урала". Проводили конкурс на лучшее оформление, победителем которого стала 11-летняя Динара Проточанская. Девочка предложила украсить медведя героями сказки "Бременские музыканты". Ее эскизы были признаны лучшими из 50 представленных екатеринбургскими художниками проектов. А раскрасить медведя помог нижнетагильский художник Денис Тевеков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7" name="Picture 2" descr="C:\Users\1\Documents\Новая папка\фото\фото 2009\фото 2009\памятники\памятники 032.jpg"/>
          <p:cNvPicPr/>
          <p:nvPr/>
        </p:nvPicPr>
        <p:blipFill>
          <a:blip r:embed="rId1"/>
          <a:stretch/>
        </p:blipFill>
        <p:spPr>
          <a:xfrm>
            <a:off x="179280" y="260280"/>
            <a:ext cx="44830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716000" y="76320"/>
            <a:ext cx="424836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4747"/>
                </a:solidFill>
                <a:latin typeface="Calibri"/>
              </a:rPr>
              <a:t>Памятник Влюбленным</a:t>
            </a:r>
            <a:br>
              <a:rPr sz="2700"/>
            </a:b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859280" y="1125000"/>
            <a:ext cx="410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В Екатеринбурге к 285-летию города в 2006 году установили памятник влюбленным. Автор скульптурной композиции София Прохоренко.  Влюблённые сидят на перилах сразу за перекрестком улиц Вайнера и Малышева. «Влюбленные» - это мечтательный молодой человек, и его задумчивая подруга. Бронзовая обувь появилась возле скульптуры лишь через неделю после открытия «Влюбленных»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60" name="Picture 2" descr="C:\Users\1\Documents\Новая папка\фото\фото 2009\фото 2009\памятники\памятники 035.jpg"/>
          <p:cNvPicPr/>
          <p:nvPr/>
        </p:nvPicPr>
        <p:blipFill>
          <a:blip r:embed="rId1"/>
          <a:stretch/>
        </p:blipFill>
        <p:spPr>
          <a:xfrm>
            <a:off x="108000" y="189000"/>
            <a:ext cx="4622760" cy="61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8000" y="981000"/>
            <a:ext cx="273528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4747"/>
                </a:solidFill>
                <a:latin typeface="Calibri"/>
              </a:rPr>
              <a:t>Скульптура </a:t>
            </a:r>
            <a:br>
              <a:rPr sz="4000"/>
            </a:br>
            <a:r>
              <a:rPr b="1" lang="ru-RU" sz="4000" spc="-1" strike="noStrike">
                <a:solidFill>
                  <a:srgbClr val="474747"/>
                </a:solidFill>
                <a:latin typeface="Calibri"/>
              </a:rPr>
              <a:t>«Друзья - кузнец, лошадь и собака»</a:t>
            </a:r>
            <a:br>
              <a:rPr sz="2700"/>
            </a:b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79280" y="4724280"/>
            <a:ext cx="8856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Прогуливаясь по улице Вайнера, можно увидеть еще одну скульптуру, официальное название которой «Друзья». Скульптура установлена на углу улиц Вайнера и Попова. Друзья – это мужчина, предано смотрящая на него собака и лошадь. Мужчина - это модный кузнец и философ Лысяков.</a:t>
            </a:r>
            <a:endParaRPr b="0" lang="en-US" sz="25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63" name="Picture 2" descr="C:\Users\1\Documents\Новая папка\фото\фото 2009\фото 2009\памятники\памятники 020.jpg"/>
          <p:cNvPicPr/>
          <p:nvPr/>
        </p:nvPicPr>
        <p:blipFill>
          <a:blip r:embed="rId1"/>
          <a:stretch/>
        </p:blipFill>
        <p:spPr>
          <a:xfrm>
            <a:off x="2987640" y="189000"/>
            <a:ext cx="6012000" cy="450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8:46:09Z</dcterms:created>
  <dc:creator>1</dc:creator>
  <dc:description/>
  <dc:language>en-US</dc:language>
  <cp:lastModifiedBy>NT</cp:lastModifiedBy>
  <dcterms:modified xsi:type="dcterms:W3CDTF">2012-10-08T18:46:58Z</dcterms:modified>
  <cp:revision>13</cp:revision>
  <dc:subject/>
  <dc:title>Проект «Городские прогулки»: знакомимся с памятниками улицы Вайнера</dc:title>
</cp:coreProperties>
</file>