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5D18-AEA8-49EC-9D3E-F0BDA6C2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DA5F-0D22-4799-8666-5ECEDEBD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613E86-F018-4BC9-B234-0BDAEBCD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1C0805-F0BF-4B90-9793-F6060CE6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A7B432-D6AB-4864-A764-F937C861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FE3E97-D86F-4A9F-A7D6-E85F94FE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DDE060-BA24-4166-9355-11AB35B0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17531A-6EDB-4370-94F9-354B1FF3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03E958-2EF6-44E7-95A2-E6150089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1BC572-6529-413E-B84B-37871C3E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323BC9-01C3-43F0-AEEC-3A120005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C1213F-7FDF-4C89-A13D-CEFA4080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9FCC-D31A-499B-9B0D-057BAFC5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82960E-D5EB-405B-9A40-445F4372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C79203-4FEF-4B22-9E73-A74B340F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458D4C-B5D9-4431-90EC-DC70B638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F26DF9-F275-4B80-AB43-A4C1A17B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C90874-B3C2-478E-88DE-9C8E4BDA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A84605-8DBC-462F-A3DD-79AC950A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B8499F-CE5C-48AE-8234-39AB616F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EDD68D-DC18-4269-81F8-74C69380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CC7450-E7BA-4C03-84ED-50D1124C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F42CF5-D3E5-447E-A4DD-EC8E54FE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12F5-7E5B-4425-B0F3-28CE0446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CF0E59-73C7-47CB-BDE1-650D8C6E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448E88-581C-4320-871F-6915689A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58A51A-68BC-4B17-8E96-9C88C14F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A0EBE5-1E17-4B46-BD41-4A5AEC85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40B6C4-8D51-451E-BF66-FA8BCAD9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48A4DD-B836-4910-80BE-FA981579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45674C-550F-488D-B201-C90DCD90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FFCAC1-76A7-441B-AB44-E9D73CFA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209E13-ECB9-4A75-8D14-2D9D292C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FA24A6-3072-4F26-A9A6-F283CB71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3417-BC5D-44AA-B8E3-3AC2F913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73AC11-FBEE-43E6-8D00-BA67223D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93A0AC-EDB5-4253-AEE2-B214B6C3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B38EE5-72BA-447E-B365-8CA9DAE2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A8CA86-6400-4002-8CCF-4698687E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733C81-009C-4264-9F4D-3E89C536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0B7BF0-5533-4E0D-B951-708D7D75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B6FD46-BFC5-4F36-8799-FF334AC7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5DF43F-C694-4301-AD3D-2C1A654B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DEDA3C-4665-4B55-B42A-916C3B08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75ADFD-0A68-4F65-B376-44A240B8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58A1-C134-4A1E-B185-E91ACD28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AB0E0F-3F00-4358-9B5B-CEE8D723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219C18-CB0C-4279-8D5D-AA655607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0CE6AD-4BB6-4691-81FB-501BDFF9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AB2181-204D-4638-AD17-883142C8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0EA6AE-751B-4A69-84FD-0D43D249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501B24-5D7C-442C-94F3-5E486891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37A0F3-3C48-48EC-BEAC-DB841F94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95BEC2-6F09-4A57-ACDD-B1246A13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FF0674-26D4-45E7-A2ED-758D0F0F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DB7705-28C8-434F-9EEE-85DD0ABB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B103-EA87-45FA-96C9-13257AF7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7E5FEA-D5FA-4264-86FB-696B849A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DAACBD-0149-4BCC-BFF5-2FB7A654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94B252-DD1B-4728-9F11-5C377357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8B7C8B-0648-4D52-873E-4AF7C9F5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D46BE0-5019-4449-A2BC-183C6E03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EBA308-AA51-4C89-AAEB-BAD00A0E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385682-BC70-4CC7-BC3B-635547CEB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58C9BD-1A73-41EB-BA4E-7168ED75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83B6FB-4C37-442E-9C6B-5C89756A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6FEAB4-A642-41F4-9446-5B6B6783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D404-19CC-4346-AB53-CA345D95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1FEB457-483C-4551-BE89-BB2572BA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5C43FC-B8EA-4778-BD54-F7204504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6680A23-E135-48E2-A40B-4D424738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B4D6CF-5D62-47C3-887A-F70C3ACB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60848A3-3879-4439-9E9D-5231470D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70FF196-4903-4936-83F7-2D3FE5BF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ECB8261-E3A4-4208-8555-92BCEB5F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1E33154-8162-44D9-A794-1BFD2B8D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84CB068-098F-46E0-996B-610D8992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41C026D-84DC-4BD7-8FA3-C90648F8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1A27-8ECE-495F-81B8-33A06C01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2E58C9E-6C1A-4C37-BF4F-B6278336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97B1F62-50F8-494C-88CB-046B379C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95F7388-5D4E-4B6C-94FF-62BEF67E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DB16AAF-350C-4AD1-BA30-1E1829B6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196CD76-3786-47FA-93C7-456B0B08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779699A-EC50-4359-B554-D8C77332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21D9E25-56BA-4820-9673-BED20C4A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E741DAB-101A-47D3-AE43-C401B9FD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1AB1AF8-A797-439B-BC06-3C30CF9A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088A26-E78D-41B9-9F34-BB05BEDB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94D4-3941-4F51-AC8B-E89E8B5E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EB2959A-2933-48C6-A7F1-88E3F7BB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CF82-78F9-4856-A7BD-20F2D72F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DB1E-94D6-495B-8359-BBA25611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BAE5-B71F-45CB-9591-C55A8040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7817-F8F7-464F-A045-854AB45E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0F8E-BA8C-4EE3-8FB7-83BAA688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66F7-43E2-4001-8E3C-BA1E8817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3D41-E149-4B8D-9B3F-06725403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F4BFF-BB41-4FD7-A71C-01497B86BB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76D2C6-7D08-4DD5-BCC0-FE77954799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EB5B2-C6E3-43B7-AA96-63ADBCABF9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54CCDC-BEE0-4E7E-A5AE-524424B07A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8D3AFE-A2B1-48AA-9F6B-7A2E00AB24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BB6B-92E2-4D10-AA03-D0372771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2ADA1-AE32-4FA2-AAD7-91C7E2097D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0F0309-112D-47F3-9D5B-8F2576B1C3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4B247D-DA11-4B44-9694-49EDA9BE7A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5B40D-7970-4E93-87B3-ED33E68D411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A9C30D-B54B-4A4D-8035-E575F463E1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A1AF27-5D1D-44E5-967D-37E9547D9E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59A4D-F9A1-4C9C-A312-964D7151A77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C1803B-111E-4325-A825-4A086B12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F9F4C1-06A2-41F1-9DF0-2E1AB99D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3DFFB3-E5FF-47E8-8D96-89ACF0E5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29FB-CC9C-46DE-A1AF-FD0502AA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590AB5-AC47-4524-943E-0709F970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262599-FF20-49C1-8BAA-0E268D43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451FDD-2499-48AD-967C-33EE839E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C2A94C-C86A-4ECD-824F-BE840517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D6E7E7-B9B3-4D39-B6F8-1BBD8756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1EEEAF-3F5B-4B58-A418-81B17233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FBBD45-10AC-448B-B82F-5BDD3C91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AEA10D-0B57-4362-9FE2-480C8681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6E8387-1F07-49AE-BFD1-11C203A0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9BD61C-31F2-40EB-B9B9-516AD1C1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9875-6A32-4F71-B004-4AFEBD00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49C85F-EE1D-4005-9C8F-0EDAF9B8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212EE7-0FBA-4852-B57A-9852DD16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212231-A5A2-497B-83A9-A589E3D4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70C5C6-0CE6-4332-ABA8-98AC416A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1BC80E-3DFB-4497-ACA3-8E009E98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EBA987-D9CC-4459-9EFC-B8F74AE4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C535D9-8AA0-47FA-9737-FC0C04BC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3993C3-C6CB-4F4F-A096-B679E8A6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FA72CB-D658-4758-B0C9-F55D796F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F57287-0D73-4B04-9DA7-7B19B89C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0D2C-9A52-4BEB-8118-5CD1C7C4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F96D30-5DF0-4FAA-BF94-5FF8A5239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3ED811-E5AB-4CF1-9D77-F1AC1CA2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643AC8-3712-4DFB-8448-9AACBA05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AA0C80-41F1-44F3-8ADF-7DDAF4E4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E9FCE5-F575-4BFC-AEC8-93B2BCA7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BFCB7B-ED9D-4790-8B2D-2D16A803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C1CA99-75D0-4461-91A7-1CC6F5DC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5F8119-D4C1-4125-B188-3F9790BB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E288F2-3D0A-418A-B53A-A0F0A3F9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655551-613B-4202-8549-44BD54A1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E65C-E5E2-450E-B9A0-97D6EA99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379A33-7C43-4E38-94FC-C25BA11F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F1D8BF-B7E2-48AD-89F5-DB5F2DF9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EB13D9-AF4E-4B78-BC23-51ECC51D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27B8EB-941B-442D-85CB-9C4CF847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74C3BC-0A50-4284-B44B-DA21810D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C96652-128A-4F5C-84A9-DC9F564D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B0F303-A614-4555-B278-A0A08D0D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7E7178-2DAF-42F2-B3F3-7EECAA7E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313106-681A-4FC2-8213-5772A2AB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B066D1-FFC0-4C87-BDEC-04C5B937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2AC7-44BF-4367-9033-288F84C5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8C55D4-D27E-4500-BE7B-28E4DA62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076C87-CEC5-4DED-886A-69A86C31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6CD3FB-C166-4900-92F2-FEA484E6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FD6217-E741-4831-909B-45C2C35D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F85B7F-F011-46D3-84CF-7810916D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9FEBA0-6EC6-4BBE-90F1-F70DEDF8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749B82-6233-4525-8E6E-D6278B86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C2CB66-6D10-4E76-8633-859A0936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69BC35-31C3-4C8D-A0A6-EDEEC940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A65569-FB6C-4F4C-91E7-44256E88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9D80-81D7-40A8-B242-9CAA7AF1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59CC0E-BE38-4796-953C-9C0DB8EB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26DDC9-D53E-4DB5-8161-236FD695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F757A3-6900-469C-95DD-928F90CC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09BB40-BE3D-480D-97D9-B4C81C93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A5E635-2E8B-4D55-90A5-B3F8C811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9567AE-9835-41FA-B31D-F8221E16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E692C2-91C3-4613-BD66-EF46332D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8D9C00-E7E8-4528-951D-418C30CF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07CC2C-4B71-4F9E-A8A0-D63CABA1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45AB36-D4A3-4193-A722-6A3ECF22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00BE-8201-4714-854C-7ED98CD85E56}" type="slidenum">
              <a:rPr b="0" lang="ru-RU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1CE6-D9C7-4B9C-A5A6-D01A0E5E3A3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A01B-F3B6-4143-BE33-016EDE633F7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F237-F381-4808-BEB5-192BD8D009B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50F3-6695-4952-8BAD-2C8C0CAD5D1E}" type="slidenum">
              <a:rPr b="0" lang="ru-RU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7474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7C31-91E9-496C-B23E-6D3676C78FDE}" type="slidenum">
              <a:rPr b="0" lang="ru-RU" sz="1200" spc="-1" strike="noStrike">
                <a:solidFill>
                  <a:srgbClr val="47474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2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C6DB-E378-4246-9B56-A4406A6287F9}" type="slidenum">
              <a:rPr b="0" lang="ru-RU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268B-92AD-4434-93AB-CCDF1CEBE28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38240"/>
            <a:ext cx="2170080" cy="2779920"/>
            <a:chOff x="706320" y="1938240"/>
            <a:chExt cx="2170080" cy="277992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38240"/>
              <a:ext cx="2170080" cy="27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0080" y="1987560"/>
            <a:ext cx="1596960" cy="1305000"/>
            <a:chOff x="1000080" y="1987560"/>
            <a:chExt cx="1596960" cy="130500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0080" y="1987560"/>
              <a:ext cx="15969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1496-27E5-4F7E-AE28-F4A9E19B9579}" type="slidenum">
              <a:rPr b="0" lang="ru-RU" sz="1200" spc="-1" strike="noStrike">
                <a:solidFill>
                  <a:srgbClr val="47474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7474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314B-4E75-41FC-804C-09B5B6756D28}" type="slidenum">
              <a:rPr b="0" lang="ru-RU" sz="1200" spc="-1" strike="noStrike">
                <a:solidFill>
                  <a:srgbClr val="47474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7474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B56E-059F-4344-9CC9-EB91C5D19780}" type="slidenum">
              <a:rPr b="0" lang="ru-RU" sz="1200" spc="-1" strike="noStrike">
                <a:solidFill>
                  <a:srgbClr val="47474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A1AA-D66F-426D-9269-865C17D318BB}" type="slidenum">
              <a:rPr b="0" lang="ru-RU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6A76-9C33-4793-939B-963DF219BF7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5FDF-69EC-4802-84C8-87D1EC43E5C9}" type="slidenum">
              <a:rPr b="0" lang="ru-RU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-6480" y="2889360"/>
            <a:ext cx="7559640" cy="2146320"/>
            <a:chOff x="-6480" y="2889360"/>
            <a:chExt cx="7559640" cy="21463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2889360"/>
              <a:ext cx="755964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AFFC-7732-4E70-9E54-06131E6E87F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3708360" y="691920"/>
            <a:ext cx="5105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2000"/>
          </a:bodyPr>
          <a:p>
            <a:pPr marL="2469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c5c5c"/>
                </a:solidFill>
                <a:latin typeface="Calibri"/>
              </a:rPr>
              <a:t>Составила учитель-логопед ДОУ</a:t>
            </a:r>
            <a:r>
              <a:rPr b="1" i="1" lang="ru-RU" sz="2800" spc="-1" strike="noStrike">
                <a:solidFill>
                  <a:srgbClr val="5c5c5c"/>
                </a:solidFill>
                <a:latin typeface="Calibri"/>
              </a:rPr>
              <a:t> Турыгина А.А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title"/>
          </p:nvPr>
        </p:nvSpPr>
        <p:spPr>
          <a:xfrm>
            <a:off x="105840" y="2997360"/>
            <a:ext cx="7418520" cy="18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Проект «Городские прогулки»: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знакомимся с памятниками улицы Вайнера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9" name="TextBox 4"/>
          <p:cNvSpPr/>
          <p:nvPr/>
        </p:nvSpPr>
        <p:spPr>
          <a:xfrm>
            <a:off x="1835280" y="530064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филиал МБДОУ – детского сада комбинированного вида «Надежда» - детский сад комбинированного вида №475 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Г. Екатеринбург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36680" y="75960"/>
            <a:ext cx="840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4747"/>
                </a:solidFill>
                <a:latin typeface="Calibri"/>
              </a:rPr>
              <a:t>«Городские прогулки»: улица Вайнера.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Улица Вайнера от Ленина до Радищева является пешеходной. У горожан она является излюбленным местом для прогулок, и именуют они его "Уральский Арбат". Помимо магазинов и кафе здесь находится большое количество скульптурных композиций из бронзы.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Все памятники на улице Вайнера установили летом 2006 года.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55280" y="2491920"/>
            <a:ext cx="786780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62626"/>
                </a:solidFill>
                <a:latin typeface="Calibri"/>
              </a:rPr>
              <a:t>ЦЕЛЬ ПРОЕКТА: ПОЗНАКОМИТЬ ДЕТЕЙ С ДОСТОПРИМЕЧАТЕЛЬНОСТЯМИ РОДНОГО ГОРОДА.</a:t>
            </a:r>
            <a:endParaRPr b="0" lang="en-US" sz="3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727272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148360" y="404640"/>
            <a:ext cx="369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74747"/>
                </a:solidFill>
                <a:latin typeface="Calibri"/>
              </a:rPr>
              <a:t>Коробейник</a:t>
            </a:r>
            <a:br>
              <a:rPr sz="3600"/>
            </a:br>
            <a:endParaRPr b="0" lang="en-US" sz="4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5003280" y="907560"/>
            <a:ext cx="40323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Коробейник сразу выделяется среди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прохожих - ростом. В сюртуке, с лотком, на котором - все, что женщине надо - пудра, духи, помада. Памятник находится на месте, где всегда шла торговля. Это очень тонкая работа. Он не просто тяжелый - Коробейник например, весит 700 кг - а еще и устойчивый: под землей основа памятника только в длину больше метра.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С первых же минут открытия  горожане фотографируются с Коробейником.  Появился даже ритуал - загадать желание и потереть флакончик духов, который предлагает купить Коробейник. По крайней мере, изучая  скульптуру, пузырек трогали абсолютно все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4" name="Picture 4" descr="C:\Users\1\Documents\Новая папка\фото\фото 2009\фото 2009\памятники\памятники 022.jpg"/>
          <p:cNvPicPr/>
          <p:nvPr/>
        </p:nvPicPr>
        <p:blipFill>
          <a:blip r:embed="rId1"/>
          <a:stretch/>
        </p:blipFill>
        <p:spPr>
          <a:xfrm>
            <a:off x="108000" y="115920"/>
            <a:ext cx="4786200" cy="638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932000" y="189000"/>
            <a:ext cx="4211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474747"/>
                </a:solidFill>
                <a:latin typeface="Calibri"/>
              </a:rPr>
              <a:t>Бронзовый Велосипедист </a:t>
            </a:r>
            <a:br>
              <a:rPr sz="2700"/>
            </a:br>
            <a:r>
              <a:rPr b="0" lang="ru-RU" sz="2700" spc="-1" strike="noStrike">
                <a:solidFill>
                  <a:srgbClr val="474747"/>
                </a:solidFill>
                <a:latin typeface="Calibri"/>
              </a:rPr>
              <a:t> </a:t>
            </a:r>
            <a:br>
              <a:rPr sz="2700"/>
            </a:br>
            <a:endParaRPr b="0" lang="en-US" sz="2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5003280" y="907920"/>
            <a:ext cx="396108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262626"/>
                </a:solidFill>
                <a:latin typeface="Calibri"/>
              </a:rPr>
              <a:t>(памятник создателю велосипеда Е. Артамонову)</a:t>
            </a:r>
            <a:endParaRPr b="0" lang="en-US" sz="21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В Екатеринбурге к 285-летию города в 2006 году установили памятник</a:t>
            </a:r>
            <a:r>
              <a:rPr b="1" lang="ru-RU" sz="24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создателю велосипеда Ефиму Артамонову. По легенде, именно Артамонов придумал новое транспортное средство и отправился на нем в Москву на коронацию АлександраI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Современники не оценили заслуг изобретателя. Говорят, он был бит розгами за то, что пугал лошадей, катаясь на велосипеде по городу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7" name="Picture 3" descr="C:\Users\1\Documents\Новая папка\фото\фото 2009\фото 2009\памятники\памятники 019.jpg"/>
          <p:cNvPicPr/>
          <p:nvPr/>
        </p:nvPicPr>
        <p:blipFill>
          <a:blip r:embed="rId1"/>
          <a:stretch/>
        </p:blipFill>
        <p:spPr>
          <a:xfrm>
            <a:off x="179280" y="115920"/>
            <a:ext cx="4786560" cy="63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03280" y="259920"/>
            <a:ext cx="4032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4747"/>
                </a:solidFill>
                <a:latin typeface="Calibri"/>
              </a:rPr>
              <a:t>Скульптура Банкира</a:t>
            </a:r>
            <a:br>
              <a:rPr sz="2700"/>
            </a:b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5003280" y="981000"/>
            <a:ext cx="3961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Calibri"/>
              </a:rPr>
              <a:t>Идет к своему кабриолету Банкир. В автомобиле его уже ожидает личный водитель. Сиденье у автомобиля выполнено в виде плетёного дивана.  Место установки памятника выбрано не случайно - позади финансиста расположено здание Государственного Банка. Отличительные признаки банкира - это золотая цепочка и печатка. И эта скульптура не обошлась без легенд, говорят, если потрешь перстень на правой руке банкира, то будешь жить всегда в достатке. 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50" name="Picture 2" descr="C:\Users\1\Documents\Новая папка\фото\фото 2009\фото 2009\памятники\памятники 024.jpg"/>
          <p:cNvPicPr/>
          <p:nvPr/>
        </p:nvPicPr>
        <p:blipFill>
          <a:blip r:embed="rId1"/>
          <a:stretch/>
        </p:blipFill>
        <p:spPr>
          <a:xfrm>
            <a:off x="179280" y="189000"/>
            <a:ext cx="2952720" cy="393516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2" descr="C:\Users\1\Desktop\памятники\памятники 028.jpg"/>
          <p:cNvPicPr/>
          <p:nvPr/>
        </p:nvPicPr>
        <p:blipFill>
          <a:blip r:embed="rId2"/>
          <a:stretch/>
        </p:blipFill>
        <p:spPr>
          <a:xfrm>
            <a:off x="2484360" y="2852640"/>
            <a:ext cx="287964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156360" y="1052280"/>
            <a:ext cx="2682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74747"/>
                </a:solidFill>
                <a:latin typeface="Calibri"/>
              </a:rPr>
              <a:t>Фонтан «Спираль времени»</a:t>
            </a:r>
            <a:br>
              <a:rPr sz="4400"/>
            </a:b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108000" y="4723920"/>
            <a:ext cx="8928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alibri"/>
              </a:rPr>
              <a:t>Так же как и скульптуры, ко дню города ул. Вайнера украсил фонтан «Спираль времени». Фонтан представляет собой спираль времени, в центре которой шар, висящий на водяном столбе. Лучи, соединяющие временные потоки, символизируют наш мир. Фонтан еще раз напоминает нам о том, что прошлое, настоящее и будущее тесно связаны между собой, ведь без прошлого нет будущего. А в Екатеринбурге появилось еще одно место, где можно бросить на счастье монетку и загадать желание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54" name="Picture 2" descr="C:\Users\1\Documents\Новая папка\фото\фото 2009\фото 2009\памятники\памятники 031.jpg"/>
          <p:cNvPicPr/>
          <p:nvPr/>
        </p:nvPicPr>
        <p:blipFill>
          <a:blip r:embed="rId1"/>
          <a:stretch/>
        </p:blipFill>
        <p:spPr>
          <a:xfrm>
            <a:off x="108000" y="11592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42920" y="333000"/>
            <a:ext cx="41958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4747"/>
                </a:solidFill>
                <a:latin typeface="Calibri"/>
              </a:rPr>
              <a:t>Берлинский медведь.</a:t>
            </a:r>
            <a:br>
              <a:rPr sz="2700"/>
            </a:b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716000" y="1052280"/>
            <a:ext cx="42483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Этот подарок ко Дню города екатеринбуржцам сделал генеральный консул Германии в Екатеринбурге Тило Клиннер. Медведь, который на протяжении 7 столетий украшает Берлинский герб, теперь "станет символом дружбы Германии и Урала". Проводили конкурс на лучшее оформление, победителем которого стала 11-летняя Динара Проточанская. Девочка предложила украсить медведя героями сказки "Бременские музыканты". Ее эскизы были признаны лучшими из 50 представленных екатеринбургскими художниками проектов. А раскрасить медведя помог нижнетагильский художник Денис Тевеков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57" name="Picture 2" descr="C:\Users\1\Documents\Новая папка\фото\фото 2009\фото 2009\памятники\памятники 032.jpg"/>
          <p:cNvPicPr/>
          <p:nvPr/>
        </p:nvPicPr>
        <p:blipFill>
          <a:blip r:embed="rId1"/>
          <a:stretch/>
        </p:blipFill>
        <p:spPr>
          <a:xfrm>
            <a:off x="179280" y="260280"/>
            <a:ext cx="448308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716000" y="76320"/>
            <a:ext cx="4248360" cy="104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4747"/>
                </a:solidFill>
                <a:latin typeface="Calibri"/>
              </a:rPr>
              <a:t>Памятник Влюбленным</a:t>
            </a:r>
            <a:br>
              <a:rPr sz="2700"/>
            </a:b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859280" y="1125000"/>
            <a:ext cx="410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Calibri"/>
              </a:rPr>
              <a:t>В Екатеринбурге к 285-летию города в 2006 году установили памятник влюбленным. Автор скульптурной композиции София Прохоренко.  Влюблённые сидят на перилах сразу за перекрестком улиц Вайнера и Малышева. «Влюбленные» - это мечтательный молодой человек, и его задумчивая подруга. Бронзовая обувь появилась возле скульптуры лишь через неделю после открытия «Влюбленных»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60" name="Picture 2" descr="C:\Users\1\Documents\Новая папка\фото\фото 2009\фото 2009\памятники\памятники 035.jpg"/>
          <p:cNvPicPr/>
          <p:nvPr/>
        </p:nvPicPr>
        <p:blipFill>
          <a:blip r:embed="rId1"/>
          <a:stretch/>
        </p:blipFill>
        <p:spPr>
          <a:xfrm>
            <a:off x="108000" y="189000"/>
            <a:ext cx="4622760" cy="616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08000" y="981000"/>
            <a:ext cx="273528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74747"/>
                </a:solidFill>
                <a:latin typeface="Calibri"/>
              </a:rPr>
              <a:t>Скульптура </a:t>
            </a:r>
            <a:br>
              <a:rPr sz="4000"/>
            </a:br>
            <a:r>
              <a:rPr b="1" lang="ru-RU" sz="4000" spc="-1" strike="noStrike">
                <a:solidFill>
                  <a:srgbClr val="474747"/>
                </a:solidFill>
                <a:latin typeface="Calibri"/>
              </a:rPr>
              <a:t>«Друзья - кузнец, лошадь и собака»</a:t>
            </a:r>
            <a:br>
              <a:rPr sz="2700"/>
            </a:b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79280" y="4724280"/>
            <a:ext cx="8856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Прогуливаясь по улице Вайнера, можно увидеть еще одну скульптуру, официальное название которой «Друзья». Скульптура установлена на углу улиц Вайнера и Попова. Друзья – это мужчина, предано смотрящая на него собака и лошадь. Мужчина - это модный кузнец и философ Лысяков.</a:t>
            </a:r>
            <a:endParaRPr b="0" lang="en-US" sz="25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63" name="Picture 2" descr="C:\Users\1\Documents\Новая папка\фото\фото 2009\фото 2009\памятники\памятники 020.jpg"/>
          <p:cNvPicPr/>
          <p:nvPr/>
        </p:nvPicPr>
        <p:blipFill>
          <a:blip r:embed="rId1"/>
          <a:stretch/>
        </p:blipFill>
        <p:spPr>
          <a:xfrm>
            <a:off x="2987640" y="189000"/>
            <a:ext cx="6012000" cy="450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8:46:09Z</dcterms:created>
  <dc:creator>1</dc:creator>
  <dc:description/>
  <dc:language>en-US</dc:language>
  <cp:lastModifiedBy>NT</cp:lastModifiedBy>
  <dcterms:modified xsi:type="dcterms:W3CDTF">2012-10-08T18:46:58Z</dcterms:modified>
  <cp:revision>13</cp:revision>
  <dc:subject/>
  <dc:title>Проект «Городские прогулки»: знакомимся с памятниками улицы Вайнера</dc:title>
</cp:coreProperties>
</file>