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3.wmf" ContentType="image/x-wmf"/>
  <Override PartName="/ppt/media/image26.wmf" ContentType="image/x-wmf"/>
  <Override PartName="/ppt/media/image28.gif" ContentType="image/gif"/>
  <Override PartName="/ppt/media/image5.gif" ContentType="image/gif"/>
  <Override PartName="/ppt/media/image8.png" ContentType="image/png"/>
  <Override PartName="/ppt/media/image14.png" ContentType="image/png"/>
  <Override PartName="/ppt/media/image9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3.png" ContentType="image/png"/>
  <Override PartName="/ppt/media/image12.jpeg" ContentType="image/jpeg"/>
  <Override PartName="/ppt/media/image30.png" ContentType="image/png"/>
  <Override PartName="/ppt/media/image2.wmf" ContentType="image/x-wmf"/>
  <Override PartName="/ppt/media/image29.gif" ContentType="image/gif"/>
  <Override PartName="/ppt/media/image25.wmf" ContentType="image/x-wmf"/>
  <Override PartName="/ppt/media/image1.jpeg" ContentType="image/jpeg"/>
  <Override PartName="/ppt/media/image10.png" ContentType="image/png"/>
  <Override PartName="/ppt/media/image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ACE4-A1CF-41F7-A94B-8159A1183D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33F0-63F2-4581-9DF6-A70520A98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5011-7EA5-47A5-A16F-CC2441FA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4569-C2BB-4CBC-A95A-07817C57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0144-FF59-4AC6-B335-3FA1FF37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5DD1-24E6-4972-B11F-77528871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6A19-954F-4E61-AC6A-60079F38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BDDF-1BA1-46C2-AB28-7F37CE31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3F5D-C8C6-4F47-8106-9E6611F2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ABFE-D437-446F-B44B-F97F8831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B193-B677-479B-B43E-2F3D7081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B5D3-6A80-43FE-8542-5E4DE3FA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4D5F-2538-4844-B1BF-1C47E24F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CB6F-028D-42D7-B466-E32F545D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32B8-A287-49CF-B740-54FDEB0F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1AE5-0A49-4916-BE68-B8E397F3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BDAB-C1E2-45DE-9ABE-863D1DDA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8400-3AB8-4211-A141-ADD6DA5C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7190-822B-462F-BD80-279EE3C2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D056-6ACB-4AE4-A3BD-E80EAD5C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0318-8DE2-4159-9476-97E243F1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ED7F-6DD8-4641-A0F4-B788E7B4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4026-AFFC-4193-B81A-12D67F62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4DE8-298C-492A-A53D-FC583806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C62F-7C69-485F-A868-63E0756F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9DC3-BB8D-4CD8-98F9-F986E709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аснодар МОУ СОШ 73 Нарыкова А.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0E5C-6866-4481-A362-A7F2F26950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/>
              <a:ahLst/>
              <a:rect l="l" t="t" r="r" b="b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/>
              <a:ahLst/>
              <a:rect l="l" t="t" r="r" b="b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/>
              <a:ahLst/>
              <a:rect l="l" t="t" r="r" b="b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/>
              <a:ahLst/>
              <a:rect l="l" t="t" r="r" b="b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/>
              <a:ahLst/>
              <a:rect l="l" t="t" r="r" b="b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/>
              <a:ahLst/>
              <a:rect l="l" t="t" r="r" b="b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/>
              <a:ahLst/>
              <a:rect l="l" t="t" r="r" b="b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/>
              <a:ahLst/>
              <a:rect l="l" t="t" r="r" b="b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/>
              <a:ahLst/>
              <a:rect l="l" t="t" r="r" b="b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/>
              <a:ahLst/>
              <a:rect l="l" t="t" r="r" b="b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/>
              <a:ahLst/>
              <a:rect l="l" t="t" r="r" b="b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/>
              <a:ahLst/>
              <a:rect l="l" t="t" r="r" b="b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120" y="1219320"/>
            <a:ext cx="7314480" cy="4571280"/>
            <a:chOff x="915120" y="1219320"/>
            <a:chExt cx="731448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25720" y="1219320"/>
              <a:ext cx="864720" cy="4546800"/>
              <a:chOff x="1125720" y="1219320"/>
              <a:chExt cx="864720" cy="45468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25720" y="122760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405800" y="1219320"/>
                <a:ext cx="0" cy="45216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702080" y="124272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90440" y="124272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120" y="1436760"/>
              <a:ext cx="7314480" cy="4094640"/>
              <a:chOff x="915120" y="1436760"/>
              <a:chExt cx="7314480" cy="409464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120" y="1436760"/>
                <a:ext cx="7294680" cy="820440"/>
                <a:chOff x="915120" y="1436760"/>
                <a:chExt cx="729468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120" y="14367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000" y="1711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50400" y="19832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7360" y="22572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4560" y="2521080"/>
                <a:ext cx="7295040" cy="820080"/>
                <a:chOff x="934560" y="2521080"/>
                <a:chExt cx="7295040" cy="82008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4560" y="252108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9440" y="27957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9840" y="306612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800" y="33411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120" y="3626640"/>
                <a:ext cx="7294680" cy="820440"/>
                <a:chOff x="915120" y="3626640"/>
                <a:chExt cx="729468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120" y="36266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000" y="39006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50400" y="41720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7360" y="44470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4560" y="4710960"/>
                <a:ext cx="7295040" cy="820440"/>
                <a:chOff x="934560" y="4710960"/>
                <a:chExt cx="7295040" cy="82044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4560" y="47109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9440" y="498564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9840" y="525672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800" y="553140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95360" y="1243080"/>
              <a:ext cx="864720" cy="4547520"/>
              <a:chOff x="2295360" y="1243080"/>
              <a:chExt cx="86472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953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7544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717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600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81560" y="1243080"/>
              <a:ext cx="864720" cy="4547520"/>
              <a:chOff x="3481560" y="1243080"/>
              <a:chExt cx="86472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815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5984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579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462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67760" y="1243080"/>
              <a:ext cx="864720" cy="4547520"/>
              <a:chOff x="4667760" y="1243080"/>
              <a:chExt cx="86472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677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4604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426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324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803560" y="1243080"/>
              <a:ext cx="864720" cy="4547520"/>
              <a:chOff x="5803560" y="1243080"/>
              <a:chExt cx="8647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8035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8076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792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682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64920" y="1243080"/>
              <a:ext cx="864720" cy="4547520"/>
              <a:chOff x="6964920" y="1243080"/>
              <a:chExt cx="86472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649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4320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3984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296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аснодар МОУ СОШ 73 Нарыкова А.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459E-884B-4071-9DEF-9DCB110A32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5.png"/><Relationship Id="rId10" Type="http://schemas.openxmlformats.org/officeDocument/2006/relationships/image" Target="../media/image20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0962-D651-487D-A387-E31B989DB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00790_"/>
          <p:cNvPicPr/>
          <p:nvPr/>
        </p:nvPicPr>
        <p:blipFill>
          <a:blip r:embed="rId1"/>
          <a:stretch/>
        </p:blipFill>
        <p:spPr>
          <a:xfrm>
            <a:off x="762120" y="2362320"/>
            <a:ext cx="3141720" cy="327636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>
            <a:off x="4535640" y="28195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2300"/>
                </a:solidFill>
                <a:latin typeface="Impact"/>
              </a:rPr>
              <a:t>2 класс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42300"/>
              </a:solidFill>
              <a:latin typeface="Impact"/>
              <a:ea typeface="Impact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971800" y="137160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2300"/>
                </a:solidFill>
                <a:latin typeface="Impact"/>
              </a:rPr>
              <a:t>Русский язы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42300"/>
              </a:solidFill>
              <a:latin typeface="Impact"/>
              <a:ea typeface="Impact"/>
            </a:endParaRPr>
          </a:p>
        </p:txBody>
      </p:sp>
      <p:sp>
        <p:nvSpPr>
          <p:cNvPr id="172" name="WordArt 10"/>
          <p:cNvSpPr txBox="1"/>
          <p:nvPr/>
        </p:nvSpPr>
        <p:spPr>
          <a:xfrm>
            <a:off x="3743280" y="3591000"/>
            <a:ext cx="4419720" cy="533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2300"/>
                </a:solidFill>
                <a:latin typeface="Impact"/>
              </a:rPr>
              <a:t>УМК «Гармония»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942300"/>
              </a:solidFill>
              <a:latin typeface="Impact"/>
              <a:ea typeface="Impact"/>
            </a:endParaRPr>
          </a:p>
        </p:txBody>
      </p:sp>
      <p:pic>
        <p:nvPicPr>
          <p:cNvPr id="173" name="TextBox 1" descr=""/>
          <p:cNvPicPr/>
          <p:nvPr/>
        </p:nvPicPr>
        <p:blipFill>
          <a:blip r:embed="rId2"/>
          <a:stretch/>
        </p:blipFill>
        <p:spPr>
          <a:xfrm>
            <a:off x="4022640" y="4370400"/>
            <a:ext cx="3902040" cy="646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3962520" y="5033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42300"/>
                </a:solidFill>
                <a:latin typeface="Arial"/>
              </a:rPr>
              <a:t>МБОУ НОШ №17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42300"/>
                </a:solidFill>
                <a:latin typeface="Arial"/>
              </a:rPr>
              <a:t>г. Невинномысс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0DBA-6F7D-4F73-BAC8-24FB93C58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"/>
          <p:cNvSpPr/>
          <p:nvPr/>
        </p:nvSpPr>
        <p:spPr>
          <a:xfrm>
            <a:off x="3733920" y="1447920"/>
            <a:ext cx="1904760" cy="1276200"/>
          </a:xfrm>
          <a:custGeom>
            <a:avLst/>
            <a:gdLst>
              <a:gd name="textAreaLeft" fmla="*/ 262440 w 1904760"/>
              <a:gd name="textAreaRight" fmla="*/ 1506960 w 1904760"/>
              <a:gd name="textAreaTop" fmla="*/ 192600 h 1276200"/>
              <a:gd name="textAreaBottom" fmla="*/ 1024560 h 12762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1219320" y="3962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066680" y="4876920"/>
            <a:ext cx="2743200" cy="76176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ВОРОБ . 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66680" y="30481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5943600" y="1828800"/>
            <a:ext cx="2438280" cy="76212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ЕМ . 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1066680" y="1828800"/>
            <a:ext cx="2514600" cy="76212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П . Ё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5943600" y="838080"/>
            <a:ext cx="243828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ПОЛ . Ё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1066680" y="762120"/>
            <a:ext cx="2514600" cy="76176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КАМ . 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1143000" y="3886200"/>
            <a:ext cx="2514600" cy="76212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ОБ . ЕЗ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6019920" y="2895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1143000" y="2895480"/>
            <a:ext cx="2514600" cy="76212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ПОД . Ё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5943600" y="2819520"/>
            <a:ext cx="2438280" cy="76176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 . ЕЗ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4038480" y="1295280"/>
            <a:ext cx="137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ъ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/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2" descr="Рисунок15"/>
          <p:cNvPicPr/>
          <p:nvPr/>
        </p:nvPicPr>
        <p:blipFill>
          <a:blip r:embed="rId1"/>
          <a:stretch/>
        </p:blipFill>
        <p:spPr>
          <a:xfrm>
            <a:off x="4114800" y="2819520"/>
            <a:ext cx="1576440" cy="23619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3"/>
          <p:cNvSpPr/>
          <p:nvPr/>
        </p:nvSpPr>
        <p:spPr>
          <a:xfrm>
            <a:off x="5943600" y="3809880"/>
            <a:ext cx="2438280" cy="76212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В . ЮГ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4"/>
          <p:cNvSpPr/>
          <p:nvPr/>
        </p:nvSpPr>
        <p:spPr>
          <a:xfrm>
            <a:off x="5867280" y="48769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5943600" y="4800600"/>
            <a:ext cx="2438280" cy="76212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ИЗ . Я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320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AEA1-91DE-4F32-AAB6-8F9085AA0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685800" y="41148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ПОД . ЕЗ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6324480" y="19051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685800" y="304812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 . Е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1066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838080" y="1066680"/>
            <a:ext cx="2743200" cy="76212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МУРАВ . 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685800" y="5181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62120" y="1905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762120" y="2057400"/>
            <a:ext cx="2743200" cy="68580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ОЛОВ . 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762120" y="5181480"/>
            <a:ext cx="251460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В . ЮГ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loud"/>
          <p:cNvSpPr/>
          <p:nvPr/>
        </p:nvSpPr>
        <p:spPr>
          <a:xfrm>
            <a:off x="6553080" y="380880"/>
            <a:ext cx="2133720" cy="1430280"/>
          </a:xfrm>
          <a:custGeom>
            <a:avLst/>
            <a:gdLst>
              <a:gd name="textAreaLeft" fmla="*/ 294120 w 2133720"/>
              <a:gd name="textAreaRight" fmla="*/ 1688040 w 2133720"/>
              <a:gd name="textAreaTop" fmla="*/ 216000 h 1430280"/>
              <a:gd name="textAreaBottom" fmla="*/ 1148040 h 1430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7238880" y="762120"/>
            <a:ext cx="685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Ь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6248520" y="1981080"/>
            <a:ext cx="243828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КОЛ . 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324480" y="29718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6248520" y="2971800"/>
            <a:ext cx="243828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ДРУЗ . 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6172200" y="41148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 . ЁМ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6172200" y="52578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ОБ . ЕЗ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1" descr="Рисунок14"/>
          <p:cNvPicPr/>
          <p:nvPr/>
        </p:nvPicPr>
        <p:blipFill>
          <a:blip r:embed="rId1"/>
          <a:stretch/>
        </p:blipFill>
        <p:spPr>
          <a:xfrm>
            <a:off x="3429000" y="2666880"/>
            <a:ext cx="2808360" cy="342900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22"/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65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394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F090-3750-4FBB-8E3D-08605980B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219320" y="2438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990720" y="34290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ОБ . ЕЗ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6172200" y="3962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1143000" y="4800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7"/>
          <p:cNvSpPr/>
          <p:nvPr/>
        </p:nvSpPr>
        <p:spPr>
          <a:xfrm>
            <a:off x="7885080" y="189000"/>
            <a:ext cx="1071720" cy="1368360"/>
          </a:xfrm>
          <a:prstGeom prst="ellipse">
            <a:avLst/>
          </a:prstGeom>
          <a:gradFill rotWithShape="0">
            <a:gsLst>
              <a:gs pos="0">
                <a:srgbClr val="dce11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101080" y="40464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Ь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8172360" y="1557360"/>
            <a:ext cx="432000" cy="14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6248520" y="2666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6019920" y="373392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РУЧ . 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990720" y="464832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БЕЛЬ . 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990720" y="121932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ПОД . ЕЗ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90720" y="22860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ЛИСТ . 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6095880" y="2666880"/>
            <a:ext cx="274320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АТЕЛ . 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8"/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2440-1B27-4E8C-B27F-65CC3A9BD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663300"/>
                </a:solidFill>
                <a:latin typeface="Arial"/>
              </a:rPr>
              <a:t>Съехал, въехал, подъехал, отъехал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ижний колонтитул 3"/>
          <p:cNvSpPr/>
          <p:nvPr/>
        </p:nvSpPr>
        <p:spPr>
          <a:xfrm>
            <a:off x="60948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3300"/>
                </a:solidFill>
                <a:latin typeface="Arial"/>
              </a:rPr>
              <a:t>заъехал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6698-86E2-4DF0-BD96-E0DFBD21E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EA7D-49B5-4AE9-A1F2-E0AF0BFB8B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Тренировоч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упраж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жная буря              _  ь _  _ 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ики для пчёл         _  _ ь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ь, отец, дети         _  _  _ ь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ое                    _  _  _  _ ь _  _ 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годы, сваренные в сах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  _  _  _  _  ь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4800600" y="1752480"/>
            <a:ext cx="2438280" cy="381240"/>
          </a:xfrm>
          <a:prstGeom prst="rect">
            <a:avLst/>
          </a:prstGeom>
          <a:solidFill>
            <a:srgbClr val="ffffff"/>
          </a:solidFill>
          <a:ln w="3492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Ью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4800600" y="2362320"/>
            <a:ext cx="2438280" cy="380880"/>
          </a:xfrm>
          <a:prstGeom prst="rect">
            <a:avLst/>
          </a:prstGeom>
          <a:solidFill>
            <a:srgbClr val="ffffff"/>
          </a:solidFill>
          <a:ln w="3492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Ь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4800600" y="3048120"/>
            <a:ext cx="2438280" cy="380880"/>
          </a:xfrm>
          <a:prstGeom prst="rect">
            <a:avLst/>
          </a:prstGeom>
          <a:solidFill>
            <a:srgbClr val="ffffff"/>
          </a:solidFill>
          <a:ln w="3492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4800600" y="3581280"/>
            <a:ext cx="3505320" cy="381240"/>
          </a:xfrm>
          <a:prstGeom prst="rect">
            <a:avLst/>
          </a:prstGeom>
          <a:solidFill>
            <a:srgbClr val="ffffff"/>
          </a:solidFill>
          <a:ln w="3492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зЬя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4724280" y="4724280"/>
            <a:ext cx="3353040" cy="381240"/>
          </a:xfrm>
          <a:prstGeom prst="rect">
            <a:avLst/>
          </a:prstGeom>
          <a:solidFill>
            <a:srgbClr val="ffffff"/>
          </a:solidFill>
          <a:ln w="3492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ен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DE31-41AB-4D8B-A77D-CE07471054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347760" y="-55440"/>
            <a:ext cx="8491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1185-5308-4758-B8F6-7812251E06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Прямоугольник 3" descr=""/>
          <p:cNvPicPr/>
          <p:nvPr/>
        </p:nvPicPr>
        <p:blipFill>
          <a:blip r:embed="rId1"/>
          <a:stretch/>
        </p:blipFill>
        <p:spPr>
          <a:xfrm>
            <a:off x="523800" y="60480"/>
            <a:ext cx="835812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F30D-7BDD-4ED8-B802-00F367497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23096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942300"/>
                </a:solidFill>
                <a:latin typeface="Comic Sans MS"/>
              </a:rPr>
              <a:t>Оцени свою работу на урок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2095560" y="1989000"/>
            <a:ext cx="605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3c15"/>
                </a:solidFill>
                <a:latin typeface="Century Schoolbook"/>
                <a:ea typeface="Times New Roman"/>
              </a:rPr>
              <a:t>На уроке мне было все понятн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2333520" y="4240080"/>
            <a:ext cx="5181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2133720" y="5562720"/>
            <a:ext cx="64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3c15"/>
                </a:solidFill>
                <a:latin typeface="Century Schoolbook"/>
                <a:ea typeface="Times New Roman"/>
              </a:rPr>
              <a:t>Я многое не поня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7" descr="MCj04324430000[1]"/>
          <p:cNvPicPr/>
          <p:nvPr/>
        </p:nvPicPr>
        <p:blipFill>
          <a:blip r:embed="rId1"/>
          <a:stretch/>
        </p:blipFill>
        <p:spPr>
          <a:xfrm>
            <a:off x="638280" y="1989000"/>
            <a:ext cx="1457280" cy="1565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3" descr="MCj04344110000[1]"/>
          <p:cNvPicPr/>
          <p:nvPr/>
        </p:nvPicPr>
        <p:blipFill>
          <a:blip r:embed="rId2"/>
          <a:stretch/>
        </p:blipFill>
        <p:spPr>
          <a:xfrm>
            <a:off x="816120" y="3679920"/>
            <a:ext cx="1046160" cy="117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MCj04338180000[1]"/>
          <p:cNvPicPr/>
          <p:nvPr/>
        </p:nvPicPr>
        <p:blipFill>
          <a:blip r:embed="rId3"/>
          <a:stretch/>
        </p:blipFill>
        <p:spPr>
          <a:xfrm>
            <a:off x="819000" y="5168880"/>
            <a:ext cx="1092240" cy="109224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1"/>
          <p:cNvSpPr/>
          <p:nvPr/>
        </p:nvSpPr>
        <p:spPr>
          <a:xfrm>
            <a:off x="1911240" y="3363840"/>
            <a:ext cx="66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3c15"/>
                </a:solidFill>
                <a:latin typeface="Century Schoolbook"/>
              </a:rPr>
              <a:t>У </a:t>
            </a:r>
            <a:r>
              <a:rPr b="1" lang="ru-RU" sz="3600" spc="-1" strike="noStrike">
                <a:solidFill>
                  <a:srgbClr val="8d3c15"/>
                </a:solidFill>
                <a:latin typeface="Century Schoolbook"/>
                <a:ea typeface="Times New Roman"/>
              </a:rPr>
              <a:t>меня возникли некоторые вопросы, но я постеснялся их задат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D073-B040-4892-B294-06E99EE7F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a1"/>
          <p:cNvPicPr/>
          <p:nvPr/>
        </p:nvPicPr>
        <p:blipFill>
          <a:blip r:embed="rId1"/>
          <a:stretch/>
        </p:blipFill>
        <p:spPr>
          <a:xfrm>
            <a:off x="2743200" y="457200"/>
            <a:ext cx="1747800" cy="1547640"/>
          </a:xfrm>
          <a:prstGeom prst="rect">
            <a:avLst/>
          </a:prstGeom>
          <a:ln w="0">
            <a:noFill/>
          </a:ln>
        </p:spPr>
      </p:pic>
      <p:sp>
        <p:nvSpPr>
          <p:cNvPr id="374" name="WordArt 2"/>
          <p:cNvSpPr txBox="1"/>
          <p:nvPr/>
        </p:nvSpPr>
        <p:spPr>
          <a:xfrm>
            <a:off x="304920" y="152388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 за  работу!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5" name="Picture 126" descr="AG00373_"/>
          <p:cNvPicPr/>
          <p:nvPr/>
        </p:nvPicPr>
        <p:blipFill>
          <a:blip r:embed="rId2"/>
          <a:stretch/>
        </p:blipFill>
        <p:spPr>
          <a:xfrm>
            <a:off x="5486400" y="4114800"/>
            <a:ext cx="2666880" cy="1905120"/>
          </a:xfrm>
          <a:prstGeom prst="rect">
            <a:avLst/>
          </a:prstGeom>
          <a:ln w="0">
            <a:noFill/>
          </a:ln>
        </p:spPr>
      </p:pic>
      <p:pic>
        <p:nvPicPr>
          <p:cNvPr id="376" name="j0211063.wav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9" dur="4716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Вот книжки на стол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А вот – тетрадки,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Не хочется играть сегодня в прят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Необходимо приложить старани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Мы отправляемся навстречу знания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D836-5441-4547-8969-A668C2529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3c15"/>
                </a:solidFill>
                <a:latin typeface="Calibri"/>
              </a:rPr>
              <a:t>В презентации использованы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d3c15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3c15"/>
                </a:solidFill>
                <a:latin typeface="Calibri"/>
              </a:rPr>
              <a:t>ресурсы Интернет – сай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d3c15"/>
                </a:solidFill>
                <a:latin typeface="Arial"/>
              </a:rPr>
              <a:t>г. Невинномысс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d3c15"/>
                </a:solidFill>
                <a:latin typeface="Arial"/>
              </a:rPr>
              <a:t>Попова Н.Б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797A-5B43-4E19-89D2-CFFC54BC2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B314-A44C-400C-BBD7-B924ADEC7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Rectangle 6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3809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image2"/>
          <p:cNvPicPr/>
          <p:nvPr/>
        </p:nvPicPr>
        <p:blipFill>
          <a:blip r:embed="rId2"/>
          <a:stretch/>
        </p:blipFill>
        <p:spPr>
          <a:xfrm>
            <a:off x="3352680" y="3809880"/>
            <a:ext cx="266868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F92E-806C-4200-8132-D7FA2AA04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423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«Обучение выбору разделительного зна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2" descr="Рисунок2"/>
          <p:cNvPicPr/>
          <p:nvPr/>
        </p:nvPicPr>
        <p:blipFill>
          <a:blip r:embed="rId1"/>
          <a:stretch/>
        </p:blipFill>
        <p:spPr>
          <a:xfrm>
            <a:off x="5237280" y="2590920"/>
            <a:ext cx="3511440" cy="37335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"/>
          <p:cNvSpPr/>
          <p:nvPr/>
        </p:nvSpPr>
        <p:spPr>
          <a:xfrm>
            <a:off x="2057400" y="304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2300"/>
                </a:solidFill>
                <a:latin typeface="Comic Sans MS"/>
              </a:rPr>
              <a:t>Тема урока 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685800" y="3200400"/>
            <a:ext cx="487692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900" spc="-1" strike="noStrike">
                <a:solidFill>
                  <a:srgbClr val="0000ff"/>
                </a:solidFill>
                <a:latin typeface="Arial"/>
              </a:rPr>
              <a:t>Ъ</a:t>
            </a:r>
            <a:r>
              <a:rPr b="1" lang="en-US" sz="9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42300"/>
                </a:solidFill>
                <a:latin typeface="Comic Sans MS"/>
              </a:rPr>
              <a:t>или</a:t>
            </a:r>
            <a:r>
              <a:rPr b="1" lang="ru-RU" sz="9900" spc="-1" strike="noStrike">
                <a:solidFill>
                  <a:srgbClr val="336600"/>
                </a:solidFill>
                <a:latin typeface="Arial"/>
              </a:rPr>
              <a:t> Ь</a:t>
            </a:r>
            <a:r>
              <a:rPr b="1" lang="ru-RU" sz="9900" spc="-1" strike="noStrike">
                <a:solidFill>
                  <a:srgbClr val="942300"/>
                </a:solidFill>
                <a:latin typeface="Arial"/>
              </a:rPr>
              <a:t>?</a:t>
            </a:r>
            <a:endParaRPr b="1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15D2-0A7F-49B7-9BCE-F15A02221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38224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Запиши слова в два столбика.</a:t>
            </a:r>
            <a:br>
              <a:rPr sz="4000"/>
            </a:b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Наблюдай за строением слова.</a:t>
            </a:r>
            <a:br>
              <a:rPr sz="4000"/>
            </a:b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Ищи различия.</a:t>
            </a:r>
            <a:br>
              <a:rPr sz="4000"/>
            </a:br>
            <a:br>
              <a:rPr sz="4000"/>
            </a:b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вьюга    въ</a:t>
            </a:r>
            <a:r>
              <a:rPr b="1" lang="ru-RU" sz="6000" spc="-1" strike="noStrike">
                <a:solidFill>
                  <a:srgbClr val="8d3c15"/>
                </a:solidFill>
                <a:latin typeface="Comic Sans MS"/>
              </a:rPr>
              <a:t>ех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ал 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съ</a:t>
            </a:r>
            <a:r>
              <a:rPr b="1" lang="ru-RU" sz="6000" spc="-1" strike="noStrike">
                <a:solidFill>
                  <a:srgbClr val="8d3c15"/>
                </a:solidFill>
                <a:latin typeface="Comic Sans MS"/>
              </a:rPr>
              <a:t>ед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у    объ</a:t>
            </a:r>
            <a:r>
              <a:rPr b="1" lang="ru-RU" sz="6000" spc="-1" strike="noStrike">
                <a:solidFill>
                  <a:srgbClr val="8d3c15"/>
                </a:solidFill>
                <a:latin typeface="Comic Sans MS"/>
              </a:rPr>
              <a:t>явл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ение</a:t>
            </a:r>
            <a:br>
              <a:rPr sz="5000"/>
            </a:b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семья    вьют 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подъ</a:t>
            </a:r>
            <a:r>
              <a:rPr b="1" lang="ru-RU" sz="6000" spc="-1" strike="noStrike">
                <a:solidFill>
                  <a:srgbClr val="8d3c15"/>
                </a:solidFill>
                <a:latin typeface="Comic Sans MS"/>
              </a:rPr>
              <a:t>езд </a:t>
            </a:r>
            <a:r>
              <a:rPr b="1" lang="ru-RU" sz="5000" spc="-1" strike="noStrike">
                <a:solidFill>
                  <a:srgbClr val="663300"/>
                </a:solidFill>
                <a:latin typeface="Comic Sans MS"/>
              </a:rPr>
              <a:t>  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 воробь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Нижний колонтитул 4" descr=""/>
          <p:cNvPicPr/>
          <p:nvPr/>
        </p:nvPicPr>
        <p:blipFill>
          <a:blip r:embed="rId1"/>
          <a:stretch/>
        </p:blipFill>
        <p:spPr>
          <a:xfrm>
            <a:off x="304920" y="768240"/>
            <a:ext cx="9070920" cy="4950000"/>
          </a:xfrm>
          <a:prstGeom prst="rect">
            <a:avLst/>
          </a:prstGeom>
          <a:ln w="0">
            <a:noFill/>
          </a:ln>
        </p:spPr>
      </p:pic>
      <p:sp>
        <p:nvSpPr>
          <p:cNvPr id="1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8ACC-9C9F-43C6-AC08-F2996F245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23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942300"/>
                </a:solidFill>
                <a:latin typeface="Arial"/>
              </a:rPr>
              <a:t>Провер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1" descr="C41-33 копия"/>
          <p:cNvPicPr/>
          <p:nvPr/>
        </p:nvPicPr>
        <p:blipFill>
          <a:blip r:embed="rId2"/>
          <a:stretch/>
        </p:blipFill>
        <p:spPr>
          <a:xfrm>
            <a:off x="3733920" y="4038480"/>
            <a:ext cx="2336760" cy="26622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ая соединительная линия 2"/>
          <p:cNvSpPr/>
          <p:nvPr/>
        </p:nvSpPr>
        <p:spPr>
          <a:xfrm>
            <a:off x="6553080" y="1143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7"/>
          <p:cNvSpPr/>
          <p:nvPr/>
        </p:nvSpPr>
        <p:spPr>
          <a:xfrm>
            <a:off x="7010280" y="1143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16"/>
          <p:cNvSpPr/>
          <p:nvPr/>
        </p:nvSpPr>
        <p:spPr>
          <a:xfrm>
            <a:off x="6934320" y="1905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17"/>
          <p:cNvSpPr/>
          <p:nvPr/>
        </p:nvSpPr>
        <p:spPr>
          <a:xfrm>
            <a:off x="5029200" y="252396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19"/>
          <p:cNvSpPr/>
          <p:nvPr/>
        </p:nvSpPr>
        <p:spPr>
          <a:xfrm>
            <a:off x="6400800" y="3429000"/>
            <a:ext cx="95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73818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23"/>
          <p:cNvSpPr/>
          <p:nvPr/>
        </p:nvSpPr>
        <p:spPr>
          <a:xfrm>
            <a:off x="586728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6"/>
          <p:cNvSpPr/>
          <p:nvPr/>
        </p:nvSpPr>
        <p:spPr>
          <a:xfrm>
            <a:off x="735336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B8D4-2A5A-4F57-B79E-554020932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4000" spc="-1" strike="noStrike">
                <a:solidFill>
                  <a:srgbClr val="942300"/>
                </a:solidFill>
                <a:latin typeface="Comic Sans MS"/>
                <a:ea typeface="Arial"/>
              </a:rPr>
              <a:t>Вам знакомы следующие 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WordArt 4"/>
          <p:cNvGrpSpPr/>
          <p:nvPr/>
        </p:nvGrpSpPr>
        <p:grpSpPr>
          <a:xfrm>
            <a:off x="1523880" y="2060640"/>
            <a:ext cx="689040" cy="914040"/>
            <a:chOff x="1523880" y="2060640"/>
            <a:chExt cx="689040" cy="914040"/>
          </a:xfrm>
        </p:grpSpPr>
        <p:pic>
          <p:nvPicPr>
            <p:cNvPr id="204" name="WordArt 4" descr=""/>
            <p:cNvPicPr/>
            <p:nvPr/>
          </p:nvPicPr>
          <p:blipFill>
            <a:blip r:embed="rId1"/>
            <a:stretch/>
          </p:blipFill>
          <p:spPr>
            <a:xfrm>
              <a:off x="1523880" y="2063520"/>
              <a:ext cx="68904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523880" y="2060640"/>
              <a:ext cx="6858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ъ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WordArt 5"/>
          <p:cNvSpPr txBox="1"/>
          <p:nvPr/>
        </p:nvSpPr>
        <p:spPr>
          <a:xfrm>
            <a:off x="0" y="1600200"/>
            <a:ext cx="853452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noFill/>
                <a:latin typeface="Arial"/>
              </a:rPr>
              <a:t>ъ</a:t>
            </a:r>
            <a:endParaRPr b="1" lang="en-US" sz="3600" spc="1" strike="noStrike">
              <a:ln w="0">
                <a:noFill/>
              </a:ln>
              <a:noFill/>
              <a:latin typeface="Arial"/>
              <a:ea typeface="Arial"/>
            </a:endParaRPr>
          </a:p>
        </p:txBody>
      </p:sp>
      <p:grpSp>
        <p:nvGrpSpPr>
          <p:cNvPr id="207" name="WordArt 6"/>
          <p:cNvGrpSpPr/>
          <p:nvPr/>
        </p:nvGrpSpPr>
        <p:grpSpPr>
          <a:xfrm>
            <a:off x="5334120" y="2060640"/>
            <a:ext cx="688680" cy="914040"/>
            <a:chOff x="5334120" y="2060640"/>
            <a:chExt cx="688680" cy="914040"/>
          </a:xfrm>
        </p:grpSpPr>
        <p:pic>
          <p:nvPicPr>
            <p:cNvPr id="208" name="WordArt 6" descr=""/>
            <p:cNvPicPr/>
            <p:nvPr/>
          </p:nvPicPr>
          <p:blipFill>
            <a:blip r:embed="rId2"/>
            <a:stretch/>
          </p:blipFill>
          <p:spPr>
            <a:xfrm>
              <a:off x="5334120" y="2063520"/>
              <a:ext cx="68868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334120" y="2060640"/>
              <a:ext cx="6858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ь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WordArt 7"/>
          <p:cNvGrpSpPr/>
          <p:nvPr/>
        </p:nvGrpSpPr>
        <p:grpSpPr>
          <a:xfrm>
            <a:off x="2517840" y="1523880"/>
            <a:ext cx="225360" cy="457200"/>
            <a:chOff x="2517840" y="1523880"/>
            <a:chExt cx="225360" cy="457200"/>
          </a:xfrm>
        </p:grpSpPr>
        <p:pic>
          <p:nvPicPr>
            <p:cNvPr id="211" name="WordArt 7" descr=""/>
            <p:cNvPicPr/>
            <p:nvPr/>
          </p:nvPicPr>
          <p:blipFill>
            <a:blip r:embed="rId3"/>
            <a:stretch/>
          </p:blipFill>
          <p:spPr>
            <a:xfrm>
              <a:off x="2520720" y="1523880"/>
              <a:ext cx="22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517840" y="1523880"/>
              <a:ext cx="22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WordArt 8"/>
          <p:cNvGrpSpPr/>
          <p:nvPr/>
        </p:nvGrpSpPr>
        <p:grpSpPr>
          <a:xfrm>
            <a:off x="3048120" y="1755720"/>
            <a:ext cx="231480" cy="463680"/>
            <a:chOff x="3048120" y="1755720"/>
            <a:chExt cx="231480" cy="463680"/>
          </a:xfrm>
        </p:grpSpPr>
        <p:pic>
          <p:nvPicPr>
            <p:cNvPr id="214" name="WordArt 8" descr=""/>
            <p:cNvPicPr/>
            <p:nvPr/>
          </p:nvPicPr>
          <p:blipFill>
            <a:blip r:embed="rId4"/>
            <a:stretch/>
          </p:blipFill>
          <p:spPr>
            <a:xfrm>
              <a:off x="3048120" y="1758600"/>
              <a:ext cx="231480" cy="4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048120" y="1755720"/>
              <a:ext cx="2286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ё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WordArt 9"/>
          <p:cNvGrpSpPr/>
          <p:nvPr/>
        </p:nvGrpSpPr>
        <p:grpSpPr>
          <a:xfrm>
            <a:off x="3127320" y="2438280"/>
            <a:ext cx="304560" cy="457200"/>
            <a:chOff x="3127320" y="2438280"/>
            <a:chExt cx="304560" cy="457200"/>
          </a:xfrm>
        </p:grpSpPr>
        <p:pic>
          <p:nvPicPr>
            <p:cNvPr id="217" name="WordArt 9" descr=""/>
            <p:cNvPicPr/>
            <p:nvPr/>
          </p:nvPicPr>
          <p:blipFill>
            <a:blip r:embed="rId5"/>
            <a:stretch/>
          </p:blipFill>
          <p:spPr>
            <a:xfrm>
              <a:off x="3130200" y="2438280"/>
              <a:ext cx="301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127320" y="2438280"/>
              <a:ext cx="301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ю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WordArt 10"/>
          <p:cNvGrpSpPr/>
          <p:nvPr/>
        </p:nvGrpSpPr>
        <p:grpSpPr>
          <a:xfrm>
            <a:off x="2670120" y="2975040"/>
            <a:ext cx="212760" cy="456840"/>
            <a:chOff x="2670120" y="2975040"/>
            <a:chExt cx="212760" cy="456840"/>
          </a:xfrm>
        </p:grpSpPr>
        <p:pic>
          <p:nvPicPr>
            <p:cNvPr id="220" name="WordArt 10" descr=""/>
            <p:cNvPicPr/>
            <p:nvPr/>
          </p:nvPicPr>
          <p:blipFill>
            <a:blip r:embed="rId6"/>
            <a:stretch/>
          </p:blipFill>
          <p:spPr>
            <a:xfrm>
              <a:off x="2673000" y="2977920"/>
              <a:ext cx="20628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670120" y="2975040"/>
              <a:ext cx="212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WordArt 15"/>
          <p:cNvGrpSpPr/>
          <p:nvPr/>
        </p:nvGrpSpPr>
        <p:grpSpPr>
          <a:xfrm>
            <a:off x="6858000" y="2975040"/>
            <a:ext cx="219240" cy="463320"/>
            <a:chOff x="6858000" y="2975040"/>
            <a:chExt cx="219240" cy="463320"/>
          </a:xfrm>
        </p:grpSpPr>
        <p:pic>
          <p:nvPicPr>
            <p:cNvPr id="223" name="WordArt 15" descr=""/>
            <p:cNvPicPr/>
            <p:nvPr/>
          </p:nvPicPr>
          <p:blipFill>
            <a:blip r:embed="rId7"/>
            <a:stretch/>
          </p:blipFill>
          <p:spPr>
            <a:xfrm>
              <a:off x="6858000" y="2977920"/>
              <a:ext cx="21924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858000" y="2975040"/>
              <a:ext cx="2192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WordArt 16"/>
          <p:cNvGrpSpPr/>
          <p:nvPr/>
        </p:nvGrpSpPr>
        <p:grpSpPr>
          <a:xfrm>
            <a:off x="7010280" y="2286000"/>
            <a:ext cx="304920" cy="469800"/>
            <a:chOff x="7010280" y="2286000"/>
            <a:chExt cx="304920" cy="469800"/>
          </a:xfrm>
        </p:grpSpPr>
        <p:pic>
          <p:nvPicPr>
            <p:cNvPr id="226" name="WordArt 16" descr=""/>
            <p:cNvPicPr/>
            <p:nvPr/>
          </p:nvPicPr>
          <p:blipFill>
            <a:blip r:embed="rId8"/>
            <a:stretch/>
          </p:blipFill>
          <p:spPr>
            <a:xfrm>
              <a:off x="7010280" y="2286000"/>
              <a:ext cx="304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010280" y="2286000"/>
              <a:ext cx="3049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ю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WordArt 17"/>
          <p:cNvGrpSpPr/>
          <p:nvPr/>
        </p:nvGrpSpPr>
        <p:grpSpPr>
          <a:xfrm>
            <a:off x="6858000" y="1603440"/>
            <a:ext cx="231840" cy="463320"/>
            <a:chOff x="6858000" y="1603440"/>
            <a:chExt cx="231840" cy="463320"/>
          </a:xfrm>
        </p:grpSpPr>
        <p:pic>
          <p:nvPicPr>
            <p:cNvPr id="229" name="WordArt 17" descr=""/>
            <p:cNvPicPr/>
            <p:nvPr/>
          </p:nvPicPr>
          <p:blipFill>
            <a:blip r:embed="rId9"/>
            <a:stretch/>
          </p:blipFill>
          <p:spPr>
            <a:xfrm>
              <a:off x="6858000" y="1606320"/>
              <a:ext cx="23184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858000" y="1603440"/>
              <a:ext cx="22860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ё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WordArt 18"/>
          <p:cNvGrpSpPr/>
          <p:nvPr/>
        </p:nvGrpSpPr>
        <p:grpSpPr>
          <a:xfrm>
            <a:off x="6248520" y="1371600"/>
            <a:ext cx="231480" cy="469800"/>
            <a:chOff x="6248520" y="1371600"/>
            <a:chExt cx="231480" cy="469800"/>
          </a:xfrm>
        </p:grpSpPr>
        <p:pic>
          <p:nvPicPr>
            <p:cNvPr id="232" name="WordArt 18" descr=""/>
            <p:cNvPicPr/>
            <p:nvPr/>
          </p:nvPicPr>
          <p:blipFill>
            <a:blip r:embed="rId10"/>
            <a:stretch/>
          </p:blipFill>
          <p:spPr>
            <a:xfrm>
              <a:off x="6248520" y="1371600"/>
              <a:ext cx="2314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248520" y="1371600"/>
              <a:ext cx="22860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WordArt 19"/>
          <p:cNvGrpSpPr/>
          <p:nvPr/>
        </p:nvGrpSpPr>
        <p:grpSpPr>
          <a:xfrm>
            <a:off x="6248520" y="3432240"/>
            <a:ext cx="218880" cy="463320"/>
            <a:chOff x="6248520" y="3432240"/>
            <a:chExt cx="218880" cy="463320"/>
          </a:xfrm>
        </p:grpSpPr>
        <p:pic>
          <p:nvPicPr>
            <p:cNvPr id="235" name="WordArt 19" descr=""/>
            <p:cNvPicPr/>
            <p:nvPr/>
          </p:nvPicPr>
          <p:blipFill>
            <a:blip r:embed="rId11"/>
            <a:stretch/>
          </p:blipFill>
          <p:spPr>
            <a:xfrm>
              <a:off x="6248520" y="3435120"/>
              <a:ext cx="21888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248520" y="3432240"/>
              <a:ext cx="2188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20"/>
          <p:cNvSpPr/>
          <p:nvPr/>
        </p:nvSpPr>
        <p:spPr>
          <a:xfrm>
            <a:off x="838080" y="762120"/>
            <a:ext cx="76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4"/>
          <p:cNvSpPr/>
          <p:nvPr/>
        </p:nvSpPr>
        <p:spPr>
          <a:xfrm flipV="1">
            <a:off x="2286000" y="19810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5"/>
          <p:cNvSpPr/>
          <p:nvPr/>
        </p:nvSpPr>
        <p:spPr>
          <a:xfrm flipV="1">
            <a:off x="2286000" y="2133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7"/>
          <p:cNvSpPr/>
          <p:nvPr/>
        </p:nvSpPr>
        <p:spPr>
          <a:xfrm>
            <a:off x="23623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8"/>
          <p:cNvSpPr/>
          <p:nvPr/>
        </p:nvSpPr>
        <p:spPr>
          <a:xfrm>
            <a:off x="2362320" y="2819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39"/>
          <p:cNvSpPr/>
          <p:nvPr/>
        </p:nvSpPr>
        <p:spPr>
          <a:xfrm flipV="1" rot="14378400">
            <a:off x="5106600" y="1369080"/>
            <a:ext cx="847800" cy="1155960"/>
          </a:xfrm>
          <a:custGeom>
            <a:avLst/>
            <a:gdLst>
              <a:gd name="textAreaLeft" fmla="*/ 0 w 847800"/>
              <a:gd name="textAreaRight" fmla="*/ 848160 w 847800"/>
              <a:gd name="textAreaTop" fmla="*/ -360 h 1155960"/>
              <a:gd name="textAreaBottom" fmla="*/ 1155960 h 1155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40"/>
          <p:cNvSpPr/>
          <p:nvPr/>
        </p:nvSpPr>
        <p:spPr>
          <a:xfrm flipV="1" rot="14101200">
            <a:off x="2471400" y="1109520"/>
            <a:ext cx="847440" cy="1066680"/>
          </a:xfrm>
          <a:custGeom>
            <a:avLst/>
            <a:gdLst>
              <a:gd name="textAreaLeft" fmla="*/ 0 w 847440"/>
              <a:gd name="textAreaRight" fmla="*/ 847800 w 84744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5943600" y="19047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6019920" y="20574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6095880" y="2666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5"/>
          <p:cNvSpPr/>
          <p:nvPr/>
        </p:nvSpPr>
        <p:spPr>
          <a:xfrm>
            <a:off x="609588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6"/>
          <p:cNvSpPr/>
          <p:nvPr/>
        </p:nvSpPr>
        <p:spPr>
          <a:xfrm>
            <a:off x="5943600" y="2971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53"/>
          <p:cNvSpPr txBox="1"/>
          <p:nvPr/>
        </p:nvSpPr>
        <p:spPr>
          <a:xfrm>
            <a:off x="3048120" y="4038480"/>
            <a:ext cx="23619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11000"/>
                  </a:srgbClr>
                </a:solidFill>
                <a:latin typeface="Arial"/>
              </a:rPr>
              <a:t>Й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1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50" name="WordArt 54"/>
          <p:cNvSpPr txBox="1"/>
          <p:nvPr/>
        </p:nvSpPr>
        <p:spPr>
          <a:xfrm>
            <a:off x="5105520" y="4267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95000"/>
                  </a:srgbClr>
                </a:solidFill>
                <a:latin typeface="Arial"/>
              </a:rPr>
              <a:t>я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9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51" name="WordArt 55"/>
          <p:cNvSpPr txBox="1"/>
          <p:nvPr/>
        </p:nvSpPr>
        <p:spPr>
          <a:xfrm>
            <a:off x="5181480" y="5257800"/>
            <a:ext cx="381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95000"/>
                  </a:srgbClr>
                </a:solidFill>
                <a:latin typeface="Arial"/>
              </a:rPr>
              <a:t>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9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52" name="WordArt 56"/>
          <p:cNvSpPr txBox="1"/>
          <p:nvPr/>
        </p:nvSpPr>
        <p:spPr>
          <a:xfrm>
            <a:off x="2971800" y="52578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95000"/>
                  </a:srgbClr>
                </a:solidFill>
                <a:latin typeface="Arial"/>
              </a:rPr>
              <a:t>е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9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53" name="WordArt 57"/>
          <p:cNvSpPr txBox="1"/>
          <p:nvPr/>
        </p:nvSpPr>
        <p:spPr>
          <a:xfrm>
            <a:off x="2971800" y="42670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95000"/>
                  </a:srgbClr>
                </a:solidFill>
                <a:latin typeface="Arial"/>
              </a:rPr>
              <a:t>ё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9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838080" y="2232000"/>
            <a:ext cx="457200" cy="434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5"/>
          <p:cNvSpPr/>
          <p:nvPr/>
        </p:nvSpPr>
        <p:spPr>
          <a:xfrm>
            <a:off x="2424240" y="2219400"/>
            <a:ext cx="485640" cy="44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40"/>
          <p:cNvSpPr/>
          <p:nvPr/>
        </p:nvSpPr>
        <p:spPr>
          <a:xfrm>
            <a:off x="6224760" y="2239920"/>
            <a:ext cx="485640" cy="44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41"/>
          <p:cNvSpPr/>
          <p:nvPr/>
        </p:nvSpPr>
        <p:spPr>
          <a:xfrm>
            <a:off x="4589640" y="2219400"/>
            <a:ext cx="457200" cy="434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20B2-4CB3-4E51-80E9-CD85C67F1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Чтобы обозначить звук </a:t>
            </a:r>
            <a:r>
              <a:rPr b="0" lang="en-US" sz="4000" spc="-1" strike="noStrike">
                <a:solidFill>
                  <a:srgbClr val="942300"/>
                </a:solidFill>
                <a:latin typeface="Comic Sans MS"/>
              </a:rPr>
              <a:t>[</a:t>
            </a: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й</a:t>
            </a:r>
            <a:r>
              <a:rPr b="0" lang="en-US" sz="4000" spc="-1" strike="noStrike">
                <a:solidFill>
                  <a:srgbClr val="942300"/>
                </a:solidFill>
                <a:latin typeface="Comic Sans MS"/>
              </a:rPr>
              <a:t>`]</a:t>
            </a: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 с помощью Ь или Ъ, нужно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762120" y="18288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1. Послушать:      </a:t>
            </a:r>
            <a:r>
              <a:rPr b="0" lang="en-US" sz="3600" spc="-1" strike="noStrike">
                <a:solidFill>
                  <a:srgbClr val="942300"/>
                </a:solidFill>
                <a:latin typeface="Comic Sans MS"/>
              </a:rPr>
              <a:t>[</a:t>
            </a: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й</a:t>
            </a:r>
            <a:r>
              <a:rPr b="0" lang="en-US" sz="3600" spc="-1" strike="noStrike">
                <a:solidFill>
                  <a:srgbClr val="942300"/>
                </a:solidFill>
                <a:latin typeface="Comic Sans MS"/>
              </a:rPr>
              <a:t>`]</a:t>
            </a: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    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3"/>
          <p:cNvSpPr/>
          <p:nvPr/>
        </p:nvSpPr>
        <p:spPr>
          <a:xfrm>
            <a:off x="4191120" y="1905120"/>
            <a:ext cx="495360" cy="4572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4"/>
          <p:cNvSpPr/>
          <p:nvPr/>
        </p:nvSpPr>
        <p:spPr>
          <a:xfrm>
            <a:off x="5791320" y="1905120"/>
            <a:ext cx="53316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762120" y="2666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2. Определить:          </a:t>
            </a:r>
            <a:r>
              <a:rPr b="0" lang="en-US" sz="3600" spc="-1" strike="noStrike">
                <a:solidFill>
                  <a:srgbClr val="942300"/>
                </a:solidFill>
                <a:latin typeface="Comic Sans MS"/>
              </a:rPr>
              <a:t>[</a:t>
            </a: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й</a:t>
            </a:r>
            <a:r>
              <a:rPr b="0" lang="en-US" sz="3600" spc="-1" strike="noStrike">
                <a:solidFill>
                  <a:srgbClr val="942300"/>
                </a:solidFill>
                <a:latin typeface="Comic Sans MS"/>
              </a:rPr>
              <a:t>`]</a:t>
            </a: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?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11"/>
          <p:cNvSpPr/>
          <p:nvPr/>
        </p:nvSpPr>
        <p:spPr>
          <a:xfrm flipV="1">
            <a:off x="4438800" y="2819520"/>
            <a:ext cx="361800" cy="17136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13"/>
          <p:cNvSpPr/>
          <p:nvPr/>
        </p:nvSpPr>
        <p:spPr>
          <a:xfrm>
            <a:off x="4438800" y="2990880"/>
            <a:ext cx="361800" cy="13320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17"/>
          <p:cNvSpPr/>
          <p:nvPr/>
        </p:nvSpPr>
        <p:spPr>
          <a:xfrm>
            <a:off x="4952880" y="2819520"/>
            <a:ext cx="304920" cy="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23"/>
          <p:cNvSpPr/>
          <p:nvPr/>
        </p:nvSpPr>
        <p:spPr>
          <a:xfrm>
            <a:off x="5257800" y="2819520"/>
            <a:ext cx="0" cy="8568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27"/>
          <p:cNvSpPr/>
          <p:nvPr/>
        </p:nvSpPr>
        <p:spPr>
          <a:xfrm>
            <a:off x="4952880" y="3124080"/>
            <a:ext cx="304920" cy="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5008"/>
          <p:cNvSpPr/>
          <p:nvPr/>
        </p:nvSpPr>
        <p:spPr>
          <a:xfrm>
            <a:off x="5257800" y="3124080"/>
            <a:ext cx="0" cy="9540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85018"/>
          <p:cNvSpPr/>
          <p:nvPr/>
        </p:nvSpPr>
        <p:spPr>
          <a:xfrm flipH="1">
            <a:off x="5028840" y="3048120"/>
            <a:ext cx="152280" cy="17136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5019"/>
          <p:cNvSpPr/>
          <p:nvPr/>
        </p:nvSpPr>
        <p:spPr>
          <a:xfrm>
            <a:off x="838080" y="3505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3. Если      , то написать 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60"/>
          <p:cNvSpPr/>
          <p:nvPr/>
        </p:nvSpPr>
        <p:spPr>
          <a:xfrm>
            <a:off x="2895480" y="3809880"/>
            <a:ext cx="304920" cy="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61"/>
          <p:cNvSpPr/>
          <p:nvPr/>
        </p:nvSpPr>
        <p:spPr>
          <a:xfrm>
            <a:off x="2895480" y="4267080"/>
            <a:ext cx="304920" cy="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62"/>
          <p:cNvSpPr/>
          <p:nvPr/>
        </p:nvSpPr>
        <p:spPr>
          <a:xfrm>
            <a:off x="3200400" y="3809880"/>
            <a:ext cx="0" cy="9540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63"/>
          <p:cNvSpPr/>
          <p:nvPr/>
        </p:nvSpPr>
        <p:spPr>
          <a:xfrm>
            <a:off x="3200400" y="4267080"/>
            <a:ext cx="0" cy="9540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65"/>
          <p:cNvSpPr/>
          <p:nvPr/>
        </p:nvSpPr>
        <p:spPr>
          <a:xfrm flipH="1">
            <a:off x="2971440" y="4191120"/>
            <a:ext cx="152280" cy="17136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5020"/>
          <p:cNvSpPr/>
          <p:nvPr/>
        </p:nvSpPr>
        <p:spPr>
          <a:xfrm>
            <a:off x="914400" y="410544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Если      , то написать </a:t>
            </a:r>
            <a:r>
              <a:rPr b="0" lang="ru-RU" sz="3600" spc="-1" strike="noStrike">
                <a:solidFill>
                  <a:srgbClr val="336600"/>
                </a:solidFill>
                <a:latin typeface="Comic Sans MS"/>
              </a:rPr>
              <a:t>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6D6C-DB63-42DA-B938-700E04FF9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5334120" y="34290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ЧУТ . 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685800" y="3352680"/>
            <a:ext cx="274320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П . ЕС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90720" y="2514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685800" y="4419720"/>
            <a:ext cx="358128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ЕР . ЁЗНЫ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609480" y="2286000"/>
            <a:ext cx="3886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ОБ . ЯВЛЕ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5410080" y="24382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5029200" y="2209680"/>
            <a:ext cx="331164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ОБ . ЕД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1219320" y="304920"/>
            <a:ext cx="7472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533520" y="45720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9966"/>
                </a:solidFill>
                <a:latin typeface="Arial"/>
              </a:rPr>
              <a:t>Если забыл правило, нажимай на      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6">
            <a:hlinkClick r:id="" action="ppaction://hlinkshowjump?jump=lastslide"/>
          </p:cNvPr>
          <p:cNvSpPr/>
          <p:nvPr/>
        </p:nvSpPr>
        <p:spPr>
          <a:xfrm>
            <a:off x="8381880" y="5335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06" h="21600">
                <a:moveTo>
                  <a:pt x="15508" y="14281"/>
                </a:moveTo>
                <a:lnTo>
                  <a:pt x="15508" y="12323"/>
                </a:lnTo>
                <a:cubicBezTo>
                  <a:pt x="15508" y="11496"/>
                  <a:pt x="15839" y="10800"/>
                  <a:pt x="16439" y="10800"/>
                </a:cubicBezTo>
                <a:cubicBezTo>
                  <a:pt x="17571" y="10800"/>
                  <a:pt x="18467" y="9434"/>
                  <a:pt x="18467" y="7849"/>
                </a:cubicBezTo>
                <a:cubicBezTo>
                  <a:pt x="18467" y="5534"/>
                  <a:pt x="16614" y="3794"/>
                  <a:pt x="14403" y="3794"/>
                </a:cubicBezTo>
                <a:cubicBezTo>
                  <a:pt x="12192" y="3794"/>
                  <a:pt x="10521" y="5534"/>
                  <a:pt x="10521" y="7849"/>
                </a:cubicBezTo>
                <a:lnTo>
                  <a:pt x="12375" y="7849"/>
                </a:lnTo>
                <a:cubicBezTo>
                  <a:pt x="12375" y="6709"/>
                  <a:pt x="13297" y="5821"/>
                  <a:pt x="14403" y="5821"/>
                </a:cubicBezTo>
                <a:cubicBezTo>
                  <a:pt x="15508" y="5821"/>
                  <a:pt x="16439" y="6709"/>
                  <a:pt x="16439" y="7849"/>
                </a:cubicBezTo>
                <a:cubicBezTo>
                  <a:pt x="16439" y="8589"/>
                  <a:pt x="15969" y="9320"/>
                  <a:pt x="15508" y="9320"/>
                </a:cubicBezTo>
                <a:cubicBezTo>
                  <a:pt x="14403" y="9320"/>
                  <a:pt x="13297" y="10800"/>
                  <a:pt x="13297" y="12323"/>
                </a:cubicBezTo>
                <a:lnTo>
                  <a:pt x="13297" y="142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6553080" y="4800600"/>
            <a:ext cx="2133720" cy="1430280"/>
          </a:xfrm>
          <a:custGeom>
            <a:avLst/>
            <a:gdLst>
              <a:gd name="textAreaLeft" fmla="*/ 294120 w 2133720"/>
              <a:gd name="textAreaRight" fmla="*/ 1688040 w 2133720"/>
              <a:gd name="textAreaTop" fmla="*/ 216000 h 1430280"/>
              <a:gd name="textAreaBottom" fmla="*/ 1148040 h 1430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7238880" y="4952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84a10"/>
                </a:solidFill>
                <a:latin typeface="Arial"/>
              </a:rPr>
              <a:t>Ъ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2-08-26T16:16:08Z</dcterms:modified>
  <cp:revision>43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