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26.wmf" ContentType="image/x-wmf"/>
  <Override PartName="/ppt/media/image28.gif" ContentType="image/gif"/>
  <Override PartName="/ppt/media/image5.gif" ContentType="image/gif"/>
  <Override PartName="/ppt/media/image8.png" ContentType="image/png"/>
  <Override PartName="/ppt/media/image14.png" ContentType="image/png"/>
  <Override PartName="/ppt/media/image9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3.png" ContentType="image/png"/>
  <Override PartName="/ppt/media/image12.jpeg" ContentType="image/jpeg"/>
  <Override PartName="/ppt/media/image30.png" ContentType="image/png"/>
  <Override PartName="/ppt/media/image2.wmf" ContentType="image/x-wmf"/>
  <Override PartName="/ppt/media/image29.gif" ContentType="image/gif"/>
  <Override PartName="/ppt/media/image25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6BB-5236-4DAE-BAED-0331EDA48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6A7-B2B3-4DA9-AC6D-848483AB6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771A-991E-41EE-9BAA-38737639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C7CF-4964-402E-B111-FD64994A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2BB8-6E6E-45FC-B4A2-62A6F322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6D33-0DFA-4549-BA1E-3F494E74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E564-DAD2-43A9-A5BB-997DC8BA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1BB8-46EB-4D52-903F-6816B844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E086-3085-447D-874A-82CEEBD1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E87C-D864-4114-845B-646D58C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CC5-474A-4A6B-9172-EB83E0C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877-1653-4141-A714-E0349991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CA7E-6E8E-4AC9-A68F-81F0945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A41A-845B-4947-9E2C-229B17D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946-DA05-4B8C-8148-DAC1226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4F7F-ABB4-456A-8706-6B13B67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A4F-889F-4055-89F5-4C39FBED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C8D0-A398-460D-B714-DDA50ECD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923-49FA-4DF5-ABF1-2810D313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C0C0-BE01-453F-8245-DC28823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2BFC-21FE-4968-ABE0-81D6049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D464-4A40-4EBE-9C4B-B7C5FB17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1CB1-C3CE-403D-9A97-7C5F359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AA37-9B1F-4ED0-B772-9AFDA7E8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ADA0-C338-4746-A762-CC1319CF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944F-FD81-433F-845A-A6CDD29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снодар МОУ СОШ 73 Нарыкова А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614-0CD5-49FD-8FF1-026FEA9C3F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480" cy="4571280"/>
            <a:chOff x="915120" y="1219320"/>
            <a:chExt cx="731448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5720" y="1219320"/>
              <a:ext cx="864720" cy="4546800"/>
              <a:chOff x="1125720" y="1219320"/>
              <a:chExt cx="864720" cy="45468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5720" y="122760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800" y="1219320"/>
                <a:ext cx="0" cy="45216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2080" y="124272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0440" y="124272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6760"/>
              <a:ext cx="7314480" cy="4094640"/>
              <a:chOff x="915120" y="1436760"/>
              <a:chExt cx="731448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6760"/>
                <a:ext cx="7294680" cy="820440"/>
                <a:chOff x="915120" y="143676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3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560" y="2521080"/>
                <a:ext cx="7295040" cy="820080"/>
                <a:chOff x="934560" y="2521080"/>
                <a:chExt cx="729504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560" y="252108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840" y="30661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411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6640"/>
                <a:ext cx="7294680" cy="820440"/>
                <a:chOff x="915120" y="362664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6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560" y="4710960"/>
                <a:ext cx="7295040" cy="820440"/>
                <a:chOff x="934560" y="4710960"/>
                <a:chExt cx="729504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560" y="47109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564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840" y="52567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140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5360" y="1243080"/>
              <a:ext cx="864720" cy="4547520"/>
              <a:chOff x="229536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4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1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00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1560" y="1243080"/>
              <a:ext cx="864720" cy="4547520"/>
              <a:chOff x="348156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15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8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9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6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7760" y="1243080"/>
              <a:ext cx="864720" cy="4547520"/>
              <a:chOff x="466776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77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60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2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24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3560" y="1243080"/>
              <a:ext cx="864720" cy="4547520"/>
              <a:chOff x="5803560" y="1243080"/>
              <a:chExt cx="8647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35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07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92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8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4920" y="1243080"/>
              <a:ext cx="864720" cy="4547520"/>
              <a:chOff x="696492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4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32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9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снодар МОУ СОШ 73 Нарыкова А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0DB-EDB7-4CFF-89CD-DFF006DDDD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5.png"/><Relationship Id="rId10" Type="http://schemas.openxmlformats.org/officeDocument/2006/relationships/image" Target="../media/image20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8B0A-9CDE-4241-9E4D-929AE3346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00790_"/>
          <p:cNvPicPr/>
          <p:nvPr/>
        </p:nvPicPr>
        <p:blipFill>
          <a:blip r:embed="rId1"/>
          <a:stretch/>
        </p:blipFill>
        <p:spPr>
          <a:xfrm>
            <a:off x="762120" y="2362320"/>
            <a:ext cx="314172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4535640" y="2819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2300"/>
                </a:solidFill>
                <a:latin typeface="Impact"/>
              </a:rPr>
              <a:t>2 класс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42300"/>
              </a:solidFill>
              <a:latin typeface="Impact"/>
              <a:ea typeface="Impact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971800" y="137160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2300"/>
                </a:solidFill>
                <a:latin typeface="Impact"/>
              </a:rPr>
              <a:t>Русский язы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42300"/>
              </a:solidFill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3743280" y="3591000"/>
            <a:ext cx="441972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2300"/>
                </a:solidFill>
                <a:latin typeface="Impact"/>
              </a:rPr>
              <a:t>УМК «Гармония»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42300"/>
              </a:solidFill>
              <a:latin typeface="Impact"/>
              <a:ea typeface="Impact"/>
            </a:endParaRPr>
          </a:p>
        </p:txBody>
      </p:sp>
      <p:pic>
        <p:nvPicPr>
          <p:cNvPr id="173" name="TextBox 1" descr=""/>
          <p:cNvPicPr/>
          <p:nvPr/>
        </p:nvPicPr>
        <p:blipFill>
          <a:blip r:embed="rId2"/>
          <a:stretch/>
        </p:blipFill>
        <p:spPr>
          <a:xfrm>
            <a:off x="4022640" y="4370400"/>
            <a:ext cx="3902040" cy="646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3962520" y="5033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42300"/>
                </a:solidFill>
                <a:latin typeface="Arial"/>
              </a:rPr>
              <a:t>МБОУ НОШ №17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42300"/>
                </a:solidFill>
                <a:latin typeface="Arial"/>
              </a:rPr>
              <a:t>г. Невинномыс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993D-99A1-4AFE-91CA-A9389E310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3733920" y="1447920"/>
            <a:ext cx="1904760" cy="1276200"/>
          </a:xfrm>
          <a:custGeom>
            <a:avLst/>
            <a:gdLst>
              <a:gd name="textAreaLeft" fmla="*/ 262440 w 1904760"/>
              <a:gd name="textAreaRight" fmla="*/ 1506960 w 1904760"/>
              <a:gd name="textAreaTop" fmla="*/ 192600 h 1276200"/>
              <a:gd name="textAreaBottom" fmla="*/ 1024560 h 1276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219320" y="3962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066680" y="4876920"/>
            <a:ext cx="2743200" cy="76176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ВОРОБ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66680" y="3048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5943600" y="1828800"/>
            <a:ext cx="243828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ЕМ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066680" y="1828800"/>
            <a:ext cx="25146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 . Ё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5943600" y="838080"/>
            <a:ext cx="243828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Л . Ё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066680" y="762120"/>
            <a:ext cx="2514600" cy="76176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КАМ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143000" y="3886200"/>
            <a:ext cx="25146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6019920" y="2895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1143000" y="2895480"/>
            <a:ext cx="25146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Д . Ё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5943600" y="2819520"/>
            <a:ext cx="2438280" cy="76176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4038480" y="129528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ъ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2" descr="Рисунок15"/>
          <p:cNvPicPr/>
          <p:nvPr/>
        </p:nvPicPr>
        <p:blipFill>
          <a:blip r:embed="rId1"/>
          <a:stretch/>
        </p:blipFill>
        <p:spPr>
          <a:xfrm>
            <a:off x="4114800" y="2819520"/>
            <a:ext cx="1576440" cy="23619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3"/>
          <p:cNvSpPr/>
          <p:nvPr/>
        </p:nvSpPr>
        <p:spPr>
          <a:xfrm>
            <a:off x="5943600" y="3809880"/>
            <a:ext cx="243828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В . ЮГ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5867280" y="4876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5943600" y="4800600"/>
            <a:ext cx="243828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ИЗ . Я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B250-665B-4900-8A26-BB5D2EC57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85800" y="41148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Д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6324480" y="1905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85800" y="30481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 . Е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106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838080" y="1066680"/>
            <a:ext cx="2743200" cy="76212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МУРАВ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685800" y="5181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62120" y="1905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762120" y="2057400"/>
            <a:ext cx="2743200" cy="68580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ОЛОВ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762120" y="5181480"/>
            <a:ext cx="25146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В . ЮГ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"/>
          <p:cNvSpPr/>
          <p:nvPr/>
        </p:nvSpPr>
        <p:spPr>
          <a:xfrm>
            <a:off x="6553080" y="380880"/>
            <a:ext cx="2133720" cy="1430280"/>
          </a:xfrm>
          <a:custGeom>
            <a:avLst/>
            <a:gdLst>
              <a:gd name="textAreaLeft" fmla="*/ 294120 w 2133720"/>
              <a:gd name="textAreaRight" fmla="*/ 1688040 w 2133720"/>
              <a:gd name="textAreaTop" fmla="*/ 216000 h 1430280"/>
              <a:gd name="textAreaBottom" fmla="*/ 1148040 h 1430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7238880" y="762120"/>
            <a:ext cx="68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Ь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248520" y="1981080"/>
            <a:ext cx="243828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КОЛ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324480" y="29718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6248520" y="2971800"/>
            <a:ext cx="243828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ДРУЗ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6172200" y="41148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 . ЁМ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6172200" y="52578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1" descr="Рисунок14"/>
          <p:cNvPicPr/>
          <p:nvPr/>
        </p:nvPicPr>
        <p:blipFill>
          <a:blip r:embed="rId1"/>
          <a:stretch/>
        </p:blipFill>
        <p:spPr>
          <a:xfrm>
            <a:off x="3429000" y="2666880"/>
            <a:ext cx="280836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22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A0CF-305A-4FA8-B466-5C3BF8D5C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219320" y="2438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990720" y="34290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172200" y="3962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143000" y="4800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7885080" y="189000"/>
            <a:ext cx="1071720" cy="1368360"/>
          </a:xfrm>
          <a:prstGeom prst="ellipse">
            <a:avLst/>
          </a:prstGeom>
          <a:gradFill rotWithShape="0">
            <a:gsLst>
              <a:gs pos="0">
                <a:srgbClr val="dce11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101080" y="40464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Ь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8172360" y="1557360"/>
            <a:ext cx="43200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6248520" y="2666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6019920" y="37339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РУЧ . 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990720" y="46483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БЕЛЬ . 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990720" y="121932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ОД . ЕЗ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90720" y="22860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ЛИСТ . 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609588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АТЕЛ . 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E249-1842-431B-B9A2-A0404D6B7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663300"/>
                </a:solidFill>
                <a:latin typeface="Arial"/>
              </a:rPr>
              <a:t>Съехал, въехал, подъехал, отъехал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ижний колонтитул 3"/>
          <p:cNvSpPr/>
          <p:nvPr/>
        </p:nvSpPr>
        <p:spPr>
          <a:xfrm>
            <a:off x="60948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Arial"/>
              </a:rPr>
              <a:t>заъехал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93B4-8DB8-4129-998D-C4B9943C3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8C19-EA79-4006-ABC7-70C8DBB77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Тренировоч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упраж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жная буря              _  ь _  _ 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ики для пчёл         _  _ ь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, отец, дети         _  _  _ ь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е                    _  _  _  _ ь _  _ 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оды, сваренные в сах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  _  _  _  _  ь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800600" y="1752480"/>
            <a:ext cx="2438280" cy="38124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4800600" y="2362320"/>
            <a:ext cx="2438280" cy="38088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Ь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800600" y="3048120"/>
            <a:ext cx="2438280" cy="38088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800600" y="3581280"/>
            <a:ext cx="3505320" cy="38124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Ья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4724280" y="4724280"/>
            <a:ext cx="3353040" cy="381240"/>
          </a:xfrm>
          <a:prstGeom prst="rect">
            <a:avLst/>
          </a:prstGeom>
          <a:solidFill>
            <a:srgbClr val="ffffff"/>
          </a:solidFill>
          <a:ln w="3492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6BCB-BDBF-45FA-A315-4C5F1DF3A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347760" y="-55440"/>
            <a:ext cx="8491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AE2B-4E02-4F99-85A9-8BF6A3D68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Прямоугольник 3" descr=""/>
          <p:cNvPicPr/>
          <p:nvPr/>
        </p:nvPicPr>
        <p:blipFill>
          <a:blip r:embed="rId1"/>
          <a:stretch/>
        </p:blipFill>
        <p:spPr>
          <a:xfrm>
            <a:off x="523800" y="60480"/>
            <a:ext cx="835812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6E79-23AC-426B-9454-A33068C36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2309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942300"/>
                </a:solidFill>
                <a:latin typeface="Comic Sans MS"/>
              </a:rPr>
              <a:t>Оцени свою работу на урок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2095560" y="1989000"/>
            <a:ext cx="60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3c15"/>
                </a:solidFill>
                <a:latin typeface="Century Schoolbook"/>
                <a:ea typeface="Times New Roman"/>
              </a:rPr>
              <a:t>На уроке мне было все понятн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2333520" y="4240080"/>
            <a:ext cx="5181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2133720" y="556272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3c15"/>
                </a:solidFill>
                <a:latin typeface="Century Schoolbook"/>
                <a:ea typeface="Times New Roman"/>
              </a:rPr>
              <a:t>Я многое не поня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MCj04324430000[1]"/>
          <p:cNvPicPr/>
          <p:nvPr/>
        </p:nvPicPr>
        <p:blipFill>
          <a:blip r:embed="rId1"/>
          <a:stretch/>
        </p:blipFill>
        <p:spPr>
          <a:xfrm>
            <a:off x="638280" y="1989000"/>
            <a:ext cx="1457280" cy="1565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MCj04344110000[1]"/>
          <p:cNvPicPr/>
          <p:nvPr/>
        </p:nvPicPr>
        <p:blipFill>
          <a:blip r:embed="rId2"/>
          <a:stretch/>
        </p:blipFill>
        <p:spPr>
          <a:xfrm>
            <a:off x="816120" y="3679920"/>
            <a:ext cx="1046160" cy="117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MCj04338180000[1]"/>
          <p:cNvPicPr/>
          <p:nvPr/>
        </p:nvPicPr>
        <p:blipFill>
          <a:blip r:embed="rId3"/>
          <a:stretch/>
        </p:blipFill>
        <p:spPr>
          <a:xfrm>
            <a:off x="819000" y="5168880"/>
            <a:ext cx="1092240" cy="10922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"/>
          <p:cNvSpPr/>
          <p:nvPr/>
        </p:nvSpPr>
        <p:spPr>
          <a:xfrm>
            <a:off x="1911240" y="3363840"/>
            <a:ext cx="66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3c15"/>
                </a:solidFill>
                <a:latin typeface="Century Schoolbook"/>
              </a:rPr>
              <a:t>У </a:t>
            </a:r>
            <a:r>
              <a:rPr b="1" lang="ru-RU" sz="3600" spc="-1" strike="noStrike">
                <a:solidFill>
                  <a:srgbClr val="8d3c15"/>
                </a:solidFill>
                <a:latin typeface="Century Schoolbook"/>
                <a:ea typeface="Times New Roman"/>
              </a:rPr>
              <a:t>меня возникли некоторые вопросы, но я постеснялся их задат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41C-336D-4CB2-BF5D-79ADC5D9C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a1"/>
          <p:cNvPicPr/>
          <p:nvPr/>
        </p:nvPicPr>
        <p:blipFill>
          <a:blip r:embed="rId1"/>
          <a:stretch/>
        </p:blipFill>
        <p:spPr>
          <a:xfrm>
            <a:off x="2743200" y="457200"/>
            <a:ext cx="1747800" cy="1547640"/>
          </a:xfrm>
          <a:prstGeom prst="rect">
            <a:avLst/>
          </a:prstGeom>
          <a:ln w="0">
            <a:noFill/>
          </a:ln>
        </p:spPr>
      </p:pic>
      <p:sp>
        <p:nvSpPr>
          <p:cNvPr id="374" name="WordArt 2"/>
          <p:cNvSpPr txBox="1"/>
          <p:nvPr/>
        </p:nvSpPr>
        <p:spPr>
          <a:xfrm>
            <a:off x="304920" y="152388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за  работу!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Picture 126" descr="AG00373_"/>
          <p:cNvPicPr/>
          <p:nvPr/>
        </p:nvPicPr>
        <p:blipFill>
          <a:blip r:embed="rId2"/>
          <a:stretch/>
        </p:blipFill>
        <p:spPr>
          <a:xfrm>
            <a:off x="5486400" y="411480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376" name="j0211063.wav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4716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Вот книжки на сто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А вот – тетрадки,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е хочется играть сегодня в прят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еобходимо приложить старани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Мы отправляемся навстречу знания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FED0-BEC4-420B-AB78-FFE819CCF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Calibri"/>
              </a:rPr>
              <a:t>В презентации использованы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d3c15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3c15"/>
                </a:solidFill>
                <a:latin typeface="Calibri"/>
              </a:rPr>
              <a:t>ресурсы Интернет – сай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d3c15"/>
                </a:solidFill>
                <a:latin typeface="Arial"/>
              </a:rPr>
              <a:t>г. Невинномысс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d3c15"/>
                </a:solidFill>
                <a:latin typeface="Arial"/>
              </a:rPr>
              <a:t>Попова Н.Б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11F-E689-407E-ABC2-A6481A699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E936-6BA7-4A3E-9DF8-ECBDE068D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6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3809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image2"/>
          <p:cNvPicPr/>
          <p:nvPr/>
        </p:nvPicPr>
        <p:blipFill>
          <a:blip r:embed="rId2"/>
          <a:stretch/>
        </p:blipFill>
        <p:spPr>
          <a:xfrm>
            <a:off x="3352680" y="3809880"/>
            <a:ext cx="26686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237C-9639-4BEC-9DE5-EDE2FE203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423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«Обучение выбору разделительного зна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Рисунок2"/>
          <p:cNvPicPr/>
          <p:nvPr/>
        </p:nvPicPr>
        <p:blipFill>
          <a:blip r:embed="rId1"/>
          <a:stretch/>
        </p:blipFill>
        <p:spPr>
          <a:xfrm>
            <a:off x="5237280" y="2590920"/>
            <a:ext cx="3511440" cy="3733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2057400" y="304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2300"/>
                </a:solidFill>
                <a:latin typeface="Comic Sans MS"/>
              </a:rPr>
              <a:t>Тема урока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685800" y="3200400"/>
            <a:ext cx="48769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900" spc="-1" strike="noStrike">
                <a:solidFill>
                  <a:srgbClr val="0000ff"/>
                </a:solidFill>
                <a:latin typeface="Arial"/>
              </a:rPr>
              <a:t>Ъ</a:t>
            </a:r>
            <a:r>
              <a:rPr b="1" lang="en-US" sz="9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42300"/>
                </a:solidFill>
                <a:latin typeface="Comic Sans MS"/>
              </a:rPr>
              <a:t>или</a:t>
            </a:r>
            <a:r>
              <a:rPr b="1" lang="ru-RU" sz="9900" spc="-1" strike="noStrike">
                <a:solidFill>
                  <a:srgbClr val="336600"/>
                </a:solidFill>
                <a:latin typeface="Arial"/>
              </a:rPr>
              <a:t> Ь</a:t>
            </a:r>
            <a:r>
              <a:rPr b="1" lang="ru-RU" sz="9900" spc="-1" strike="noStrike">
                <a:solidFill>
                  <a:srgbClr val="942300"/>
                </a:solidFill>
                <a:latin typeface="Arial"/>
              </a:rPr>
              <a:t>?</a:t>
            </a:r>
            <a:endParaRPr b="1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A3C-67F0-43B8-8625-E84CD916B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38224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Запиши слова в два столбика.</a:t>
            </a:r>
            <a:br>
              <a:rPr sz="4000"/>
            </a:b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Наблюдай за строением слова.</a:t>
            </a:r>
            <a:br>
              <a:rPr sz="4000"/>
            </a:b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Ищи различия.</a:t>
            </a:r>
            <a:br>
              <a:rPr sz="4000"/>
            </a:br>
            <a:br>
              <a:rPr sz="4000"/>
            </a:b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вьюга    в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ех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ал 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с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ед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у    об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явл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ение</a:t>
            </a:r>
            <a:br>
              <a:rPr sz="5000"/>
            </a:b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семья    вьют 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подъ</a:t>
            </a:r>
            <a:r>
              <a:rPr b="1" lang="ru-RU" sz="6000" spc="-1" strike="noStrike">
                <a:solidFill>
                  <a:srgbClr val="8d3c15"/>
                </a:solidFill>
                <a:latin typeface="Comic Sans MS"/>
              </a:rPr>
              <a:t>езд </a:t>
            </a:r>
            <a:r>
              <a:rPr b="1" lang="ru-RU" sz="50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0" lang="ru-RU" sz="5000" spc="-1" strike="noStrike">
                <a:solidFill>
                  <a:srgbClr val="663300"/>
                </a:solidFill>
                <a:latin typeface="Comic Sans MS"/>
              </a:rPr>
              <a:t> воробь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Нижний колонтитул 4" descr=""/>
          <p:cNvPicPr/>
          <p:nvPr/>
        </p:nvPicPr>
        <p:blipFill>
          <a:blip r:embed="rId1"/>
          <a:stretch/>
        </p:blipFill>
        <p:spPr>
          <a:xfrm>
            <a:off x="304920" y="768240"/>
            <a:ext cx="9070920" cy="4950000"/>
          </a:xfrm>
          <a:prstGeom prst="rect">
            <a:avLst/>
          </a:prstGeom>
          <a:ln w="0">
            <a:noFill/>
          </a:ln>
        </p:spPr>
      </p:pic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3BF-89CB-405A-856A-EF5E93293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942300"/>
                </a:solidFill>
                <a:latin typeface="Arial"/>
              </a:rPr>
              <a:t>Провер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1" descr="C41-33 копия"/>
          <p:cNvPicPr/>
          <p:nvPr/>
        </p:nvPicPr>
        <p:blipFill>
          <a:blip r:embed="rId2"/>
          <a:stretch/>
        </p:blipFill>
        <p:spPr>
          <a:xfrm>
            <a:off x="3733920" y="4038480"/>
            <a:ext cx="2336760" cy="26622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ая соединительная линия 2"/>
          <p:cNvSpPr/>
          <p:nvPr/>
        </p:nvSpPr>
        <p:spPr>
          <a:xfrm>
            <a:off x="6553080" y="1143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7"/>
          <p:cNvSpPr/>
          <p:nvPr/>
        </p:nvSpPr>
        <p:spPr>
          <a:xfrm>
            <a:off x="7010280" y="1143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6"/>
          <p:cNvSpPr/>
          <p:nvPr/>
        </p:nvSpPr>
        <p:spPr>
          <a:xfrm>
            <a:off x="6934320" y="1905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7"/>
          <p:cNvSpPr/>
          <p:nvPr/>
        </p:nvSpPr>
        <p:spPr>
          <a:xfrm>
            <a:off x="5029200" y="25239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9"/>
          <p:cNvSpPr/>
          <p:nvPr/>
        </p:nvSpPr>
        <p:spPr>
          <a:xfrm>
            <a:off x="6400800" y="3429000"/>
            <a:ext cx="95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73818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23"/>
          <p:cNvSpPr/>
          <p:nvPr/>
        </p:nvSpPr>
        <p:spPr>
          <a:xfrm>
            <a:off x="586728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6"/>
          <p:cNvSpPr/>
          <p:nvPr/>
        </p:nvSpPr>
        <p:spPr>
          <a:xfrm>
            <a:off x="735336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0309-16B9-4293-A0C3-DF05044A4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  <a:ea typeface="Arial"/>
              </a:rPr>
              <a:t>Вам знакомы следующие 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WordArt 4"/>
          <p:cNvGrpSpPr/>
          <p:nvPr/>
        </p:nvGrpSpPr>
        <p:grpSpPr>
          <a:xfrm>
            <a:off x="1523880" y="2060640"/>
            <a:ext cx="689040" cy="914040"/>
            <a:chOff x="1523880" y="2060640"/>
            <a:chExt cx="689040" cy="914040"/>
          </a:xfrm>
        </p:grpSpPr>
        <p:pic>
          <p:nvPicPr>
            <p:cNvPr id="204" name="WordArt 4" descr=""/>
            <p:cNvPicPr/>
            <p:nvPr/>
          </p:nvPicPr>
          <p:blipFill>
            <a:blip r:embed="rId1"/>
            <a:stretch/>
          </p:blipFill>
          <p:spPr>
            <a:xfrm>
              <a:off x="1523880" y="2063520"/>
              <a:ext cx="68904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523880" y="2060640"/>
              <a:ext cx="6858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ъ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WordArt 5"/>
          <p:cNvSpPr txBox="1"/>
          <p:nvPr/>
        </p:nvSpPr>
        <p:spPr>
          <a:xfrm>
            <a:off x="0" y="1600200"/>
            <a:ext cx="853452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noFill/>
                <a:latin typeface="Arial"/>
              </a:rPr>
              <a:t>ъ</a:t>
            </a:r>
            <a:endParaRPr b="1" lang="en-US" sz="3600" spc="1" strike="noStrike">
              <a:ln w="0">
                <a:noFill/>
              </a:ln>
              <a:noFill/>
              <a:latin typeface="Arial"/>
              <a:ea typeface="Arial"/>
            </a:endParaRPr>
          </a:p>
        </p:txBody>
      </p:sp>
      <p:grpSp>
        <p:nvGrpSpPr>
          <p:cNvPr id="207" name="WordArt 6"/>
          <p:cNvGrpSpPr/>
          <p:nvPr/>
        </p:nvGrpSpPr>
        <p:grpSpPr>
          <a:xfrm>
            <a:off x="5334120" y="2060640"/>
            <a:ext cx="688680" cy="914040"/>
            <a:chOff x="5334120" y="2060640"/>
            <a:chExt cx="688680" cy="914040"/>
          </a:xfrm>
        </p:grpSpPr>
        <p:pic>
          <p:nvPicPr>
            <p:cNvPr id="208" name="WordArt 6" descr=""/>
            <p:cNvPicPr/>
            <p:nvPr/>
          </p:nvPicPr>
          <p:blipFill>
            <a:blip r:embed="rId2"/>
            <a:stretch/>
          </p:blipFill>
          <p:spPr>
            <a:xfrm>
              <a:off x="5334120" y="2063520"/>
              <a:ext cx="68868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334120" y="2060640"/>
              <a:ext cx="6858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WordArt 7"/>
          <p:cNvGrpSpPr/>
          <p:nvPr/>
        </p:nvGrpSpPr>
        <p:grpSpPr>
          <a:xfrm>
            <a:off x="2517840" y="1523880"/>
            <a:ext cx="225360" cy="457200"/>
            <a:chOff x="2517840" y="1523880"/>
            <a:chExt cx="225360" cy="457200"/>
          </a:xfrm>
        </p:grpSpPr>
        <p:pic>
          <p:nvPicPr>
            <p:cNvPr id="211" name="WordArt 7" descr=""/>
            <p:cNvPicPr/>
            <p:nvPr/>
          </p:nvPicPr>
          <p:blipFill>
            <a:blip r:embed="rId3"/>
            <a:stretch/>
          </p:blipFill>
          <p:spPr>
            <a:xfrm>
              <a:off x="2520720" y="1523880"/>
              <a:ext cx="22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517840" y="1523880"/>
              <a:ext cx="22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WordArt 8"/>
          <p:cNvGrpSpPr/>
          <p:nvPr/>
        </p:nvGrpSpPr>
        <p:grpSpPr>
          <a:xfrm>
            <a:off x="3048120" y="1755720"/>
            <a:ext cx="231480" cy="463680"/>
            <a:chOff x="3048120" y="1755720"/>
            <a:chExt cx="231480" cy="463680"/>
          </a:xfrm>
        </p:grpSpPr>
        <p:pic>
          <p:nvPicPr>
            <p:cNvPr id="214" name="WordArt 8" descr=""/>
            <p:cNvPicPr/>
            <p:nvPr/>
          </p:nvPicPr>
          <p:blipFill>
            <a:blip r:embed="rId4"/>
            <a:stretch/>
          </p:blipFill>
          <p:spPr>
            <a:xfrm>
              <a:off x="3048120" y="1758600"/>
              <a:ext cx="23148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048120" y="1755720"/>
              <a:ext cx="2286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WordArt 9"/>
          <p:cNvGrpSpPr/>
          <p:nvPr/>
        </p:nvGrpSpPr>
        <p:grpSpPr>
          <a:xfrm>
            <a:off x="3127320" y="2438280"/>
            <a:ext cx="304560" cy="457200"/>
            <a:chOff x="3127320" y="2438280"/>
            <a:chExt cx="304560" cy="457200"/>
          </a:xfrm>
        </p:grpSpPr>
        <p:pic>
          <p:nvPicPr>
            <p:cNvPr id="217" name="WordArt 9" descr=""/>
            <p:cNvPicPr/>
            <p:nvPr/>
          </p:nvPicPr>
          <p:blipFill>
            <a:blip r:embed="rId5"/>
            <a:stretch/>
          </p:blipFill>
          <p:spPr>
            <a:xfrm>
              <a:off x="3130200" y="2438280"/>
              <a:ext cx="301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127320" y="2438280"/>
              <a:ext cx="30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ю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WordArt 10"/>
          <p:cNvGrpSpPr/>
          <p:nvPr/>
        </p:nvGrpSpPr>
        <p:grpSpPr>
          <a:xfrm>
            <a:off x="2670120" y="2975040"/>
            <a:ext cx="212760" cy="456840"/>
            <a:chOff x="2670120" y="2975040"/>
            <a:chExt cx="212760" cy="456840"/>
          </a:xfrm>
        </p:grpSpPr>
        <p:pic>
          <p:nvPicPr>
            <p:cNvPr id="220" name="WordArt 10" descr=""/>
            <p:cNvPicPr/>
            <p:nvPr/>
          </p:nvPicPr>
          <p:blipFill>
            <a:blip r:embed="rId6"/>
            <a:stretch/>
          </p:blipFill>
          <p:spPr>
            <a:xfrm>
              <a:off x="2673000" y="2977920"/>
              <a:ext cx="20628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670120" y="2975040"/>
              <a:ext cx="212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WordArt 15"/>
          <p:cNvGrpSpPr/>
          <p:nvPr/>
        </p:nvGrpSpPr>
        <p:grpSpPr>
          <a:xfrm>
            <a:off x="6858000" y="2975040"/>
            <a:ext cx="219240" cy="463320"/>
            <a:chOff x="6858000" y="2975040"/>
            <a:chExt cx="219240" cy="463320"/>
          </a:xfrm>
        </p:grpSpPr>
        <p:pic>
          <p:nvPicPr>
            <p:cNvPr id="223" name="WordArt 15" descr=""/>
            <p:cNvPicPr/>
            <p:nvPr/>
          </p:nvPicPr>
          <p:blipFill>
            <a:blip r:embed="rId7"/>
            <a:stretch/>
          </p:blipFill>
          <p:spPr>
            <a:xfrm>
              <a:off x="6858000" y="2977920"/>
              <a:ext cx="21924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58000" y="2975040"/>
              <a:ext cx="219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WordArt 16"/>
          <p:cNvGrpSpPr/>
          <p:nvPr/>
        </p:nvGrpSpPr>
        <p:grpSpPr>
          <a:xfrm>
            <a:off x="7010280" y="2286000"/>
            <a:ext cx="304920" cy="469800"/>
            <a:chOff x="7010280" y="2286000"/>
            <a:chExt cx="304920" cy="469800"/>
          </a:xfrm>
        </p:grpSpPr>
        <p:pic>
          <p:nvPicPr>
            <p:cNvPr id="226" name="WordArt 16" descr=""/>
            <p:cNvPicPr/>
            <p:nvPr/>
          </p:nvPicPr>
          <p:blipFill>
            <a:blip r:embed="rId8"/>
            <a:stretch/>
          </p:blipFill>
          <p:spPr>
            <a:xfrm>
              <a:off x="7010280" y="2286000"/>
              <a:ext cx="304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010280" y="2286000"/>
              <a:ext cx="3049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ю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WordArt 17"/>
          <p:cNvGrpSpPr/>
          <p:nvPr/>
        </p:nvGrpSpPr>
        <p:grpSpPr>
          <a:xfrm>
            <a:off x="6858000" y="1603440"/>
            <a:ext cx="231840" cy="463320"/>
            <a:chOff x="6858000" y="1603440"/>
            <a:chExt cx="231840" cy="463320"/>
          </a:xfrm>
        </p:grpSpPr>
        <p:pic>
          <p:nvPicPr>
            <p:cNvPr id="229" name="WordArt 17" descr=""/>
            <p:cNvPicPr/>
            <p:nvPr/>
          </p:nvPicPr>
          <p:blipFill>
            <a:blip r:embed="rId9"/>
            <a:stretch/>
          </p:blipFill>
          <p:spPr>
            <a:xfrm>
              <a:off x="6858000" y="1606320"/>
              <a:ext cx="23184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58000" y="1603440"/>
              <a:ext cx="22860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WordArt 18"/>
          <p:cNvGrpSpPr/>
          <p:nvPr/>
        </p:nvGrpSpPr>
        <p:grpSpPr>
          <a:xfrm>
            <a:off x="6248520" y="1371600"/>
            <a:ext cx="231480" cy="469800"/>
            <a:chOff x="6248520" y="1371600"/>
            <a:chExt cx="231480" cy="469800"/>
          </a:xfrm>
        </p:grpSpPr>
        <p:pic>
          <p:nvPicPr>
            <p:cNvPr id="232" name="WordArt 18" descr=""/>
            <p:cNvPicPr/>
            <p:nvPr/>
          </p:nvPicPr>
          <p:blipFill>
            <a:blip r:embed="rId10"/>
            <a:stretch/>
          </p:blipFill>
          <p:spPr>
            <a:xfrm>
              <a:off x="6248520" y="1371600"/>
              <a:ext cx="2314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248520" y="1371600"/>
              <a:ext cx="22860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WordArt 19"/>
          <p:cNvGrpSpPr/>
          <p:nvPr/>
        </p:nvGrpSpPr>
        <p:grpSpPr>
          <a:xfrm>
            <a:off x="6248520" y="3432240"/>
            <a:ext cx="218880" cy="463320"/>
            <a:chOff x="6248520" y="3432240"/>
            <a:chExt cx="218880" cy="463320"/>
          </a:xfrm>
        </p:grpSpPr>
        <p:pic>
          <p:nvPicPr>
            <p:cNvPr id="235" name="WordArt 19" descr=""/>
            <p:cNvPicPr/>
            <p:nvPr/>
          </p:nvPicPr>
          <p:blipFill>
            <a:blip r:embed="rId11"/>
            <a:stretch/>
          </p:blipFill>
          <p:spPr>
            <a:xfrm>
              <a:off x="6248520" y="3435120"/>
              <a:ext cx="21888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248520" y="3432240"/>
              <a:ext cx="218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0"/>
          <p:cNvSpPr/>
          <p:nvPr/>
        </p:nvSpPr>
        <p:spPr>
          <a:xfrm>
            <a:off x="838080" y="762120"/>
            <a:ext cx="7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4"/>
          <p:cNvSpPr/>
          <p:nvPr/>
        </p:nvSpPr>
        <p:spPr>
          <a:xfrm flipV="1">
            <a:off x="2286000" y="1981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5"/>
          <p:cNvSpPr/>
          <p:nvPr/>
        </p:nvSpPr>
        <p:spPr>
          <a:xfrm flipV="1">
            <a:off x="2286000" y="2133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7"/>
          <p:cNvSpPr/>
          <p:nvPr/>
        </p:nvSpPr>
        <p:spPr>
          <a:xfrm>
            <a:off x="23623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8"/>
          <p:cNvSpPr/>
          <p:nvPr/>
        </p:nvSpPr>
        <p:spPr>
          <a:xfrm>
            <a:off x="2362320" y="2819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39"/>
          <p:cNvSpPr/>
          <p:nvPr/>
        </p:nvSpPr>
        <p:spPr>
          <a:xfrm flipV="1" rot="14378400">
            <a:off x="5106600" y="1369080"/>
            <a:ext cx="847800" cy="1155960"/>
          </a:xfrm>
          <a:custGeom>
            <a:avLst/>
            <a:gdLst>
              <a:gd name="textAreaLeft" fmla="*/ 0 w 847800"/>
              <a:gd name="textAreaRight" fmla="*/ 848160 w 847800"/>
              <a:gd name="textAreaTop" fmla="*/ -360 h 1155960"/>
              <a:gd name="textAreaBottom" fmla="*/ 1155960 h 1155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40"/>
          <p:cNvSpPr/>
          <p:nvPr/>
        </p:nvSpPr>
        <p:spPr>
          <a:xfrm flipV="1" rot="14101200">
            <a:off x="2471400" y="1109520"/>
            <a:ext cx="847440" cy="1066680"/>
          </a:xfrm>
          <a:custGeom>
            <a:avLst/>
            <a:gdLst>
              <a:gd name="textAreaLeft" fmla="*/ 0 w 847440"/>
              <a:gd name="textAreaRight" fmla="*/ 847800 w 84744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5943600" y="19047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6019920" y="20574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60958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5"/>
          <p:cNvSpPr/>
          <p:nvPr/>
        </p:nvSpPr>
        <p:spPr>
          <a:xfrm>
            <a:off x="609588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6"/>
          <p:cNvSpPr/>
          <p:nvPr/>
        </p:nvSpPr>
        <p:spPr>
          <a:xfrm>
            <a:off x="5943600" y="2971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53"/>
          <p:cNvSpPr txBox="1"/>
          <p:nvPr/>
        </p:nvSpPr>
        <p:spPr>
          <a:xfrm>
            <a:off x="3048120" y="4038480"/>
            <a:ext cx="2361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11000"/>
                  </a:srgbClr>
                </a:solidFill>
                <a:latin typeface="Arial"/>
              </a:rPr>
              <a:t>Й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1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0" name="WordArt 54"/>
          <p:cNvSpPr txBox="1"/>
          <p:nvPr/>
        </p:nvSpPr>
        <p:spPr>
          <a:xfrm>
            <a:off x="5105520" y="4267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1" name="WordArt 55"/>
          <p:cNvSpPr txBox="1"/>
          <p:nvPr/>
        </p:nvSpPr>
        <p:spPr>
          <a:xfrm>
            <a:off x="5181480" y="52578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2" name="WordArt 56"/>
          <p:cNvSpPr txBox="1"/>
          <p:nvPr/>
        </p:nvSpPr>
        <p:spPr>
          <a:xfrm>
            <a:off x="2971800" y="52578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3" name="WordArt 57"/>
          <p:cNvSpPr txBox="1"/>
          <p:nvPr/>
        </p:nvSpPr>
        <p:spPr>
          <a:xfrm>
            <a:off x="2971800" y="4267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5000"/>
                  </a:srgbClr>
                </a:solidFill>
                <a:latin typeface="Arial"/>
              </a:rPr>
              <a:t>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838080" y="2232000"/>
            <a:ext cx="457200" cy="434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5"/>
          <p:cNvSpPr/>
          <p:nvPr/>
        </p:nvSpPr>
        <p:spPr>
          <a:xfrm>
            <a:off x="2424240" y="2219400"/>
            <a:ext cx="485640" cy="44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40"/>
          <p:cNvSpPr/>
          <p:nvPr/>
        </p:nvSpPr>
        <p:spPr>
          <a:xfrm>
            <a:off x="6224760" y="2239920"/>
            <a:ext cx="485640" cy="44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1"/>
          <p:cNvSpPr/>
          <p:nvPr/>
        </p:nvSpPr>
        <p:spPr>
          <a:xfrm>
            <a:off x="4589640" y="2219400"/>
            <a:ext cx="457200" cy="434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EA0-B207-43F2-8E28-574C48876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Чтобы обозначить звук </a:t>
            </a:r>
            <a:r>
              <a:rPr b="0" lang="en-US" sz="4000" spc="-1" strike="noStrike">
                <a:solidFill>
                  <a:srgbClr val="942300"/>
                </a:solidFill>
                <a:latin typeface="Comic Sans MS"/>
              </a:rPr>
              <a:t>[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й</a:t>
            </a:r>
            <a:r>
              <a:rPr b="0" lang="en-US" sz="4000" spc="-1" strike="noStrike">
                <a:solidFill>
                  <a:srgbClr val="942300"/>
                </a:solidFill>
                <a:latin typeface="Comic Sans MS"/>
              </a:rPr>
              <a:t>`]</a:t>
            </a:r>
            <a:r>
              <a:rPr b="0" lang="ru-RU" sz="4000" spc="-1" strike="noStrike">
                <a:solidFill>
                  <a:srgbClr val="942300"/>
                </a:solidFill>
                <a:latin typeface="Comic Sans MS"/>
              </a:rPr>
              <a:t> с помощью Ь или Ъ, нужно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762120" y="1828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1. Послушать:      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й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`]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  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4191120" y="1905120"/>
            <a:ext cx="495360" cy="457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4"/>
          <p:cNvSpPr/>
          <p:nvPr/>
        </p:nvSpPr>
        <p:spPr>
          <a:xfrm>
            <a:off x="5791320" y="1905120"/>
            <a:ext cx="53316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762120" y="266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2. Определить:          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й</a:t>
            </a:r>
            <a:r>
              <a:rPr b="0" lang="en-US" sz="3600" spc="-1" strike="noStrike">
                <a:solidFill>
                  <a:srgbClr val="942300"/>
                </a:solidFill>
                <a:latin typeface="Comic Sans MS"/>
              </a:rPr>
              <a:t>`]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?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1"/>
          <p:cNvSpPr/>
          <p:nvPr/>
        </p:nvSpPr>
        <p:spPr>
          <a:xfrm flipV="1">
            <a:off x="4438800" y="2819520"/>
            <a:ext cx="361800" cy="17136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3"/>
          <p:cNvSpPr/>
          <p:nvPr/>
        </p:nvSpPr>
        <p:spPr>
          <a:xfrm>
            <a:off x="4438800" y="2990880"/>
            <a:ext cx="361800" cy="1332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7"/>
          <p:cNvSpPr/>
          <p:nvPr/>
        </p:nvSpPr>
        <p:spPr>
          <a:xfrm>
            <a:off x="4952880" y="281952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3"/>
          <p:cNvSpPr/>
          <p:nvPr/>
        </p:nvSpPr>
        <p:spPr>
          <a:xfrm>
            <a:off x="5257800" y="2819520"/>
            <a:ext cx="0" cy="8568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7"/>
          <p:cNvSpPr/>
          <p:nvPr/>
        </p:nvSpPr>
        <p:spPr>
          <a:xfrm>
            <a:off x="4952880" y="312408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5008"/>
          <p:cNvSpPr/>
          <p:nvPr/>
        </p:nvSpPr>
        <p:spPr>
          <a:xfrm>
            <a:off x="5257800" y="3124080"/>
            <a:ext cx="0" cy="954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85018"/>
          <p:cNvSpPr/>
          <p:nvPr/>
        </p:nvSpPr>
        <p:spPr>
          <a:xfrm flipH="1">
            <a:off x="5028840" y="3048120"/>
            <a:ext cx="152280" cy="17136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5019"/>
          <p:cNvSpPr/>
          <p:nvPr/>
        </p:nvSpPr>
        <p:spPr>
          <a:xfrm>
            <a:off x="838080" y="3505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3. Если      , то написать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60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1"/>
          <p:cNvSpPr/>
          <p:nvPr/>
        </p:nvSpPr>
        <p:spPr>
          <a:xfrm>
            <a:off x="2895480" y="4267080"/>
            <a:ext cx="304920" cy="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62"/>
          <p:cNvSpPr/>
          <p:nvPr/>
        </p:nvSpPr>
        <p:spPr>
          <a:xfrm>
            <a:off x="3200400" y="3809880"/>
            <a:ext cx="0" cy="954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3"/>
          <p:cNvSpPr/>
          <p:nvPr/>
        </p:nvSpPr>
        <p:spPr>
          <a:xfrm>
            <a:off x="3200400" y="4267080"/>
            <a:ext cx="0" cy="9540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65"/>
          <p:cNvSpPr/>
          <p:nvPr/>
        </p:nvSpPr>
        <p:spPr>
          <a:xfrm flipH="1">
            <a:off x="2971440" y="4191120"/>
            <a:ext cx="152280" cy="171360"/>
          </a:xfrm>
          <a:prstGeom prst="line">
            <a:avLst/>
          </a:prstGeom>
          <a:ln w="38160">
            <a:solidFill>
              <a:srgbClr val="94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5020"/>
          <p:cNvSpPr/>
          <p:nvPr/>
        </p:nvSpPr>
        <p:spPr>
          <a:xfrm>
            <a:off x="914400" y="41054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942300"/>
                </a:solidFill>
                <a:latin typeface="Comic Sans MS"/>
              </a:rPr>
              <a:t>Если      , то написать </a:t>
            </a:r>
            <a:r>
              <a:rPr b="0" lang="ru-RU" sz="3600" spc="-1" strike="noStrike">
                <a:solidFill>
                  <a:srgbClr val="336600"/>
                </a:solidFill>
                <a:latin typeface="Comic Sans MS"/>
              </a:rPr>
              <a:t>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CD71-6641-4269-894F-9613B23F3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5334120" y="3429000"/>
            <a:ext cx="2743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ЧУТ . 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85800" y="3352680"/>
            <a:ext cx="274320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П . Е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9072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85800" y="4419720"/>
            <a:ext cx="358128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ЕР . ЁЗ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609480" y="2286000"/>
            <a:ext cx="3886200" cy="83808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ЯВЛЕ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410080" y="2438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029200" y="2209680"/>
            <a:ext cx="3311640" cy="838440"/>
          </a:xfrm>
          <a:prstGeom prst="rect">
            <a:avLst/>
          </a:prstGeom>
          <a:gradFill rotWithShape="0">
            <a:gsLst>
              <a:gs pos="0">
                <a:srgbClr val="b9e8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ОБ . ЕД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1219320" y="304920"/>
            <a:ext cx="7472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533520" y="4572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9966"/>
                </a:solidFill>
                <a:latin typeface="Arial"/>
              </a:rPr>
              <a:t>Если забыл правило, нажимай на      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>
            <a:hlinkClick r:id="" action="ppaction://hlinkshowjump?jump=lastslide"/>
          </p:cNvPr>
          <p:cNvSpPr/>
          <p:nvPr/>
        </p:nvSpPr>
        <p:spPr>
          <a:xfrm>
            <a:off x="8381880" y="533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553080" y="4800600"/>
            <a:ext cx="2133720" cy="1430280"/>
          </a:xfrm>
          <a:custGeom>
            <a:avLst/>
            <a:gdLst>
              <a:gd name="textAreaLeft" fmla="*/ 294120 w 2133720"/>
              <a:gd name="textAreaRight" fmla="*/ 1688040 w 2133720"/>
              <a:gd name="textAreaTop" fmla="*/ 216000 h 1430280"/>
              <a:gd name="textAreaBottom" fmla="*/ 1148040 h 1430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7238880" y="4952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84a10"/>
                </a:solidFill>
                <a:latin typeface="Arial"/>
              </a:rPr>
              <a:t>Ъ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2-08-26T16:16:08Z</dcterms:modified>
  <cp:revision>43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