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8E7-AF14-4B3C-9B50-DCC39C2D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C9E-FFA1-4E5C-985C-56131C7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3B7-BC34-4610-8A49-C7867591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2BA-7BA6-4E74-9493-B003EAAD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BC76-5671-488B-A0ED-8C81E714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0CB8-B4F0-46CC-9B07-A90D3B11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ADCC-AEF5-49E0-871E-887C100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97FE-20DD-474F-AC1C-C7497B27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D460-656C-46E8-8102-591C07BC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EBEC-C59F-4CD5-8933-8CACC3CF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43C5-C9AD-4D3B-A27A-4F6550D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1D3-D4CB-408A-8EA1-864132D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F367-6669-4A31-B4C2-3BA77B64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271-C45A-49CB-A053-E8EF491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010-D124-489B-9CD1-6757BFD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ED27-692E-45BC-BF16-FC9F5BBE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90BE-4414-49D1-9F67-DA108ABE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54BC-AD47-43BB-A569-3CFBCAE8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AD9E-1950-43E6-AF2E-B7A7C711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8854-DC45-43B2-9B23-F00DB1EC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5F80-83C8-4466-B165-55FD67C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C9EF-CB38-4F1F-A6A4-0E626E3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5E9-C10C-4D77-877B-69E2797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75F3-1D2F-4DFC-8BAF-CC47B78D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890F-D5FC-4223-A769-583CB08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720D-78BB-483A-8C51-36B944A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4515-9DEA-4760-B525-FA69DDA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6B0F-4E88-482D-BCD3-5BF6BA13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AF11-D096-4E42-A510-C4078DE9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3830-3C41-4603-A671-D31EBEC4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7435-B180-477F-85E0-3C015C23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5828-EAC7-4BE1-AC87-979D469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79AF-2A6E-4D5B-95DA-903D7AEC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C72-2B25-410B-B7F9-46518015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DE8E-9A6F-45B1-BDBB-9ECD689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8830-1AAF-4204-803D-8482A735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B3E4-8125-4D50-ABE3-B9D5190E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E3C3-2D3C-49D3-ACB4-585903C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EB2F-02B2-411B-9737-680170C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C4AC-826E-4B23-8275-A183B9F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37FC-171D-481C-8685-19FC32C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9096-0C6A-42DF-89B3-D715D61D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C9E2-9387-4422-8E70-DA6AE4D1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CECB-9073-40B9-9A56-B646E317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40D-DADE-448E-9505-D0DD9419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51E0-6146-48CC-A918-73418378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2C51-3055-4ABF-AAC4-647D0BBE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4907-B3F9-4EC1-9E3F-BE59B917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B9D76-BE8E-4B04-B4D8-DE04597E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63BB-3A69-47DA-8712-A805BD4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7809-BE8A-433A-840E-E1F9296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2CD86-E432-4E55-9641-C573606E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8932-BF8D-405D-98E0-F41EBC6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3A57B-657C-4F54-A091-9AAE92BD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65B4-046D-4204-95F3-F9780B50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D4C-C4D7-4B18-BBF0-8A7037CF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072D-A4CD-43F0-9B6C-683D2AAF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E1A-5F16-4DF4-9038-54D2E35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E2E-9332-4D32-BA33-F65511F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A06-1295-4EC5-AA5B-CC77D37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E11-2855-47C7-B5E8-193F2E1CF28D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1F43-988C-479F-BC15-7AD4E3E8109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B98-0500-443C-B3B3-1240C111BC3D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0B0E-9702-4A41-9899-BC5908D5FCA4}" type="slidenum">
              <a:rPr b="0" lang="ru-RU" sz="1100" spc="-1" strike="noStrike">
                <a:solidFill>
                  <a:srgbClr val="dbf5f9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B5E5-46DF-4934-A335-C4474115C702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348000" y="5013360"/>
            <a:ext cx="567864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дготови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еник 4 класса Калашников Дании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Руководитель: Марченкова Г.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3357720" y="428760"/>
            <a:ext cx="5000400" cy="30002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4" descr=""/>
          <p:cNvPicPr/>
          <p:nvPr/>
        </p:nvPicPr>
        <p:blipFill>
          <a:blip r:embed="rId2"/>
          <a:stretch/>
        </p:blipFill>
        <p:spPr>
          <a:xfrm>
            <a:off x="3664080" y="2749680"/>
            <a:ext cx="440028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D:\Мои документы\Наташа\solar_kino.gif"/>
          <p:cNvPicPr/>
          <p:nvPr/>
        </p:nvPicPr>
        <p:blipFill>
          <a:blip r:embed="rId3"/>
          <a:stretch/>
        </p:blipFill>
        <p:spPr>
          <a:xfrm>
            <a:off x="714240" y="500040"/>
            <a:ext cx="75276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D:\Мои документы\Наташа\solar_kino.gif"/>
          <p:cNvPicPr/>
          <p:nvPr/>
        </p:nvPicPr>
        <p:blipFill>
          <a:blip r:embed="rId4"/>
          <a:stretch/>
        </p:blipFill>
        <p:spPr>
          <a:xfrm>
            <a:off x="714240" y="1928880"/>
            <a:ext cx="75276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D:\Мои документы\Наташа\solar_kino.gif"/>
          <p:cNvPicPr/>
          <p:nvPr/>
        </p:nvPicPr>
        <p:blipFill>
          <a:blip r:embed="rId5"/>
          <a:stretch/>
        </p:blipFill>
        <p:spPr>
          <a:xfrm>
            <a:off x="714240" y="3714840"/>
            <a:ext cx="752760" cy="7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D:\Мои документы\Наташа\solar_kino.gif"/>
          <p:cNvPicPr/>
          <p:nvPr/>
        </p:nvPicPr>
        <p:blipFill>
          <a:blip r:embed="rId6"/>
          <a:stretch/>
        </p:blipFill>
        <p:spPr>
          <a:xfrm>
            <a:off x="714240" y="5286240"/>
            <a:ext cx="75276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ботая над проектом, я узнал историю столицы нашей республики, познакомился с её достопримечательностям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лся искать нужную информацию в книгах и интернет-ресурс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191440" cy="4943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324000" y="537372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нск - столица Республики Мордовия, расположен на левом берегу реки Инсар (бассейн Волги), в 642 км к востоку от Москвы. Основан в 1641 году, статус города получил в 1651 году. Административно город разделён на 3 городских района: Ленинский, Октябрьский и Пролетарск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-19080"/>
            <a:ext cx="7461360" cy="665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214200" y="832680"/>
            <a:ext cx="77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ранск - один  из старейших городов Среднего Поволжья. Он возник в 1641 году как военная крепость на юго-восточной сторожевой  черте Московского государства, основан на перекрестке больших гужевых трактов, соединявших Астрахань с Москвой, Крым с Каза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ранская крепость имела почти квадратную форму. Река Саранка протекала по территории крепости. Со всех сторон крепость была окружена земляным валом с угловыми деревянными башнями и высоким частоколом. С наружной стороны вала тянулись глубокие рвы. С внутренней - возвышались еще и деревянные стены с приспособлениями для об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371470320"/>
            <a:ext cx="300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Саранская крепость_03"/>
          <p:cNvPicPr/>
          <p:nvPr/>
        </p:nvPicPr>
        <p:blipFill>
          <a:blip r:embed="rId2"/>
          <a:stretch/>
        </p:blipFill>
        <p:spPr>
          <a:xfrm>
            <a:off x="357120" y="2276640"/>
            <a:ext cx="72151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-726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и поселенцами Саранской крепости были казаки и стрельцы, которые несли здесь сторожевую служб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XVIII века город делился на слободы, которые первоначально были укреплены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651 года Саранск - уездный город. При образовании губерний в 1708 году он причисляется к Азовской, затем к Казанской, Симбирской, а с 1801 года к Пензен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0" y="0"/>
            <a:ext cx="304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371470320"/>
            <a:ext cx="300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казаки и стрельцы"/>
          <p:cNvPicPr/>
          <p:nvPr/>
        </p:nvPicPr>
        <p:blipFill>
          <a:blip r:embed="rId1"/>
          <a:stretch/>
        </p:blipFill>
        <p:spPr>
          <a:xfrm>
            <a:off x="428760" y="2647800"/>
            <a:ext cx="6858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476280"/>
            <a:ext cx="705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более чем трехвековую историю город был свидетелем многих собы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70 году Саранская крепость была осаждена и взята отрядами </a:t>
            </a:r>
            <a:r>
              <a:rPr b="1" lang="ru-RU" sz="1800" spc="-1" strike="noStrike">
                <a:solidFill>
                  <a:srgbClr val="edaa77"/>
                </a:solidFill>
                <a:latin typeface="Arial"/>
              </a:rPr>
              <a:t>Степана Раз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сле чего Саранск становится одним из опорных пунктов разинце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Степан Разин_XL"/>
          <p:cNvPicPr/>
          <p:nvPr/>
        </p:nvPicPr>
        <p:blipFill>
          <a:blip r:embed="rId1"/>
          <a:stretch/>
        </p:blipFill>
        <p:spPr>
          <a:xfrm>
            <a:off x="826920" y="2637000"/>
            <a:ext cx="5715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395280" y="40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774 году в город вошел со своим войском Е. И. Пугачев, встреченный населением с большими почест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ugachev18791-600x379"/>
          <p:cNvPicPr/>
          <p:nvPr/>
        </p:nvPicPr>
        <p:blipFill>
          <a:blip r:embed="rId1"/>
          <a:stretch/>
        </p:blipFill>
        <p:spPr>
          <a:xfrm>
            <a:off x="971640" y="170028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79280" y="404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XVIII веке город постепенно превращается в торгово-промышленный центр. Зерно, пенька, кожа, мясо, мед - вот основные предметы сбыта. В городе развиваются мелкие кустарные кожевенные, маслобойные, салотопенные предприятия, продукция которых пользовалась большим спросом на рынке. По ста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ческим данным, опубликованным в 1849 году, в Саранске было 15 кожевенных, 3 воскобойных, салотопенный, клеевой, 3 свечных завода с числом работающих от 2 до 10 человек. Численность населения составляла 14,2 тысячи чело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промыщленный саранск"/>
          <p:cNvPicPr/>
          <p:nvPr/>
        </p:nvPicPr>
        <p:blipFill>
          <a:blip r:embed="rId1"/>
          <a:stretch/>
        </p:blipFill>
        <p:spPr>
          <a:xfrm>
            <a:off x="468360" y="3645000"/>
            <a:ext cx="662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539640" y="549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XIX веке опустошительные пожары (1817, 1825 и 1869 гг.) уничтожили почти весь город. Однако каждый раз он отстраивался занов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после пожара"/>
          <p:cNvPicPr/>
          <p:nvPr/>
        </p:nvPicPr>
        <p:blipFill>
          <a:blip r:embed="rId1"/>
          <a:stretch/>
        </p:blipFill>
        <p:spPr>
          <a:xfrm>
            <a:off x="611280" y="1844640"/>
            <a:ext cx="59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24000" y="404640"/>
            <a:ext cx="74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нце XIX века через Саранск прошла линия Московско-Казанской железной дороги. Строительство дороги оживило экономическую и политическую жизнь края. Стал расти и город Саранск, превратившийся в довольно крупный торговый центр Среднего Поволжья. Однако экономическое оживление не изменило внешнего облика города. Саранск продолжал оставаться захолустным, преимущественно деревянным и совершенно неблагоустроенным. Царское правительство мало заботилось о благоустройстве уездных городов, отпуская им скудные средст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Старый СаранскXL"/>
          <p:cNvPicPr/>
          <p:nvPr/>
        </p:nvPicPr>
        <p:blipFill>
          <a:blip r:embed="rId1"/>
          <a:stretch/>
        </p:blipFill>
        <p:spPr>
          <a:xfrm>
            <a:off x="785880" y="3284640"/>
            <a:ext cx="6786360" cy="22874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357120" y="571500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изменился Саранск и в последующие годы. Второе рождение городу суждено было пережить только после победы Великой Октябрьской социалистической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а</cp:lastModifiedBy>
  <dcterms:modified xsi:type="dcterms:W3CDTF">2012-10-07T11:51:00Z</dcterms:modified>
  <cp:revision>52</cp:revision>
  <dc:subject/>
  <dc:title>Слайд 1</dc:title>
</cp:coreProperties>
</file>