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D35-8056-410F-A586-2BB06E3B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27F-73F3-42E5-AB2F-9DD1A37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397-CC99-4F6F-9690-B4894313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B03-DB46-4C15-957D-8FFCBCCC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6A0-03A0-4C1B-A95A-F1D184C9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2C71-5B00-49F5-8EDB-5AFA53D1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5AD2-4A07-4BC7-A905-7050036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000-2E49-4C6B-992A-661606E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3464-6B3B-4646-93D2-FEE651C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6EA3-A23D-40B5-92CC-A9CB3E36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232D-BEE0-4D1D-A55A-D550078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3CC-CC09-45A6-8A80-04C8A38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7CDB-AA50-4496-AB14-8F8760F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6E76-F3C9-4691-B909-2AB5E06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8D01-94CB-4E1B-A01A-60D8C9F6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9E51-3C40-4AE2-A9C9-64505B9F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5D7B-C780-4B55-AEC8-8D777201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CFB0-A45C-448A-9833-101E4005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B38E-F846-4E49-A205-DB4863F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3CAB-3794-4776-A1A3-5D27EA7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1161-76EC-49F3-9BA8-6807469A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07FD-96C6-4CB6-A374-399A19F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BB7-67FC-4EA8-BB8B-A88464D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D113-63B1-41B1-A9C9-9345A3B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C3D7-02F3-4C36-B043-ADFFD70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0CE2-2343-4CB7-AB80-B63A41D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B418-5D0D-49A4-8737-7D71CE3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4AD1-281C-418E-9692-4A68722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0F14-ACBD-4471-BB78-BDC6085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E76C-558E-494D-88CA-1ECCFDA8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5F8E-D8BF-454B-973E-C97B8DB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4B8A-26E3-408D-8058-1B126B9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51A4-477A-44DF-B83E-85755AC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D3A-4E36-4390-AEB0-87DA43F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0552-DAE5-4729-B2CE-C5C932B9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AA13-3B68-41E1-8DD1-070B5DB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C1DB-2453-49C3-AC13-7138041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7DAD-A8E6-4E02-ADEE-7674711E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D684-E9EA-4CE4-9CFC-119D73D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1E83-B3C0-456B-AB8F-731AC04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4BCF-B671-459E-9944-0C8A70D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E10F-2072-4437-8C36-C072E1FB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EAC0-8E43-4185-AF03-6280D34E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950B-E736-49CF-935E-9CC508E8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062-A694-455E-99E4-9834A0CC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FFAB-8337-4B75-8EF3-08B00C3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9C20-9C2B-49C1-AAE0-1F25C19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9567-B608-49B9-965A-EDAE6DF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86DA-C0E9-415C-9FD5-98131840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B4A5-07B1-4E74-9501-93C169E8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B03B-7B32-45DC-A4CD-F151F7C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7CF3-D2E5-4D5B-A7A8-0FD57418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6A97-F8C1-4F98-85B3-E554156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232B-DD07-4CBC-96CA-118A6D9B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DCE5-127B-4857-BF68-267BF682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1B8-D50F-40AC-A62B-E5A1629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2760-5C75-4109-8EE2-467057DB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F8A-0026-4C6A-B72B-0E5AFC3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1F8-EED1-4727-9A16-7F3301E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5AF-D7AB-4C3E-8832-8511FA7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5F57-0F4F-4CDD-81E3-45E85A17A706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A776-6877-4B9C-9E69-B366059D6D4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46AB-A6AE-4B3A-9C04-DC8E17F0B3C8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98D-4DC3-40BA-B737-93DCB47AEFFF}" type="slidenum">
              <a:rPr b="0" lang="ru-RU" sz="1100" spc="-1" strike="noStrike">
                <a:solidFill>
                  <a:srgbClr val="dbf5f9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E06C-1DBD-42C6-AF64-DD97B5EC2E75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348000" y="5013360"/>
            <a:ext cx="567864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готови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еник 4 класса Калашников Дании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уководитель: Марченкова Г.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3357720" y="428760"/>
            <a:ext cx="500040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" descr=""/>
          <p:cNvPicPr/>
          <p:nvPr/>
        </p:nvPicPr>
        <p:blipFill>
          <a:blip r:embed="rId2"/>
          <a:stretch/>
        </p:blipFill>
        <p:spPr>
          <a:xfrm>
            <a:off x="3664080" y="2749680"/>
            <a:ext cx="440028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:\Мои документы\Наташа\solar_kino.gif"/>
          <p:cNvPicPr/>
          <p:nvPr/>
        </p:nvPicPr>
        <p:blipFill>
          <a:blip r:embed="rId3"/>
          <a:stretch/>
        </p:blipFill>
        <p:spPr>
          <a:xfrm>
            <a:off x="714240" y="50004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D:\Мои документы\Наташа\solar_kino.gif"/>
          <p:cNvPicPr/>
          <p:nvPr/>
        </p:nvPicPr>
        <p:blipFill>
          <a:blip r:embed="rId4"/>
          <a:stretch/>
        </p:blipFill>
        <p:spPr>
          <a:xfrm>
            <a:off x="714240" y="192888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D:\Мои документы\Наташа\solar_kino.gif"/>
          <p:cNvPicPr/>
          <p:nvPr/>
        </p:nvPicPr>
        <p:blipFill>
          <a:blip r:embed="rId5"/>
          <a:stretch/>
        </p:blipFill>
        <p:spPr>
          <a:xfrm>
            <a:off x="714240" y="371484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D:\Мои документы\Наташа\solar_kino.gif"/>
          <p:cNvPicPr/>
          <p:nvPr/>
        </p:nvPicPr>
        <p:blipFill>
          <a:blip r:embed="rId6"/>
          <a:stretch/>
        </p:blipFill>
        <p:spPr>
          <a:xfrm>
            <a:off x="714240" y="5286240"/>
            <a:ext cx="7527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я над проектом, я узнал историю столицы нашей республики, познакомился с её достопримечательностям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лся искать нужную информацию в книгах и интернет-ресурс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191440" cy="4943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324000" y="537372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нск - столица Республики Мордовия, расположен на левом берегу реки Инсар (бассейн Волги), в 642 км к востоку от Москвы. Основан в 1641 году, статус города получил в 1651 году. Административно город разделён на 3 городских района: Ленинский, Октябрьский и Пролетарск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-19080"/>
            <a:ext cx="7461360" cy="665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214200" y="832680"/>
            <a:ext cx="77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нск - один  из старейших городов Среднего Поволжья. Он возник в 1641 году как военная крепость на юго-восточной сторожевой  черте Московского государства, основан на перекрестке больших гужевых трактов, соединявших Астрахань с Москвой, Крым с Каза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нская крепость имела почти квадратную форму. Река Саранка протекала по территории крепости. Со всех сторон крепость была окружена земляным валом с угловыми деревянными башнями и высоким частоколом. С наружной стороны вала тянулись глубокие рвы. С внутренней - возвышались еще и деревянные стены с приспособлениями для об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371470320"/>
            <a:ext cx="300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Саранская крепость_03"/>
          <p:cNvPicPr/>
          <p:nvPr/>
        </p:nvPicPr>
        <p:blipFill>
          <a:blip r:embed="rId2"/>
          <a:stretch/>
        </p:blipFill>
        <p:spPr>
          <a:xfrm>
            <a:off x="357120" y="2276640"/>
            <a:ext cx="72151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-726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и поселенцами Саранской крепости были казаки и стрельцы, которые несли здесь сторожевую служб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XVIII века город делился на слободы, которые первоначально были укреплены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651 года Саранск - уездный город. При образовании губерний в 1708 году он причисляется к Азовской, затем к Казанской, Симбирской, а с 1801 года к Пензен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0" y="0"/>
            <a:ext cx="304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371470320"/>
            <a:ext cx="300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казаки и стрельцы"/>
          <p:cNvPicPr/>
          <p:nvPr/>
        </p:nvPicPr>
        <p:blipFill>
          <a:blip r:embed="rId1"/>
          <a:stretch/>
        </p:blipFill>
        <p:spPr>
          <a:xfrm>
            <a:off x="428760" y="2647800"/>
            <a:ext cx="6858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476280"/>
            <a:ext cx="705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более чем трехвековую историю город был свидетелем многих собы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70 году Саранская крепость была осаждена и взята отрядами </a:t>
            </a:r>
            <a:r>
              <a:rPr b="1" lang="ru-RU" sz="1800" spc="-1" strike="noStrike">
                <a:solidFill>
                  <a:srgbClr val="edaa77"/>
                </a:solidFill>
                <a:latin typeface="Arial"/>
              </a:rPr>
              <a:t>Степана Раз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сле чего Саранск становится одним из опорных пунктов разинце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Степан Разин_XL"/>
          <p:cNvPicPr/>
          <p:nvPr/>
        </p:nvPicPr>
        <p:blipFill>
          <a:blip r:embed="rId1"/>
          <a:stretch/>
        </p:blipFill>
        <p:spPr>
          <a:xfrm>
            <a:off x="826920" y="2637000"/>
            <a:ext cx="5715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395280" y="40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774 году в город вошел со своим войском Е. И. Пугачев, встреченный населением с большими почест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ugachev18791-600x379"/>
          <p:cNvPicPr/>
          <p:nvPr/>
        </p:nvPicPr>
        <p:blipFill>
          <a:blip r:embed="rId1"/>
          <a:stretch/>
        </p:blipFill>
        <p:spPr>
          <a:xfrm>
            <a:off x="971640" y="170028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79280" y="404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XVIII веке город постепенно превращается в торгово-промышленный центр. Зерно, пенька, кожа, мясо, мед - вот основные предметы сбыта. В городе развиваются мелкие кустарные кожевенные, маслобойные, салотопенные предприятия, продукция которых пользовалась большим спросом на рынке. По ста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им данным, опубликованным в 1849 году, в Саранске было 15 кожевенных, 3 воскобойных, салотопенный, клеевой, 3 свечных завода с числом работающих от 2 до 10 человек. Численность населения составляла 14,2 тысячи чело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промыщленный саранск"/>
          <p:cNvPicPr/>
          <p:nvPr/>
        </p:nvPicPr>
        <p:blipFill>
          <a:blip r:embed="rId1"/>
          <a:stretch/>
        </p:blipFill>
        <p:spPr>
          <a:xfrm>
            <a:off x="468360" y="3645000"/>
            <a:ext cx="662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539640" y="54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XIX веке опустошительные пожары (1817, 1825 и 1869 гг.) уничтожили почти весь город. Однако каждый раз он отстраивался занов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после пожара"/>
          <p:cNvPicPr/>
          <p:nvPr/>
        </p:nvPicPr>
        <p:blipFill>
          <a:blip r:embed="rId1"/>
          <a:stretch/>
        </p:blipFill>
        <p:spPr>
          <a:xfrm>
            <a:off x="611280" y="1844640"/>
            <a:ext cx="59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24000" y="404640"/>
            <a:ext cx="74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нце XIX века через Саранск прошла линия Московско-Казанской железной дороги. Строительство дороги оживило экономическую и политическую жизнь края. Стал расти и город Саранск, превратившийся в довольно крупный торговый центр Среднего Поволжья. Однако экономическое оживление не изменило внешнего облика города. Саранск продолжал оставаться захолустным, преимущественно деревянным и совершенно неблагоустроенным. Царское правительство мало заботилось о благоустройстве уездных городов, отпуская им скудные средст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Старый СаранскXL"/>
          <p:cNvPicPr/>
          <p:nvPr/>
        </p:nvPicPr>
        <p:blipFill>
          <a:blip r:embed="rId1"/>
          <a:stretch/>
        </p:blipFill>
        <p:spPr>
          <a:xfrm>
            <a:off x="785880" y="3284640"/>
            <a:ext cx="6786360" cy="22874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357120" y="571500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изменился Саранск и в последующие годы. Второе рождение городу суждено было пережить только после победы Великой Октябрьской социалистической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а</cp:lastModifiedBy>
  <dcterms:modified xsi:type="dcterms:W3CDTF">2012-10-07T11:51:00Z</dcterms:modified>
  <cp:revision>52</cp:revision>
  <dc:subject/>
  <dc:title>Слайд 1</dc:title>
</cp:coreProperties>
</file>