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720263" cy="6480175"/>
  <p:notesSz cx="7559675" cy="10691813"/>
  <p:custShowLst>
    <p:custShow name="Произвольный показ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87C8D92C-7C95-483B-81AB-421BBF2B1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C5F51DC6-921B-4DE7-8AAD-0ECB5ED7C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F5036344-977A-4E71-B1B0-0CA44DC1A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A0541B87-8BFD-4DD6-B035-C01C9F613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5F964EAF-F94B-444C-9250-6EF639E0E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20360" y="5089320"/>
            <a:ext cx="604836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63F6FE0-C00A-4A61-B1B1-14161A829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142F8E9B-9261-4231-AA8A-287950222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A535B9C-7F22-4C2D-93F8-21766838F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6ECDCDCB-E67A-44E0-AD2F-918A0FB09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3D7CF3CE-3075-4C71-B381-D81510A80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EBDD4F37-F52D-4474-9423-215CEE42C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9F4-EC16-4060-B6AA-C5AA4E7F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1FA-A3F6-4681-BF1C-35D2305D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0FA-AA2F-4C13-B745-B1EBDEA2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F03-BC58-4E1A-B74A-8A0CF5AE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2E3-8512-4E38-8576-F846998E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AF3-58B7-43AF-8EBB-51EF512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69D-7BBE-48A1-A7C0-3F62E3C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73E-F874-47F8-B980-23496DC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F37-B9CE-4844-ABA2-2640C4C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670-60C6-45AB-BBEF-45DC76A4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A61-7233-4F21-9384-2CE40E23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A7B-BC82-40F7-9926-BECC0C8D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0080"/>
            <a:ext cx="8299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9040" y="1906200"/>
            <a:ext cx="81723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653240" y="5357880"/>
            <a:ext cx="189864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856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323880" y="599616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9692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BF5C64EA-2662-4FFF-B35F-7C23E85F7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7472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СОЦИАЛЬНО-ПЕДАГОГИЧЕСКИЕ  ТЕХНОЛОГИИ</a:t>
            </a:r>
            <a:br>
              <a:rPr sz="2600"/>
            </a:b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ПРОФИЛАКТИК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И 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СУИЦИДАЛЬНОГО 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ПОВЕДЕНИЯ </a:t>
            </a:r>
            <a:br>
              <a:rPr sz="2600"/>
            </a:b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 ПОДРОСТКОВ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ОЙ СРЕДЕ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5640" y="1668240"/>
            <a:ext cx="91090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Чернышева Е. 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социальный педагог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МОУ «Уразовская СОШ №2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79280" y="1655640"/>
            <a:ext cx="5905440" cy="4176720"/>
            <a:chOff x="179280" y="1655640"/>
            <a:chExt cx="5905440" cy="4176720"/>
          </a:xfrm>
        </p:grpSpPr>
        <p:pic>
          <p:nvPicPr>
            <p:cNvPr id="90" name="Picture 2" descr="emblema[1]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179280" y="1655640"/>
              <a:ext cx="590544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3"/>
            <p:cNvSpPr/>
            <p:nvPr/>
          </p:nvSpPr>
          <p:spPr>
            <a:xfrm>
              <a:off x="3743640" y="5282280"/>
              <a:ext cx="1809720" cy="234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Формы профилактики </a:t>
            </a:r>
            <a:br>
              <a:rPr sz="3800"/>
            </a:b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подростковой суицидности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655640"/>
            <a:ext cx="91440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усиление внимания родителей к порядку хранения лекарственных средст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проведение при необходимости тактичной консультации подростка с психологом, психотерапевтом, психиатро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формирование у обучающихся таких понятий, как «ценность человеческой жизни», «цели смысл жизни», а также индивидуальных приемов психологической защиты в сложных жизненных ситуациях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повышение стрессоустойчивости путем психологической подготовки подростка к сложным и противоречивым реалиям современной жизни, формирование готовности к преодолению ожидаемых трудносте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психологическая помощь школе, семье и подростку в целях предупреждения или ослабления действия факторов, обусловливающих возникновение психогенных реакций или декомпенсацию имеющихся у школьника нервнопсихических расстройст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0200" y="23940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7360" y="1525320"/>
            <a:ext cx="71452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287360" y="1596960"/>
            <a:ext cx="743112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600" spc="-1" strike="noStrike">
                <a:solidFill>
                  <a:srgbClr val="47ffd1"/>
                </a:solidFill>
                <a:latin typeface="Times New Roman"/>
              </a:rPr>
              <a:t>СУИЦИД </a:t>
            </a:r>
            <a:r>
              <a:rPr b="1" i="1" lang="en-US" sz="3600" spc="-1" strike="noStrike">
                <a:solidFill>
                  <a:srgbClr val="47ffd1"/>
                </a:solidFill>
                <a:latin typeface="Times New Roman"/>
              </a:rPr>
              <a:t>-</a:t>
            </a:r>
            <a:r>
              <a:rPr b="1" i="1" lang="ru-RU" sz="3600" spc="-1" strike="noStrike">
                <a:solidFill>
                  <a:srgbClr val="47ffd1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47ffd1"/>
                </a:solidFill>
                <a:latin typeface="Times New Roman"/>
              </a:rPr>
              <a:t>убийство себя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24000" y="1763640"/>
            <a:ext cx="3743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Из всех созданий,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живущих на земле, только человек может изменить себ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Только человек является архитектором своей судьбы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В. Джейм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85640" y="176364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16000" y="1655640"/>
            <a:ext cx="5465520" cy="4156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2760" y="38232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Причины подросткового суицида: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79280" y="1800360"/>
            <a:ext cx="9180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58920" y="1619280"/>
            <a:ext cx="907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яжелая семейная обстановка, распад семьи, уход одного из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нфликтные отношения с учителями, с коллективом сверс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несчастная любовь», отсутствие ситуации успеха в наиболее значимых видах деятельнос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отребление спиртных напитков, токсических препаратов, наркот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нние проявления шизоидны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Подростки «группы риска» по суициду: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2360" y="1884240"/>
            <a:ext cx="9144000" cy="376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 нарушением межличностных отношений, “одиночки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лоупотребляющие алкоголем или наркотиками, отличающиеся девиантным или криминальным поведением, включающим физическое насилие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 затяжным депрессивным состояние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рхкритичные к себе подрост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дающие от недавно испытанных унижений или трагических утрат, от хронических или смертельных болезн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устрированные несоответствием между ожидавшимися успехами в жизни и реальными достижения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дающие от болезней или покинутые окружением подростк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социально-неблагополучных семей - уход из семьи или развод родител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семей, в которых были случаи суици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47ff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3280" y="1596600"/>
            <a:ext cx="4610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262699"/>
                </a:solidFill>
                <a:latin typeface="Times New Roman"/>
              </a:rPr>
              <a:t>КОМПЛЕКС ПРОФИЛАКТИЧЕСКИХ МЕРОПР</a:t>
            </a:r>
            <a:r>
              <a:rPr b="1" i="1" lang="ru-RU" sz="2400" spc="-1" strike="noStrike">
                <a:solidFill>
                  <a:srgbClr val="262699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262699"/>
                </a:solidFill>
                <a:latin typeface="Times New Roman"/>
              </a:rPr>
              <a:t>ЯТИЙ ПО ВЫЯВЛЕНИЮ СУИЦИДАЛЬНОГО ПОВЕДЕНИЯ СРЕДИ ПОДРОСТКОВ СПОСОБСТВУЕТ СНИЖЕНИЮ РИСКА СУИЦИДАЛЬНЫХ ПОПЫ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73903"/>
          <p:cNvPicPr/>
          <p:nvPr/>
        </p:nvPicPr>
        <p:blipFill>
          <a:blip r:embed="rId1"/>
          <a:stretch/>
        </p:blipFill>
        <p:spPr>
          <a:xfrm>
            <a:off x="179280" y="1584360"/>
            <a:ext cx="41054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Алгоритм оказания ребёнку социально-педагогической поддержки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6360" y="1882800"/>
            <a:ext cx="775656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Схема 5" descr=""/>
          <p:cNvPicPr/>
          <p:nvPr/>
        </p:nvPicPr>
        <p:blipFill>
          <a:blip r:embed="rId1"/>
          <a:stretch/>
        </p:blipFill>
        <p:spPr>
          <a:xfrm>
            <a:off x="1450800" y="1731960"/>
            <a:ext cx="688824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200" spc="-1" strike="noStrike">
                <a:solidFill>
                  <a:srgbClr val="47ffd1"/>
                </a:solidFill>
                <a:latin typeface="Times New Roman"/>
              </a:rPr>
              <a:t>Профилактика суицида среди детей и подростков в образовательном учреждении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000" y="1647720"/>
            <a:ext cx="93236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ъединение усилий всех участников образовательного процесса по созданию единой программы помощи детя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работка и внедрение форм и методов работы по преодолению выявленных проблем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работка рекомендаций по психолого-педагогической поддержке ребенка и оказанию помощи педагогам и родителям в решении социально-психологических проблем детства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общение деятельности различных организаций и ведомств по обучению основным приемам общения, развитию эмпатии, рефлексии, работе по преодолению страхов и барьеров, развитию умения ориентироваться в сложных ситуациях, анализировать мотивы поведения других людей в рамках различных обучающих програм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влечение специалистов для организации помощи ребенку через соответствующие Центры и органы образова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широкое использование средств массовой информац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869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Оптимизация межличностных отношений в школе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5640" y="1668240"/>
            <a:ext cx="92170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J:\ФОТО\S7300985.JPG"/>
          <p:cNvPicPr/>
          <p:nvPr/>
        </p:nvPicPr>
        <p:blipFill>
          <a:blip r:embed="rId1"/>
          <a:stretch/>
        </p:blipFill>
        <p:spPr>
          <a:xfrm>
            <a:off x="611280" y="1655640"/>
            <a:ext cx="4465440" cy="323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:\ФОТО\Изображение 635.jpg"/>
          <p:cNvPicPr/>
          <p:nvPr/>
        </p:nvPicPr>
        <p:blipFill>
          <a:blip r:embed="rId2"/>
          <a:stretch/>
        </p:blipFill>
        <p:spPr>
          <a:xfrm>
            <a:off x="4788000" y="2592360"/>
            <a:ext cx="433836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Формы профилактики </a:t>
            </a:r>
            <a:br>
              <a:rPr sz="3800"/>
            </a:b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подростковой суицидности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6920" y="1668240"/>
            <a:ext cx="91458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неукоснительное соблюдение педагогической этики, требований педагогической культуры в повседневной работе каждого воспитателя или учител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раннее выявление контингента риска на основе знания его характеристики в целях динамического наблюдения и своевременной психолого-педагогической коррекционной работ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активный патронаж семей, в которых проживают обучающиеся группы риска, с оказанием консультативной помощи родителям и психолого-педагогической помощи детя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неразглашение факторов суицидальных случаев в школьных коллектива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рассмотрение угрозы самоубийства в качестве признака повышенного суицидального рис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2000"/>
              </a:lnSpc>
              <a:spcAft>
                <a:spcPts val="1199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5:34:51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Елена</cp:lastModifiedBy>
  <dcterms:modified xsi:type="dcterms:W3CDTF">2012-08-19T13:40:11Z</dcterms:modified>
  <cp:revision>81</cp:revision>
  <dc:subject/>
  <dc:title>Предложение стратегии</dc:title>
</cp:coreProperties>
</file>