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720263" cy="6480175"/>
  <p:notesSz cx="7559675" cy="10691813"/>
  <p:custShowLst>
    <p:custShow name="Произвольный показ 1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C507DDF9-EEAC-463C-91A0-34356754F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9A2625BC-7385-47D1-9EA7-61B662397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6883DC9A-4287-48D8-B7D4-FCA6A4A79D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CD3AE2DD-F0C4-4820-9960-FD2CB2F0D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07D6B48C-D160-4AAC-8177-DDB3CBDFD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20360" y="5089320"/>
            <a:ext cx="604836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F8752983-BBC3-4BA6-ABC5-76B0BCCB5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7D88541A-C488-4E78-80C6-9F4D8F87D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0C41FAE4-F454-4575-B952-BCBD95599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98E9450C-2A63-4519-8F4A-FCD7E40F40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2DC516DE-ABC4-4C27-8234-8FAEDBFD9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B511F401-CFB5-45EE-A43B-DA693F326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5640" y="399672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6728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268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972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64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268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9972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FE8-CADC-4E70-90AD-5BC882B6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72C-72A9-4321-9B9E-4DD08F46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CA8-BA96-484C-ADE2-DCD75655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224-1590-4C1C-9D4C-0A439221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15D-309D-4F7D-AA2B-A54B112B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5A5-4E52-4A9E-A778-8DC49380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23D-7345-414D-9BDB-81AAD650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6728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FCB-E1F2-4F68-AA9A-DC985217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4B5-E45C-44FF-985D-7FDD6EE5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640" y="399672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8B8A-2F54-44CE-82ED-4D436810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6728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4B1-BCB1-4092-9538-454345EE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4268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9972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564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4268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9972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EF1-9E7B-4AEA-B74E-EA0C9C2E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6728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100080"/>
            <a:ext cx="8299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4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9040" y="1906200"/>
            <a:ext cx="817236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653240" y="5357880"/>
            <a:ext cx="189864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85640" y="599616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323880" y="599616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969240" y="599616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67ECC73B-0C58-41F6-A85F-EC9177F3B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874728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2600" spc="-1" strike="noStrike">
                <a:solidFill>
                  <a:srgbClr val="ffff00"/>
                </a:solidFill>
                <a:latin typeface="Times New Roman"/>
              </a:rPr>
              <a:t>СОЦИАЛЬНО-ПЕДАГОГИЧЕСКИЕ  ТЕХНОЛОГИИ</a:t>
            </a:r>
            <a:br>
              <a:rPr sz="2600"/>
            </a:b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ПРОФИЛАКТИК</a:t>
            </a:r>
            <a:r>
              <a:rPr b="1" i="1" lang="ru-RU" sz="2600" spc="-1" strike="noStrike">
                <a:solidFill>
                  <a:srgbClr val="ffff00"/>
                </a:solidFill>
                <a:latin typeface="Times New Roman"/>
              </a:rPr>
              <a:t>И  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СУИЦИДАЛЬНОГО </a:t>
            </a:r>
            <a:r>
              <a:rPr b="1" i="1" lang="ru-RU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ПОВЕДЕНИЯ </a:t>
            </a:r>
            <a:br>
              <a:rPr sz="2600"/>
            </a:br>
            <a:r>
              <a:rPr b="1" i="1" lang="ru-RU" sz="26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 ПОДРОСТКОВ</a:t>
            </a:r>
            <a:r>
              <a:rPr b="1" i="1" lang="ru-RU" sz="2600" spc="-1" strike="noStrike">
                <a:solidFill>
                  <a:srgbClr val="ffff00"/>
                </a:solidFill>
                <a:latin typeface="Times New Roman"/>
              </a:rPr>
              <a:t>ОЙ СРЕДЕ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15640" y="1668240"/>
            <a:ext cx="91090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Чернышева Е. 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социальный педагог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МОУ «Уразовская СОШ №2»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179280" y="1655640"/>
            <a:ext cx="5905440" cy="4176720"/>
            <a:chOff x="179280" y="1655640"/>
            <a:chExt cx="5905440" cy="4176720"/>
          </a:xfrm>
        </p:grpSpPr>
        <p:pic>
          <p:nvPicPr>
            <p:cNvPr id="90" name="Picture 2" descr="emblema[1]"/>
            <p:cNvPicPr/>
            <p:nvPr/>
          </p:nvPicPr>
          <p:blipFill>
            <a:blip r:embed="rId1">
              <a:lum contrast="26000"/>
            </a:blip>
            <a:stretch/>
          </p:blipFill>
          <p:spPr>
            <a:xfrm>
              <a:off x="179280" y="1655640"/>
              <a:ext cx="590544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3"/>
            <p:cNvSpPr/>
            <p:nvPr/>
          </p:nvSpPr>
          <p:spPr>
            <a:xfrm>
              <a:off x="3743640" y="5282280"/>
              <a:ext cx="1809720" cy="234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3800" spc="-1" strike="noStrike">
                <a:solidFill>
                  <a:srgbClr val="60c99c"/>
                </a:solidFill>
                <a:latin typeface="Times New Roman"/>
              </a:rPr>
              <a:t>Формы профилактики </a:t>
            </a:r>
            <a:br>
              <a:rPr sz="3800"/>
            </a:br>
            <a:r>
              <a:rPr b="1" i="1" lang="ru-RU" sz="3800" spc="-1" strike="noStrike">
                <a:solidFill>
                  <a:srgbClr val="60c99c"/>
                </a:solidFill>
                <a:latin typeface="Times New Roman"/>
              </a:rPr>
              <a:t>подростковой суицидности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4000" y="1655640"/>
            <a:ext cx="91440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-343080" algn="just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усиление внимания родителей к порядку хранения лекарственных средст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проведение при необходимости тактичной консультации подростка с психологом, психотерапевтом, психиатром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формирование у обучающихся таких понятий, как «ценность человеческой жизни», «цели смысл жизни», а также индивидуальных приемов психологической защиты в сложных жизненных ситуациях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повышение стрессоустойчивости путем психологической подготовки подростка к сложным и противоречивым реалиям современной жизни, формирование готовности к преодолению ожидаемых трудностей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1900" spc="-1" strike="noStrike">
                <a:solidFill>
                  <a:srgbClr val="22228b"/>
                </a:solidFill>
                <a:latin typeface="Times New Roman"/>
              </a:rPr>
              <a:t>психологическая помощь школе, семье и подростку в целях предупреждения или ослабления действия факторов, обусловливающих возникновение психогенных реакций или декомпенсацию имеющихся у школьника нервнопсихических расстройст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0200" y="23940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Times New Roman"/>
              </a:rPr>
              <a:t>СПАСИБО ЗА ВНИМАНИЕ!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87360" y="1525320"/>
            <a:ext cx="71452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287360" y="1596960"/>
            <a:ext cx="7431120" cy="4214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3600" spc="-1" strike="noStrike">
                <a:solidFill>
                  <a:srgbClr val="47ffd1"/>
                </a:solidFill>
                <a:latin typeface="Times New Roman"/>
              </a:rPr>
              <a:t>СУИЦИД </a:t>
            </a:r>
            <a:r>
              <a:rPr b="1" i="1" lang="en-US" sz="3600" spc="-1" strike="noStrike">
                <a:solidFill>
                  <a:srgbClr val="47ffd1"/>
                </a:solidFill>
                <a:latin typeface="Times New Roman"/>
              </a:rPr>
              <a:t>-</a:t>
            </a:r>
            <a:r>
              <a:rPr b="1" i="1" lang="ru-RU" sz="3600" spc="-1" strike="noStrike">
                <a:solidFill>
                  <a:srgbClr val="47ffd1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47ffd1"/>
                </a:solidFill>
                <a:latin typeface="Times New Roman"/>
              </a:rPr>
              <a:t>убийство себя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24000" y="1763640"/>
            <a:ext cx="3743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«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Из всех созданий,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живущих на земле, только человек может изменить себ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Только человек является архитектором своей судьбы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»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В. Джейм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85640" y="1763640"/>
            <a:ext cx="87472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216000" y="1655640"/>
            <a:ext cx="5465520" cy="4156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2760" y="382320"/>
            <a:ext cx="8746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3800" spc="-1" strike="noStrike">
                <a:solidFill>
                  <a:srgbClr val="47ffd1"/>
                </a:solidFill>
                <a:latin typeface="Times New Roman"/>
              </a:rPr>
              <a:t>Причины подросткового суицида: 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79280" y="1800360"/>
            <a:ext cx="91807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20" bIns="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58920" y="1619280"/>
            <a:ext cx="90741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20" bIns="0" anchor="t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тяжелая семейная обстановка, распад семьи, уход одного из роди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онфликтные отношения с учителями, с коллективом сверст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«несчастная любовь», отсутствие ситуации успеха в наиболее значимых видах деятельнос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отребление спиртных напитков, токсических препаратов, наркот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нние проявления шизоидных состоя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3800" spc="-1" strike="noStrike">
                <a:solidFill>
                  <a:srgbClr val="47ffd1"/>
                </a:solidFill>
                <a:latin typeface="Times New Roman"/>
              </a:rPr>
              <a:t>Подростки «группы риска» по суициду: 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2360" y="1884240"/>
            <a:ext cx="9144000" cy="376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3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с нарушением межличностных отношений, “одиночки”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лоупотребляющие алкоголем или наркотиками, отличающиеся девиантным или криминальным поведением, включающим физическое насилие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с затяжным депрессивным состоянием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ерхкритичные к себе подрост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адающие от недавно испытанных унижений или трагических утрат, от хронических или смертельных болезне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рустрированные несоответствием между ожидавшимися успехами в жизни и реальными достижениям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адающие от болезней или покинутые окружением подростк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социально-неблагополучных семей - уход из семьи или развод родителе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семей, в которых были случаи суицид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47ff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3280" y="1596600"/>
            <a:ext cx="4610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222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262699"/>
                </a:solidFill>
                <a:latin typeface="Times New Roman"/>
              </a:rPr>
              <a:t>КОМПЛЕКС ПРОФИЛАКТИЧЕСКИХ МЕРОПР</a:t>
            </a:r>
            <a:r>
              <a:rPr b="1" i="1" lang="ru-RU" sz="2400" spc="-1" strike="noStrike">
                <a:solidFill>
                  <a:srgbClr val="262699"/>
                </a:solidFill>
                <a:latin typeface="Times New Roman"/>
              </a:rPr>
              <a:t>И</a:t>
            </a:r>
            <a:r>
              <a:rPr b="1" i="1" lang="en-US" sz="2400" spc="-1" strike="noStrike">
                <a:solidFill>
                  <a:srgbClr val="262699"/>
                </a:solidFill>
                <a:latin typeface="Times New Roman"/>
              </a:rPr>
              <a:t>ЯТИЙ ПО ВЫЯВЛЕНИЮ СУИЦИДАЛЬНОГО ПОВЕДЕНИЯ СРЕДИ ПОДРОСТКОВ СПОСОБСТВУЕТ СНИЖЕНИЮ РИСКА СУИЦИДАЛЬНЫХ ПОПЫТ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4" descr="73903"/>
          <p:cNvPicPr/>
          <p:nvPr/>
        </p:nvPicPr>
        <p:blipFill>
          <a:blip r:embed="rId1"/>
          <a:stretch/>
        </p:blipFill>
        <p:spPr>
          <a:xfrm>
            <a:off x="179280" y="1584360"/>
            <a:ext cx="410544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3800" spc="-1" strike="noStrike">
                <a:solidFill>
                  <a:srgbClr val="47ffd1"/>
                </a:solidFill>
                <a:latin typeface="Times New Roman"/>
              </a:rPr>
              <a:t>Алгоритм оказания ребёнку социально-педагогической поддержки 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6360" y="1882800"/>
            <a:ext cx="775656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Схема 5" descr=""/>
          <p:cNvPicPr/>
          <p:nvPr/>
        </p:nvPicPr>
        <p:blipFill>
          <a:blip r:embed="rId1"/>
          <a:stretch/>
        </p:blipFill>
        <p:spPr>
          <a:xfrm>
            <a:off x="1450800" y="1731960"/>
            <a:ext cx="6888240" cy="4175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3200" spc="-1" strike="noStrike">
                <a:solidFill>
                  <a:srgbClr val="47ffd1"/>
                </a:solidFill>
                <a:latin typeface="Times New Roman"/>
              </a:rPr>
              <a:t>Профилактика суицида среди детей и подростков в образовательном учреждении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000" y="1647720"/>
            <a:ext cx="932364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3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ъединение усилий всех участников образовательного процесса по созданию единой программы помощи детям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работка и внедрение форм и методов работы по преодолению выявленных проблем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выработка рекомендаций по психолого-педагогической поддержке ребенка и оказанию помощи педагогам и родителям в решении социально-психологических проблем детства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общение деятельности различных организаций и ведомств по обучению основным приемам общения, развитию эмпатии, рефлексии, работе по преодолению страхов и барьеров, развитию умения ориентироваться в сложных ситуациях, анализировать мотивы поведения других людей в рамках различных обучающих программ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влечение специалистов для организации помощи ребенку через соответствующие Центры и органы образования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036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Calibri"/>
              </a:rPr>
              <a:t>широкое использование средств массовой информаци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8692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3800" spc="-1" strike="noStrike">
                <a:solidFill>
                  <a:srgbClr val="47ffd1"/>
                </a:solidFill>
                <a:latin typeface="Times New Roman"/>
              </a:rPr>
              <a:t>Оптимизация межличностных отношений в школе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5640" y="1668240"/>
            <a:ext cx="92170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just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J:\ФОТО\S7300985.JPG"/>
          <p:cNvPicPr/>
          <p:nvPr/>
        </p:nvPicPr>
        <p:blipFill>
          <a:blip r:embed="rId1"/>
          <a:stretch/>
        </p:blipFill>
        <p:spPr>
          <a:xfrm>
            <a:off x="611280" y="1655640"/>
            <a:ext cx="4465440" cy="3235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:\ФОТО\Изображение 635.jpg"/>
          <p:cNvPicPr/>
          <p:nvPr/>
        </p:nvPicPr>
        <p:blipFill>
          <a:blip r:embed="rId2"/>
          <a:stretch/>
        </p:blipFill>
        <p:spPr>
          <a:xfrm>
            <a:off x="4788000" y="2592360"/>
            <a:ext cx="433836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3800" spc="-1" strike="noStrike">
                <a:solidFill>
                  <a:srgbClr val="60c99c"/>
                </a:solidFill>
                <a:latin typeface="Times New Roman"/>
              </a:rPr>
              <a:t>Формы профилактики </a:t>
            </a:r>
            <a:br>
              <a:rPr sz="3800"/>
            </a:br>
            <a:r>
              <a:rPr b="1" i="1" lang="ru-RU" sz="3800" spc="-1" strike="noStrike">
                <a:solidFill>
                  <a:srgbClr val="60c99c"/>
                </a:solidFill>
                <a:latin typeface="Times New Roman"/>
              </a:rPr>
              <a:t>подростковой суицидности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6920" y="1668240"/>
            <a:ext cx="9145800" cy="42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неукоснительное соблюдение педагогической этики, требований педагогической культуры в повседневной работе каждого воспитателя или учител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раннее выявление контингента риска на основе знания его характеристики в целях динамического наблюдения и своевременной психолого-педагогической коррекционной работ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активный патронаж семей, в которых проживают обучающиеся группы риска, с оказанием консультативной помощи родителям и психолого-педагогической помощи детям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неразглашение факторов суицидальных случаев в школьных коллектива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● </a:t>
            </a:r>
            <a:r>
              <a:rPr b="0" lang="ru-RU" sz="2000" spc="-1" strike="noStrike">
                <a:solidFill>
                  <a:srgbClr val="22228b"/>
                </a:solidFill>
                <a:latin typeface="Times New Roman"/>
              </a:rPr>
              <a:t>рассмотрение угрозы самоубийства в качестве признака повышенного суицидального рис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2000"/>
              </a:lnSpc>
              <a:spcAft>
                <a:spcPts val="1199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05:34:51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>Елена</cp:lastModifiedBy>
  <dcterms:modified xsi:type="dcterms:W3CDTF">2012-08-19T13:40:11Z</dcterms:modified>
  <cp:revision>81</cp:revision>
  <dc:subject/>
  <dc:title>Предложение стратегии</dc:title>
</cp:coreProperties>
</file>