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61EE1-142E-4A98-9CFC-536873D33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63909-EA1E-4984-B7A7-B8D0DEC6B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61405-40E9-4A7B-B7F6-BF954D6BC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CCF3A-6B25-4F0A-AAF7-185296216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3AD2B-48AD-448F-920D-AD41A7414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13942-11D4-47CC-B4DF-2FEB587DE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27401-7073-4535-AE44-65FC84DE2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31279-11CA-4FD3-B178-1E1C85A67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B91CA-9017-4BCE-94BC-4D45D9A30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CCEFA-55F5-4E70-861D-912CC9F3C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CA6F0-E635-4B33-819F-61AD33B90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0376A-C095-4114-A5CE-71112C218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3155C-9866-4FEE-A767-ED0815C86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5EF59-C962-4AD4-ADEB-9FE0D5B43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FC589-1F89-438E-8856-A5EC2CADC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F3C35-5B85-4F7B-9031-5521BBEA9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6B977-D5B8-4CB5-93A6-0B6015DAF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270C9F-1091-461C-8CC9-BD946E677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1C2B829-85C9-43F6-9948-FBE8BDE32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C6ECF9D-BFE4-4053-ACAB-B31C29A83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C88B2AC-4BC9-49C6-95A9-2200ADA5E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98844C3-B84A-47AB-B12D-AA8DB3B65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2407D-F6C1-42E7-B514-88E8FD0F9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3E83537-A9AB-4031-A411-1384A0B33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4617EC5-CC9B-4A06-B599-1A614340A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FAA68FE-0B92-4EA1-A66D-11F449394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B055B32-D493-4FAC-A003-A5E9049B8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B415510-E9DC-4EA3-8684-D1A644520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FF6877-C07F-4B0F-9B62-028C7700B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E2BFEE1-E04A-463E-8331-B0997CD34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08523E-BD16-47DC-AE0C-874575E5B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377291-E260-4E22-B084-1B2C272E4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59C750-56F9-4B50-BD40-8C1311813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D8B4A-15E1-4C89-81BF-C9778A013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78E80B-764B-4674-8619-7209FF199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B50575-CCA1-4B9D-BE20-A5B1BF6A9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0081E3-FC48-48B0-B23E-1881FF400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06E570-8BCB-4E64-AEE3-17787A9E2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EF40ED-7226-41BB-85E9-37ABDD0F4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D0DE79-55D8-4F42-B677-DC3D6E1E8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D2C79C-82CC-4888-9E42-7D272F5CC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DB6D7F-09B7-4647-A9F9-FF0B904F9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84EB7C-9A2B-4653-804C-329C08CAF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CE44F9B-E25A-438B-865F-1A5EAD2D2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80228-2BA5-471B-9EE2-BAD5CB880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91CAA54-5B59-4BD5-8DCA-3EDE237B5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5076272-BC1F-4A6A-BEDE-2A9617F3D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EE3FFC3-0CC7-4FC1-9237-BEDD92CC4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9A5CD72-E350-4E52-B424-74BE1264B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FD35307-4DD3-4900-BE39-5D83A487D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9024498-AEE0-43E1-BF65-12923DEA8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EB76F9D-BE46-4728-8790-7C326FD2E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FEB0A4F-A7B3-4043-9BBC-8CA5E3C89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F67DE3C-0B8E-4C8D-8B5C-642538AA6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9362548-8CEE-496A-A07E-637587947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0C8E2-0FFA-466D-80DF-A2B96D669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CAAE602-E378-4AB9-B61B-355528B5E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E04C67E-8AE6-4587-B855-6B31B783A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2708EA8-9F1F-4684-88D0-15E56DDE1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3318014-19F4-433E-9C19-38B38BEEE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9A214D9-A703-4D48-B7E7-439879FDB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7A08EB3-2577-4DBA-AB0D-87F7DCB02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C53E95E-C673-4B8E-8CDC-1018550F6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DD9253D-FEB0-43D4-9931-02AFB38BE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9AB6066-DE7F-443D-928C-21568CF27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E7FE640-5861-4403-B8E7-186337AD5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CB07D-4243-49D5-A99F-4505A9870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8DADEF0-1F01-40C0-8B2C-D87855F67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255B88D-3141-46E2-9A10-87B7B6E4D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A4CEEEB-2D6B-4C0D-A5F2-A3B732F81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D45E905-7DE9-4070-AE62-DEA39BD29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6A75876-C889-4934-B1B2-424BE04E5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084E7FD-8B2E-4D51-92F8-132CEEAFD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9A78373-BCF5-489D-B43F-9957CDEF3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D4F405D-6AA5-43BD-9A3F-19D3D9E73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C0D0B68-201E-4272-AEEB-78A4550B2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DDB0A03-AA1E-47DF-A6EE-113655276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B745A-F6F5-485B-9F2C-83172932A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49BC581-C061-4C89-BA96-0F99F7C90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B1B799B-FF78-445D-ACA4-2105A7813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9DCB28F-F791-4422-B51D-312458E9F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E00B917-F512-4340-A174-2E0476226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4C291D0-1DCA-4B48-BE0A-4797461A6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A57F4-90C5-4489-817C-666654707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85E67-7F24-4328-B2DD-1E7950B409A3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6471A-580A-4950-92D4-22DE29D21FDA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7DE26-5A77-4891-81A7-8F69A1D151DC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39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8FBEE-0199-4979-8166-7DEC25E0CFFF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C525B-DD5F-4CA7-A12F-0B0DE268DDEA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E150B-481B-476D-A309-9944AE8FC35A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7BB31-1B94-4288-8B5F-4CDF44E2F72F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071440" y="142848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Century Schoolbook"/>
              </a:rPr>
              <a:t>ОБЩАЯ ХАРАКТЕРИСТИКА СТИЛЕЙ РЕЧИ</a:t>
            </a:r>
            <a:endParaRPr b="0" lang="en-US" sz="54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57120" y="4928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75f6d"/>
                </a:solidFill>
                <a:latin typeface="Century Schoolbook"/>
              </a:rPr>
              <a:t>ОФИЦИАЛЬНО-ДЕЛОВОЙ СТИЛЬ </a:t>
            </a:r>
            <a:r>
              <a:rPr b="0" lang="ru-RU" sz="2800" spc="-1" strike="noStrike" u="sng">
                <a:solidFill>
                  <a:srgbClr val="575f6d"/>
                </a:solidFill>
                <a:uFillTx/>
                <a:latin typeface="Century Schoolbook"/>
              </a:rPr>
              <a:t>ХАРАКТЕРИЗУЕТСЯ РЯДОМ ОБЩИХ ЧЕРТ:</a:t>
            </a:r>
            <a:br>
              <a:rPr sz="2800"/>
            </a:br>
            <a:r>
              <a:rPr b="0" lang="ru-RU" sz="2800" spc="-1" strike="noStrike">
                <a:solidFill>
                  <a:srgbClr val="575f6d"/>
                </a:solidFill>
                <a:latin typeface="Century Schoolbook"/>
              </a:rPr>
              <a:t>-ТОЧНОСТЬ ФОРМУЛИРОВОК, СЖАТОСТЬ, КОМПАКТНОСТЬ;</a:t>
            </a:r>
            <a:br>
              <a:rPr sz="2800"/>
            </a:br>
            <a:r>
              <a:rPr b="0" lang="ru-RU" sz="2800" spc="-1" strike="noStrike">
                <a:solidFill>
                  <a:srgbClr val="575f6d"/>
                </a:solidFill>
                <a:latin typeface="Century Schoolbook"/>
              </a:rPr>
              <a:t>-СТАНДАРТИЗОВАННОСТЬ СТИЛЯ, НЕРЕДКО ОБЯЗАТЕЛЬНОСТЬ ФОРМЫ, ОБИЛИЕ УСТОЙЧИВЫХ ОБОРОТОВ ДЕЛОВОЙ РЕЧИ: ПО ИСТЕЧЕНИИ СРОКА, ВСТУПАТЬ В ЗАКОННУЮ СИЛУ, В УСТАНОВЛЕННОМ ПОРЯДКЕ И ДР.;</a:t>
            </a:r>
            <a:br>
              <a:rPr sz="2800"/>
            </a:br>
            <a:r>
              <a:rPr b="0" lang="ru-RU" sz="2800" spc="-1" strike="noStrike">
                <a:solidFill>
                  <a:srgbClr val="575f6d"/>
                </a:solidFill>
                <a:latin typeface="Century Schoolbook"/>
              </a:rPr>
              <a:t>-ШИРОКОЕ ИСПОЛЬЗОВАНИЕ ТЕРМИНОЛОГИИ, ЮРИДИЧЕСКИХ, ДИПЛОМАТИЧЕСКИХ, ВОЕННЫХ, АДМИНИСТРАТИВНЫХ НАИМЕНОВАНИЙ.</a:t>
            </a:r>
            <a:br>
              <a:rPr sz="2800"/>
            </a:br>
            <a:endParaRPr b="0" lang="en-US" sz="28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28760" y="4642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ff0000"/>
                </a:solidFill>
                <a:latin typeface="Century Schoolbook"/>
              </a:rPr>
              <a:t>ПУБЛИЦИСТИЧЕСКИЙ СТИЛЬ</a:t>
            </a:r>
            <a:br>
              <a:rPr sz="2700"/>
            </a:br>
            <a:br>
              <a:rPr sz="2700"/>
            </a:br>
            <a:r>
              <a:rPr b="0" lang="ru-RU" sz="2800" spc="-1" strike="noStrike" u="sng">
                <a:solidFill>
                  <a:srgbClr val="575f6d"/>
                </a:solidFill>
                <a:uFillTx/>
                <a:latin typeface="Century Schoolbook"/>
              </a:rPr>
              <a:t>ЦЕЛЬ</a:t>
            </a:r>
            <a:r>
              <a:rPr b="0" lang="ru-RU" sz="2800" spc="-1" strike="noStrike">
                <a:solidFill>
                  <a:srgbClr val="575f6d"/>
                </a:solidFill>
                <a:latin typeface="Century Schoolbook"/>
              </a:rPr>
              <a:t> – ИНФОРМИРОВАНИЕ, ПЕРЕДАЧА ОБЩЕСТВЕННО ЗНАЧИМОЙ ИНФОРМАЦИИ С ОДНОВРЕМЕННЫМ ВОЗДЕЙСТВИЕМ НА ЧИТАТЕЛЯ, СЛУШАТЕЛЯ, УБЕЖДЕНИЕМ ЕГО В ЧЕМ-ТО, ВНУШЕНИЕМ ЕМУ ОПРЕДЕЛЕННЫХ ИДЕЙ, ВЗГЛЯДОВ, ПОБУЖДЕНИЕМ К ОПРЕДЕЛЕННЫМ ПОСТУПКАМ, ДЕЙСТВИЯМ. ВЫСКАЗЫВАНИЕ ОБЫЧНО БЫВАЕТ ЗЛОБОДНЕВНЫМ ПО ТЕМАТИКЕ, ЯРКИМ, СТРАСТНЫМ, ПРИЗЫВНЫМ.</a:t>
            </a:r>
            <a:br>
              <a:rPr sz="2800"/>
            </a:br>
            <a:endParaRPr b="0" lang="en-US" sz="28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285840" y="5285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 u="sng">
                <a:solidFill>
                  <a:srgbClr val="575f6d"/>
                </a:solidFill>
                <a:uFillTx/>
                <a:latin typeface="Century Schoolbook"/>
              </a:rPr>
              <a:t>ЖАНРЫ ПУБЛИЦИСТИКИ </a:t>
            </a:r>
            <a:r>
              <a:rPr b="0" lang="ru-RU" sz="2500" spc="-1" strike="noStrike">
                <a:solidFill>
                  <a:srgbClr val="575f6d"/>
                </a:solidFill>
                <a:latin typeface="Century Schoolbook"/>
              </a:rPr>
              <a:t>– СТАТЬЯ В ГАЗЕТЕ, ЖУРНАЛЕ, ОЧЕРК, РЕПОРТАЖ, ИНТЕРВЬЮ, ФЕЛЬЕТОН И ПОД. В НИХ ЗАТРАГИВАЮТСЯ ЛЮБЫЕ АКТУАЛЬНЫЕ ВОПРОСЫ СОВРЕМЕННОСТИ, ПРЕДСТАВЛЯЮЩИЕ ИНТЕРЕС ДЛЯ ОБЩЕСТВА: ПОЛИТИЧЕСКИЕ, ЭКОНОМИЧЕСКИЕ, МОРАЛЬНЫЕ, ФИЛОСОФСКИЕ, ВОПРОСЫ КУЛЬТУРЫ, ВОСПИТАНИЯ, ПОВСЕДНЕВНОГО БЫТА.</a:t>
            </a:r>
            <a:br>
              <a:rPr sz="2500"/>
            </a:br>
            <a:br>
              <a:rPr sz="2500"/>
            </a:br>
            <a:r>
              <a:rPr b="0" lang="ru-RU" sz="2500" spc="-1" strike="noStrike">
                <a:solidFill>
                  <a:srgbClr val="575f6d"/>
                </a:solidFill>
                <a:latin typeface="Century Schoolbook"/>
              </a:rPr>
              <a:t>ДЛЯ ПУБЛИЦИСТИЧЕСКОГО СТИЛЯ </a:t>
            </a:r>
            <a:r>
              <a:rPr b="0" lang="ru-RU" sz="2500" spc="-1" strike="noStrike" u="sng">
                <a:solidFill>
                  <a:srgbClr val="575f6d"/>
                </a:solidFill>
                <a:uFillTx/>
                <a:latin typeface="Century Schoolbook"/>
              </a:rPr>
              <a:t>ХАРАКТЕРНЫ:</a:t>
            </a:r>
            <a:br>
              <a:rPr sz="2500"/>
            </a:br>
            <a:br>
              <a:rPr sz="2500"/>
            </a:br>
            <a:r>
              <a:rPr b="0" lang="ru-RU" sz="2500" spc="-1" strike="noStrike">
                <a:solidFill>
                  <a:srgbClr val="575f6d"/>
                </a:solidFill>
                <a:latin typeface="Century Schoolbook"/>
              </a:rPr>
              <a:t>-ЛОГИЧНОСТЬ, ДОСТОВЕРНОСТЬ, ТОЧНОСТЬ ФАКТОВ, КОНКРЕТНОСТЬ;</a:t>
            </a:r>
            <a:br>
              <a:rPr sz="2500"/>
            </a:br>
            <a:r>
              <a:rPr b="0" lang="ru-RU" sz="2500" spc="-1" strike="noStrike">
                <a:solidFill>
                  <a:srgbClr val="575f6d"/>
                </a:solidFill>
                <a:latin typeface="Century Schoolbook"/>
              </a:rPr>
              <a:t>-ЭМОЦИОНАЛЬНОСТЬ, ОБРАЗНОСТЬ, ОЦЕНОЧНОСТЬ, ПРИЗЫВНОСТЬ.</a:t>
            </a:r>
            <a:br>
              <a:rPr sz="2500"/>
            </a:br>
            <a:endParaRPr b="0" lang="en-US" sz="25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285840" y="5357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ff0000"/>
                </a:solidFill>
                <a:latin typeface="Century Schoolbook"/>
              </a:rPr>
              <a:t>ХУДОЖЕСТВЕННЫЙ СТИЛЬ</a:t>
            </a:r>
            <a:br>
              <a:rPr sz="2700"/>
            </a:br>
            <a:br>
              <a:rPr sz="2700"/>
            </a:br>
            <a:r>
              <a:rPr b="0" lang="ru-RU" sz="2800" spc="-1" strike="noStrike">
                <a:solidFill>
                  <a:srgbClr val="575f6d"/>
                </a:solidFill>
                <a:latin typeface="Century Schoolbook"/>
              </a:rPr>
              <a:t>ХУДОЖЕСТВЕННЫЙ СТИЛЬ </a:t>
            </a:r>
            <a:r>
              <a:rPr b="0" lang="ru-RU" sz="2800" spc="-1" strike="noStrike" u="sng">
                <a:solidFill>
                  <a:srgbClr val="575f6d"/>
                </a:solidFill>
                <a:uFillTx/>
                <a:latin typeface="Century Schoolbook"/>
              </a:rPr>
              <a:t>ПРЕДНАЗНАЧЕН</a:t>
            </a:r>
            <a:r>
              <a:rPr b="0" lang="ru-RU" sz="2800" spc="-1" strike="noStrike">
                <a:solidFill>
                  <a:srgbClr val="575f6d"/>
                </a:solidFill>
                <a:latin typeface="Century Schoolbook"/>
              </a:rPr>
              <a:t> ДЛЯ СОЗДАНИЯ ХУДОЖЕСТВЕННЫХ, ПОЭТИЧЕСКИХ ОБРАЗОВ, ЭМОЦИОНАЛЬНО-ЭСТЕТИЧЕСКОГО ВОЗДЕЙСТВИЯ, И ВСЕ ЯЗЫКОВЫЕ СРЕДСТВА, ВКЛЮЧАЕМЫЕ В ХУДОЖЕСТВЕННОЕ ПРОИЗВЕДЕНИЕ, МЕНЯЮТ СВОЮ ПЕРВИЧНУЮ ФУНКЦИЮ, ПОДЧИНЯЮТСЯ ЗАДАЧАМ ДАННОГО ХУДОЖЕСТВЕННОГО СТИЛЯ.</a:t>
            </a:r>
            <a:br>
              <a:rPr sz="2800"/>
            </a:br>
            <a:br>
              <a:rPr sz="2800"/>
            </a:br>
            <a:r>
              <a:rPr b="0" lang="ru-RU" sz="2800" spc="-1" strike="noStrike" u="sng">
                <a:solidFill>
                  <a:srgbClr val="575f6d"/>
                </a:solidFill>
                <a:uFillTx/>
                <a:latin typeface="Century Schoolbook"/>
              </a:rPr>
              <a:t> ЦЕЛЬ</a:t>
            </a:r>
            <a:r>
              <a:rPr b="0" lang="ru-RU" sz="2800" spc="-1" strike="noStrike">
                <a:solidFill>
                  <a:srgbClr val="575f6d"/>
                </a:solidFill>
                <a:latin typeface="Century Schoolbook"/>
              </a:rPr>
              <a:t> – ВОЗДЕЙСТВИЕ С ПОМОЩЬЮ СОЗДАННЫХ ОБРАЗОВ НА ЧУВСТВА И МЫСЛИ ЧИТАТЕЛЕЙ, СЛУШАТЕЛЕЙ.</a:t>
            </a:r>
            <a:br>
              <a:rPr sz="2800"/>
            </a:br>
            <a:endParaRPr b="0" lang="en-US" sz="28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28760" y="2714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575f6d"/>
                </a:solidFill>
                <a:latin typeface="Century Schoolbook"/>
              </a:rPr>
              <a:t>СРЕДСТВА ВЫРАЗИТЕЛЬНОСТИ:</a:t>
            </a:r>
            <a:br>
              <a:rPr sz="2700"/>
            </a:br>
            <a:br>
              <a:rPr sz="2700"/>
            </a:br>
            <a:r>
              <a:rPr b="0" lang="ru-RU" sz="2700" spc="-1" strike="noStrike">
                <a:solidFill>
                  <a:srgbClr val="575f6d"/>
                </a:solidFill>
                <a:latin typeface="Century Schoolbook"/>
              </a:rPr>
              <a:t>ЭПИТЕТ, МЕТАФОРА, СРАВНЕНИЕ, ОЛИЦЕТВОРЕНИЕ, ГИПЕРБОЛА, ЛИТОТА, МЕТОНИМИЯ, СИНЕКДОХА, АЛЛЕГОРИЯ, ИРОНИЯ, ПЕРИФРАЗ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71680" y="2571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575f6d"/>
                </a:solidFill>
                <a:latin typeface="Century Schoolbook"/>
              </a:rPr>
              <a:t>СТИЛИСТИЧЕСКИЕ ФИГУРЫ:</a:t>
            </a:r>
            <a:br>
              <a:rPr sz="2700"/>
            </a:br>
            <a:br>
              <a:rPr sz="2700"/>
            </a:br>
            <a:r>
              <a:rPr b="0" lang="ru-RU" sz="2700" spc="-1" strike="noStrike">
                <a:solidFill>
                  <a:srgbClr val="575f6d"/>
                </a:solidFill>
                <a:latin typeface="Century Schoolbook"/>
              </a:rPr>
              <a:t>АНАФОРА, ЭПИФОРА, АНТИТЕЗА, ГРАДАЦИЯ, ИНВЕРСИЯ, ОКСЮМОРОН, ПАРАЛЛЕЛИЗМ, ПАРЦЕЛЛЯЦИЯ 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28760" y="5214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75f6d"/>
                </a:solidFill>
                <a:latin typeface="Century Schoolbook"/>
              </a:rPr>
              <a:t>СЛОВО</a:t>
            </a:r>
            <a:r>
              <a:rPr b="1" lang="ru-RU" sz="24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1" i="1" lang="ru-RU" sz="2400" spc="-1" strike="noStrike">
                <a:solidFill>
                  <a:srgbClr val="575f6d"/>
                </a:solidFill>
                <a:latin typeface="Century Schoolbook"/>
              </a:rPr>
              <a:t>СТИЛЬ</a:t>
            </a:r>
            <a:r>
              <a:rPr b="0" lang="ru-RU" sz="2400" spc="-1" strike="noStrike">
                <a:solidFill>
                  <a:srgbClr val="575f6d"/>
                </a:solidFill>
                <a:latin typeface="Century Schoolbook"/>
              </a:rPr>
              <a:t> ПРОИСХОДИТ ОТ ГРЕЧЕСКОГО СЛОВА         « СТИЛОС» – ПАЛОЧКА. В ДРЕВНОСТИ И В СРЕДНИЕ ВЕКА ПИСАЛИ СТЕРЖНЕМ ИЗ МЕТАЛЛА, КОСТИ, ДЕРЕВА. ОДИН КОНЕЦ СТЕРЖНЯ БЫЛ ЗАОСТРЕННЫМ, ИМ ПИСАЛИ, ДРУГОЙ – В ВИДЕ ЛОПАТОЧКИ, ИМ, ПОВЕРНУВ СТЕРЖЕНЬ-«СТИЛЬ», СТИРАЛИ НЕУДАЧНО НАПИСАННОЕ. ЧЕМ ЧАЩЕ ПОВОРАЧИВАЛИ СТИЛЬ, ТЕМ ЧАЩЕ СТИРАЛИ НЕУДАЧНО НАПИСАННОЕ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575f6d"/>
                </a:solidFill>
                <a:latin typeface="Century Schoolbook"/>
              </a:rPr>
              <a:t> ПРОИСХОЖДЕНИЕ СЛОВА СТИЛЬ ПРОЯСНЯЕТ СУТЬ СТИЛИСТИКИ. А ИМЕННО: СТИЛИСТИКА ВСЕГДА СВЯЗАНА С ВЫБОРОМ. ОДНУ И ТУ ЖЕ МЫСЛЬ МОЖНО ВЫРАЗИТЬ И ТАК, И ПО-ДРУГОМУ, И ПО - ТРЕТЬЕМУ. ПОИСКАМИ ЛУЧШЕГО, ОПТИМАЛЬНОГО ВАРИАНТА ВЫРАЖЕНИЯ МЫСЛЕЙ В ДАННЫХ КОНКРЕТНЫХ УСЛОВИЯХ И УЧИТ СТИЛИСТИКА – НАУКА О СТИЛЯХ.</a:t>
            </a:r>
            <a:br>
              <a:rPr sz="2400"/>
            </a:br>
            <a:endParaRPr b="0" lang="en-US" sz="24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0040" y="4642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75f6d"/>
                </a:solidFill>
                <a:latin typeface="Century Schoolbook"/>
              </a:rPr>
              <a:t>В СООТВЕТСТВИИ С ФУНКЦИЯМИ ЯЗЫКА ВЫДЕЛЯЮТСЯ СЛЕДУЮЩИЕ СТИЛИ: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ru-RU" sz="3200" spc="-1" strike="noStrike" u="sng">
                <a:solidFill>
                  <a:srgbClr val="575f6d"/>
                </a:solidFill>
                <a:uFillTx/>
                <a:latin typeface="Century Schoolbook"/>
              </a:rPr>
              <a:t>РАЗГОВОРНЫЙ</a:t>
            </a:r>
            <a:r>
              <a:rPr b="0" lang="ru-RU" sz="3200" spc="-1" strike="noStrike">
                <a:solidFill>
                  <a:srgbClr val="575f6d"/>
                </a:solidFill>
                <a:latin typeface="Century Schoolbook"/>
              </a:rPr>
              <a:t> (ФУНКЦИЯ ОБЩЕНИЯ)</a:t>
            </a:r>
            <a:br>
              <a:rPr sz="3200"/>
            </a:br>
            <a:r>
              <a:rPr b="0" lang="ru-RU" sz="3200" spc="-1" strike="noStrike" u="sng">
                <a:solidFill>
                  <a:srgbClr val="575f6d"/>
                </a:solidFill>
                <a:uFillTx/>
                <a:latin typeface="Century Schoolbook"/>
              </a:rPr>
              <a:t>НАУЧНЫЙ, ОФИЦИАЛЬНО-ДЕЛОВОЙ </a:t>
            </a:r>
            <a:r>
              <a:rPr b="0" lang="ru-RU" sz="3200" spc="-1" strike="noStrike">
                <a:solidFill>
                  <a:srgbClr val="575f6d"/>
                </a:solidFill>
                <a:latin typeface="Century Schoolbook"/>
              </a:rPr>
              <a:t>(ФУНКЦИЯ СООБЩЕНИЯ)</a:t>
            </a:r>
            <a:br>
              <a:rPr sz="3200"/>
            </a:br>
            <a:r>
              <a:rPr b="0" lang="ru-RU" sz="3200" spc="-1" strike="noStrike" u="sng">
                <a:solidFill>
                  <a:srgbClr val="575f6d"/>
                </a:solidFill>
                <a:uFillTx/>
                <a:latin typeface="Century Schoolbook"/>
              </a:rPr>
              <a:t>ХУДОЖЕСТВЕННЫЙ, ПУБЛИЦИСТИЧЕСКИЙ </a:t>
            </a:r>
            <a:r>
              <a:rPr b="0" lang="ru-RU" sz="3200" spc="-1" strike="noStrike">
                <a:solidFill>
                  <a:srgbClr val="575f6d"/>
                </a:solidFill>
                <a:latin typeface="Century Schoolbook"/>
              </a:rPr>
              <a:t>(ФУНКЦИЯ ВОЗДЕЙСТВИЯ).</a:t>
            </a:r>
            <a:br>
              <a:rPr sz="3200"/>
            </a:b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28760" y="2714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ff0000"/>
                </a:solidFill>
                <a:latin typeface="Century Schoolbook"/>
              </a:rPr>
              <a:t>РАЗГОВОРНЫЙ СТИЛЬ</a:t>
            </a:r>
            <a:br>
              <a:rPr sz="2700"/>
            </a:br>
            <a:br>
              <a:rPr sz="2700"/>
            </a:br>
            <a:r>
              <a:rPr b="0" lang="ru-RU" sz="2700" spc="-1" strike="noStrike">
                <a:solidFill>
                  <a:srgbClr val="575f6d"/>
                </a:solidFill>
                <a:latin typeface="Century Schoolbook"/>
              </a:rPr>
              <a:t>СФЕРА РАЗГОВОРНОГО СТИЛЯ – СФЕРА БЫТОВЫХ ОТНОШЕНИЙ, НЕПРИНУЖДЕННАЯ, НЕОФИЦИАЛЬНАЯ ОБСТАНОВКА: ДРУЖЕСКАЯ БЕСЕДА, ЧАСТНЫЙ РАЗГОВОР.</a:t>
            </a:r>
            <a:br>
              <a:rPr sz="2700"/>
            </a:br>
            <a:br>
              <a:rPr sz="2700"/>
            </a:b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713880" y="5214600"/>
            <a:ext cx="737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575f6d"/>
                </a:solidFill>
                <a:uFillTx/>
                <a:latin typeface="Century Schoolbook"/>
              </a:rPr>
              <a:t>К  ЯЗЫКОВЫМ ОСОБЕННОСТЯМ </a:t>
            </a:r>
            <a:r>
              <a:rPr b="0" lang="ru-RU" sz="2400" spc="-1" strike="noStrike">
                <a:solidFill>
                  <a:srgbClr val="575f6d"/>
                </a:solidFill>
                <a:latin typeface="Century Schoolbook"/>
              </a:rPr>
              <a:t>РАЗГОВОРНОЙ РЕЧИ ОТНОСЯТСЯ:</a:t>
            </a:r>
            <a:br>
              <a:rPr sz="2400"/>
            </a:br>
            <a:r>
              <a:rPr b="0" lang="ru-RU" sz="2400" spc="-1" strike="noStrike">
                <a:solidFill>
                  <a:srgbClr val="575f6d"/>
                </a:solidFill>
                <a:latin typeface="Century Schoolbook"/>
              </a:rPr>
              <a:t>1.ИСПОЛЬЗОВАНИЕ ВНЕЛЕКСИЧЕСКИХ СРЕДСТВ (ИНТОНАЦИЯ, ФРАЗОВОЕ И ЭМОЦИОНАЛЬНО-ВЫРАЗИТЕЛЬНОЕ УДАРЕНИЕ, ПАУЗЫ, ТЕМП РЕЧИ, РИТМ)</a:t>
            </a:r>
            <a:br>
              <a:rPr sz="2400"/>
            </a:br>
            <a:r>
              <a:rPr b="0" lang="ru-RU" sz="2400" spc="-1" strike="noStrike">
                <a:solidFill>
                  <a:srgbClr val="575f6d"/>
                </a:solidFill>
                <a:latin typeface="Century Schoolbook"/>
              </a:rPr>
              <a:t>2.ШИРОКОЕ УПОТРЕБЛЕНИЕ ОБИХОДНО-БЫТОВОЙ ЛЕКСИКИ И ФРАЗЕОЛОГИИ, ЛЕКСИКИ ЭМОЦИОНАЛЬНО-ЭКСПРЕССИВНОЙ (ВКЛЮЧАЯ ЧАСТИЦЫ, МЕЖДОМЕТИЯ), РАЗНЫХ ГРУПП ВВОДНЫХ СЛОВ.</a:t>
            </a:r>
            <a:br>
              <a:rPr sz="2400"/>
            </a:br>
            <a:r>
              <a:rPr b="0" lang="ru-RU" sz="2400" spc="-1" strike="noStrike">
                <a:solidFill>
                  <a:srgbClr val="575f6d"/>
                </a:solidFill>
                <a:latin typeface="Century Schoolbook"/>
              </a:rPr>
              <a:t>3.СВОЕОБРАЗИЕ СИНТАКСИСА (НЕПОЛНЫЕ ПРЕДЛОЖЕНИЯ, СЛОВА-ПРЕДЛОЖЕНИЯ, СЛОВА-ОБРАЩЕНИЯ, ПОВТОРЫ СЛОВ, ПРЕОБЛАДАНИЕ ДИАЛОГА И ДР.)</a:t>
            </a:r>
            <a:br>
              <a:rPr sz="2400"/>
            </a:br>
            <a:endParaRPr b="0" lang="en-US" sz="24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28760" y="5214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ff0000"/>
                </a:solidFill>
                <a:latin typeface="Century Schoolbook"/>
              </a:rPr>
              <a:t>НАУЧНЫЙ СТИЛЬ</a:t>
            </a:r>
            <a:br>
              <a:rPr sz="2700"/>
            </a:br>
            <a:r>
              <a:rPr b="0" lang="ru-RU" sz="2800" spc="-1" strike="noStrike">
                <a:solidFill>
                  <a:srgbClr val="575f6d"/>
                </a:solidFill>
                <a:latin typeface="Century Schoolbook"/>
              </a:rPr>
              <a:t>В РОССИИ НАУЧНЫЙ ЯЗЫК И СТИЛЬ НАЧАЛ СКЛАДЫВАТЬСЯ В ПЕРВЫЕ ДЕСЯТИЛЕТИЯ 18 ВЕКА, КОГДА АВТОРЫ НАУЧНЫХ КНИГ И ПЕРЕВОДЧИКИ СТАЛИ СОЗДАВАТЬ РУССКУЮ НАУЧНУЮ ТЕРМИНОЛОГИЯ. ВО ВТОРОЙ ПОЛОВИНЕ ЭТОГО ВЕКА БЛАГОДАРЯ РАБОТАМ М.В. ЛОМОНОСОВА И ЕГО УЧЕНИКОВ ФОРМИРОВАНИЕ НАУЧНОГО СТИЛЯ СДЕЛАЛО ШАГ ВПЕРЕД, НО ОКОНЧАТЕЛЬНО ОН СЛОЖИЛСЯ ВО ВТОРОЙ ПОЛОВИНЕ 19 ВЕКА ВМЕСТЕ С НАУЧНОЙ ДЕЯТЕЛЬНОСТЬЮ КРУПНЕЙШИХ УЧЕНЫХ ТОГО ВРЕМЕНИ.</a:t>
            </a:r>
            <a:br>
              <a:rPr sz="2800"/>
            </a:br>
            <a:endParaRPr b="0" lang="en-US" sz="28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00040" y="450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575f6d"/>
                </a:solidFill>
                <a:uFillTx/>
                <a:latin typeface="Century Schoolbook"/>
              </a:rPr>
              <a:t>ЦЕЛЬ СТИЛЯ</a:t>
            </a:r>
            <a:r>
              <a:rPr b="0" lang="ru-RU" sz="2800" spc="-1" strike="noStrike">
                <a:solidFill>
                  <a:srgbClr val="575f6d"/>
                </a:solidFill>
                <a:latin typeface="Century Schoolbook"/>
              </a:rPr>
              <a:t> – СООБЩЕНИЕ НАУЧНЫХ СВЕДЕНИЙ, НАУЧНОЕ ОБЪЯСНЕНИЕ ФАКТОВ.</a:t>
            </a:r>
            <a:br>
              <a:rPr sz="2800"/>
            </a:br>
            <a:r>
              <a:rPr b="0" lang="ru-RU" sz="2800" spc="-1" strike="noStrike" u="sng">
                <a:solidFill>
                  <a:srgbClr val="575f6d"/>
                </a:solidFill>
                <a:uFillTx/>
                <a:latin typeface="Century Schoolbook"/>
              </a:rPr>
              <a:t>ЖАНРЫ</a:t>
            </a:r>
            <a:r>
              <a:rPr b="0" lang="ru-RU" sz="2800" spc="-1" strike="noStrike">
                <a:solidFill>
                  <a:srgbClr val="575f6d"/>
                </a:solidFill>
                <a:latin typeface="Century Schoolbook"/>
              </a:rPr>
              <a:t>: НАУЧНАЯ СТАТЬЯ, НАУЧНЫЙ ДОКЛАД, УЧЕБНАЯ ЛИТЕРАТУРА, ДИССЕРТАЦИЯ И ДР.</a:t>
            </a:r>
            <a:br>
              <a:rPr sz="2800"/>
            </a:br>
            <a:br>
              <a:rPr sz="2800"/>
            </a:br>
            <a:r>
              <a:rPr b="0" lang="ru-RU" sz="2400" spc="-1" strike="noStrike" u="sng">
                <a:solidFill>
                  <a:srgbClr val="575f6d"/>
                </a:solidFill>
                <a:uFillTx/>
                <a:latin typeface="Century Schoolbook"/>
              </a:rPr>
              <a:t>НАУЧНЫЙ СТИЛЬ ХАРАКТЕРИЗУЕТСЯ:</a:t>
            </a:r>
            <a:br>
              <a:rPr sz="2400"/>
            </a:br>
            <a:r>
              <a:rPr b="0" lang="ru-RU" sz="2400" spc="-1" strike="noStrike">
                <a:solidFill>
                  <a:srgbClr val="575f6d"/>
                </a:solidFill>
                <a:latin typeface="Century Schoolbook"/>
              </a:rPr>
              <a:t>-ЛОГИЧЕСКОЙ ПОСЛЕДОВАТЕЛЬНОСТЬЮ ИЗЛОЖЕНИЯ,</a:t>
            </a:r>
            <a:br>
              <a:rPr sz="2400"/>
            </a:br>
            <a:r>
              <a:rPr b="0" lang="ru-RU" sz="2400" spc="-1" strike="noStrike">
                <a:solidFill>
                  <a:srgbClr val="575f6d"/>
                </a:solidFill>
                <a:latin typeface="Century Schoolbook"/>
              </a:rPr>
              <a:t>-ОТВЛЕЧЕННОСТЬЮ И ОБОБЩЕННОСТЬЮ,</a:t>
            </a:r>
            <a:br>
              <a:rPr sz="2400"/>
            </a:br>
            <a:r>
              <a:rPr b="0" lang="ru-RU" sz="2400" spc="-1" strike="noStrike">
                <a:solidFill>
                  <a:srgbClr val="575f6d"/>
                </a:solidFill>
                <a:latin typeface="Century Schoolbook"/>
              </a:rPr>
              <a:t>-ОБЪЕКТИВНОСТЬЮ,</a:t>
            </a:r>
            <a:br>
              <a:rPr sz="2400"/>
            </a:br>
            <a:r>
              <a:rPr b="0" lang="ru-RU" sz="2400" spc="-1" strike="noStrike">
                <a:solidFill>
                  <a:srgbClr val="575f6d"/>
                </a:solidFill>
                <a:latin typeface="Century Schoolbook"/>
              </a:rPr>
              <a:t>-СТРЕМЛЕНИЕМ АВТОРА К ТОЧНОСТИ, СЖАТОСТИ, ОДНОЗНАЧНОСТИ ВЫСКАЗЫВАНИЯ.</a:t>
            </a:r>
            <a:br>
              <a:rPr sz="2400"/>
            </a:br>
            <a:r>
              <a:rPr b="0" lang="ru-RU" sz="2400" spc="-1" strike="noStrike">
                <a:solidFill>
                  <a:srgbClr val="575f6d"/>
                </a:solidFill>
                <a:latin typeface="Century Schoolbook"/>
              </a:rPr>
              <a:t>-НАСЫЩЕННОСТЬ РАБОТ НАУЧНЫМИ ТЕРМИНАМИ.</a:t>
            </a:r>
            <a:br>
              <a:rPr sz="2400"/>
            </a:br>
            <a:br>
              <a:rPr sz="2200"/>
            </a:br>
            <a:endParaRPr b="0" lang="en-US" sz="24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285840" y="5357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75f6d"/>
                </a:solidFill>
                <a:latin typeface="Century Schoolbook"/>
              </a:rPr>
              <a:t>В НАУЧНОМ СТИЛЕ МОЖНО ВЫДЕЛИТЬ </a:t>
            </a:r>
            <a:r>
              <a:rPr b="0" lang="ru-RU" sz="2800" spc="-1" strike="noStrike" u="sng">
                <a:solidFill>
                  <a:srgbClr val="575f6d"/>
                </a:solidFill>
                <a:uFillTx/>
                <a:latin typeface="Century Schoolbook"/>
              </a:rPr>
              <a:t>НЕСКОЛЬКО ПОДСТИЛЕЙ:</a:t>
            </a:r>
            <a:br>
              <a:rPr sz="2800"/>
            </a:br>
            <a:r>
              <a:rPr b="0" lang="ru-RU" sz="2800" spc="-1" strike="noStrike">
                <a:solidFill>
                  <a:srgbClr val="575f6d"/>
                </a:solidFill>
                <a:latin typeface="Century Schoolbook"/>
              </a:rPr>
              <a:t>- </a:t>
            </a:r>
            <a:r>
              <a:rPr b="1" lang="ru-RU" sz="2800" spc="-1" strike="noStrike">
                <a:solidFill>
                  <a:srgbClr val="575f6d"/>
                </a:solidFill>
                <a:latin typeface="Century Schoolbook"/>
              </a:rPr>
              <a:t>СОБСТВЕННО НАУЧНЫЙ </a:t>
            </a:r>
            <a:r>
              <a:rPr b="0" lang="ru-RU" sz="2800" spc="-1" strike="noStrike">
                <a:solidFill>
                  <a:srgbClr val="575f6d"/>
                </a:solidFill>
                <a:latin typeface="Century Schoolbook"/>
              </a:rPr>
              <a:t>(НАИБОЛЕЕ СТРОГИЙ, ТОЧНЫЙ; ИМ ПИШУТСЯ ДИССЕРТАЦИИ, МОНОГРАФИИ, ГОСТЫ, ЭНЦИКЛОПЕДИИ);</a:t>
            </a:r>
            <a:br>
              <a:rPr sz="2800"/>
            </a:br>
            <a:r>
              <a:rPr b="0" lang="ru-RU" sz="2800" spc="-1" strike="noStrike">
                <a:solidFill>
                  <a:srgbClr val="575f6d"/>
                </a:solidFill>
                <a:latin typeface="Century Schoolbook"/>
              </a:rPr>
              <a:t>- </a:t>
            </a:r>
            <a:r>
              <a:rPr b="1" lang="ru-RU" sz="2800" spc="-1" strike="noStrike">
                <a:solidFill>
                  <a:srgbClr val="575f6d"/>
                </a:solidFill>
                <a:latin typeface="Century Schoolbook"/>
              </a:rPr>
              <a:t>НАУЧНО-ПОПУЛЯРНЫЙ</a:t>
            </a:r>
            <a:r>
              <a:rPr b="0" lang="ru-RU" sz="2800" spc="-1" strike="noStrike">
                <a:solidFill>
                  <a:srgbClr val="575f6d"/>
                </a:solidFill>
                <a:latin typeface="Century Schoolbook"/>
              </a:rPr>
              <a:t> (ИМ ПИШУТСЯ НАУЧНЫЕ СТАТЬИ В ЖУРНАЛАХ, НАУЧНО-ПОПУЛЯРНЫЕ КНИГИ. СЮДА ОТНОСЯТСЯ ПУБЛИЧНЫЕ ВЫСТУПЛЕНИЯ ПО РАДИО, ТЕЛЕВИДЕНИЮ НА НАУЧНЫЕ ТЕМЫ, ВЫСТУПЛЕНИЯ УЧЕНЫХ ПЕРЕД МАССОВОЙ АУДИТОРИЕЙ);</a:t>
            </a:r>
            <a:br>
              <a:rPr sz="2800"/>
            </a:br>
            <a:r>
              <a:rPr b="0" lang="ru-RU" sz="2800" spc="-1" strike="noStrike">
                <a:solidFill>
                  <a:srgbClr val="575f6d"/>
                </a:solidFill>
                <a:latin typeface="Century Schoolbook"/>
              </a:rPr>
              <a:t>- </a:t>
            </a:r>
            <a:r>
              <a:rPr b="1" lang="ru-RU" sz="2800" spc="-1" strike="noStrike">
                <a:solidFill>
                  <a:srgbClr val="575f6d"/>
                </a:solidFill>
                <a:latin typeface="Century Schoolbook"/>
              </a:rPr>
              <a:t>НАУЧНО-УЧЕБНЫЙ</a:t>
            </a:r>
            <a:r>
              <a:rPr b="0" lang="ru-RU" sz="2800" spc="-1" strike="noStrike">
                <a:solidFill>
                  <a:srgbClr val="575f6d"/>
                </a:solidFill>
                <a:latin typeface="Century Schoolbook"/>
              </a:rPr>
              <a:t> (УЧЕБНАЯ ЛИТЕРАТУРА, СПРАВОЧНИКИ, ПОСОБИЯ).</a:t>
            </a:r>
            <a:br>
              <a:rPr sz="2800"/>
            </a:br>
            <a:endParaRPr b="0" lang="en-US" sz="28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28760" y="4928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entury Schoolbook"/>
              </a:rPr>
              <a:t>ОФИЦИАЛЬНО-ДЕЛОВОЙ СТИЛЬ</a:t>
            </a:r>
            <a:br>
              <a:rPr sz="3600"/>
            </a:br>
            <a:br>
              <a:rPr sz="3600"/>
            </a:br>
            <a:r>
              <a:rPr b="0" lang="ru-RU" sz="2400" spc="-1" strike="noStrike">
                <a:solidFill>
                  <a:srgbClr val="575f6d"/>
                </a:solidFill>
                <a:latin typeface="Century Schoolbook"/>
              </a:rPr>
              <a:t>ЭТО СТИЛЬ ДОКУМЕНТОВ (МЕЖДУНАРОДНЫХ ДОГОВОРОВ, ГОСУДАРСТВЕННЫХ АКТОВ, ЮРИДИЧЕСКИХ ЗАКОНОВ, ПОСТАНОВЛЕНИЙ, УСТАВОВ, ИНСТРУКЦИЙ, СЛУЖЕБНОЙ ПЕРЕПИСКИ, ДЕЛОВЫХ БУМАГ И Т.Д.)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575f6d"/>
                </a:solidFill>
                <a:latin typeface="Century Schoolbook"/>
              </a:rPr>
              <a:t>В НЕМ МОЖНО ВЫДЕЛИТЬ:</a:t>
            </a:r>
            <a:br>
              <a:rPr sz="2400"/>
            </a:br>
            <a:r>
              <a:rPr b="1" lang="ru-RU" sz="2400" spc="-1" strike="noStrike">
                <a:solidFill>
                  <a:srgbClr val="575f6d"/>
                </a:solidFill>
                <a:latin typeface="Century Schoolbook"/>
              </a:rPr>
              <a:t>1.ОФИЦИАЛЬНО-ДОКУМЕНТАЛЬНЫЙ СТИЛЬ</a:t>
            </a:r>
            <a:r>
              <a:rPr b="0" lang="ru-RU" sz="2400" spc="-1" strike="noStrike">
                <a:solidFill>
                  <a:srgbClr val="575f6d"/>
                </a:solidFill>
                <a:latin typeface="Century Schoolbook"/>
              </a:rPr>
              <a:t> (ЗАКОНОДАТЕЛЬНЫЕ ДОКУМЕНТЫ,  ДИПЛОМАТИЧЕСКИЕ АКТЫ, МЕЖДУНАРОДНЫЕ СОГЛАШЕНИЯ).</a:t>
            </a:r>
            <a:br>
              <a:rPr sz="2400"/>
            </a:br>
            <a:r>
              <a:rPr b="1" lang="ru-RU" sz="2400" spc="-1" strike="noStrike">
                <a:solidFill>
                  <a:srgbClr val="575f6d"/>
                </a:solidFill>
                <a:latin typeface="Century Schoolbook"/>
              </a:rPr>
              <a:t>2.ОБИХОДНО-ДЕЛОВОЙ СТИЛЬ </a:t>
            </a:r>
            <a:r>
              <a:rPr b="0" lang="ru-RU" sz="2400" spc="-1" strike="noStrike">
                <a:solidFill>
                  <a:srgbClr val="575f6d"/>
                </a:solidFill>
                <a:latin typeface="Century Schoolbook"/>
              </a:rPr>
              <a:t>(СЛУЖЕБНАЯ ПЕРЕПИСКА, ЧАСТНЫЕ ДЕЛОВЫЕ БУМАГИ).</a:t>
            </a:r>
            <a:br>
              <a:rPr sz="2400"/>
            </a:br>
            <a:endParaRPr b="0" lang="en-US" sz="24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4T14:20:56Z</dcterms:created>
  <dc:creator>User</dc:creator>
  <dc:description/>
  <dc:language>en-US</dc:language>
  <cp:lastModifiedBy>ТАТЬЯНА</cp:lastModifiedBy>
  <dcterms:modified xsi:type="dcterms:W3CDTF">2012-10-08T17:54:56Z</dcterms:modified>
  <cp:revision>14</cp:revision>
  <dc:subject/>
  <dc:title>Общая характеристика стилей речи</dc:title>
</cp:coreProperties>
</file>