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CB4-B43A-43BB-B760-105C19C0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EFE-3C5B-4E80-91C5-4C4FA028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9FF-B64B-4FDD-8DF2-14DB274A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455-5BDB-484E-AD7E-966C5D3A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89F-126B-497C-BACC-046C42D5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221B-B0CC-4334-99CB-5EEE52B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50F-3700-4EF2-B255-81DE82A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74F-353A-48CC-8458-E9CEBF1E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73EE-67E8-4E49-9D6A-18C22FDD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D809-362A-49E4-A67E-55B4BF2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3B45-5755-4F17-8EE5-73A45B1B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5C8-1B3A-4877-B23D-E2CC1120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A454-7011-4729-8363-59C3EF2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7987-CDF8-4449-A3A8-1A0388D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D114-2567-4BF7-9563-33DF01F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619D-705E-49BB-AFDD-D9D278C2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3617-F618-46EE-9B82-96A2ED3E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3E9A4-3DD0-486B-9668-42963D89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4D07A-2A3D-4FAC-8FC5-D0EC5CF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6A4AF-1DA1-454E-B415-32126C1D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B6A28-32D1-4B75-A6B5-24C98BE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2A19D-FBE2-48D5-B508-89057BAA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0F7-459C-4443-A3D9-81BD903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0CB2A-A13C-460D-B42D-893C273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97309-8376-4EDE-BFB1-E72A1C4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AA41E-EA41-410B-9856-F77B8F9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2225B-9557-4D73-B659-C0985E4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59D7D-B403-4E41-90E8-432756B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DD661-4706-443F-BD28-44FB930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CB746-E09C-4F3F-A7AB-EFB70AF4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CB7B-2D8D-41B3-B3AB-F1B24EBD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8030-27AD-47DC-AFDC-DB0CA3A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1047-D1A5-4315-8572-79B8159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598-5D99-4528-B2FE-0E4292F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82D0-71BD-4092-814F-D138530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FE9E-DAB4-4E28-A27D-BC571DBF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9CB9-2F55-448B-A4C5-32C2D3B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0A27-A12A-4952-8C67-848A81A1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907F-0308-4673-8330-A5ACD17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B3E0-7906-4A92-A0DA-CFF2F54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D493-4723-4924-9672-28AEE8C4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1E89-D185-46F3-A6CB-6A1A5A01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CB81-C5D7-4DF9-9F6A-F5D4EA45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B578F-20A1-4E96-B8DA-F22613A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33F-06EF-4DB8-8A0C-893E740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C0F8A-4952-4FDC-AC49-270EB8D3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16C50-A018-4ACD-A7CD-03AF64A6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B5CD4-E080-400A-964D-C3E86E4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FD36B-5E74-4129-A65D-8A0D430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137F7-2F98-4DD6-937D-8FD93D15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D7C2F-CC28-4C0D-88D5-B79C4BF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550E0-DC6E-412B-AD8C-0C554D1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B09C6-8956-463B-ACC2-6C9CD7C8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B9D35-BC12-4349-9C37-C437B28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02A81-9D0E-47F6-BF88-35BE073C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B96-F658-4DAA-8DA1-0D17EDE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CA8A1-5123-4752-B885-0B9717C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FCDCB-3A82-4D68-8113-0982BF12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04AE3-4C28-49B1-9B4A-30FF01C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3159D-CF6C-4CDA-AF9B-3203DEF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7351F-5F04-4FC0-A0F8-BE265591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48CBF-B9D0-49B0-92AB-FBFF98AD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0E6BF-DC70-4CCF-8C58-14826CD3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49AA0-1BE4-4E3B-8BF9-9105FFD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713BD-60F7-4B3E-9E74-C8F6479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1EAE8-0076-4BE1-8849-63CD6652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DC9-F014-4E82-A582-DB8235A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2658F-B6E2-410A-9C2F-2EA539D1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88162-CFE6-4522-8069-27D30AFD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D1B27-AC35-40E3-977B-E95ADD54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FB72D-A1FF-4064-8538-AAE3B109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DC6C2-73DA-4203-B9AE-0CDF2EBB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41FE0-88F5-4F90-AF1E-4B57FFB3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3312E-2A0D-487F-BB9F-747E3160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E510D-0B99-41D5-8905-576CA6D5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D3D5D-A7D4-45BA-90DC-28FB41B7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3DA98-2D64-480D-9D33-32F12B3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55-F0AC-413C-B4B4-6C40790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A40E1-7783-4028-AF1F-BCA06EB6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654C3-B7EF-419F-BD27-56DF89B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D5CF0-C21E-4B70-83A4-7FFA7C77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71DF9-F92E-4495-84D7-0D3F7999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DD2D9-7FAE-41B9-B7F0-12AEB1D1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611-2912-4AB6-80E3-9209A42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4E0-959A-4BE5-AC31-6BAD66D996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19DA-49C9-4327-9001-643E065C04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90D-04A3-4779-8D44-4E32F611AD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19D1-3D4B-4A41-A403-1FF6E4CBC1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CEA2-361D-491D-ABB1-04DEDD4645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25A-D6C8-4E0A-82C5-FA374CB822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772-A94C-4E38-A2BF-D57C5F4760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ОБЩАЯ ХАРАКТЕРИСТИКА СТИЛЕЙ РЕЧ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ФИЦИАЛЬНО-ДЕЛОВО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ИЗУЕТСЯ РЯДОМ ОБЩИХ ЧЕРТ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ТОЧНОСТЬ ФОРМУЛИРОВОК, СЖАТОСТЬ, КОМПАКТНОСТЬ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СТАНДАРТИЗОВАННОСТЬ СТИЛЯ, НЕРЕДКО ОБЯЗАТЕЛЬНОСТЬ ФОРМЫ, ОБИЛИЕ УСТОЙЧИВЫХ ОБОРОТОВ ДЕЛОВОЙ РЕЧИ: ПО ИСТЕЧЕНИИ СРОКА, ВСТУПАТЬ В ЗАКОННУЮ СИЛУ, В УСТАНОВЛЕННОМ ПОРЯДКЕ И ДР.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ШИРОКОЕ ИСПОЛЬЗОВАНИЕ ТЕРМИНОЛОГИИ, ЮРИДИЧЕСКИХ, ДИПЛОМАТИЧЕСКИХ, ВОЕННЫХ, АДМИНИСТРАТИВНЫХ НАИМЕНОВАНИ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УБЛИЦИСТИЧЕСКИЙ СТИЛЬ</a:t>
            </a:r>
            <a:br>
              <a:rPr sz="2700"/>
            </a:br>
            <a:br>
              <a:rPr sz="27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ИНФОРМИРОВАНИЕ, ПЕРЕДАЧА ОБЩЕСТВЕННО ЗНАЧИМОЙ ИНФОРМАЦИИ С ОДНОВРЕМЕННЫМ ВОЗДЕЙСТВИЕМ НА ЧИТАТЕЛЯ, СЛУШАТЕЛЯ, УБЕЖДЕНИЕМ ЕГО В ЧЕМ-ТО, ВНУШЕНИЕМ ЕМУ ОПРЕДЕЛЕННЫХ ИДЕЙ, ВЗГЛЯДОВ, ПОБУЖДЕНИЕМ К ОПРЕДЕЛЕННЫМ ПОСТУПКАМ, ДЕЙСТВИЯМ. ВЫСКАЗЫВАНИЕ ОБЫЧНО БЫВАЕТ ЗЛОБОДНЕВНЫМ ПО ТЕМАТИКЕ, ЯРКИМ, СТРАСТНЫМ, ПРИЗЫВНЫМ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8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 ПУБЛИЦИСТИКИ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– СТАТЬЯ В ГАЗЕТЕ, ЖУРНАЛЕ, ОЧЕРК, РЕПОРТАЖ, ИНТЕРВЬЮ, ФЕЛЬЕТОН И ПОД. В НИХ ЗАТРАГИВАЮТСЯ ЛЮБЫЕ АКТУАЛЬНЫЕ ВОПРОСЫ СОВРЕМЕННОСТИ, ПРЕДСТАВЛЯЮЩИЕ ИНТЕРЕС ДЛЯ ОБЩЕСТВА: ПОЛИТИЧЕСКИЕ, ЭКОНОМИЧЕСКИЕ, МОРАЛЬНЫЕ, ФИЛОСОФСКИЕ, ВОПРОСЫ КУЛЬТУРЫ, ВОСПИТАНИЯ, ПОВСЕДНЕВНОГО БЫТА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ДЛЯ ПУБЛИЦИСТИЧЕСКОГО СТИЛЯ </a:t>
            </a: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НЫ: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ЛОГИЧНОСТЬ, ДОСТОВЕРНОСТЬ, ТОЧНОСТЬ ФАКТОВ, КОНКРЕТНОСТЬ;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ЭМОЦИОНАЛЬНОСТЬ, ОБРАЗНОСТЬ, ОЦЕНОЧНОСТЬ, ПРИЗЫВНОСТЬ.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ХУДОЖЕСТВЕННЫЙ СТИЛЬ</a:t>
            </a:r>
            <a:br>
              <a:rPr sz="2700"/>
            </a:b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УДОЖЕСТВЕННЫ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ПРЕДНАЗНАЧЕН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ДЛЯ СОЗДАНИЯ ХУДОЖЕСТВЕННЫХ, ПОЭТИЧЕСКИХ ОБРАЗОВ, ЭМОЦИОНАЛЬНО-ЭСТЕТИЧЕСКОГО ВОЗДЕЙСТВИЯ, И ВСЕ ЯЗЫКОВЫЕ СРЕДСТВА, ВКЛЮЧАЕМЫЕ В ХУДОЖЕСТВЕННОЕ ПРОИЗВЕДЕНИЕ, МЕНЯЮТ СВОЮ ПЕРВИЧНУЮ ФУНКЦИЮ, ПОДЧИНЯЮТСЯ ЗАДАЧАМ ДАННОГО ХУДОЖЕСТВЕННОГО СТИЛ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ВОЗДЕЙСТВИЕ С ПОМОЩЬЮ СОЗДАННЫХ ОБРАЗОВ НА ЧУВСТВА И МЫСЛИ ЧИТАТЕЛЕЙ, СЛУШАТЕЛЕ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РЕДСТВА ВЫРАЗИТЕЛЬНОСТИ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ПИТЕТ, МЕТАФОРА, СРАВНЕНИЕ, ОЛИЦЕТВОРЕНИЕ, ГИПЕРБОЛА, ЛИТОТА, МЕТОНИМИЯ, СИНЕКДОХА, АЛЛЕГОРИЯ, ИРОНИЯ, ПЕРИФРАЗ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ТИЛИСТИЧЕСКИЕ ФИГУРЫ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АНАФОРА, ЭПИФОРА, АНТИТЕЗА, ГРАДАЦИЯ, ИНВЕРСИЯ, ОКСЮМОРОН, ПАРАЛЛЕЛИЗМ, ПАРЦЕЛЛЯ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ОВО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575f6d"/>
                </a:solidFill>
                <a:latin typeface="Century Schoolbook"/>
              </a:rPr>
              <a:t>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ДИТ ОТ ГРЕЧЕСКОГО СЛОВА         « СТИЛОС» – ПАЛОЧКА. В ДРЕВНОСТИ И В СРЕДНИЕ ВЕКА ПИСАЛИ СТЕРЖНЕМ ИЗ МЕТАЛЛА, КОСТИ, ДЕРЕВА. ОДИН КОНЕЦ СТЕРЖНЯ БЫЛ ЗАОСТРЕННЫМ, ИМ ПИСАЛИ, ДРУГОЙ – В ВИДЕ ЛОПАТОЧКИ, ИМ, ПОВЕРНУВ СТЕРЖЕНЬ-«СТИЛЬ», СТИРАЛИ НЕУДАЧНО НАПИСАННОЕ. ЧЕМ ЧАЩЕ ПОВОРАЧИВАЛИ СТИЛЬ, ТЕМ ЧАЩЕ СТИРАЛИ НЕУДАЧНО НАПИСАННО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ЖДЕНИЕ СЛОВА СТИЛЬ ПРОЯСНЯЕТ СУТЬ СТИЛИСТИКИ. А ИМЕННО: СТИЛИСТИКА ВСЕГДА СВЯЗАНА С ВЫБОРОМ. ОДНУ И ТУ ЖЕ МЫСЛЬ МОЖНО ВЫРАЗИТЬ И ТАК, И ПО-ДРУГОМУ, И ПО - ТРЕТЬЕМУ. ПОИСКАМИ ЛУЧШЕГО, ОПТИМАЛЬНОГО ВАРИАНТА ВЫРАЖЕНИЯ МЫСЛЕЙ В ДАННЫХ КОНКРЕТНЫХ УСЛОВИЯХ И УЧИТ СТИЛИСТИКА – НАУКА О СТИЛЯХ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 СООТВЕТСТВИИ С ФУНКЦИЯМИ ЯЗЫКА ВЫДЕЛЯЮТСЯ СЛЕДУЮЩИЕ СТИЛИ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РАЗГОВОРНЫЙ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(ФУНКЦИЯ 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, ОФИЦИАЛЬНО-ДЕЛОВО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СО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ХУДОЖЕСТВЕННЫЙ, ПУБЛИЦИСТИЧЕСКИ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ВОЗДЕЙСТВИЯ)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РАЗГОВОРНЫЙ СТИЛЬ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ФЕРА РАЗГОВОРНОГО СТИЛЯ – СФЕРА БЫТОВЫХ ОТНОШЕНИЙ, НЕПРИНУЖДЕННАЯ, НЕОФИЦИАЛЬНАЯ ОБСТАНОВКА: ДРУЖЕСКАЯ БЕСЕДА, ЧАСТНЫЙ РАЗГОВОР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3880" y="521460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К  ЯЗЫКОВЫМ ОСОБЕННОСТЯМ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АЗГОВОРНОЙ РЕЧИ ОТНОСЯ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1.ИСПОЛЬЗОВАНИЕ ВНЕЛЕКСИЧЕСКИХ СРЕДСТВ (ИНТОНАЦИЯ, ФРАЗОВОЕ И ЭМОЦИОНАЛЬНО-ВЫРАЗИТЕЛЬНОЕ УДАРЕНИЕ, ПАУЗЫ, ТЕМП РЕЧИ, РИТМ)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2.ШИРОКОЕ УПОТРЕБЛЕНИЕ ОБИХОДНО-БЫТОВОЙ ЛЕКСИКИ И ФРАЗЕОЛОГИИ, ЛЕКСИКИ ЭМОЦИОНАЛЬНО-ЭКСПРЕССИВНОЙ (ВКЛЮЧАЯ ЧАСТИЦЫ, МЕЖДОМЕТИЯ), РАЗНЫХ ГРУПП ВВОДНЫХ СЛОВ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3.СВОЕОБРАЗИЕ СИНТАКСИСА (НЕПОЛНЫЕ ПРЕДЛОЖЕНИЯ, СЛОВА-ПРЕДЛОЖЕНИЯ, СЛОВА-ОБРАЩЕНИЯ, ПОВТОРЫ СЛОВ, ПРЕОБЛАДАНИЕ ДИАЛОГА И ДР.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НАУЧНЫЙ СТИЛЬ</a:t>
            </a: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РОССИИ НАУЧНЫЙ ЯЗЫК И СТИЛЬ НАЧАЛ СКЛАДЫВАТЬСЯ В ПЕРВЫЕ ДЕСЯТИЛЕТИЯ 18 ВЕКА, КОГДА АВТОРЫ НАУЧНЫХ КНИГ И ПЕРЕВОДЧИКИ СТАЛИ СОЗДАВАТЬ РУССКУЮ НАУЧНУЮ ТЕРМИНОЛОГИЯ. ВО ВТОРОЙ ПОЛОВИНЕ ЭТОГО ВЕКА БЛАГОДАРЯ РАБОТАМ М.В. ЛОМОНОСОВА И ЕГО УЧЕНИКОВ ФОРМИРОВАНИЕ НАУЧНОГО СТИЛЯ СДЕЛАЛО ШАГ ВПЕРЕД, НО ОКОНЧАТЕЛЬНО ОН СЛОЖИЛСЯ ВО ВТОРОЙ ПОЛОВИНЕ 19 ВЕКА ВМЕСТЕ С НАУЧНОЙ ДЕЯТЕЛЬНОСТЬЮ КРУПНЕЙШИХ УЧЕНЫХ ТОГО ВРЕМЕН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СТИЛЯ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СООБЩЕНИЕ НАУЧНЫХ СВЕДЕНИЙ, НАУЧНОЕ ОБЪЯСНЕНИЕ ФАКТОВ.</a:t>
            </a: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: НАУЧНАЯ СТАТЬЯ, НАУЧНЫЙ ДОКЛАД, УЧЕБНАЯ ЛИТЕРАТУРА, ДИССЕРТАЦИЯ И ДР.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 СТИЛЬ ХАРАКТЕРИЗУЕ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ЛОГИЧЕСКОЙ ПОСЛЕДОВАТЕЛЬНОСТЬЮ ИЗЛОЖЕНИЯ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ТВЛЕЧЕННОСТЬЮ И ОБОБЩЕН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БЪЕКТИВ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СТРЕМЛЕНИЕМ АВТОРА К ТОЧНОСТИ, СЖАТОСТИ, ОДНОЗНАЧНОСТИ ВЫСКАЗЫВАНИ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НАСЫЩЕННОСТЬ РАБОТ НАУЧНЫМИ ТЕРМИНАМИ.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НАУЧНОМ СТИЛЕ МОЖНО ВЫДЕЛИТ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СКОЛЬКО ПОДСТИЛЕЙ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ОБСТВЕННО НАУЧНЫЙ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(НАИБОЛЕЕ СТРОГИЙ, ТОЧНЫЙ; ИМ ПИШУТСЯ ДИССЕРТАЦИИ, МОНОГРАФИИ, ГОСТЫ, ЭНЦИКЛОПЕДИИ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ПОПУЛЯР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ИМ ПИШУТСЯ НАУЧНЫЕ СТАТЬИ В ЖУРНАЛАХ, НАУЧНО-ПОПУЛЯРНЫЕ КНИГИ. СЮДА ОТНОСЯТСЯ ПУБЛИЧНЫЕ ВЫСТУПЛЕНИЯ ПО РАДИО, ТЕЛЕВИДЕНИЮ НА НАУЧНЫЕ ТЕМЫ, ВЫСТУПЛЕНИЯ УЧЕНЫХ ПЕРЕД МАССОВОЙ АУДИТОРИЕЙ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УЧЕБ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УЧЕБНАЯ ЛИТЕРАТУРА, СПРАВОЧНИКИ, ПОСОБИЯ)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ФИЦИАЛЬНО-ДЕЛОВОЙ СТИЛЬ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СТИЛЬ ДОКУМЕНТОВ (МЕЖДУНАРОДНЫХ ДОГОВОРОВ, ГОСУДАРСТВЕННЫХ АКТОВ, ЮРИДИЧЕСКИХ ЗАКОНОВ, ПОСТАНОВЛЕНИЙ, УСТАВОВ, ИНСТРУКЦИЙ, СЛУЖЕБНОЙ ПЕРЕПИСКИ, ДЕЛОВЫХ БУМАГ И Т.Д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НЕМ МОЖНО ВЫДЕЛИТЬ: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1.ОФИЦИАЛЬНО-ДОКУМЕНТАЛЬНЫЙ 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(ЗАКОНОДАТЕЛЬНЫЕ ДОКУМЕНТЫ,  ДИПЛОМАТИЧЕСКИЕ АКТЫ, МЕЖДУНАРОДНЫЕ СОГЛАШЕНИЯ).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2.ОБИХОДНО-ДЕЛОВОЙ СТИЛЬ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(СЛУЖЕБНАЯ ПЕРЕПИСКА, ЧАСТНЫЕ ДЕЛОВЫЕ БУМАГИ)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0:56Z</dcterms:created>
  <dc:creator>User</dc:creator>
  <dc:description/>
  <dc:language>en-US</dc:language>
  <cp:lastModifiedBy>ТАТЬЯНА</cp:lastModifiedBy>
  <dcterms:modified xsi:type="dcterms:W3CDTF">2012-10-08T17:54:56Z</dcterms:modified>
  <cp:revision>14</cp:revision>
  <dc:subject/>
  <dc:title>Общая характеристика стилей речи</dc:title>
</cp:coreProperties>
</file>