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4A1-9BE9-4B09-A194-FF949C21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91B-DA70-4581-96AC-48543FD3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18B-5DEF-44DE-B336-D99F0EAC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0B4-77EC-4255-A034-47F6C84D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3646-C418-4825-9234-82ACB59A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8E8E-1BE4-458F-AFED-352E01A2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1787-2A46-48AB-BB3B-5ED1A979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64FA-4E8A-4F3E-BB2B-EA2FFF42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1FD9-B3AF-4D14-A608-0305C63E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3BFF-0602-4365-A427-0944979A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F705-2B8C-4443-913F-0B507399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1FC-D3E2-4381-9C40-AA857D52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EE0D-7527-4369-895A-02EF9595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0B3F-B712-427F-BD70-81AF8017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95D1-B0F8-4F47-8322-10E4D708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0AB8-72FF-4D9E-B0EB-2840FD5D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1061-CCBF-4725-9B62-57771B82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173-27B2-4051-9BD2-B03121F7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231-1E39-4564-BB65-FDC3FC07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67AE-155E-4099-8984-CE01C063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E4D-235C-42BA-B71B-CEC37EEA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FD6-2498-4280-8108-6F60855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ADC-2E1C-4DB0-B435-31EA318B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9D6-9209-46B1-918D-4F5493E0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6B32-D75F-41EE-A7A5-0F93B1436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759D-F077-46A6-95A9-F336CB444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акие разные мосты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55640" y="2492280"/>
            <a:ext cx="7632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комство детей старшего дошкольного возраста с мостами Санкт-Петербурга с элементами ТР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: воспитатель прогимназии №675 «Талант» Киселева Татьяна Юр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58920" y="1758600"/>
            <a:ext cx="732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ш город прекраснее всех!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н поражает гостей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иротою своих площадей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асотою мостов и р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золотых куполов церквей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ьется песня колоколов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славляя город Петров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авший славой России все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Цели и задачи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точнить представление о мостах, как архитектурных сооружениях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репить, уточнить и расширить первоначальные сведения и представления о Петербургских мостах, показать их разнообразие, красоту, связь внешнего вида с назначение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репить умение воссоздавать целостное изображение из двух и более деталей, закрепить внимание, умение сравнив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Стих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ичков мо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тыре черных и громоздки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укротимых жереб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злетели – каждый на подмостк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 стянутой уздой лов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ицкий мо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ебя вбираю красот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Я славлю сердце молодо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ю на Кировском мост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город мой – как на ладо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707400"/>
            <a:ext cx="637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егкий мостик над Мойкой, парит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 за что не поверить, что камень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к воздушно, так хрупко летит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д родными тебе берегам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2996280"/>
            <a:ext cx="47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рылась мне в ночную пору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ворцов и шпилей красота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гда я на великий город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мотрел с Литейного моста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4381920"/>
            <a:ext cx="489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молочной сырости тумана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де тонут мысли и слова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друг выплыли четыре льва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етыре белых истукана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, опершись на парапет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ржали берега канал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ктор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ая река в нашем городе главна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 Нева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ты знаешь еще реки в Санкт-Петербург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йка, Фонтанка и другие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й секрет есть у Дворцового мост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н разводной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й мост стерегут грифон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Банковский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й мост охраняют льв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ьвиный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чем разводят мос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пропускать большие судна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Фотовыставк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500360" cy="2994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88000" y="3176640"/>
            <a:ext cx="39798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535280" cy="281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27640" y="3551400"/>
            <a:ext cx="4392360" cy="29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0" t="0" r="0" b="27274"/>
          <a:stretch/>
        </p:blipFill>
        <p:spPr>
          <a:xfrm>
            <a:off x="684360" y="333360"/>
            <a:ext cx="4464000" cy="3121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356000" y="3481560"/>
            <a:ext cx="45370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4392360" cy="3143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59280" y="3411360"/>
            <a:ext cx="4051440" cy="3033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556000" y="260280"/>
            <a:ext cx="396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9:04:36Z</dcterms:created>
  <dc:creator>user</dc:creator>
  <dc:description/>
  <dc:language>en-US</dc:language>
  <cp:lastModifiedBy>слава</cp:lastModifiedBy>
  <dcterms:modified xsi:type="dcterms:W3CDTF">2012-10-08T10:53:57Z</dcterms:modified>
  <cp:revision>7</cp:revision>
  <dc:subject/>
  <dc:title>Такие разные мосты…</dc:title>
</cp:coreProperties>
</file>