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DBE-1CEB-4BF8-8735-F4DA3BB4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653-50E2-40A2-917F-8D109F4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C40-D27D-4D78-86E6-72EAF36E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BD0-CA6C-44E0-928D-8C6F39A2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92EA-6244-4100-A384-61097C42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CF27-CC1E-453A-A55A-46C8622A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F12-FFAB-4A69-8352-842A182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9324-01E8-4B96-8DDD-450BF8B2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B466-0B99-4270-9E7F-D453B58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A39-436F-4F11-9232-809B97C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E790-02E2-48F2-867B-A7A9783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5BA-D3DE-496F-B5B1-C6921C0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35B-E702-43B9-9035-DA869EA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80EF-3C7A-4B97-9837-E406EB0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6105-8667-4594-AB18-EE0F662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DFC1-99B0-4AD5-A4EE-B6F23827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DD4-F18B-47C7-A100-907A993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D75-1582-44BC-BBEF-437243CA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783-C3E2-41EA-A488-77890AF8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92C-DA4C-40BC-A30B-E605C6A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B78-17A2-4200-A02E-6E43DED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432-37DF-4F44-A2AE-E3A99BA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6BB-29B2-4D5B-B7C4-1B29CC7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0F2-B3CF-4D11-8F5E-D676B19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833-9E67-4643-B207-5970C59FA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3924-A467-4D1E-A1A1-2C5A0CCED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акие разные мосты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комство детей старшего дошкольного возраста с мостами Санкт-Петербурга с элементами ТР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воспитатель прогимназии №675 «Талант» Киселева Татьяна Ю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58920" y="1758600"/>
            <a:ext cx="732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ш город прекраснее всех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поражает госте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тою своих площаде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сотою мостов и р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золотых куполов церкве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ьется песня колоколов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лавляя город Петров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вший славой России вс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Цели и задач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очнить представление о мостах, как архитектурных сооружения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, уточнить и расширить первоначальные сведения и представления о Петербургских мостах, показать их разнообразие, красоту, связь внешнего вида с назначение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умение воссоздавать целостное изображение из двух и более деталей, закрепить внимание, умение сравн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тих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ичков мо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тыре черных и громоздки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укротимых жереб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летели – каждый на подмост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стянутой уздой лов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цкий мо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ебя вбираю красо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 славлю сердце молодо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ю на Кировском мос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город мой – как на ладо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707400"/>
            <a:ext cx="637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гкий мостик над Мойкой, парит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за что не поверить, что камень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 воздушно, так хрупко летит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 родными тебе берега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2996280"/>
            <a:ext cx="47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рылась мне в ночную пору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орцов и шпилей красот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гда я на великий город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мотрел с Литейного мост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4381920"/>
            <a:ext cx="48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молочной сырости туман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тонут мысли и слов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друг выплыли четыре льв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тыре белых истукан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, опершись на парапе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жали берега кана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ая река в нашем городе главна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Нева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ты знаешь еще реки в Санкт-Петербург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йка, Фонтанка и другие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секрет есть у Дворцового мост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н разводно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мост стерегут грифон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анковски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мост охраняют льв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иный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чем разводят мос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ропускать большие судна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Фотовыстав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500360" cy="299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3176640"/>
            <a:ext cx="3979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535280" cy="28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27640" y="3551400"/>
            <a:ext cx="439236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0" b="27274"/>
          <a:stretch/>
        </p:blipFill>
        <p:spPr>
          <a:xfrm>
            <a:off x="684360" y="333360"/>
            <a:ext cx="4464000" cy="312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356000" y="3481560"/>
            <a:ext cx="4537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392360" cy="3143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3411360"/>
            <a:ext cx="4051440" cy="30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56000" y="26028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9:04:36Z</dcterms:created>
  <dc:creator>user</dc:creator>
  <dc:description/>
  <dc:language>en-US</dc:language>
  <cp:lastModifiedBy>слава</cp:lastModifiedBy>
  <dcterms:modified xsi:type="dcterms:W3CDTF">2012-10-08T10:53:57Z</dcterms:modified>
  <cp:revision>7</cp:revision>
  <dc:subject/>
  <dc:title>Такие разные мосты…</dc:title>
</cp:coreProperties>
</file>