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58B5E-8791-4DB9-9B31-F4A6298AA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33E5F-D08E-4861-A071-8512C6705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8B73C-823D-4D8C-BA8C-42739BCB0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89958-4053-42D9-8A31-D782CCDCF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11F95-EAF0-4611-9CFD-0BAA4AF33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B1E07-AFF4-4349-A320-FFC11D328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C1820-84F1-4A30-8B55-E22D58B10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64F13-F097-4505-BA9B-B13C7D17D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9FA51-CEB5-495C-9890-9C87B094D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07682-EFF2-4EF2-8BFE-DFECBDF3F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BB5AA-FB6E-47D6-9F06-BF566C66A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B2F39-03ED-4EB8-B09A-2A323E201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FAF18-E6AC-4358-96A8-0C20DDA3A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A860F-A315-40B4-9B06-5C090A7FF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A0905-72A4-4BAA-BEDC-75DF271FE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7A62C-057B-432F-BD72-F411918C2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1F29A-3755-4524-B80C-4D9859880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15A64D-D63B-42D5-9F70-5A1609A5F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A79EA6-8E56-4394-8F41-BAEECCBF6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686CB7-9545-4F61-988F-24F38537C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BAFF29-46BF-43BE-95D0-0CE34552E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CAE230-2FA2-4132-B8E5-A2CEF714E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A3DBB-D8F0-4F68-B656-51B07A734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76C0BA-68A8-4E37-BE6C-39C60214E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E91E0F-89F3-4D07-B533-56011001A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B31F8E-34EA-48CE-BAD5-F9217F019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5DC79A-D1F9-4B38-AB73-5CD58DB12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BD59EF-ACBF-4840-BD6D-3B4BB76C1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BB428F-973D-4A14-BC7A-8BFD6E941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63D38E-087E-4A98-B2C1-4DD899B64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01BDD-C700-45C1-8CC4-0235F2FE4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205DF-A0A4-4BEF-B6F7-CB3430E5E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3D73D-6F94-411E-A1E7-CF7721054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80B85-695C-46B9-A89B-9B4A09B5A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CC64D-316B-438A-8BE1-1A03FB99E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D1C3B-11AD-4539-BA82-16FFBF58D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EA57B-7EE4-4E8E-9491-F4E2984970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C99A6-9A8B-4BCC-829C-B6A890A416B9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50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60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7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68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76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77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80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81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2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83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1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99470-03D0-4576-92FB-9AEF61CC61D4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34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7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38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3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44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48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3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990360"/>
            <a:ext cx="8305920" cy="32763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Comic Sans MS"/>
              </a:rPr>
              <a:t>Тема: «Трапеция»</a:t>
            </a:r>
            <a:br>
              <a:rPr sz="5400"/>
            </a:br>
            <a:endParaRPr b="0" lang="en-US" sz="5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228600" y="241200"/>
            <a:ext cx="8610480" cy="151128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610480" cy="40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Повторим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685800" y="1828800"/>
            <a:ext cx="3772080" cy="3657600"/>
          </a:xfrm>
          <a:prstGeom prst="rect">
            <a:avLst/>
          </a:prstGeom>
          <a:ln w="0">
            <a:noFill/>
          </a:ln>
        </p:spPr>
      </p:pic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609800" y="1828800"/>
            <a:ext cx="3771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) Трапеция – это … , у которого…. 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) Как называются стороны трапеции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3) Какие бывают трапеции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152280" y="2666880"/>
            <a:ext cx="4648320" cy="2286000"/>
            <a:chOff x="152280" y="2666880"/>
            <a:chExt cx="4648320" cy="2286000"/>
          </a:xfrm>
        </p:grpSpPr>
        <p:grpSp>
          <p:nvGrpSpPr>
            <p:cNvPr id="253" name=""/>
            <p:cNvGrpSpPr/>
            <p:nvPr/>
          </p:nvGrpSpPr>
          <p:grpSpPr>
            <a:xfrm>
              <a:off x="152280" y="2666880"/>
              <a:ext cx="4267440" cy="2286000"/>
              <a:chOff x="152280" y="2666880"/>
              <a:chExt cx="4267440" cy="2286000"/>
            </a:xfrm>
          </p:grpSpPr>
          <p:grpSp>
            <p:nvGrpSpPr>
              <p:cNvPr id="254" name=""/>
              <p:cNvGrpSpPr/>
              <p:nvPr/>
            </p:nvGrpSpPr>
            <p:grpSpPr>
              <a:xfrm>
                <a:off x="533160" y="3047760"/>
                <a:ext cx="3886560" cy="1752840"/>
                <a:chOff x="533160" y="3047760"/>
                <a:chExt cx="3886560" cy="1752840"/>
              </a:xfrm>
            </p:grpSpPr>
            <p:sp>
              <p:nvSpPr>
                <p:cNvPr id="255" name=""/>
                <p:cNvSpPr/>
                <p:nvPr/>
              </p:nvSpPr>
              <p:spPr>
                <a:xfrm>
                  <a:off x="2514600" y="3047760"/>
                  <a:ext cx="1905120" cy="17528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56" name=""/>
                <p:cNvGrpSpPr/>
                <p:nvPr/>
              </p:nvGrpSpPr>
              <p:grpSpPr>
                <a:xfrm>
                  <a:off x="533160" y="3047760"/>
                  <a:ext cx="3886560" cy="1752840"/>
                  <a:chOff x="533160" y="3047760"/>
                  <a:chExt cx="3886560" cy="1752840"/>
                </a:xfrm>
              </p:grpSpPr>
              <p:sp>
                <p:nvSpPr>
                  <p:cNvPr id="257" name=""/>
                  <p:cNvSpPr/>
                  <p:nvPr/>
                </p:nvSpPr>
                <p:spPr>
                  <a:xfrm>
                    <a:off x="1143000" y="3047760"/>
                    <a:ext cx="1371600" cy="0"/>
                  </a:xfrm>
                  <a:prstGeom prst="line">
                    <a:avLst/>
                  </a:prstGeom>
                  <a:ln w="38160">
                    <a:solidFill>
                      <a:srgbClr val="33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8" name=""/>
                  <p:cNvSpPr/>
                  <p:nvPr/>
                </p:nvSpPr>
                <p:spPr>
                  <a:xfrm flipH="1">
                    <a:off x="533160" y="3047760"/>
                    <a:ext cx="609480" cy="1752840"/>
                  </a:xfrm>
                  <a:prstGeom prst="line">
                    <a:avLst/>
                  </a:prstGeom>
                  <a:ln w="38160">
                    <a:solidFill>
                      <a:srgbClr val="33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"/>
                  <p:cNvSpPr/>
                  <p:nvPr/>
                </p:nvSpPr>
                <p:spPr>
                  <a:xfrm>
                    <a:off x="533520" y="4800600"/>
                    <a:ext cx="3886200" cy="0"/>
                  </a:xfrm>
                  <a:prstGeom prst="line">
                    <a:avLst/>
                  </a:prstGeom>
                  <a:ln w="38160">
                    <a:solidFill>
                      <a:srgbClr val="33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60" name=""/>
              <p:cNvSpPr/>
              <p:nvPr/>
            </p:nvSpPr>
            <p:spPr>
              <a:xfrm>
                <a:off x="152280" y="4419360"/>
                <a:ext cx="457200" cy="533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А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685800" y="2666880"/>
                <a:ext cx="457200" cy="533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2514600" y="2666880"/>
                <a:ext cx="457200" cy="533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3" name=""/>
            <p:cNvSpPr/>
            <p:nvPr/>
          </p:nvSpPr>
          <p:spPr>
            <a:xfrm>
              <a:off x="4343400" y="4343400"/>
              <a:ext cx="45720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78487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Трапеция</a:t>
            </a:r>
            <a:br>
              <a:rPr sz="4000"/>
            </a:b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от греч. trapeza — стол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"/>
          <p:cNvSpPr/>
          <p:nvPr/>
        </p:nvSpPr>
        <p:spPr>
          <a:xfrm>
            <a:off x="685800" y="3074040"/>
            <a:ext cx="7848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Трапеция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буквально — «столик»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еометрическая фигура была назван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ак по внешнему сходству с маленьким столом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Трапеция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 -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четырёхугольник, у которого две стороны параллельны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а две другие – не параллельны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41925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D   BC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AB    CD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,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D, BC – 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основания,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B, CD – 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боковые стороны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1447920" y="2895480"/>
            <a:ext cx="75960" cy="304560"/>
            <a:chOff x="1447920" y="2895480"/>
            <a:chExt cx="75960" cy="304560"/>
          </a:xfrm>
        </p:grpSpPr>
        <p:sp>
          <p:nvSpPr>
            <p:cNvPr id="200" name=""/>
            <p:cNvSpPr/>
            <p:nvPr/>
          </p:nvSpPr>
          <p:spPr>
            <a:xfrm>
              <a:off x="1447920" y="289548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523880" y="289548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2666880" y="2895480"/>
            <a:ext cx="228600" cy="304560"/>
            <a:chOff x="2666880" y="2895480"/>
            <a:chExt cx="228600" cy="304560"/>
          </a:xfrm>
        </p:grpSpPr>
        <p:grpSp>
          <p:nvGrpSpPr>
            <p:cNvPr id="203" name=""/>
            <p:cNvGrpSpPr/>
            <p:nvPr/>
          </p:nvGrpSpPr>
          <p:grpSpPr>
            <a:xfrm>
              <a:off x="2743200" y="2895480"/>
              <a:ext cx="75960" cy="304560"/>
              <a:chOff x="2743200" y="2895480"/>
              <a:chExt cx="75960" cy="304560"/>
            </a:xfrm>
          </p:grpSpPr>
          <p:sp>
            <p:nvSpPr>
              <p:cNvPr id="204" name=""/>
              <p:cNvSpPr/>
              <p:nvPr/>
            </p:nvSpPr>
            <p:spPr>
              <a:xfrm>
                <a:off x="2743200" y="28954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2819160" y="28954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 flipV="1">
              <a:off x="2666880" y="2971440"/>
              <a:ext cx="2286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4495680" y="2666880"/>
            <a:ext cx="4648320" cy="2286000"/>
            <a:chOff x="4495680" y="2666880"/>
            <a:chExt cx="4648320" cy="2286000"/>
          </a:xfrm>
        </p:grpSpPr>
        <p:grpSp>
          <p:nvGrpSpPr>
            <p:cNvPr id="208" name=""/>
            <p:cNvGrpSpPr/>
            <p:nvPr/>
          </p:nvGrpSpPr>
          <p:grpSpPr>
            <a:xfrm>
              <a:off x="4495680" y="2666880"/>
              <a:ext cx="4267440" cy="2286000"/>
              <a:chOff x="4495680" y="2666880"/>
              <a:chExt cx="4267440" cy="228600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4876560" y="3047760"/>
                <a:ext cx="3886560" cy="1752840"/>
                <a:chOff x="4876560" y="3047760"/>
                <a:chExt cx="3886560" cy="1752840"/>
              </a:xfrm>
            </p:grpSpPr>
            <p:sp>
              <p:nvSpPr>
                <p:cNvPr id="210" name=""/>
                <p:cNvSpPr/>
                <p:nvPr/>
              </p:nvSpPr>
              <p:spPr>
                <a:xfrm>
                  <a:off x="6858000" y="3047760"/>
                  <a:ext cx="1905120" cy="17528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11" name=""/>
                <p:cNvGrpSpPr/>
                <p:nvPr/>
              </p:nvGrpSpPr>
              <p:grpSpPr>
                <a:xfrm>
                  <a:off x="4876560" y="3047760"/>
                  <a:ext cx="3886560" cy="1752840"/>
                  <a:chOff x="4876560" y="3047760"/>
                  <a:chExt cx="3886560" cy="1752840"/>
                </a:xfrm>
              </p:grpSpPr>
              <p:sp>
                <p:nvSpPr>
                  <p:cNvPr id="212" name=""/>
                  <p:cNvSpPr/>
                  <p:nvPr/>
                </p:nvSpPr>
                <p:spPr>
                  <a:xfrm>
                    <a:off x="5486400" y="3047760"/>
                    <a:ext cx="1371600" cy="0"/>
                  </a:xfrm>
                  <a:prstGeom prst="line">
                    <a:avLst/>
                  </a:prstGeom>
                  <a:ln w="38160">
                    <a:solidFill>
                      <a:srgbClr val="33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 flipH="1">
                    <a:off x="4876560" y="3047760"/>
                    <a:ext cx="609480" cy="1752840"/>
                  </a:xfrm>
                  <a:prstGeom prst="line">
                    <a:avLst/>
                  </a:prstGeom>
                  <a:ln w="38160">
                    <a:solidFill>
                      <a:srgbClr val="33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"/>
                  <p:cNvSpPr/>
                  <p:nvPr/>
                </p:nvSpPr>
                <p:spPr>
                  <a:xfrm>
                    <a:off x="4876920" y="4800600"/>
                    <a:ext cx="3886200" cy="0"/>
                  </a:xfrm>
                  <a:prstGeom prst="line">
                    <a:avLst/>
                  </a:prstGeom>
                  <a:ln w="38160">
                    <a:solidFill>
                      <a:srgbClr val="33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15" name=""/>
              <p:cNvSpPr/>
              <p:nvPr/>
            </p:nvSpPr>
            <p:spPr>
              <a:xfrm>
                <a:off x="4495680" y="4419360"/>
                <a:ext cx="457200" cy="533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А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5029200" y="2666880"/>
                <a:ext cx="457200" cy="533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6858000" y="2666880"/>
                <a:ext cx="457200" cy="533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8" name=""/>
            <p:cNvSpPr/>
            <p:nvPr/>
          </p:nvSpPr>
          <p:spPr>
            <a:xfrm>
              <a:off x="8686800" y="4343400"/>
              <a:ext cx="45720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4952880" y="457200"/>
            <a:ext cx="3422880" cy="487692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0" y="457200"/>
            <a:ext cx="5562720" cy="5562720"/>
          </a:xfrm>
          <a:prstGeom prst="cloudCallout">
            <a:avLst>
              <a:gd name="adj1" fmla="val -11527"/>
              <a:gd name="adj2" fmla="val 4124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чему угол 1 равен углу 2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чему углы 3 и 4 в сумме равны 180 градуса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Виды трапеции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Равнобедренная трапеция  - трапеция, у которой равны боковые стороны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B=CD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rcRect l="10695" t="55651" r="77188" b="33808"/>
          <a:stretch/>
        </p:blipFill>
        <p:spPr>
          <a:xfrm>
            <a:off x="4648320" y="3429000"/>
            <a:ext cx="3886200" cy="239076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4495680" y="5181480"/>
            <a:ext cx="4572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410080" y="3429000"/>
            <a:ext cx="457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391520" y="3429000"/>
            <a:ext cx="457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8229600" y="5257800"/>
            <a:ext cx="457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914400" y="3733920"/>
            <a:ext cx="3657600" cy="75708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 flipV="1">
            <a:off x="5029200" y="4038120"/>
            <a:ext cx="236232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867280" y="4038480"/>
            <a:ext cx="2286000" cy="1676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066680" y="4572000"/>
            <a:ext cx="1447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=B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721800" y="294840"/>
            <a:ext cx="6797880" cy="6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Виды трапеции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2)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"/>
          <p:cNvSpPr/>
          <p:nvPr/>
        </p:nvSpPr>
        <p:spPr>
          <a:xfrm>
            <a:off x="1219320" y="1828800"/>
            <a:ext cx="7086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ямоугольная трапеция - трапеция, один из углов которой прямо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rcRect l="10695" t="71779" r="77188" b="18144"/>
          <a:stretch/>
        </p:blipFill>
        <p:spPr>
          <a:xfrm>
            <a:off x="2895480" y="3429000"/>
            <a:ext cx="4343400" cy="255420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2743200" y="5105520"/>
            <a:ext cx="457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743200" y="3429000"/>
            <a:ext cx="457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410080" y="3429000"/>
            <a:ext cx="457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781680" y="5181480"/>
            <a:ext cx="4572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 txBox="1"/>
          <p:nvPr/>
        </p:nvSpPr>
        <p:spPr>
          <a:xfrm>
            <a:off x="722520" y="189000"/>
            <a:ext cx="6796440" cy="68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Мини - исследование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304920" y="1599840"/>
            <a:ext cx="86868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1группа –                                            Исследовать углы       равнобедренной трапеции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2 группа –                                              Исследовать диагонали равнобедренной трапеции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763560" y="230040"/>
            <a:ext cx="6714360" cy="14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Свойства равнобедренной трапеции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В равнобедренной трапеции углы при каждом основании равны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В равнобедренной трапеции диагонали равны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 txBox="1"/>
          <p:nvPr/>
        </p:nvSpPr>
        <p:spPr>
          <a:xfrm>
            <a:off x="1906920" y="915840"/>
            <a:ext cx="5592240" cy="14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Сформулируйте признаки равнобедренной трапеции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685800" y="25146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Если…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Если….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ользователь</cp:lastModifiedBy>
  <dcterms:modified xsi:type="dcterms:W3CDTF">2012-10-08T16:19:31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