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A2E-0B38-4A28-A12D-67FA8739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BDA5-39BA-4B2B-BCEA-41BC0A57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6BB5-FAE4-49C7-9EA5-162694E8F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21AE-37A6-4F8B-B50F-460F9F9B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7F69-7160-4CE0-8CDC-F0D5EDD7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B7B0-0A34-4287-B32A-932436806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CAD12-CC62-4E48-9363-4D88270A9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2A2B-2C68-4988-97EF-C9F1D437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D12E-0283-4873-A986-F2F3D5BD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5DFE6-A161-4F16-B32C-8471C1FD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0674-3DF4-4209-94A2-5334EF7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13A6-F1CE-4E40-93E8-460E577E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BEF5E-EEDD-4F72-B75D-D92E6A258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1A7B8-8A38-4CF4-AA61-C718FA4A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0D0B-0072-4D93-B18A-5E86B0BD7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A903-C702-446A-9638-59C5CAA3A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D93D-B49B-48B3-B8AF-B372CCCE4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70836-83CE-464E-9650-E4D29A760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3BAE1-AD60-4000-89BE-185B02BC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0C5A-4F02-4C19-B548-FFE41739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0772C-D383-4160-A7A4-EE4D5D5C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B22F8-1C68-4941-B581-ABC793A1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4EEE-2F54-4D7D-8BF8-A0B652FBA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9FDCD-86C5-4249-9B63-30E6F2785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36AA-65F6-4E3D-9F14-5356C3ED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9207E-EAED-4AE2-AE5D-17192D83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05866-B70C-4BA9-847D-04F3A0F6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660A3-1636-412F-A1B1-A13EFC726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DEEA4-BE09-45C5-9FFC-AC41665B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579D7-15F8-451A-B08A-5E7A6C116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9AD0-2419-48CD-B331-44F5EDA30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46F-9A90-4F40-87B4-4C46AD64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F586-5180-49D8-BF6C-05769443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2FE-072F-4529-B269-2E13411A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5F44-89DD-44F6-8635-29DF4DDC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5328-BBD1-4C7B-96FA-AB1A7CF2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C90B-E5B1-4D18-B5C4-BC6D8BCCC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F691-2C5E-4086-8ACC-E1D94B3D88D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5975-359F-41B2-BC77-398D165D5DD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305920" cy="3276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Тема: «Трапеция»</a:t>
            </a:r>
            <a:br>
              <a:rPr sz="5400"/>
            </a:b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28600" y="241200"/>
            <a:ext cx="8610480" cy="1511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61048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вторим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772080" cy="365760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) Трапеция – это … , у которого…. 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) Как называются стороны трапеци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) Какие бывают трапеци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52280" y="2666880"/>
            <a:ext cx="4648320" cy="2286000"/>
            <a:chOff x="152280" y="2666880"/>
            <a:chExt cx="4648320" cy="2286000"/>
          </a:xfrm>
        </p:grpSpPr>
        <p:grpSp>
          <p:nvGrpSpPr>
            <p:cNvPr id="253" name=""/>
            <p:cNvGrpSpPr/>
            <p:nvPr/>
          </p:nvGrpSpPr>
          <p:grpSpPr>
            <a:xfrm>
              <a:off x="152280" y="2666880"/>
              <a:ext cx="4267440" cy="2286000"/>
              <a:chOff x="152280" y="2666880"/>
              <a:chExt cx="4267440" cy="2286000"/>
            </a:xfrm>
          </p:grpSpPr>
          <p:grpSp>
            <p:nvGrpSpPr>
              <p:cNvPr id="254" name=""/>
              <p:cNvGrpSpPr/>
              <p:nvPr/>
            </p:nvGrpSpPr>
            <p:grpSpPr>
              <a:xfrm>
                <a:off x="533160" y="3047760"/>
                <a:ext cx="3886560" cy="1752840"/>
                <a:chOff x="533160" y="3047760"/>
                <a:chExt cx="3886560" cy="17528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2514600" y="3047760"/>
                  <a:ext cx="1905120" cy="175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6" name=""/>
                <p:cNvGrpSpPr/>
                <p:nvPr/>
              </p:nvGrpSpPr>
              <p:grpSpPr>
                <a:xfrm>
                  <a:off x="533160" y="3047760"/>
                  <a:ext cx="3886560" cy="1752840"/>
                  <a:chOff x="533160" y="3047760"/>
                  <a:chExt cx="3886560" cy="1752840"/>
                </a:xfrm>
              </p:grpSpPr>
              <p:sp>
                <p:nvSpPr>
                  <p:cNvPr id="257" name=""/>
                  <p:cNvSpPr/>
                  <p:nvPr/>
                </p:nvSpPr>
                <p:spPr>
                  <a:xfrm>
                    <a:off x="1143000" y="3047760"/>
                    <a:ext cx="137160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H="1">
                    <a:off x="533160" y="3047760"/>
                    <a:ext cx="609480" cy="17528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>
                    <a:off x="533520" y="4800600"/>
                    <a:ext cx="388620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0" name=""/>
              <p:cNvSpPr/>
              <p:nvPr/>
            </p:nvSpPr>
            <p:spPr>
              <a:xfrm>
                <a:off x="152280" y="441936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85800" y="2666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514600" y="2666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343400" y="4343400"/>
              <a:ext cx="457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Трапеция</a:t>
            </a:r>
            <a:br>
              <a:rPr sz="4000"/>
            </a:b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т греч. trapeza — сто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"/>
          <p:cNvSpPr/>
          <p:nvPr/>
        </p:nvSpPr>
        <p:spPr>
          <a:xfrm>
            <a:off x="685800" y="307404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Трапе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буквально — «столи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еометрическая фигура была назва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по внешнему сходству с маленьким столом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Трапеция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 -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етырёхугольник, у которого две стороны параллельны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а две другие – не параллельны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41925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   BC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B    CD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, BC –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основания,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B, CD – 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боковые стороны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447920" y="2895480"/>
            <a:ext cx="75960" cy="304560"/>
            <a:chOff x="1447920" y="2895480"/>
            <a:chExt cx="75960" cy="304560"/>
          </a:xfrm>
        </p:grpSpPr>
        <p:sp>
          <p:nvSpPr>
            <p:cNvPr id="200" name=""/>
            <p:cNvSpPr/>
            <p:nvPr/>
          </p:nvSpPr>
          <p:spPr>
            <a:xfrm>
              <a:off x="1447920" y="2895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23880" y="28954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2666880" y="2895480"/>
            <a:ext cx="228600" cy="304560"/>
            <a:chOff x="2666880" y="2895480"/>
            <a:chExt cx="228600" cy="304560"/>
          </a:xfrm>
        </p:grpSpPr>
        <p:grpSp>
          <p:nvGrpSpPr>
            <p:cNvPr id="203" name=""/>
            <p:cNvGrpSpPr/>
            <p:nvPr/>
          </p:nvGrpSpPr>
          <p:grpSpPr>
            <a:xfrm>
              <a:off x="2743200" y="2895480"/>
              <a:ext cx="75960" cy="304560"/>
              <a:chOff x="2743200" y="2895480"/>
              <a:chExt cx="75960" cy="304560"/>
            </a:xfrm>
          </p:grpSpPr>
          <p:sp>
            <p:nvSpPr>
              <p:cNvPr id="204" name=""/>
              <p:cNvSpPr/>
              <p:nvPr/>
            </p:nvSpPr>
            <p:spPr>
              <a:xfrm>
                <a:off x="2743200" y="28954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2819160" y="289548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 flipV="1">
              <a:off x="2666880" y="29714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4495680" y="2666880"/>
            <a:ext cx="4648320" cy="2286000"/>
            <a:chOff x="4495680" y="2666880"/>
            <a:chExt cx="4648320" cy="2286000"/>
          </a:xfrm>
        </p:grpSpPr>
        <p:grpSp>
          <p:nvGrpSpPr>
            <p:cNvPr id="208" name=""/>
            <p:cNvGrpSpPr/>
            <p:nvPr/>
          </p:nvGrpSpPr>
          <p:grpSpPr>
            <a:xfrm>
              <a:off x="4495680" y="2666880"/>
              <a:ext cx="4267440" cy="2286000"/>
              <a:chOff x="4495680" y="2666880"/>
              <a:chExt cx="4267440" cy="228600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4876560" y="3047760"/>
                <a:ext cx="3886560" cy="1752840"/>
                <a:chOff x="4876560" y="3047760"/>
                <a:chExt cx="3886560" cy="175284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858000" y="3047760"/>
                  <a:ext cx="1905120" cy="17528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" name=""/>
                <p:cNvGrpSpPr/>
                <p:nvPr/>
              </p:nvGrpSpPr>
              <p:grpSpPr>
                <a:xfrm>
                  <a:off x="4876560" y="3047760"/>
                  <a:ext cx="3886560" cy="1752840"/>
                  <a:chOff x="4876560" y="3047760"/>
                  <a:chExt cx="3886560" cy="175284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>
                    <a:off x="5486400" y="3047760"/>
                    <a:ext cx="137160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 flipH="1">
                    <a:off x="4876560" y="3047760"/>
                    <a:ext cx="609480" cy="175284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4876920" y="4800600"/>
                    <a:ext cx="3886200" cy="0"/>
                  </a:xfrm>
                  <a:prstGeom prst="line">
                    <a:avLst/>
                  </a:prstGeom>
                  <a:ln w="38160">
                    <a:solidFill>
                      <a:srgbClr val="3333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5" name=""/>
              <p:cNvSpPr/>
              <p:nvPr/>
            </p:nvSpPr>
            <p:spPr>
              <a:xfrm>
                <a:off x="4495680" y="441936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029200" y="2666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858000" y="2666880"/>
                <a:ext cx="45720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8686800" y="4343400"/>
              <a:ext cx="4572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4952880" y="457200"/>
            <a:ext cx="3422880" cy="48769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0" y="457200"/>
            <a:ext cx="5562720" cy="5562720"/>
          </a:xfrm>
          <a:prstGeom prst="cloudCallout">
            <a:avLst>
              <a:gd name="adj1" fmla="val -11527"/>
              <a:gd name="adj2" fmla="val 412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угол 1 равен углу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чему углы 3 и 4 в сумме равны 180 градуса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Виды трапеци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Равнобедренная трапеция  - трапеция, у которой равны боковые стороны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=C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10695" t="55651" r="77188" b="33808"/>
          <a:stretch/>
        </p:blipFill>
        <p:spPr>
          <a:xfrm>
            <a:off x="4648320" y="3429000"/>
            <a:ext cx="3886200" cy="2390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495680" y="51814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410080" y="34290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91520" y="34290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29600" y="52578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914400" y="3733920"/>
            <a:ext cx="3657600" cy="7570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 flipV="1">
            <a:off x="5029200" y="40381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867280" y="4038480"/>
            <a:ext cx="2286000" cy="167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4572000"/>
            <a:ext cx="14479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=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721800" y="294840"/>
            <a:ext cx="6797880" cy="6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Виды трапе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)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1828800"/>
            <a:ext cx="7086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ямоугольная трапеция - трапеция, один из углов которой прям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10695" t="71779" r="77188" b="18144"/>
          <a:stretch/>
        </p:blipFill>
        <p:spPr>
          <a:xfrm>
            <a:off x="2895480" y="3429000"/>
            <a:ext cx="4343400" cy="25542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743200" y="510552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43200" y="34290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410080" y="3429000"/>
            <a:ext cx="457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81680" y="5181480"/>
            <a:ext cx="457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722520" y="189000"/>
            <a:ext cx="6796440" cy="6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Мини - исследова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группа –                                            Исследовать углы       равнобедренной трапе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группа –                                              Исследовать диагонали равнобедренной трапеци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763560" y="230040"/>
            <a:ext cx="671436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войства равнобедренной трапе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авнобедренной трапеции углы при каждом основании рав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 равнобедренной трапеции диагонали равны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1906920" y="915840"/>
            <a:ext cx="559224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Сформулируйте признаки равнобедренной трапеции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2514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Если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2-10-08T16:19:3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